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9F55-AB08-4838-8281-D671E13A5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8AD7-44F4-441F-B2F2-A48CE6FF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4DC4-8D7E-4581-AB0B-A8D44BF5A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BE17-7619-4999-924C-F9780410A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EC10-1B7C-4ECE-9752-0DFE8FE0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26DD-E73F-442A-8B31-F825873F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C27C-61A7-46F9-BCB6-BC106CF4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5138-3616-4065-B591-BC691339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E92F-9230-452F-872B-2D81AF14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F706-EE88-46FE-9E82-19B4DD3D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37BB-C004-4A70-803F-1E99DDA2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95A9-A92F-41C2-BE67-8973030D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937B-ABA5-4AAA-8B86-E2F1BA8777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files.school-collection.edu.ru/dlrstore/d26ca47b-943d-4dec-a853-a32844cdc101/9_117.swf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050920" y="1628640"/>
            <a:ext cx="640728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РЕДСТАВЛЕНИЕ ИНФОРМАЦИИ В КОМПЬЮТЕР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05360"/>
            <a:ext cx="6481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МАТИЧЕСКИЕ ОСНОВЫ ИНФОР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468360" y="76500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исло в формате с плавающей запятой может занимать в памяти компьютера 32 или 64 разряд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39640" y="3068640"/>
          <a:ext cx="8280360" cy="888840"/>
        </p:xfrm>
        <a:graphic>
          <a:graphicData uri="http://schemas.openxmlformats.org/drawingml/2006/table">
            <a:tbl>
              <a:tblPr/>
              <a:tblGrid>
                <a:gridCol w="258840"/>
                <a:gridCol w="258840"/>
                <a:gridCol w="258840"/>
                <a:gridCol w="257040"/>
                <a:gridCol w="260280"/>
                <a:gridCol w="258840"/>
                <a:gridCol w="257040"/>
                <a:gridCol w="258840"/>
                <a:gridCol w="258840"/>
                <a:gridCol w="258840"/>
                <a:gridCol w="258840"/>
                <a:gridCol w="258480"/>
                <a:gridCol w="258840"/>
                <a:gridCol w="257040"/>
                <a:gridCol w="260640"/>
                <a:gridCol w="258480"/>
                <a:gridCol w="257400"/>
                <a:gridCol w="260280"/>
                <a:gridCol w="257040"/>
                <a:gridCol w="258840"/>
                <a:gridCol w="258840"/>
                <a:gridCol w="258840"/>
                <a:gridCol w="258840"/>
                <a:gridCol w="257040"/>
                <a:gridCol w="260280"/>
                <a:gridCol w="258840"/>
                <a:gridCol w="258840"/>
                <a:gridCol w="260280"/>
                <a:gridCol w="258840"/>
                <a:gridCol w="258480"/>
                <a:gridCol w="260640"/>
                <a:gridCol w="25848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4330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 и поряд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 и манти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5" name="Rectangle 4"/>
          <p:cNvSpPr/>
          <p:nvPr/>
        </p:nvSpPr>
        <p:spPr>
          <a:xfrm>
            <a:off x="1908000" y="5950080"/>
            <a:ext cx="5112000" cy="574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исла в памяти компьют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Object 77" descr=""/>
          <p:cNvPicPr/>
          <p:nvPr/>
        </p:nvPicPr>
        <p:blipFill>
          <a:blip r:embed="rId2"/>
          <a:stretch/>
        </p:blipFill>
        <p:spPr>
          <a:xfrm>
            <a:off x="6300720" y="6022800"/>
            <a:ext cx="914400" cy="7146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79"/>
          <p:cNvSpPr/>
          <p:nvPr/>
        </p:nvSpPr>
        <p:spPr>
          <a:xfrm>
            <a:off x="468360" y="422100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иапазон представления вещественных чисел определяется количеством разрядов, отведённых для хранения порядка числа, а точность - количеством разрядов, отведённых для хранения мантис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395280" y="155736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этом выделяются разряды для хран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6"/>
          <p:cNvSpPr/>
          <p:nvPr/>
        </p:nvSpPr>
        <p:spPr>
          <a:xfrm flipH="1">
            <a:off x="684360" y="2421000"/>
            <a:ext cx="358560" cy="57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611280" y="2060640"/>
            <a:ext cx="21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нака порядк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59"/>
          <p:cNvSpPr/>
          <p:nvPr/>
        </p:nvSpPr>
        <p:spPr>
          <a:xfrm rot="5400000">
            <a:off x="1547280" y="1989000"/>
            <a:ext cx="287280" cy="1871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60"/>
          <p:cNvSpPr/>
          <p:nvPr/>
        </p:nvSpPr>
        <p:spPr>
          <a:xfrm rot="5400000">
            <a:off x="5724000" y="-26640"/>
            <a:ext cx="287280" cy="5903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153720 h 5903640"/>
              <a:gd name="textAreaBottom" fmla="*/ 5749920 h 59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2700360" y="2060640"/>
            <a:ext cx="136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рядк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62"/>
          <p:cNvSpPr/>
          <p:nvPr/>
        </p:nvSpPr>
        <p:spPr>
          <a:xfrm flipH="1">
            <a:off x="1763280" y="2492280"/>
            <a:ext cx="151308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924360" y="2060640"/>
            <a:ext cx="23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нака мантисс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4"/>
          <p:cNvSpPr/>
          <p:nvPr/>
        </p:nvSpPr>
        <p:spPr>
          <a:xfrm flipH="1">
            <a:off x="2700000" y="2421000"/>
            <a:ext cx="2158920" cy="647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6084720" y="2060640"/>
            <a:ext cx="194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мантис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6"/>
          <p:cNvSpPr/>
          <p:nvPr/>
        </p:nvSpPr>
        <p:spPr>
          <a:xfrm flipH="1">
            <a:off x="5940360" y="2421000"/>
            <a:ext cx="93672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Заголовок 2"/>
          <p:cNvSpPr/>
          <p:nvPr/>
        </p:nvSpPr>
        <p:spPr>
          <a:xfrm>
            <a:off x="324000" y="189000"/>
            <a:ext cx="8362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Формат с плавающей запят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468360" y="857160"/>
            <a:ext cx="8496360" cy="60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компьютерного представления целых чисел используются несколько различных способов, отличающихся друг от друга количеством разрядов (8, 16, 32 или 64) и наличием или отсутствием знакового разря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едставл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еззнакового целого чис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го следует перевести в двоичную систему счисления и дополнить полученный результат слева нулями до стандартной разряд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едставлении со знак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амый старший разряд отводится под знак числа, остальные разряды - под само число. Если число положительное, то в знаковый разряд помещается 0, если число отрицательное, то 1. Положительные числа хранятся в компьютере в прямом коде, отрицательные - в дополнитель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щественные чис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компьютере хранятся в формате с плавающей запят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 = ±m * q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нтисса чис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 -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ание системы счис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 -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рядок чис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24000" y="170028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в памяти компьютера представляются целые положительные и отрицательные чис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24000" y="170028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е целое число можно рассматривать как вещественное, но с нулевой дробной част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снуйте целесообразность наличия особых способов компьютерного представления целы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24000" y="1700280"/>
            <a:ext cx="8569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ьте число 6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беззнаковом 8-разрядном форма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324000" y="170028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десятичные эквиваленты чисел по их прямым кодам, записанным в 8-разрядном формате со знак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010011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000101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324000" y="1700280"/>
            <a:ext cx="8569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из чисел 44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1010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256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жно сохранить в 8-разрядном форма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324000" y="170028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следующие числа в естественной фор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0,3800456 ·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0,245 ·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–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1,256900Е+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9,569120Е–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324000" y="1700280"/>
            <a:ext cx="8569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число 2010,0102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ятью различными способами в нормальной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324000" y="170028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следующие числа в нормальной форме с нормализованной мантиссой - правильной дробью, имеющей после запятой цифру, отличную от ну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217,934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75321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0,00101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2916360" y="2133720"/>
            <a:ext cx="35272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Числа в компьютер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332000" y="3213000"/>
            <a:ext cx="216036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Целое числ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5364000" y="3213000"/>
            <a:ext cx="331164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ещественное числ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8"/>
          <p:cNvSpPr/>
          <p:nvPr/>
        </p:nvSpPr>
        <p:spPr>
          <a:xfrm flipV="1">
            <a:off x="2627280" y="2565000"/>
            <a:ext cx="2160720" cy="64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7"/>
          <p:cNvSpPr/>
          <p:nvPr/>
        </p:nvSpPr>
        <p:spPr>
          <a:xfrm flipH="1" flipV="1">
            <a:off x="4788000" y="2565000"/>
            <a:ext cx="1944720" cy="64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539640" y="907920"/>
            <a:ext cx="8064720" cy="86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компьютере числ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ставляться  8, 16, 32 или 64-разрядны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 знаком или без зна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8"/>
          <p:cNvSpPr/>
          <p:nvPr/>
        </p:nvSpPr>
        <p:spPr>
          <a:xfrm flipV="1">
            <a:off x="7164360" y="3715920"/>
            <a:ext cx="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5435640" y="4365720"/>
            <a:ext cx="3384360" cy="1942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А = ±m * q</a:t>
            </a:r>
            <a:r>
              <a:rPr b="1" i="1" lang="ru-RU" sz="2200" spc="-1" strike="noStrike" baseline="30000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, гд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антисса числ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q -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снование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числ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p -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орядок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908000" y="4149720"/>
            <a:ext cx="2592720" cy="35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ложительно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1908000" y="5013360"/>
            <a:ext cx="2665440" cy="504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трицательно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8"/>
          <p:cNvSpPr/>
          <p:nvPr/>
        </p:nvSpPr>
        <p:spPr>
          <a:xfrm flipV="1">
            <a:off x="1476360" y="3644640"/>
            <a:ext cx="0" cy="16556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8"/>
          <p:cNvSpPr/>
          <p:nvPr/>
        </p:nvSpPr>
        <p:spPr>
          <a:xfrm flipH="1">
            <a:off x="1476000" y="4365720"/>
            <a:ext cx="4316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8"/>
          <p:cNvSpPr/>
          <p:nvPr/>
        </p:nvSpPr>
        <p:spPr>
          <a:xfrm flipH="1">
            <a:off x="1476000" y="5300640"/>
            <a:ext cx="4316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Источники 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468360" y="1197000"/>
            <a:ext cx="8424720" cy="42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files.school-collection.edu.ru/dlrstore/d26ca47b-943d-4dec-a853-a32844cdc101/9_117.sw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- Числа в памяти компьют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files.school-collection.edu.ru/dlrstore/ecf4ab69-d8ac-40a8-b26a-2780aa70b33d/9_118.swf - Представление чисел в памяти компьют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files.school-collection.edu.ru/dlrstore/19d0fb95-871d-4063-961d-e7dc5725e555/9_121.swf - Тест двоичная система счисления и представление чисел в памяти компьют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i017.radikal.ru/1104/05/e7cb3d0ff987.jpg - корабл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valdosta.edu/~bmbridges/calculator.gif - калькуля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artpan.ru/assets/galleries/2902/big_1img_2020041PK2.jpg - калькуля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324000" y="1052640"/>
            <a:ext cx="8362800" cy="50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1666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р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1666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ззнаковое представление целых чи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1666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тавление целых чисел со зна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1666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тавление вещественных чи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1666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ат с плавающей зап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539640" y="189000"/>
            <a:ext cx="8147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Ячейки памя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395280" y="1125360"/>
            <a:ext cx="47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амять компьютера состоит из ячеек, в свою очередь состоящих из некоторого числа однородных элемент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5"/>
          <p:cNvGrpSpPr/>
          <p:nvPr/>
        </p:nvGrpSpPr>
        <p:grpSpPr>
          <a:xfrm>
            <a:off x="1692360" y="4508640"/>
            <a:ext cx="5832360" cy="2096640"/>
            <a:chOff x="1692360" y="4508640"/>
            <a:chExt cx="5832360" cy="2096640"/>
          </a:xfrm>
        </p:grpSpPr>
        <p:grpSp>
          <p:nvGrpSpPr>
            <p:cNvPr id="48" name="Group 6"/>
            <p:cNvGrpSpPr/>
            <p:nvPr/>
          </p:nvGrpSpPr>
          <p:grpSpPr>
            <a:xfrm>
              <a:off x="2692800" y="4838040"/>
              <a:ext cx="3825360" cy="1397880"/>
              <a:chOff x="2692800" y="4838040"/>
              <a:chExt cx="3825360" cy="1397880"/>
            </a:xfrm>
          </p:grpSpPr>
          <p:sp>
            <p:nvSpPr>
              <p:cNvPr id="49" name="Rectangle 7"/>
              <p:cNvSpPr/>
              <p:nvPr/>
            </p:nvSpPr>
            <p:spPr>
              <a:xfrm>
                <a:off x="3205080" y="5515920"/>
                <a:ext cx="358920" cy="358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Rectangle 8"/>
              <p:cNvSpPr/>
              <p:nvPr/>
            </p:nvSpPr>
            <p:spPr>
              <a:xfrm>
                <a:off x="4645080" y="5515920"/>
                <a:ext cx="358920" cy="358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9"/>
              <p:cNvSpPr/>
              <p:nvPr/>
            </p:nvSpPr>
            <p:spPr>
              <a:xfrm>
                <a:off x="5004000" y="5515920"/>
                <a:ext cx="358560" cy="358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10"/>
              <p:cNvSpPr/>
              <p:nvPr/>
            </p:nvSpPr>
            <p:spPr>
              <a:xfrm>
                <a:off x="5365800" y="5515920"/>
                <a:ext cx="358920" cy="358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11"/>
              <p:cNvSpPr/>
              <p:nvPr/>
            </p:nvSpPr>
            <p:spPr>
              <a:xfrm>
                <a:off x="5724720" y="5515920"/>
                <a:ext cx="358560" cy="358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12"/>
              <p:cNvSpPr/>
              <p:nvPr/>
            </p:nvSpPr>
            <p:spPr>
              <a:xfrm>
                <a:off x="3564000" y="5515920"/>
                <a:ext cx="289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3"/>
              <p:cNvSpPr/>
              <p:nvPr/>
            </p:nvSpPr>
            <p:spPr>
              <a:xfrm>
                <a:off x="3564000" y="5876280"/>
                <a:ext cx="289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14"/>
              <p:cNvSpPr/>
              <p:nvPr/>
            </p:nvSpPr>
            <p:spPr>
              <a:xfrm>
                <a:off x="4356360" y="551592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15"/>
              <p:cNvSpPr/>
              <p:nvPr/>
            </p:nvSpPr>
            <p:spPr>
              <a:xfrm>
                <a:off x="4356360" y="587628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AutoShape 16"/>
              <p:cNvSpPr/>
              <p:nvPr/>
            </p:nvSpPr>
            <p:spPr>
              <a:xfrm rot="16200000">
                <a:off x="4536360" y="4615920"/>
                <a:ext cx="215640" cy="3024000"/>
              </a:xfrm>
              <a:custGeom>
                <a:avLst/>
                <a:gdLst>
                  <a:gd name="textAreaLeft" fmla="*/ 137880 w 215640"/>
                  <a:gd name="textAreaRight" fmla="*/ 216000 w 215640"/>
                  <a:gd name="textAreaTop" fmla="*/ 78840 h 3024000"/>
                  <a:gd name="textAreaBottom" fmla="*/ 2945160 h 302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AutoShape 17"/>
              <p:cNvSpPr/>
              <p:nvPr/>
            </p:nvSpPr>
            <p:spPr>
              <a:xfrm rot="19357200">
                <a:off x="2844720" y="4868640"/>
                <a:ext cx="292320" cy="599760"/>
              </a:xfrm>
              <a:prstGeom prst="downArrow">
                <a:avLst>
                  <a:gd name="adj1" fmla="val 50000"/>
                  <a:gd name="adj2" fmla="val 51293"/>
                </a:avLst>
              </a:prstGeom>
              <a:gradFill rotWithShape="0">
                <a:gsLst>
                  <a:gs pos="0">
                    <a:srgbClr val="ffebfa"/>
                  </a:gs>
                  <a:gs pos="100000">
                    <a:srgbClr val="5e9eff"/>
                  </a:gs>
                </a:gsLst>
                <a:lin ang="7644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AutoShape 18"/>
              <p:cNvSpPr/>
              <p:nvPr/>
            </p:nvSpPr>
            <p:spPr>
              <a:xfrm rot="2011200">
                <a:off x="6084720" y="4868640"/>
                <a:ext cx="291960" cy="599760"/>
              </a:xfrm>
              <a:prstGeom prst="downArrow">
                <a:avLst>
                  <a:gd name="adj1" fmla="val 50000"/>
                  <a:gd name="adj2" fmla="val 51356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19"/>
              <p:cNvSpPr/>
              <p:nvPr/>
            </p:nvSpPr>
            <p:spPr>
              <a:xfrm>
                <a:off x="3853080" y="5876280"/>
                <a:ext cx="503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20"/>
              <p:cNvSpPr/>
              <p:nvPr/>
            </p:nvSpPr>
            <p:spPr>
              <a:xfrm>
                <a:off x="4332240" y="5522400"/>
                <a:ext cx="87480" cy="3330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21"/>
              <p:cNvSpPr/>
              <p:nvPr/>
            </p:nvSpPr>
            <p:spPr>
              <a:xfrm>
                <a:off x="3840120" y="5536440"/>
                <a:ext cx="54000" cy="3330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Text Box 22"/>
            <p:cNvSpPr/>
            <p:nvPr/>
          </p:nvSpPr>
          <p:spPr>
            <a:xfrm>
              <a:off x="3492720" y="6237000"/>
              <a:ext cx="26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ячейка из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азряд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23"/>
            <p:cNvSpPr/>
            <p:nvPr/>
          </p:nvSpPr>
          <p:spPr>
            <a:xfrm>
              <a:off x="1692360" y="4508640"/>
              <a:ext cx="266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1)-й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азря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24"/>
            <p:cNvSpPr/>
            <p:nvPr/>
          </p:nvSpPr>
          <p:spPr>
            <a:xfrm>
              <a:off x="5940360" y="450864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 –й разря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3"/>
          <p:cNvSpPr/>
          <p:nvPr/>
        </p:nvSpPr>
        <p:spPr>
          <a:xfrm>
            <a:off x="395280" y="2470320"/>
            <a:ext cx="475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ждый такой элемент служит для хранения одного из битов - разрядов двоичного числа. Именно поэтому каждый элемент ячейки называют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бито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разрядо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7" descr=""/>
          <p:cNvPicPr/>
          <p:nvPr/>
        </p:nvPicPr>
        <p:blipFill>
          <a:blip r:embed="rId2"/>
          <a:stretch/>
        </p:blipFill>
        <p:spPr>
          <a:xfrm>
            <a:off x="5219640" y="1052640"/>
            <a:ext cx="3514680" cy="3352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3"/>
          <p:cNvSpPr/>
          <p:nvPr/>
        </p:nvSpPr>
        <p:spPr>
          <a:xfrm>
            <a:off x="468360" y="83664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пользуется несколько способов представления целых чисел, отличающихся количеством разрядов и наличием или отсутствием знакового разряд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Заголовок 2"/>
          <p:cNvSpPr/>
          <p:nvPr/>
        </p:nvSpPr>
        <p:spPr>
          <a:xfrm>
            <a:off x="539640" y="189000"/>
            <a:ext cx="8147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едставление целых чис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395280" y="1989000"/>
            <a:ext cx="84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 целые отводится 8 разряд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395280" y="3213000"/>
            <a:ext cx="84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 целые числа отводится 16 разряд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395280" y="4797360"/>
            <a:ext cx="84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 целые числа отводится 32 разряд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268360" y="2565360"/>
          <a:ext cx="4680000" cy="517680"/>
        </p:xfrm>
        <a:graphic>
          <a:graphicData uri="http://schemas.openxmlformats.org/drawingml/2006/table">
            <a:tbl>
              <a:tblPr/>
              <a:tblGrid>
                <a:gridCol w="586080"/>
                <a:gridCol w="583920"/>
                <a:gridCol w="586080"/>
                <a:gridCol w="583920"/>
                <a:gridCol w="586080"/>
                <a:gridCol w="583920"/>
                <a:gridCol w="586080"/>
                <a:gridCol w="583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68360" y="3789360"/>
          <a:ext cx="8424720" cy="884160"/>
        </p:xfrm>
        <a:graphic>
          <a:graphicData uri="http://schemas.openxmlformats.org/drawingml/2006/table">
            <a:tbl>
              <a:tblPr/>
              <a:tblGrid>
                <a:gridCol w="718920"/>
                <a:gridCol w="432000"/>
                <a:gridCol w="430200"/>
                <a:gridCol w="525600"/>
                <a:gridCol w="527040"/>
                <a:gridCol w="527040"/>
                <a:gridCol w="527040"/>
                <a:gridCol w="527040"/>
                <a:gridCol w="527040"/>
                <a:gridCol w="525240"/>
                <a:gridCol w="527040"/>
                <a:gridCol w="525600"/>
                <a:gridCol w="527040"/>
                <a:gridCol w="525600"/>
                <a:gridCol w="527040"/>
                <a:gridCol w="525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 gridSpan="1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68360" y="5516640"/>
          <a:ext cx="8423280" cy="455400"/>
        </p:xfrm>
        <a:graphic>
          <a:graphicData uri="http://schemas.openxmlformats.org/drawingml/2006/table">
            <a:tbl>
              <a:tblPr/>
              <a:tblGrid>
                <a:gridCol w="263520"/>
                <a:gridCol w="263520"/>
                <a:gridCol w="262080"/>
                <a:gridCol w="261720"/>
                <a:gridCol w="265320"/>
                <a:gridCol w="263520"/>
                <a:gridCol w="261720"/>
                <a:gridCol w="262080"/>
                <a:gridCol w="263520"/>
                <a:gridCol w="263520"/>
                <a:gridCol w="263520"/>
                <a:gridCol w="263520"/>
                <a:gridCol w="263520"/>
                <a:gridCol w="260280"/>
                <a:gridCol w="264960"/>
                <a:gridCol w="263520"/>
                <a:gridCol w="262080"/>
                <a:gridCol w="264960"/>
                <a:gridCol w="260640"/>
                <a:gridCol w="263520"/>
                <a:gridCol w="263520"/>
                <a:gridCol w="263520"/>
                <a:gridCol w="263520"/>
                <a:gridCol w="260280"/>
                <a:gridCol w="264960"/>
                <a:gridCol w="263520"/>
                <a:gridCol w="263520"/>
                <a:gridCol w="265320"/>
                <a:gridCol w="263520"/>
                <a:gridCol w="261720"/>
                <a:gridCol w="265320"/>
                <a:gridCol w="26352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Text Box 203"/>
          <p:cNvSpPr/>
          <p:nvPr/>
        </p:nvSpPr>
        <p:spPr>
          <a:xfrm>
            <a:off x="395280" y="6237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04"/>
          <p:cNvSpPr/>
          <p:nvPr/>
        </p:nvSpPr>
        <p:spPr>
          <a:xfrm rot="16200000">
            <a:off x="4644360" y="2061360"/>
            <a:ext cx="358560" cy="8136000"/>
          </a:xfrm>
          <a:custGeom>
            <a:avLst/>
            <a:gdLst>
              <a:gd name="textAreaLeft" fmla="*/ 228960 w 358560"/>
              <a:gd name="textAreaRight" fmla="*/ 358560 w 358560"/>
              <a:gd name="textAreaTop" fmla="*/ 212040 h 8136000"/>
              <a:gd name="textAreaBottom" fmla="*/ 7923960 h 813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5"/>
          <p:cNvSpPr/>
          <p:nvPr/>
        </p:nvSpPr>
        <p:spPr>
          <a:xfrm>
            <a:off x="4211640" y="6237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6"/>
          <p:cNvSpPr/>
          <p:nvPr/>
        </p:nvSpPr>
        <p:spPr>
          <a:xfrm flipH="1" flipV="1">
            <a:off x="539640" y="5950080"/>
            <a:ext cx="216000" cy="3585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539640" y="1989000"/>
            <a:ext cx="828036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ксимальное значение:  во всех разрядах ячейки хранятся единицы (2</a:t>
            </a:r>
            <a:r>
              <a:rPr b="0" i="1" lang="ru-RU" sz="2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инимальное значение: во всех разрядах ячейки хранятся ну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39640" y="3716280"/>
          <a:ext cx="8353440" cy="2443320"/>
        </p:xfrm>
        <a:graphic>
          <a:graphicData uri="http://schemas.openxmlformats.org/drawingml/2006/table">
            <a:tbl>
              <a:tblPr/>
              <a:tblGrid>
                <a:gridCol w="1800360"/>
                <a:gridCol w="2016000"/>
                <a:gridCol w="4537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би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имальное зна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альное зна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 (2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43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535 (2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94 967 295 (2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43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446 744 073 709 551 615 (2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Text Box 14"/>
          <p:cNvSpPr/>
          <p:nvPr/>
        </p:nvSpPr>
        <p:spPr>
          <a:xfrm>
            <a:off x="536400" y="1125360"/>
            <a:ext cx="828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еззнаковое представление можно использовать только для неотрицательных целых чисе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Заголовок 2"/>
          <p:cNvSpPr/>
          <p:nvPr/>
        </p:nvSpPr>
        <p:spPr>
          <a:xfrm>
            <a:off x="539640" y="189000"/>
            <a:ext cx="8147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Беззнаковое предста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539640" y="981000"/>
            <a:ext cx="835344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мер 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Число 53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110101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 восьмиразрядном представлении имеет ви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340000" y="2205000"/>
          <a:ext cx="4992840" cy="517680"/>
        </p:xfrm>
        <a:graphic>
          <a:graphicData uri="http://schemas.openxmlformats.org/drawingml/2006/table">
            <a:tbl>
              <a:tblPr/>
              <a:tblGrid>
                <a:gridCol w="625320"/>
                <a:gridCol w="622440"/>
                <a:gridCol w="625320"/>
                <a:gridCol w="623880"/>
                <a:gridCol w="623880"/>
                <a:gridCol w="623880"/>
                <a:gridCol w="623880"/>
                <a:gridCol w="6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 Box 3"/>
          <p:cNvSpPr/>
          <p:nvPr/>
        </p:nvSpPr>
        <p:spPr>
          <a:xfrm>
            <a:off x="539640" y="3357720"/>
            <a:ext cx="82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исло 53 в шестнадцатиразрядном представлении имеет ви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26920" y="4437000"/>
          <a:ext cx="7993080" cy="517680"/>
        </p:xfrm>
        <a:graphic>
          <a:graphicData uri="http://schemas.openxmlformats.org/drawingml/2006/table">
            <a:tbl>
              <a:tblPr/>
              <a:tblGrid>
                <a:gridCol w="500400"/>
                <a:gridCol w="500040"/>
                <a:gridCol w="500040"/>
                <a:gridCol w="498240"/>
                <a:gridCol w="500040"/>
                <a:gridCol w="500040"/>
                <a:gridCol w="500040"/>
                <a:gridCol w="500400"/>
                <a:gridCol w="500040"/>
                <a:gridCol w="498240"/>
                <a:gridCol w="500040"/>
                <a:gridCol w="498600"/>
                <a:gridCol w="500040"/>
                <a:gridCol w="498600"/>
                <a:gridCol w="500040"/>
                <a:gridCol w="498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Rectangle 4"/>
          <p:cNvSpPr/>
          <p:nvPr/>
        </p:nvSpPr>
        <p:spPr>
          <a:xfrm>
            <a:off x="1116000" y="5518080"/>
            <a:ext cx="7201080" cy="574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дставление чисел в памяти компьют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Object 66" descr=""/>
          <p:cNvPicPr/>
          <p:nvPr/>
        </p:nvPicPr>
        <p:blipFill>
          <a:blip r:embed="rId2"/>
          <a:stretch/>
        </p:blipFill>
        <p:spPr>
          <a:xfrm>
            <a:off x="7164360" y="5589720"/>
            <a:ext cx="914400" cy="714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Заголовок 2"/>
          <p:cNvSpPr/>
          <p:nvPr/>
        </p:nvSpPr>
        <p:spPr>
          <a:xfrm>
            <a:off x="539640" y="189000"/>
            <a:ext cx="8147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едставление со зна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68360" y="90792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представлении со знаком самый старший (левый) разряд отводится под знак числа, остальные разряды - под само число. Если число положительное, то в знаковый разряд помещае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если число отрицательное -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39640" y="4149720"/>
          <a:ext cx="8353440" cy="2443320"/>
        </p:xfrm>
        <a:graphic>
          <a:graphicData uri="http://schemas.openxmlformats.org/drawingml/2006/table">
            <a:tbl>
              <a:tblPr/>
              <a:tblGrid>
                <a:gridCol w="2106720"/>
                <a:gridCol w="62467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би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пазон чисе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- 2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до 2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  (от -128 до 12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- 2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до 2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  (от -32768 до 3276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- 2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до 2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  (от -2147483648 до 214748364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43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- 2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до 2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  (от 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23372036854775808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Rectangle 3"/>
          <p:cNvSpPr/>
          <p:nvPr/>
        </p:nvSpPr>
        <p:spPr>
          <a:xfrm>
            <a:off x="468360" y="2276640"/>
            <a:ext cx="8424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иапазон представления чисел - 2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≤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≤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1, гд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разрядность ячей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95280" y="299736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ксимальное значение:  2</a:t>
            </a:r>
            <a:r>
              <a:rPr b="0" i="1" lang="ru-RU" sz="2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инимальное значение: -2</a:t>
            </a:r>
            <a:r>
              <a:rPr b="0" i="1" lang="ru-RU" sz="2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539640" y="981000"/>
            <a:ext cx="835344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мер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Число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1001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Число -73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 восьмиразрядном представлении имеет ви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68360" y="2852640"/>
            <a:ext cx="82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исло -73 в шестнадцатиразрядном представлении имеет ви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395280" y="486900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исло – 73 в тридцатидвухразрядном представлении имеет ви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68360" y="3645000"/>
          <a:ext cx="8424720" cy="884160"/>
        </p:xfrm>
        <a:graphic>
          <a:graphicData uri="http://schemas.openxmlformats.org/drawingml/2006/table">
            <a:tbl>
              <a:tblPr/>
              <a:tblGrid>
                <a:gridCol w="718920"/>
                <a:gridCol w="432000"/>
                <a:gridCol w="430200"/>
                <a:gridCol w="525600"/>
                <a:gridCol w="527040"/>
                <a:gridCol w="527040"/>
                <a:gridCol w="527040"/>
                <a:gridCol w="527040"/>
                <a:gridCol w="527040"/>
                <a:gridCol w="525240"/>
                <a:gridCol w="527040"/>
                <a:gridCol w="525600"/>
                <a:gridCol w="527040"/>
                <a:gridCol w="525600"/>
                <a:gridCol w="527040"/>
                <a:gridCol w="525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 gridSpan="1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68360" y="5803920"/>
          <a:ext cx="8423280" cy="455760"/>
        </p:xfrm>
        <a:graphic>
          <a:graphicData uri="http://schemas.openxmlformats.org/drawingml/2006/table">
            <a:tbl>
              <a:tblPr/>
              <a:tblGrid>
                <a:gridCol w="263520"/>
                <a:gridCol w="263520"/>
                <a:gridCol w="262080"/>
                <a:gridCol w="261720"/>
                <a:gridCol w="265320"/>
                <a:gridCol w="263520"/>
                <a:gridCol w="261720"/>
                <a:gridCol w="262080"/>
                <a:gridCol w="263520"/>
                <a:gridCol w="263520"/>
                <a:gridCol w="263520"/>
                <a:gridCol w="263520"/>
                <a:gridCol w="263520"/>
                <a:gridCol w="260280"/>
                <a:gridCol w="264960"/>
                <a:gridCol w="263520"/>
                <a:gridCol w="262080"/>
                <a:gridCol w="264960"/>
                <a:gridCol w="260640"/>
                <a:gridCol w="263520"/>
                <a:gridCol w="263520"/>
                <a:gridCol w="263520"/>
                <a:gridCol w="263520"/>
                <a:gridCol w="260280"/>
                <a:gridCol w="264960"/>
                <a:gridCol w="263520"/>
                <a:gridCol w="263520"/>
                <a:gridCol w="265320"/>
                <a:gridCol w="263520"/>
                <a:gridCol w="261720"/>
                <a:gridCol w="265320"/>
                <a:gridCol w="26352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268360" y="2060640"/>
          <a:ext cx="4992840" cy="517320"/>
        </p:xfrm>
        <a:graphic>
          <a:graphicData uri="http://schemas.openxmlformats.org/drawingml/2006/table">
            <a:tbl>
              <a:tblPr/>
              <a:tblGrid>
                <a:gridCol w="625680"/>
                <a:gridCol w="622440"/>
                <a:gridCol w="625320"/>
                <a:gridCol w="623880"/>
                <a:gridCol w="623880"/>
                <a:gridCol w="623880"/>
                <a:gridCol w="623880"/>
                <a:gridCol w="623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Заголовок 2"/>
          <p:cNvSpPr/>
          <p:nvPr/>
        </p:nvSpPr>
        <p:spPr>
          <a:xfrm>
            <a:off x="324000" y="189000"/>
            <a:ext cx="83628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едставление вещественных чис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68360" y="1341360"/>
            <a:ext cx="842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юбое вещественное число А может быть записано в нормальной (научной, экспоненциальной) форм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 =±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2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гд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- 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нтисса числ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ание системы счисл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рядок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7572240" y="4357800"/>
            <a:ext cx="825480" cy="9284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395280" y="350028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472 000 000 может быть представлено так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95280" y="4365720"/>
            <a:ext cx="689148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ятая «плавает» по мантисс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ое представление числа называется представлением в формате с плавающей запят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ывают записи вида: 4.72Е+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489480" y="3933720"/>
            <a:ext cx="22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7,2 · 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1" descr="http://www.artpan.ru/assets/galleries/2902/big_1img_2020041PK2.jpg"/>
          <p:cNvPicPr/>
          <p:nvPr/>
        </p:nvPicPr>
        <p:blipFill>
          <a:blip r:embed="rId3"/>
          <a:stretch/>
        </p:blipFill>
        <p:spPr>
          <a:xfrm>
            <a:off x="7572240" y="5429160"/>
            <a:ext cx="1000440" cy="1062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3562200" y="393372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7,2 · 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3417840" y="3933720"/>
            <a:ext cx="23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72 · 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346560" y="393372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720 · 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6-29T17:38:54Z</dcterms:modified>
  <cp:revision>70</cp:revision>
  <dc:subject/>
  <dc:title>Презентация PowerPoint</dc:title>
</cp:coreProperties>
</file>