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9E7-2915-4580-BFEF-4E903B43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C52-9FAE-48D8-BBF0-62FE95A0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1A5-ACA9-40E4-BF5B-64EAD900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B06-C14E-4B62-98E9-87D5E7E2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4D9-190A-41FC-A7C7-05B70C48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D3A-8E0D-4EE5-80FA-F1C61F4D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C3F-C5B0-4B74-80A1-FB11235C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4D9-295E-4B4E-A872-32E2D4F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1EE-5416-42DF-B0D7-7B4C79D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807-07FE-4AF2-9C03-85B513B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270-B4AA-4158-A2F8-EBFC1A6D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37F-154F-405B-BD74-951DB110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5FE-CB18-42AC-AE42-E861D6A1D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d26ca47b-943d-4dec-a853-a32844cdc101/9_117.sw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050920" y="1628640"/>
            <a:ext cx="6407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ЕДСТАВЛЕНИЕ ИНФОРМАЦИИ В КОМПЬЮТЕ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68360" y="765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в формате с плавающей запятой может занимать в памяти компьютера 32 или 64 разря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3068640"/>
          <a:ext cx="8280360" cy="888840"/>
        </p:xfrm>
        <a:graphic>
          <a:graphicData uri="http://schemas.openxmlformats.org/drawingml/2006/table">
            <a:tbl>
              <a:tblPr/>
              <a:tblGrid>
                <a:gridCol w="258840"/>
                <a:gridCol w="258840"/>
                <a:gridCol w="258840"/>
                <a:gridCol w="257040"/>
                <a:gridCol w="260280"/>
                <a:gridCol w="258840"/>
                <a:gridCol w="257040"/>
                <a:gridCol w="258840"/>
                <a:gridCol w="258840"/>
                <a:gridCol w="258840"/>
                <a:gridCol w="258840"/>
                <a:gridCol w="258480"/>
                <a:gridCol w="258840"/>
                <a:gridCol w="257040"/>
                <a:gridCol w="260640"/>
                <a:gridCol w="258480"/>
                <a:gridCol w="257400"/>
                <a:gridCol w="260280"/>
                <a:gridCol w="257040"/>
                <a:gridCol w="258840"/>
                <a:gridCol w="258840"/>
                <a:gridCol w="258840"/>
                <a:gridCol w="258840"/>
                <a:gridCol w="257040"/>
                <a:gridCol w="260280"/>
                <a:gridCol w="258840"/>
                <a:gridCol w="258840"/>
                <a:gridCol w="260280"/>
                <a:gridCol w="258840"/>
                <a:gridCol w="258480"/>
                <a:gridCol w="260640"/>
                <a:gridCol w="2584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1872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433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и поря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и манти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872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4"/>
          <p:cNvSpPr/>
          <p:nvPr/>
        </p:nvSpPr>
        <p:spPr>
          <a:xfrm>
            <a:off x="1908000" y="5950080"/>
            <a:ext cx="5112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исла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77" descr=""/>
          <p:cNvPicPr/>
          <p:nvPr/>
        </p:nvPicPr>
        <p:blipFill>
          <a:blip r:embed="rId2"/>
          <a:stretch/>
        </p:blipFill>
        <p:spPr>
          <a:xfrm>
            <a:off x="6300720" y="602280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9"/>
          <p:cNvSpPr/>
          <p:nvPr/>
        </p:nvSpPr>
        <p:spPr>
          <a:xfrm>
            <a:off x="468360" y="4221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пазон представления вещественных чисел определяется количеством разрядов, отведённых для хранения порядка числа, а точность - количеством разрядов, отведённых для хранения манти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95280" y="155736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этом выделяются разряды для хра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6"/>
          <p:cNvSpPr/>
          <p:nvPr/>
        </p:nvSpPr>
        <p:spPr>
          <a:xfrm flipH="1">
            <a:off x="684360" y="2421000"/>
            <a:ext cx="35856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611280" y="206064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а поряд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59"/>
          <p:cNvSpPr/>
          <p:nvPr/>
        </p:nvSpPr>
        <p:spPr>
          <a:xfrm rot="5400000">
            <a:off x="1547280" y="1989000"/>
            <a:ext cx="287280" cy="1871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60"/>
          <p:cNvSpPr/>
          <p:nvPr/>
        </p:nvSpPr>
        <p:spPr>
          <a:xfrm rot="5400000">
            <a:off x="5724000" y="-26640"/>
            <a:ext cx="287280" cy="59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53720 h 5903640"/>
              <a:gd name="textAreaBottom" fmla="*/ 5749920 h 59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700360" y="2060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яд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62"/>
          <p:cNvSpPr/>
          <p:nvPr/>
        </p:nvSpPr>
        <p:spPr>
          <a:xfrm flipH="1">
            <a:off x="1763280" y="2492280"/>
            <a:ext cx="151308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924360" y="2060640"/>
            <a:ext cx="23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ка мантис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4"/>
          <p:cNvSpPr/>
          <p:nvPr/>
        </p:nvSpPr>
        <p:spPr>
          <a:xfrm flipH="1">
            <a:off x="2700000" y="2421000"/>
            <a:ext cx="215892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084720" y="206064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манти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6"/>
          <p:cNvSpPr/>
          <p:nvPr/>
        </p:nvSpPr>
        <p:spPr>
          <a:xfrm flipH="1">
            <a:off x="5940360" y="2421000"/>
            <a:ext cx="936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2"/>
          <p:cNvSpPr/>
          <p:nvPr/>
        </p:nvSpPr>
        <p:spPr>
          <a:xfrm>
            <a:off x="324000" y="189000"/>
            <a:ext cx="836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ат с плавающей запя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468360" y="857160"/>
            <a:ext cx="849636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мпьютерного представления целых чисел используются несколько различных способов, отличающихся друг от друга количеством разрядов (8, 16, 32 или 64) и наличием или отсутствием знакового раз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ззнакового целого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го следует перевести в двоичную систему счисления и дополнить полученный результат слева нулями до стандартной разряд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ении со зна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ый старший разряд отводится под знак числа, остальные разряды - под само число. Если число положительное, то в знаковый разряд помещается 0, если число отрицательное, то 1. Положительные числа хранятся в компьютере в прямом коде, отрицательные - в дополнитель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щественные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омпьютере хранятся в формате с плавающей запят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 = ±m * q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нтисса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ание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 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24000" y="1700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 памяти компьютера представляются целые положительные и отрицательные чис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170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целое число можно рассматривать как вещественное, но с нулевой дробной ча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целесообразность наличия особых способов компьютерного представления цел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 число 6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беззнаковом 8-разрядном форм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170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десятичные эквиваленты чисел по их прямым кодам, записанным в 8-разрядном формате со зна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01001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000101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чисел 44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0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но сохранить в 8-разрядном форма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4000" y="170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ледующие числа в естествен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0,3800456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0,245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,256900Е+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,569120Е–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4000" y="1700280"/>
            <a:ext cx="85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число 2010,0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ятью различными способами в норма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24000" y="170028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ледующие числа в нормальной форме с нормализованной мантиссой - правильной дробью, имеющей после запятой цифру, отличную от ну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17,934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75321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0,00101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916360" y="2133720"/>
            <a:ext cx="3527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а в компьют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332000" y="3213000"/>
            <a:ext cx="2160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ел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364000" y="3213000"/>
            <a:ext cx="3311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щественн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 flipV="1">
            <a:off x="2627280" y="2565000"/>
            <a:ext cx="2160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 flipH="1" flipV="1">
            <a:off x="4788000" y="2565000"/>
            <a:ext cx="1944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9640" y="907920"/>
            <a:ext cx="806472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компьютере числ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ляться  8, 16, 32 или 64-разрядн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7164360" y="371592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435640" y="4365720"/>
            <a:ext cx="3384360" cy="1942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А = ±m * q</a:t>
            </a:r>
            <a:r>
              <a:rPr b="1" i="1" lang="ru-RU" sz="2200" spc="-1" strike="noStrike" baseline="30000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г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нтисса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q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нование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p -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рядок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908000" y="4149720"/>
            <a:ext cx="2592720" cy="358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и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908000" y="5013360"/>
            <a:ext cx="266544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рицатель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1476360" y="3644640"/>
            <a:ext cx="0" cy="1655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 flipH="1">
            <a:off x="1476000" y="436572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H="1">
            <a:off x="1476000" y="530064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8360" y="1197000"/>
            <a:ext cx="842472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d26ca47b-943d-4dec-a853-a32844cdc101/9_117.sw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Числа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iles.school-collection.edu.ru/dlrstore/ecf4ab69-d8ac-40a8-b26a-2780aa70b33d/9_118.swf - 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iles.school-collection.edu.ru/dlrstore/19d0fb95-871d-4063-961d-e7dc5725e555/9_121.swf - Тест двоичная система счисления и 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017.radikal.ru/1104/05/e7cb3d0ff987.jpg - кораб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valdosta.edu/~bmbridges/calculator.gif - калькуля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rtpan.ru/assets/galleries/2902/big_1img_2020041PK2.jpg - калькуля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324000" y="1052640"/>
            <a:ext cx="83628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знаковое представление цел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целых чисел со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тавление веществен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1666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с плавающей зап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Ячейки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95280" y="112536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мять компьютера состоит из ячеек, в свою очередь состоящих из некоторого числа однородных элем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1692360" y="4508640"/>
            <a:ext cx="5832360" cy="2096640"/>
            <a:chOff x="1692360" y="4508640"/>
            <a:chExt cx="5832360" cy="2096640"/>
          </a:xfrm>
        </p:grpSpPr>
        <p:grpSp>
          <p:nvGrpSpPr>
            <p:cNvPr id="48" name="Group 6"/>
            <p:cNvGrpSpPr/>
            <p:nvPr/>
          </p:nvGrpSpPr>
          <p:grpSpPr>
            <a:xfrm>
              <a:off x="2692800" y="4838040"/>
              <a:ext cx="3825360" cy="1397880"/>
              <a:chOff x="2692800" y="4838040"/>
              <a:chExt cx="3825360" cy="1397880"/>
            </a:xfrm>
          </p:grpSpPr>
          <p:sp>
            <p:nvSpPr>
              <p:cNvPr id="49" name="Rectangle 7"/>
              <p:cNvSpPr/>
              <p:nvPr/>
            </p:nvSpPr>
            <p:spPr>
              <a:xfrm>
                <a:off x="320508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8"/>
              <p:cNvSpPr/>
              <p:nvPr/>
            </p:nvSpPr>
            <p:spPr>
              <a:xfrm>
                <a:off x="464508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9"/>
              <p:cNvSpPr/>
              <p:nvPr/>
            </p:nvSpPr>
            <p:spPr>
              <a:xfrm>
                <a:off x="5004000" y="5515920"/>
                <a:ext cx="35856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0"/>
              <p:cNvSpPr/>
              <p:nvPr/>
            </p:nvSpPr>
            <p:spPr>
              <a:xfrm>
                <a:off x="5365800" y="5515920"/>
                <a:ext cx="35892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1"/>
              <p:cNvSpPr/>
              <p:nvPr/>
            </p:nvSpPr>
            <p:spPr>
              <a:xfrm>
                <a:off x="5724720" y="5515920"/>
                <a:ext cx="358560" cy="358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2"/>
              <p:cNvSpPr/>
              <p:nvPr/>
            </p:nvSpPr>
            <p:spPr>
              <a:xfrm>
                <a:off x="3564000" y="551592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3"/>
              <p:cNvSpPr/>
              <p:nvPr/>
            </p:nvSpPr>
            <p:spPr>
              <a:xfrm>
                <a:off x="3564000" y="587628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4"/>
              <p:cNvSpPr/>
              <p:nvPr/>
            </p:nvSpPr>
            <p:spPr>
              <a:xfrm>
                <a:off x="4356360" y="5515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5"/>
              <p:cNvSpPr/>
              <p:nvPr/>
            </p:nvSpPr>
            <p:spPr>
              <a:xfrm>
                <a:off x="4356360" y="5876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16"/>
              <p:cNvSpPr/>
              <p:nvPr/>
            </p:nvSpPr>
            <p:spPr>
              <a:xfrm rot="16200000">
                <a:off x="4536360" y="4615920"/>
                <a:ext cx="215640" cy="302400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78840 h 3024000"/>
                  <a:gd name="textAreaBottom" fmla="*/ 2945160 h 30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17"/>
              <p:cNvSpPr/>
              <p:nvPr/>
            </p:nvSpPr>
            <p:spPr>
              <a:xfrm rot="19357200">
                <a:off x="2844720" y="4868640"/>
                <a:ext cx="292320" cy="599760"/>
              </a:xfrm>
              <a:prstGeom prst="downArrow">
                <a:avLst>
                  <a:gd name="adj1" fmla="val 50000"/>
                  <a:gd name="adj2" fmla="val 51293"/>
                </a:avLst>
              </a:prstGeom>
              <a:gradFill rotWithShape="0">
                <a:gsLst>
                  <a:gs pos="0">
                    <a:srgbClr val="ffebfa"/>
                  </a:gs>
                  <a:gs pos="100000">
                    <a:srgbClr val="5e9eff"/>
                  </a:gs>
                </a:gsLst>
                <a:lin ang="7644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8"/>
              <p:cNvSpPr/>
              <p:nvPr/>
            </p:nvSpPr>
            <p:spPr>
              <a:xfrm rot="2011200">
                <a:off x="6084720" y="4868640"/>
                <a:ext cx="291960" cy="599760"/>
              </a:xfrm>
              <a:prstGeom prst="downArrow">
                <a:avLst>
                  <a:gd name="adj1" fmla="val 50000"/>
                  <a:gd name="adj2" fmla="val 51356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9"/>
              <p:cNvSpPr/>
              <p:nvPr/>
            </p:nvSpPr>
            <p:spPr>
              <a:xfrm>
                <a:off x="3853080" y="587628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0"/>
              <p:cNvSpPr/>
              <p:nvPr/>
            </p:nvSpPr>
            <p:spPr>
              <a:xfrm>
                <a:off x="4332240" y="5522400"/>
                <a:ext cx="87480" cy="3330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1"/>
              <p:cNvSpPr/>
              <p:nvPr/>
            </p:nvSpPr>
            <p:spPr>
              <a:xfrm>
                <a:off x="3840120" y="5536440"/>
                <a:ext cx="54000" cy="3330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22"/>
            <p:cNvSpPr/>
            <p:nvPr/>
          </p:nvSpPr>
          <p:spPr>
            <a:xfrm>
              <a:off x="3492720" y="6237000"/>
              <a:ext cx="26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ячейка из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яд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3"/>
            <p:cNvSpPr/>
            <p:nvPr/>
          </p:nvSpPr>
          <p:spPr>
            <a:xfrm>
              <a:off x="1692360" y="450864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1)-й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я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"/>
            <p:cNvSpPr/>
            <p:nvPr/>
          </p:nvSpPr>
          <p:spPr>
            <a:xfrm>
              <a:off x="5940360" y="4508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 –й разря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3"/>
          <p:cNvSpPr/>
          <p:nvPr/>
        </p:nvSpPr>
        <p:spPr>
          <a:xfrm>
            <a:off x="395280" y="2470320"/>
            <a:ext cx="47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такой элемент служит для хранения одного из битов - разрядов двоичного числа. Именно поэтому каждый элемент ячейки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бит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азряд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7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514680" cy="33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3"/>
          <p:cNvSpPr/>
          <p:nvPr/>
        </p:nvSpPr>
        <p:spPr>
          <a:xfrm>
            <a:off x="468360" y="836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несколько способов представления целых чисел, отличающихся количеством разрядов и наличием или отсутствием знакового разря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цел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95280" y="1989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отводится 8 разря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95280" y="3213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числа отводится 16 разряд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95280" y="479736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целые числа отводится 32 разря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268360" y="2565360"/>
          <a:ext cx="4680000" cy="517680"/>
        </p:xfrm>
        <a:graphic>
          <a:graphicData uri="http://schemas.openxmlformats.org/drawingml/2006/table">
            <a:tbl>
              <a:tblPr/>
              <a:tblGrid>
                <a:gridCol w="586080"/>
                <a:gridCol w="583920"/>
                <a:gridCol w="586080"/>
                <a:gridCol w="583920"/>
                <a:gridCol w="586080"/>
                <a:gridCol w="583920"/>
                <a:gridCol w="586080"/>
                <a:gridCol w="58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8360" y="3789360"/>
          <a:ext cx="8424720" cy="884160"/>
        </p:xfrm>
        <a:graphic>
          <a:graphicData uri="http://schemas.openxmlformats.org/drawingml/2006/table">
            <a:tbl>
              <a:tblPr/>
              <a:tblGrid>
                <a:gridCol w="718920"/>
                <a:gridCol w="432000"/>
                <a:gridCol w="430200"/>
                <a:gridCol w="525600"/>
                <a:gridCol w="527040"/>
                <a:gridCol w="527040"/>
                <a:gridCol w="527040"/>
                <a:gridCol w="527040"/>
                <a:gridCol w="527040"/>
                <a:gridCol w="525240"/>
                <a:gridCol w="527040"/>
                <a:gridCol w="525600"/>
                <a:gridCol w="527040"/>
                <a:gridCol w="525600"/>
                <a:gridCol w="527040"/>
                <a:gridCol w="52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8360" y="5516640"/>
          <a:ext cx="8423280" cy="455400"/>
        </p:xfrm>
        <a:graphic>
          <a:graphicData uri="http://schemas.openxmlformats.org/drawingml/2006/table">
            <a:tbl>
              <a:tblPr/>
              <a:tblGrid>
                <a:gridCol w="263520"/>
                <a:gridCol w="263520"/>
                <a:gridCol w="262080"/>
                <a:gridCol w="261720"/>
                <a:gridCol w="265320"/>
                <a:gridCol w="263520"/>
                <a:gridCol w="261720"/>
                <a:gridCol w="262080"/>
                <a:gridCol w="26352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2080"/>
                <a:gridCol w="264960"/>
                <a:gridCol w="26064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3520"/>
                <a:gridCol w="265320"/>
                <a:gridCol w="263520"/>
                <a:gridCol w="261720"/>
                <a:gridCol w="265320"/>
                <a:gridCol w="26352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203"/>
          <p:cNvSpPr/>
          <p:nvPr/>
        </p:nvSpPr>
        <p:spPr>
          <a:xfrm>
            <a:off x="395280" y="623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4"/>
          <p:cNvSpPr/>
          <p:nvPr/>
        </p:nvSpPr>
        <p:spPr>
          <a:xfrm rot="16200000">
            <a:off x="4644360" y="2061360"/>
            <a:ext cx="358560" cy="8136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2040 h 8136000"/>
              <a:gd name="textAreaBottom" fmla="*/ 7923960 h 813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5"/>
          <p:cNvSpPr/>
          <p:nvPr/>
        </p:nvSpPr>
        <p:spPr>
          <a:xfrm>
            <a:off x="4211640" y="623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6"/>
          <p:cNvSpPr/>
          <p:nvPr/>
        </p:nvSpPr>
        <p:spPr>
          <a:xfrm flipH="1" flipV="1">
            <a:off x="539640" y="5950080"/>
            <a:ext cx="216000" cy="358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539640" y="1989000"/>
            <a:ext cx="82803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ое значение:  во всех разрядах ячейки хранятся единицы (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мальное значение: во всех разрядах ячейки хранятся ну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3716280"/>
          <a:ext cx="8353440" cy="2443320"/>
        </p:xfrm>
        <a:graphic>
          <a:graphicData uri="http://schemas.openxmlformats.org/drawingml/2006/table">
            <a:tbl>
              <a:tblPr/>
              <a:tblGrid>
                <a:gridCol w="1800360"/>
                <a:gridCol w="2016000"/>
                <a:gridCol w="4537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и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мальн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53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94 967 29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446 744 073 709 551 615 (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 Box 14"/>
          <p:cNvSpPr/>
          <p:nvPr/>
        </p:nvSpPr>
        <p:spPr>
          <a:xfrm>
            <a:off x="536400" y="1125360"/>
            <a:ext cx="82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знаковое представление можно использовать только для неотрицательных цел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Беззнаковое предст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9640" y="98100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р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5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1101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восьм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40000" y="2205000"/>
          <a:ext cx="4992840" cy="517680"/>
        </p:xfrm>
        <a:graphic>
          <a:graphicData uri="http://schemas.openxmlformats.org/drawingml/2006/table">
            <a:tbl>
              <a:tblPr/>
              <a:tblGrid>
                <a:gridCol w="625320"/>
                <a:gridCol w="622440"/>
                <a:gridCol w="625320"/>
                <a:gridCol w="623880"/>
                <a:gridCol w="623880"/>
                <a:gridCol w="623880"/>
                <a:gridCol w="623880"/>
                <a:gridCol w="62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3"/>
          <p:cNvSpPr/>
          <p:nvPr/>
        </p:nvSpPr>
        <p:spPr>
          <a:xfrm>
            <a:off x="539640" y="3357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53 в шестнадцат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26920" y="4437000"/>
          <a:ext cx="7993080" cy="517680"/>
        </p:xfrm>
        <a:graphic>
          <a:graphicData uri="http://schemas.openxmlformats.org/drawingml/2006/table">
            <a:tbl>
              <a:tblPr/>
              <a:tblGrid>
                <a:gridCol w="500400"/>
                <a:gridCol w="500040"/>
                <a:gridCol w="500040"/>
                <a:gridCol w="498240"/>
                <a:gridCol w="500040"/>
                <a:gridCol w="500040"/>
                <a:gridCol w="500040"/>
                <a:gridCol w="500400"/>
                <a:gridCol w="500040"/>
                <a:gridCol w="498240"/>
                <a:gridCol w="500040"/>
                <a:gridCol w="498600"/>
                <a:gridCol w="500040"/>
                <a:gridCol w="498600"/>
                <a:gridCol w="500040"/>
                <a:gridCol w="49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4"/>
          <p:cNvSpPr/>
          <p:nvPr/>
        </p:nvSpPr>
        <p:spPr>
          <a:xfrm>
            <a:off x="1116000" y="5518080"/>
            <a:ext cx="720108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ставление чисел в памяти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ject 66" descr=""/>
          <p:cNvPicPr/>
          <p:nvPr/>
        </p:nvPicPr>
        <p:blipFill>
          <a:blip r:embed="rId2"/>
          <a:stretch/>
        </p:blipFill>
        <p:spPr>
          <a:xfrm>
            <a:off x="7164360" y="558972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539640" y="189000"/>
            <a:ext cx="8147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со зна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68360" y="9079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представлении со знаком самый старший (левый) разряд отводится под знак числа, остальные разряды - под само число. Если число положительное, то в знаковый разряд помеща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число отрицательное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4149720"/>
          <a:ext cx="8353440" cy="2443320"/>
        </p:xfrm>
        <a:graphic>
          <a:graphicData uri="http://schemas.openxmlformats.org/drawingml/2006/table">
            <a:tbl>
              <a:tblPr/>
              <a:tblGrid>
                <a:gridCol w="2106720"/>
                <a:gridCol w="6246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би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чис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128 до 1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32768 до 327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2147483648 до 214748364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-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2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 (от 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23372036854775808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3"/>
          <p:cNvSpPr/>
          <p:nvPr/>
        </p:nvSpPr>
        <p:spPr>
          <a:xfrm>
            <a:off x="468360" y="2276640"/>
            <a:ext cx="842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апазон представления чисел - 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≤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1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разрядность ячей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5280" y="2997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ксимальное значение:  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мальное значение: -2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39640" y="981000"/>
            <a:ext cx="83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10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исло -7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восьм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8360" y="285264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-73 в шестнадцати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395280" y="486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о – 73 в тридцатидвухразрядном представлении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3645000"/>
          <a:ext cx="8424720" cy="884160"/>
        </p:xfrm>
        <a:graphic>
          <a:graphicData uri="http://schemas.openxmlformats.org/drawingml/2006/table">
            <a:tbl>
              <a:tblPr/>
              <a:tblGrid>
                <a:gridCol w="718920"/>
                <a:gridCol w="432000"/>
                <a:gridCol w="430200"/>
                <a:gridCol w="525600"/>
                <a:gridCol w="527040"/>
                <a:gridCol w="527040"/>
                <a:gridCol w="527040"/>
                <a:gridCol w="527040"/>
                <a:gridCol w="527040"/>
                <a:gridCol w="525240"/>
                <a:gridCol w="527040"/>
                <a:gridCol w="525600"/>
                <a:gridCol w="527040"/>
                <a:gridCol w="525600"/>
                <a:gridCol w="527040"/>
                <a:gridCol w="52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8360" y="5803920"/>
          <a:ext cx="8423280" cy="455760"/>
        </p:xfrm>
        <a:graphic>
          <a:graphicData uri="http://schemas.openxmlformats.org/drawingml/2006/table">
            <a:tbl>
              <a:tblPr/>
              <a:tblGrid>
                <a:gridCol w="263520"/>
                <a:gridCol w="263520"/>
                <a:gridCol w="262080"/>
                <a:gridCol w="261720"/>
                <a:gridCol w="265320"/>
                <a:gridCol w="263520"/>
                <a:gridCol w="261720"/>
                <a:gridCol w="262080"/>
                <a:gridCol w="26352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2080"/>
                <a:gridCol w="264960"/>
                <a:gridCol w="260640"/>
                <a:gridCol w="263520"/>
                <a:gridCol w="263520"/>
                <a:gridCol w="263520"/>
                <a:gridCol w="263520"/>
                <a:gridCol w="260280"/>
                <a:gridCol w="264960"/>
                <a:gridCol w="263520"/>
                <a:gridCol w="263520"/>
                <a:gridCol w="265320"/>
                <a:gridCol w="263520"/>
                <a:gridCol w="261720"/>
                <a:gridCol w="265320"/>
                <a:gridCol w="26352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68360" y="2060640"/>
          <a:ext cx="4992840" cy="517320"/>
        </p:xfrm>
        <a:graphic>
          <a:graphicData uri="http://schemas.openxmlformats.org/drawingml/2006/table">
            <a:tbl>
              <a:tblPr/>
              <a:tblGrid>
                <a:gridCol w="625680"/>
                <a:gridCol w="622440"/>
                <a:gridCol w="625320"/>
                <a:gridCol w="623880"/>
                <a:gridCol w="623880"/>
                <a:gridCol w="623880"/>
                <a:gridCol w="623880"/>
                <a:gridCol w="6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1872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ff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2"/>
          <p:cNvSpPr/>
          <p:nvPr/>
        </p:nvSpPr>
        <p:spPr>
          <a:xfrm>
            <a:off x="324000" y="189000"/>
            <a:ext cx="8362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едставление вещественных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68360" y="1341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юбое вещественное число А может быть записано в нормальной (научной, экспоненциальной) фор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=±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тисса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ядок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572240" y="4357800"/>
            <a:ext cx="825480" cy="928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95280" y="350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472 000 000 может быть представлено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5280" y="4365720"/>
            <a:ext cx="68914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ятая «плавает» по мантисс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е представление числа называется представлением в формате с плавающей запят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вают записи вида: 4.72Е+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89480" y="3933720"/>
            <a:ext cx="22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,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http://www.artpan.ru/assets/galleries/2902/big_1img_2020041PK2.jpg"/>
          <p:cNvPicPr/>
          <p:nvPr/>
        </p:nvPicPr>
        <p:blipFill>
          <a:blip r:embed="rId3"/>
          <a:stretch/>
        </p:blipFill>
        <p:spPr>
          <a:xfrm>
            <a:off x="7572240" y="5429160"/>
            <a:ext cx="1000440" cy="1062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562200" y="393372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,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417840" y="393372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2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46560" y="393372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720 ·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29T17:38:54Z</dcterms:modified>
  <cp:revision>70</cp:revision>
  <dc:subject/>
  <dc:title>Презентация PowerPoint</dc:title>
</cp:coreProperties>
</file>