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A50-B8A4-4983-A725-2997536F11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5D62-B1DC-4264-ABAE-1E3D80A0C8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86C-60C3-4C74-8048-04FE10E9B3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70C-A047-43B5-9284-B834F1E5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666-EDB1-4468-BF51-1964500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413-DAE7-4375-BAFB-32662A7F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52F-CF2B-463E-B0B5-DEA76A05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E63-91B8-4FCF-B518-6C52F95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756-9896-4B1F-9F5E-8D7B4740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81C-1016-4AE7-B99F-4502049A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622-A318-4FBA-8271-1D2B209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D7A-325C-46CA-9B86-FAA795A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105-3662-419E-A046-E32CE28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208-400B-4F86-B74E-5EC42A64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D3B-063A-4FE4-9B51-B98B6EA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ECE-3AB1-4CD2-AA7C-7822B4A465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28880" y="2356920"/>
            <a:ext cx="72151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ление информации 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в форме таблиц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труктура табл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абличный способ решения логически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43040" y="1071720"/>
            <a:ext cx="72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колько существует способов раскрасить снеговиков двумя цветами: синим и голубым, если каждый цвет можно использовать любое количество раз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643120"/>
          <a:ext cx="8001000" cy="22860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440"/>
                <a:gridCol w="998280"/>
                <a:gridCol w="1000080"/>
                <a:gridCol w="1001880"/>
                <a:gridCol w="1000080"/>
              </a:tblGrid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64" name="Багетная рамка 10"/>
          <p:cNvSpPr/>
          <p:nvPr/>
        </p:nvSpPr>
        <p:spPr>
          <a:xfrm>
            <a:off x="2714760" y="5929200"/>
            <a:ext cx="1714320" cy="4287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Группа 8"/>
          <p:cNvGrpSpPr/>
          <p:nvPr/>
        </p:nvGrpSpPr>
        <p:grpSpPr>
          <a:xfrm>
            <a:off x="0" y="3643200"/>
            <a:ext cx="1428840" cy="3000600"/>
            <a:chOff x="0" y="3643200"/>
            <a:chExt cx="1428840" cy="3000600"/>
          </a:xfrm>
        </p:grpSpPr>
        <p:sp>
          <p:nvSpPr>
            <p:cNvPr id="266" name="Овал 5"/>
            <p:cNvSpPr/>
            <p:nvPr/>
          </p:nvSpPr>
          <p:spPr>
            <a:xfrm>
              <a:off x="0" y="521496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Овал 6"/>
            <p:cNvSpPr/>
            <p:nvPr/>
          </p:nvSpPr>
          <p:spPr>
            <a:xfrm>
              <a:off x="142920" y="43574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Овал 7"/>
            <p:cNvSpPr/>
            <p:nvPr/>
          </p:nvSpPr>
          <p:spPr>
            <a:xfrm>
              <a:off x="285480" y="364320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чная форма представления информации очень удобна для представления и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таблиц удобно фиксировать наличие или отсутствие связей между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2640" y="107172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образуйте текстовую информацию в табличную. Дайте названия столбцам и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Содержимое 11"/>
          <p:cNvSpPr/>
          <p:nvPr/>
        </p:nvSpPr>
        <p:spPr>
          <a:xfrm>
            <a:off x="628560" y="2286000"/>
            <a:ext cx="8229600" cy="3429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Самый крупный на земле алмаз c названием «Куллинан» весил 3106 карат (в 1 грамме 5 карат). Он был найден в 1905 году. Следующий по весу алмаз - «Эксцельсиор», найден в 1893 году. Он весил 995 карат. Третий алмаз — «Звезда Сьерра-Леоне» весом 970 карат был найден в 1972 году. Алмаз «Великий Могол» весом 787 карат был найден в Индии в XVII веке. Алмаз Победы» весом 770 карат был найден в 1945 году в Западной Аф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1680" y="2749680"/>
          <a:ext cx="8143560" cy="3108240"/>
        </p:xfrm>
        <a:graphic>
          <a:graphicData uri="http://schemas.openxmlformats.org/drawingml/2006/table">
            <a:tbl>
              <a:tblPr/>
              <a:tblGrid>
                <a:gridCol w="3571560"/>
                <a:gridCol w="2071800"/>
                <a:gridCol w="25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алм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с, к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или век обнару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улли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Эксцельси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Звезда Сьерра-Лео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еликий Мо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XVII</a:t>
                      </a: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Алмаз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Прямоугольник 19"/>
          <p:cNvSpPr/>
          <p:nvPr/>
        </p:nvSpPr>
        <p:spPr>
          <a:xfrm>
            <a:off x="2714760" y="2344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АМЫЕ КРУПНЫЕ АЛМА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9" descr="http://i67.carguru.ru/77/86/38677/87/1492187/f0122c79af38.png"/>
          <p:cNvPicPr/>
          <p:nvPr/>
        </p:nvPicPr>
        <p:blipFill>
          <a:blip r:embed="rId1"/>
          <a:stretch/>
        </p:blipFill>
        <p:spPr>
          <a:xfrm>
            <a:off x="7586640" y="5357880"/>
            <a:ext cx="1557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071720"/>
            <a:ext cx="76150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Для существительных «окно», «пользователь», «Москва», «программа», «мышь»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2765160" y="22860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PragmaticaCSanPin-Bold"/>
                <a:ea typeface="Arial"/>
              </a:rPr>
              <a:t>Имена существи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52440" y="2714760"/>
            <a:ext cx="746280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71360" y="1071720"/>
            <a:ext cx="761508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3.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Три одноклассницы - Соня, Тоня и Женя - занимаются в различных спортивных секциях: одна - в гимнастической, другая - в лыжной, третья - в секции плавания. Каким видом спорта занимается каждая из девочек, если известно, что Соня плаванием не увлекается, Тоня в лыжную секцию никогда не ходила, а Женя является победителем соревнований по лыжа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28800" y="1428840"/>
          <a:ext cx="7429320" cy="3643200"/>
        </p:xfrm>
        <a:graphic>
          <a:graphicData uri="http://schemas.openxmlformats.org/drawingml/2006/table">
            <a:tbl>
              <a:tblPr/>
              <a:tblGrid>
                <a:gridCol w="1857240"/>
                <a:gridCol w="1857240"/>
                <a:gridCol w="1857600"/>
                <a:gridCol w="1857240"/>
              </a:tblGrid>
              <a:tr h="728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Увле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ы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ла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Т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е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TextBox 11"/>
          <p:cNvSpPr/>
          <p:nvPr/>
        </p:nvSpPr>
        <p:spPr>
          <a:xfrm>
            <a:off x="5357880" y="26989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7143840" y="3571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721512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5357880" y="34131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357880" y="4357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35772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342900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721512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3429000" y="33577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5" descr="http://vincentcianni.com/wp-content/uploads/2010/gymnastics-techniques-6912.jpg"/>
          <p:cNvPicPr/>
          <p:nvPr/>
        </p:nvPicPr>
        <p:blipFill>
          <a:blip r:embed="rId1"/>
          <a:stretch/>
        </p:blipFill>
        <p:spPr>
          <a:xfrm>
            <a:off x="2928960" y="5214960"/>
            <a:ext cx="1214280" cy="1336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9" descr="http://cdn.dailyclipart.net/wp-content/uploads/medium/Sports5.jpg"/>
          <p:cNvPicPr/>
          <p:nvPr/>
        </p:nvPicPr>
        <p:blipFill>
          <a:blip r:embed="rId2"/>
          <a:stretch/>
        </p:blipFill>
        <p:spPr>
          <a:xfrm>
            <a:off x="4357800" y="5214960"/>
            <a:ext cx="2428920" cy="1357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1" descr="http://www.fkteplice2000.cz/img/picture/4970/plavec.gif"/>
          <p:cNvPicPr/>
          <p:nvPr/>
        </p:nvPicPr>
        <p:blipFill>
          <a:blip r:embed="rId3"/>
          <a:stretch/>
        </p:blipFill>
        <p:spPr>
          <a:xfrm>
            <a:off x="6786720" y="5435640"/>
            <a:ext cx="1857240" cy="85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1143000" y="3571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электронном приложении к учебнику этот ресурс и познакомьтесь с 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928800" y="478620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абличный способ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решения логических задач»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5622840" y="4483080"/>
            <a:ext cx="2878200" cy="2160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3143160" y="1214280"/>
            <a:ext cx="5286600" cy="21672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«Табличная форма представления информации обладает одним очень важным преимуществом: она содержит только факты и ничего больше».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Уильям Росс Эшб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пециалист по киберне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12" descr="http://www.rossashby.info/gallery/images/1962%20(about)%20ross.jpg"/>
          <p:cNvPicPr/>
          <p:nvPr/>
        </p:nvPicPr>
        <p:blipFill>
          <a:blip r:embed="rId2"/>
          <a:stretch/>
        </p:blipFill>
        <p:spPr>
          <a:xfrm>
            <a:off x="1093680" y="857160"/>
            <a:ext cx="1764000" cy="2571840"/>
          </a:xfrm>
          <a:prstGeom prst="rect">
            <a:avLst/>
          </a:prstGeom>
          <a:ln w="0">
            <a:noFill/>
          </a:ln>
        </p:spPr>
      </p:pic>
      <p:sp>
        <p:nvSpPr>
          <p:cNvPr id="308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олб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ч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9"/>
          <p:cNvSpPr/>
          <p:nvPr/>
        </p:nvSpPr>
        <p:spPr>
          <a:xfrm>
            <a:off x="4714920" y="4500720"/>
            <a:ext cx="1216080" cy="396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 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5"/>
          <p:cNvSpPr/>
          <p:nvPr/>
        </p:nvSpPr>
        <p:spPr>
          <a:xfrm>
            <a:off x="1643040" y="1143000"/>
            <a:ext cx="721512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Таблица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- это форма организации данных по строкам и столб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5"/>
          <p:cNvSpPr/>
          <p:nvPr/>
        </p:nvSpPr>
        <p:spPr>
          <a:xfrm>
            <a:off x="500040" y="11430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68"/>
          <p:cNvSpPr/>
          <p:nvPr/>
        </p:nvSpPr>
        <p:spPr>
          <a:xfrm flipH="1">
            <a:off x="7214760" y="385776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67"/>
          <p:cNvSpPr/>
          <p:nvPr/>
        </p:nvSpPr>
        <p:spPr>
          <a:xfrm flipH="1">
            <a:off x="7214760" y="513072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66"/>
          <p:cNvSpPr/>
          <p:nvPr/>
        </p:nvSpPr>
        <p:spPr>
          <a:xfrm flipH="1">
            <a:off x="7214760" y="427356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65"/>
          <p:cNvSpPr/>
          <p:nvPr/>
        </p:nvSpPr>
        <p:spPr>
          <a:xfrm flipV="1">
            <a:off x="292896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164"/>
          <p:cNvSpPr/>
          <p:nvPr/>
        </p:nvSpPr>
        <p:spPr>
          <a:xfrm flipV="1">
            <a:off x="414324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63"/>
          <p:cNvSpPr/>
          <p:nvPr/>
        </p:nvSpPr>
        <p:spPr>
          <a:xfrm flipV="1">
            <a:off x="535788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162"/>
          <p:cNvSpPr/>
          <p:nvPr/>
        </p:nvSpPr>
        <p:spPr>
          <a:xfrm flipV="1">
            <a:off x="657216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320"/>
          <p:cNvSpPr/>
          <p:nvPr/>
        </p:nvSpPr>
        <p:spPr>
          <a:xfrm>
            <a:off x="3357720" y="57736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ОЛБ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321"/>
          <p:cNvSpPr/>
          <p:nvPr/>
        </p:nvSpPr>
        <p:spPr>
          <a:xfrm>
            <a:off x="7500960" y="42735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Таблица 34" descr=""/>
          <p:cNvPicPr/>
          <p:nvPr/>
        </p:nvPicPr>
        <p:blipFill>
          <a:blip r:embed="rId1"/>
          <a:stretch/>
        </p:blipFill>
        <p:spPr>
          <a:xfrm>
            <a:off x="1000080" y="3187800"/>
            <a:ext cx="6222960" cy="217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20"/>
          <p:cNvSpPr/>
          <p:nvPr/>
        </p:nvSpPr>
        <p:spPr>
          <a:xfrm>
            <a:off x="3252960" y="33084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ОЛО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20"/>
          <p:cNvSpPr/>
          <p:nvPr/>
        </p:nvSpPr>
        <p:spPr>
          <a:xfrm rot="16200000">
            <a:off x="758160" y="426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ОКОВ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167"/>
          <p:cNvSpPr/>
          <p:nvPr/>
        </p:nvSpPr>
        <p:spPr>
          <a:xfrm flipH="1">
            <a:off x="7214760" y="470232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320"/>
          <p:cNvSpPr/>
          <p:nvPr/>
        </p:nvSpPr>
        <p:spPr>
          <a:xfrm>
            <a:off x="2500200" y="41306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ГРАФ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20"/>
          <p:cNvSpPr/>
          <p:nvPr/>
        </p:nvSpPr>
        <p:spPr>
          <a:xfrm>
            <a:off x="1928880" y="27734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звание табл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2"/>
          <p:cNvSpPr/>
          <p:nvPr/>
        </p:nvSpPr>
        <p:spPr>
          <a:xfrm>
            <a:off x="4837680" y="45036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цы в нашей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235240" cy="32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643200" y="1071720"/>
            <a:ext cx="2395800" cy="32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6594480" y="1000080"/>
            <a:ext cx="2344680" cy="37861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4143240" y="4714920"/>
            <a:ext cx="1851120" cy="15717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6132600" y="4883040"/>
            <a:ext cx="2895480" cy="190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6"/>
          <a:stretch/>
        </p:blipFill>
        <p:spPr>
          <a:xfrm>
            <a:off x="714240" y="4452840"/>
            <a:ext cx="3286440" cy="2262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1" descr="http://detsad-kitty.ru/uploads/posts/2010-10/1287327423_oktyabr-kopiya.jpg"/>
          <p:cNvPicPr/>
          <p:nvPr/>
        </p:nvPicPr>
        <p:blipFill>
          <a:blip r:embed="rId1"/>
          <a:stretch/>
        </p:blipFill>
        <p:spPr>
          <a:xfrm>
            <a:off x="4857840" y="1000080"/>
            <a:ext cx="3782880" cy="2675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8" name="Picture 7" descr="http://nk.org.ua/images/_%D0%B4%D0%BD%D0%B5%D0%B2%D0%BD%D0%B8%D0%BA514083.gif"/>
          <p:cNvPicPr/>
          <p:nvPr/>
        </p:nvPicPr>
        <p:blipFill>
          <a:blip r:embed="rId2"/>
          <a:stretch/>
        </p:blipFill>
        <p:spPr>
          <a:xfrm>
            <a:off x="5429160" y="3929040"/>
            <a:ext cx="3429000" cy="2487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цы на уро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500040" y="4214880"/>
            <a:ext cx="3494160" cy="2405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1" name="Picture 19" descr="http://shkola-rf.narod.ru/images/rusyz/rusyz2.jpg"/>
          <p:cNvPicPr/>
          <p:nvPr/>
        </p:nvPicPr>
        <p:blipFill>
          <a:blip r:embed="rId4"/>
          <a:stretch/>
        </p:blipFill>
        <p:spPr>
          <a:xfrm>
            <a:off x="500040" y="1000080"/>
            <a:ext cx="3286080" cy="31114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13" descr="http://www.planetaexcel.ru/upload/medialibrary/689/689c8652c5120c24bac0b5a7bfb28a32.jpg"/>
          <p:cNvPicPr/>
          <p:nvPr/>
        </p:nvPicPr>
        <p:blipFill>
          <a:blip r:embed="rId5"/>
          <a:stretch/>
        </p:blipFill>
        <p:spPr>
          <a:xfrm>
            <a:off x="3449520" y="2000160"/>
            <a:ext cx="247968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1643040" y="1000080"/>
            <a:ext cx="66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Задание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  <a:ea typeface="Arial"/>
              </a:rPr>
              <a:t>: определите, информация какого вида воспринимается легч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642960" y="1989000"/>
            <a:ext cx="8209080" cy="429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1:</a:t>
            </a: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В 5а классе один отличник. В 5б и 5в отличников нет. На «4» и «5» обучаются в 5а  классе – 13 учащихся, а в 5б – 4 ученика. В 5а ни у одного учащегося нет двойки за год. Тройки за год имеют 13 учащихся 5 а класса. В 5в классе один отличник. В 5г классе ни у одного учащегося нет двойки за год. На «4» и «5» обучаются в 5в  классе – 6 учащихся. В 5б классе нет отличников. В 5в и 5б классах нет двоечников. Тройки за год имеют 18 учащихся 5 б класса, и 20 учащихся 5в класса.  На «4» и «5» обучаются в 5г классе – 19 учащихся. В 5в классе нет отличников. В 5г классе 6 учащихся имеют тройки за 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14240" y="2571840"/>
          <a:ext cx="8105760" cy="2530440"/>
        </p:xfrm>
        <a:graphic>
          <a:graphicData uri="http://schemas.openxmlformats.org/drawingml/2006/table">
            <a:tbl>
              <a:tblPr/>
              <a:tblGrid>
                <a:gridCol w="1285920"/>
                <a:gridCol w="1714680"/>
                <a:gridCol w="1785960"/>
                <a:gridCol w="1643040"/>
                <a:gridCol w="16761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лас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«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»и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8"/>
          <p:cNvSpPr/>
          <p:nvPr/>
        </p:nvSpPr>
        <p:spPr>
          <a:xfrm>
            <a:off x="642960" y="2000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2000160" y="5456160"/>
            <a:ext cx="150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ЫВОД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Овал 10"/>
          <p:cNvSpPr/>
          <p:nvPr/>
        </p:nvSpPr>
        <p:spPr>
          <a:xfrm>
            <a:off x="78588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3286080" y="5429160"/>
            <a:ext cx="54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таблица - это простая и удобная форма представл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42640" y="1242720"/>
            <a:ext cx="7543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ход от текстовой формы представления информации к табличной часто помогает решать достаточно трудные задач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чный способ решения логических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929120" y="2500200"/>
          <a:ext cx="4000680" cy="2571840"/>
        </p:xfrm>
        <a:graphic>
          <a:graphicData uri="http://schemas.openxmlformats.org/drawingml/2006/table">
            <a:tbl>
              <a:tblPr/>
              <a:tblGrid>
                <a:gridCol w="1285920"/>
                <a:gridCol w="905040"/>
                <a:gridCol w="925200"/>
                <a:gridCol w="88452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а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орз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уко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дёр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29"/>
          <p:cNvSpPr/>
          <p:nvPr/>
        </p:nvSpPr>
        <p:spPr>
          <a:xfrm>
            <a:off x="566640" y="2500200"/>
            <a:ext cx="4219560" cy="4188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Три подружки - Вера, Оля и Таня - пошли в лес по ягоды. Для сбора ягод у них были корзинка, лукошко, ведёрко. Известно, что Оля была не </a:t>
            </a:r>
            <a:br>
              <a:rPr sz="2200"/>
            </a:b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с корзинкой и не с лукошком, Вера не с лукошко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Что с собой взяла каждая из девочек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ая соединительная линия 25"/>
          <p:cNvSpPr/>
          <p:nvPr/>
        </p:nvSpPr>
        <p:spPr>
          <a:xfrm>
            <a:off x="2643120" y="2928960"/>
            <a:ext cx="13575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26"/>
          <p:cNvSpPr/>
          <p:nvPr/>
        </p:nvSpPr>
        <p:spPr>
          <a:xfrm>
            <a:off x="642960" y="3357720"/>
            <a:ext cx="6429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ая соединительная линия 28"/>
          <p:cNvSpPr/>
          <p:nvPr/>
        </p:nvSpPr>
        <p:spPr>
          <a:xfrm>
            <a:off x="571680" y="4286160"/>
            <a:ext cx="3929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30"/>
          <p:cNvSpPr/>
          <p:nvPr/>
        </p:nvSpPr>
        <p:spPr>
          <a:xfrm>
            <a:off x="2357280" y="4714920"/>
            <a:ext cx="21434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ая соединительная линия 32"/>
          <p:cNvSpPr/>
          <p:nvPr/>
        </p:nvSpPr>
        <p:spPr>
          <a:xfrm>
            <a:off x="642960" y="5143680"/>
            <a:ext cx="38577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7358040" y="26272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73580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728676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7"/>
          <p:cNvSpPr/>
          <p:nvPr/>
        </p:nvSpPr>
        <p:spPr>
          <a:xfrm>
            <a:off x="642924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8"/>
          <p:cNvSpPr/>
          <p:nvPr/>
        </p:nvSpPr>
        <p:spPr>
          <a:xfrm>
            <a:off x="8286840" y="40719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ая соединительная линия 39"/>
          <p:cNvSpPr/>
          <p:nvPr/>
        </p:nvSpPr>
        <p:spPr>
          <a:xfrm>
            <a:off x="642960" y="5572080"/>
            <a:ext cx="271476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1"/>
          <p:cNvSpPr/>
          <p:nvPr/>
        </p:nvSpPr>
        <p:spPr>
          <a:xfrm>
            <a:off x="64292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635796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8286840" y="26431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8215200" y="35719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4929120" y="5286240"/>
            <a:ext cx="400068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Вера взяла корзинк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ля – ведёрк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Таня – луко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9"/>
          <p:cNvSpPr/>
          <p:nvPr/>
        </p:nvSpPr>
        <p:spPr>
          <a:xfrm>
            <a:off x="428760" y="5873760"/>
            <a:ext cx="3000240" cy="764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Verdana"/>
                <a:ea typeface="Arial"/>
              </a:rPr>
              <a:t>Кто на чём ездит домо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428760" y="3944880"/>
            <a:ext cx="3000240" cy="1984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Когда мимо них проходил автобус, третий друг крикнул из окна: «Боря, ты забыл в школе тетрадку!»</a:t>
            </a:r>
            <a:r>
              <a:rPr b="0" lang="ru-RU" sz="2400" spc="-1" strike="noStrike">
                <a:solidFill>
                  <a:srgbClr val="17375e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920" y="2500200"/>
          <a:ext cx="5357880" cy="2571840"/>
        </p:xfrm>
        <a:graphic>
          <a:graphicData uri="http://schemas.openxmlformats.org/drawingml/2006/table">
            <a:tbl>
              <a:tblPr/>
              <a:tblGrid>
                <a:gridCol w="1627200"/>
                <a:gridCol w="1306440"/>
                <a:gridCol w="1241280"/>
                <a:gridCol w="118296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лё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Б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и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рамв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роллей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29"/>
          <p:cNvSpPr/>
          <p:nvPr/>
        </p:nvSpPr>
        <p:spPr>
          <a:xfrm>
            <a:off x="1714680" y="1071720"/>
            <a:ext cx="721512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дача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Три друга - Алёша, Боря и Витя учатся в одном классе. Один из них ездит домой из школы на автобусе, другой — на трамвае, третий — на троллейбу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34"/>
          <p:cNvSpPr/>
          <p:nvPr/>
        </p:nvSpPr>
        <p:spPr>
          <a:xfrm>
            <a:off x="8143920" y="40561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5"/>
          <p:cNvSpPr/>
          <p:nvPr/>
        </p:nvSpPr>
        <p:spPr>
          <a:xfrm>
            <a:off x="6929280" y="33415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6"/>
          <p:cNvSpPr/>
          <p:nvPr/>
        </p:nvSpPr>
        <p:spPr>
          <a:xfrm>
            <a:off x="6858000" y="428616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557208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8"/>
          <p:cNvSpPr/>
          <p:nvPr/>
        </p:nvSpPr>
        <p:spPr>
          <a:xfrm>
            <a:off x="8143920" y="33415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41"/>
          <p:cNvSpPr/>
          <p:nvPr/>
        </p:nvSpPr>
        <p:spPr>
          <a:xfrm>
            <a:off x="692928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42"/>
          <p:cNvSpPr/>
          <p:nvPr/>
        </p:nvSpPr>
        <p:spPr>
          <a:xfrm>
            <a:off x="8143920" y="28735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3"/>
          <p:cNvSpPr/>
          <p:nvPr/>
        </p:nvSpPr>
        <p:spPr>
          <a:xfrm>
            <a:off x="557208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4"/>
          <p:cNvSpPr/>
          <p:nvPr/>
        </p:nvSpPr>
        <p:spPr>
          <a:xfrm>
            <a:off x="5500800" y="3571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5"/>
          <p:cNvSpPr/>
          <p:nvPr/>
        </p:nvSpPr>
        <p:spPr>
          <a:xfrm>
            <a:off x="5286240" y="5248440"/>
            <a:ext cx="364356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Алёша ездит на трамва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Боря – на троллейбус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Витя – на автобу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9"/>
          <p:cNvSpPr/>
          <p:nvPr/>
        </p:nvSpPr>
        <p:spPr>
          <a:xfrm>
            <a:off x="428760" y="2379600"/>
            <a:ext cx="3000240" cy="1679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Однажды после уроков Алёша пошёл проводить своего друга до остановки троллейбуса.</a:t>
            </a:r>
            <a:r>
              <a:rPr b="0" lang="ru-RU" sz="2400" spc="-1" strike="noStrike">
                <a:solidFill>
                  <a:srgbClr val="17375e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Багетная рамка 40"/>
          <p:cNvSpPr/>
          <p:nvPr/>
        </p:nvSpPr>
        <p:spPr>
          <a:xfrm>
            <a:off x="3513240" y="6111720"/>
            <a:ext cx="1714320" cy="4287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ая соединительная линия 46"/>
          <p:cNvSpPr/>
          <p:nvPr/>
        </p:nvSpPr>
        <p:spPr>
          <a:xfrm>
            <a:off x="4572000" y="1428840"/>
            <a:ext cx="264312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ая соединительная линия 48"/>
          <p:cNvSpPr/>
          <p:nvPr/>
        </p:nvSpPr>
        <p:spPr>
          <a:xfrm>
            <a:off x="1714680" y="2030400"/>
            <a:ext cx="174132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ая соединительная линия 52"/>
          <p:cNvSpPr/>
          <p:nvPr/>
        </p:nvSpPr>
        <p:spPr>
          <a:xfrm>
            <a:off x="5143680" y="2070000"/>
            <a:ext cx="1346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ая соединительная линия 53"/>
          <p:cNvSpPr/>
          <p:nvPr/>
        </p:nvSpPr>
        <p:spPr>
          <a:xfrm>
            <a:off x="1714680" y="2357280"/>
            <a:ext cx="174132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1785960" y="1071720"/>
            <a:ext cx="7072200" cy="2421720"/>
          </a:xfrm>
          <a:prstGeom prst="rect">
            <a:avLst/>
          </a:prstGeom>
          <a:solidFill>
            <a:srgbClr val="dbeef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1 вариант: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бутылке, стакане, кувшине и банке находятся молоко, квас, лимонад и вода. Извест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ода и молоко не в бутыл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осуд с лимонадом стоит между кувшином и сосудом с квас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банке не лимонад и не в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такан стоит около банки и сосуда с моло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Куда налита каждая жидкос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164"/>
          <p:cNvSpPr/>
          <p:nvPr/>
        </p:nvSpPr>
        <p:spPr>
          <a:xfrm>
            <a:off x="714240" y="3681360"/>
            <a:ext cx="8136000" cy="300528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2 вариант: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За круглым столом оказались ребята из Москвы, Самары, Новгорода, Перми и Томска: Юра, Толя, Лёша, Коля, Витя.   Извест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Москвич сидел между томичём и Ви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амаровец – между Юрой и Толей, а напротив него сидели пермяк и Лёш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Коля никогда не был в Сама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Юра не бывал в Москве и Томс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Томич с Толей регулярно переписыв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каком городе живёт каждый из ребят?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7:47Z</dcterms:modified>
  <cp:revision>17</cp:revision>
  <dc:subject/>
  <dc:title>Презентация PowerPoint</dc:title>
</cp:coreProperties>
</file>