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AFCE-3DBC-47B4-AE91-2650B588AD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AE5C-EB6C-4B35-BB1F-07A54D71FAD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0A5D-6FD8-4B3F-BED6-4129D761C84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D765-A652-423E-A9C5-ABB117D4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AB22-3820-4DB1-B367-AC1EA19F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E330-A466-4EF0-B11A-B0AAB2DA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164-1C51-4342-8BDF-57CA1E2B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BD14-7771-4C70-A9C4-F85AE402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754-A672-4FAF-A856-A6C25CEC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ACD-04E0-442D-95CD-5217D8B1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A5FA-1667-4735-AD8B-FF5F3694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8551-C3F1-4911-850B-B79E178E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FE7E-6A8A-4AC8-8D72-900EDE36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0C4-8993-44EB-B8EC-2B250B50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9D5B-278E-4DE9-9B8B-669EF264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75A1-C912-4B3E-B175-FCD13C8600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28880" y="2356920"/>
            <a:ext cx="721512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  <a:ea typeface="Arial"/>
              </a:rPr>
              <a:t>Представление информации </a:t>
            </a:r>
            <a:br>
              <a:rPr sz="4200"/>
            </a:br>
            <a:r>
              <a:rPr b="1" lang="ru-RU" sz="4200" spc="-1" strike="noStrike">
                <a:solidFill>
                  <a:srgbClr val="ffffff"/>
                </a:solidFill>
                <a:latin typeface="Arial"/>
                <a:ea typeface="Arial"/>
              </a:rPr>
              <a:t>в форме таблиц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785600" y="4071960"/>
            <a:ext cx="728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труктура таблиц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абличный способ решения логических 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428760" y="500040"/>
            <a:ext cx="1357200" cy="1347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43040" y="1071720"/>
            <a:ext cx="721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Сколько существует способов раскрасить снеговиков двумя цветами: синим и голубым, если каждый цвет можно использовать любое количество раз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43000" y="2643120"/>
          <a:ext cx="8001000" cy="2286000"/>
        </p:xfrm>
        <a:graphic>
          <a:graphicData uri="http://schemas.openxmlformats.org/drawingml/2006/table">
            <a:tbl>
              <a:tblPr/>
              <a:tblGrid>
                <a:gridCol w="1000080"/>
                <a:gridCol w="1000080"/>
                <a:gridCol w="1000080"/>
                <a:gridCol w="1000440"/>
                <a:gridCol w="998280"/>
                <a:gridCol w="1000080"/>
                <a:gridCol w="1001880"/>
                <a:gridCol w="1000080"/>
              </a:tblGrid>
              <a:tr h="76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76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761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7365d"/>
                          </a:solidFill>
                          <a:latin typeface="Arial"/>
                          <a:ea typeface="Calibri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264" name="Багетная рамка 10"/>
          <p:cNvSpPr/>
          <p:nvPr/>
        </p:nvSpPr>
        <p:spPr>
          <a:xfrm>
            <a:off x="2714760" y="5929200"/>
            <a:ext cx="1714320" cy="4287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Группа 8"/>
          <p:cNvGrpSpPr/>
          <p:nvPr/>
        </p:nvGrpSpPr>
        <p:grpSpPr>
          <a:xfrm>
            <a:off x="0" y="3643200"/>
            <a:ext cx="1428840" cy="3000600"/>
            <a:chOff x="0" y="3643200"/>
            <a:chExt cx="1428840" cy="3000600"/>
          </a:xfrm>
        </p:grpSpPr>
        <p:sp>
          <p:nvSpPr>
            <p:cNvPr id="266" name="Овал 5"/>
            <p:cNvSpPr/>
            <p:nvPr/>
          </p:nvSpPr>
          <p:spPr>
            <a:xfrm>
              <a:off x="0" y="5214960"/>
              <a:ext cx="1428840" cy="1428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Овал 6"/>
            <p:cNvSpPr/>
            <p:nvPr/>
          </p:nvSpPr>
          <p:spPr>
            <a:xfrm>
              <a:off x="142920" y="435744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Овал 7"/>
            <p:cNvSpPr/>
            <p:nvPr/>
          </p:nvSpPr>
          <p:spPr>
            <a:xfrm>
              <a:off x="285480" y="3643200"/>
              <a:ext cx="857160" cy="857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бличная форма представления информации очень удобна для представления и обработки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помощью таблиц удобно фиксировать наличие или отсутствие связей между объект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142640" y="1071720"/>
            <a:ext cx="75438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1. Преобразуйте текстовую информацию в табличную. Дайте названия столбцам и заполните табл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Овал 4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Багетная рамка 6н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Содержимое 11"/>
          <p:cNvSpPr/>
          <p:nvPr/>
        </p:nvSpPr>
        <p:spPr>
          <a:xfrm>
            <a:off x="628560" y="2286000"/>
            <a:ext cx="8229600" cy="3429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Arial"/>
                <a:ea typeface="Arial"/>
              </a:rPr>
              <a:t>Самый крупный на земле алмаз c названием «Куллинан» весил 3106 карат (в 1 грамме 5 карат). Он был найден в 1905 году. Следующий по весу алмаз - «Эксцельсиор», найден в 1893 году. Он весил 995 карат. Третий алмаз — «Звезда Сьерра-Леоне» весом 970 карат был найден в 1972 году. Алмаз «Великий Могол» весом 787 карат был найден в Индии в XVII веке. Алмаз Победы» весом 770 карат был найден в 1945 году в Западной Афр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71680" y="2749680"/>
          <a:ext cx="8143560" cy="3108240"/>
        </p:xfrm>
        <a:graphic>
          <a:graphicData uri="http://schemas.openxmlformats.org/drawingml/2006/table">
            <a:tbl>
              <a:tblPr/>
              <a:tblGrid>
                <a:gridCol w="3571560"/>
                <a:gridCol w="2071800"/>
                <a:gridCol w="2500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алма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ес, кар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 или век обнару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уллин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31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9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Эксцельси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9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8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Звезда Сьерра-Лео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9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9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еликий Мо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7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XVII</a:t>
                      </a: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 ве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Алмаз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7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9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78" name="Прямоугольник 19"/>
          <p:cNvSpPr/>
          <p:nvPr/>
        </p:nvSpPr>
        <p:spPr>
          <a:xfrm>
            <a:off x="2714760" y="234468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САМЫЕ КРУПНЫЕ АЛМАЗ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39" descr="http://i67.carguru.ru/77/86/38677/87/1492187/f0122c79af38.png"/>
          <p:cNvPicPr/>
          <p:nvPr/>
        </p:nvPicPr>
        <p:blipFill>
          <a:blip r:embed="rId1"/>
          <a:stretch/>
        </p:blipFill>
        <p:spPr>
          <a:xfrm>
            <a:off x="7586640" y="5357880"/>
            <a:ext cx="155736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71360" y="1071720"/>
            <a:ext cx="761508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2. Для существительных «окно», «пользователь», «Москва», «программа», «мышь» заполните табл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Овал 4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Прямоугольник 8"/>
          <p:cNvSpPr/>
          <p:nvPr/>
        </p:nvSpPr>
        <p:spPr>
          <a:xfrm>
            <a:off x="2765160" y="2286000"/>
            <a:ext cx="35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PragmaticaCSanPin-Bold"/>
                <a:ea typeface="Arial"/>
              </a:rPr>
              <a:t>Имена существитель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252440" y="2714760"/>
            <a:ext cx="746280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71360" y="1071720"/>
            <a:ext cx="761508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3. </a:t>
            </a: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Три одноклассницы - Соня, Тоня и Женя - занимаются в различных спортивных секциях: одна - в гимнастической, другая - в лыжной, третья - в секции плавания. Каким видом спорта занимается каждая из девочек, если известно, что Соня плаванием не увлекается, Тоня в лыжную секцию никогда не ходила, а Женя является победителем соревнований по лыжа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Овал 4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Багетная рамка 6н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928800" y="1428840"/>
          <a:ext cx="7429320" cy="3643200"/>
        </p:xfrm>
        <a:graphic>
          <a:graphicData uri="http://schemas.openxmlformats.org/drawingml/2006/table">
            <a:tbl>
              <a:tblPr/>
              <a:tblGrid>
                <a:gridCol w="1857240"/>
                <a:gridCol w="1857240"/>
                <a:gridCol w="1857600"/>
                <a:gridCol w="1857240"/>
              </a:tblGrid>
              <a:tr h="728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Увлеч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Лы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Пла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Со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То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Же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TextBox 11"/>
          <p:cNvSpPr/>
          <p:nvPr/>
        </p:nvSpPr>
        <p:spPr>
          <a:xfrm>
            <a:off x="5357880" y="2698920"/>
            <a:ext cx="42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3"/>
          <p:cNvSpPr/>
          <p:nvPr/>
        </p:nvSpPr>
        <p:spPr>
          <a:xfrm>
            <a:off x="7143840" y="357192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4"/>
          <p:cNvSpPr/>
          <p:nvPr/>
        </p:nvSpPr>
        <p:spPr>
          <a:xfrm>
            <a:off x="7215120" y="269892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5"/>
          <p:cNvSpPr/>
          <p:nvPr/>
        </p:nvSpPr>
        <p:spPr>
          <a:xfrm>
            <a:off x="5357880" y="3413160"/>
            <a:ext cx="42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5357880" y="435780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7"/>
          <p:cNvSpPr/>
          <p:nvPr/>
        </p:nvSpPr>
        <p:spPr>
          <a:xfrm>
            <a:off x="3357720" y="285768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8"/>
          <p:cNvSpPr/>
          <p:nvPr/>
        </p:nvSpPr>
        <p:spPr>
          <a:xfrm>
            <a:off x="3429000" y="407196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9"/>
          <p:cNvSpPr/>
          <p:nvPr/>
        </p:nvSpPr>
        <p:spPr>
          <a:xfrm>
            <a:off x="7215120" y="407196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20"/>
          <p:cNvSpPr/>
          <p:nvPr/>
        </p:nvSpPr>
        <p:spPr>
          <a:xfrm>
            <a:off x="3429000" y="335772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45" descr="http://vincentcianni.com/wp-content/uploads/2010/gymnastics-techniques-6912.jpg"/>
          <p:cNvPicPr/>
          <p:nvPr/>
        </p:nvPicPr>
        <p:blipFill>
          <a:blip r:embed="rId1"/>
          <a:stretch/>
        </p:blipFill>
        <p:spPr>
          <a:xfrm>
            <a:off x="2928960" y="5214960"/>
            <a:ext cx="1214280" cy="13366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9" descr="http://cdn.dailyclipart.net/wp-content/uploads/medium/Sports5.jpg"/>
          <p:cNvPicPr/>
          <p:nvPr/>
        </p:nvPicPr>
        <p:blipFill>
          <a:blip r:embed="rId2"/>
          <a:stretch/>
        </p:blipFill>
        <p:spPr>
          <a:xfrm>
            <a:off x="4357800" y="5214960"/>
            <a:ext cx="2428920" cy="1357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1" descr="http://www.fkteplice2000.cz/img/picture/4970/plavec.gif"/>
          <p:cNvPicPr/>
          <p:nvPr/>
        </p:nvPicPr>
        <p:blipFill>
          <a:blip r:embed="rId3"/>
          <a:stretch/>
        </p:blipFill>
        <p:spPr>
          <a:xfrm>
            <a:off x="6786720" y="5435640"/>
            <a:ext cx="1857240" cy="85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1143000" y="3571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Найдите в электронном приложении к учебнику этот ресурс и познакомьтесь с н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Прямоугольник 12"/>
          <p:cNvSpPr/>
          <p:nvPr/>
        </p:nvSpPr>
        <p:spPr>
          <a:xfrm>
            <a:off x="928800" y="4786200"/>
            <a:ext cx="428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Презент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Табличный способ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решения логических задач»</a:t>
            </a:r>
            <a:r>
              <a:rPr b="1" i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10" descr=""/>
          <p:cNvPicPr/>
          <p:nvPr/>
        </p:nvPicPr>
        <p:blipFill>
          <a:blip r:embed="rId1"/>
          <a:stretch/>
        </p:blipFill>
        <p:spPr>
          <a:xfrm>
            <a:off x="5622840" y="4483080"/>
            <a:ext cx="2878200" cy="216072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3"/>
          <p:cNvSpPr/>
          <p:nvPr/>
        </p:nvSpPr>
        <p:spPr>
          <a:xfrm>
            <a:off x="3143160" y="1214280"/>
            <a:ext cx="5286600" cy="21672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«Табличная форма представления информации обладает одним очень важным преимуществом: она содержит только факты и ничего больше».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Уильям Росс Эшб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специалист по кибернети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12" descr="http://www.rossashby.info/gallery/images/1962%20(about)%20ross.jpg"/>
          <p:cNvPicPr/>
          <p:nvPr/>
        </p:nvPicPr>
        <p:blipFill>
          <a:blip r:embed="rId2"/>
          <a:stretch/>
        </p:blipFill>
        <p:spPr>
          <a:xfrm>
            <a:off x="1093680" y="857160"/>
            <a:ext cx="1764000" cy="2571840"/>
          </a:xfrm>
          <a:prstGeom prst="rect">
            <a:avLst/>
          </a:prstGeom>
          <a:ln w="0">
            <a:noFill/>
          </a:ln>
        </p:spPr>
      </p:pic>
      <p:sp>
        <p:nvSpPr>
          <p:cNvPr id="308" name="Управляющая кнопка: домой 8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олбе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чей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9"/>
          <p:cNvSpPr/>
          <p:nvPr/>
        </p:nvSpPr>
        <p:spPr>
          <a:xfrm>
            <a:off x="4714920" y="4500720"/>
            <a:ext cx="1216080" cy="396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Структура табл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одержимое 5"/>
          <p:cNvSpPr/>
          <p:nvPr/>
        </p:nvSpPr>
        <p:spPr>
          <a:xfrm>
            <a:off x="1643040" y="1143000"/>
            <a:ext cx="7215120" cy="1000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alibri"/>
              </a:rPr>
              <a:t>Таблица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- это форма организации данных по строкам и столбца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Овал 5"/>
          <p:cNvSpPr/>
          <p:nvPr/>
        </p:nvSpPr>
        <p:spPr>
          <a:xfrm>
            <a:off x="500040" y="11430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168"/>
          <p:cNvSpPr/>
          <p:nvPr/>
        </p:nvSpPr>
        <p:spPr>
          <a:xfrm flipH="1">
            <a:off x="7214760" y="3857760"/>
            <a:ext cx="360360" cy="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Line 167"/>
          <p:cNvSpPr/>
          <p:nvPr/>
        </p:nvSpPr>
        <p:spPr>
          <a:xfrm flipH="1">
            <a:off x="7214760" y="5130720"/>
            <a:ext cx="360360" cy="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166"/>
          <p:cNvSpPr/>
          <p:nvPr/>
        </p:nvSpPr>
        <p:spPr>
          <a:xfrm flipH="1">
            <a:off x="7214760" y="4273560"/>
            <a:ext cx="360360" cy="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ine 165"/>
          <p:cNvSpPr/>
          <p:nvPr/>
        </p:nvSpPr>
        <p:spPr>
          <a:xfrm flipV="1">
            <a:off x="2928960" y="5344920"/>
            <a:ext cx="0" cy="36036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ine 164"/>
          <p:cNvSpPr/>
          <p:nvPr/>
        </p:nvSpPr>
        <p:spPr>
          <a:xfrm flipV="1">
            <a:off x="4143240" y="5344920"/>
            <a:ext cx="0" cy="36036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Line 163"/>
          <p:cNvSpPr/>
          <p:nvPr/>
        </p:nvSpPr>
        <p:spPr>
          <a:xfrm flipV="1">
            <a:off x="5357880" y="5344920"/>
            <a:ext cx="0" cy="36036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162"/>
          <p:cNvSpPr/>
          <p:nvPr/>
        </p:nvSpPr>
        <p:spPr>
          <a:xfrm flipV="1">
            <a:off x="6572160" y="5344920"/>
            <a:ext cx="0" cy="36036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320"/>
          <p:cNvSpPr/>
          <p:nvPr/>
        </p:nvSpPr>
        <p:spPr>
          <a:xfrm>
            <a:off x="3357720" y="577368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ТОЛБЦ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321"/>
          <p:cNvSpPr/>
          <p:nvPr/>
        </p:nvSpPr>
        <p:spPr>
          <a:xfrm>
            <a:off x="7500960" y="42735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ТРО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Таблица 34" descr=""/>
          <p:cNvPicPr/>
          <p:nvPr/>
        </p:nvPicPr>
        <p:blipFill>
          <a:blip r:embed="rId1"/>
          <a:stretch/>
        </p:blipFill>
        <p:spPr>
          <a:xfrm>
            <a:off x="1000080" y="3187800"/>
            <a:ext cx="6222960" cy="2170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20"/>
          <p:cNvSpPr/>
          <p:nvPr/>
        </p:nvSpPr>
        <p:spPr>
          <a:xfrm>
            <a:off x="3252960" y="330840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ОЛОВ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320"/>
          <p:cNvSpPr/>
          <p:nvPr/>
        </p:nvSpPr>
        <p:spPr>
          <a:xfrm rot="16200000">
            <a:off x="758160" y="4267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БОКОВИ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ine 167"/>
          <p:cNvSpPr/>
          <p:nvPr/>
        </p:nvSpPr>
        <p:spPr>
          <a:xfrm flipH="1">
            <a:off x="7214760" y="4702320"/>
            <a:ext cx="360360" cy="0"/>
          </a:xfrm>
          <a:prstGeom prst="line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320"/>
          <p:cNvSpPr/>
          <p:nvPr/>
        </p:nvSpPr>
        <p:spPr>
          <a:xfrm>
            <a:off x="2500200" y="41306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ГРАФ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320"/>
          <p:cNvSpPr/>
          <p:nvPr/>
        </p:nvSpPr>
        <p:spPr>
          <a:xfrm>
            <a:off x="1928880" y="277344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азвание таблиц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22"/>
          <p:cNvSpPr/>
          <p:nvPr/>
        </p:nvSpPr>
        <p:spPr>
          <a:xfrm>
            <a:off x="4837680" y="45036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ЯЧЕЙ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аблицы в нашей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2235240" cy="32860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3643200" y="1071720"/>
            <a:ext cx="2395800" cy="32860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3" name="Picture 7" descr=""/>
          <p:cNvPicPr/>
          <p:nvPr/>
        </p:nvPicPr>
        <p:blipFill>
          <a:blip r:embed="rId3"/>
          <a:stretch/>
        </p:blipFill>
        <p:spPr>
          <a:xfrm>
            <a:off x="6594480" y="1000080"/>
            <a:ext cx="2344680" cy="37861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4" name="Picture 11" descr=""/>
          <p:cNvPicPr/>
          <p:nvPr/>
        </p:nvPicPr>
        <p:blipFill>
          <a:blip r:embed="rId4"/>
          <a:stretch/>
        </p:blipFill>
        <p:spPr>
          <a:xfrm>
            <a:off x="4143240" y="4714920"/>
            <a:ext cx="1851120" cy="157176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5" name="Picture 8" descr=""/>
          <p:cNvPicPr/>
          <p:nvPr/>
        </p:nvPicPr>
        <p:blipFill>
          <a:blip r:embed="rId5"/>
          <a:stretch/>
        </p:blipFill>
        <p:spPr>
          <a:xfrm>
            <a:off x="6132600" y="4883040"/>
            <a:ext cx="2895480" cy="1908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6"/>
          <a:stretch/>
        </p:blipFill>
        <p:spPr>
          <a:xfrm>
            <a:off x="714240" y="4452840"/>
            <a:ext cx="3286440" cy="226224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1" descr="http://detsad-kitty.ru/uploads/posts/2010-10/1287327423_oktyabr-kopiya.jpg"/>
          <p:cNvPicPr/>
          <p:nvPr/>
        </p:nvPicPr>
        <p:blipFill>
          <a:blip r:embed="rId1"/>
          <a:stretch/>
        </p:blipFill>
        <p:spPr>
          <a:xfrm>
            <a:off x="4857840" y="1000080"/>
            <a:ext cx="3782880" cy="267516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8" name="Picture 7" descr="http://nk.org.ua/images/_%D0%B4%D0%BD%D0%B5%D0%B2%D0%BD%D0%B8%D0%BA514083.gif"/>
          <p:cNvPicPr/>
          <p:nvPr/>
        </p:nvPicPr>
        <p:blipFill>
          <a:blip r:embed="rId2"/>
          <a:stretch/>
        </p:blipFill>
        <p:spPr>
          <a:xfrm>
            <a:off x="5429160" y="3929040"/>
            <a:ext cx="3429000" cy="24876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аблицы на урок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3"/>
          <a:stretch/>
        </p:blipFill>
        <p:spPr>
          <a:xfrm>
            <a:off x="500040" y="4214880"/>
            <a:ext cx="3494160" cy="240516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1" name="Picture 19" descr="http://shkola-rf.narod.ru/images/rusyz/rusyz2.jpg"/>
          <p:cNvPicPr/>
          <p:nvPr/>
        </p:nvPicPr>
        <p:blipFill>
          <a:blip r:embed="rId4"/>
          <a:stretch/>
        </p:blipFill>
        <p:spPr>
          <a:xfrm>
            <a:off x="500040" y="1000080"/>
            <a:ext cx="3286080" cy="31114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2" name="Picture 13" descr="http://www.planetaexcel.ru/upload/medialibrary/689/689c8652c5120c24bac0b5a7bfb28a32.jpg"/>
          <p:cNvPicPr/>
          <p:nvPr/>
        </p:nvPicPr>
        <p:blipFill>
          <a:blip r:embed="rId5"/>
          <a:stretch/>
        </p:blipFill>
        <p:spPr>
          <a:xfrm>
            <a:off x="3449520" y="2000160"/>
            <a:ext cx="2479680" cy="32860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Заголовок 1"/>
          <p:cNvSpPr/>
          <p:nvPr/>
        </p:nvSpPr>
        <p:spPr>
          <a:xfrm>
            <a:off x="571680" y="1714680"/>
            <a:ext cx="8143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Заголовок 1"/>
          <p:cNvSpPr/>
          <p:nvPr/>
        </p:nvSpPr>
        <p:spPr>
          <a:xfrm>
            <a:off x="1643040" y="1000080"/>
            <a:ext cx="6643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7375e"/>
                </a:solidFill>
                <a:uFillTx/>
                <a:latin typeface="Calibri"/>
                <a:ea typeface="Arial"/>
              </a:rPr>
              <a:t>Задание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  <a:ea typeface="Arial"/>
              </a:rPr>
              <a:t>: определите, информация какого вида воспринимается легч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428760" y="500040"/>
            <a:ext cx="1357200" cy="13478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642960" y="1989000"/>
            <a:ext cx="8209080" cy="429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Вариант 1:</a:t>
            </a:r>
            <a:r>
              <a:rPr b="0" lang="en-US" sz="22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Arial"/>
                <a:ea typeface="Arial"/>
              </a:rPr>
              <a:t>В 5а классе один отличник. В 5б и 5в отличников нет. На «4» и «5» обучаются в 5а  классе – 13 учащихся, а в 5б – 4 ученика. В 5а ни у одного учащегося нет двойки за год. Тройки за год имеют 13 учащихся 5 а класса. В 5в классе один отличник. В 5г классе ни у одного учащегося нет двойки за год. На «4» и «5» обучаются в 5в  классе – 6 учащихся. В 5б классе нет отличников. В 5в и 5б классах нет двоечников. Тройки за год имеют 18 учащихся 5 б класса, и 20 учащихся 5в класса.  На «4» и «5» обучаются в 5г классе – 19 учащихся. В 5в классе нет отличников. В 5г классе 6 учащихся имеют тройки за го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14240" y="2571840"/>
          <a:ext cx="8105760" cy="2530440"/>
        </p:xfrm>
        <a:graphic>
          <a:graphicData uri="http://schemas.openxmlformats.org/drawingml/2006/table">
            <a:tbl>
              <a:tblPr/>
              <a:tblGrid>
                <a:gridCol w="1285920"/>
                <a:gridCol w="1714680"/>
                <a:gridCol w="1785960"/>
                <a:gridCol w="1643040"/>
                <a:gridCol w="16761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ласс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Обучаются 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а </a:t>
                      </a:r>
                      <a:r>
                        <a:rPr b="1" i="1" lang="en-US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Обучаются 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на «</a:t>
                      </a:r>
                      <a:r>
                        <a:rPr b="1" i="1" lang="en-US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4»и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Имеют 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Имеют «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 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Box 8"/>
          <p:cNvSpPr/>
          <p:nvPr/>
        </p:nvSpPr>
        <p:spPr>
          <a:xfrm>
            <a:off x="642960" y="2000160"/>
            <a:ext cx="17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Вариант 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9"/>
          <p:cNvSpPr/>
          <p:nvPr/>
        </p:nvSpPr>
        <p:spPr>
          <a:xfrm>
            <a:off x="2000160" y="5456160"/>
            <a:ext cx="150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ВЫВОД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Овал 10"/>
          <p:cNvSpPr/>
          <p:nvPr/>
        </p:nvSpPr>
        <p:spPr>
          <a:xfrm>
            <a:off x="785880" y="52862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1"/>
          <p:cNvSpPr/>
          <p:nvPr/>
        </p:nvSpPr>
        <p:spPr>
          <a:xfrm>
            <a:off x="3286080" y="5429160"/>
            <a:ext cx="54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таблица - это простая и удобная форма представления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Управляющая кнопка: домой 12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142640" y="1242720"/>
            <a:ext cx="75438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реход от текстовой формы представления информации к табличной часто помогает решать достаточно трудные задач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абличный способ решения логических зад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929120" y="2500200"/>
          <a:ext cx="4000680" cy="2571840"/>
        </p:xfrm>
        <a:graphic>
          <a:graphicData uri="http://schemas.openxmlformats.org/drawingml/2006/table">
            <a:tbl>
              <a:tblPr/>
              <a:tblGrid>
                <a:gridCol w="1285920"/>
                <a:gridCol w="905040"/>
                <a:gridCol w="925200"/>
                <a:gridCol w="88452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В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Та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корз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лукош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ведёр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29"/>
          <p:cNvSpPr/>
          <p:nvPr/>
        </p:nvSpPr>
        <p:spPr>
          <a:xfrm>
            <a:off x="566640" y="2500200"/>
            <a:ext cx="4219560" cy="41889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  <a:ea typeface="Arial"/>
              </a:rPr>
              <a:t>Три подружки - Вера, Оля и Таня - пошли в лес по ягоды. Для сбора ягод у них были корзинка, лукошко, ведёрко. Известно, что Оля была не </a:t>
            </a:r>
            <a:br>
              <a:rPr sz="2200"/>
            </a:br>
            <a:r>
              <a:rPr b="0" lang="ru-RU" sz="2200" spc="-1" strike="noStrike">
                <a:solidFill>
                  <a:srgbClr val="17375e"/>
                </a:solidFill>
                <a:latin typeface="Arial"/>
                <a:ea typeface="Arial"/>
              </a:rPr>
              <a:t>с корзинкой и не с лукошком, Вера не с лукошко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  <a:ea typeface="Arial"/>
              </a:rPr>
              <a:t>Что с собой взяла каждая из девочек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ая соединительная линия 25"/>
          <p:cNvSpPr/>
          <p:nvPr/>
        </p:nvSpPr>
        <p:spPr>
          <a:xfrm>
            <a:off x="2643120" y="2928960"/>
            <a:ext cx="135756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ая соединительная линия 26"/>
          <p:cNvSpPr/>
          <p:nvPr/>
        </p:nvSpPr>
        <p:spPr>
          <a:xfrm>
            <a:off x="642960" y="3357720"/>
            <a:ext cx="64296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Прямая соединительная линия 28"/>
          <p:cNvSpPr/>
          <p:nvPr/>
        </p:nvSpPr>
        <p:spPr>
          <a:xfrm>
            <a:off x="571680" y="4286160"/>
            <a:ext cx="3929040" cy="18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рямая соединительная линия 30"/>
          <p:cNvSpPr/>
          <p:nvPr/>
        </p:nvSpPr>
        <p:spPr>
          <a:xfrm>
            <a:off x="2357280" y="4714920"/>
            <a:ext cx="214344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ая соединительная линия 32"/>
          <p:cNvSpPr/>
          <p:nvPr/>
        </p:nvSpPr>
        <p:spPr>
          <a:xfrm>
            <a:off x="642960" y="5143680"/>
            <a:ext cx="385776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4"/>
          <p:cNvSpPr/>
          <p:nvPr/>
        </p:nvSpPr>
        <p:spPr>
          <a:xfrm>
            <a:off x="7358040" y="262728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5"/>
          <p:cNvSpPr/>
          <p:nvPr/>
        </p:nvSpPr>
        <p:spPr>
          <a:xfrm>
            <a:off x="7358040" y="328608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36"/>
          <p:cNvSpPr/>
          <p:nvPr/>
        </p:nvSpPr>
        <p:spPr>
          <a:xfrm>
            <a:off x="7286760" y="430200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7"/>
          <p:cNvSpPr/>
          <p:nvPr/>
        </p:nvSpPr>
        <p:spPr>
          <a:xfrm>
            <a:off x="6429240" y="407196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38"/>
          <p:cNvSpPr/>
          <p:nvPr/>
        </p:nvSpPr>
        <p:spPr>
          <a:xfrm>
            <a:off x="8286840" y="4071960"/>
            <a:ext cx="42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ая соединительная линия 39"/>
          <p:cNvSpPr/>
          <p:nvPr/>
        </p:nvSpPr>
        <p:spPr>
          <a:xfrm>
            <a:off x="642960" y="5572080"/>
            <a:ext cx="2714760" cy="18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41"/>
          <p:cNvSpPr/>
          <p:nvPr/>
        </p:nvSpPr>
        <p:spPr>
          <a:xfrm>
            <a:off x="6429240" y="328608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42"/>
          <p:cNvSpPr/>
          <p:nvPr/>
        </p:nvSpPr>
        <p:spPr>
          <a:xfrm>
            <a:off x="6357960" y="285768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43"/>
          <p:cNvSpPr/>
          <p:nvPr/>
        </p:nvSpPr>
        <p:spPr>
          <a:xfrm>
            <a:off x="8286840" y="2643120"/>
            <a:ext cx="42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44"/>
          <p:cNvSpPr/>
          <p:nvPr/>
        </p:nvSpPr>
        <p:spPr>
          <a:xfrm>
            <a:off x="8215200" y="357192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45"/>
          <p:cNvSpPr/>
          <p:nvPr/>
        </p:nvSpPr>
        <p:spPr>
          <a:xfrm>
            <a:off x="4929120" y="5286240"/>
            <a:ext cx="4000680" cy="13136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Ответ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Вера взяла корзинк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Оля – ведёрк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Таня – лукошк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9"/>
          <p:cNvSpPr/>
          <p:nvPr/>
        </p:nvSpPr>
        <p:spPr>
          <a:xfrm>
            <a:off x="428760" y="5873760"/>
            <a:ext cx="3000240" cy="764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Verdana"/>
                <a:ea typeface="Arial"/>
              </a:rPr>
              <a:t>Кто на чём ездит домой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428760" y="3944880"/>
            <a:ext cx="3000240" cy="1984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Verdana"/>
                <a:ea typeface="Arial"/>
              </a:rPr>
              <a:t>Когда мимо них проходил автобус, третий друг крикнул из окна: «Боря, ты забыл в школе тетрадку!»</a:t>
            </a:r>
            <a:r>
              <a:rPr b="0" lang="ru-RU" sz="2400" spc="-1" strike="noStrike">
                <a:solidFill>
                  <a:srgbClr val="17375e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571920" y="2500200"/>
          <a:ext cx="5357880" cy="2571840"/>
        </p:xfrm>
        <a:graphic>
          <a:graphicData uri="http://schemas.openxmlformats.org/drawingml/2006/table">
            <a:tbl>
              <a:tblPr/>
              <a:tblGrid>
                <a:gridCol w="1627200"/>
                <a:gridCol w="1306440"/>
                <a:gridCol w="1241280"/>
                <a:gridCol w="118296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Алё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Бо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Ви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автоб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трамв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роллейб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Text Box 29"/>
          <p:cNvSpPr/>
          <p:nvPr/>
        </p:nvSpPr>
        <p:spPr>
          <a:xfrm>
            <a:off x="1714680" y="1071720"/>
            <a:ext cx="7215120" cy="1008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Задача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17375e"/>
                </a:solidFill>
                <a:latin typeface="Verdana"/>
                <a:ea typeface="Arial"/>
              </a:rPr>
              <a:t>Три друга - Алёша, Боря и Витя учатся в одном классе. Один из них ездит домой из школы на автобусе, другой — на трамвае, третий — на троллейбус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34"/>
          <p:cNvSpPr/>
          <p:nvPr/>
        </p:nvSpPr>
        <p:spPr>
          <a:xfrm>
            <a:off x="8143920" y="405612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5"/>
          <p:cNvSpPr/>
          <p:nvPr/>
        </p:nvSpPr>
        <p:spPr>
          <a:xfrm>
            <a:off x="6929280" y="334152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36"/>
          <p:cNvSpPr/>
          <p:nvPr/>
        </p:nvSpPr>
        <p:spPr>
          <a:xfrm>
            <a:off x="6858000" y="4286160"/>
            <a:ext cx="5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5572080" y="407196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38"/>
          <p:cNvSpPr/>
          <p:nvPr/>
        </p:nvSpPr>
        <p:spPr>
          <a:xfrm>
            <a:off x="8143920" y="334152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41"/>
          <p:cNvSpPr/>
          <p:nvPr/>
        </p:nvSpPr>
        <p:spPr>
          <a:xfrm>
            <a:off x="6929280" y="269892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42"/>
          <p:cNvSpPr/>
          <p:nvPr/>
        </p:nvSpPr>
        <p:spPr>
          <a:xfrm>
            <a:off x="8143920" y="287352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43"/>
          <p:cNvSpPr/>
          <p:nvPr/>
        </p:nvSpPr>
        <p:spPr>
          <a:xfrm>
            <a:off x="5572080" y="2698920"/>
            <a:ext cx="42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Arial"/>
                <a:ea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44"/>
          <p:cNvSpPr/>
          <p:nvPr/>
        </p:nvSpPr>
        <p:spPr>
          <a:xfrm>
            <a:off x="5500800" y="357192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45"/>
          <p:cNvSpPr/>
          <p:nvPr/>
        </p:nvSpPr>
        <p:spPr>
          <a:xfrm>
            <a:off x="5286240" y="5248440"/>
            <a:ext cx="3643560" cy="13136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Ответ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Алёша ездит на трамва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Боря – на троллейбус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Витя – на автобу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428760" y="500040"/>
            <a:ext cx="1357200" cy="13478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9"/>
          <p:cNvSpPr/>
          <p:nvPr/>
        </p:nvSpPr>
        <p:spPr>
          <a:xfrm>
            <a:off x="428760" y="2379600"/>
            <a:ext cx="3000240" cy="16794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Verdana"/>
                <a:ea typeface="Arial"/>
              </a:rPr>
              <a:t>Однажды после уроков Алёша пошёл проводить своего друга до остановки троллейбуса.</a:t>
            </a:r>
            <a:r>
              <a:rPr b="0" lang="ru-RU" sz="2400" spc="-1" strike="noStrike">
                <a:solidFill>
                  <a:srgbClr val="17375e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Багетная рамка 40"/>
          <p:cNvSpPr/>
          <p:nvPr/>
        </p:nvSpPr>
        <p:spPr>
          <a:xfrm>
            <a:off x="3513240" y="6111720"/>
            <a:ext cx="1714320" cy="4287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ая соединительная линия 46"/>
          <p:cNvSpPr/>
          <p:nvPr/>
        </p:nvSpPr>
        <p:spPr>
          <a:xfrm>
            <a:off x="4572000" y="1428840"/>
            <a:ext cx="264312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ая соединительная линия 48"/>
          <p:cNvSpPr/>
          <p:nvPr/>
        </p:nvSpPr>
        <p:spPr>
          <a:xfrm>
            <a:off x="1714680" y="2030400"/>
            <a:ext cx="174132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ая соединительная линия 52"/>
          <p:cNvSpPr/>
          <p:nvPr/>
        </p:nvSpPr>
        <p:spPr>
          <a:xfrm>
            <a:off x="5143680" y="2070000"/>
            <a:ext cx="1346040" cy="18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Прямая соединительная линия 53"/>
          <p:cNvSpPr/>
          <p:nvPr/>
        </p:nvSpPr>
        <p:spPr>
          <a:xfrm>
            <a:off x="1714680" y="2357280"/>
            <a:ext cx="1741320" cy="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428760" y="500040"/>
            <a:ext cx="1357200" cy="13478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1785960" y="1071720"/>
            <a:ext cx="7072200" cy="2421720"/>
          </a:xfrm>
          <a:prstGeom prst="rect">
            <a:avLst/>
          </a:prstGeom>
          <a:solidFill>
            <a:srgbClr val="dbeef4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1 вариант:</a:t>
            </a:r>
            <a:r>
              <a:rPr b="1" i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В бутылке, стакане, кувшине и банке находятся молоко, квас, лимонад и вода. Известно, ч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Вода и молоко не в бутылк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Сосуд с лимонадом стоит между кувшином и сосудом с квас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В банке не лимонад и не вод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Стакан стоит около банки и сосуда с моло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Куда налита каждая жидкост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164"/>
          <p:cNvSpPr/>
          <p:nvPr/>
        </p:nvSpPr>
        <p:spPr>
          <a:xfrm>
            <a:off x="714240" y="3681360"/>
            <a:ext cx="8136000" cy="3005280"/>
          </a:xfrm>
          <a:prstGeom prst="rect">
            <a:avLst/>
          </a:prstGeom>
          <a:solidFill>
            <a:srgbClr val="c6d9f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7375e"/>
                </a:solidFill>
                <a:uFillTx/>
                <a:latin typeface="Arial"/>
                <a:ea typeface="Arial"/>
              </a:rPr>
              <a:t>2 вариант:</a:t>
            </a:r>
            <a:r>
              <a:rPr b="1" i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За круглым столом оказались ребята из Москвы, Самары, Новгорода, Перми и Томска: Юра, Толя, Лёша, Коля, Витя.   Известно, ч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Москвич сидел между томичём и Ви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Самаровец – между Юрой и Толей, а напротив него сидели пермяк и Лёш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Коля никогда не был в Сама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Юра не бывал в Москве и Томс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Томич с Толей регулярно переписывают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      </a:t>
            </a:r>
            <a:r>
              <a:rPr b="1" i="1" lang="ru-RU" sz="1800" spc="-1" strike="noStrike">
                <a:solidFill>
                  <a:srgbClr val="17375e"/>
                </a:solidFill>
                <a:latin typeface="Arial"/>
                <a:ea typeface="Arial"/>
              </a:rPr>
              <a:t>В каком городе живёт каждый из ребят?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8-09T08:27:47Z</dcterms:modified>
  <cp:revision>17</cp:revision>
  <dc:subject/>
  <dc:title>Презентация PowerPoint</dc:title>
</cp:coreProperties>
</file>