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FFE-16F0-45FB-BD2A-65281676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CC1-2EA8-4747-8472-1B2C3F8A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002-D26C-43BE-9762-B999FAF6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918-1A45-403C-BE08-1835D1AE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207-E5A2-4228-BD82-48528BE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039-D947-4B70-8358-0C71C1D1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1E4-F92B-4597-BE91-C6851CE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8F7-00DB-4B81-ADA6-24EC2D2D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870-EF67-4844-9581-FB5EC1C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932-8A1E-483F-9965-70940289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536-709B-46EE-A4BF-4AD8041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32A-C0DD-4A57-B9BB-0218B18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45DB-26D3-4A39-8F41-04F6EA870A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23640" y="2356920"/>
            <a:ext cx="6805800" cy="160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ВЛЕНИЕ  ИСПОЛНИТЕЛЕМ  ЧЕРТЁЖНИК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2786040" y="4248000"/>
            <a:ext cx="63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комимся с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алгоритма управления Чертёж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спользование вспомогательных алгорит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икл ПОВТОРИТЬ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ертёжник учитс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9" name="TextBox 88"/>
          <p:cNvSpPr/>
          <p:nvPr/>
        </p:nvSpPr>
        <p:spPr>
          <a:xfrm>
            <a:off x="1332000" y="270828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лгоритм рисования цифры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9"/>
          <p:cNvSpPr/>
          <p:nvPr/>
        </p:nvSpPr>
        <p:spPr>
          <a:xfrm>
            <a:off x="1116000" y="245736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ОПУСТИТЬ 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-1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МЕСТИТЬСЯ НА ВЕКТОР (2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" descr=""/>
          <p:cNvPicPr/>
          <p:nvPr/>
        </p:nvPicPr>
        <p:blipFill>
          <a:blip r:embed="rId2"/>
          <a:stretch/>
        </p:blipFill>
        <p:spPr>
          <a:xfrm>
            <a:off x="500040" y="1076400"/>
            <a:ext cx="8542440" cy="128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2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24289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ндекс Красноярск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4" name="TextBox 89"/>
          <p:cNvSpPr/>
          <p:nvPr/>
        </p:nvSpPr>
        <p:spPr>
          <a:xfrm>
            <a:off x="1143000" y="245736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 ИНДЕКС КРАСНОЯ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ЦИФРА_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1143000" y="1214280"/>
            <a:ext cx="4597560" cy="1146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8" descr="http://yinyangit.files.wordpress.com/2012/02/drawing_pen.png?w=780"/>
          <p:cNvPicPr/>
          <p:nvPr/>
        </p:nvPicPr>
        <p:blipFill>
          <a:blip r:embed="rId3"/>
          <a:stretch/>
        </p:blipFill>
        <p:spPr>
          <a:xfrm>
            <a:off x="7429680" y="12859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257720" y="3103560"/>
            <a:ext cx="4624200" cy="34686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rcRect l="3087" t="2646" r="2369" b="4296"/>
          <a:stretch/>
        </p:blipFill>
        <p:spPr>
          <a:xfrm>
            <a:off x="4545000" y="928800"/>
            <a:ext cx="4394160" cy="1527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13880" y="1142640"/>
            <a:ext cx="56437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использовать  Чертёж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алг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 ряд ром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В ТОЧКУ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нц</a:t>
            </a: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  5 </a:t>
            </a: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-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-1, 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ПОДНЯТЬ ПЕ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Arial"/>
              </a:rPr>
              <a:t>СМЕСТИТЬСЯ НА ВЕКТОР  (3,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Arial"/>
              </a:rPr>
              <a:t>ко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4292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Цикл ПОВТОРИТЬ 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 РАЗ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3" descr="http://www.evolution-net-agency.ru/wp-content/uploads/2012/10/iStock_000014939181XSmall.jpg"/>
          <p:cNvPicPr/>
          <p:nvPr/>
        </p:nvPicPr>
        <p:blipFill>
          <a:blip r:embed="rId3"/>
          <a:stretch/>
        </p:blipFill>
        <p:spPr>
          <a:xfrm>
            <a:off x="6643800" y="4357800"/>
            <a:ext cx="2301840" cy="229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сполнитель Чертёжник предназначен для построения рисунков на координатной плос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горитм, решающий некоторую подзадачу основной задачи, называется вспомогательным алгоритм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аз на выполнение вспомогательного алгоритма записывается в основном алгоритм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повторения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 некоторой команды используют конструкцию повторения 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ц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9800" y="1214280"/>
          <a:ext cx="8317080" cy="4286520"/>
        </p:xfrm>
        <a:graphic>
          <a:graphicData uri="http://schemas.openxmlformats.org/drawingml/2006/table">
            <a:tbl>
              <a:tblPr/>
              <a:tblGrid>
                <a:gridCol w="4388040"/>
                <a:gridCol w="3929040"/>
              </a:tblGrid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НЯ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подним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ИТЬ П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опускает пе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В ТОЧКУ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в точку с координатами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СТИТЬСЯ НА ВЕКТОР (а, 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тёжник сдвигается на вектор (а, 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арактеризуйте исполнителя Чертё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те для Чертёжника алгоритм рисования прямоугольника со сторонами, параллельными осям координат, если известны координаты его двух вершин: (2, 1) и (7, 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йте свои задачи для Чертё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8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88640"/>
            <a:ext cx="85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71360" y="1266840"/>
            <a:ext cx="70722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нитель чертё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бсолют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ое с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помогательны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й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6" descr="http://www.klyaksa.net/htm/konspektsch/kumir/images/4-4.png"/>
          <p:cNvPicPr/>
          <p:nvPr/>
        </p:nvPicPr>
        <p:blipFill>
          <a:blip r:embed="rId2"/>
          <a:stretch/>
        </p:blipFill>
        <p:spPr>
          <a:xfrm>
            <a:off x="5430960" y="2639880"/>
            <a:ext cx="338436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714240" y="11253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сполнитель Чертёжник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едназначен </a:t>
            </a:r>
            <a:br>
              <a:rPr sz="2800"/>
            </a:b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для построения рисунков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749160" y="2670120"/>
            <a:ext cx="3986280" cy="3845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static4.kupivip.ru/V0/01/56/78/65/1b.jpg"/>
          <p:cNvPicPr/>
          <p:nvPr/>
        </p:nvPicPr>
        <p:blipFill>
          <a:blip r:embed="rId4"/>
          <a:srcRect l="0" t="6250" r="0" b="7351"/>
          <a:stretch/>
        </p:blipFill>
        <p:spPr>
          <a:xfrm>
            <a:off x="6318360" y="3664080"/>
            <a:ext cx="2465280" cy="31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Знакомимся с Чертёжнико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8" name="TextBox 60"/>
          <p:cNvSpPr/>
          <p:nvPr/>
        </p:nvSpPr>
        <p:spPr>
          <a:xfrm>
            <a:off x="1000080" y="1285920"/>
            <a:ext cx="4500720" cy="265356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Чертёжник имеет пе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Если перо опущено, то при перемещении остаётся  сле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ри поднятом пере след не оста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928800" y="1285920"/>
            <a:ext cx="8215200" cy="5121360"/>
            <a:chOff x="928800" y="1285920"/>
            <a:chExt cx="8215200" cy="5121360"/>
          </a:xfrm>
        </p:grpSpPr>
        <p:pic>
          <p:nvPicPr>
            <p:cNvPr id="170" name="Picture 4" descr="http://topengineer.ru/images/Articles/engineer/engineer.jpg"/>
            <p:cNvPicPr/>
            <p:nvPr/>
          </p:nvPicPr>
          <p:blipFill>
            <a:blip r:embed="rId2"/>
            <a:stretch/>
          </p:blipFill>
          <p:spPr>
            <a:xfrm>
              <a:off x="928800" y="4714920"/>
              <a:ext cx="5160960" cy="16923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1" name="Picture 1" descr=""/>
            <p:cNvPicPr/>
            <p:nvPr/>
          </p:nvPicPr>
          <p:blipFill>
            <a:blip r:embed="rId3"/>
            <a:stretch/>
          </p:blipFill>
          <p:spPr>
            <a:xfrm>
              <a:off x="3857760" y="3643200"/>
              <a:ext cx="3876480" cy="2755440"/>
            </a:xfrm>
            <a:prstGeom prst="rect">
              <a:avLst/>
            </a:prstGeom>
            <a:ln w="9360">
              <a:solidFill>
                <a:srgbClr val="4f81bd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172" name="Picture 4" descr="http://wordassociations.ru/image/600x/svg_to_png/elechi_pen.png"/>
            <p:cNvPicPr/>
            <p:nvPr/>
          </p:nvPicPr>
          <p:blipFill>
            <a:blip r:embed="rId4"/>
            <a:srcRect l="0" t="0" r="25707" b="28751"/>
            <a:stretch/>
          </p:blipFill>
          <p:spPr>
            <a:xfrm>
              <a:off x="6643800" y="1285920"/>
              <a:ext cx="2500200" cy="339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14320" y="1285560"/>
            <a:ext cx="7143480" cy="25210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НЯ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УСТИТЬ П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9720" y="70920"/>
            <a:ext cx="7643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КИ Чертёжника 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75" name="Picture 34" descr="http://old.10i.ru/images/product/204/203772_1.jpg"/>
          <p:cNvPicPr/>
          <p:nvPr/>
        </p:nvPicPr>
        <p:blipFill>
          <a:blip r:embed="rId2"/>
          <a:stretch/>
        </p:blipFill>
        <p:spPr>
          <a:xfrm>
            <a:off x="5224320" y="3960720"/>
            <a:ext cx="3643560" cy="262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6" name="Овал 13"/>
          <p:cNvSpPr/>
          <p:nvPr/>
        </p:nvSpPr>
        <p:spPr>
          <a:xfrm>
            <a:off x="50004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0" descr="http://mos.job-in.ru/i/res/portfolio/391266/25512.jpg"/>
          <p:cNvPicPr/>
          <p:nvPr/>
        </p:nvPicPr>
        <p:blipFill>
          <a:blip r:embed="rId3"/>
          <a:srcRect l="6226" t="0" r="6706" b="0"/>
          <a:stretch/>
        </p:blipFill>
        <p:spPr>
          <a:xfrm>
            <a:off x="923760" y="3978360"/>
            <a:ext cx="3794400" cy="266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428640" y="1000080"/>
            <a:ext cx="542916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В ТОЧКУ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6438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Абсолют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В ТОЧКУ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абсолют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000080" y="3146400"/>
            <a:ext cx="3571920" cy="3506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2" name="TextBox 6"/>
          <p:cNvSpPr/>
          <p:nvPr/>
        </p:nvSpPr>
        <p:spPr>
          <a:xfrm>
            <a:off x="4929120" y="4214880"/>
            <a:ext cx="4071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71520" y="1000080"/>
            <a:ext cx="5786280" cy="57168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СМЕСТИТЬСЯ НА ВЕКТОР (а, 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сительное смещени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928800" y="1643040"/>
            <a:ext cx="792936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Команду СМЕСТИТЬСЯ НА ВЕКТОР (а, в) называют командой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относительного с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857840" y="4143240"/>
            <a:ext cx="42148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азовите координаты точек, в которых находился Чертёжник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до выполнения коман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НА ВЕКТОР(2,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7"/>
          <p:cNvSpPr/>
          <p:nvPr/>
        </p:nvSpPr>
        <p:spPr>
          <a:xfrm>
            <a:off x="7858080" y="3143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928800" y="3174840"/>
            <a:ext cx="3571920" cy="3468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ример алгоритм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571680" y="1214280"/>
            <a:ext cx="50004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ОПУСТИТЬ ПЕ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3,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5,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Arial"/>
              </a:rPr>
              <a:t>СМЕСТИТЬСЯ В ТОЧКУ (1,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8"/>
          <p:cNvSpPr/>
          <p:nvPr/>
        </p:nvSpPr>
        <p:spPr>
          <a:xfrm>
            <a:off x="642960" y="5143680"/>
            <a:ext cx="831384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Построен треугольник, вершины  которого находятся в точках с координатами </a:t>
            </a:r>
            <a:br>
              <a:rPr sz="2800"/>
            </a:br>
            <a:r>
              <a:rPr b="0" lang="ru-RU" sz="2800" spc="-1" strike="noStrike">
                <a:solidFill>
                  <a:srgbClr val="215968"/>
                </a:solidFill>
                <a:latin typeface="Arial"/>
              </a:rPr>
              <a:t>(1, 1), (3, 5) и (5, 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5576760" y="1214280"/>
            <a:ext cx="3333960" cy="3214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5554800" y="1174680"/>
            <a:ext cx="3363840" cy="3260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троим прямоугольник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00080" y="4214880"/>
          <a:ext cx="7858080" cy="2428920"/>
        </p:xfrm>
        <a:graphic>
          <a:graphicData uri="http://schemas.openxmlformats.org/drawingml/2006/table">
            <a:tbl>
              <a:tblPr/>
              <a:tblGrid>
                <a:gridCol w="4880160"/>
                <a:gridCol w="29779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ординаты 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ачальная то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0, 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+4, У+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СМЕСТИТЬСЯ НА ВЕКТОР (-4,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(Х, У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7" name="Группа 8" descr=""/>
          <p:cNvPicPr/>
          <p:nvPr/>
        </p:nvPicPr>
        <p:blipFill>
          <a:blip r:embed="rId2"/>
          <a:stretch/>
        </p:blipFill>
        <p:spPr>
          <a:xfrm>
            <a:off x="950760" y="1011240"/>
            <a:ext cx="8004240" cy="315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8:51Z</dcterms:modified>
  <cp:revision>35</cp:revision>
  <dc:subject/>
  <dc:title>Презентация PowerPoint</dc:title>
</cp:coreProperties>
</file>