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113-7E9F-47E8-B37C-78EF070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924-365A-4DF7-81D6-75B138D4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DF1-6FBD-4801-BB1A-45CD6E1A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60B-28D2-4D9C-86D4-CA3D2E78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1E3-8D01-478A-92F6-F34EA986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B81-925B-4CDA-B158-8069C75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745-38BF-4E8B-AE39-DB37B2F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9F1-1C8F-4AFF-9E43-06A71978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BBB-E7D9-43F4-9D32-AD83E72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00D-4146-418D-8FA3-EBE9803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FB4-8625-4697-9636-61F80DF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BE6-E48E-473E-A4B5-359E6B7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CE6-8ADE-4568-8E0E-C2148C768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23640" y="2356920"/>
            <a:ext cx="6805800" cy="16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 ИСПОЛНИТЕЛЕМ  ЧЕРТЁЖНИК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786040" y="4248000"/>
            <a:ext cx="63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комимся с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алгоритма управления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спользование вспомогательных алгорит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икл ПОВТОРИТЬ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ертёжник учитс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9" name="TextBox 88"/>
          <p:cNvSpPr/>
          <p:nvPr/>
        </p:nvSpPr>
        <p:spPr>
          <a:xfrm>
            <a:off x="1332000" y="270828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лгоритм рисования цифры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9"/>
          <p:cNvSpPr/>
          <p:nvPr/>
        </p:nvSpPr>
        <p:spPr>
          <a:xfrm>
            <a:off x="1116000" y="245736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500040" y="1076400"/>
            <a:ext cx="8542440" cy="128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24289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декс Красноярск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4" name="TextBox 89"/>
          <p:cNvSpPr/>
          <p:nvPr/>
        </p:nvSpPr>
        <p:spPr>
          <a:xfrm>
            <a:off x="1143000" y="245736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ИНДЕКС КРАСНОЯ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1143000" y="1214280"/>
            <a:ext cx="4597560" cy="114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1285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257720" y="3103560"/>
            <a:ext cx="4624200" cy="3468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rcRect l="3087" t="2646" r="2369" b="4296"/>
          <a:stretch/>
        </p:blipFill>
        <p:spPr>
          <a:xfrm>
            <a:off x="4545000" y="928800"/>
            <a:ext cx="4394160" cy="1527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13880" y="1142640"/>
            <a:ext cx="56437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использовать  Чертёж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 ряд ром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В ТОЧКУ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5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3,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Цикл ПОВТОРИТЬ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 РАЗ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3" descr="http://www.evolution-net-agency.ru/wp-content/uploads/2012/10/iStock_000014939181XSmall.jpg"/>
          <p:cNvPicPr/>
          <p:nvPr/>
        </p:nvPicPr>
        <p:blipFill>
          <a:blip r:embed="rId3"/>
          <a:stretch/>
        </p:blipFill>
        <p:spPr>
          <a:xfrm>
            <a:off x="6643800" y="4357800"/>
            <a:ext cx="23018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сполнитель Чертёжник предназначен для построения рисунков на координатной плос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горитм, решающий некоторую подзадачу основной задачи, называется вспомогательным алгоритм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аз на выполнение вспомогательного алгоритма записывается в основном алгоритм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повторени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 некоторой команды используют конструкцию повторения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9800" y="1214280"/>
          <a:ext cx="8317080" cy="4286520"/>
        </p:xfrm>
        <a:graphic>
          <a:graphicData uri="http://schemas.openxmlformats.org/drawingml/2006/table">
            <a:tbl>
              <a:tblPr/>
              <a:tblGrid>
                <a:gridCol w="4388040"/>
                <a:gridCol w="3929040"/>
              </a:tblGrid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Я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подним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И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опуск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В ТОЧКУ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в точку с координатами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НА ВЕКТОР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на вектор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сполнителя Чертё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для Чертёжника алгоритм рисования прямоугольника со сторонами, параллельными осям координат, если известны координаты его двух вершин: (2, 1) и (7,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те свои задачи для Чертё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8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1360" y="1266840"/>
            <a:ext cx="70722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нитель чертё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олют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6" descr="http://www.klyaksa.net/htm/konspektsch/kumir/images/4-4.png"/>
          <p:cNvPicPr/>
          <p:nvPr/>
        </p:nvPicPr>
        <p:blipFill>
          <a:blip r:embed="rId2"/>
          <a:stretch/>
        </p:blipFill>
        <p:spPr>
          <a:xfrm>
            <a:off x="5430960" y="2639880"/>
            <a:ext cx="338436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714240" y="11253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сполнитель Чертёжник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едназначен 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для построения рисунков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749160" y="2670120"/>
            <a:ext cx="3986280" cy="384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static4.kupivip.ru/V0/01/56/78/65/1b.jpg"/>
          <p:cNvPicPr/>
          <p:nvPr/>
        </p:nvPicPr>
        <p:blipFill>
          <a:blip r:embed="rId4"/>
          <a:srcRect l="0" t="6250" r="0" b="7351"/>
          <a:stretch/>
        </p:blipFill>
        <p:spPr>
          <a:xfrm>
            <a:off x="6318360" y="3664080"/>
            <a:ext cx="2465280" cy="31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8" name="TextBox 60"/>
          <p:cNvSpPr/>
          <p:nvPr/>
        </p:nvSpPr>
        <p:spPr>
          <a:xfrm>
            <a:off x="1000080" y="1285920"/>
            <a:ext cx="4500720" cy="265356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Чертёжник имеет пе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Если перо опущено, то при перемещении остаётся  сл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и поднятом пере след не оста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928800" y="1285920"/>
            <a:ext cx="8215200" cy="5121360"/>
            <a:chOff x="928800" y="1285920"/>
            <a:chExt cx="8215200" cy="5121360"/>
          </a:xfrm>
        </p:grpSpPr>
        <p:pic>
          <p:nvPicPr>
            <p:cNvPr id="170" name="Picture 4" descr="http://topengineer.ru/images/Articles/engineer/engineer.jpg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5160960" cy="1692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1" name="Picture 1" descr=""/>
            <p:cNvPicPr/>
            <p:nvPr/>
          </p:nvPicPr>
          <p:blipFill>
            <a:blip r:embed="rId3"/>
            <a:stretch/>
          </p:blipFill>
          <p:spPr>
            <a:xfrm>
              <a:off x="3857760" y="3643200"/>
              <a:ext cx="3876480" cy="275544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2" name="Picture 4" descr="http://wordassociations.ru/image/600x/svg_to_png/elechi_pen.png"/>
            <p:cNvPicPr/>
            <p:nvPr/>
          </p:nvPicPr>
          <p:blipFill>
            <a:blip r:embed="rId4"/>
            <a:srcRect l="0" t="0" r="25707" b="28751"/>
            <a:stretch/>
          </p:blipFill>
          <p:spPr>
            <a:xfrm>
              <a:off x="6643800" y="1285920"/>
              <a:ext cx="2500200" cy="339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14320" y="1285560"/>
            <a:ext cx="7143480" cy="2521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НЯ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УСТИ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КИ Чертёжник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75" name="Picture 34" descr="http://old.10i.ru/images/product/204/203772_1.jpg"/>
          <p:cNvPicPr/>
          <p:nvPr/>
        </p:nvPicPr>
        <p:blipFill>
          <a:blip r:embed="rId2"/>
          <a:stretch/>
        </p:blipFill>
        <p:spPr>
          <a:xfrm>
            <a:off x="5224320" y="3960720"/>
            <a:ext cx="3643560" cy="262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Овал 13"/>
          <p:cNvSpPr/>
          <p:nvPr/>
        </p:nvSpPr>
        <p:spPr>
          <a:xfrm>
            <a:off x="50004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http://mos.job-in.ru/i/res/portfolio/391266/25512.jpg"/>
          <p:cNvPicPr/>
          <p:nvPr/>
        </p:nvPicPr>
        <p:blipFill>
          <a:blip r:embed="rId3"/>
          <a:srcRect l="6226" t="0" r="6706" b="0"/>
          <a:stretch/>
        </p:blipFill>
        <p:spPr>
          <a:xfrm>
            <a:off x="923760" y="3978360"/>
            <a:ext cx="3794400" cy="266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428640" y="1000080"/>
            <a:ext cx="542916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бсолют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В ТОЧКУ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бсолют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000080" y="3146400"/>
            <a:ext cx="3571920" cy="3506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TextBox 6"/>
          <p:cNvSpPr/>
          <p:nvPr/>
        </p:nvSpPr>
        <p:spPr>
          <a:xfrm>
            <a:off x="4929120" y="4214880"/>
            <a:ext cx="407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71520" y="1000080"/>
            <a:ext cx="578628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ситель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НА ВЕКТОР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относитель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857840" y="4143240"/>
            <a:ext cx="4214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НА ВЕКТОР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928800" y="3174840"/>
            <a:ext cx="3571920" cy="3468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имер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571680" y="1214280"/>
            <a:ext cx="50004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3,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5,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642960" y="5143680"/>
            <a:ext cx="83138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Построен треугольник, вершины  которого находятся в точках с координатами </a:t>
            </a:r>
            <a:br>
              <a:rPr sz="2800"/>
            </a:b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(1, 1), (3, 5) и (5, 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5576760" y="1214280"/>
            <a:ext cx="3333960" cy="3214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5554800" y="1174680"/>
            <a:ext cx="3363840" cy="326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троим прямоугольник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00080" y="4214880"/>
          <a:ext cx="7858080" cy="2428920"/>
        </p:xfrm>
        <a:graphic>
          <a:graphicData uri="http://schemas.openxmlformats.org/drawingml/2006/table">
            <a:tbl>
              <a:tblPr/>
              <a:tblGrid>
                <a:gridCol w="4880160"/>
                <a:gridCol w="29779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ординаты 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ачальная то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-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7" name="Группа 8" descr=""/>
          <p:cNvPicPr/>
          <p:nvPr/>
        </p:nvPicPr>
        <p:blipFill>
          <a:blip r:embed="rId2"/>
          <a:stretch/>
        </p:blipFill>
        <p:spPr>
          <a:xfrm>
            <a:off x="950760" y="1011240"/>
            <a:ext cx="8004240" cy="315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8:51Z</dcterms:modified>
  <cp:revision>35</cp:revision>
  <dc:subject/>
  <dc:title>Презентация PowerPoint</dc:title>
</cp:coreProperties>
</file>