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25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B92-349B-4673-887A-9B7230BF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2B7-6B8F-4510-9DBA-136699C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811-0410-499E-804F-C9794F50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7B7-DE3A-410A-B52F-9DA13354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49E-06D6-4AD1-94D5-5200A370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294-ACCA-483E-981E-6C9EEC0D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23E-215E-4784-8AAD-1FA7E0FF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D60-AB25-4368-9B08-78B6A860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423-4CA1-43D3-9D48-B3394D6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516-BEAE-4023-B68F-CC7FD3BD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88C-F01E-46CA-9EDA-C2AA98D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7D5-4126-4043-99EA-CE7B061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BE5-7A81-485B-BDE9-0DD404C8D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hyperlink" Target="http://files.school-collection.edu.ru/dlrstore/99dea9d5-31d4-4e4c-9a4f-9024898c7a48/%5BINF_018%5D_%5BAM_01%5D.swf" TargetMode="External"/><Relationship Id="rId3" Type="http://schemas.openxmlformats.org/officeDocument/2006/relationships/hyperlink" Target="http://files.school-collection.edu.ru/dlrstore/99dea9d5-31d4-4e4c-9a4f-9024898c7a48/%5BINF_018%5D_%5BAM_01%5D.swf" TargetMode="External"/><Relationship Id="rId4" Type="http://schemas.openxmlformats.org/officeDocument/2006/relationships/hyperlink" Target="http://files.school-collection.edu.ru/dlrstore/99dea9d5-31d4-4e4c-9a4f-9024898c7a48/%5BINF_018%5D_%5BAM_01%5D.swf" TargetMode="External"/><Relationship Id="rId5" Type="http://schemas.openxmlformats.org/officeDocument/2006/relationships/hyperlink" Target="http://files.school-collection.edu.ru/dlrstore/99dea9d5-31d4-4e4c-9a4f-9024898c7a48/%5BINF_018%5D_%5BAM_01%5D.swf" TargetMode="External"/><Relationship Id="rId6" Type="http://schemas.openxmlformats.org/officeDocument/2006/relationships/hyperlink" Target="http://files.school-collection.edu.ru/dlrstore/99dea9d5-31d4-4e4c-9a4f-9024898c7a48/%5BINF_018%5D_%5BAM_01%5D.swf" TargetMode="External"/><Relationship Id="rId7" Type="http://schemas.openxmlformats.org/officeDocument/2006/relationships/hyperlink" Target="http://files.school-collection.edu.ru/dlrstore/99dea9d5-31d4-4e4c-9a4f-9024898c7a48/%5BINF_018%5D_%5BAM_01%5D.swf" TargetMode="External"/><Relationship Id="rId8" Type="http://schemas.openxmlformats.org/officeDocument/2006/relationships/hyperlink" Target="http://files.school-collection.edu.ru/dlrstore/99dea9d5-31d4-4e4c-9a4f-9024898c7a48/%5BINF_018%5D_%5BAM_01%5D.swf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jenabunshi.com/wp-content/uploads/2011/01/&#1087;&#1080;&#1089;&#1100;&#1084;&#1086;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16000" y="1557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знаковой или образно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вое представление информации дискре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ное представление информации непреры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ставление информации в той или и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оловок 2"/>
          <p:cNvSpPr/>
          <p:nvPr/>
        </p:nvSpPr>
        <p:spPr>
          <a:xfrm>
            <a:off x="1116000" y="18900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>
            <a:hlinkClick r:id="rId5" action="ppaction://hlinksldjump"/>
          </p:cNvPr>
          <p:cNvSpPr/>
          <p:nvPr/>
        </p:nvSpPr>
        <p:spPr>
          <a:xfrm>
            <a:off x="7093080" y="6165720"/>
            <a:ext cx="1800000" cy="503280"/>
          </a:xfrm>
          <a:custGeom>
            <a:avLst/>
            <a:gdLst>
              <a:gd name="textAreaLeft" fmla="*/ 32400 w 1800000"/>
              <a:gd name="textAreaRight" fmla="*/ 1767600 w 180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7213" h="21600">
                <a:moveTo>
                  <a:pt x="0" y="0"/>
                </a:moveTo>
                <a:lnTo>
                  <a:pt x="77213" y="0"/>
                </a:lnTo>
                <a:lnTo>
                  <a:pt x="77213" y="21600"/>
                </a:lnTo>
                <a:lnTo>
                  <a:pt x="0" y="21600"/>
                </a:lnTo>
                <a:close/>
              </a:path>
              <a:path fill="lightenLess" w="77213" h="21600">
                <a:moveTo>
                  <a:pt x="0" y="0"/>
                </a:moveTo>
                <a:lnTo>
                  <a:pt x="77213" y="0"/>
                </a:lnTo>
                <a:lnTo>
                  <a:pt x="75813" y="1400"/>
                </a:lnTo>
                <a:lnTo>
                  <a:pt x="1400" y="1400"/>
                </a:lnTo>
                <a:close/>
              </a:path>
              <a:path fill="darken" w="77213" h="21600">
                <a:moveTo>
                  <a:pt x="77213" y="0"/>
                </a:moveTo>
                <a:lnTo>
                  <a:pt x="77213" y="21600"/>
                </a:lnTo>
                <a:lnTo>
                  <a:pt x="75813" y="20200"/>
                </a:lnTo>
                <a:lnTo>
                  <a:pt x="75813" y="1400"/>
                </a:lnTo>
                <a:close/>
              </a:path>
              <a:path fill="darkenLess" w="77213" h="21600">
                <a:moveTo>
                  <a:pt x="7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813" y="20200"/>
                </a:lnTo>
                <a:close/>
              </a:path>
              <a:path fill="lighten" w="7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213" h="21600">
                <a:moveTo>
                  <a:pt x="31600" y="3794"/>
                </a:moveTo>
                <a:lnTo>
                  <a:pt x="45613" y="10800"/>
                </a:lnTo>
                <a:lnTo>
                  <a:pt x="3160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wnRibbonSharp"/>
          <p:cNvSpPr/>
          <p:nvPr/>
        </p:nvSpPr>
        <p:spPr>
          <a:xfrm>
            <a:off x="1476360" y="836640"/>
            <a:ext cx="7345440" cy="828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49440" y="2492280"/>
            <a:ext cx="2411280" cy="72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1944720" y="2671920"/>
            <a:ext cx="1547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нак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24" name="WordArt 6"/>
          <p:cNvSpPr txBox="1"/>
          <p:nvPr/>
        </p:nvSpPr>
        <p:spPr>
          <a:xfrm>
            <a:off x="3851280" y="1087560"/>
            <a:ext cx="262728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724360" y="2492280"/>
            <a:ext cx="2411640" cy="72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6048360" y="2673360"/>
            <a:ext cx="1620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браз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27" name="AutoShape 9">
            <a:hlinkClick r:id="rId4" action="ppaction://hlinksldjump"/>
          </p:cNvPr>
          <p:cNvSpPr/>
          <p:nvPr/>
        </p:nvSpPr>
        <p:spPr>
          <a:xfrm>
            <a:off x="1187280" y="6165720"/>
            <a:ext cx="1943280" cy="466920"/>
          </a:xfrm>
          <a:custGeom>
            <a:avLst/>
            <a:gdLst>
              <a:gd name="textAreaLeft" fmla="*/ 30240 w 1943280"/>
              <a:gd name="textAreaRight" fmla="*/ 1913040 w 194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89845" h="21600">
                <a:moveTo>
                  <a:pt x="0" y="0"/>
                </a:moveTo>
                <a:lnTo>
                  <a:pt x="89845" y="0"/>
                </a:lnTo>
                <a:lnTo>
                  <a:pt x="89845" y="21600"/>
                </a:lnTo>
                <a:lnTo>
                  <a:pt x="0" y="21600"/>
                </a:lnTo>
                <a:close/>
              </a:path>
              <a:path fill="lightenLess" w="89845" h="21600">
                <a:moveTo>
                  <a:pt x="0" y="0"/>
                </a:moveTo>
                <a:lnTo>
                  <a:pt x="89845" y="0"/>
                </a:lnTo>
                <a:lnTo>
                  <a:pt x="88445" y="1400"/>
                </a:lnTo>
                <a:lnTo>
                  <a:pt x="1400" y="1400"/>
                </a:lnTo>
                <a:close/>
              </a:path>
              <a:path fill="darken" w="89845" h="21600">
                <a:moveTo>
                  <a:pt x="89845" y="0"/>
                </a:moveTo>
                <a:lnTo>
                  <a:pt x="89845" y="21600"/>
                </a:lnTo>
                <a:lnTo>
                  <a:pt x="88445" y="20200"/>
                </a:lnTo>
                <a:lnTo>
                  <a:pt x="88445" y="1400"/>
                </a:lnTo>
                <a:close/>
              </a:path>
              <a:path fill="darkenLess" w="89845" h="21600">
                <a:moveTo>
                  <a:pt x="8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445" y="20200"/>
                </a:lnTo>
                <a:close/>
              </a:path>
              <a:path fill="lighten" w="8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845" h="21600">
                <a:moveTo>
                  <a:pt x="37916" y="10800"/>
                </a:moveTo>
                <a:lnTo>
                  <a:pt x="51929" y="3794"/>
                </a:lnTo>
                <a:lnTo>
                  <a:pt x="51929" y="17806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AutoShape 10"/>
          <p:cNvGrpSpPr/>
          <p:nvPr/>
        </p:nvGrpSpPr>
        <p:grpSpPr>
          <a:xfrm>
            <a:off x="3333600" y="1689120"/>
            <a:ext cx="171720" cy="755640"/>
            <a:chOff x="3333600" y="1689120"/>
            <a:chExt cx="171720" cy="755640"/>
          </a:xfrm>
        </p:grpSpPr>
        <p:pic>
          <p:nvPicPr>
            <p:cNvPr id="229" name="AutoShape 10" descr=""/>
            <p:cNvPicPr/>
            <p:nvPr/>
          </p:nvPicPr>
          <p:blipFill>
            <a:blip r:embed="rId5"/>
            <a:stretch/>
          </p:blipFill>
          <p:spPr>
            <a:xfrm>
              <a:off x="3333600" y="1689120"/>
              <a:ext cx="17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384720" y="1700280"/>
              <a:ext cx="71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11"/>
          <p:cNvGrpSpPr/>
          <p:nvPr/>
        </p:nvGrpSpPr>
        <p:grpSpPr>
          <a:xfrm>
            <a:off x="6791400" y="1689120"/>
            <a:ext cx="169920" cy="755640"/>
            <a:chOff x="6791400" y="1689120"/>
            <a:chExt cx="169920" cy="755640"/>
          </a:xfrm>
        </p:grpSpPr>
        <p:pic>
          <p:nvPicPr>
            <p:cNvPr id="232" name="AutoShape 11" descr=""/>
            <p:cNvPicPr/>
            <p:nvPr/>
          </p:nvPicPr>
          <p:blipFill>
            <a:blip r:embed="rId6"/>
            <a:stretch/>
          </p:blipFill>
          <p:spPr>
            <a:xfrm>
              <a:off x="6791400" y="1689120"/>
              <a:ext cx="169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40360" y="1700280"/>
              <a:ext cx="7164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2"/>
          <p:cNvSpPr/>
          <p:nvPr/>
        </p:nvSpPr>
        <p:spPr>
          <a:xfrm>
            <a:off x="1908000" y="3463920"/>
            <a:ext cx="1908360" cy="576360"/>
          </a:xfrm>
          <a:prstGeom prst="flowChartPredefinedProcess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3"/>
          <p:cNvSpPr txBox="1"/>
          <p:nvPr/>
        </p:nvSpPr>
        <p:spPr>
          <a:xfrm>
            <a:off x="2449440" y="3571920"/>
            <a:ext cx="74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Язы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6048360" y="3500280"/>
            <a:ext cx="1908360" cy="576360"/>
          </a:xfrm>
          <a:prstGeom prst="flowChartPredefined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6516720" y="3608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раз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2305080" y="425592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2305080" y="497664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8"/>
          <p:cNvSpPr txBox="1"/>
          <p:nvPr/>
        </p:nvSpPr>
        <p:spPr>
          <a:xfrm>
            <a:off x="2449440" y="4329000"/>
            <a:ext cx="122400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стествен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1" name="WordArt 19"/>
          <p:cNvSpPr txBox="1"/>
          <p:nvPr/>
        </p:nvSpPr>
        <p:spPr>
          <a:xfrm>
            <a:off x="2484360" y="5048280"/>
            <a:ext cx="126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ормаль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1981080" y="4040280"/>
            <a:ext cx="0" cy="11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981080" y="4508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1981080" y="5192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805440" y="4221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6913440" y="429264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ри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6805440" y="4653000"/>
            <a:ext cx="1979640" cy="3585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6913440" y="472428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кус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6805440" y="504972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6913440" y="512136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вук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6805440" y="5445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30"/>
          <p:cNvSpPr txBox="1"/>
          <p:nvPr/>
        </p:nvSpPr>
        <p:spPr>
          <a:xfrm>
            <a:off x="6913440" y="551664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оня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3" name="AutoShape 31"/>
          <p:cNvSpPr/>
          <p:nvPr/>
        </p:nvSpPr>
        <p:spPr>
          <a:xfrm>
            <a:off x="6805440" y="591336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2"/>
          <p:cNvSpPr txBox="1"/>
          <p:nvPr/>
        </p:nvSpPr>
        <p:spPr>
          <a:xfrm>
            <a:off x="6913440" y="598500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яза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2773440" y="3213000"/>
            <a:ext cx="0" cy="250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>
            <a:off x="6948360" y="321300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6192720" y="4076640"/>
            <a:ext cx="0" cy="1981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>
            <a:off x="6192720" y="4400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7"/>
          <p:cNvSpPr/>
          <p:nvPr/>
        </p:nvSpPr>
        <p:spPr>
          <a:xfrm>
            <a:off x="6229440" y="479736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"/>
          <p:cNvSpPr/>
          <p:nvPr/>
        </p:nvSpPr>
        <p:spPr>
          <a:xfrm>
            <a:off x="6192720" y="5192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6192720" y="5626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6192720" y="6058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50920" y="1052640"/>
            <a:ext cx="860400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 для сохранения и передачи информации другому человеку фиксирует её с помощью 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абор знаков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итель объекта, позволяющий передающему информацию вызвать в сознании принимающего информацию образ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вая система, используемая человеком для выражения своих мыслей, общения с другими людь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тестве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и используются для общения между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зыки применяются специалистами в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на естественных языках, на  формальных языках, в различн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116000" y="601200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ставление информации в той или и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87280" y="148428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? Приведите примеры знаков, используемых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16000" y="1413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овая система? Попытайтесь описать русский язык как знаковую систему. Опишите десятичную систему счисления как знаков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116000" y="134136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акой разновидности языков (естественных или формальных) может быть отнесена морская флажковая азб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16000" y="1484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можно знаки формальных языков включать в тексты на естественном языке? Где вы с этим встреч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Флажковая азбука"/>
          <p:cNvPicPr/>
          <p:nvPr/>
        </p:nvPicPr>
        <p:blipFill>
          <a:blip r:embed="rId1"/>
          <a:stretch/>
        </p:blipFill>
        <p:spPr>
          <a:xfrm>
            <a:off x="3419640" y="3465360"/>
            <a:ext cx="3093840" cy="309420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2843280" y="6021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8 (стр.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87280" y="11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, какой смысл имеет пиктограм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ереход"/>
          <p:cNvPicPr/>
          <p:nvPr/>
        </p:nvPicPr>
        <p:blipFill>
          <a:blip r:embed="rId1"/>
          <a:stretch/>
        </p:blipFill>
        <p:spPr>
          <a:xfrm>
            <a:off x="2556000" y="2060640"/>
            <a:ext cx="3303360" cy="3349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Подземный переход"/>
          <p:cNvPicPr/>
          <p:nvPr/>
        </p:nvPicPr>
        <p:blipFill>
          <a:blip r:embed="rId2"/>
          <a:stretch/>
        </p:blipFill>
        <p:spPr>
          <a:xfrm>
            <a:off x="2519280" y="213372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Для пассажиров с детьми"/>
          <p:cNvPicPr/>
          <p:nvPr/>
        </p:nvPicPr>
        <p:blipFill>
          <a:blip r:embed="rId3"/>
          <a:stretch/>
        </p:blipFill>
        <p:spPr>
          <a:xfrm>
            <a:off x="2519280" y="2097000"/>
            <a:ext cx="3363840" cy="34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4"/>
          <a:stretch/>
        </p:blipFill>
        <p:spPr>
          <a:xfrm>
            <a:off x="2519280" y="2060640"/>
            <a:ext cx="3471840" cy="34718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13"/>
          <p:cNvSpPr/>
          <p:nvPr/>
        </p:nvSpPr>
        <p:spPr>
          <a:xfrm>
            <a:off x="2700360" y="1844640"/>
            <a:ext cx="43927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700360" y="1844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7093080" y="184464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979640" y="2997360"/>
            <a:ext cx="18730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194472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6156360" y="400536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8064360" y="396864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5977080" y="3068640"/>
            <a:ext cx="20872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7164360" y="2781360"/>
            <a:ext cx="0" cy="287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736720" y="2779560"/>
            <a:ext cx="0" cy="2178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385128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597708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806436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197964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9"/>
          <p:cNvSpPr/>
          <p:nvPr/>
        </p:nvSpPr>
        <p:spPr>
          <a:xfrm>
            <a:off x="388944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042920" y="189000"/>
            <a:ext cx="561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>
            <a:hlinkClick r:id="rId1"/>
          </p:cNvPr>
          <p:cNvSpPr/>
          <p:nvPr/>
        </p:nvSpPr>
        <p:spPr>
          <a:xfrm>
            <a:off x="1908000" y="981000"/>
            <a:ext cx="6264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>
            <a:hlinkClick r:id="rId2"/>
          </p:cNvPr>
          <p:cNvSpPr/>
          <p:nvPr/>
        </p:nvSpPr>
        <p:spPr>
          <a:xfrm>
            <a:off x="1476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в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>
            <a:hlinkClick r:id="rId3"/>
          </p:cNvPr>
          <p:cNvSpPr/>
          <p:nvPr/>
        </p:nvSpPr>
        <p:spPr>
          <a:xfrm>
            <a:off x="5940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>
            <a:hlinkClick r:id="rId4"/>
          </p:cNvPr>
          <p:cNvSpPr/>
          <p:nvPr/>
        </p:nvSpPr>
        <p:spPr>
          <a:xfrm>
            <a:off x="971640" y="328464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естестве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>
            <a:hlinkClick r:id="rId5"/>
          </p:cNvPr>
          <p:cNvSpPr/>
          <p:nvPr/>
        </p:nvSpPr>
        <p:spPr>
          <a:xfrm>
            <a:off x="3203640" y="3284640"/>
            <a:ext cx="19447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форм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>
            <a:hlinkClick r:id="rId6"/>
          </p:cNvPr>
          <p:cNvSpPr/>
          <p:nvPr/>
        </p:nvSpPr>
        <p:spPr>
          <a:xfrm>
            <a:off x="5364000" y="3284640"/>
            <a:ext cx="16574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>
            <a:hlinkClick r:id="rId7"/>
          </p:cNvPr>
          <p:cNvSpPr/>
          <p:nvPr/>
        </p:nvSpPr>
        <p:spPr>
          <a:xfrm>
            <a:off x="7236000" y="3284640"/>
            <a:ext cx="16570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>
            <a:hlinkClick r:id="rId8"/>
          </p:cNvPr>
          <p:cNvSpPr/>
          <p:nvPr/>
        </p:nvSpPr>
        <p:spPr>
          <a:xfrm>
            <a:off x="3203640" y="4365720"/>
            <a:ext cx="1944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x2 + bx + c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 = b2 - 4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16000" y="4365720"/>
            <a:ext cx="19447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435640" y="4292640"/>
            <a:ext cx="144144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0" descr="Изображение"/>
          <p:cNvPicPr/>
          <p:nvPr/>
        </p:nvPicPr>
        <p:blipFill>
          <a:blip r:embed="rId9"/>
          <a:stretch/>
        </p:blipFill>
        <p:spPr>
          <a:xfrm>
            <a:off x="5435640" y="443556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7524720" y="4292640"/>
            <a:ext cx="11509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1" descr="Звук"/>
          <p:cNvPicPr/>
          <p:nvPr/>
        </p:nvPicPr>
        <p:blipFill>
          <a:blip r:embed="rId10"/>
          <a:stretch/>
        </p:blipFill>
        <p:spPr>
          <a:xfrm rot="16857000">
            <a:off x="7207920" y="4752000"/>
            <a:ext cx="1852560" cy="107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116000" y="155736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 (стр. 12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7, 9, 10, 11, 12 (стр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вая 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ествен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ль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 представл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2560" y="1052640"/>
            <a:ext cx="7643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яет собой заменитель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(набор знаков) позволяет передающему информацию вызвать в сознании принимающего информацию образ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284720" y="3068640"/>
          <a:ext cx="1436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436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хема 8" descr=""/>
          <p:cNvPicPr/>
          <p:nvPr/>
        </p:nvPicPr>
        <p:blipFill>
          <a:blip r:embed="rId1"/>
          <a:stretch/>
        </p:blipFill>
        <p:spPr>
          <a:xfrm>
            <a:off x="1901880" y="2908440"/>
            <a:ext cx="6291360" cy="3700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042560" y="1052640"/>
            <a:ext cx="810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явное или неявное соглашение о приписывании некоторому чувственно воспринимаемому объекту определённого смы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42560" y="1052280"/>
            <a:ext cx="76438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знака позволяет догадаться о его смы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икт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Пиктограмма"/>
          <p:cNvPicPr/>
          <p:nvPr/>
        </p:nvPicPr>
        <p:blipFill>
          <a:blip r:embed="rId1"/>
          <a:stretch/>
        </p:blipFill>
        <p:spPr>
          <a:xfrm>
            <a:off x="2627280" y="2205000"/>
            <a:ext cx="3962520" cy="291456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3" descr=""/>
          <p:cNvPicPr/>
          <p:nvPr/>
        </p:nvPicPr>
        <p:blipFill>
          <a:blip r:embed="rId2"/>
          <a:stretch/>
        </p:blipFill>
        <p:spPr>
          <a:xfrm>
            <a:off x="3924360" y="5589720"/>
            <a:ext cx="15508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792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между формой знака и его смыслом устанавливается по договорё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мв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Символы"/>
          <p:cNvPicPr/>
          <p:nvPr/>
        </p:nvPicPr>
        <p:blipFill>
          <a:blip r:embed="rId1"/>
          <a:stretch/>
        </p:blipFill>
        <p:spPr>
          <a:xfrm>
            <a:off x="2751120" y="2205000"/>
            <a:ext cx="4052880" cy="3809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8" name="Object 2" descr=""/>
          <p:cNvPicPr/>
          <p:nvPr/>
        </p:nvPicPr>
        <p:blipFill>
          <a:blip r:embed="rId2"/>
          <a:stretch/>
        </p:blipFill>
        <p:spPr>
          <a:xfrm>
            <a:off x="4181400" y="6093000"/>
            <a:ext cx="1182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9"/>
          <p:cNvSpPr/>
          <p:nvPr/>
        </p:nvSpPr>
        <p:spPr>
          <a:xfrm>
            <a:off x="1042920" y="907920"/>
            <a:ext cx="78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 используют отдельные знаки и знаковы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ковая систе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множеством всех входящих в неё знаков (алфавитом) и правилами оперирования этими 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наки и знаковы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Алфавит латинский"/>
          <p:cNvPicPr/>
          <p:nvPr/>
        </p:nvPicPr>
        <p:blipFill>
          <a:blip r:embed="rId1"/>
          <a:stretch/>
        </p:blipFill>
        <p:spPr>
          <a:xfrm>
            <a:off x="5219640" y="2924280"/>
            <a:ext cx="3162240" cy="36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Адфавит"/>
          <p:cNvPicPr/>
          <p:nvPr/>
        </p:nvPicPr>
        <p:blipFill>
          <a:blip r:embed="rId2"/>
          <a:stretch/>
        </p:blipFill>
        <p:spPr>
          <a:xfrm>
            <a:off x="1403280" y="2932200"/>
            <a:ext cx="352116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042920" y="1052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между людьми может проходить в устной или письменной форме с использованием соответствующих звуковых или зритель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азговор между людьми"/>
          <p:cNvPicPr/>
          <p:nvPr/>
        </p:nvPicPr>
        <p:blipFill>
          <a:blip r:embed="rId1"/>
          <a:stretch/>
        </p:blipFill>
        <p:spPr>
          <a:xfrm>
            <a:off x="1187280" y="234936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Язык жестов"/>
          <p:cNvPicPr/>
          <p:nvPr/>
        </p:nvPicPr>
        <p:blipFill>
          <a:blip r:embed="rId2"/>
          <a:stretch/>
        </p:blipFill>
        <p:spPr>
          <a:xfrm>
            <a:off x="5867280" y="2781360"/>
            <a:ext cx="3060720" cy="24480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зык как знак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Пишите пись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221000"/>
            <a:ext cx="2638440" cy="238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30"/>
          <p:cNvSpPr/>
          <p:nvPr/>
        </p:nvSpPr>
        <p:spPr>
          <a:xfrm flipH="1">
            <a:off x="5398920" y="515772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 flipH="1">
            <a:off x="5398920" y="569736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5398920" y="630864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V="1">
            <a:off x="5580000" y="2491920"/>
            <a:ext cx="93672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 flipH="1" flipV="1">
            <a:off x="3348000" y="2492280"/>
            <a:ext cx="1440000" cy="649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774072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>
            <a:hlinkClick r:id="rId1"/>
          </p:cNvPr>
          <p:cNvSpPr/>
          <p:nvPr/>
        </p:nvSpPr>
        <p:spPr>
          <a:xfrm>
            <a:off x="1116000" y="476280"/>
            <a:ext cx="7848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знаковая  система, используемая челове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выражения своих  мыслей, общения 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2195640" y="2637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516720" y="1889280"/>
            <a:ext cx="2448000" cy="190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че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в 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й смыс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116000" y="1889280"/>
            <a:ext cx="2305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740720" y="386064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5867280" y="4365720"/>
            <a:ext cx="309744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Мор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580716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з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1001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ная реч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2195640" y="4178160"/>
            <a:ext cx="0" cy="331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116000" y="3860640"/>
            <a:ext cx="1728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е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16000" y="450864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116000" y="5157720"/>
            <a:ext cx="17272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851280" y="3860640"/>
            <a:ext cx="10810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5580000" y="371628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4427640" y="34290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9225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059280" y="5013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квенно-знак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059280" y="5516640"/>
            <a:ext cx="230472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059280" y="6021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ограф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19564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42"/>
          <p:cNvCxnSpPr>
            <a:stCxn id="203" idx="3"/>
            <a:endCxn id="206" idx="1"/>
          </p:cNvCxnSpPr>
          <p:nvPr/>
        </p:nvCxnSpPr>
        <p:spPr>
          <a:xfrm>
            <a:off x="2844720" y="4039920"/>
            <a:ext cx="100728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215" name="Line 23"/>
          <p:cNvSpPr/>
          <p:nvPr/>
        </p:nvSpPr>
        <p:spPr>
          <a:xfrm>
            <a:off x="2195640" y="34434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195640" y="4869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2195640" y="5445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5:14Z</dcterms:modified>
  <cp:revision>29</cp:revision>
  <dc:subject/>
  <dc:title>Презентация PowerPoint</dc:title>
</cp:coreProperties>
</file>