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4D1-DBC2-41B3-8C4B-EE14B2ED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6E9-5D27-4DD8-B0FD-ECD86D3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006-3516-4C5E-8044-ED67156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4F-DF3C-40CE-9C7E-5B789A14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833-B4F5-458D-8B8D-4C89D12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0EB-6B99-44BC-A8B1-8D04C5BA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29C-F95A-4E71-938E-A6C2B30D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C52-1E62-489C-B7E8-6DD501BA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982-B1D3-415A-A70D-DBC7223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CE4-93AC-4C7A-9871-35F9132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2E6-4052-46BC-9790-82CD5C7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B52-E483-4103-A24E-E125CDC4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A18-C887-43FB-8EA0-E51ACB166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-kurilka.ru/products_pictures/pina%20colada_enl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БЛИЧНЫЕ ИНФОРМАЦИОН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2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ют табличные информационные модели по сравнению со словесными описаниями? 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3"/>
          <p:cNvSpPr/>
          <p:nvPr/>
        </p:nvSpPr>
        <p:spPr>
          <a:xfrm>
            <a:off x="395280" y="141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бличных информационных моделей, с которыми вы имеете д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уроках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4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ому типу относится таблица «Табель успеваемости», расположенная в конце вашего днев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их случаях в ячейку таблицы ставится знак «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мы использовали этот знак в таб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124000" y="3068640"/>
          <a:ext cx="5496120" cy="3108240"/>
        </p:xfrm>
        <a:graphic>
          <a:graphicData uri="http://schemas.openxmlformats.org/drawingml/2006/table">
            <a:tbl>
              <a:tblPr/>
              <a:tblGrid>
                <a:gridCol w="916200"/>
                <a:gridCol w="915840"/>
                <a:gridCol w="915840"/>
                <a:gridCol w="916200"/>
                <a:gridCol w="915840"/>
                <a:gridCol w="91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232"/>
          <p:cNvSpPr/>
          <p:nvPr/>
        </p:nvSpPr>
        <p:spPr>
          <a:xfrm>
            <a:off x="539640" y="836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1 камень, а во втор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ам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2 камня в какую-то кучу. Выигрывает игрок, после хода которого общее число кам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учах становится не менее 1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выигрывает при безошибочной игре обоих игро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грок, делающий первый ход, или игрок, делающий второй 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ен быть первый ход выигрывающего игр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3"/>
          <p:cNvSpPr/>
          <p:nvPr/>
        </p:nvSpPr>
        <p:spPr>
          <a:xfrm>
            <a:off x="468360" y="126828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стоимости перевозок устроена следующим образом: числа, стоящие на пересечениях строк и столбцов таблиц, означают стоимость проезда между соответствующими соседними стан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ересечение строки и столбца пусто, то станции не являются соседними. Стоимость проезда по маршруту складывается из стоимостей проезда между соседними станциями. Перевозки между населёнными пунктами A, B, C, D, F осуществляют три компании,представившие стоимость своих услуг в табличной форме. Какая компания обеспечивает минимальную стоимость проезда из А в 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39640" y="3932280"/>
          <a:ext cx="251964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840"/>
                <a:gridCol w="419040"/>
                <a:gridCol w="420480"/>
                <a:gridCol w="41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285"/>
          <p:cNvSpPr/>
          <p:nvPr/>
        </p:nvSpPr>
        <p:spPr>
          <a:xfrm>
            <a:off x="125892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564000" y="3932280"/>
          <a:ext cx="251928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48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Text Box 337"/>
          <p:cNvSpPr/>
          <p:nvPr/>
        </p:nvSpPr>
        <p:spPr>
          <a:xfrm>
            <a:off x="464328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372360" y="3933720"/>
          <a:ext cx="2519280" cy="2197080"/>
        </p:xfrm>
        <a:graphic>
          <a:graphicData uri="http://schemas.openxmlformats.org/drawingml/2006/table">
            <a:tbl>
              <a:tblPr/>
              <a:tblGrid>
                <a:gridCol w="419040"/>
                <a:gridCol w="420480"/>
                <a:gridCol w="42084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389"/>
          <p:cNvSpPr/>
          <p:nvPr/>
        </p:nvSpPr>
        <p:spPr>
          <a:xfrm>
            <a:off x="7596360" y="623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0"/>
          <p:cNvSpPr/>
          <p:nvPr/>
        </p:nvSpPr>
        <p:spPr>
          <a:xfrm>
            <a:off x="468360" y="765000"/>
            <a:ext cx="839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по плаванию были в самом разгаре, когда стало ясно, что первые четыре места займут мальчики из пятёрки лидеров. Их имена: Валерий, Николай, Михаил, Игорь, Эдуард, фамилии: Симаков, Чигрин, Зимин, Копылов, Блинов (име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и названы в произвольном поряд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ись знатоки, которые предсказали, что первое место займёт Копылов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рий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грин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уа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и один из ребят не занял того места, какое ему предсказы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м деле первое место завоевал Михаил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аков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лай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нов, а Чигр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пал в четвёрку сильней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из лид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91"/>
          <p:cNvSpPr/>
          <p:nvPr/>
        </p:nvSpPr>
        <p:spPr>
          <a:xfrm>
            <a:off x="501480" y="1413000"/>
            <a:ext cx="864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рильске, Москве, Ростове и Пятигорске живут четыре супружеские пары (в каждом гор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па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этих супругов: Антон, Борис, Давид, Григорий, Ольга, Мария, Светлана, Екате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живёт в Норильске, Борис и Оль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руги, Григорий и Светлана не живут в одном городе, Мария живёт в Москве, Светл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т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роде проживает каждая из супружеских п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2"/>
          <p:cNvSpPr/>
          <p:nvPr/>
        </p:nvSpPr>
        <p:spPr>
          <a:xfrm>
            <a:off x="250920" y="220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, отражающий разновидности информационных мод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25892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йства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го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 flipV="1">
            <a:off x="3132000" y="3357360"/>
            <a:ext cx="165600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 flipH="1" flipV="1">
            <a:off x="4788000" y="3357360"/>
            <a:ext cx="194472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 flipV="1">
            <a:off x="291636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00040" y="1285920"/>
            <a:ext cx="8280360" cy="703800"/>
          </a:xfrm>
          <a:prstGeom prst="rect">
            <a:avLst/>
          </a:prstGeom>
          <a:noFill/>
          <a:ln w="284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глядна, компактна и легко обоз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36256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м сво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702000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348000" y="278136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54764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свой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58000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объ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68360" y="836640"/>
            <a:ext cx="8424720" cy="28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-kurilka.ru/products_pictures/pina%20colada_en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ктейль в бел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atic.etoya.ru/files/images/imgsng/part_0/5235/src/greenalien.jpg - коктейль в зелён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bars.ru/i/201012/6du55.jpg  - коктейль в голуб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lantpoetry.files.wordpress.com/2009/07/strawberry.jpg  - клу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akingnews.com/images/app_images/banana-1.jpg - ба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lifeglobe.net/media/entry/1354/51174276_986vanilla_beans_3.jpg – ван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свой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объе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аблично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1224000"/>
            <a:ext cx="8280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2960" y="2000160"/>
            <a:ext cx="47926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ы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2960" y="2571840"/>
          <a:ext cx="8209080" cy="3255840"/>
        </p:xfrm>
        <a:graphic>
          <a:graphicData uri="http://schemas.openxmlformats.org/drawingml/2006/table">
            <a:tbl>
              <a:tblPr/>
              <a:tblGrid>
                <a:gridCol w="3529080"/>
                <a:gridCol w="1800000"/>
                <a:gridCol w="1440000"/>
                <a:gridCol w="144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 км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трах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2.1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анге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гор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1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8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г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е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6.1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51"/>
          <p:cNvSpPr/>
          <p:nvPr/>
        </p:nvSpPr>
        <p:spPr>
          <a:xfrm>
            <a:off x="1071720" y="62866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1"/>
          <p:cNvSpPr/>
          <p:nvPr/>
        </p:nvSpPr>
        <p:spPr>
          <a:xfrm>
            <a:off x="4716360" y="62866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8"/>
          <p:cNvSpPr/>
          <p:nvPr/>
        </p:nvSpPr>
        <p:spPr>
          <a:xfrm flipV="1">
            <a:off x="2916360" y="587664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9"/>
          <p:cNvSpPr/>
          <p:nvPr/>
        </p:nvSpPr>
        <p:spPr>
          <a:xfrm flipH="1" flipV="1">
            <a:off x="521964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0"/>
          <p:cNvSpPr/>
          <p:nvPr/>
        </p:nvSpPr>
        <p:spPr>
          <a:xfrm flipV="1">
            <a:off x="6588000" y="5805360"/>
            <a:ext cx="0" cy="50328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1"/>
          <p:cNvSpPr/>
          <p:nvPr/>
        </p:nvSpPr>
        <p:spPr>
          <a:xfrm flipV="1">
            <a:off x="702000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11280" y="1989000"/>
            <a:ext cx="446400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едения о пропусках урок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852640"/>
          <a:ext cx="8281800" cy="2928960"/>
        </p:xfrm>
        <a:graphic>
          <a:graphicData uri="http://schemas.openxmlformats.org/drawingml/2006/table">
            <a:tbl>
              <a:tblPr/>
              <a:tblGrid>
                <a:gridCol w="379440"/>
                <a:gridCol w="2717640"/>
                <a:gridCol w="719280"/>
                <a:gridCol w="649080"/>
                <a:gridCol w="719280"/>
                <a:gridCol w="647640"/>
                <a:gridCol w="666720"/>
                <a:gridCol w="630360"/>
                <a:gridCol w="576360"/>
                <a:gridCol w="576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: 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ленко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 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наков О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ова Ви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кова К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51"/>
          <p:cNvSpPr/>
          <p:nvPr/>
        </p:nvSpPr>
        <p:spPr>
          <a:xfrm>
            <a:off x="539640" y="6165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1"/>
          <p:cNvSpPr/>
          <p:nvPr/>
        </p:nvSpPr>
        <p:spPr>
          <a:xfrm>
            <a:off x="4572000" y="623736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1"/>
          <p:cNvSpPr/>
          <p:nvPr/>
        </p:nvSpPr>
        <p:spPr>
          <a:xfrm>
            <a:off x="521964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0"/>
          <p:cNvSpPr/>
          <p:nvPr/>
        </p:nvSpPr>
        <p:spPr>
          <a:xfrm flipV="1">
            <a:off x="2509920" y="5808600"/>
            <a:ext cx="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1"/>
          <p:cNvSpPr/>
          <p:nvPr/>
        </p:nvSpPr>
        <p:spPr>
          <a:xfrm>
            <a:off x="7380360" y="249408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2"/>
          <p:cNvSpPr/>
          <p:nvPr/>
        </p:nvSpPr>
        <p:spPr>
          <a:xfrm flipH="1">
            <a:off x="6156360" y="2492280"/>
            <a:ext cx="71928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3"/>
          <p:cNvSpPr/>
          <p:nvPr/>
        </p:nvSpPr>
        <p:spPr>
          <a:xfrm flipV="1" rot="16200000">
            <a:off x="6118920" y="3536640"/>
            <a:ext cx="360360" cy="489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2060640"/>
            <a:ext cx="482436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стояние между городами (км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2997360"/>
          <a:ext cx="8281800" cy="219708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1819080"/>
                <a:gridCol w="1756080"/>
                <a:gridCol w="1753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6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3851280" y="566100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514836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8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9"/>
          <p:cNvSpPr/>
          <p:nvPr/>
        </p:nvSpPr>
        <p:spPr>
          <a:xfrm>
            <a:off x="7308720" y="2494080"/>
            <a:ext cx="64800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0"/>
          <p:cNvSpPr/>
          <p:nvPr/>
        </p:nvSpPr>
        <p:spPr>
          <a:xfrm flipH="1">
            <a:off x="6156000" y="2492280"/>
            <a:ext cx="64764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1"/>
          <p:cNvSpPr/>
          <p:nvPr/>
        </p:nvSpPr>
        <p:spPr>
          <a:xfrm flipV="1" rot="16200000">
            <a:off x="5435280" y="2420280"/>
            <a:ext cx="360360" cy="597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1989000"/>
            <a:ext cx="47530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ц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2708280"/>
          <a:ext cx="8210520" cy="2563920"/>
        </p:xfrm>
        <a:graphic>
          <a:graphicData uri="http://schemas.openxmlformats.org/drawingml/2006/table">
            <a:tbl>
              <a:tblPr/>
              <a:tblGrid>
                <a:gridCol w="3003840"/>
                <a:gridCol w="1530000"/>
                <a:gridCol w="1225800"/>
                <a:gridCol w="1225440"/>
                <a:gridCol w="12254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пу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8"/>
          <p:cNvSpPr/>
          <p:nvPr/>
        </p:nvSpPr>
        <p:spPr>
          <a:xfrm>
            <a:off x="539640" y="616284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аблице фиксируются качественные свойства (наличие/отсутствие связи между объект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284720" y="573408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5219640" y="191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3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4"/>
          <p:cNvSpPr/>
          <p:nvPr/>
        </p:nvSpPr>
        <p:spPr>
          <a:xfrm>
            <a:off x="7380360" y="227664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5"/>
          <p:cNvSpPr/>
          <p:nvPr/>
        </p:nvSpPr>
        <p:spPr>
          <a:xfrm flipH="1">
            <a:off x="6227640" y="2274840"/>
            <a:ext cx="64800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56"/>
          <p:cNvSpPr/>
          <p:nvPr/>
        </p:nvSpPr>
        <p:spPr>
          <a:xfrm flipV="1" rot="16200000">
            <a:off x="6012720" y="3069360"/>
            <a:ext cx="287280" cy="489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0960 h 4896000"/>
              <a:gd name="textAreaBottom" fmla="*/ 477504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4"/>
                  <a:pt x="10800" y="1708"/>
                </a:cubicBezTo>
                <a:lnTo>
                  <a:pt x="10800" y="9092"/>
                </a:lnTo>
                <a:cubicBezTo>
                  <a:pt x="10800" y="9946"/>
                  <a:pt x="5400" y="10800"/>
                  <a:pt x="0" y="10800"/>
                </a:cubicBezTo>
                <a:cubicBezTo>
                  <a:pt x="5400" y="10800"/>
                  <a:pt x="10800" y="11654"/>
                  <a:pt x="10800" y="12508"/>
                </a:cubicBezTo>
                <a:lnTo>
                  <a:pt x="10800" y="19892"/>
                </a:lnTo>
                <a:cubicBezTo>
                  <a:pt x="10800" y="2074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06"/>
          <p:cNvGrpSpPr/>
          <p:nvPr/>
        </p:nvGrpSpPr>
        <p:grpSpPr>
          <a:xfrm>
            <a:off x="7113600" y="4857840"/>
            <a:ext cx="2030400" cy="1652400"/>
            <a:chOff x="7113600" y="4857840"/>
            <a:chExt cx="2030400" cy="1652400"/>
          </a:xfrm>
        </p:grpSpPr>
        <p:grpSp>
          <p:nvGrpSpPr>
            <p:cNvPr id="84" name="Group 238"/>
            <p:cNvGrpSpPr/>
            <p:nvPr/>
          </p:nvGrpSpPr>
          <p:grpSpPr>
            <a:xfrm>
              <a:off x="7786800" y="4857840"/>
              <a:ext cx="1357200" cy="1463400"/>
              <a:chOff x="7786800" y="4857840"/>
              <a:chExt cx="1357200" cy="1463400"/>
            </a:xfrm>
          </p:grpSpPr>
          <p:sp>
            <p:nvSpPr>
              <p:cNvPr id="85" name="AutoShape 237"/>
              <p:cNvSpPr/>
              <p:nvPr/>
            </p:nvSpPr>
            <p:spPr>
              <a:xfrm flipH="1">
                <a:off x="7786800" y="4857840"/>
                <a:ext cx="135720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2"/>
              <p:cNvSpPr/>
              <p:nvPr/>
            </p:nvSpPr>
            <p:spPr>
              <a:xfrm flipH="1">
                <a:off x="7915680" y="585936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3"/>
              <p:cNvSpPr/>
              <p:nvPr/>
            </p:nvSpPr>
            <p:spPr>
              <a:xfrm flipH="1">
                <a:off x="8011800" y="56372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44"/>
              <p:cNvSpPr/>
              <p:nvPr/>
            </p:nvSpPr>
            <p:spPr>
              <a:xfrm flipH="1">
                <a:off x="8178120" y="538272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5"/>
              <p:cNvSpPr/>
              <p:nvPr/>
            </p:nvSpPr>
            <p:spPr>
              <a:xfrm flipH="1">
                <a:off x="8344440" y="4867560"/>
                <a:ext cx="28980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46"/>
              <p:cNvSpPr/>
              <p:nvPr/>
            </p:nvSpPr>
            <p:spPr>
              <a:xfrm flipH="1">
                <a:off x="8235720" y="5085000"/>
                <a:ext cx="405720" cy="3427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47"/>
              <p:cNvSpPr/>
              <p:nvPr/>
            </p:nvSpPr>
            <p:spPr>
              <a:xfrm flipH="1">
                <a:off x="8258400" y="59378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8"/>
              <p:cNvSpPr/>
              <p:nvPr/>
            </p:nvSpPr>
            <p:spPr>
              <a:xfrm flipH="1">
                <a:off x="8611560" y="566244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49"/>
              <p:cNvSpPr/>
              <p:nvPr/>
            </p:nvSpPr>
            <p:spPr>
              <a:xfrm flipH="1">
                <a:off x="8102520" y="563724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50"/>
              <p:cNvSpPr/>
              <p:nvPr/>
            </p:nvSpPr>
            <p:spPr>
              <a:xfrm flipH="1">
                <a:off x="8097120" y="572580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1"/>
              <p:cNvSpPr/>
              <p:nvPr/>
            </p:nvSpPr>
            <p:spPr>
              <a:xfrm flipH="1">
                <a:off x="8470800" y="550620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52"/>
              <p:cNvSpPr/>
              <p:nvPr/>
            </p:nvSpPr>
            <p:spPr>
              <a:xfrm flipH="1">
                <a:off x="8574120" y="59576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3"/>
              <p:cNvSpPr/>
              <p:nvPr/>
            </p:nvSpPr>
            <p:spPr>
              <a:xfrm flipH="1">
                <a:off x="8470800" y="510480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54"/>
              <p:cNvSpPr/>
              <p:nvPr/>
            </p:nvSpPr>
            <p:spPr>
              <a:xfrm flipH="1">
                <a:off x="8467920" y="489816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55"/>
              <p:cNvSpPr/>
              <p:nvPr/>
            </p:nvSpPr>
            <p:spPr>
              <a:xfrm flipH="1">
                <a:off x="8341560" y="6043680"/>
                <a:ext cx="224280" cy="18648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6"/>
              <p:cNvSpPr/>
              <p:nvPr/>
            </p:nvSpPr>
            <p:spPr>
              <a:xfrm flipH="1">
                <a:off x="8331480" y="487548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57"/>
              <p:cNvSpPr/>
              <p:nvPr/>
            </p:nvSpPr>
            <p:spPr>
              <a:xfrm flipH="1">
                <a:off x="8473320" y="48628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8"/>
              <p:cNvSpPr/>
              <p:nvPr/>
            </p:nvSpPr>
            <p:spPr>
              <a:xfrm flipH="1">
                <a:off x="8455680" y="489528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9"/>
              <p:cNvSpPr/>
              <p:nvPr/>
            </p:nvSpPr>
            <p:spPr>
              <a:xfrm flipH="1">
                <a:off x="8551080" y="499896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60"/>
              <p:cNvSpPr/>
              <p:nvPr/>
            </p:nvSpPr>
            <p:spPr>
              <a:xfrm flipH="1">
                <a:off x="8249040" y="5094720"/>
                <a:ext cx="183600" cy="30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61"/>
              <p:cNvSpPr/>
              <p:nvPr/>
            </p:nvSpPr>
            <p:spPr>
              <a:xfrm flipH="1">
                <a:off x="8389800" y="5064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2"/>
              <p:cNvSpPr/>
              <p:nvPr/>
            </p:nvSpPr>
            <p:spPr>
              <a:xfrm flipH="1">
                <a:off x="8228520" y="538488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63"/>
              <p:cNvSpPr/>
              <p:nvPr/>
            </p:nvSpPr>
            <p:spPr>
              <a:xfrm flipH="1">
                <a:off x="8172720" y="543060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5"/>
              <p:cNvSpPr/>
              <p:nvPr/>
            </p:nvSpPr>
            <p:spPr>
              <a:xfrm flipH="1">
                <a:off x="8003520" y="564264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6"/>
              <p:cNvSpPr/>
              <p:nvPr/>
            </p:nvSpPr>
            <p:spPr>
              <a:xfrm flipH="1">
                <a:off x="8662680" y="543816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7"/>
              <p:cNvSpPr/>
              <p:nvPr/>
            </p:nvSpPr>
            <p:spPr>
              <a:xfrm flipH="1">
                <a:off x="8276040" y="56800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68"/>
              <p:cNvSpPr/>
              <p:nvPr/>
            </p:nvSpPr>
            <p:spPr>
              <a:xfrm flipH="1">
                <a:off x="7907760" y="592776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70"/>
              <p:cNvSpPr/>
              <p:nvPr/>
            </p:nvSpPr>
            <p:spPr>
              <a:xfrm flipH="1">
                <a:off x="8628840" y="567540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71"/>
              <p:cNvSpPr/>
              <p:nvPr/>
            </p:nvSpPr>
            <p:spPr>
              <a:xfrm flipH="1">
                <a:off x="8086680" y="5895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72"/>
              <p:cNvSpPr/>
              <p:nvPr/>
            </p:nvSpPr>
            <p:spPr>
              <a:xfrm flipH="1">
                <a:off x="7918200" y="606132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73"/>
              <p:cNvSpPr/>
              <p:nvPr/>
            </p:nvSpPr>
            <p:spPr>
              <a:xfrm flipH="1">
                <a:off x="8276040" y="5985360"/>
                <a:ext cx="579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4"/>
              <p:cNvSpPr/>
              <p:nvPr/>
            </p:nvSpPr>
            <p:spPr>
              <a:xfrm flipH="1">
                <a:off x="8394840" y="594792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75"/>
              <p:cNvSpPr/>
              <p:nvPr/>
            </p:nvSpPr>
            <p:spPr>
              <a:xfrm flipH="1">
                <a:off x="8599680" y="592776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05"/>
            <p:cNvGrpSpPr/>
            <p:nvPr/>
          </p:nvGrpSpPr>
          <p:grpSpPr>
            <a:xfrm>
              <a:off x="7113600" y="4882320"/>
              <a:ext cx="1819080" cy="1627920"/>
              <a:chOff x="7113600" y="4882320"/>
              <a:chExt cx="1819080" cy="1627920"/>
            </a:xfrm>
          </p:grpSpPr>
          <p:grpSp>
            <p:nvGrpSpPr>
              <p:cNvPr id="119" name="Group 238"/>
              <p:cNvGrpSpPr/>
              <p:nvPr/>
            </p:nvGrpSpPr>
            <p:grpSpPr>
              <a:xfrm>
                <a:off x="7473960" y="4882320"/>
                <a:ext cx="1458720" cy="1557000"/>
                <a:chOff x="7473960" y="4882320"/>
                <a:chExt cx="1458720" cy="1557000"/>
              </a:xfrm>
            </p:grpSpPr>
            <p:sp>
              <p:nvSpPr>
                <p:cNvPr id="120" name="AutoShape 237"/>
                <p:cNvSpPr/>
                <p:nvPr/>
              </p:nvSpPr>
              <p:spPr>
                <a:xfrm rot="21352800">
                  <a:off x="7524720" y="492912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42"/>
                <p:cNvSpPr/>
                <p:nvPr/>
              </p:nvSpPr>
              <p:spPr>
                <a:xfrm rot="21352800">
                  <a:off x="7799760" y="592524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43"/>
                <p:cNvSpPr/>
                <p:nvPr/>
              </p:nvSpPr>
              <p:spPr>
                <a:xfrm rot="21352800">
                  <a:off x="7873560" y="570384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44"/>
                <p:cNvSpPr/>
                <p:nvPr/>
              </p:nvSpPr>
              <p:spPr>
                <a:xfrm rot="21352800">
                  <a:off x="7935480" y="545292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5"/>
                <p:cNvSpPr/>
                <p:nvPr/>
              </p:nvSpPr>
              <p:spPr>
                <a:xfrm rot="21352800">
                  <a:off x="7989840" y="494208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6"/>
                <p:cNvSpPr/>
                <p:nvPr/>
              </p:nvSpPr>
              <p:spPr>
                <a:xfrm rot="21352800">
                  <a:off x="8002800" y="515520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47"/>
                <p:cNvSpPr/>
                <p:nvPr/>
              </p:nvSpPr>
              <p:spPr>
                <a:xfrm rot="21352800">
                  <a:off x="8264160" y="599940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8"/>
                <p:cNvSpPr/>
                <p:nvPr/>
              </p:nvSpPr>
              <p:spPr>
                <a:xfrm rot="21352800">
                  <a:off x="7926480" y="574848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9"/>
                <p:cNvSpPr/>
                <p:nvPr/>
              </p:nvSpPr>
              <p:spPr>
                <a:xfrm rot="21352800">
                  <a:off x="8424720" y="568728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50"/>
                <p:cNvSpPr/>
                <p:nvPr/>
              </p:nvSpPr>
              <p:spPr>
                <a:xfrm rot="21352800">
                  <a:off x="7914960" y="579384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51"/>
                <p:cNvSpPr/>
                <p:nvPr/>
              </p:nvSpPr>
              <p:spPr>
                <a:xfrm rot="21352800">
                  <a:off x="7961760" y="558612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52"/>
                <p:cNvSpPr/>
                <p:nvPr/>
              </p:nvSpPr>
              <p:spPr>
                <a:xfrm rot="21352800">
                  <a:off x="7835760" y="604584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53"/>
                <p:cNvSpPr/>
                <p:nvPr/>
              </p:nvSpPr>
              <p:spPr>
                <a:xfrm rot="21352800">
                  <a:off x="8006400" y="518328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254"/>
                <p:cNvSpPr/>
                <p:nvPr/>
              </p:nvSpPr>
              <p:spPr>
                <a:xfrm rot="21352800">
                  <a:off x="8033760" y="497556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55"/>
                <p:cNvSpPr/>
                <p:nvPr/>
              </p:nvSpPr>
              <p:spPr>
                <a:xfrm rot="21352800">
                  <a:off x="8141400" y="611244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56"/>
                <p:cNvSpPr/>
                <p:nvPr/>
              </p:nvSpPr>
              <p:spPr>
                <a:xfrm rot="21352800">
                  <a:off x="8119080" y="494460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57"/>
                <p:cNvSpPr/>
                <p:nvPr/>
              </p:nvSpPr>
              <p:spPr>
                <a:xfrm rot="21352800">
                  <a:off x="7973280" y="494244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58"/>
                <p:cNvSpPr/>
                <p:nvPr/>
              </p:nvSpPr>
              <p:spPr>
                <a:xfrm rot="21352800">
                  <a:off x="8089200" y="497016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59"/>
                <p:cNvSpPr/>
                <p:nvPr/>
              </p:nvSpPr>
              <p:spPr>
                <a:xfrm rot="21352800">
                  <a:off x="8032680" y="507924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60"/>
                <p:cNvSpPr/>
                <p:nvPr/>
              </p:nvSpPr>
              <p:spPr>
                <a:xfrm rot="21352800">
                  <a:off x="8210880" y="515772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61"/>
                <p:cNvSpPr/>
                <p:nvPr/>
              </p:nvSpPr>
              <p:spPr>
                <a:xfrm rot="21352800">
                  <a:off x="7948440" y="514224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62"/>
                <p:cNvSpPr/>
                <p:nvPr/>
              </p:nvSpPr>
              <p:spPr>
                <a:xfrm rot="21352800">
                  <a:off x="7932240" y="545724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63"/>
                <p:cNvSpPr/>
                <p:nvPr/>
              </p:nvSpPr>
              <p:spPr>
                <a:xfrm rot="21352800">
                  <a:off x="8404920" y="548388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65"/>
                <p:cNvSpPr/>
                <p:nvPr/>
              </p:nvSpPr>
              <p:spPr>
                <a:xfrm rot="21352800">
                  <a:off x="8447040" y="568836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6"/>
                <p:cNvSpPr/>
                <p:nvPr/>
              </p:nvSpPr>
              <p:spPr>
                <a:xfrm rot="21352800">
                  <a:off x="7927200" y="552636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67"/>
                <p:cNvSpPr/>
                <p:nvPr/>
              </p:nvSpPr>
              <p:spPr>
                <a:xfrm rot="21352800">
                  <a:off x="8037000" y="575028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68"/>
                <p:cNvSpPr/>
                <p:nvPr/>
              </p:nvSpPr>
              <p:spPr>
                <a:xfrm rot="21352800">
                  <a:off x="8613360" y="596412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70"/>
                <p:cNvSpPr/>
                <p:nvPr/>
              </p:nvSpPr>
              <p:spPr>
                <a:xfrm rot="21352800">
                  <a:off x="7862040" y="576468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71"/>
                <p:cNvSpPr/>
                <p:nvPr/>
              </p:nvSpPr>
              <p:spPr>
                <a:xfrm rot="21352800">
                  <a:off x="7892640" y="596376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72"/>
                <p:cNvSpPr/>
                <p:nvPr/>
              </p:nvSpPr>
              <p:spPr>
                <a:xfrm rot="21352800">
                  <a:off x="8178120" y="611388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273"/>
                <p:cNvSpPr/>
                <p:nvPr/>
              </p:nvSpPr>
              <p:spPr>
                <a:xfrm rot="21352800">
                  <a:off x="8366400" y="604368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74"/>
                <p:cNvSpPr/>
                <p:nvPr/>
              </p:nvSpPr>
              <p:spPr>
                <a:xfrm rot="21352800">
                  <a:off x="8055000" y="602172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75"/>
                <p:cNvSpPr/>
                <p:nvPr/>
              </p:nvSpPr>
              <p:spPr>
                <a:xfrm rot="21352800">
                  <a:off x="7796520" y="601848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38"/>
              <p:cNvGrpSpPr/>
              <p:nvPr/>
            </p:nvGrpSpPr>
            <p:grpSpPr>
              <a:xfrm>
                <a:off x="7113600" y="4953240"/>
                <a:ext cx="1458720" cy="1557000"/>
                <a:chOff x="7113600" y="4953240"/>
                <a:chExt cx="1458720" cy="1557000"/>
              </a:xfrm>
            </p:grpSpPr>
            <p:sp>
              <p:nvSpPr>
                <p:cNvPr id="154" name="AutoShape 237"/>
                <p:cNvSpPr/>
                <p:nvPr/>
              </p:nvSpPr>
              <p:spPr>
                <a:xfrm rot="21352800">
                  <a:off x="7164360" y="500004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42"/>
                <p:cNvSpPr/>
                <p:nvPr/>
              </p:nvSpPr>
              <p:spPr>
                <a:xfrm rot="21352800">
                  <a:off x="7439400" y="599616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43"/>
                <p:cNvSpPr/>
                <p:nvPr/>
              </p:nvSpPr>
              <p:spPr>
                <a:xfrm rot="21352800">
                  <a:off x="7513200" y="577476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244"/>
                <p:cNvSpPr/>
                <p:nvPr/>
              </p:nvSpPr>
              <p:spPr>
                <a:xfrm rot="21352800">
                  <a:off x="7575120" y="552384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45"/>
                <p:cNvSpPr/>
                <p:nvPr/>
              </p:nvSpPr>
              <p:spPr>
                <a:xfrm rot="21352800">
                  <a:off x="7629480" y="501300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46"/>
                <p:cNvSpPr/>
                <p:nvPr/>
              </p:nvSpPr>
              <p:spPr>
                <a:xfrm rot="21352800">
                  <a:off x="7642440" y="522612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47"/>
                <p:cNvSpPr/>
                <p:nvPr/>
              </p:nvSpPr>
              <p:spPr>
                <a:xfrm rot="21352800">
                  <a:off x="7903800" y="607032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48"/>
                <p:cNvSpPr/>
                <p:nvPr/>
              </p:nvSpPr>
              <p:spPr>
                <a:xfrm rot="21352800">
                  <a:off x="7566120" y="581940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49"/>
                <p:cNvSpPr/>
                <p:nvPr/>
              </p:nvSpPr>
              <p:spPr>
                <a:xfrm rot="21352800">
                  <a:off x="8064360" y="575820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50"/>
                <p:cNvSpPr/>
                <p:nvPr/>
              </p:nvSpPr>
              <p:spPr>
                <a:xfrm rot="21352800">
                  <a:off x="7554600" y="586476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51"/>
                <p:cNvSpPr/>
                <p:nvPr/>
              </p:nvSpPr>
              <p:spPr>
                <a:xfrm rot="21352800">
                  <a:off x="7601400" y="565704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52"/>
                <p:cNvSpPr/>
                <p:nvPr/>
              </p:nvSpPr>
              <p:spPr>
                <a:xfrm rot="21352800">
                  <a:off x="7475400" y="611676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253"/>
                <p:cNvSpPr/>
                <p:nvPr/>
              </p:nvSpPr>
              <p:spPr>
                <a:xfrm rot="21352800">
                  <a:off x="7646040" y="525420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54"/>
                <p:cNvSpPr/>
                <p:nvPr/>
              </p:nvSpPr>
              <p:spPr>
                <a:xfrm rot="21352800">
                  <a:off x="7673400" y="504648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55"/>
                <p:cNvSpPr/>
                <p:nvPr/>
              </p:nvSpPr>
              <p:spPr>
                <a:xfrm rot="21352800">
                  <a:off x="7781040" y="618336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56"/>
                <p:cNvSpPr/>
                <p:nvPr/>
              </p:nvSpPr>
              <p:spPr>
                <a:xfrm rot="21352800">
                  <a:off x="7758720" y="501552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57"/>
                <p:cNvSpPr/>
                <p:nvPr/>
              </p:nvSpPr>
              <p:spPr>
                <a:xfrm rot="21352800">
                  <a:off x="7612920" y="501336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58"/>
                <p:cNvSpPr/>
                <p:nvPr/>
              </p:nvSpPr>
              <p:spPr>
                <a:xfrm rot="21352800">
                  <a:off x="7728840" y="504108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59"/>
                <p:cNvSpPr/>
                <p:nvPr/>
              </p:nvSpPr>
              <p:spPr>
                <a:xfrm rot="21352800">
                  <a:off x="7672320" y="515016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60"/>
                <p:cNvSpPr/>
                <p:nvPr/>
              </p:nvSpPr>
              <p:spPr>
                <a:xfrm rot="21352800">
                  <a:off x="7850520" y="522864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61"/>
                <p:cNvSpPr/>
                <p:nvPr/>
              </p:nvSpPr>
              <p:spPr>
                <a:xfrm rot="21352800">
                  <a:off x="7588080" y="521316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62"/>
                <p:cNvSpPr/>
                <p:nvPr/>
              </p:nvSpPr>
              <p:spPr>
                <a:xfrm rot="21352800">
                  <a:off x="7571880" y="552816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3"/>
                <p:cNvSpPr/>
                <p:nvPr/>
              </p:nvSpPr>
              <p:spPr>
                <a:xfrm rot="21352800">
                  <a:off x="8044560" y="555480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65"/>
                <p:cNvSpPr/>
                <p:nvPr/>
              </p:nvSpPr>
              <p:spPr>
                <a:xfrm rot="21352800">
                  <a:off x="8086680" y="575928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66"/>
                <p:cNvSpPr/>
                <p:nvPr/>
              </p:nvSpPr>
              <p:spPr>
                <a:xfrm rot="21352800">
                  <a:off x="7566840" y="559728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67"/>
                <p:cNvSpPr/>
                <p:nvPr/>
              </p:nvSpPr>
              <p:spPr>
                <a:xfrm rot="21352800">
                  <a:off x="7676640" y="582120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68"/>
                <p:cNvSpPr/>
                <p:nvPr/>
              </p:nvSpPr>
              <p:spPr>
                <a:xfrm rot="21352800">
                  <a:off x="8253000" y="603504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70"/>
                <p:cNvSpPr/>
                <p:nvPr/>
              </p:nvSpPr>
              <p:spPr>
                <a:xfrm rot="21352800">
                  <a:off x="7501680" y="583560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71"/>
                <p:cNvSpPr/>
                <p:nvPr/>
              </p:nvSpPr>
              <p:spPr>
                <a:xfrm rot="21352800">
                  <a:off x="7532280" y="603468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272"/>
                <p:cNvSpPr/>
                <p:nvPr/>
              </p:nvSpPr>
              <p:spPr>
                <a:xfrm rot="21352800">
                  <a:off x="7817760" y="618480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73"/>
                <p:cNvSpPr/>
                <p:nvPr/>
              </p:nvSpPr>
              <p:spPr>
                <a:xfrm rot="21352800">
                  <a:off x="8006040" y="611460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74"/>
                <p:cNvSpPr/>
                <p:nvPr/>
              </p:nvSpPr>
              <p:spPr>
                <a:xfrm rot="21352800">
                  <a:off x="7694640" y="609264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75"/>
                <p:cNvSpPr/>
                <p:nvPr/>
              </p:nvSpPr>
              <p:spPr>
                <a:xfrm rot="21352800">
                  <a:off x="7436160" y="608940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404"/>
          <p:cNvGrpSpPr/>
          <p:nvPr/>
        </p:nvGrpSpPr>
        <p:grpSpPr>
          <a:xfrm>
            <a:off x="198360" y="4750560"/>
            <a:ext cx="1999800" cy="1606680"/>
            <a:chOff x="198360" y="4750560"/>
            <a:chExt cx="1999800" cy="1606680"/>
          </a:xfrm>
        </p:grpSpPr>
        <p:grpSp>
          <p:nvGrpSpPr>
            <p:cNvPr id="188" name="Group 238"/>
            <p:cNvGrpSpPr/>
            <p:nvPr/>
          </p:nvGrpSpPr>
          <p:grpSpPr>
            <a:xfrm>
              <a:off x="198360" y="4750560"/>
              <a:ext cx="1461960" cy="1606680"/>
              <a:chOff x="198360" y="4750560"/>
              <a:chExt cx="1461960" cy="1606680"/>
            </a:xfrm>
          </p:grpSpPr>
          <p:sp>
            <p:nvSpPr>
              <p:cNvPr id="189" name="AutoShape 237"/>
              <p:cNvSpPr/>
              <p:nvPr/>
            </p:nvSpPr>
            <p:spPr>
              <a:xfrm rot="21352800">
                <a:off x="250920" y="4797360"/>
                <a:ext cx="1356840" cy="15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42"/>
              <p:cNvSpPr/>
              <p:nvPr/>
            </p:nvSpPr>
            <p:spPr>
              <a:xfrm rot="21352800">
                <a:off x="527040" y="5827320"/>
                <a:ext cx="986040" cy="404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3"/>
              <p:cNvSpPr/>
              <p:nvPr/>
            </p:nvSpPr>
            <p:spPr>
              <a:xfrm rot="21352800">
                <a:off x="600120" y="5598720"/>
                <a:ext cx="799200" cy="3625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4"/>
              <p:cNvSpPr/>
              <p:nvPr/>
            </p:nvSpPr>
            <p:spPr>
              <a:xfrm rot="21352800">
                <a:off x="661680" y="5338800"/>
                <a:ext cx="551880" cy="35172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5"/>
              <p:cNvSpPr/>
              <p:nvPr/>
            </p:nvSpPr>
            <p:spPr>
              <a:xfrm rot="21352800">
                <a:off x="714240" y="4810680"/>
                <a:ext cx="289800" cy="2188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6"/>
              <p:cNvSpPr/>
              <p:nvPr/>
            </p:nvSpPr>
            <p:spPr>
              <a:xfrm rot="21352800">
                <a:off x="727560" y="5031000"/>
                <a:ext cx="405720" cy="35460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7"/>
              <p:cNvSpPr/>
              <p:nvPr/>
            </p:nvSpPr>
            <p:spPr>
              <a:xfrm rot="21352800">
                <a:off x="991800" y="5904360"/>
                <a:ext cx="178920" cy="2527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48"/>
              <p:cNvSpPr/>
              <p:nvPr/>
            </p:nvSpPr>
            <p:spPr>
              <a:xfrm rot="21352800">
                <a:off x="652680" y="5644080"/>
                <a:ext cx="138600" cy="705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9"/>
              <p:cNvSpPr/>
              <p:nvPr/>
            </p:nvSpPr>
            <p:spPr>
              <a:xfrm rot="21352800">
                <a:off x="1150920" y="5582160"/>
                <a:ext cx="146160" cy="572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50"/>
              <p:cNvSpPr/>
              <p:nvPr/>
            </p:nvSpPr>
            <p:spPr>
              <a:xfrm rot="21352800">
                <a:off x="641880" y="5691600"/>
                <a:ext cx="670680" cy="145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1"/>
              <p:cNvSpPr/>
              <p:nvPr/>
            </p:nvSpPr>
            <p:spPr>
              <a:xfrm rot="21352800">
                <a:off x="687960" y="5476320"/>
                <a:ext cx="236880" cy="185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2"/>
              <p:cNvSpPr/>
              <p:nvPr/>
            </p:nvSpPr>
            <p:spPr>
              <a:xfrm rot="21352800">
                <a:off x="563040" y="5951520"/>
                <a:ext cx="292320" cy="18756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3"/>
              <p:cNvSpPr/>
              <p:nvPr/>
            </p:nvSpPr>
            <p:spPr>
              <a:xfrm rot="21352800">
                <a:off x="731520" y="5059800"/>
                <a:ext cx="166320" cy="268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4"/>
              <p:cNvSpPr/>
              <p:nvPr/>
            </p:nvSpPr>
            <p:spPr>
              <a:xfrm rot="21352800">
                <a:off x="758160" y="4844880"/>
                <a:ext cx="120960" cy="1069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55"/>
              <p:cNvSpPr/>
              <p:nvPr/>
            </p:nvSpPr>
            <p:spPr>
              <a:xfrm rot="21352800">
                <a:off x="868680" y="6021000"/>
                <a:ext cx="224280" cy="19296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6"/>
              <p:cNvSpPr/>
              <p:nvPr/>
            </p:nvSpPr>
            <p:spPr>
              <a:xfrm rot="21352800">
                <a:off x="843120" y="4813200"/>
                <a:ext cx="173520" cy="2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7"/>
              <p:cNvSpPr/>
              <p:nvPr/>
            </p:nvSpPr>
            <p:spPr>
              <a:xfrm rot="21352800">
                <a:off x="698040" y="4810680"/>
                <a:ext cx="176400" cy="19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58"/>
              <p:cNvSpPr/>
              <p:nvPr/>
            </p:nvSpPr>
            <p:spPr>
              <a:xfrm rot="21352800">
                <a:off x="813240" y="4839840"/>
                <a:ext cx="777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9"/>
              <p:cNvSpPr/>
              <p:nvPr/>
            </p:nvSpPr>
            <p:spPr>
              <a:xfrm rot="21352800">
                <a:off x="757440" y="4952160"/>
                <a:ext cx="42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0"/>
              <p:cNvSpPr/>
              <p:nvPr/>
            </p:nvSpPr>
            <p:spPr>
              <a:xfrm rot="21352800">
                <a:off x="936360" y="5034240"/>
                <a:ext cx="183600" cy="31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61"/>
              <p:cNvSpPr/>
              <p:nvPr/>
            </p:nvSpPr>
            <p:spPr>
              <a:xfrm rot="21352800">
                <a:off x="673560" y="5017680"/>
                <a:ext cx="30492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2"/>
              <p:cNvSpPr/>
              <p:nvPr/>
            </p:nvSpPr>
            <p:spPr>
              <a:xfrm rot="21352800">
                <a:off x="657720" y="5343480"/>
                <a:ext cx="49680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63"/>
              <p:cNvSpPr/>
              <p:nvPr/>
            </p:nvSpPr>
            <p:spPr>
              <a:xfrm rot="21352800">
                <a:off x="1131120" y="5371560"/>
                <a:ext cx="88200" cy="27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5"/>
              <p:cNvSpPr/>
              <p:nvPr/>
            </p:nvSpPr>
            <p:spPr>
              <a:xfrm rot="21352800">
                <a:off x="1173600" y="5583240"/>
                <a:ext cx="232200" cy="33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6"/>
              <p:cNvSpPr/>
              <p:nvPr/>
            </p:nvSpPr>
            <p:spPr>
              <a:xfrm rot="21352800">
                <a:off x="653400" y="5414400"/>
                <a:ext cx="77760" cy="26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67"/>
              <p:cNvSpPr/>
              <p:nvPr/>
            </p:nvSpPr>
            <p:spPr>
              <a:xfrm rot="21352800">
                <a:off x="763920" y="5646600"/>
                <a:ext cx="3628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8"/>
              <p:cNvSpPr/>
              <p:nvPr/>
            </p:nvSpPr>
            <p:spPr>
              <a:xfrm rot="21352800">
                <a:off x="1339920" y="5868720"/>
                <a:ext cx="17388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0"/>
              <p:cNvSpPr/>
              <p:nvPr/>
            </p:nvSpPr>
            <p:spPr>
              <a:xfrm rot="21352800">
                <a:off x="588240" y="5660640"/>
                <a:ext cx="191880" cy="21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1"/>
              <p:cNvSpPr/>
              <p:nvPr/>
            </p:nvSpPr>
            <p:spPr>
              <a:xfrm rot="21352800">
                <a:off x="619920" y="5866920"/>
                <a:ext cx="71352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72"/>
              <p:cNvSpPr/>
              <p:nvPr/>
            </p:nvSpPr>
            <p:spPr>
              <a:xfrm rot="21352800">
                <a:off x="905400" y="6022800"/>
                <a:ext cx="61272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3"/>
              <p:cNvSpPr/>
              <p:nvPr/>
            </p:nvSpPr>
            <p:spPr>
              <a:xfrm rot="21352800">
                <a:off x="1093680" y="5950440"/>
                <a:ext cx="5796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74"/>
              <p:cNvSpPr/>
              <p:nvPr/>
            </p:nvSpPr>
            <p:spPr>
              <a:xfrm rot="21352800">
                <a:off x="782280" y="5926680"/>
                <a:ext cx="254520" cy="29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5"/>
              <p:cNvSpPr/>
              <p:nvPr/>
            </p:nvSpPr>
            <p:spPr>
              <a:xfrm rot="21352800">
                <a:off x="523800" y="5923080"/>
                <a:ext cx="307440" cy="28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38"/>
            <p:cNvGrpSpPr/>
            <p:nvPr/>
          </p:nvGrpSpPr>
          <p:grpSpPr>
            <a:xfrm>
              <a:off x="739440" y="4750560"/>
              <a:ext cx="1458720" cy="1557360"/>
              <a:chOff x="739440" y="4750560"/>
              <a:chExt cx="1458720" cy="1557360"/>
            </a:xfrm>
          </p:grpSpPr>
          <p:sp>
            <p:nvSpPr>
              <p:cNvPr id="223" name="AutoShape 237"/>
              <p:cNvSpPr/>
              <p:nvPr/>
            </p:nvSpPr>
            <p:spPr>
              <a:xfrm rot="21352800">
                <a:off x="790200" y="4797360"/>
                <a:ext cx="1357200" cy="14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2"/>
              <p:cNvSpPr/>
              <p:nvPr/>
            </p:nvSpPr>
            <p:spPr>
              <a:xfrm rot="21352800">
                <a:off x="1065240" y="579384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43"/>
              <p:cNvSpPr/>
              <p:nvPr/>
            </p:nvSpPr>
            <p:spPr>
              <a:xfrm rot="21352800">
                <a:off x="1139040" y="55724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44"/>
              <p:cNvSpPr/>
              <p:nvPr/>
            </p:nvSpPr>
            <p:spPr>
              <a:xfrm rot="21352800">
                <a:off x="1200960" y="532116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45"/>
              <p:cNvSpPr/>
              <p:nvPr/>
            </p:nvSpPr>
            <p:spPr>
              <a:xfrm rot="21352800">
                <a:off x="1255320" y="4810320"/>
                <a:ext cx="289800" cy="2120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46"/>
              <p:cNvSpPr/>
              <p:nvPr/>
            </p:nvSpPr>
            <p:spPr>
              <a:xfrm rot="21352800">
                <a:off x="1268280" y="5023440"/>
                <a:ext cx="405720" cy="34308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7"/>
              <p:cNvSpPr/>
              <p:nvPr/>
            </p:nvSpPr>
            <p:spPr>
              <a:xfrm rot="21352800">
                <a:off x="1529640" y="58676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48"/>
              <p:cNvSpPr/>
              <p:nvPr/>
            </p:nvSpPr>
            <p:spPr>
              <a:xfrm rot="21352800">
                <a:off x="1191960" y="561708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9"/>
              <p:cNvSpPr/>
              <p:nvPr/>
            </p:nvSpPr>
            <p:spPr>
              <a:xfrm rot="21352800">
                <a:off x="1690200" y="555588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0"/>
              <p:cNvSpPr/>
              <p:nvPr/>
            </p:nvSpPr>
            <p:spPr>
              <a:xfrm rot="21352800">
                <a:off x="1180440" y="566208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1"/>
              <p:cNvSpPr/>
              <p:nvPr/>
            </p:nvSpPr>
            <p:spPr>
              <a:xfrm rot="21352800">
                <a:off x="1227240" y="545472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52"/>
              <p:cNvSpPr/>
              <p:nvPr/>
            </p:nvSpPr>
            <p:spPr>
              <a:xfrm rot="21352800">
                <a:off x="1101240" y="59144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53"/>
              <p:cNvSpPr/>
              <p:nvPr/>
            </p:nvSpPr>
            <p:spPr>
              <a:xfrm rot="21352800">
                <a:off x="1271520" y="505152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4"/>
              <p:cNvSpPr/>
              <p:nvPr/>
            </p:nvSpPr>
            <p:spPr>
              <a:xfrm rot="21352800">
                <a:off x="1299240" y="484380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55"/>
              <p:cNvSpPr/>
              <p:nvPr/>
            </p:nvSpPr>
            <p:spPr>
              <a:xfrm rot="21352800">
                <a:off x="1406880" y="5981040"/>
                <a:ext cx="224280" cy="186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56"/>
              <p:cNvSpPr/>
              <p:nvPr/>
            </p:nvSpPr>
            <p:spPr>
              <a:xfrm rot="21352800">
                <a:off x="1384560" y="481284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57"/>
              <p:cNvSpPr/>
              <p:nvPr/>
            </p:nvSpPr>
            <p:spPr>
              <a:xfrm rot="21352800">
                <a:off x="1238760" y="48106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58"/>
              <p:cNvSpPr/>
              <p:nvPr/>
            </p:nvSpPr>
            <p:spPr>
              <a:xfrm rot="21352800">
                <a:off x="1354680" y="483840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9"/>
              <p:cNvSpPr/>
              <p:nvPr/>
            </p:nvSpPr>
            <p:spPr>
              <a:xfrm rot="21352800">
                <a:off x="1298160" y="494748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0"/>
              <p:cNvSpPr/>
              <p:nvPr/>
            </p:nvSpPr>
            <p:spPr>
              <a:xfrm rot="21352800">
                <a:off x="1476360" y="5026320"/>
                <a:ext cx="183600" cy="30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61"/>
              <p:cNvSpPr/>
              <p:nvPr/>
            </p:nvSpPr>
            <p:spPr>
              <a:xfrm rot="21352800">
                <a:off x="1213920" y="5010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62"/>
              <p:cNvSpPr/>
              <p:nvPr/>
            </p:nvSpPr>
            <p:spPr>
              <a:xfrm rot="21352800">
                <a:off x="1197720" y="532584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63"/>
              <p:cNvSpPr/>
              <p:nvPr/>
            </p:nvSpPr>
            <p:spPr>
              <a:xfrm rot="21352800">
                <a:off x="1670400" y="535212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5"/>
              <p:cNvSpPr/>
              <p:nvPr/>
            </p:nvSpPr>
            <p:spPr>
              <a:xfrm rot="21352800">
                <a:off x="1712520" y="555660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66"/>
              <p:cNvSpPr/>
              <p:nvPr/>
            </p:nvSpPr>
            <p:spPr>
              <a:xfrm rot="21352800">
                <a:off x="1192680" y="539460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67"/>
              <p:cNvSpPr/>
              <p:nvPr/>
            </p:nvSpPr>
            <p:spPr>
              <a:xfrm rot="21352800">
                <a:off x="1302480" y="56188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8"/>
              <p:cNvSpPr/>
              <p:nvPr/>
            </p:nvSpPr>
            <p:spPr>
              <a:xfrm rot="21352800">
                <a:off x="1878840" y="583272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0"/>
              <p:cNvSpPr/>
              <p:nvPr/>
            </p:nvSpPr>
            <p:spPr>
              <a:xfrm rot="21352800">
                <a:off x="1127520" y="563292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1"/>
              <p:cNvSpPr/>
              <p:nvPr/>
            </p:nvSpPr>
            <p:spPr>
              <a:xfrm rot="21352800">
                <a:off x="1158120" y="5832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72"/>
              <p:cNvSpPr/>
              <p:nvPr/>
            </p:nvSpPr>
            <p:spPr>
              <a:xfrm rot="21352800">
                <a:off x="1443600" y="598248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73"/>
              <p:cNvSpPr/>
              <p:nvPr/>
            </p:nvSpPr>
            <p:spPr>
              <a:xfrm rot="21352800">
                <a:off x="1631880" y="5912280"/>
                <a:ext cx="57960" cy="12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74"/>
              <p:cNvSpPr/>
              <p:nvPr/>
            </p:nvSpPr>
            <p:spPr>
              <a:xfrm rot="21352800">
                <a:off x="1320480" y="588996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75"/>
              <p:cNvSpPr/>
              <p:nvPr/>
            </p:nvSpPr>
            <p:spPr>
              <a:xfrm rot="21352800">
                <a:off x="1062000" y="588708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403"/>
          <p:cNvGrpSpPr/>
          <p:nvPr/>
        </p:nvGrpSpPr>
        <p:grpSpPr>
          <a:xfrm>
            <a:off x="4795560" y="5786640"/>
            <a:ext cx="738000" cy="583200"/>
            <a:chOff x="4795560" y="5786640"/>
            <a:chExt cx="738000" cy="583200"/>
          </a:xfrm>
        </p:grpSpPr>
        <p:grpSp>
          <p:nvGrpSpPr>
            <p:cNvPr id="257" name="Группа 530"/>
            <p:cNvGrpSpPr/>
            <p:nvPr/>
          </p:nvGrpSpPr>
          <p:grpSpPr>
            <a:xfrm>
              <a:off x="4795560" y="5928120"/>
              <a:ext cx="336240" cy="357480"/>
              <a:chOff x="4795560" y="5928120"/>
              <a:chExt cx="336240" cy="357480"/>
            </a:xfrm>
          </p:grpSpPr>
          <p:sp>
            <p:nvSpPr>
              <p:cNvPr id="258" name="Freeform 245"/>
              <p:cNvSpPr/>
              <p:nvPr/>
            </p:nvSpPr>
            <p:spPr>
              <a:xfrm rot="3376800">
                <a:off x="4819320" y="6000840"/>
                <a:ext cx="2887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54"/>
              <p:cNvSpPr/>
              <p:nvPr/>
            </p:nvSpPr>
            <p:spPr>
              <a:xfrm rot="3376800">
                <a:off x="4901040" y="6009840"/>
                <a:ext cx="12060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56"/>
              <p:cNvSpPr/>
              <p:nvPr/>
            </p:nvSpPr>
            <p:spPr>
              <a:xfrm rot="3376800">
                <a:off x="4894920" y="6026040"/>
                <a:ext cx="17316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58"/>
              <p:cNvSpPr/>
              <p:nvPr/>
            </p:nvSpPr>
            <p:spPr>
              <a:xfrm rot="3376800">
                <a:off x="4941360" y="6035040"/>
                <a:ext cx="7776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9"/>
              <p:cNvSpPr/>
              <p:nvPr/>
            </p:nvSpPr>
            <p:spPr>
              <a:xfrm rot="3376800">
                <a:off x="4869360" y="6048720"/>
                <a:ext cx="42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Группа 529"/>
            <p:cNvGrpSpPr/>
            <p:nvPr/>
          </p:nvGrpSpPr>
          <p:grpSpPr>
            <a:xfrm>
              <a:off x="5006160" y="5786640"/>
              <a:ext cx="527400" cy="583200"/>
              <a:chOff x="5006160" y="5786640"/>
              <a:chExt cx="527400" cy="583200"/>
            </a:xfrm>
          </p:grpSpPr>
          <p:sp>
            <p:nvSpPr>
              <p:cNvPr id="264" name="Freeform 246"/>
              <p:cNvSpPr/>
              <p:nvPr/>
            </p:nvSpPr>
            <p:spPr>
              <a:xfrm rot="3376800">
                <a:off x="5074920" y="59338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53"/>
              <p:cNvSpPr/>
              <p:nvPr/>
            </p:nvSpPr>
            <p:spPr>
              <a:xfrm rot="3376800">
                <a:off x="5148720" y="58683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60"/>
              <p:cNvSpPr/>
              <p:nvPr/>
            </p:nvSpPr>
            <p:spPr>
              <a:xfrm rot="3376800">
                <a:off x="5249520" y="60303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1"/>
              <p:cNvSpPr/>
              <p:nvPr/>
            </p:nvSpPr>
            <p:spPr>
              <a:xfrm rot="3376800">
                <a:off x="5083200" y="58356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402"/>
          <p:cNvGrpSpPr/>
          <p:nvPr/>
        </p:nvGrpSpPr>
        <p:grpSpPr>
          <a:xfrm>
            <a:off x="3690000" y="5572440"/>
            <a:ext cx="783000" cy="939960"/>
            <a:chOff x="3690000" y="5572440"/>
            <a:chExt cx="783000" cy="939960"/>
          </a:xfrm>
        </p:grpSpPr>
        <p:grpSp>
          <p:nvGrpSpPr>
            <p:cNvPr id="269" name="Группа 531"/>
            <p:cNvGrpSpPr/>
            <p:nvPr/>
          </p:nvGrpSpPr>
          <p:grpSpPr>
            <a:xfrm>
              <a:off x="3690000" y="5997600"/>
              <a:ext cx="506520" cy="514800"/>
              <a:chOff x="3690000" y="5997600"/>
              <a:chExt cx="506520" cy="514800"/>
            </a:xfrm>
          </p:grpSpPr>
          <p:sp>
            <p:nvSpPr>
              <p:cNvPr id="270" name="Freeform 244"/>
              <p:cNvSpPr/>
              <p:nvPr/>
            </p:nvSpPr>
            <p:spPr>
              <a:xfrm rot="3376800">
                <a:off x="3745440" y="6107400"/>
                <a:ext cx="422280" cy="294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8"/>
              <p:cNvSpPr/>
              <p:nvPr/>
            </p:nvSpPr>
            <p:spPr>
              <a:xfrm rot="3376800">
                <a:off x="3690720" y="6142320"/>
                <a:ext cx="105840" cy="58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51"/>
              <p:cNvSpPr/>
              <p:nvPr/>
            </p:nvSpPr>
            <p:spPr>
              <a:xfrm rot="3376800">
                <a:off x="3769920" y="6109560"/>
                <a:ext cx="181080" cy="155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62"/>
              <p:cNvSpPr/>
              <p:nvPr/>
            </p:nvSpPr>
            <p:spPr>
              <a:xfrm rot="3376800">
                <a:off x="3840480" y="6146640"/>
                <a:ext cx="37980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3"/>
              <p:cNvSpPr/>
              <p:nvPr/>
            </p:nvSpPr>
            <p:spPr>
              <a:xfrm rot="3376800">
                <a:off x="4028400" y="6294240"/>
                <a:ext cx="67320" cy="23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6"/>
              <p:cNvSpPr/>
              <p:nvPr/>
            </p:nvSpPr>
            <p:spPr>
              <a:xfrm rot="3376800">
                <a:off x="3797640" y="5991840"/>
                <a:ext cx="59760" cy="22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67"/>
              <p:cNvSpPr/>
              <p:nvPr/>
            </p:nvSpPr>
            <p:spPr>
              <a:xfrm rot="3376800">
                <a:off x="3705120" y="6294960"/>
                <a:ext cx="27756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Группа 532"/>
            <p:cNvGrpSpPr/>
            <p:nvPr/>
          </p:nvGrpSpPr>
          <p:grpSpPr>
            <a:xfrm>
              <a:off x="3945600" y="5572440"/>
              <a:ext cx="527400" cy="583200"/>
              <a:chOff x="3945600" y="5572440"/>
              <a:chExt cx="527400" cy="583200"/>
            </a:xfrm>
          </p:grpSpPr>
          <p:sp>
            <p:nvSpPr>
              <p:cNvPr id="278" name="Freeform 246"/>
              <p:cNvSpPr/>
              <p:nvPr/>
            </p:nvSpPr>
            <p:spPr>
              <a:xfrm rot="3376800">
                <a:off x="4014360" y="57196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53"/>
              <p:cNvSpPr/>
              <p:nvPr/>
            </p:nvSpPr>
            <p:spPr>
              <a:xfrm rot="3376800">
                <a:off x="4088160" y="56541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0"/>
              <p:cNvSpPr/>
              <p:nvPr/>
            </p:nvSpPr>
            <p:spPr>
              <a:xfrm rot="3376800">
                <a:off x="4188960" y="58161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61"/>
              <p:cNvSpPr/>
              <p:nvPr/>
            </p:nvSpPr>
            <p:spPr>
              <a:xfrm rot="3376800">
                <a:off x="4022640" y="56214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Группа 537"/>
            <p:cNvGrpSpPr/>
            <p:nvPr/>
          </p:nvGrpSpPr>
          <p:grpSpPr>
            <a:xfrm>
              <a:off x="3723840" y="5752440"/>
              <a:ext cx="337320" cy="359280"/>
              <a:chOff x="3723840" y="5752440"/>
              <a:chExt cx="337320" cy="359280"/>
            </a:xfrm>
          </p:grpSpPr>
          <p:sp>
            <p:nvSpPr>
              <p:cNvPr id="283" name="Freeform 245"/>
              <p:cNvSpPr/>
              <p:nvPr/>
            </p:nvSpPr>
            <p:spPr>
              <a:xfrm rot="3376800">
                <a:off x="3746880" y="5825880"/>
                <a:ext cx="2905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4"/>
              <p:cNvSpPr/>
              <p:nvPr/>
            </p:nvSpPr>
            <p:spPr>
              <a:xfrm rot="3376800">
                <a:off x="3829320" y="5834160"/>
                <a:ext cx="12132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6"/>
              <p:cNvSpPr/>
              <p:nvPr/>
            </p:nvSpPr>
            <p:spPr>
              <a:xfrm rot="3376800">
                <a:off x="3822840" y="5851800"/>
                <a:ext cx="17424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58"/>
              <p:cNvSpPr/>
              <p:nvPr/>
            </p:nvSpPr>
            <p:spPr>
              <a:xfrm rot="3376800">
                <a:off x="3870000" y="5860080"/>
                <a:ext cx="7812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59"/>
              <p:cNvSpPr/>
              <p:nvPr/>
            </p:nvSpPr>
            <p:spPr>
              <a:xfrm rot="3376800">
                <a:off x="3797640" y="5873400"/>
                <a:ext cx="42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01"/>
          <p:cNvSpPr/>
          <p:nvPr/>
        </p:nvSpPr>
        <p:spPr>
          <a:xfrm>
            <a:off x="428760" y="64296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3 камня, а во второй - 2 камня. 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1 камень в какую-то кучу. Выигрывает игрок, после хода которого общее число камней в двух кучах становится не менее 16. Кто выигрывает при безошибочной игре - игрок, делающий первый ход, или игрок, делающий второй ход? Каким должен быть первый ход выигрывающего иг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 обосну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4568040" y="3997440"/>
            <a:ext cx="2884680" cy="2977200"/>
            <a:chOff x="4568040" y="3997440"/>
            <a:chExt cx="2884680" cy="2977200"/>
          </a:xfrm>
        </p:grpSpPr>
        <p:sp>
          <p:nvSpPr>
            <p:cNvPr id="291" name="Freeform 38"/>
            <p:cNvSpPr/>
            <p:nvPr/>
          </p:nvSpPr>
          <p:spPr>
            <a:xfrm rot="1149600">
              <a:off x="7026840" y="5025600"/>
              <a:ext cx="397080" cy="2404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9"/>
            <p:cNvSpPr/>
            <p:nvPr/>
          </p:nvSpPr>
          <p:spPr>
            <a:xfrm rot="1149600">
              <a:off x="5142960" y="5325480"/>
              <a:ext cx="401760" cy="10188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 rot="1149600">
              <a:off x="5357160" y="5348520"/>
              <a:ext cx="158040" cy="7812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rot="1149600">
              <a:off x="5387760" y="5297400"/>
              <a:ext cx="11196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 rot="1149600">
              <a:off x="5231880" y="5304960"/>
              <a:ext cx="158040" cy="781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 rot="1149600">
              <a:off x="5260320" y="5254560"/>
              <a:ext cx="12060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7"/>
            <p:cNvSpPr/>
            <p:nvPr/>
          </p:nvSpPr>
          <p:spPr>
            <a:xfrm rot="1149600">
              <a:off x="4892760" y="4327200"/>
              <a:ext cx="396000" cy="2372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"/>
            <p:cNvSpPr/>
            <p:nvPr/>
          </p:nvSpPr>
          <p:spPr>
            <a:xfrm rot="1149600">
              <a:off x="5074560" y="5310720"/>
              <a:ext cx="1799280" cy="5378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3"/>
            <p:cNvSpPr/>
            <p:nvPr/>
          </p:nvSpPr>
          <p:spPr>
            <a:xfrm rot="1149600">
              <a:off x="6388560" y="56232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0"/>
            <p:cNvSpPr/>
            <p:nvPr/>
          </p:nvSpPr>
          <p:spPr>
            <a:xfrm rot="1149600">
              <a:off x="6308640" y="602928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1"/>
            <p:cNvSpPr/>
            <p:nvPr/>
          </p:nvSpPr>
          <p:spPr>
            <a:xfrm rot="1149600">
              <a:off x="6239160" y="600516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2"/>
            <p:cNvSpPr/>
            <p:nvPr/>
          </p:nvSpPr>
          <p:spPr>
            <a:xfrm rot="1149600">
              <a:off x="6159600" y="59774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3"/>
            <p:cNvSpPr/>
            <p:nvPr/>
          </p:nvSpPr>
          <p:spPr>
            <a:xfrm rot="1149600">
              <a:off x="6082560" y="595080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4"/>
            <p:cNvSpPr/>
            <p:nvPr/>
          </p:nvSpPr>
          <p:spPr>
            <a:xfrm rot="1149600">
              <a:off x="6005880" y="592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 rot="1149600">
              <a:off x="5926680" y="5896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 rot="1149600">
              <a:off x="5405760" y="571536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 rot="1149600">
              <a:off x="5474160" y="57391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8"/>
            <p:cNvSpPr/>
            <p:nvPr/>
          </p:nvSpPr>
          <p:spPr>
            <a:xfrm rot="1149600">
              <a:off x="5555160" y="5767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9"/>
            <p:cNvSpPr/>
            <p:nvPr/>
          </p:nvSpPr>
          <p:spPr>
            <a:xfrm rot="1149600">
              <a:off x="5630400" y="579348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0"/>
            <p:cNvSpPr/>
            <p:nvPr/>
          </p:nvSpPr>
          <p:spPr>
            <a:xfrm rot="1149600">
              <a:off x="5708520" y="58208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1"/>
            <p:cNvSpPr/>
            <p:nvPr/>
          </p:nvSpPr>
          <p:spPr>
            <a:xfrm rot="1149600">
              <a:off x="5788080" y="5848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12"/>
            <p:cNvSpPr/>
            <p:nvPr/>
          </p:nvSpPr>
          <p:spPr>
            <a:xfrm rot="1149600">
              <a:off x="5859360" y="58730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14"/>
            <p:cNvSpPr/>
            <p:nvPr/>
          </p:nvSpPr>
          <p:spPr>
            <a:xfrm rot="1149600">
              <a:off x="5641560" y="5526000"/>
              <a:ext cx="664560" cy="163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5"/>
            <p:cNvSpPr/>
            <p:nvPr/>
          </p:nvSpPr>
          <p:spPr>
            <a:xfrm rot="1149600">
              <a:off x="5605200" y="5316120"/>
              <a:ext cx="805320" cy="32220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6"/>
            <p:cNvSpPr/>
            <p:nvPr/>
          </p:nvSpPr>
          <p:spPr>
            <a:xfrm rot="1149600">
              <a:off x="6477480" y="5638680"/>
              <a:ext cx="34128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7"/>
            <p:cNvSpPr/>
            <p:nvPr/>
          </p:nvSpPr>
          <p:spPr>
            <a:xfrm rot="1149600">
              <a:off x="5097600" y="51750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8"/>
            <p:cNvSpPr/>
            <p:nvPr/>
          </p:nvSpPr>
          <p:spPr>
            <a:xfrm rot="1149600">
              <a:off x="5701680" y="4973760"/>
              <a:ext cx="801000" cy="476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9"/>
            <p:cNvSpPr/>
            <p:nvPr/>
          </p:nvSpPr>
          <p:spPr>
            <a:xfrm rot="1149600">
              <a:off x="6181200" y="5217120"/>
              <a:ext cx="3384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0"/>
            <p:cNvSpPr/>
            <p:nvPr/>
          </p:nvSpPr>
          <p:spPr>
            <a:xfrm rot="1149600">
              <a:off x="5928840" y="5129280"/>
              <a:ext cx="3240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1"/>
            <p:cNvSpPr/>
            <p:nvPr/>
          </p:nvSpPr>
          <p:spPr>
            <a:xfrm rot="1149600">
              <a:off x="6547680" y="4890600"/>
              <a:ext cx="12420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2"/>
            <p:cNvSpPr/>
            <p:nvPr/>
          </p:nvSpPr>
          <p:spPr>
            <a:xfrm rot="1149600">
              <a:off x="5779080" y="4623840"/>
              <a:ext cx="12528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3"/>
            <p:cNvSpPr/>
            <p:nvPr/>
          </p:nvSpPr>
          <p:spPr>
            <a:xfrm rot="1149600">
              <a:off x="5846040" y="4487760"/>
              <a:ext cx="773640" cy="70452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4"/>
            <p:cNvSpPr/>
            <p:nvPr/>
          </p:nvSpPr>
          <p:spPr>
            <a:xfrm rot="1149600">
              <a:off x="6328440" y="4981320"/>
              <a:ext cx="4572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5"/>
            <p:cNvSpPr/>
            <p:nvPr/>
          </p:nvSpPr>
          <p:spPr>
            <a:xfrm rot="1149600">
              <a:off x="6350760" y="5070960"/>
              <a:ext cx="8388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6"/>
            <p:cNvSpPr/>
            <p:nvPr/>
          </p:nvSpPr>
          <p:spPr>
            <a:xfrm rot="1149600">
              <a:off x="6234840" y="506700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7"/>
            <p:cNvSpPr/>
            <p:nvPr/>
          </p:nvSpPr>
          <p:spPr>
            <a:xfrm rot="1149600">
              <a:off x="6054120" y="531468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 rot="1149600">
              <a:off x="5847120" y="4142160"/>
              <a:ext cx="1002960" cy="715680"/>
            </a:xfrm>
            <a:prstGeom prst="pie">
              <a:avLst/>
            </a:prstGeom>
            <a:solidFill>
              <a:srgbClr val="541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9"/>
            <p:cNvSpPr/>
            <p:nvPr/>
          </p:nvSpPr>
          <p:spPr>
            <a:xfrm rot="1149600">
              <a:off x="6009120" y="4870080"/>
              <a:ext cx="4284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0"/>
            <p:cNvSpPr/>
            <p:nvPr/>
          </p:nvSpPr>
          <p:spPr>
            <a:xfrm rot="1149600">
              <a:off x="5915160" y="4919760"/>
              <a:ext cx="8244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1"/>
            <p:cNvSpPr/>
            <p:nvPr/>
          </p:nvSpPr>
          <p:spPr>
            <a:xfrm rot="1149600">
              <a:off x="6124680" y="5006160"/>
              <a:ext cx="8676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2"/>
            <p:cNvSpPr/>
            <p:nvPr/>
          </p:nvSpPr>
          <p:spPr>
            <a:xfrm rot="1149600">
              <a:off x="6064920" y="5043960"/>
              <a:ext cx="17964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3"/>
            <p:cNvSpPr/>
            <p:nvPr/>
          </p:nvSpPr>
          <p:spPr>
            <a:xfrm rot="1149600">
              <a:off x="6050520" y="5003280"/>
              <a:ext cx="33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4"/>
            <p:cNvSpPr/>
            <p:nvPr/>
          </p:nvSpPr>
          <p:spPr>
            <a:xfrm rot="1149600">
              <a:off x="6014520" y="46404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5"/>
            <p:cNvSpPr/>
            <p:nvPr/>
          </p:nvSpPr>
          <p:spPr>
            <a:xfrm rot="1149600">
              <a:off x="6481800" y="5697360"/>
              <a:ext cx="32652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6"/>
            <p:cNvSpPr/>
            <p:nvPr/>
          </p:nvSpPr>
          <p:spPr>
            <a:xfrm rot="1149600">
              <a:off x="5631120" y="516780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37"/>
            <p:cNvSpPr/>
            <p:nvPr/>
          </p:nvSpPr>
          <p:spPr>
            <a:xfrm rot="1149600">
              <a:off x="5100120" y="5160240"/>
              <a:ext cx="34272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38"/>
            <p:cNvSpPr/>
            <p:nvPr/>
          </p:nvSpPr>
          <p:spPr>
            <a:xfrm rot="1149600">
              <a:off x="5093640" y="5214600"/>
              <a:ext cx="32364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4"/>
            <p:cNvSpPr/>
            <p:nvPr/>
          </p:nvSpPr>
          <p:spPr>
            <a:xfrm rot="1149600">
              <a:off x="4571640" y="6928200"/>
              <a:ext cx="7668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5"/>
            <p:cNvSpPr/>
            <p:nvPr/>
          </p:nvSpPr>
          <p:spPr>
            <a:xfrm rot="1149600">
              <a:off x="6392880" y="47718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1923840" y="3978000"/>
            <a:ext cx="2585520" cy="3555720"/>
            <a:chOff x="1923840" y="3978000"/>
            <a:chExt cx="2585520" cy="3555720"/>
          </a:xfrm>
        </p:grpSpPr>
        <p:sp>
          <p:nvSpPr>
            <p:cNvPr id="341" name="Freeform 38"/>
            <p:cNvSpPr/>
            <p:nvPr/>
          </p:nvSpPr>
          <p:spPr>
            <a:xfrm rot="20356800">
              <a:off x="4053240" y="4304880"/>
              <a:ext cx="399600" cy="2422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20356800">
              <a:off x="2746440" y="5766840"/>
              <a:ext cx="404640" cy="10260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1"/>
            <p:cNvSpPr/>
            <p:nvPr/>
          </p:nvSpPr>
          <p:spPr>
            <a:xfrm rot="20356800">
              <a:off x="2947680" y="5727960"/>
              <a:ext cx="159120" cy="7884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2"/>
            <p:cNvSpPr/>
            <p:nvPr/>
          </p:nvSpPr>
          <p:spPr>
            <a:xfrm rot="20356800">
              <a:off x="2943720" y="5683680"/>
              <a:ext cx="112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4"/>
            <p:cNvSpPr/>
            <p:nvPr/>
          </p:nvSpPr>
          <p:spPr>
            <a:xfrm rot="20356800">
              <a:off x="2822400" y="5775120"/>
              <a:ext cx="159120" cy="7884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5"/>
            <p:cNvSpPr/>
            <p:nvPr/>
          </p:nvSpPr>
          <p:spPr>
            <a:xfrm rot="20356800">
              <a:off x="2817360" y="5729760"/>
              <a:ext cx="121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7"/>
            <p:cNvSpPr/>
            <p:nvPr/>
          </p:nvSpPr>
          <p:spPr>
            <a:xfrm rot="20356800">
              <a:off x="1953000" y="5143680"/>
              <a:ext cx="398520" cy="2390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1"/>
            <p:cNvSpPr/>
            <p:nvPr/>
          </p:nvSpPr>
          <p:spPr>
            <a:xfrm rot="20356800">
              <a:off x="2661120" y="5297760"/>
              <a:ext cx="1811160" cy="5410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3"/>
            <p:cNvSpPr/>
            <p:nvPr/>
          </p:nvSpPr>
          <p:spPr>
            <a:xfrm rot="20356800">
              <a:off x="4008240" y="514332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0"/>
            <p:cNvSpPr/>
            <p:nvPr/>
          </p:nvSpPr>
          <p:spPr>
            <a:xfrm rot="20356800">
              <a:off x="4114080" y="5689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1"/>
            <p:cNvSpPr/>
            <p:nvPr/>
          </p:nvSpPr>
          <p:spPr>
            <a:xfrm rot="20356800">
              <a:off x="4044960" y="57157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2"/>
            <p:cNvSpPr/>
            <p:nvPr/>
          </p:nvSpPr>
          <p:spPr>
            <a:xfrm rot="20356800">
              <a:off x="3965400" y="5745600"/>
              <a:ext cx="298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3"/>
            <p:cNvSpPr/>
            <p:nvPr/>
          </p:nvSpPr>
          <p:spPr>
            <a:xfrm rot="20356800">
              <a:off x="3889080" y="577440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4"/>
            <p:cNvSpPr/>
            <p:nvPr/>
          </p:nvSpPr>
          <p:spPr>
            <a:xfrm rot="20356800">
              <a:off x="3812040" y="58039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5"/>
            <p:cNvSpPr/>
            <p:nvPr/>
          </p:nvSpPr>
          <p:spPr>
            <a:xfrm rot="20356800">
              <a:off x="3733200" y="583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6"/>
            <p:cNvSpPr/>
            <p:nvPr/>
          </p:nvSpPr>
          <p:spPr>
            <a:xfrm rot="20356800">
              <a:off x="3214080" y="6030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7"/>
            <p:cNvSpPr/>
            <p:nvPr/>
          </p:nvSpPr>
          <p:spPr>
            <a:xfrm rot="20356800">
              <a:off x="3282120" y="6004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8"/>
            <p:cNvSpPr/>
            <p:nvPr/>
          </p:nvSpPr>
          <p:spPr>
            <a:xfrm rot="20356800">
              <a:off x="3363120" y="59738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9"/>
            <p:cNvSpPr/>
            <p:nvPr/>
          </p:nvSpPr>
          <p:spPr>
            <a:xfrm rot="20356800">
              <a:off x="3438000" y="59450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0"/>
            <p:cNvSpPr/>
            <p:nvPr/>
          </p:nvSpPr>
          <p:spPr>
            <a:xfrm rot="20356800">
              <a:off x="3516120" y="59155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1"/>
            <p:cNvSpPr/>
            <p:nvPr/>
          </p:nvSpPr>
          <p:spPr>
            <a:xfrm rot="20356800">
              <a:off x="3595320" y="5886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2"/>
            <p:cNvSpPr/>
            <p:nvPr/>
          </p:nvSpPr>
          <p:spPr>
            <a:xfrm rot="20356800">
              <a:off x="3666600" y="58586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4"/>
            <p:cNvSpPr/>
            <p:nvPr/>
          </p:nvSpPr>
          <p:spPr>
            <a:xfrm rot="20356800">
              <a:off x="3249720" y="5508360"/>
              <a:ext cx="668880" cy="1641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5"/>
            <p:cNvSpPr/>
            <p:nvPr/>
          </p:nvSpPr>
          <p:spPr>
            <a:xfrm rot="20356800">
              <a:off x="3120840" y="5305680"/>
              <a:ext cx="810360" cy="32436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6"/>
            <p:cNvSpPr/>
            <p:nvPr/>
          </p:nvSpPr>
          <p:spPr>
            <a:xfrm rot="20356800">
              <a:off x="4097160" y="5126760"/>
              <a:ext cx="34344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7"/>
            <p:cNvSpPr/>
            <p:nvPr/>
          </p:nvSpPr>
          <p:spPr>
            <a:xfrm rot="20356800">
              <a:off x="2721600" y="563004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8"/>
            <p:cNvSpPr/>
            <p:nvPr/>
          </p:nvSpPr>
          <p:spPr>
            <a:xfrm rot="20356800">
              <a:off x="3025080" y="4962240"/>
              <a:ext cx="806040" cy="4795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9"/>
            <p:cNvSpPr/>
            <p:nvPr/>
          </p:nvSpPr>
          <p:spPr>
            <a:xfrm rot="20356800">
              <a:off x="3572280" y="5113440"/>
              <a:ext cx="342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0"/>
            <p:cNvSpPr/>
            <p:nvPr/>
          </p:nvSpPr>
          <p:spPr>
            <a:xfrm rot="20356800">
              <a:off x="3320280" y="5209200"/>
              <a:ext cx="324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21"/>
            <p:cNvSpPr/>
            <p:nvPr/>
          </p:nvSpPr>
          <p:spPr>
            <a:xfrm rot="20356800">
              <a:off x="3616200" y="4602240"/>
              <a:ext cx="12492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2"/>
            <p:cNvSpPr/>
            <p:nvPr/>
          </p:nvSpPr>
          <p:spPr>
            <a:xfrm rot="20356800">
              <a:off x="2850120" y="4891680"/>
              <a:ext cx="12600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3"/>
            <p:cNvSpPr/>
            <p:nvPr/>
          </p:nvSpPr>
          <p:spPr>
            <a:xfrm rot="20356800">
              <a:off x="2899440" y="4475880"/>
              <a:ext cx="778680" cy="70920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 rot="20356800">
              <a:off x="3469320" y="4855680"/>
              <a:ext cx="4608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 rot="20356800">
              <a:off x="3525120" y="4903200"/>
              <a:ext cx="8460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6"/>
            <p:cNvSpPr/>
            <p:nvPr/>
          </p:nvSpPr>
          <p:spPr>
            <a:xfrm rot="20356800">
              <a:off x="3441960" y="499068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7"/>
            <p:cNvSpPr/>
            <p:nvPr/>
          </p:nvSpPr>
          <p:spPr>
            <a:xfrm rot="20356800">
              <a:off x="3593160" y="514836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8"/>
            <p:cNvSpPr/>
            <p:nvPr/>
          </p:nvSpPr>
          <p:spPr>
            <a:xfrm rot="20356800">
              <a:off x="2654280" y="4133160"/>
              <a:ext cx="1009440" cy="7203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9"/>
            <p:cNvSpPr/>
            <p:nvPr/>
          </p:nvSpPr>
          <p:spPr>
            <a:xfrm rot="20356800">
              <a:off x="3151080" y="4976640"/>
              <a:ext cx="4284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0"/>
            <p:cNvSpPr/>
            <p:nvPr/>
          </p:nvSpPr>
          <p:spPr>
            <a:xfrm rot="20356800">
              <a:off x="3090960" y="5067720"/>
              <a:ext cx="8316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31"/>
            <p:cNvSpPr/>
            <p:nvPr/>
          </p:nvSpPr>
          <p:spPr>
            <a:xfrm rot="20356800">
              <a:off x="3311280" y="4997520"/>
              <a:ext cx="87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2"/>
            <p:cNvSpPr/>
            <p:nvPr/>
          </p:nvSpPr>
          <p:spPr>
            <a:xfrm rot="20356800">
              <a:off x="3279960" y="5034600"/>
              <a:ext cx="18108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3"/>
            <p:cNvSpPr/>
            <p:nvPr/>
          </p:nvSpPr>
          <p:spPr>
            <a:xfrm rot="20356800">
              <a:off x="3258360" y="5059800"/>
              <a:ext cx="3384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4"/>
            <p:cNvSpPr/>
            <p:nvPr/>
          </p:nvSpPr>
          <p:spPr>
            <a:xfrm rot="20356800">
              <a:off x="2998080" y="476892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5"/>
            <p:cNvSpPr/>
            <p:nvPr/>
          </p:nvSpPr>
          <p:spPr>
            <a:xfrm rot="20356800">
              <a:off x="4122000" y="5180760"/>
              <a:ext cx="32868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6"/>
            <p:cNvSpPr/>
            <p:nvPr/>
          </p:nvSpPr>
          <p:spPr>
            <a:xfrm rot="20356800">
              <a:off x="3171960" y="530748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7"/>
            <p:cNvSpPr/>
            <p:nvPr/>
          </p:nvSpPr>
          <p:spPr>
            <a:xfrm rot="20356800">
              <a:off x="2724480" y="5646240"/>
              <a:ext cx="34488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8"/>
            <p:cNvSpPr/>
            <p:nvPr/>
          </p:nvSpPr>
          <p:spPr>
            <a:xfrm rot="20356800">
              <a:off x="2738520" y="5704560"/>
              <a:ext cx="32544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4"/>
            <p:cNvSpPr/>
            <p:nvPr/>
          </p:nvSpPr>
          <p:spPr>
            <a:xfrm rot="20356800">
              <a:off x="3355560" y="7486560"/>
              <a:ext cx="7704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45"/>
            <p:cNvSpPr/>
            <p:nvPr/>
          </p:nvSpPr>
          <p:spPr>
            <a:xfrm rot="20356800">
              <a:off x="3375000" y="462636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84360" y="1719360"/>
          <a:ext cx="8208720" cy="5029200"/>
        </p:xfrm>
        <a:graphic>
          <a:graphicData uri="http://schemas.openxmlformats.org/drawingml/2006/table">
            <a:tbl>
              <a:tblPr/>
              <a:tblGrid>
                <a:gridCol w="1641240"/>
                <a:gridCol w="1643040"/>
                <a:gridCol w="1640160"/>
                <a:gridCol w="1643040"/>
                <a:gridCol w="164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ое 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6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0"/>
          <p:cNvSpPr/>
          <p:nvPr/>
        </p:nvSpPr>
        <p:spPr>
          <a:xfrm>
            <a:off x="2340000" y="27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2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2"/>
          <p:cNvSpPr/>
          <p:nvPr/>
        </p:nvSpPr>
        <p:spPr>
          <a:xfrm>
            <a:off x="3995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2, 2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3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6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4"/>
          <p:cNvSpPr/>
          <p:nvPr/>
        </p:nvSpPr>
        <p:spPr>
          <a:xfrm>
            <a:off x="723600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4, 16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5"/>
          <p:cNvSpPr/>
          <p:nvPr/>
        </p:nvSpPr>
        <p:spPr>
          <a:xfrm>
            <a:off x="406728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18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6"/>
          <p:cNvSpPr/>
          <p:nvPr/>
        </p:nvSpPr>
        <p:spPr>
          <a:xfrm>
            <a:off x="5651640" y="5661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4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234000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2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399564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2,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3995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6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99564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2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399564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2"/>
          <p:cNvSpPr/>
          <p:nvPr/>
        </p:nvSpPr>
        <p:spPr>
          <a:xfrm>
            <a:off x="234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3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399564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3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4"/>
          <p:cNvSpPr/>
          <p:nvPr/>
        </p:nvSpPr>
        <p:spPr>
          <a:xfrm>
            <a:off x="3995640" y="638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5"/>
          <p:cNvSpPr/>
          <p:nvPr/>
        </p:nvSpPr>
        <p:spPr>
          <a:xfrm>
            <a:off x="558000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3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6"/>
          <p:cNvSpPr/>
          <p:nvPr/>
        </p:nvSpPr>
        <p:spPr>
          <a:xfrm>
            <a:off x="5651640" y="49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9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5651640" y="53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3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8"/>
          <p:cNvSpPr/>
          <p:nvPr/>
        </p:nvSpPr>
        <p:spPr>
          <a:xfrm>
            <a:off x="558000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3, 30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9"/>
          <p:cNvSpPr/>
          <p:nvPr/>
        </p:nvSpPr>
        <p:spPr>
          <a:xfrm>
            <a:off x="5580000" y="342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2, 3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0"/>
          <p:cNvSpPr/>
          <p:nvPr/>
        </p:nvSpPr>
        <p:spPr>
          <a:xfrm>
            <a:off x="5580000" y="378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6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1"/>
          <p:cNvSpPr/>
          <p:nvPr/>
        </p:nvSpPr>
        <p:spPr>
          <a:xfrm>
            <a:off x="558000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2, 17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2"/>
          <p:cNvSpPr/>
          <p:nvPr/>
        </p:nvSpPr>
        <p:spPr>
          <a:xfrm>
            <a:off x="723600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3, 3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3"/>
          <p:cNvSpPr/>
          <p:nvPr/>
        </p:nvSpPr>
        <p:spPr>
          <a:xfrm>
            <a:off x="723600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9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4"/>
          <p:cNvSpPr/>
          <p:nvPr/>
        </p:nvSpPr>
        <p:spPr>
          <a:xfrm>
            <a:off x="7236000" y="530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3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8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0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1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3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4"/>
          <p:cNvSpPr/>
          <p:nvPr/>
        </p:nvSpPr>
        <p:spPr>
          <a:xfrm>
            <a:off x="32400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6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7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0"/>
          <p:cNvSpPr/>
          <p:nvPr/>
        </p:nvSpPr>
        <p:spPr>
          <a:xfrm>
            <a:off x="32400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1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3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4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ли повторный вариант, рассматривать не буд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совая мат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427640" y="1413000"/>
          <a:ext cx="4248000" cy="3402000"/>
        </p:xfrm>
        <a:graphic>
          <a:graphicData uri="http://schemas.openxmlformats.org/drawingml/2006/table">
            <a:tbl>
              <a:tblPr/>
              <a:tblGrid>
                <a:gridCol w="707760"/>
                <a:gridCol w="706680"/>
                <a:gridCol w="708120"/>
                <a:gridCol w="707760"/>
                <a:gridCol w="709560"/>
                <a:gridCol w="70812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69"/>
          <p:cNvSpPr/>
          <p:nvPr/>
        </p:nvSpPr>
        <p:spPr>
          <a:xfrm>
            <a:off x="4788000" y="90792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2"/>
          <p:cNvGrpSpPr/>
          <p:nvPr/>
        </p:nvGrpSpPr>
        <p:grpSpPr>
          <a:xfrm>
            <a:off x="900000" y="1844640"/>
            <a:ext cx="3239640" cy="2663280"/>
            <a:chOff x="900000" y="1844640"/>
            <a:chExt cx="3239640" cy="2663280"/>
          </a:xfrm>
        </p:grpSpPr>
        <p:sp>
          <p:nvSpPr>
            <p:cNvPr id="444" name="Line 13"/>
            <p:cNvSpPr/>
            <p:nvPr/>
          </p:nvSpPr>
          <p:spPr>
            <a:xfrm flipV="1">
              <a:off x="1209600" y="2260800"/>
              <a:ext cx="61740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4"/>
            <p:cNvGrpSpPr/>
            <p:nvPr/>
          </p:nvGrpSpPr>
          <p:grpSpPr>
            <a:xfrm>
              <a:off x="900000" y="1844640"/>
              <a:ext cx="3239640" cy="2663280"/>
              <a:chOff x="900000" y="1844640"/>
              <a:chExt cx="3239640" cy="2663280"/>
            </a:xfrm>
          </p:grpSpPr>
          <p:sp>
            <p:nvSpPr>
              <p:cNvPr id="446" name="Oval 15"/>
              <p:cNvSpPr/>
              <p:nvPr/>
            </p:nvSpPr>
            <p:spPr>
              <a:xfrm>
                <a:off x="3369600" y="2094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6"/>
              <p:cNvSpPr/>
              <p:nvPr/>
            </p:nvSpPr>
            <p:spPr>
              <a:xfrm>
                <a:off x="3214440" y="3176640"/>
                <a:ext cx="54108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1671840" y="39247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 flipV="1">
                <a:off x="3524040" y="2677320"/>
                <a:ext cx="76320" cy="49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 flipV="1">
                <a:off x="2211120" y="3675240"/>
                <a:ext cx="1081440" cy="41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 flipH="1" flipV="1">
                <a:off x="2211120" y="2427480"/>
                <a:ext cx="1002960" cy="9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2520720" y="18446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3445920" y="26773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23"/>
              <p:cNvSpPr/>
              <p:nvPr/>
            </p:nvSpPr>
            <p:spPr>
              <a:xfrm>
                <a:off x="2134440" y="2760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4"/>
              <p:cNvSpPr/>
              <p:nvPr/>
            </p:nvSpPr>
            <p:spPr>
              <a:xfrm>
                <a:off x="2520720" y="38419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5"/>
              <p:cNvSpPr/>
              <p:nvPr/>
            </p:nvSpPr>
            <p:spPr>
              <a:xfrm>
                <a:off x="900000" y="36752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6"/>
              <p:cNvSpPr/>
              <p:nvPr/>
            </p:nvSpPr>
            <p:spPr>
              <a:xfrm>
                <a:off x="1826640" y="184464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900000" y="2760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>
                <a:off x="2365920" y="2178360"/>
                <a:ext cx="1003320" cy="1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29"/>
              <p:cNvSpPr/>
              <p:nvPr/>
            </p:nvSpPr>
            <p:spPr>
              <a:xfrm>
                <a:off x="1285920" y="3258720"/>
                <a:ext cx="462240" cy="75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900000" y="2094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69"/>
          <p:cNvSpPr/>
          <p:nvPr/>
        </p:nvSpPr>
        <p:spPr>
          <a:xfrm>
            <a:off x="826920" y="981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вешенный 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5"/>
          <p:cNvSpPr/>
          <p:nvPr/>
        </p:nvSpPr>
        <p:spPr>
          <a:xfrm>
            <a:off x="468360" y="486900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между парой населённых пунктов существует дорога, то в ячейку на пересечении соответствующих строки и столбца записывается число, равное её длине. Пустые клетки в таблице означают, что дорог между соответствующими населёнными пунктами 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0"/>
          <p:cNvGrpSpPr/>
          <p:nvPr/>
        </p:nvGrpSpPr>
        <p:grpSpPr>
          <a:xfrm>
            <a:off x="4427640" y="3573360"/>
            <a:ext cx="4392000" cy="2376360"/>
            <a:chOff x="4427640" y="3573360"/>
            <a:chExt cx="4392000" cy="2376360"/>
          </a:xfrm>
        </p:grpSpPr>
        <p:sp>
          <p:nvSpPr>
            <p:cNvPr id="465" name="Line 24"/>
            <p:cNvSpPr/>
            <p:nvPr/>
          </p:nvSpPr>
          <p:spPr>
            <a:xfrm>
              <a:off x="4958640" y="4094280"/>
              <a:ext cx="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>
              <a:off x="5159520" y="3963600"/>
              <a:ext cx="1529640" cy="14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 flipV="1">
              <a:off x="5225400" y="4029840"/>
              <a:ext cx="1464120" cy="156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6889320" y="4029840"/>
              <a:ext cx="0" cy="13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7022880" y="3963600"/>
              <a:ext cx="1464120" cy="84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9"/>
            <p:cNvSpPr/>
            <p:nvPr/>
          </p:nvSpPr>
          <p:spPr>
            <a:xfrm flipV="1">
              <a:off x="7088400" y="5072040"/>
              <a:ext cx="133056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"/>
            <p:cNvSpPr/>
            <p:nvPr/>
          </p:nvSpPr>
          <p:spPr>
            <a:xfrm>
              <a:off x="8353440" y="4746240"/>
              <a:ext cx="466200" cy="485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8"/>
            <p:cNvSpPr/>
            <p:nvPr/>
          </p:nvSpPr>
          <p:spPr>
            <a:xfrm flipH="1">
              <a:off x="6621480" y="539712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"/>
            <p:cNvSpPr/>
            <p:nvPr/>
          </p:nvSpPr>
          <p:spPr>
            <a:xfrm>
              <a:off x="4759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7621200" y="40298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>
              <a:off x="7553520" y="53319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>
              <a:off x="6823080" y="461556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5358960" y="4029840"/>
              <a:ext cx="59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4427640" y="44852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6622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4759200" y="546300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2"/>
            <p:cNvSpPr/>
            <p:nvPr/>
          </p:nvSpPr>
          <p:spPr>
            <a:xfrm>
              <a:off x="5425200" y="5137200"/>
              <a:ext cx="5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3"/>
          <p:cNvSpPr/>
          <p:nvPr/>
        </p:nvSpPr>
        <p:spPr>
          <a:xfrm>
            <a:off x="4788000" y="2565360"/>
            <a:ext cx="36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ф схемы дор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5"/>
          <p:cNvSpPr/>
          <p:nvPr/>
        </p:nvSpPr>
        <p:spPr>
          <a:xfrm>
            <a:off x="539640" y="1341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 той же таблице могут соответствовать графы, внешне не похожие друг на дру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12720" y="3287880"/>
          <a:ext cx="3527640" cy="2879640"/>
        </p:xfrm>
        <a:graphic>
          <a:graphicData uri="http://schemas.openxmlformats.org/drawingml/2006/table">
            <a:tbl>
              <a:tblPr/>
              <a:tblGrid>
                <a:gridCol w="587520"/>
                <a:gridCol w="587160"/>
                <a:gridCol w="587520"/>
                <a:gridCol w="588960"/>
                <a:gridCol w="588960"/>
                <a:gridCol w="587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 Box 69"/>
          <p:cNvSpPr/>
          <p:nvPr/>
        </p:nvSpPr>
        <p:spPr>
          <a:xfrm>
            <a:off x="539640" y="256536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468360" y="765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 подружки - Аня, Света и Настя - купили различные молочные коктейли в белом, голубом и зелёном стаканчиках. Ане достался не белый стаканчик, а Свете - не голубой. В белом стаканчике не банановый коктейль. В голубой стаканчик налит ванильный коктейль. Света не любит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выяснить, какой коктейль и в каком стаканчике купила каждая из девоч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9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189160" cy="2492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8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2101680" cy="2565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1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2160360" cy="214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" descr="http://slantpoetry.files.wordpress.com/2009/07/strawberry.jpg"/>
          <p:cNvPicPr/>
          <p:nvPr/>
        </p:nvPicPr>
        <p:blipFill>
          <a:blip r:embed="rId5"/>
          <a:stretch/>
        </p:blipFill>
        <p:spPr>
          <a:xfrm>
            <a:off x="4572000" y="5300640"/>
            <a:ext cx="1247760" cy="1170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6" descr=""/>
          <p:cNvPicPr/>
          <p:nvPr/>
        </p:nvPicPr>
        <p:blipFill>
          <a:blip r:embed="rId6"/>
          <a:stretch/>
        </p:blipFill>
        <p:spPr>
          <a:xfrm rot="1150800">
            <a:off x="1834920" y="5516280"/>
            <a:ext cx="1428480" cy="98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8" descr=""/>
          <p:cNvPicPr/>
          <p:nvPr/>
        </p:nvPicPr>
        <p:blipFill>
          <a:blip r:embed="rId7"/>
          <a:stretch/>
        </p:blipFill>
        <p:spPr>
          <a:xfrm>
            <a:off x="7164360" y="4365720"/>
            <a:ext cx="1652760" cy="118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4360" y="170028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84360" y="386064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ктей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убни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181"/>
          <p:cNvSpPr/>
          <p:nvPr/>
        </p:nvSpPr>
        <p:spPr>
          <a:xfrm>
            <a:off x="291636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2"/>
          <p:cNvSpPr/>
          <p:nvPr/>
        </p:nvSpPr>
        <p:spPr>
          <a:xfrm>
            <a:off x="457200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3"/>
          <p:cNvSpPr/>
          <p:nvPr/>
        </p:nvSpPr>
        <p:spPr>
          <a:xfrm>
            <a:off x="4572000" y="2852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4"/>
          <p:cNvSpPr/>
          <p:nvPr/>
        </p:nvSpPr>
        <p:spPr>
          <a:xfrm>
            <a:off x="291636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5"/>
          <p:cNvSpPr/>
          <p:nvPr/>
        </p:nvSpPr>
        <p:spPr>
          <a:xfrm>
            <a:off x="6227640" y="2852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6"/>
          <p:cNvSpPr/>
          <p:nvPr/>
        </p:nvSpPr>
        <p:spPr>
          <a:xfrm>
            <a:off x="6227640" y="3284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87"/>
          <p:cNvSpPr/>
          <p:nvPr/>
        </p:nvSpPr>
        <p:spPr>
          <a:xfrm>
            <a:off x="298764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8"/>
          <p:cNvSpPr/>
          <p:nvPr/>
        </p:nvSpPr>
        <p:spPr>
          <a:xfrm>
            <a:off x="2987640" y="50133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89"/>
          <p:cNvSpPr/>
          <p:nvPr/>
        </p:nvSpPr>
        <p:spPr>
          <a:xfrm>
            <a:off x="450072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0"/>
          <p:cNvSpPr/>
          <p:nvPr/>
        </p:nvSpPr>
        <p:spPr>
          <a:xfrm>
            <a:off x="450072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1"/>
          <p:cNvSpPr/>
          <p:nvPr/>
        </p:nvSpPr>
        <p:spPr>
          <a:xfrm>
            <a:off x="6084720" y="501156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2"/>
          <p:cNvSpPr/>
          <p:nvPr/>
        </p:nvSpPr>
        <p:spPr>
          <a:xfrm>
            <a:off x="6084720" y="5445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3"/>
          <p:cNvSpPr/>
          <p:nvPr/>
        </p:nvSpPr>
        <p:spPr>
          <a:xfrm>
            <a:off x="2916360" y="2924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94"/>
          <p:cNvSpPr/>
          <p:nvPr/>
        </p:nvSpPr>
        <p:spPr>
          <a:xfrm>
            <a:off x="457200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5"/>
          <p:cNvSpPr/>
          <p:nvPr/>
        </p:nvSpPr>
        <p:spPr>
          <a:xfrm>
            <a:off x="6227640" y="249228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96"/>
          <p:cNvSpPr/>
          <p:nvPr/>
        </p:nvSpPr>
        <p:spPr>
          <a:xfrm>
            <a:off x="298764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7"/>
          <p:cNvSpPr/>
          <p:nvPr/>
        </p:nvSpPr>
        <p:spPr>
          <a:xfrm>
            <a:off x="4500720" y="5011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8"/>
          <p:cNvSpPr/>
          <p:nvPr/>
        </p:nvSpPr>
        <p:spPr>
          <a:xfrm>
            <a:off x="6084720" y="4653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9"/>
          <p:cNvSpPr/>
          <p:nvPr/>
        </p:nvSpPr>
        <p:spPr>
          <a:xfrm>
            <a:off x="468360" y="58514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я купила ванильный коктейль в голубом стаканчике, Света - банановый коктейль в зелёном стаканчике, Настя - клубничный коктейль в белом стаканч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5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Ани не белый стаканчик, а у Светы не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две табл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8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белом стаканчике не бананов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9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олубом стаканчике налит ваниль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0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в голубом стаканчике не банановый и не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1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нильный коктейль не белом стаканчике и не в зелё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3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тельно в зелёном стаканчике налит банановый коктейль, а в белом – клубнич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4"/>
          <p:cNvSpPr/>
          <p:nvPr/>
        </p:nvSpPr>
        <p:spPr>
          <a:xfrm>
            <a:off x="46836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а не любит клубничный коктейль, значит у неё не белый стаканчик, а зелё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5"/>
          <p:cNvSpPr/>
          <p:nvPr/>
        </p:nvSpPr>
        <p:spPr>
          <a:xfrm>
            <a:off x="46836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у Насти белый стаканчик, а у Ани –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324000" y="981000"/>
            <a:ext cx="84247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свойство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свойствах отдельных объектах, принадлежащих одному клас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объект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некотором одном свойстве пар объектов, чаще всего принадлежащих разным клас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2T18:09:52Z</dcterms:modified>
  <cp:revision>108</cp:revision>
  <dc:subject/>
  <dc:title>Презентация PowerPoint</dc:title>
</cp:coreProperties>
</file>