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24A-3F6D-4F64-A2C2-D9ABA108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782A-42E0-4A7A-9E5A-3B83C7BD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4DA-533E-4E35-99F1-03A8F5E5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CC09-D55B-4D05-9A52-63E4AA12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4AA-B532-41AD-A069-C37A1D3C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E88-D2CA-430B-9C1A-803D88C6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6802-B401-407D-B066-62FC93CF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1AD5-2127-40BD-B93E-4C603DB0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06F7-4A71-4140-B5BC-42014D9B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66AE-CBD2-437E-8C83-84F9D494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5667-EEB4-4FA0-8E4D-856CD4CE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C10D-27BB-4EE8-A4B0-53C0CC40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C50A-471D-4CFB-A75E-AE4AB56D43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Босова\Мои документы\Downloads\9 klas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6000480" y="21384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Босова\Рабочий стол\рабочий слайд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13012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ИНФОРМАТИКА И И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214280" y="1500120"/>
            <a:ext cx="642960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еренно оперировать понятиями и методами информатики для объяснения фактов, явлений и процессов в различных предметных област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глаз_мировоззрение"/>
          <p:cNvPicPr/>
          <p:nvPr/>
        </p:nvPicPr>
        <p:blipFill>
          <a:blip r:embed="rId1"/>
          <a:stretch/>
        </p:blipFill>
        <p:spPr>
          <a:xfrm>
            <a:off x="5072040" y="3929040"/>
            <a:ext cx="3624120" cy="271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214280" y="1500120"/>
            <a:ext cx="642960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но работать с различными видами информации с помощью компьютера и других средств ИК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http://bzzn.ru/uploads/kartinki/frash/Y013-7732-2.jpg"/>
          <p:cNvPicPr/>
          <p:nvPr/>
        </p:nvPicPr>
        <p:blipFill>
          <a:blip r:embed="rId1"/>
          <a:stretch/>
        </p:blipFill>
        <p:spPr>
          <a:xfrm>
            <a:off x="5153040" y="3605040"/>
            <a:ext cx="3876840" cy="318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214280" y="1500120"/>
            <a:ext cx="707256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вать и поддерживать индивидуальную информационную среду, обеспечивать защиту значимой информации и личную информационную безопас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http://www.securitylab.ru/upload/iblock/374/3749f86841d0ddd743d518a41d04581f.jpg"/>
          <p:cNvPicPr/>
          <p:nvPr/>
        </p:nvPicPr>
        <p:blipFill>
          <a:blip r:embed="rId1"/>
          <a:stretch/>
        </p:blipFill>
        <p:spPr>
          <a:xfrm>
            <a:off x="5442120" y="4143240"/>
            <a:ext cx="3558960" cy="2668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ая историческая фаза развития цивилизации, в которой главными продуктами производства являются информация и зн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нформационное об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http://culturenews.ru/sites/culturenews.ru/files/110411/infornational%20siciaty.jpg"/>
          <p:cNvPicPr/>
          <p:nvPr/>
        </p:nvPicPr>
        <p:blipFill>
          <a:blip r:embed="rId1"/>
          <a:stretch/>
        </p:blipFill>
        <p:spPr>
          <a:xfrm>
            <a:off x="3143160" y="3071880"/>
            <a:ext cx="4643640" cy="352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13880" y="1052280"/>
            <a:ext cx="82155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величение роли информации, знаний и ИТ в жизни обще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ание числа людей, занятых в сфере И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глобального информационного пространства, обеспечивающег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ое информационное взаимодействие люд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х доступ к мировым информационным ресурс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овлетворение их потребностей в информационных продуктах и услуг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  информационной экономики,  электронного правительства, электронных социальных  сетей и п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тличительные чер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-360" y="1412640"/>
            <a:ext cx="8317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большее влияние на общество оказывают С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онные технологии могут разрушить частную жизнь люд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ет проблема отбора качественной и достоверной информ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ершаются высокотехнологичные преступ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Негативные я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Заголовок 2"/>
          <p:cNvSpPr/>
          <p:nvPr/>
        </p:nvSpPr>
        <p:spPr>
          <a:xfrm>
            <a:off x="1116000" y="18900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Наука информ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1071720" y="1071720"/>
            <a:ext cx="771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формат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это естественнонаучная дисциплина о закономерности протекания информационных процессов в системах различной природы, а также о методах и средствах их автомат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Схема 4" descr=""/>
          <p:cNvPicPr/>
          <p:nvPr/>
        </p:nvPicPr>
        <p:blipFill>
          <a:blip r:embed="rId1"/>
          <a:stretch/>
        </p:blipFill>
        <p:spPr>
          <a:xfrm>
            <a:off x="920880" y="3432240"/>
            <a:ext cx="8089920" cy="2498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оретическая инфор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714240" y="1033560"/>
            <a:ext cx="7929720" cy="555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редства информат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357200" y="1143000"/>
            <a:ext cx="6972480" cy="506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формационные техноло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344000" cy="50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циальная инфор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857160" y="857160"/>
            <a:ext cx="7643880" cy="5648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042920" y="1052640"/>
            <a:ext cx="6958080" cy="1947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ое мыш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ормированное умение учи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ятельная жизненная пози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ачества современного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8" descr="http://korunowa.ru/wp-content/uploads/2012/08/Put-KUspehu.png"/>
          <p:cNvPicPr/>
          <p:nvPr/>
        </p:nvPicPr>
        <p:blipFill>
          <a:blip r:embed="rId1"/>
          <a:stretch/>
        </p:blipFill>
        <p:spPr>
          <a:xfrm>
            <a:off x="3166920" y="3057480"/>
            <a:ext cx="5762880" cy="365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042560" y="1052280"/>
            <a:ext cx="3814920" cy="3733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еполаг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ноз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ррек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ешения за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6" descr="Процессные теории мотивации – дело в движущей силе"/>
          <p:cNvPicPr/>
          <p:nvPr/>
        </p:nvPicPr>
        <p:blipFill>
          <a:blip r:embed="rId1"/>
          <a:stretch/>
        </p:blipFill>
        <p:spPr>
          <a:xfrm>
            <a:off x="5786280" y="3429000"/>
            <a:ext cx="2724480" cy="285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213920" y="1500120"/>
            <a:ext cx="600084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воить систему знаний, отражающих вклад информатики в формирован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ост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учной картины ми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Об алгоритмике мышления и психической деятельности, ч.2"/>
          <p:cNvPicPr/>
          <p:nvPr/>
        </p:nvPicPr>
        <p:blipFill>
          <a:blip r:embed="rId1"/>
          <a:stretch/>
        </p:blipFill>
        <p:spPr>
          <a:xfrm>
            <a:off x="3857760" y="3654360"/>
            <a:ext cx="4857480" cy="32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 Людмила Леонидовна</cp:lastModifiedBy>
  <dcterms:modified xsi:type="dcterms:W3CDTF">2012-08-23T11:04:34Z</dcterms:modified>
  <cp:revision>28</cp:revision>
  <dc:subject/>
  <dc:title>Презентация PowerPoint</dc:title>
</cp:coreProperties>
</file>