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216-B4E9-47BE-90BB-6D738B01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780E-10FC-4128-9970-401979C6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628-50CB-4AD7-822C-130AD2E3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A63-F4A4-468D-9F4A-C8A72BE8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AEC4-B07A-4C60-B9AA-90DD9EC3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C54-AB00-4F97-965A-4FA2A1D1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43F7-91C6-41CB-AB59-D60FBA97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2A1-9083-48EC-AFA2-41F2B691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210-4974-4231-96EF-7C6F823D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D67C-724C-4EDA-A66D-49B155CE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F46-B59E-46A1-BF9F-D39920C3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E93-D9AD-4997-B856-6720786C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9021-D51F-4690-955D-CB274673F9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Босова\Мои документы\Downloads\9 klas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6000480" y="21384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Босова\Рабочий стол\рабочий слайд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13012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ИНФОРМАТИКА И И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5292720" y="115920"/>
            <a:ext cx="36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нформатика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214280" y="1500120"/>
            <a:ext cx="642960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еренно оперировать понятиями и методами информатики для объяснения фактов, явлений и процессов в различных предметных област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глаз_мировоззрение"/>
          <p:cNvPicPr/>
          <p:nvPr/>
        </p:nvPicPr>
        <p:blipFill>
          <a:blip r:embed="rId1"/>
          <a:stretch/>
        </p:blipFill>
        <p:spPr>
          <a:xfrm>
            <a:off x="5072040" y="3929040"/>
            <a:ext cx="3624120" cy="271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214280" y="1500120"/>
            <a:ext cx="642960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но работать с различными видами информации с помощью компьютера и других средств ИК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http://bzzn.ru/uploads/kartinki/frash/Y013-7732-2.jpg"/>
          <p:cNvPicPr/>
          <p:nvPr/>
        </p:nvPicPr>
        <p:blipFill>
          <a:blip r:embed="rId1"/>
          <a:stretch/>
        </p:blipFill>
        <p:spPr>
          <a:xfrm>
            <a:off x="5153040" y="3605040"/>
            <a:ext cx="3876840" cy="318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214280" y="1500120"/>
            <a:ext cx="707256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вать и поддерживать индивидуальную информационную среду, обеспечивать защиту значимой информации и личную информационную безопас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http://www.securitylab.ru/upload/iblock/374/3749f86841d0ddd743d518a41d04581f.jpg"/>
          <p:cNvPicPr/>
          <p:nvPr/>
        </p:nvPicPr>
        <p:blipFill>
          <a:blip r:embed="rId1"/>
          <a:stretch/>
        </p:blipFill>
        <p:spPr>
          <a:xfrm>
            <a:off x="5442120" y="4143240"/>
            <a:ext cx="3558960" cy="2668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ая историческая фаза развития цивилизации, в которой главными продуктами производства являются информация и зн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Информационное об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http://culturenews.ru/sites/culturenews.ru/files/110411/infornational%20siciaty.jpg"/>
          <p:cNvPicPr/>
          <p:nvPr/>
        </p:nvPicPr>
        <p:blipFill>
          <a:blip r:embed="rId1"/>
          <a:stretch/>
        </p:blipFill>
        <p:spPr>
          <a:xfrm>
            <a:off x="3143160" y="3071880"/>
            <a:ext cx="4643640" cy="352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13880" y="1052280"/>
            <a:ext cx="82155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величение роли информации, знаний и ИТ в жизни обще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ание числа людей, занятых в сфере И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глобального информационного пространства, обеспечивающег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ое информационное взаимодействие люд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х доступ к мировым информационным ресурс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овлетворение их потребностей в информационных продуктах и услуг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  информационной экономики,  электронного правительства, электронных социальных  сетей и п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тличительные чер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-360" y="1412640"/>
            <a:ext cx="8317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большее влияние на общество оказывают С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онные технологии могут разрушить частную жизнь люд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ет проблема отбора качественной и достоверной информ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ершаются высокотехнологичные преступ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Негативные я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Заголовок 2"/>
          <p:cNvSpPr/>
          <p:nvPr/>
        </p:nvSpPr>
        <p:spPr>
          <a:xfrm>
            <a:off x="1116000" y="18900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Наука информ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1071720" y="1071720"/>
            <a:ext cx="771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формат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это естественнонаучная дисциплина о закономерности протекания информационных процессов в системах различной природы, а также о методах и средствах их автомат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Схема 4" descr=""/>
          <p:cNvPicPr/>
          <p:nvPr/>
        </p:nvPicPr>
        <p:blipFill>
          <a:blip r:embed="rId1"/>
          <a:stretch/>
        </p:blipFill>
        <p:spPr>
          <a:xfrm>
            <a:off x="920880" y="3432240"/>
            <a:ext cx="8089920" cy="2498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Теоретическая инфор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714240" y="1033560"/>
            <a:ext cx="7929720" cy="555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редства информат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357200" y="1143000"/>
            <a:ext cx="6972480" cy="506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формационные техноло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344000" cy="50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оциальная инфор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857160" y="857160"/>
            <a:ext cx="7643880" cy="5648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042920" y="1052640"/>
            <a:ext cx="6958080" cy="1947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ое мыш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ормированное умение учи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ятельная жизненная пози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Качества современного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8" descr="http://korunowa.ru/wp-content/uploads/2012/08/Put-KUspehu.png"/>
          <p:cNvPicPr/>
          <p:nvPr/>
        </p:nvPicPr>
        <p:blipFill>
          <a:blip r:embed="rId1"/>
          <a:stretch/>
        </p:blipFill>
        <p:spPr>
          <a:xfrm>
            <a:off x="3166920" y="3057480"/>
            <a:ext cx="5762880" cy="365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042560" y="1052280"/>
            <a:ext cx="3814920" cy="3733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еполаг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ноз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ррек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ешения за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6" descr="Процессные теории мотивации – дело в движущей силе"/>
          <p:cNvPicPr/>
          <p:nvPr/>
        </p:nvPicPr>
        <p:blipFill>
          <a:blip r:embed="rId1"/>
          <a:stretch/>
        </p:blipFill>
        <p:spPr>
          <a:xfrm>
            <a:off x="5786280" y="3429000"/>
            <a:ext cx="2724480" cy="285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213920" y="1500120"/>
            <a:ext cx="600084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воить систему знаний, отражающих вклад информатики в формирован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ост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учной картины ми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Об алгоритмике мышления и психической деятельности, ч.2"/>
          <p:cNvPicPr/>
          <p:nvPr/>
        </p:nvPicPr>
        <p:blipFill>
          <a:blip r:embed="rId1"/>
          <a:stretch/>
        </p:blipFill>
        <p:spPr>
          <a:xfrm>
            <a:off x="3857760" y="3654360"/>
            <a:ext cx="4857480" cy="320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 Людмила Леонидовна</cp:lastModifiedBy>
  <dcterms:modified xsi:type="dcterms:W3CDTF">2012-08-23T11:04:34Z</dcterms:modified>
  <cp:revision>28</cp:revision>
  <dc:subject/>
  <dc:title>Презентация PowerPoint</dc:title>
</cp:coreProperties>
</file>