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9C53-0EE8-4A14-BE59-BD1CDC34D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2BB4-3C5C-479A-A8B4-61F9C6D1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103C-E9A4-49E8-A1DE-783BF5A78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42D8-B936-401D-89AF-0C953B00D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A6A0-9EDF-496F-B76D-8DD473A8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37DA-7988-4F7C-A5A3-245FADFE9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A4FF-D667-48EE-A592-953FBDE9D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79B3-0E23-463A-830E-9F085FB8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9F1E-2173-4BC2-8C3A-EC6C7B38A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D248-7914-4C87-9403-C394F1B2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1FC7-FEA1-4835-941D-2EA5212B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A5CF-075D-4C14-92EF-2D43528A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7A5F0-FB89-4424-8C2A-755A311C77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files.school-collection.edu.ru/dlrstore/d1a6e9b7-5eda-4be9-bff2-3197b9f145e7/9_77.swf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Заголовок 1"/>
          <p:cNvSpPr/>
          <p:nvPr/>
        </p:nvSpPr>
        <p:spPr>
          <a:xfrm>
            <a:off x="2124000" y="2781360"/>
            <a:ext cx="6696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РГАНИЗАЦИЯ  ВВОДА  И ВЫВОДА 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дзаголовок 2"/>
          <p:cNvSpPr/>
          <p:nvPr/>
        </p:nvSpPr>
        <p:spPr>
          <a:xfrm>
            <a:off x="2050920" y="4076640"/>
            <a:ext cx="6842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ЧАЛА ПРОГРАММ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Заголовок 2"/>
          <p:cNvSpPr/>
          <p:nvPr/>
        </p:nvSpPr>
        <p:spPr>
          <a:xfrm>
            <a:off x="1547640" y="189000"/>
            <a:ext cx="7210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24"/>
          <p:cNvSpPr/>
          <p:nvPr/>
        </p:nvSpPr>
        <p:spPr>
          <a:xfrm>
            <a:off x="250920" y="1125360"/>
            <a:ext cx="8642160" cy="35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во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оперативную память значений переменных используются операторы ввод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readl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ывода данн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з оперативной памяти на экран монитора используются операторы вывода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writ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writel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од исходных данных и вывод результатов должны быть организованы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нятно и удоб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это обеспечивает дружественность пользовательского интерфей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61"/>
          <p:cNvSpPr/>
          <p:nvPr/>
        </p:nvSpPr>
        <p:spPr>
          <a:xfrm>
            <a:off x="539640" y="1833480"/>
            <a:ext cx="8353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ите оператор, обеспечивающий во время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ы ввод значения переменной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summ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64"/>
          <p:cNvSpPr/>
          <p:nvPr/>
        </p:nvSpPr>
        <p:spPr>
          <a:xfrm>
            <a:off x="539640" y="1833480"/>
            <a:ext cx="83534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очисленным переменным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, j, 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ужно присво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ветственно значения 10, 20 и 3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ите оператор ввода, соответствующий входн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ток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20 10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30 20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10,30,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65"/>
          <p:cNvSpPr/>
          <p:nvPr/>
        </p:nvSpPr>
        <p:spPr>
          <a:xfrm>
            <a:off x="539640" y="1833480"/>
            <a:ext cx="83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ишите переменные, необходимые для вычис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ощади  треугольника по его трём сторонам,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ите оператор, обеспечивающий в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ых исходных дан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66"/>
          <p:cNvSpPr/>
          <p:nvPr/>
        </p:nvSpPr>
        <p:spPr>
          <a:xfrm>
            <a:off x="539640" y="1833480"/>
            <a:ext cx="8353440" cy="24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является результатом выполнения операто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write 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write ('a'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write ('a=', 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67"/>
          <p:cNvSpPr/>
          <p:nvPr/>
        </p:nvSpPr>
        <p:spPr>
          <a:xfrm>
            <a:off x="539640" y="1833480"/>
            <a:ext cx="83534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й тип имеет переменная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если после выпол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ератор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экран было выведено следую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1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1.25Е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68"/>
          <p:cNvSpPr/>
          <p:nvPr/>
        </p:nvSpPr>
        <p:spPr>
          <a:xfrm>
            <a:off x="539640" y="183348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м образом можно вывести на экран веществен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в формате с фиксированной запят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69"/>
          <p:cNvSpPr/>
          <p:nvPr/>
        </p:nvSpPr>
        <p:spPr>
          <a:xfrm>
            <a:off x="539640" y="183348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ите операторы ввода двух чисел и вывода их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тном поряд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70"/>
          <p:cNvSpPr/>
          <p:nvPr/>
        </p:nvSpPr>
        <p:spPr>
          <a:xfrm>
            <a:off x="539640" y="1833480"/>
            <a:ext cx="8353440" cy="19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 фрагмент программ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read (a); read (b); c:=a+b; write (a, b); write (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остите его, сократив число операторов ввода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71"/>
          <p:cNvSpPr/>
          <p:nvPr/>
        </p:nvSpPr>
        <p:spPr>
          <a:xfrm>
            <a:off x="539640" y="1773360"/>
            <a:ext cx="8353440" cy="15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 фрагмент программ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a:=10; b:=a+1: a:=b–a; write (a,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числа будут выведены на экран компьюте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72"/>
          <p:cNvSpPr/>
          <p:nvPr/>
        </p:nvSpPr>
        <p:spPr>
          <a:xfrm>
            <a:off x="539640" y="183348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грамму, которая вычисляет площадь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иметр прямоугольника по двум его сторон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1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60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1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30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30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501480" y="907920"/>
            <a:ext cx="86425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во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оперативную память значений переменных выполняют операторы ввод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readl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501480" y="3645000"/>
            <a:ext cx="86425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ывод данн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з оперативной памяти на экран монитора выполняют операторы вывода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writ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writel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6"/>
          <p:cNvSpPr/>
          <p:nvPr/>
        </p:nvSpPr>
        <p:spPr>
          <a:xfrm>
            <a:off x="539640" y="206064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angSong"/>
              </a:rPr>
              <a:t>r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ea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&l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мя переменной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мя переменной 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7"/>
          <p:cNvSpPr/>
          <p:nvPr/>
        </p:nvSpPr>
        <p:spPr>
          <a:xfrm>
            <a:off x="395280" y="2709720"/>
            <a:ext cx="835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исок вво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8"/>
          <p:cNvSpPr/>
          <p:nvPr/>
        </p:nvSpPr>
        <p:spPr>
          <a:xfrm rot="16200000">
            <a:off x="4679640" y="-351000"/>
            <a:ext cx="360360" cy="5904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153720 h 5904000"/>
              <a:gd name="textAreaBottom" fmla="*/ 5750280 h 590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9"/>
          <p:cNvSpPr/>
          <p:nvPr/>
        </p:nvSpPr>
        <p:spPr>
          <a:xfrm rot="16200000">
            <a:off x="5003640" y="1774800"/>
            <a:ext cx="216000" cy="7128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185760 h 7128000"/>
              <a:gd name="textAreaBottom" fmla="*/ 6942240 h 712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0"/>
          <p:cNvSpPr/>
          <p:nvPr/>
        </p:nvSpPr>
        <p:spPr>
          <a:xfrm>
            <a:off x="468360" y="479736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angSong"/>
              </a:rPr>
              <a:t>w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rite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ражение 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ыражение 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, ...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ыражение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1"/>
          <p:cNvSpPr/>
          <p:nvPr/>
        </p:nvSpPr>
        <p:spPr>
          <a:xfrm>
            <a:off x="2050920" y="5589720"/>
            <a:ext cx="619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исок выво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2000"/>
                            </p:stCondLst>
                            <p:childTnLst>
                              <p:par>
                                <p:cTn id="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30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40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0"/>
                            </p:stCondLst>
                            <p:childTnLst>
                              <p:par>
                                <p:cTn id="3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6500"/>
                            </p:stCondLst>
                            <p:childTnLst>
                              <p:par>
                                <p:cTn id="4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75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Источники 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468360" y="126828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files.school-collection.edu.ru/dlrstore/d1a6e9b7-5eda-4be9-bff2-3197b9f145e7/9_77.sw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команда ввода-вы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Ключевы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Объект 4"/>
          <p:cNvSpPr/>
          <p:nvPr/>
        </p:nvSpPr>
        <p:spPr>
          <a:xfrm>
            <a:off x="468360" y="1413000"/>
            <a:ext cx="836280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ератор вывода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ri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ормат вы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ератор ввода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8"/>
          <p:cNvSpPr/>
          <p:nvPr/>
        </p:nvSpPr>
        <p:spPr>
          <a:xfrm>
            <a:off x="500040" y="1571760"/>
            <a:ext cx="8286840" cy="14284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Заголовок 2"/>
          <p:cNvSpPr/>
          <p:nvPr/>
        </p:nvSpPr>
        <p:spPr>
          <a:xfrm>
            <a:off x="539640" y="189000"/>
            <a:ext cx="8147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ывод дан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468360" y="907920"/>
            <a:ext cx="8675640" cy="8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вод данных из оперативной памяти на экра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онитор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 rot="16200000">
            <a:off x="5003640" y="-1322640"/>
            <a:ext cx="215640" cy="7128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185760 h 7128000"/>
              <a:gd name="textAreaBottom" fmla="*/ 6942240 h 712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468360" y="1700280"/>
            <a:ext cx="8424720" cy="16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FangSong"/>
              </a:rPr>
              <a:t>w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rite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ражение 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ыражение 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, ...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ыражение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2050920" y="2492280"/>
            <a:ext cx="619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исок выво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500040" y="3286080"/>
            <a:ext cx="8209080" cy="16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00360" indent="-180036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ыражени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- символьные, числовые, логические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том числе переменные и констан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00360" indent="-180036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00360" indent="-1800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write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's=', s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Для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=15 на экране будет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=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5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Скругленная прямоугольная выноска 11"/>
          <p:cNvSpPr/>
          <p:nvPr/>
        </p:nvSpPr>
        <p:spPr>
          <a:xfrm>
            <a:off x="2428920" y="5715000"/>
            <a:ext cx="6072120" cy="714240"/>
          </a:xfrm>
          <a:prstGeom prst="wedgeRoundRectCallout">
            <a:avLst>
              <a:gd name="adj1" fmla="val -61884"/>
              <a:gd name="adj2" fmla="val -181560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Информация в кавычках выводится на экран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без измен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3" descr="http://worddreams.files.wordpress.com/2010/05/tips-for-article-writers2.jpg?w=500"/>
          <p:cNvPicPr/>
          <p:nvPr/>
        </p:nvPicPr>
        <p:blipFill>
          <a:blip r:embed="rId2"/>
          <a:srcRect l="19564" t="2730" r="17952" b="6965"/>
          <a:stretch/>
        </p:blipFill>
        <p:spPr>
          <a:xfrm>
            <a:off x="7500960" y="3143160"/>
            <a:ext cx="1239840" cy="1785960"/>
          </a:xfrm>
          <a:prstGeom prst="rect">
            <a:avLst/>
          </a:prstGeom>
          <a:ln w="9360">
            <a:solidFill>
              <a:srgbClr val="005ab4"/>
            </a:solidFill>
            <a:miter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Заголовок 2"/>
          <p:cNvSpPr/>
          <p:nvPr/>
        </p:nvSpPr>
        <p:spPr>
          <a:xfrm>
            <a:off x="539640" y="189000"/>
            <a:ext cx="8147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арианты организации выв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71680" y="1714680"/>
          <a:ext cx="8353080" cy="2963520"/>
        </p:xfrm>
        <a:graphic>
          <a:graphicData uri="http://schemas.openxmlformats.org/drawingml/2006/table">
            <a:tbl>
              <a:tblPr/>
              <a:tblGrid>
                <a:gridCol w="2928600"/>
                <a:gridCol w="3624480"/>
                <a:gridCol w="180000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риант организации вывод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тор вывод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 разделите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write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1,  20,  300)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бавить разделители – запят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write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 (1,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’,’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,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 20,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’,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’,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 300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 20, 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бавить разделители – пробе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write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1,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‘  ‘, 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‘  ‘, 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0 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8"/>
          <p:cNvSpPr/>
          <p:nvPr/>
        </p:nvSpPr>
        <p:spPr>
          <a:xfrm>
            <a:off x="1214280" y="2714760"/>
            <a:ext cx="7358400" cy="1143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Заголовок 2"/>
          <p:cNvSpPr/>
          <p:nvPr/>
        </p:nvSpPr>
        <p:spPr>
          <a:xfrm>
            <a:off x="539640" y="189000"/>
            <a:ext cx="8147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Формат выв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571680" y="1428840"/>
            <a:ext cx="83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Формат вывод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позволяет установить количество позиций на экране, занимаемых выводимой величино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28760" y="4071960"/>
          <a:ext cx="8280360" cy="2050920"/>
        </p:xfrm>
        <a:graphic>
          <a:graphicData uri="http://schemas.openxmlformats.org/drawingml/2006/table">
            <a:tbl>
              <a:tblPr/>
              <a:tblGrid>
                <a:gridCol w="4140000"/>
                <a:gridCol w="41403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тор выв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 выполнения операто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4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write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‘s=‘, s:2:0)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s=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write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‘s=‘, s:3:1)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s=15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4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write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‘s=‘, s:5:1)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s= 15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Прямоугольник 12"/>
          <p:cNvSpPr/>
          <p:nvPr/>
        </p:nvSpPr>
        <p:spPr>
          <a:xfrm>
            <a:off x="500040" y="2714760"/>
            <a:ext cx="86439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angSong"/>
              </a:rPr>
              <a:t>write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FangSong"/>
              </a:rPr>
              <a:t>s:x: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ее количество позиций, отводимых под число;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оличество позиций в дробной части чис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3"/>
          <p:cNvSpPr/>
          <p:nvPr/>
        </p:nvSpPr>
        <p:spPr>
          <a:xfrm>
            <a:off x="2143080" y="625788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write</a:t>
            </a:r>
            <a:r>
              <a:rPr b="1" lang="en-US" sz="2000" spc="-1" strike="noStrike">
                <a:solidFill>
                  <a:srgbClr val="000000"/>
                </a:solidFill>
                <a:latin typeface="FangSong"/>
              </a:rPr>
              <a:t>ln 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ывод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овой строк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Заголовок 2"/>
          <p:cNvSpPr/>
          <p:nvPr/>
        </p:nvSpPr>
        <p:spPr>
          <a:xfrm>
            <a:off x="539640" y="189000"/>
            <a:ext cx="81471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ервая програм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928800" y="2000160"/>
            <a:ext cx="7429320" cy="36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progra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n_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ons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pi=3.1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va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r, c, s: rea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r:=5.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:=2*pi*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s:=pi*r*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ln ('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=', c :6:4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ln ('s=', s:6: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4429080" y="4135320"/>
            <a:ext cx="4500720" cy="429120"/>
          </a:xfrm>
          <a:prstGeom prst="rect">
            <a:avLst/>
          </a:prstGeom>
          <a:noFill/>
          <a:ln w="93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зультат работы программ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10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66" name="Picture 15" descr="http://le-savchen.ucoz.ru/Caalla/P6210865.jpg"/>
          <p:cNvPicPr/>
          <p:nvPr/>
        </p:nvPicPr>
        <p:blipFill>
          <a:blip r:embed="rId2"/>
          <a:stretch/>
        </p:blipFill>
        <p:spPr>
          <a:xfrm>
            <a:off x="5357880" y="1366920"/>
            <a:ext cx="3103560" cy="2205000"/>
          </a:xfrm>
          <a:prstGeom prst="rect">
            <a:avLst/>
          </a:prstGeom>
          <a:ln w="28440">
            <a:solidFill>
              <a:srgbClr val="005ab4"/>
            </a:solidFill>
            <a:miter/>
          </a:ln>
        </p:spPr>
      </p:pic>
      <p:grpSp>
        <p:nvGrpSpPr>
          <p:cNvPr id="67" name="Group 21"/>
          <p:cNvGrpSpPr/>
          <p:nvPr/>
        </p:nvGrpSpPr>
        <p:grpSpPr>
          <a:xfrm>
            <a:off x="4429080" y="4643280"/>
            <a:ext cx="4535640" cy="2181240"/>
            <a:chOff x="4429080" y="4643280"/>
            <a:chExt cx="4535640" cy="2181240"/>
          </a:xfrm>
        </p:grpSpPr>
        <p:pic>
          <p:nvPicPr>
            <p:cNvPr id="68" name="Picture 18" descr=""/>
            <p:cNvPicPr/>
            <p:nvPr/>
          </p:nvPicPr>
          <p:blipFill>
            <a:blip r:embed="rId3"/>
            <a:stretch/>
          </p:blipFill>
          <p:spPr>
            <a:xfrm>
              <a:off x="4429080" y="4643280"/>
              <a:ext cx="4535640" cy="21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Text Box 19"/>
            <p:cNvSpPr/>
            <p:nvPr/>
          </p:nvSpPr>
          <p:spPr>
            <a:xfrm>
              <a:off x="4610160" y="5130720"/>
              <a:ext cx="39625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66"/>
                  </a:solidFill>
                  <a:latin typeface="FangSong"/>
                </a:rPr>
                <a:t>Turbo Pascal</a:t>
              </a:r>
              <a:r>
                <a:rPr b="1" lang="ru-RU" sz="2000" spc="-1" strike="noStrike">
                  <a:solidFill>
                    <a:srgbClr val="ffff66"/>
                  </a:solidFill>
                  <a:latin typeface="FangSong"/>
                </a:rPr>
                <a:t>   </a:t>
              </a:r>
              <a:r>
                <a:rPr b="1" lang="en-US" sz="2000" spc="-1" strike="noStrike">
                  <a:solidFill>
                    <a:srgbClr val="ffff66"/>
                  </a:solidFill>
                  <a:latin typeface="FangSong"/>
                </a:rPr>
                <a:t>Version</a:t>
              </a:r>
              <a:r>
                <a:rPr b="1" lang="ru-RU" sz="2000" spc="-1" strike="noStrike">
                  <a:solidFill>
                    <a:srgbClr val="ffff66"/>
                  </a:solidFill>
                  <a:latin typeface="FangSong"/>
                </a:rPr>
                <a:t> 7.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66"/>
                  </a:solidFill>
                  <a:latin typeface="FangSong"/>
                </a:rPr>
                <a:t>c =</a:t>
              </a:r>
              <a:r>
                <a:rPr b="1" lang="ru-RU" sz="2000" spc="-1" strike="noStrike">
                  <a:solidFill>
                    <a:srgbClr val="ffff66"/>
                  </a:solidFill>
                  <a:latin typeface="FangSong"/>
                </a:rPr>
                <a:t>3</a:t>
              </a:r>
              <a:r>
                <a:rPr b="1" lang="en-US" sz="2000" spc="-1" strike="noStrike">
                  <a:solidFill>
                    <a:srgbClr val="ffff66"/>
                  </a:solidFill>
                  <a:latin typeface="FangSong"/>
                </a:rPr>
                <a:t>3.</a:t>
              </a:r>
              <a:r>
                <a:rPr b="1" lang="ru-RU" sz="2000" spc="-1" strike="noStrike">
                  <a:solidFill>
                    <a:srgbClr val="ffff66"/>
                  </a:solidFill>
                  <a:latin typeface="FangSong"/>
                </a:rPr>
                <a:t>91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66"/>
                  </a:solidFill>
                  <a:latin typeface="FangSong"/>
                </a:rPr>
                <a:t>s =</a:t>
              </a:r>
              <a:r>
                <a:rPr b="1" lang="ru-RU" sz="2000" spc="-1" strike="noStrike">
                  <a:solidFill>
                    <a:srgbClr val="ffff66"/>
                  </a:solidFill>
                  <a:latin typeface="FangSong"/>
                </a:rPr>
                <a:t>91</a:t>
              </a:r>
              <a:r>
                <a:rPr b="1" lang="en-US" sz="2000" spc="-1" strike="noStrike">
                  <a:solidFill>
                    <a:srgbClr val="ffff66"/>
                  </a:solidFill>
                  <a:latin typeface="FangSong"/>
                </a:rPr>
                <a:t>.</a:t>
              </a:r>
              <a:r>
                <a:rPr b="1" lang="ru-RU" sz="2000" spc="-1" strike="noStrike">
                  <a:solidFill>
                    <a:srgbClr val="ffff66"/>
                  </a:solidFill>
                  <a:latin typeface="FangSong"/>
                </a:rPr>
                <a:t>562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3"/>
          <p:cNvSpPr/>
          <p:nvPr/>
        </p:nvSpPr>
        <p:spPr>
          <a:xfrm>
            <a:off x="857160" y="4143240"/>
            <a:ext cx="5929560" cy="16430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0"/>
          <p:cNvSpPr/>
          <p:nvPr/>
        </p:nvSpPr>
        <p:spPr>
          <a:xfrm>
            <a:off x="642960" y="1428840"/>
            <a:ext cx="8286840" cy="14288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Заголовок 2"/>
          <p:cNvSpPr/>
          <p:nvPr/>
        </p:nvSpPr>
        <p:spPr>
          <a:xfrm>
            <a:off x="755640" y="189000"/>
            <a:ext cx="79311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вод данных с клавиатур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539640" y="170028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FangSong"/>
              </a:rPr>
              <a:t>r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ea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&l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мя переменной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мя переменной 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611280" y="836640"/>
            <a:ext cx="835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од в оперативную память значений переменных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428760" y="2928960"/>
            <a:ext cx="8353440" cy="33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полнение оператора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re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spcBef>
                <a:spcPts val="5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мпьютер переходит в режим ожидания данных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spcBef>
                <a:spcPts val="5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ьзователь вводит данные с клавиатур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449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сколько значений переменных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исловых типов могут вводиться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ерез пробел или через запяту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449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 вводе символьных переменных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обел и запятую ставить их нельз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spcBef>
                <a:spcPts val="5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ьзователь нажимает клавишу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Ente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395280" y="2349360"/>
            <a:ext cx="835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исок вво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4"/>
          <p:cNvSpPr/>
          <p:nvPr/>
        </p:nvSpPr>
        <p:spPr>
          <a:xfrm rot="16200000">
            <a:off x="4679640" y="-711360"/>
            <a:ext cx="360360" cy="5904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153720 h 5904000"/>
              <a:gd name="textAreaBottom" fmla="*/ 5750280 h 590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6" descr="Reading Icon"/>
          <p:cNvPicPr/>
          <p:nvPr/>
        </p:nvPicPr>
        <p:blipFill>
          <a:blip r:embed="rId2"/>
          <a:stretch/>
        </p:blipFill>
        <p:spPr>
          <a:xfrm>
            <a:off x="7143840" y="4214880"/>
            <a:ext cx="1631880" cy="1643040"/>
          </a:xfrm>
          <a:prstGeom prst="rect">
            <a:avLst/>
          </a:prstGeom>
          <a:ln w="9360">
            <a:solidFill>
              <a:srgbClr val="005ab4"/>
            </a:solidFill>
            <a:miter/>
          </a:ln>
        </p:spPr>
      </p:pic>
    </p:spTree>
  </p:cSld>
  <p:transition>
    <p:wedg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Заголовок 2"/>
          <p:cNvSpPr/>
          <p:nvPr/>
        </p:nvSpPr>
        <p:spPr>
          <a:xfrm>
            <a:off x="755640" y="189000"/>
            <a:ext cx="79311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вод данных с клавиатур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468360" y="6165720"/>
            <a:ext cx="770400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манда ввода-вы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Object 7" descr=""/>
          <p:cNvPicPr/>
          <p:nvPr/>
        </p:nvPicPr>
        <p:blipFill>
          <a:blip r:embed="rId2"/>
          <a:stretch/>
        </p:blipFill>
        <p:spPr>
          <a:xfrm>
            <a:off x="7380360" y="6143760"/>
            <a:ext cx="914400" cy="71424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0"/>
          <p:cNvSpPr/>
          <p:nvPr/>
        </p:nvSpPr>
        <p:spPr>
          <a:xfrm>
            <a:off x="539640" y="1844640"/>
            <a:ext cx="8353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var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i, j: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integer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;x: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real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;a: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char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read (i, j, x, a)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500040" y="4929120"/>
            <a:ext cx="8353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ле выполнения оператора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readln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курсор переходит на новую строк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1428840" y="2786040"/>
            <a:ext cx="6643440" cy="1909440"/>
          </a:xfrm>
          <a:prstGeom prst="rect">
            <a:avLst/>
          </a:prstGeom>
          <a:noFill/>
          <a:ln w="93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арианты организации входного поток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  0  2.5  А&lt;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Ente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gt;   1,0   &lt;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Ente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gt;     1&lt;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Ente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5, А&lt;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Ente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gt;    0&lt;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Ente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r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5&lt;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Ente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А&lt;Ente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719280" y="714240"/>
            <a:ext cx="835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Тип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вводимых значений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лжны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соответствоват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типам переменных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указанных в разделе описания переменны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9"/>
          <p:cNvSpPr/>
          <p:nvPr/>
        </p:nvSpPr>
        <p:spPr>
          <a:xfrm>
            <a:off x="357120" y="714240"/>
            <a:ext cx="357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Заголовок 2"/>
          <p:cNvSpPr/>
          <p:nvPr/>
        </p:nvSpPr>
        <p:spPr>
          <a:xfrm>
            <a:off x="755640" y="189000"/>
            <a:ext cx="79311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Улучшенная програм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468360" y="836640"/>
            <a:ext cx="8675640" cy="52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program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n_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const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pi=3.1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var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r, c, s: 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ln(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'Вычисление длины окружности и площади круга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('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Введите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r&gt;&gt;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readln(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c:=2*pi*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s:=pi*r*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ln ('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=', с:6:4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ln ('s=', s:6: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end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4357800" y="3789360"/>
            <a:ext cx="4535280" cy="429120"/>
          </a:xfrm>
          <a:prstGeom prst="rect">
            <a:avLst/>
          </a:prstGeom>
          <a:noFill/>
          <a:ln w="93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зультат работы программ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11"/>
          <p:cNvGrpSpPr/>
          <p:nvPr/>
        </p:nvGrpSpPr>
        <p:grpSpPr>
          <a:xfrm>
            <a:off x="4356000" y="4383000"/>
            <a:ext cx="4573800" cy="2332080"/>
            <a:chOff x="4356000" y="4383000"/>
            <a:chExt cx="4573800" cy="2332080"/>
          </a:xfrm>
        </p:grpSpPr>
        <p:pic>
          <p:nvPicPr>
            <p:cNvPr id="91" name="Picture 9" descr=""/>
            <p:cNvPicPr/>
            <p:nvPr/>
          </p:nvPicPr>
          <p:blipFill>
            <a:blip r:embed="rId2"/>
            <a:stretch/>
          </p:blipFill>
          <p:spPr>
            <a:xfrm>
              <a:off x="4356000" y="4383000"/>
              <a:ext cx="4573800" cy="23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10"/>
            <p:cNvSpPr/>
            <p:nvPr/>
          </p:nvSpPr>
          <p:spPr>
            <a:xfrm>
              <a:off x="4427640" y="4927680"/>
              <a:ext cx="44402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66"/>
                  </a:solidFill>
                  <a:latin typeface="FangSong"/>
                </a:rPr>
                <a:t>Turbo Pascal</a:t>
              </a:r>
              <a:r>
                <a:rPr b="1" lang="ru-RU" sz="1400" spc="-1" strike="noStrike">
                  <a:solidFill>
                    <a:srgbClr val="ffff66"/>
                  </a:solidFill>
                  <a:latin typeface="FangSong"/>
                </a:rPr>
                <a:t>   </a:t>
              </a:r>
              <a:r>
                <a:rPr b="1" lang="en-US" sz="1400" spc="-1" strike="noStrike">
                  <a:solidFill>
                    <a:srgbClr val="ffff66"/>
                  </a:solidFill>
                  <a:latin typeface="FangSong"/>
                </a:rPr>
                <a:t>Uersion</a:t>
              </a:r>
              <a:r>
                <a:rPr b="1" lang="ru-RU" sz="1400" spc="-1" strike="noStrike">
                  <a:solidFill>
                    <a:srgbClr val="ffff66"/>
                  </a:solidFill>
                  <a:latin typeface="FangSong"/>
                </a:rPr>
                <a:t> 7.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66"/>
                  </a:solidFill>
                  <a:latin typeface="Times New Roman"/>
                  <a:ea typeface="Times New Roman"/>
                </a:rPr>
                <a:t>Вычисление длины окружности и площади круг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66"/>
                  </a:solidFill>
                  <a:latin typeface="Times New Roman"/>
                  <a:ea typeface="Times New Roman"/>
                </a:rPr>
                <a:t>Введите</a:t>
              </a:r>
              <a:r>
                <a:rPr b="1" lang="ru-RU" sz="1400" spc="-1" strike="noStrike">
                  <a:solidFill>
                    <a:srgbClr val="ffff66"/>
                  </a:solidFill>
                  <a:latin typeface="FangSong"/>
                </a:rPr>
                <a:t> </a:t>
              </a:r>
              <a:r>
                <a:rPr b="1" lang="en-US" sz="1400" spc="-1" strike="noStrike">
                  <a:solidFill>
                    <a:srgbClr val="ffff66"/>
                  </a:solidFill>
                  <a:latin typeface="FangSong"/>
                </a:rPr>
                <a:t>r&gt;&gt; 8.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66"/>
                  </a:solidFill>
                  <a:latin typeface="FangSong"/>
                </a:rPr>
                <a:t>c =53.38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66"/>
                  </a:solidFill>
                  <a:latin typeface="FangSong"/>
                </a:rPr>
                <a:t>s =226.86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Босова</cp:lastModifiedBy>
  <dcterms:modified xsi:type="dcterms:W3CDTF">2012-07-09T17:28:27Z</dcterms:modified>
  <cp:revision>95</cp:revision>
  <dc:subject/>
  <dc:title>Презентация PowerPoint</dc:title>
</cp:coreProperties>
</file>