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834-0F2F-4EB7-AD1E-A83A3C27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266-24FC-41F3-A895-CD0F3AAE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1D6-1F3A-45D8-90D9-5CC64328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E81-1B5E-41C7-B52E-DABF866B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23C-4E23-4174-8369-DB61E145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1F3-D24F-46D7-AFB1-BE4D56FB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92B-4DDE-4582-ACF5-86BA58F7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0E0-80BB-4063-951E-6D382901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F0C-0996-4848-B6FA-9FDAB260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FE1-841D-4F8F-8EB8-D57D837C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683-2266-4C17-A978-6B9FA68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964-0847-46FD-97B4-ECE31F1C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1CB9-793F-460E-B2CB-D04DFC75F1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files.school-collection.edu.ru/dlrstore/d1a6e9b7-5eda-4be9-bff2-3197b9f145e7/9_77.sw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 ВВОДА  И ВЫВОДА 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4"/>
          <p:cNvSpPr/>
          <p:nvPr/>
        </p:nvSpPr>
        <p:spPr>
          <a:xfrm>
            <a:off x="250920" y="1125360"/>
            <a:ext cx="864216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оперативную память значений переменных используются операторы вв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а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оперативной памяти на экран монитора используются операторы выво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 исходных данных и вывод результатов должны быть организован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нятно и удоб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это обеспечивает дружественность пользовательского интерфей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61"/>
          <p:cNvSpPr/>
          <p:nvPr/>
        </p:nvSpPr>
        <p:spPr>
          <a:xfrm>
            <a:off x="539640" y="1833480"/>
            <a:ext cx="83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, обеспечивающий во врем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ввод значения переменно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summ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64"/>
          <p:cNvSpPr/>
          <p:nvPr/>
        </p:nvSpPr>
        <p:spPr>
          <a:xfrm>
            <a:off x="539640" y="1833480"/>
            <a:ext cx="8353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численным переменным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j, 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присво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 значения 10, 20 и 3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 ввода, соответствующий вход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20 10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30 20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0,30,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65"/>
          <p:cNvSpPr/>
          <p:nvPr/>
        </p:nvSpPr>
        <p:spPr>
          <a:xfrm>
            <a:off x="539640" y="183348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переменные, необходимые для вы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и  треугольника по его трём сторонам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, обеспечивающий 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ых исход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66"/>
          <p:cNvSpPr/>
          <p:nvPr/>
        </p:nvSpPr>
        <p:spPr>
          <a:xfrm>
            <a:off x="539640" y="1833480"/>
            <a:ext cx="835344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выполнения операт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 ('a'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 ('a=',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67"/>
          <p:cNvSpPr/>
          <p:nvPr/>
        </p:nvSpPr>
        <p:spPr>
          <a:xfrm>
            <a:off x="539640" y="1833480"/>
            <a:ext cx="8353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тип имеет переменна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после 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экран было выведено след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.25Е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68"/>
          <p:cNvSpPr/>
          <p:nvPr/>
        </p:nvSpPr>
        <p:spPr>
          <a:xfrm>
            <a:off x="539640" y="1833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образом можно вывести на экран вещест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в формате с фиксированной запят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69"/>
          <p:cNvSpPr/>
          <p:nvPr/>
        </p:nvSpPr>
        <p:spPr>
          <a:xfrm>
            <a:off x="539640" y="1833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ы ввода двух чисел и вывода их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70"/>
          <p:cNvSpPr/>
          <p:nvPr/>
        </p:nvSpPr>
        <p:spPr>
          <a:xfrm>
            <a:off x="539640" y="1833480"/>
            <a:ext cx="835344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фрагмент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ead (a); read (b); c:=a+b; write (a, b); write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стите его, сократив число операторов ввод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71"/>
          <p:cNvSpPr/>
          <p:nvPr/>
        </p:nvSpPr>
        <p:spPr>
          <a:xfrm>
            <a:off x="539640" y="1773360"/>
            <a:ext cx="835344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фрагмент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:=10; b:=a+1: a:=b–a; write (a,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числа будут выведены на экран компью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72"/>
          <p:cNvSpPr/>
          <p:nvPr/>
        </p:nvSpPr>
        <p:spPr>
          <a:xfrm>
            <a:off x="539640" y="1833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площад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 прямоугольника по двум его сторо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501480" y="907920"/>
            <a:ext cx="8642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оперативную память значений переменных выполняют операторы вв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01480" y="3645000"/>
            <a:ext cx="8642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оперативной памяти на экран монитора выполняют операторы выво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39640" y="2060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395280" y="270972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 rot="16200000">
            <a:off x="4679640" y="-351000"/>
            <a:ext cx="360360" cy="590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 rot="16200000">
            <a:off x="5003640" y="1774800"/>
            <a:ext cx="216000" cy="712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5760 h 7128000"/>
              <a:gd name="textAreaBottom" fmla="*/ 6942240 h 712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468360" y="4797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it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е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 ...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2050920" y="558972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ы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68360" y="1268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files.school-collection.edu.ru/dlrstore/d1a6e9b7-5eda-4be9-bff2-3197b9f145e7/9_77.sw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манда ввода-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 вывод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т 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 ввод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8"/>
          <p:cNvSpPr/>
          <p:nvPr/>
        </p:nvSpPr>
        <p:spPr>
          <a:xfrm>
            <a:off x="500040" y="1571760"/>
            <a:ext cx="8286840" cy="14284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вод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68360" y="907920"/>
            <a:ext cx="8675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од данных из оперативной памяти на экра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и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 rot="16200000">
            <a:off x="5003640" y="-1322640"/>
            <a:ext cx="215640" cy="7128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185760 h 7128000"/>
              <a:gd name="textAreaBottom" fmla="*/ 6942240 h 712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68360" y="1700280"/>
            <a:ext cx="842472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w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rit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е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 ...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050920" y="249228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ы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00040" y="3286080"/>
            <a:ext cx="820908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0360" indent="-18003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- символьные, числовые, логически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ом числе переменные и конста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00360" indent="-18003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's=', 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Дл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15 на экране будет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ая прямоугольная выноска 11"/>
          <p:cNvSpPr/>
          <p:nvPr/>
        </p:nvSpPr>
        <p:spPr>
          <a:xfrm>
            <a:off x="2428920" y="5715000"/>
            <a:ext cx="6072120" cy="714240"/>
          </a:xfrm>
          <a:prstGeom prst="wedgeRoundRectCallout">
            <a:avLst>
              <a:gd name="adj1" fmla="val -61884"/>
              <a:gd name="adj2" fmla="val -18156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нформация в кавычках выводится на экран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ез изме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http://worddreams.files.wordpress.com/2010/05/tips-for-article-writers2.jpg?w=500"/>
          <p:cNvPicPr/>
          <p:nvPr/>
        </p:nvPicPr>
        <p:blipFill>
          <a:blip r:embed="rId2"/>
          <a:srcRect l="19564" t="2730" r="17952" b="6965"/>
          <a:stretch/>
        </p:blipFill>
        <p:spPr>
          <a:xfrm>
            <a:off x="7500960" y="3143160"/>
            <a:ext cx="1239840" cy="178596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арианты организации вы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71680" y="1714680"/>
          <a:ext cx="8353080" cy="2963520"/>
        </p:xfrm>
        <a:graphic>
          <a:graphicData uri="http://schemas.openxmlformats.org/drawingml/2006/table">
            <a:tbl>
              <a:tblPr/>
              <a:tblGrid>
                <a:gridCol w="2928600"/>
                <a:gridCol w="3624480"/>
                <a:gridCol w="18000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организации выв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 выв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раздел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,  20,  300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вить разделители – запя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(1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’,’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20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’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’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3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0,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вить разделители – проб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1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‘  ‘,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‘  ‘,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8"/>
          <p:cNvSpPr/>
          <p:nvPr/>
        </p:nvSpPr>
        <p:spPr>
          <a:xfrm>
            <a:off x="1214280" y="2714760"/>
            <a:ext cx="73584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ормат вы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71680" y="1428840"/>
            <a:ext cx="83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ат вывод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зволяет установить количество позиций на экране, занимаемых выводимой величи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28760" y="4071960"/>
          <a:ext cx="8280360" cy="205092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 вы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выполнения опера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2:0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3:1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5:1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 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Прямоугольник 12"/>
          <p:cNvSpPr/>
          <p:nvPr/>
        </p:nvSpPr>
        <p:spPr>
          <a:xfrm>
            <a:off x="500040" y="2714760"/>
            <a:ext cx="8643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s:x: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е количество позиций, отводимых под число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личество позиций в дробной части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2143080" y="62578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1" lang="en-US" sz="2000" spc="-1" strike="noStrike">
                <a:solidFill>
                  <a:srgbClr val="000000"/>
                </a:solidFill>
                <a:latin typeface="FangSong"/>
              </a:rPr>
              <a:t>ln 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в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овой строк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2"/>
          <p:cNvSpPr/>
          <p:nvPr/>
        </p:nvSpPr>
        <p:spPr>
          <a:xfrm>
            <a:off x="539640" y="189000"/>
            <a:ext cx="8147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вая програм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28800" y="2000160"/>
            <a:ext cx="742932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n_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pi=3.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r, c, s: re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:=5.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:=2*pi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pi*r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=', c :6: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s=', s:6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429080" y="4135320"/>
            <a:ext cx="450072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ультат работы програм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6" name="Picture 15" descr="http://le-savchen.ucoz.ru/Caalla/P6210865.jpg"/>
          <p:cNvPicPr/>
          <p:nvPr/>
        </p:nvPicPr>
        <p:blipFill>
          <a:blip r:embed="rId2"/>
          <a:stretch/>
        </p:blipFill>
        <p:spPr>
          <a:xfrm>
            <a:off x="5357880" y="1366920"/>
            <a:ext cx="3103560" cy="2205000"/>
          </a:xfrm>
          <a:prstGeom prst="rect">
            <a:avLst/>
          </a:prstGeom>
          <a:ln w="28440">
            <a:solidFill>
              <a:srgbClr val="005ab4"/>
            </a:solidFill>
            <a:miter/>
          </a:ln>
        </p:spPr>
      </p:pic>
      <p:grpSp>
        <p:nvGrpSpPr>
          <p:cNvPr id="67" name="Group 21"/>
          <p:cNvGrpSpPr/>
          <p:nvPr/>
        </p:nvGrpSpPr>
        <p:grpSpPr>
          <a:xfrm>
            <a:off x="4429080" y="4643280"/>
            <a:ext cx="4535640" cy="2181240"/>
            <a:chOff x="4429080" y="4643280"/>
            <a:chExt cx="4535640" cy="2181240"/>
          </a:xfrm>
        </p:grpSpPr>
        <p:pic>
          <p:nvPicPr>
            <p:cNvPr id="68" name="Picture 18" descr=""/>
            <p:cNvPicPr/>
            <p:nvPr/>
          </p:nvPicPr>
          <p:blipFill>
            <a:blip r:embed="rId3"/>
            <a:stretch/>
          </p:blipFill>
          <p:spPr>
            <a:xfrm>
              <a:off x="4429080" y="4643280"/>
              <a:ext cx="453564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9"/>
            <p:cNvSpPr/>
            <p:nvPr/>
          </p:nvSpPr>
          <p:spPr>
            <a:xfrm>
              <a:off x="4610160" y="5130720"/>
              <a:ext cx="39625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Turbo Pascal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   </a:t>
              </a: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Version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 7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c =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3</a:t>
              </a: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3.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91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s =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91</a:t>
              </a: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.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56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3"/>
          <p:cNvSpPr/>
          <p:nvPr/>
        </p:nvSpPr>
        <p:spPr>
          <a:xfrm>
            <a:off x="857160" y="4143240"/>
            <a:ext cx="5929560" cy="1643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642960" y="1428840"/>
            <a:ext cx="8286840" cy="14288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вод данных с клавиат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9640" y="1700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a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11280" y="83664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од в оперативную память значений переменных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28760" y="2928960"/>
            <a:ext cx="83534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ение оператор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ьютер переходит в режим ожидания данны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вводит данные с клавиатур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4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значений переменны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ловых типов могут вводить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ез пробел или через запят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4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вводе символьных переменн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бел и запятую ставить их нельз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нажимает клавишу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95280" y="2349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4"/>
          <p:cNvSpPr/>
          <p:nvPr/>
        </p:nvSpPr>
        <p:spPr>
          <a:xfrm rot="16200000">
            <a:off x="4679640" y="-711360"/>
            <a:ext cx="360360" cy="590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Reading Icon"/>
          <p:cNvPicPr/>
          <p:nvPr/>
        </p:nvPicPr>
        <p:blipFill>
          <a:blip r:embed="rId2"/>
          <a:stretch/>
        </p:blipFill>
        <p:spPr>
          <a:xfrm>
            <a:off x="7143840" y="4214880"/>
            <a:ext cx="1631880" cy="164304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вод данных с клавиат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468360" y="6165720"/>
            <a:ext cx="7704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анда ввода-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Object 7" descr=""/>
          <p:cNvPicPr/>
          <p:nvPr/>
        </p:nvPicPr>
        <p:blipFill>
          <a:blip r:embed="rId2"/>
          <a:stretch/>
        </p:blipFill>
        <p:spPr>
          <a:xfrm>
            <a:off x="7380360" y="614376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539640" y="1844640"/>
            <a:ext cx="835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, j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;x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al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;a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 (i, j, x, a)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00040" y="4929120"/>
            <a:ext cx="835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 выполнения оператор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adl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урсор переходит на новую стро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428840" y="2786040"/>
            <a:ext cx="6643440" cy="19094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рианты организации входного пот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 0  2.5  А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1,0   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  1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5, А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 0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5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&lt;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19280" y="7142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ип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водимых значени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лжны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ответство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ипам переме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указанных в разделе описания переме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357120" y="714240"/>
            <a:ext cx="35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лучшенная програм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68360" y="836640"/>
            <a:ext cx="8675640" cy="52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pi=3.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r, c, 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'Вычисление длины окружности и площади круг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('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ведите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r&gt;&gt;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(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c:=2*pi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pi*r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=', с:6: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s=', s:6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357800" y="3789360"/>
            <a:ext cx="453528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ультат работы програм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1"/>
          <p:cNvGrpSpPr/>
          <p:nvPr/>
        </p:nvGrpSpPr>
        <p:grpSpPr>
          <a:xfrm>
            <a:off x="4356000" y="4383000"/>
            <a:ext cx="4573800" cy="2332080"/>
            <a:chOff x="4356000" y="4383000"/>
            <a:chExt cx="4573800" cy="2332080"/>
          </a:xfrm>
        </p:grpSpPr>
        <p:pic>
          <p:nvPicPr>
            <p:cNvPr id="91" name="Picture 9" descr=""/>
            <p:cNvPicPr/>
            <p:nvPr/>
          </p:nvPicPr>
          <p:blipFill>
            <a:blip r:embed="rId2"/>
            <a:stretch/>
          </p:blipFill>
          <p:spPr>
            <a:xfrm>
              <a:off x="4356000" y="4383000"/>
              <a:ext cx="457380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0"/>
            <p:cNvSpPr/>
            <p:nvPr/>
          </p:nvSpPr>
          <p:spPr>
            <a:xfrm>
              <a:off x="4427640" y="4927680"/>
              <a:ext cx="4440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FangSong"/>
                </a:rPr>
                <a:t>Turbo Pascal</a:t>
              </a:r>
              <a:r>
                <a:rPr b="1" lang="ru-RU" sz="1400" spc="-1" strike="noStrike">
                  <a:solidFill>
                    <a:srgbClr val="ffff66"/>
                  </a:solidFill>
                  <a:latin typeface="FangSong"/>
                </a:rPr>
                <a:t>   </a:t>
              </a:r>
              <a:r>
                <a:rPr b="1" lang="en-US" sz="1400" spc="-1" strike="noStrike">
                  <a:solidFill>
                    <a:srgbClr val="ffff66"/>
                  </a:solidFill>
                  <a:latin typeface="FangSong"/>
                </a:rPr>
                <a:t>Uersion</a:t>
              </a:r>
              <a:r>
                <a:rPr b="1" lang="ru-RU" sz="1400" spc="-1" strike="noStrike">
                  <a:solidFill>
                    <a:srgbClr val="ffff66"/>
                  </a:solidFill>
                  <a:latin typeface="FangSong"/>
                </a:rPr>
                <a:t> 7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Вычисление длины окружности и площади кру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Введите</a:t>
              </a:r>
              <a:r>
                <a:rPr b="1" lang="ru-RU" sz="1400" spc="-1" strike="noStrike">
                  <a:solidFill>
                    <a:srgbClr val="ffff66"/>
                  </a:solidFill>
                  <a:latin typeface="FangSong"/>
                </a:rPr>
                <a:t> </a:t>
              </a:r>
              <a:r>
                <a:rPr b="1" lang="en-US" sz="1400" spc="-1" strike="noStrike">
                  <a:solidFill>
                    <a:srgbClr val="ffff66"/>
                  </a:solidFill>
                  <a:latin typeface="FangSong"/>
                </a:rPr>
                <a:t>r&gt;&gt; 8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FangSong"/>
                </a:rPr>
                <a:t>c =53.3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FangSong"/>
                </a:rPr>
                <a:t>s =226.86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9T17:28:27Z</dcterms:modified>
  <cp:revision>95</cp:revision>
  <dc:subject/>
  <dc:title>Презентация PowerPoint</dc:title>
</cp:coreProperties>
</file>