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4DE-E4E5-4207-ABC7-91F9E075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CDB-1AF1-4EB6-BF0F-1723E288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56A-4796-427A-89F9-681E8177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EF2-3827-439B-BD99-34238549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D57-E84F-4E3C-8611-E307AACD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AC0-CE30-48B3-963E-07AEA505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5A4-7F94-4876-867A-A9EE8877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2AB-3F97-4567-A449-97995F08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5F9-1242-49A6-A93C-DF8BC07E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60F-050B-4D1B-9044-7FEE63CE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83F-2187-4A2B-9B4A-55C68335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0C6-AE05-48A4-96B0-68C5DF58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A563-27AC-4189-B6BD-B55A00EF0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МПЬЮТЕРНЫЕ 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ЛЬТИМЕД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о происхождение термина «презентаци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116000" y="198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информация может быть размещена на слайде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116000" y="198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в технологиях гипертекста и гипермедиа?  Чем они отлич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шаблон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дизайн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макет слай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116000" y="19890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начинающим разработчикам презентаций рекомендуется пользоваться шаблонами презентаций, дизайнами презентаций и макетами слай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этапы создания презентац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042920" y="836640"/>
            <a:ext cx="78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16000" y="836640"/>
            <a:ext cx="7777080" cy="764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убличный способ представления информации, наглядный и эффе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332000" y="2025720"/>
            <a:ext cx="180000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3851280" y="4437000"/>
            <a:ext cx="1942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йд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3132000" y="2168640"/>
            <a:ext cx="75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>
            <a:off x="4788000" y="231300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6659640" y="191628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кс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6661080" y="2386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унк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661080" y="288936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тогра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6661080" y="3394080"/>
            <a:ext cx="1943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имация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6661080" y="3897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о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6661080" y="4402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ук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9"/>
          <p:cNvSpPr/>
          <p:nvPr/>
        </p:nvSpPr>
        <p:spPr>
          <a:xfrm>
            <a:off x="4788000" y="3176640"/>
            <a:ext cx="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4788000" y="4005360"/>
            <a:ext cx="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9"/>
          <p:cNvSpPr/>
          <p:nvPr/>
        </p:nvSpPr>
        <p:spPr>
          <a:xfrm>
            <a:off x="5869080" y="1952640"/>
            <a:ext cx="287280" cy="2736720"/>
          </a:xfrm>
          <a:custGeom>
            <a:avLst/>
            <a:gdLst>
              <a:gd name="textAreaLeft" fmla="*/ 0 w 287280"/>
              <a:gd name="textAreaRight" fmla="*/ 103680 w 28728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0"/>
          <p:cNvSpPr/>
          <p:nvPr/>
        </p:nvSpPr>
        <p:spPr>
          <a:xfrm flipH="1">
            <a:off x="6300000" y="1952640"/>
            <a:ext cx="360360" cy="2736720"/>
          </a:xfrm>
          <a:custGeom>
            <a:avLst/>
            <a:gdLst>
              <a:gd name="textAreaLeft" fmla="*/ 0 w 360360"/>
              <a:gd name="textAreaRight" fmla="*/ 12996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3887640" y="1952640"/>
            <a:ext cx="1873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йд 1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364000" y="5300640"/>
            <a:ext cx="316872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5329080" y="5948280"/>
            <a:ext cx="32068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I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 flipV="1">
            <a:off x="4429080" y="555156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4392720" y="5767560"/>
            <a:ext cx="93636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403280" y="5553000"/>
            <a:ext cx="309744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3851280" y="364500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3851280" y="285264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йд 2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5.2 (стр. 206 -2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228 (стр. 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ай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аблон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зайн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кет слай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ерссы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ы ани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8101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Что такое 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87280" y="981000"/>
            <a:ext cx="76327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это публичный способ представления информации, наглядный и эффект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мпьютерная презент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ультимедийный продукт, представляющий собой последовательность выдержанных в одном графическом стил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айд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держащих текст, рисунки, фотографии, анимацию, видео и звуковой ря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айд презен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многослойная струк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Олени"/>
          <p:cNvPicPr/>
          <p:nvPr/>
        </p:nvPicPr>
        <p:blipFill>
          <a:blip r:embed="rId1"/>
          <a:stretch/>
        </p:blipFill>
        <p:spPr>
          <a:xfrm>
            <a:off x="1187280" y="9079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7632720" cy="521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1187280" y="1341360"/>
            <a:ext cx="7632720" cy="4681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116000" y="907920"/>
            <a:ext cx="7850160" cy="14346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лайдах могут быть размещены гиперссылки, обеспечивающие переход к информационным объектам на других слайдах презентации, в других файлах и в сети Интерне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293840" y="4292640"/>
            <a:ext cx="3565440" cy="1099440"/>
          </a:xfrm>
          <a:prstGeom prst="rect">
            <a:avLst/>
          </a:prstGeom>
          <a:noFill/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е объекты (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слова или словосочета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124000" y="2924280"/>
            <a:ext cx="1943280" cy="4291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940360" y="2924280"/>
            <a:ext cx="2014560" cy="4291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меди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219640" y="4292640"/>
            <a:ext cx="3565440" cy="1099440"/>
          </a:xfrm>
          <a:prstGeom prst="rect">
            <a:avLst/>
          </a:prstGeom>
          <a:noFill/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ие и звуковые объе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3059280" y="242100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 flipV="1">
            <a:off x="6948360" y="242100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V="1">
            <a:off x="3059280" y="342900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6948360" y="342900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6516720" y="5084640"/>
            <a:ext cx="1224000" cy="2890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405080" y="515772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клам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това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а выстав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2844720" y="4437000"/>
            <a:ext cx="50328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580000" y="5157720"/>
            <a:ext cx="324000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бизнесе д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еподнесения ид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клиентам инвестор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332000" y="134136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з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ового матери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ученикам и студент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435640" y="134136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ыступ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доклад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а конфер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2916360" y="2637000"/>
            <a:ext cx="43020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 flipV="1">
            <a:off x="6516720" y="2565000"/>
            <a:ext cx="503280" cy="64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 flipH="1" flipV="1">
            <a:off x="6587640" y="4437000"/>
            <a:ext cx="505080" cy="719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348000" y="3141720"/>
            <a:ext cx="3240000" cy="1297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мпьюте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403280" y="2924280"/>
            <a:ext cx="316872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5435640" y="2924280"/>
            <a:ext cx="32068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I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716360" y="2060640"/>
            <a:ext cx="1727280" cy="86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V="1">
            <a:off x="2627280" y="2060280"/>
            <a:ext cx="172728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создания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2303640" cy="2252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048040" cy="2019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создания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ап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здания презент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ланирование (разработка сценария)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4572000" y="3071520"/>
            <a:ext cx="0" cy="5000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258920" y="443700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нтаж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1258920" y="537372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петиция выступления с презентаци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4572000" y="494172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330200" y="3573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бор подходящего шаб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V="1">
            <a:off x="4572000" y="313992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71640" y="134136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зент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330200" y="263844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це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330200" y="3573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думывание подходящего шаб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330200" y="451008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думывание дизайна презен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330200" y="544680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думывание информационных объе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V="1">
            <a:off x="4643280" y="50148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ланирование (разработка сценария)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 flipV="1">
            <a:off x="4572000" y="306828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00360" y="134136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онта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зент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етаскива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58920" y="335772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реза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 flipV="1">
            <a:off x="4572000" y="306972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258920" y="422280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дале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 flipV="1">
            <a:off x="4572000" y="386208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 flipV="1">
            <a:off x="4572000" y="4714560"/>
            <a:ext cx="0" cy="4287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1187280" y="6021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ставка из буфера обме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4572000" y="5589360"/>
            <a:ext cx="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258920" y="515772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пирование в буфер обме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Олени"/>
          <p:cNvPicPr/>
          <p:nvPr/>
        </p:nvPicPr>
        <p:blipFill>
          <a:blip r:embed="rId1"/>
          <a:stretch/>
        </p:blipFill>
        <p:spPr>
          <a:xfrm>
            <a:off x="1116000" y="1052640"/>
            <a:ext cx="7777080" cy="583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7561080" cy="5172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3"/>
          <a:stretch/>
        </p:blipFill>
        <p:spPr>
          <a:xfrm>
            <a:off x="1547640" y="1844640"/>
            <a:ext cx="6912000" cy="4238640"/>
          </a:xfrm>
          <a:prstGeom prst="rect">
            <a:avLst/>
          </a:prstGeom>
          <a:ln w="0">
            <a:noFill/>
          </a:ln>
        </p:spPr>
      </p:pic>
      <p:sp>
        <p:nvSpPr>
          <p:cNvPr id="242" name="WordArt 5"/>
          <p:cNvSpPr txBox="1"/>
          <p:nvPr/>
        </p:nvSpPr>
        <p:spPr>
          <a:xfrm>
            <a:off x="1692360" y="2852640"/>
            <a:ext cx="633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ани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0.5296 C 0.18299 -0.5296 0.33854 -0.3432 0.33854 -0.11401 C 0.33854 0.11494 0.18299 0.30157 -0.00799 0.30157 C -0.1993 0.30157 -0.35434 0.11494 -0.35434 -0.11401 C -0.35434 -0.3432 -0.1993 -0.5296 -0.00799 -0.5296 Z">
                                      <p:cBhvr>
                                        <p:cTn id="155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63737E-006 L -0.32291 -0.43525 E">
                                      <p:cBhvr>
                                        <p:cTn id="15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7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04117 C -0.37396 0.14847 -0.29305 0.30504 -0.19444 0.30504 C -0.07812 0.30504 -0.03594 0.13159 -0.0184 0.02775 L -1.66667E-006 -0.11055 C 0.01806 -0.21438 0.06268 -0.38714 0.19427 -0.38714 C 0.2783 -0.38714 0.37413 -0.23127 0.37413 -0.04117 C 0.37413 0.14847 0.2783 0.30504 0.19427 0.30504 C 0.06268 0.30504 0.01806 0.13159 -1.66667E-006 0.02775 L -0.0184 -0.11055 C -0.03594 -0.21438 -0.07812 -0.38714 -0.19444 -0.38714 C -0.29305 -0.38714 -0.37396 -0.23127 -0.37396 -0.04117 Z">
                                      <p:cBhvr>
                                        <p:cTn id="168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32562E-008 L 0.29549 -0.39778 E">
                                      <p:cBhvr>
                                        <p:cTn id="17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2" nodeType="afterEffect" fill="hold" presetClass="path" presetID="1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798 -0.5289 L 0.38594 0.31013 L -0.40156 0.31013 L -0.00798 -0.5289 Z">
                                      <p:cBhvr>
                                        <p:cTn id="183" dur="5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-4.56059E-006 L -2.22222E-006 0.23682 E">
                                      <p:cBhvr>
                                        <p:cTn id="186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24000" y="981000"/>
            <a:ext cx="8496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убличный способ представления информации, наглядный и эффе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ьютерная 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мультимедийный продукт, представляющий собой последовательность выдержанных в одном графическом стил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ай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держащих текст, рисунки, фотографии, анимацию, видео и звуковой 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распространёнными программными средствами для создания мультимедийных презентаций являются приложения Microsoft PowerPoint и OpenOffice.org Im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8:21:43Z</dcterms:modified>
  <cp:revision>51</cp:revision>
  <dc:subject/>
  <dc:title>Презентация PowerPoint</dc:title>
</cp:coreProperties>
</file>