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A5E-BC07-4A2B-B812-E22E2BD7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4BB-8421-40A5-B12C-269C30B9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ABF-4657-4C0D-B9A7-9D6CFFBD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799-E2E6-49E5-B4FE-05DF3127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939-C9DA-4419-ADBC-700DD0BE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EA1-29C1-4131-8B28-E8A7CFE5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DAE-28AE-4E00-A8D9-ECB5D5BC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8BE-E536-468E-8CAB-469109CF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369-3D0F-405D-A0D6-47592256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ECA-6D86-462E-B0CF-D6873A65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3C1-657D-47D9-BB3C-F6401F9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9B2-9EB9-4539-8675-38F2821B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182C-454D-49F4-89F4-38B198F8E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МПЬЮТЕРНЫЕ 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ЛЬТИМЕД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происхождение термина «презентаци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116000" y="19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информация может быть размещена на слайде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116000" y="19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в технологиях гипертекста и гипермедиа?  Чем они отлич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шаблон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дизайн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макет слай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116000" y="19890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ачинающим разработчикам презентаций рекомендуется пользоваться шаблонами презентаций, дизайнами презентаций и макетами слай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этапы создания презентац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042920" y="83664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16000" y="836640"/>
            <a:ext cx="7777080" cy="764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убличный способ представления информации, наглядный и эффе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332000" y="2025720"/>
            <a:ext cx="180000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3851280" y="4437000"/>
            <a:ext cx="1942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йд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3132000" y="2168640"/>
            <a:ext cx="75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>
            <a:off x="4788000" y="231300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6659640" y="191628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кс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6661080" y="2386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унк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661080" y="2889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тогра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6661080" y="339408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имация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6661080" y="3897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о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6661080" y="4402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ук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9"/>
          <p:cNvSpPr/>
          <p:nvPr/>
        </p:nvSpPr>
        <p:spPr>
          <a:xfrm>
            <a:off x="4788000" y="3176640"/>
            <a:ext cx="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4788000" y="4005360"/>
            <a:ext cx="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9"/>
          <p:cNvSpPr/>
          <p:nvPr/>
        </p:nvSpPr>
        <p:spPr>
          <a:xfrm>
            <a:off x="5869080" y="1952640"/>
            <a:ext cx="287280" cy="2736720"/>
          </a:xfrm>
          <a:custGeom>
            <a:avLst/>
            <a:gdLst>
              <a:gd name="textAreaLeft" fmla="*/ 0 w 287280"/>
              <a:gd name="textAreaRight" fmla="*/ 103680 w 28728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0"/>
          <p:cNvSpPr/>
          <p:nvPr/>
        </p:nvSpPr>
        <p:spPr>
          <a:xfrm flipH="1">
            <a:off x="6300000" y="195264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3887640" y="1952640"/>
            <a:ext cx="1873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йд 1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364000" y="5300640"/>
            <a:ext cx="316872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5329080" y="5948280"/>
            <a:ext cx="32068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I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 flipV="1">
            <a:off x="4429080" y="55515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4392720" y="5767560"/>
            <a:ext cx="93636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403280" y="5553000"/>
            <a:ext cx="309744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3851280" y="364500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3851280" y="285264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йд 2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5.2 (стр. 206 -2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228 (стр. 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ай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блон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зайн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кет слай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ерссы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ы ани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8101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Что такое 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87280" y="981000"/>
            <a:ext cx="76327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это публичный способ представления информации, наглядный и эффект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мпьютерная презент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ультимедийный продукт, представляющий собой последовательность выдержанных в одном графическом стил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айд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держащих текст, рисунки, фотографии, анимацию, видео и звуковой ря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айд 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многослойная струк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Олени"/>
          <p:cNvPicPr/>
          <p:nvPr/>
        </p:nvPicPr>
        <p:blipFill>
          <a:blip r:embed="rId1"/>
          <a:stretch/>
        </p:blipFill>
        <p:spPr>
          <a:xfrm>
            <a:off x="1187280" y="9079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7632720" cy="521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1187280" y="1341360"/>
            <a:ext cx="763272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116000" y="907920"/>
            <a:ext cx="7850160" cy="14346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лайдах могут быть размещены гиперссылки, обеспечивающие переход к информационным объектам на других слайдах презентации, в других файлах и в сети Интерн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293840" y="4292640"/>
            <a:ext cx="3565440" cy="1099440"/>
          </a:xfrm>
          <a:prstGeom prst="rect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е объекты (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слова или словосочета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124000" y="2924280"/>
            <a:ext cx="1943280" cy="429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940360" y="2924280"/>
            <a:ext cx="2014560" cy="429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меди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219640" y="4292640"/>
            <a:ext cx="3565440" cy="1099440"/>
          </a:xfrm>
          <a:prstGeom prst="rect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ие и звуковые объе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3059280" y="242100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V="1">
            <a:off x="6948360" y="242100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V="1">
            <a:off x="3059280" y="342900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6948360" y="342900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6516720" y="5084640"/>
            <a:ext cx="1224000" cy="2890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405080" y="515772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клам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това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 выстав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2844720" y="4437000"/>
            <a:ext cx="50328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580000" y="5157720"/>
            <a:ext cx="324000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бизнесе д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еподнесения ид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клиентам инвестор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332000" y="134136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з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ового матери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ученикам и студент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435640" y="134136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ыступ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доклад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 конфер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2916360" y="2637000"/>
            <a:ext cx="4302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 flipV="1">
            <a:off x="6516720" y="2565000"/>
            <a:ext cx="503280" cy="64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 flipH="1" flipV="1">
            <a:off x="6587640" y="4437000"/>
            <a:ext cx="505080" cy="719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348000" y="3141720"/>
            <a:ext cx="3240000" cy="1297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мпьют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403280" y="2924280"/>
            <a:ext cx="316872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5435640" y="2924280"/>
            <a:ext cx="32068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I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716360" y="2060640"/>
            <a:ext cx="1727280" cy="86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V="1">
            <a:off x="2627280" y="2060280"/>
            <a:ext cx="17272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создания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2303640" cy="2252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048040" cy="201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создания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ап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здания презен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ланирование (разработка сценария)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4572000" y="3071520"/>
            <a:ext cx="0" cy="5000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258920" y="443700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нтаж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1258920" y="537372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петиция выступления с презентаци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4572000" y="494172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330200" y="3573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бор подходящего шаб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V="1">
            <a:off x="4572000" y="313992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71640" y="134136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зент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330200" y="263844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ц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330200" y="3573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думывание подходящего шаб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330200" y="451008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думывание дизайна презен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330200" y="544680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думывание информационных объе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4643280" y="50148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ланирование (разработка сценария)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 flipV="1">
            <a:off x="4572000" y="306828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00360" y="134136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онта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зент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етаскива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58920" y="335772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реза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 flipV="1">
            <a:off x="4572000" y="306972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258920" y="422280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дале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 flipV="1">
            <a:off x="4572000" y="38620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 flipV="1">
            <a:off x="4572000" y="4714560"/>
            <a:ext cx="0" cy="4287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1187280" y="6021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ставка из буфера обме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4572000" y="5589360"/>
            <a:ext cx="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258920" y="515772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пирование в буфер обме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Олени"/>
          <p:cNvPicPr/>
          <p:nvPr/>
        </p:nvPicPr>
        <p:blipFill>
          <a:blip r:embed="rId1"/>
          <a:stretch/>
        </p:blipFill>
        <p:spPr>
          <a:xfrm>
            <a:off x="1116000" y="1052640"/>
            <a:ext cx="7777080" cy="583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7561080" cy="5172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3"/>
          <a:stretch/>
        </p:blipFill>
        <p:spPr>
          <a:xfrm>
            <a:off x="1547640" y="1844640"/>
            <a:ext cx="6912000" cy="423864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>
            <a:off x="1692360" y="2852640"/>
            <a:ext cx="633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ани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5296 C 0.18299 -0.5296 0.33854 -0.3432 0.33854 -0.11401 C 0.33854 0.11494 0.18299 0.30157 -0.00799 0.30157 C -0.1993 0.30157 -0.35434 0.11494 -0.35434 -0.11401 C -0.35434 -0.3432 -0.1993 -0.5296 -0.00799 -0.5296 Z">
                                      <p:cBhvr>
                                        <p:cTn id="158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63737E-006 L -0.32291 -0.43525 E">
                                      <p:cBhvr>
                                        <p:cTn id="16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04117 C -0.37396 0.14847 -0.29305 0.30504 -0.19444 0.30504 C -0.07812 0.30504 -0.03594 0.13159 -0.0184 0.02775 L -1.66667E-006 -0.11055 C 0.01806 -0.21438 0.06268 -0.38714 0.19427 -0.38714 C 0.2783 -0.38714 0.37413 -0.23127 0.37413 -0.04117 C 0.37413 0.14847 0.2783 0.30504 0.19427 0.30504 C 0.06268 0.30504 0.01806 0.13159 -1.66667E-006 0.02775 L -0.0184 -0.11055 C -0.03594 -0.21438 -0.07812 -0.38714 -0.19444 -0.38714 C -0.29305 -0.38714 -0.37396 -0.23127 -0.37396 -0.04117 Z">
                                      <p:cBhvr>
                                        <p:cTn id="171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32562E-008 L 0.29549 -0.39778 E">
                                      <p:cBhvr>
                                        <p:cTn id="17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5" nodeType="afterEffect" fill="hold" presetClass="path" presetID="1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798 -0.5289 L 0.38594 0.31013 L -0.40156 0.31013 L -0.00798 -0.5289 Z">
                                      <p:cBhvr>
                                        <p:cTn id="186" dur="5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-4.56059E-006 L -2.22222E-006 0.23682 E">
                                      <p:cBhvr>
                                        <p:cTn id="189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10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24000" y="981000"/>
            <a:ext cx="8496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убличный способ представления информации, наглядный и эффе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ьютерная 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мультимедийный продукт, представляющий собой последовательность выдержанных в одном графическом стил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ай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щих текст, рисунки, фотографии, анимацию, видео и звуковой 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распространёнными программными средствами для создания мультимедийных презентаций являются приложения Microsoft PowerPoint и OpenOffice.org Im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8:21:43Z</dcterms:modified>
  <cp:revision>51</cp:revision>
  <dc:subject/>
  <dc:title>Презентация PowerPoint</dc:title>
</cp:coreProperties>
</file>