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AF3-E17A-4B49-9838-47A964AA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F2C-318E-4A1F-AD7C-70DB3979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7FC-7DB6-48BD-997A-341AEFAF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DAF-CE4B-4CCE-ABB7-F6650BC7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F45-0F5C-42E5-AE7F-636997F4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CAA-3D16-45C7-8567-464AEB0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785-D5C4-4C2F-B084-1FDBE554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3BD-B815-4C0F-A7AD-5B801E43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9EC-3AE8-4465-B961-06DD953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0CB-C212-4D3B-A3D2-AF3D500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605-EABE-4FC3-A4DA-167B0D0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DA0-976E-4BEB-B7DD-23BE140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3E7-C0EF-4801-84EC-914CC9B934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e12acb-61f6-4714-8385-0c892973055b/%5BINF_015%5D_%5BPD_01%5D.swf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РМИРОВАНИЕ ИЗОБРАЖЕНИЯ НА ЭКРАНЕ МОНИ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ГРАФИЧЕСК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кс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транственное разрешение мони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ветовая модель RG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убина цв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к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процесс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астота обновления эк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странственное разрешение мони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160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на экране монитора формируется из отдельных точек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икс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бразующих строки; всё изображение состоит из определённого количества таких стр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52360" y="2492280"/>
            <a:ext cx="7848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количество пикселей, из которых складывается изображение на его экране.  Оно определяется как произведение количества строк изображения на количество точек в строке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ешение монитор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280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02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изображение на его экране будет состоять из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024 строк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каждая из которых содержи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1280 пиксе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16000" y="1197000"/>
            <a:ext cx="770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е высокого разрешения состоит из большого количества мелких точек и имеет хорошую чёткость. Изображение низкого разрешения состоит из меньшего количества более крупных точек и может быть недостаточно чётк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857240" y="5786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ображения высокого и низкого раз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2050920" y="3295800"/>
            <a:ext cx="2449800" cy="2260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"/>
          <p:cNvPicPr/>
          <p:nvPr/>
        </p:nvPicPr>
        <p:blipFill>
          <a:blip r:embed="rId2"/>
          <a:stretch/>
        </p:blipFill>
        <p:spPr>
          <a:xfrm>
            <a:off x="4643280" y="3336840"/>
            <a:ext cx="230508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омпьютерное представление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5" descr=""/>
          <p:cNvPicPr/>
          <p:nvPr/>
        </p:nvPicPr>
        <p:blipFill>
          <a:blip r:embed="rId1"/>
          <a:stretch/>
        </p:blipFill>
        <p:spPr>
          <a:xfrm>
            <a:off x="3924360" y="2492280"/>
            <a:ext cx="224928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1116000" y="1052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ческий глаз воспринимает каждый из многочисленных цветов и оттенков окружающего мира как сумму взятых в различных пропорциях трёх базовых цветов - красного, зелёного и син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042920" y="981000"/>
            <a:ext cx="792180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ервых цветных мониторов базовые цвета имели всего две градации яркости, т. е. каждый из трёх базовых цветов либо участвовал в образовании цвета пикселя (1), либо нет ( 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итра таких мониторов состояла из восьми цветов. При этом каждый цвет можно было за кодировать цепочкой из трёх нулей и единиц - трёхразрядным двоичным к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116000" y="3141720"/>
          <a:ext cx="7704000" cy="3355920"/>
        </p:xfrm>
        <a:graphic>
          <a:graphicData uri="http://schemas.openxmlformats.org/drawingml/2006/table">
            <a:tbl>
              <a:tblPr/>
              <a:tblGrid>
                <a:gridCol w="1539720"/>
                <a:gridCol w="1541520"/>
                <a:gridCol w="1541520"/>
                <a:gridCol w="1541520"/>
                <a:gridCol w="153972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кость базовых ц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ё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урпу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74"/>
          <p:cNvSpPr/>
          <p:nvPr/>
        </p:nvSpPr>
        <p:spPr>
          <a:xfrm>
            <a:off x="1071720" y="1000080"/>
            <a:ext cx="784836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компьютеры обладают необычайно богатыми палитрами, количество цветов в которых зависит от того, сколько двоичных разрядов отводится для кодирования цвета пикс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лина двоичного кода, который используется для кодирования цвета пикселя. Количеств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ветов в палитре и глуби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вета связаны между собой соотношением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58920" y="4581360"/>
          <a:ext cx="7561080" cy="1943280"/>
        </p:xfrm>
        <a:graphic>
          <a:graphicData uri="http://schemas.openxmlformats.org/drawingml/2006/table">
            <a:tbl>
              <a:tblPr/>
              <a:tblGrid>
                <a:gridCol w="2881440"/>
                <a:gridCol w="467964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 в палит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5 5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6 777 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78" name="Object 92" descr=""/>
          <p:cNvPicPr/>
          <p:nvPr/>
        </p:nvPicPr>
        <p:blipFill>
          <a:blip r:embed="rId2"/>
          <a:stretch/>
        </p:blipFill>
        <p:spPr>
          <a:xfrm>
            <a:off x="3780000" y="5084640"/>
            <a:ext cx="20332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Line 14"/>
          <p:cNvSpPr/>
          <p:nvPr/>
        </p:nvSpPr>
        <p:spPr>
          <a:xfrm flipV="1">
            <a:off x="4572000" y="580500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7308720" y="580500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635280" y="5373720"/>
            <a:ext cx="20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идео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83280" y="5373720"/>
            <a:ext cx="22701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идеопроцесс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4572000" y="4869000"/>
            <a:ext cx="12240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H="1" flipV="1">
            <a:off x="5795640" y="486900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>
            <a:hlinkClick r:id="rId1"/>
          </p:cNvPr>
          <p:cNvSpPr/>
          <p:nvPr/>
        </p:nvSpPr>
        <p:spPr>
          <a:xfrm>
            <a:off x="1763640" y="4292640"/>
            <a:ext cx="1692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859280" y="4292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идеоадап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идеосистема персонального компью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16000" y="10526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чество изображения на экране компьютера зависит как от пространственного разрешения монитора, так и от характеристик видеокарты (видеоадаптера), состоящей из видеопамяти и виде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ject 12" descr=""/>
          <p:cNvPicPr/>
          <p:nvPr/>
        </p:nvPicPr>
        <p:blipFill>
          <a:blip r:embed="rId2"/>
          <a:stretch/>
        </p:blipFill>
        <p:spPr>
          <a:xfrm>
            <a:off x="3924360" y="2492280"/>
            <a:ext cx="155088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Line 13"/>
          <p:cNvSpPr/>
          <p:nvPr/>
        </p:nvSpPr>
        <p:spPr>
          <a:xfrm flipH="1" flipV="1">
            <a:off x="4211280" y="3789360"/>
            <a:ext cx="1079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3203640" y="3789360"/>
            <a:ext cx="100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627280" y="3357720"/>
            <a:ext cx="3168720" cy="4316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иде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348000" y="6093000"/>
            <a:ext cx="219564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мер 256, 512 М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940360" y="6093000"/>
            <a:ext cx="2448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астота об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рана не менее 75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16000" y="112536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, глубина цвета и частота обновления экрана - основные параметры, определяющие качество компьютерного изображения. В операционных системах предусмотрена возможность выбора необходимого пользователю и технически возможного графического реж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16000" y="907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читайте объём видеопамяти, необходимой для хранения графического изображения, занимающего весь экран монитора с разрешением 64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480 и палитрой из 65 536 цв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16000" y="2781360"/>
            <a:ext cx="78487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5 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0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 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16000" y="4653000"/>
            <a:ext cx="78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536 = 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  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итов) = 3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йтов) = 6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бай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116000" y="609300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600 Кбай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348000" y="2997360"/>
            <a:ext cx="972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1341360" y="4149720"/>
            <a:ext cx="2016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3"/>
          <a:stretch/>
        </p:blipFill>
        <p:spPr>
          <a:xfrm>
            <a:off x="1357200" y="3213000"/>
            <a:ext cx="6500880" cy="18892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"/>
          <p:cNvPicPr/>
          <p:nvPr/>
        </p:nvPicPr>
        <p:blipFill>
          <a:blip r:embed="rId4"/>
          <a:stretch/>
        </p:blipFill>
        <p:spPr>
          <a:xfrm>
            <a:off x="1979640" y="5462640"/>
            <a:ext cx="5786280" cy="1395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11280" y="907920"/>
            <a:ext cx="828180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на экране монитора формируется из отдельных точ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ик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ранственное разрешение мони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кселей, из которых складывается из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иксель имеет определённый цвет, который получ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бинацией трёх базовых цве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ого, зелёного и син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ветовая модель RG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двоичного кода, который использ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дирования цвета пикселя. Количество цвет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алитре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 связаны между собой соотношением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карта (видеопам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еопроцессор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ют видеосистему персонального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87280" y="206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между пуантилизмом (техника живописи), созданием мозаичных изображений и формированием изображения на экране мони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цветовую модель RG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87280" y="206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обенности нашего зрения положены в основу формирования изображений на экране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нужна видеопам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187280" y="206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функции выполняет видеопроцесс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187280" y="20606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в общих чертах работу видеосистемы персонального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187280" y="2060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 «В операционных системах предусмотрена возможность выбора необходимого пользователю и технически возможного графического режим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187280" y="2060640"/>
            <a:ext cx="77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читайте объём видеопамяти, необходимой для хранения графического изображения, занимающего весь экран монитора с разрешением 102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768 и количеством отображаемых цветов, равным 16 777 2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1187280" y="2060640"/>
            <a:ext cx="7777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 хотите работать с разрешением монитора 16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200 пикселей, используя 16  777  216  цветов. В магазине продаются видеокарты с памятью 512 Кбайт, 2 Мбайт, 4 Мбайт и 64 Мбайт. Какую из них можно купить для вашей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187280" y="206064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йте объём данных, передаваемых в секунду от видеопамяти к монитору в режиме 10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8 пикселей с глубиной цвета 16  битов и частотой обновления экрана 75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7280" y="2384280"/>
            <a:ext cx="266400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иксел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187280" y="3033720"/>
            <a:ext cx="266400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лубина цвет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187280" y="3679920"/>
            <a:ext cx="266400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187280" y="4329000"/>
            <a:ext cx="266400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литра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187280" y="4903920"/>
            <a:ext cx="2664000" cy="75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странств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ешение мони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1187280" y="5877000"/>
            <a:ext cx="266400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астота об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ра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4643280" y="209700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устройство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4678200" y="278136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икселей, из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ывается изоб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678200" y="346536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ечный элемент экрана мони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4678200" y="4184640"/>
            <a:ext cx="4319640" cy="828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двоичного кода, 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тся для код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а пикс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4714920" y="5192640"/>
            <a:ext cx="4319640" cy="7574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цветов, которы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оизведены при вы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я на монито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4643280" y="609300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обновлений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кране монитора в секун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042920" y="126828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онятиями и их опис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22 (стр.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26 (стр. 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0"/>
          <p:cNvSpPr/>
          <p:nvPr/>
        </p:nvSpPr>
        <p:spPr>
          <a:xfrm>
            <a:off x="1116000" y="1413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те (отметьте галочкой) основные параметры монитора, определяющие качество компьютерного изоб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47640" y="2349360"/>
          <a:ext cx="6985080" cy="4114800"/>
        </p:xfrm>
        <a:graphic>
          <a:graphicData uri="http://schemas.openxmlformats.org/drawingml/2006/table">
            <a:tbl>
              <a:tblPr/>
              <a:tblGrid>
                <a:gridCol w="2303640"/>
                <a:gridCol w="46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по диагона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анственное разреш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овая част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мая мощ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ь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стродейств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обновления экра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34 (стр. 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4"/>
          <p:cNvSpPr/>
          <p:nvPr/>
        </p:nvSpPr>
        <p:spPr>
          <a:xfrm>
            <a:off x="1116000" y="1413000"/>
            <a:ext cx="7848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е таблицу, вычислив количество цветов в палит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вестной глубине цвет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87280" y="2421000"/>
          <a:ext cx="7705800" cy="3657600"/>
        </p:xfrm>
        <a:graphic>
          <a:graphicData uri="http://schemas.openxmlformats.org/drawingml/2006/table">
            <a:tbl>
              <a:tblPr/>
              <a:tblGrid>
                <a:gridCol w="3019680"/>
                <a:gridCol w="468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цвет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 в палитре 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280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280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28080">
                      <a:solidFill>
                        <a:srgbClr val="66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1116000" y="836640"/>
            <a:ext cx="7848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иксель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ая точка изображение на экране 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114560" y="5157720"/>
            <a:ext cx="187308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24360" y="5013360"/>
            <a:ext cx="180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9440" y="5589720"/>
            <a:ext cx="1834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V="1">
            <a:off x="2989440" y="5192640"/>
            <a:ext cx="97128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5445000"/>
            <a:ext cx="936720" cy="324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116000" y="1844640"/>
            <a:ext cx="7848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ество пикселей, из которых складывается изоб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кране монито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ранственное разре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ни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59640" y="5373720"/>
            <a:ext cx="216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624720" y="5950080"/>
            <a:ext cx="22017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ео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5724360" y="555300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722920" y="5805360"/>
            <a:ext cx="936720" cy="324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116000" y="3068640"/>
            <a:ext cx="7848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овая модел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GB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ация трёх базовых цвет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асно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елёног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инег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42920" y="4005360"/>
            <a:ext cx="7848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цветов в палитр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7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.1 (стр. 104-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22 – 137 (стр.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57:39Z</dcterms:modified>
  <cp:revision>47</cp:revision>
  <dc:subject/>
  <dc:title>Презентация PowerPoint</dc:title>
</cp:coreProperties>
</file>