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17.wmf" ContentType="image/x-wmf"/>
  <Override PartName="/ppt/media/image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0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12.jpeg" ContentType="image/jpeg"/>
  <Override PartName="/ppt/media/image4.png" ContentType="image/png"/>
  <Override PartName="/ppt/media/image25.wmf" ContentType="image/x-wmf"/>
  <Override PartName="/ppt/media/image23.gif" ContentType="image/gif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638-9636-40FE-8AE5-6DDA1F425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4FEE-A29A-48C3-A548-F6EC1F2C8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B346-F17C-424A-BC0A-F0800A8F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579B-66E8-4020-9A5A-E11D9526C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6A3C-9084-4345-9716-3E7AC7415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60C3-AEBC-4EFC-A398-865709946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A9D8-2242-4C43-B048-6627A901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1FBE9-2586-46A8-B02D-9C02D47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4EDF-5C93-4DB6-A6B1-F39E7A20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68EA-C264-4CCF-A09C-468238E8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1712-AE23-4BD4-B490-520E3C8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81A2-122D-4187-A54A-ED7526E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E95E-E022-472C-B0A1-551E695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B0A0-E033-4611-ADAD-FC92B02BE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9FA6-327A-47D9-A1BE-E1E48B3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DE5E6-2A28-472E-9F7F-2A3697A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26C68-B102-4EAE-B476-BD358E4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F9EC-B83F-41B0-BBE9-9CE7A64E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6A3E-8549-4628-8AF6-18F1D06E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FAB98-E8D6-4257-9355-0302004D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3BCB9-AA22-4079-9135-CA7665FC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894FF-DBAD-4E95-8352-D7AD8B4B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EDA08-E87C-4146-B237-816EB8F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DC3E4-6C8B-4FEF-BDA3-B6F3B56F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4974-DAAC-42F5-92A2-7A57BDE4DE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3B5C1-5509-4F06-98D9-8697E19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00A3C-B5B3-44BC-9F5D-ECEA738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161C1-DF84-4C00-95ED-80A2739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17F5B-B0B5-4760-BBAB-0E288FE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B0A9D-E4EF-4590-BACE-33C5C32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3B846-F73F-4CD0-82FE-12617CD8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0C7C6-7260-4A84-955A-E60B86E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80C9-248E-4CC8-9B13-C6D41A635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EE3B-33D2-4942-B87B-DEB4B127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4770-56DC-4A8A-B6BE-3200F6E93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5297-BD2D-4DBA-BB27-EF50357A2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312B-31BA-47AE-B412-A0218968A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1704-AC9E-4051-A4E8-077919AB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DD3-3C5A-432A-83D3-388CF8CF8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5E2-C1E0-4602-89B8-22848DEF42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C20-5563-400D-858F-E48275E595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5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7.wmf"/><Relationship Id="rId5" Type="http://schemas.openxmlformats.org/officeDocument/2006/relationships/image" Target="../media/image32.png"/><Relationship Id="rId6" Type="http://schemas.openxmlformats.org/officeDocument/2006/relationships/image" Target="../media/image20.wmf"/><Relationship Id="rId7" Type="http://schemas.openxmlformats.org/officeDocument/2006/relationships/image" Target="../media/image23.gif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images.yandex.ru/search%3Fp=3&amp;text=&#1073;&#1086;&#1075;&amp;spsite=fake-004-139968.ru&amp;img_url=i41.ltalk.ru%2F39%2F90%2F119039%2F1%2F3530901%2F233877355593.jpeg&amp;rpt=simag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BA1-DC18-477A-B6F3-36CA5BF81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Цепочки слов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6320" y="3492360"/>
            <a:ext cx="3926160" cy="2067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857480" y="3071520"/>
            <a:ext cx="3857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стройте цепочки слов, заменяя каждый раз в исходном слове только одну букв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685800" y="1828800"/>
          <a:ext cx="2085840" cy="4664160"/>
        </p:xfrm>
        <a:graphic>
          <a:graphicData uri="http://schemas.openxmlformats.org/drawingml/2006/table">
            <a:tbl>
              <a:tblPr/>
              <a:tblGrid>
                <a:gridCol w="20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Picture 95" descr="MCj04380660000[1]"/>
          <p:cNvPicPr/>
          <p:nvPr/>
        </p:nvPicPr>
        <p:blipFill>
          <a:blip r:embed="rId1"/>
          <a:stretch/>
        </p:blipFill>
        <p:spPr>
          <a:xfrm>
            <a:off x="3995640" y="198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74A-DE11-41A8-91B1-C8A72210B1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82760" y="1571760"/>
          <a:ext cx="2160360" cy="496872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31" descr="4638_main_b"/>
          <p:cNvPicPr/>
          <p:nvPr/>
        </p:nvPicPr>
        <p:blipFill>
          <a:blip r:embed="rId1"/>
          <a:stretch/>
        </p:blipFill>
        <p:spPr>
          <a:xfrm>
            <a:off x="3500280" y="2214720"/>
            <a:ext cx="3816360" cy="29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267-5A7B-4A4C-A698-75E02DD1F3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571680" y="1500120"/>
          <a:ext cx="2143080" cy="50641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28" descr="MCj01964580000[1]"/>
          <p:cNvPicPr/>
          <p:nvPr/>
        </p:nvPicPr>
        <p:blipFill>
          <a:blip r:embed="rId1"/>
          <a:stretch/>
        </p:blipFill>
        <p:spPr>
          <a:xfrm>
            <a:off x="3571920" y="164304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MCj04413910000[1]"/>
          <p:cNvPicPr/>
          <p:nvPr/>
        </p:nvPicPr>
        <p:blipFill>
          <a:blip r:embed="rId2"/>
          <a:stretch/>
        </p:blipFill>
        <p:spPr>
          <a:xfrm>
            <a:off x="5214960" y="3286080"/>
            <a:ext cx="246204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9E80-A689-44C0-893F-B098FE1141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00040" y="1785960"/>
          <a:ext cx="2127240" cy="4664160"/>
        </p:xfrm>
        <a:graphic>
          <a:graphicData uri="http://schemas.openxmlformats.org/drawingml/2006/table">
            <a:tbl>
              <a:tblPr/>
              <a:tblGrid>
                <a:gridCol w="212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Picture 30" descr="MCj02954470000[1]"/>
          <p:cNvPicPr/>
          <p:nvPr/>
        </p:nvPicPr>
        <p:blipFill>
          <a:blip r:embed="rId1"/>
          <a:stretch/>
        </p:blipFill>
        <p:spPr>
          <a:xfrm>
            <a:off x="3571920" y="2000160"/>
            <a:ext cx="2898720" cy="207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MCj03516410000[1]"/>
          <p:cNvPicPr/>
          <p:nvPr/>
        </p:nvPicPr>
        <p:blipFill>
          <a:blip r:embed="rId2"/>
          <a:stretch/>
        </p:blipFill>
        <p:spPr>
          <a:xfrm>
            <a:off x="6143760" y="4071960"/>
            <a:ext cx="2376360" cy="20638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97BE-3559-4DD0-AF30-3E80C22930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500040" y="1785960"/>
          <a:ext cx="2171880" cy="4664160"/>
        </p:xfrm>
        <a:graphic>
          <a:graphicData uri="http://schemas.openxmlformats.org/drawingml/2006/table">
            <a:tbl>
              <a:tblPr/>
              <a:tblGrid>
                <a:gridCol w="217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30" descr="MPj03878110000[1]"/>
          <p:cNvPicPr/>
          <p:nvPr/>
        </p:nvPicPr>
        <p:blipFill>
          <a:blip r:embed="rId1"/>
          <a:stretch/>
        </p:blipFill>
        <p:spPr>
          <a:xfrm>
            <a:off x="3924360" y="1989000"/>
            <a:ext cx="3660840" cy="26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5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1F8-4817-401B-ACB7-40BACD0AF7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500040" y="1500120"/>
          <a:ext cx="2214720" cy="46641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33" descr="MCj04359310000[1]"/>
          <p:cNvPicPr/>
          <p:nvPr/>
        </p:nvPicPr>
        <p:blipFill>
          <a:blip r:embed="rId1"/>
          <a:stretch/>
        </p:blipFill>
        <p:spPr>
          <a:xfrm>
            <a:off x="6215040" y="3000240"/>
            <a:ext cx="1944720" cy="145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MCj02283440000[1]"/>
          <p:cNvPicPr/>
          <p:nvPr/>
        </p:nvPicPr>
        <p:blipFill>
          <a:blip r:embed="rId2"/>
          <a:stretch/>
        </p:blipFill>
        <p:spPr>
          <a:xfrm>
            <a:off x="3429000" y="2500200"/>
            <a:ext cx="2048040" cy="2340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914-6037-450A-8C75-B19A3F0DF2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30" descr="MCj04405300000[1]"/>
          <p:cNvPicPr/>
          <p:nvPr/>
        </p:nvPicPr>
        <p:blipFill>
          <a:blip r:embed="rId1"/>
          <a:stretch/>
        </p:blipFill>
        <p:spPr>
          <a:xfrm>
            <a:off x="6480000" y="1335240"/>
            <a:ext cx="1692360" cy="21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MMj03368570000[1]"/>
          <p:cNvPicPr/>
          <p:nvPr/>
        </p:nvPicPr>
        <p:blipFill>
          <a:blip r:embed="rId2"/>
          <a:stretch/>
        </p:blipFill>
        <p:spPr>
          <a:xfrm>
            <a:off x="3643200" y="2286000"/>
            <a:ext cx="144936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2" descr="MCj03479310000[1]"/>
          <p:cNvPicPr/>
          <p:nvPr/>
        </p:nvPicPr>
        <p:blipFill>
          <a:blip r:embed="rId3"/>
          <a:stretch/>
        </p:blipFill>
        <p:spPr>
          <a:xfrm>
            <a:off x="4716360" y="3860640"/>
            <a:ext cx="1511280" cy="216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505-9381-4DA0-90C4-D5D65887F8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33" descr="MCj03893100000[1]"/>
          <p:cNvPicPr/>
          <p:nvPr/>
        </p:nvPicPr>
        <p:blipFill>
          <a:blip r:embed="rId1"/>
          <a:stretch/>
        </p:blipFill>
        <p:spPr>
          <a:xfrm>
            <a:off x="4500720" y="5157720"/>
            <a:ext cx="936360" cy="1308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4" descr="MCj03892920000[1]"/>
          <p:cNvPicPr/>
          <p:nvPr/>
        </p:nvPicPr>
        <p:blipFill>
          <a:blip r:embed="rId2"/>
          <a:stretch/>
        </p:blipFill>
        <p:spPr>
          <a:xfrm>
            <a:off x="5435640" y="5084640"/>
            <a:ext cx="720720" cy="136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6" descr="MCj03893100000[1]"/>
          <p:cNvPicPr/>
          <p:nvPr/>
        </p:nvPicPr>
        <p:blipFill>
          <a:blip r:embed="rId3"/>
          <a:stretch/>
        </p:blipFill>
        <p:spPr>
          <a:xfrm>
            <a:off x="3564000" y="5157720"/>
            <a:ext cx="1079280" cy="137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MCj03893060000[1]"/>
          <p:cNvPicPr/>
          <p:nvPr/>
        </p:nvPicPr>
        <p:blipFill>
          <a:blip r:embed="rId4"/>
          <a:stretch/>
        </p:blipFill>
        <p:spPr>
          <a:xfrm>
            <a:off x="7143840" y="2214720"/>
            <a:ext cx="1820880" cy="10033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9" descr=""/>
          <p:cNvPicPr/>
          <p:nvPr/>
        </p:nvPicPr>
        <p:blipFill>
          <a:blip r:embed="rId5"/>
          <a:stretch/>
        </p:blipFill>
        <p:spPr>
          <a:xfrm>
            <a:off x="3724200" y="3017880"/>
            <a:ext cx="3346560" cy="11523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DC3-D330-4B2F-B6F8-0D825235BF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00040" y="1214280"/>
          <a:ext cx="2071800" cy="46641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Управляющая кнопка: домой 2"/>
          <p:cNvSpPr/>
          <p:nvPr/>
        </p:nvSpPr>
        <p:spPr>
          <a:xfrm>
            <a:off x="4500720" y="60721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9" y="17989"/>
                </a:lnTo>
                <a:lnTo>
                  <a:pt x="9079" y="10800"/>
                </a:lnTo>
                <a:lnTo>
                  <a:pt x="7425" y="10800"/>
                </a:lnTo>
                <a:close/>
              </a:path>
              <a:path fill="darkenLess" w="28776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6" h="21600">
                <a:moveTo>
                  <a:pt x="13465" y="14299"/>
                </a:moveTo>
                <a:lnTo>
                  <a:pt x="15311" y="14299"/>
                </a:lnTo>
                <a:lnTo>
                  <a:pt x="15311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9" y="10800"/>
                </a:lnTo>
                <a:lnTo>
                  <a:pt x="9079" y="17989"/>
                </a:lnTo>
                <a:lnTo>
                  <a:pt x="13465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95" descr="MCj04380660000[1]"/>
          <p:cNvPicPr/>
          <p:nvPr/>
        </p:nvPicPr>
        <p:blipFill>
          <a:blip r:embed="rId1"/>
          <a:stretch/>
        </p:blipFill>
        <p:spPr>
          <a:xfrm>
            <a:off x="3286080" y="857160"/>
            <a:ext cx="946080" cy="94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4638_main_b"/>
          <p:cNvPicPr/>
          <p:nvPr/>
        </p:nvPicPr>
        <p:blipFill>
          <a:blip r:embed="rId2"/>
          <a:stretch/>
        </p:blipFill>
        <p:spPr>
          <a:xfrm>
            <a:off x="4206960" y="1566720"/>
            <a:ext cx="1334880" cy="1030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MCj04413910000[1]"/>
          <p:cNvPicPr/>
          <p:nvPr/>
        </p:nvPicPr>
        <p:blipFill>
          <a:blip r:embed="rId3"/>
          <a:stretch/>
        </p:blipFill>
        <p:spPr>
          <a:xfrm>
            <a:off x="5500800" y="2143080"/>
            <a:ext cx="785880" cy="87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30" descr="MCj02954470000[1]"/>
          <p:cNvPicPr/>
          <p:nvPr/>
        </p:nvPicPr>
        <p:blipFill>
          <a:blip r:embed="rId4"/>
          <a:stretch/>
        </p:blipFill>
        <p:spPr>
          <a:xfrm>
            <a:off x="6143760" y="2500200"/>
            <a:ext cx="1428480" cy="102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0" descr="MPj03878110000[1]"/>
          <p:cNvPicPr/>
          <p:nvPr/>
        </p:nvPicPr>
        <p:blipFill>
          <a:blip r:embed="rId5"/>
          <a:stretch/>
        </p:blipFill>
        <p:spPr>
          <a:xfrm>
            <a:off x="4280040" y="3279600"/>
            <a:ext cx="1517400" cy="108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MCj04359310000[1]"/>
          <p:cNvPicPr/>
          <p:nvPr/>
        </p:nvPicPr>
        <p:blipFill>
          <a:blip r:embed="rId6"/>
          <a:stretch/>
        </p:blipFill>
        <p:spPr>
          <a:xfrm>
            <a:off x="5929200" y="3929040"/>
            <a:ext cx="1214640" cy="90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1" descr="MMj03368570000[1]"/>
          <p:cNvPicPr/>
          <p:nvPr/>
        </p:nvPicPr>
        <p:blipFill>
          <a:blip r:embed="rId7"/>
          <a:stretch/>
        </p:blipFill>
        <p:spPr>
          <a:xfrm>
            <a:off x="6715080" y="4572000"/>
            <a:ext cx="1013040" cy="865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0" descr=""/>
          <p:cNvPicPr/>
          <p:nvPr/>
        </p:nvPicPr>
        <p:blipFill>
          <a:blip r:embed="rId8"/>
          <a:stretch/>
        </p:blipFill>
        <p:spPr>
          <a:xfrm>
            <a:off x="6638760" y="5467320"/>
            <a:ext cx="2011680" cy="708120"/>
          </a:xfrm>
          <a:prstGeom prst="rect">
            <a:avLst/>
          </a:prstGeom>
          <a:ln w="0">
            <a:noFill/>
          </a:ln>
        </p:spPr>
      </p:pic>
      <p:sp>
        <p:nvSpPr>
          <p:cNvPr id="240" name="Номер слайда 11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26F-998F-4F1E-9C1C-5BE46A8D0C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71520" y="2071800"/>
            <a:ext cx="27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ЕГ – ШАГ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ИГ – ВЕ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Прямоугольник 3" descr=""/>
          <p:cNvPicPr/>
          <p:nvPr/>
        </p:nvPicPr>
        <p:blipFill>
          <a:blip r:embed="rId3"/>
          <a:stretch/>
        </p:blipFill>
        <p:spPr>
          <a:xfrm>
            <a:off x="2371680" y="639720"/>
            <a:ext cx="4187880" cy="120168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30A8-DE22-4001-998F-114BDFA18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i?id=53367421&amp;tov=5&amp;n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92840" y="2779560"/>
            <a:ext cx="2273040" cy="2810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0"/>
          <p:cNvSpPr/>
          <p:nvPr/>
        </p:nvSpPr>
        <p:spPr>
          <a:xfrm>
            <a:off x="3786120" y="13572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рхъестественное существо  в разных религ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928800" y="1857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079-D463-457E-88B2-2F43C2C07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23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571920" y="14288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ую или левую сторону туловища от плеча до бед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1"/>
          <a:stretch/>
        </p:blipFill>
        <p:spPr>
          <a:xfrm>
            <a:off x="4429080" y="278604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928800" y="26431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те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омер слайда 9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E47-3841-4F61-859F-02F134958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22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3" descr="MCj03979670000[1]"/>
          <p:cNvPicPr/>
          <p:nvPr/>
        </p:nvPicPr>
        <p:blipFill>
          <a:blip r:embed="rId1"/>
          <a:stretch/>
        </p:blipFill>
        <p:spPr>
          <a:xfrm>
            <a:off x="5000760" y="342900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4"/>
          <p:cNvSpPr/>
          <p:nvPr/>
        </p:nvSpPr>
        <p:spPr>
          <a:xfrm>
            <a:off x="3857760" y="18572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мкость в которой может храниться мусор, вод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928800" y="33577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ECAE-009B-4734-8827-0B56FF105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165320"/>
          <a:ext cx="2819160" cy="507204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7" descr="MCj00881900000[1]"/>
          <p:cNvPicPr/>
          <p:nvPr/>
        </p:nvPicPr>
        <p:blipFill>
          <a:blip r:embed="rId1"/>
          <a:stretch/>
        </p:blipFill>
        <p:spPr>
          <a:xfrm>
            <a:off x="5357880" y="2571840"/>
            <a:ext cx="2092320" cy="3043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8"/>
          <p:cNvSpPr/>
          <p:nvPr/>
        </p:nvSpPr>
        <p:spPr>
          <a:xfrm>
            <a:off x="3714840" y="13572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ение, семена которого добавляют в бул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00008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3B97-6155-4F32-AF74-A0E60FF865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981000"/>
          <a:ext cx="3106800" cy="5145120"/>
        </p:xfrm>
        <a:graphic>
          <a:graphicData uri="http://schemas.openxmlformats.org/drawingml/2006/table">
            <a:tbl>
              <a:tblPr/>
              <a:tblGrid>
                <a:gridCol w="31068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5" descr="i?id=34795742&amp;tov=7&amp;n=2"/>
          <p:cNvPicPr/>
          <p:nvPr/>
        </p:nvPicPr>
        <p:blipFill>
          <a:blip r:embed="rId1"/>
          <a:stretch/>
        </p:blipFill>
        <p:spPr>
          <a:xfrm>
            <a:off x="5214960" y="2928960"/>
            <a:ext cx="1785960" cy="23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8"/>
          <p:cNvSpPr/>
          <p:nvPr/>
        </p:nvSpPr>
        <p:spPr>
          <a:xfrm>
            <a:off x="4286160" y="1143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, который владеет тайнами магии, чарод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285920" y="4714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531-55F8-4544-BD98-9AF9280F60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268280"/>
          <a:ext cx="2890800" cy="485784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24"/>
          <p:cNvSpPr/>
          <p:nvPr/>
        </p:nvSpPr>
        <p:spPr>
          <a:xfrm>
            <a:off x="3929040" y="1214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ницу меры длины, равную расстоянию между стопами ног пр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6" descr="MMj03364140000[1]"/>
          <p:cNvPicPr/>
          <p:nvPr/>
        </p:nvPicPr>
        <p:blipFill>
          <a:blip r:embed="rId1"/>
          <a:stretch/>
        </p:blipFill>
        <p:spPr>
          <a:xfrm>
            <a:off x="5429160" y="4000680"/>
            <a:ext cx="2071800" cy="2071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1214280" y="55008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5CE1-4911-4CF4-9C33-9EF93692C4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981000"/>
          <a:ext cx="2760480" cy="518472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Ш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29" descr="MCj04366680000[1]"/>
          <p:cNvPicPr/>
          <p:nvPr/>
        </p:nvPicPr>
        <p:blipFill>
          <a:blip r:embed="rId1"/>
          <a:stretch/>
        </p:blipFill>
        <p:spPr>
          <a:xfrm>
            <a:off x="4143240" y="1428840"/>
            <a:ext cx="857520" cy="121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"/>
          <p:cNvPicPr/>
          <p:nvPr/>
        </p:nvPicPr>
        <p:blipFill>
          <a:blip r:embed="rId2"/>
          <a:stretch/>
        </p:blipFill>
        <p:spPr>
          <a:xfrm>
            <a:off x="4857840" y="20718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MCj03979670000[1]"/>
          <p:cNvPicPr/>
          <p:nvPr/>
        </p:nvPicPr>
        <p:blipFill>
          <a:blip r:embed="rId3"/>
          <a:stretch/>
        </p:blipFill>
        <p:spPr>
          <a:xfrm>
            <a:off x="571500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MCj00881900000[1]"/>
          <p:cNvPicPr/>
          <p:nvPr/>
        </p:nvPicPr>
        <p:blipFill>
          <a:blip r:embed="rId4"/>
          <a:stretch/>
        </p:blipFill>
        <p:spPr>
          <a:xfrm>
            <a:off x="6643800" y="3714840"/>
            <a:ext cx="734760" cy="106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i?id=34795742&amp;tov=7&amp;n=2"/>
          <p:cNvPicPr/>
          <p:nvPr/>
        </p:nvPicPr>
        <p:blipFill>
          <a:blip r:embed="rId5"/>
          <a:stretch/>
        </p:blipFill>
        <p:spPr>
          <a:xfrm>
            <a:off x="7286760" y="4357800"/>
            <a:ext cx="769680" cy="102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MMj03364140000[1]"/>
          <p:cNvPicPr/>
          <p:nvPr/>
        </p:nvPicPr>
        <p:blipFill>
          <a:blip r:embed="rId6"/>
          <a:stretch/>
        </p:blipFill>
        <p:spPr>
          <a:xfrm>
            <a:off x="8001000" y="521496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9"/>
          <p:cNvSpPr/>
          <p:nvPr/>
        </p:nvSpPr>
        <p:spPr>
          <a:xfrm>
            <a:off x="4429080" y="607212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C32-6D88-488D-B232-4022FF4A9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ова</cp:lastModifiedBy>
  <dcterms:modified xsi:type="dcterms:W3CDTF">2013-07-29T16:53:34Z</dcterms:modified>
  <cp:revision>41</cp:revision>
  <dc:subject/>
  <dc:title>PowerPoint Presentation</dc:title>
</cp:coreProperties>
</file>