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17.wmf" ContentType="image/x-wmf"/>
  <Override PartName="/ppt/media/image9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0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12.jpeg" ContentType="image/jpeg"/>
  <Override PartName="/ppt/media/image4.png" ContentType="image/png"/>
  <Override PartName="/ppt/media/image25.wmf" ContentType="image/x-wmf"/>
  <Override PartName="/ppt/media/image23.gif" ContentType="image/gif"/>
  <Override PartName="/ppt/media/image16.png" ContentType="image/png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8E16-662D-419F-B589-E3EBD542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92BC-335E-4112-980B-7EF8DAA2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599C-3C0A-4EDF-9286-87055D07D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0210-3833-4CC9-BD47-3FC9BA1D0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667B-0CE2-4184-9610-0005E4E81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D5A3-9945-4E19-8B32-D6203285A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0F4BB-C788-4BEC-905B-3C3CC40D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59A7-3194-41FE-A666-F1DE42C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515B-2DFC-4217-A376-D2030B61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AA744-60E4-40EC-8E02-7451AA6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D028D-4EB5-42FE-BD7B-3A4A946E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BAA0A-39D3-44C2-AF21-7CC01B51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3FEC-AA68-4D9D-8AD5-AA325D62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F56C-20ED-4B00-A2FF-9764D7FC3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B7FB-AFEF-456C-BF9B-8C2EAFC7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13F8B-0EEC-4196-A3FB-38B2C128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4B6C3-EAD3-4C7F-B45B-5BF30415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31DA0-A9B5-40ED-9908-0ACABC0C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BDEA3-4D7E-4EC6-9BEE-1BAF516A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AF1CB-27AF-4193-AF65-3B25790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09DC9-3BD9-430C-9A36-410BEE6F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BA64-FE83-4296-8F6C-2ADABF6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C61D5-298D-4F8F-B1EC-0F51E81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0C349-F345-4FA8-8E62-0B9DE23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42B1-3F67-4AB3-B0A6-BAE2E5F2EA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C12BF-75E0-4D93-ACEC-5F82D6F5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9F1FC-A7E4-4B0C-97DB-ED9BF39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6F0D3-8C01-43AA-AF3D-F699C5B1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3B201-6BD6-4FF8-B4D4-55F2B81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14A97-B962-4786-952D-80169AEF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854AF-743C-4A84-A58F-07A332C7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59E61-E9C2-498C-BE0B-16536597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89F9-C3E8-414F-B114-692C7C1E5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B2C4-C76E-4737-880A-0B64427B3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089E-1E64-4A87-9160-42F8171CF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E95D-7920-4B4C-9A24-0AD7BDDFA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32A2-3CAD-47D9-A4BF-8F5E120F3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9380-EF98-48A3-B79C-DC51F40D1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4E0-66F3-40FE-9E23-1AC062613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16344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76F-88DA-4966-8691-11AD5259AF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оск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BB35-0B9B-4B15-8A86-ECF7364CF8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gi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5.wmf"/><Relationship Id="rId4" Type="http://schemas.openxmlformats.org/officeDocument/2006/relationships/image" Target="../media/image27.wm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7.wmf"/><Relationship Id="rId5" Type="http://schemas.openxmlformats.org/officeDocument/2006/relationships/image" Target="../media/image32.png"/><Relationship Id="rId6" Type="http://schemas.openxmlformats.org/officeDocument/2006/relationships/image" Target="../media/image20.wmf"/><Relationship Id="rId7" Type="http://schemas.openxmlformats.org/officeDocument/2006/relationships/image" Target="../media/image23.gif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images.yandex.ru/search%3Fp=3&amp;text=&#1073;&#1086;&#1075;&amp;spsite=fake-004-139968.ru&amp;img_url=i41.ltalk.ru%2F39%2F90%2F119039%2F1%2F3530901%2F233877355593.jpeg&amp;rpt=simag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12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69A-85FB-48CC-B6AB-C90B2F097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Цепочки слов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6320" y="3492360"/>
            <a:ext cx="3926160" cy="2067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857480" y="3071520"/>
            <a:ext cx="38574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Постройте цепочки слов, заменяя каждый раз в исходном слове только одну букву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685800" y="1828800"/>
          <a:ext cx="2085840" cy="4664160"/>
        </p:xfrm>
        <a:graphic>
          <a:graphicData uri="http://schemas.openxmlformats.org/drawingml/2006/table">
            <a:tbl>
              <a:tblPr/>
              <a:tblGrid>
                <a:gridCol w="20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Picture 95" descr="MCj04380660000[1]"/>
          <p:cNvPicPr/>
          <p:nvPr/>
        </p:nvPicPr>
        <p:blipFill>
          <a:blip r:embed="rId1"/>
          <a:stretch/>
        </p:blipFill>
        <p:spPr>
          <a:xfrm>
            <a:off x="3995640" y="198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2B4E-4DE4-469D-84FC-2BD9B0B29C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82760" y="1571760"/>
          <a:ext cx="2160360" cy="496872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Picture 31" descr="4638_main_b"/>
          <p:cNvPicPr/>
          <p:nvPr/>
        </p:nvPicPr>
        <p:blipFill>
          <a:blip r:embed="rId1"/>
          <a:stretch/>
        </p:blipFill>
        <p:spPr>
          <a:xfrm>
            <a:off x="3500280" y="2214720"/>
            <a:ext cx="3816360" cy="29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931-596C-47DF-977E-62A89229DB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571680" y="1500120"/>
          <a:ext cx="2143080" cy="50641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28" descr="MCj01964580000[1]"/>
          <p:cNvPicPr/>
          <p:nvPr/>
        </p:nvPicPr>
        <p:blipFill>
          <a:blip r:embed="rId1"/>
          <a:stretch/>
        </p:blipFill>
        <p:spPr>
          <a:xfrm>
            <a:off x="3571920" y="164304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MCj04413910000[1]"/>
          <p:cNvPicPr/>
          <p:nvPr/>
        </p:nvPicPr>
        <p:blipFill>
          <a:blip r:embed="rId2"/>
          <a:stretch/>
        </p:blipFill>
        <p:spPr>
          <a:xfrm>
            <a:off x="5214960" y="3286080"/>
            <a:ext cx="246204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9D10-B102-45C7-98DC-3010336214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500040" y="1785960"/>
          <a:ext cx="2127240" cy="4664160"/>
        </p:xfrm>
        <a:graphic>
          <a:graphicData uri="http://schemas.openxmlformats.org/drawingml/2006/table">
            <a:tbl>
              <a:tblPr/>
              <a:tblGrid>
                <a:gridCol w="212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3" name="Picture 30" descr="MCj02954470000[1]"/>
          <p:cNvPicPr/>
          <p:nvPr/>
        </p:nvPicPr>
        <p:blipFill>
          <a:blip r:embed="rId1"/>
          <a:stretch/>
        </p:blipFill>
        <p:spPr>
          <a:xfrm>
            <a:off x="3571920" y="2000160"/>
            <a:ext cx="2898720" cy="2070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MCj03516410000[1]"/>
          <p:cNvPicPr/>
          <p:nvPr/>
        </p:nvPicPr>
        <p:blipFill>
          <a:blip r:embed="rId2"/>
          <a:stretch/>
        </p:blipFill>
        <p:spPr>
          <a:xfrm>
            <a:off x="6143760" y="4071960"/>
            <a:ext cx="2376360" cy="20638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489-D57D-42D6-8314-79A3CBA6C7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500040" y="1785960"/>
          <a:ext cx="2171880" cy="4664160"/>
        </p:xfrm>
        <a:graphic>
          <a:graphicData uri="http://schemas.openxmlformats.org/drawingml/2006/table">
            <a:tbl>
              <a:tblPr/>
              <a:tblGrid>
                <a:gridCol w="217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Bodoni MT Condense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doni MT Condense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30" descr="MPj03878110000[1]"/>
          <p:cNvPicPr/>
          <p:nvPr/>
        </p:nvPicPr>
        <p:blipFill>
          <a:blip r:embed="rId1"/>
          <a:stretch/>
        </p:blipFill>
        <p:spPr>
          <a:xfrm>
            <a:off x="3924360" y="1989000"/>
            <a:ext cx="3660840" cy="26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Номер слайда 5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6A4-7461-42CE-AAE5-E21AA88FCA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500040" y="1500120"/>
          <a:ext cx="2214720" cy="466416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33" descr="MCj04359310000[1]"/>
          <p:cNvPicPr/>
          <p:nvPr/>
        </p:nvPicPr>
        <p:blipFill>
          <a:blip r:embed="rId1"/>
          <a:stretch/>
        </p:blipFill>
        <p:spPr>
          <a:xfrm>
            <a:off x="6215040" y="3000240"/>
            <a:ext cx="1944720" cy="1454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MCj02283440000[1]"/>
          <p:cNvPicPr/>
          <p:nvPr/>
        </p:nvPicPr>
        <p:blipFill>
          <a:blip r:embed="rId2"/>
          <a:stretch/>
        </p:blipFill>
        <p:spPr>
          <a:xfrm>
            <a:off x="3429000" y="2500200"/>
            <a:ext cx="2048040" cy="2340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омер слайда 6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EF0E-8E1B-429C-9046-8ADB54DDD6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30" descr="MCj04405300000[1]"/>
          <p:cNvPicPr/>
          <p:nvPr/>
        </p:nvPicPr>
        <p:blipFill>
          <a:blip r:embed="rId1"/>
          <a:stretch/>
        </p:blipFill>
        <p:spPr>
          <a:xfrm>
            <a:off x="6480000" y="1335240"/>
            <a:ext cx="1692360" cy="21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1" descr="MMj03368570000[1]"/>
          <p:cNvPicPr/>
          <p:nvPr/>
        </p:nvPicPr>
        <p:blipFill>
          <a:blip r:embed="rId2"/>
          <a:stretch/>
        </p:blipFill>
        <p:spPr>
          <a:xfrm>
            <a:off x="3643200" y="2286000"/>
            <a:ext cx="144936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2" descr="MCj03479310000[1]"/>
          <p:cNvPicPr/>
          <p:nvPr/>
        </p:nvPicPr>
        <p:blipFill>
          <a:blip r:embed="rId3"/>
          <a:stretch/>
        </p:blipFill>
        <p:spPr>
          <a:xfrm>
            <a:off x="4716360" y="3860640"/>
            <a:ext cx="1511280" cy="216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E384-C5F7-4A0B-998C-0AEC788BDB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28760" y="1714680"/>
          <a:ext cx="2143080" cy="466380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МИ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П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 Rounded MT Bold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33" descr="MCj03893100000[1]"/>
          <p:cNvPicPr/>
          <p:nvPr/>
        </p:nvPicPr>
        <p:blipFill>
          <a:blip r:embed="rId1"/>
          <a:stretch/>
        </p:blipFill>
        <p:spPr>
          <a:xfrm>
            <a:off x="4500720" y="5157720"/>
            <a:ext cx="936360" cy="1308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4" descr="MCj03892920000[1]"/>
          <p:cNvPicPr/>
          <p:nvPr/>
        </p:nvPicPr>
        <p:blipFill>
          <a:blip r:embed="rId2"/>
          <a:stretch/>
        </p:blipFill>
        <p:spPr>
          <a:xfrm>
            <a:off x="5435640" y="5084640"/>
            <a:ext cx="720720" cy="136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6" descr="MCj03893100000[1]"/>
          <p:cNvPicPr/>
          <p:nvPr/>
        </p:nvPicPr>
        <p:blipFill>
          <a:blip r:embed="rId3"/>
          <a:stretch/>
        </p:blipFill>
        <p:spPr>
          <a:xfrm>
            <a:off x="3564000" y="5157720"/>
            <a:ext cx="1079280" cy="1379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7" descr="MCj03893060000[1]"/>
          <p:cNvPicPr/>
          <p:nvPr/>
        </p:nvPicPr>
        <p:blipFill>
          <a:blip r:embed="rId4"/>
          <a:stretch/>
        </p:blipFill>
        <p:spPr>
          <a:xfrm>
            <a:off x="7143840" y="2214720"/>
            <a:ext cx="1820880" cy="10033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9" descr=""/>
          <p:cNvPicPr/>
          <p:nvPr/>
        </p:nvPicPr>
        <p:blipFill>
          <a:blip r:embed="rId5"/>
          <a:stretch/>
        </p:blipFill>
        <p:spPr>
          <a:xfrm>
            <a:off x="3724200" y="3017880"/>
            <a:ext cx="3346560" cy="11523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285840" y="50004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Замените одну букву, чтобы получить слово, соответствующее рисунк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07E-AA59-4039-9FE5-529AD71102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00040" y="1214280"/>
          <a:ext cx="2071800" cy="466416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И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А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Е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Monotype Corsiv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Управляющая кнопка: домой 2"/>
          <p:cNvSpPr/>
          <p:nvPr/>
        </p:nvSpPr>
        <p:spPr>
          <a:xfrm>
            <a:off x="4500720" y="60721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9" y="17989"/>
                </a:lnTo>
                <a:lnTo>
                  <a:pt x="9079" y="10800"/>
                </a:lnTo>
                <a:lnTo>
                  <a:pt x="7425" y="10800"/>
                </a:lnTo>
                <a:close/>
              </a:path>
              <a:path fill="darkenLess" w="28776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6" h="21600">
                <a:moveTo>
                  <a:pt x="13465" y="14299"/>
                </a:moveTo>
                <a:lnTo>
                  <a:pt x="15311" y="14299"/>
                </a:lnTo>
                <a:lnTo>
                  <a:pt x="15311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9" y="10800"/>
                </a:lnTo>
                <a:lnTo>
                  <a:pt x="9079" y="17989"/>
                </a:lnTo>
                <a:lnTo>
                  <a:pt x="13465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95" descr="MCj04380660000[1]"/>
          <p:cNvPicPr/>
          <p:nvPr/>
        </p:nvPicPr>
        <p:blipFill>
          <a:blip r:embed="rId1"/>
          <a:stretch/>
        </p:blipFill>
        <p:spPr>
          <a:xfrm>
            <a:off x="3286080" y="857160"/>
            <a:ext cx="946080" cy="946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4638_main_b"/>
          <p:cNvPicPr/>
          <p:nvPr/>
        </p:nvPicPr>
        <p:blipFill>
          <a:blip r:embed="rId2"/>
          <a:stretch/>
        </p:blipFill>
        <p:spPr>
          <a:xfrm>
            <a:off x="4206960" y="1566720"/>
            <a:ext cx="1334880" cy="1030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MCj04413910000[1]"/>
          <p:cNvPicPr/>
          <p:nvPr/>
        </p:nvPicPr>
        <p:blipFill>
          <a:blip r:embed="rId3"/>
          <a:stretch/>
        </p:blipFill>
        <p:spPr>
          <a:xfrm>
            <a:off x="5500800" y="2143080"/>
            <a:ext cx="785880" cy="87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30" descr="MCj02954470000[1]"/>
          <p:cNvPicPr/>
          <p:nvPr/>
        </p:nvPicPr>
        <p:blipFill>
          <a:blip r:embed="rId4"/>
          <a:stretch/>
        </p:blipFill>
        <p:spPr>
          <a:xfrm>
            <a:off x="6143760" y="2500200"/>
            <a:ext cx="1428480" cy="1020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0" descr="MPj03878110000[1]"/>
          <p:cNvPicPr/>
          <p:nvPr/>
        </p:nvPicPr>
        <p:blipFill>
          <a:blip r:embed="rId5"/>
          <a:stretch/>
        </p:blipFill>
        <p:spPr>
          <a:xfrm>
            <a:off x="4280040" y="3279600"/>
            <a:ext cx="1517400" cy="1084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MCj04359310000[1]"/>
          <p:cNvPicPr/>
          <p:nvPr/>
        </p:nvPicPr>
        <p:blipFill>
          <a:blip r:embed="rId6"/>
          <a:stretch/>
        </p:blipFill>
        <p:spPr>
          <a:xfrm>
            <a:off x="5929200" y="3929040"/>
            <a:ext cx="1214640" cy="90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1" descr="MMj03368570000[1]"/>
          <p:cNvPicPr/>
          <p:nvPr/>
        </p:nvPicPr>
        <p:blipFill>
          <a:blip r:embed="rId7"/>
          <a:stretch/>
        </p:blipFill>
        <p:spPr>
          <a:xfrm>
            <a:off x="6715080" y="4572000"/>
            <a:ext cx="1013040" cy="865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0" descr=""/>
          <p:cNvPicPr/>
          <p:nvPr/>
        </p:nvPicPr>
        <p:blipFill>
          <a:blip r:embed="rId8"/>
          <a:stretch/>
        </p:blipFill>
        <p:spPr>
          <a:xfrm>
            <a:off x="6638760" y="5467320"/>
            <a:ext cx="2011680" cy="708120"/>
          </a:xfrm>
          <a:prstGeom prst="rect">
            <a:avLst/>
          </a:prstGeom>
          <a:ln w="0">
            <a:noFill/>
          </a:ln>
        </p:spPr>
      </p:pic>
      <p:sp>
        <p:nvSpPr>
          <p:cNvPr id="240" name="Номер слайда 11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9699-AB25-4FBA-AE49-A16C20D027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071520" y="2071800"/>
            <a:ext cx="27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БЕГ – ШАГ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ИГ – ВЕК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Прямоугольник 3" descr=""/>
          <p:cNvPicPr/>
          <p:nvPr/>
        </p:nvPicPr>
        <p:blipFill>
          <a:blip r:embed="rId3"/>
          <a:stretch/>
        </p:blipFill>
        <p:spPr>
          <a:xfrm>
            <a:off x="2371680" y="639720"/>
            <a:ext cx="4187880" cy="120168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4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1B3E-4279-4146-AA1A-17CDFDF88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i?id=53367421&amp;tov=5&amp;n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92840" y="2779560"/>
            <a:ext cx="2273040" cy="2810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0"/>
          <p:cNvSpPr/>
          <p:nvPr/>
        </p:nvSpPr>
        <p:spPr>
          <a:xfrm>
            <a:off x="3786120" y="13572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рхъестественное существо  в разных религ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928800" y="1857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7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56E5-03E4-414A-8DF0-32D6CED31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23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571920" y="14288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ую или левую сторону туловища от плеча до бед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1"/>
          <a:stretch/>
        </p:blipFill>
        <p:spPr>
          <a:xfrm>
            <a:off x="4429080" y="278604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928800" y="26431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те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Номер слайда 9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3C41-15D6-49AF-B46B-4E9FBCD18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50920" y="1052640"/>
          <a:ext cx="2760480" cy="519876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Text Box 22"/>
          <p:cNvSpPr/>
          <p:nvPr/>
        </p:nvSpPr>
        <p:spPr>
          <a:xfrm>
            <a:off x="4643280" y="3429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3" descr="MCj03979670000[1]"/>
          <p:cNvPicPr/>
          <p:nvPr/>
        </p:nvPicPr>
        <p:blipFill>
          <a:blip r:embed="rId1"/>
          <a:stretch/>
        </p:blipFill>
        <p:spPr>
          <a:xfrm>
            <a:off x="5000760" y="3429000"/>
            <a:ext cx="1366560" cy="13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4"/>
          <p:cNvSpPr/>
          <p:nvPr/>
        </p:nvSpPr>
        <p:spPr>
          <a:xfrm>
            <a:off x="3857760" y="18572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мкость в которой может храниться мусор, вода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928800" y="33577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1051-2169-47C5-96D5-E3BBD714E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165320"/>
          <a:ext cx="2819160" cy="507204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27" descr="MCj00881900000[1]"/>
          <p:cNvPicPr/>
          <p:nvPr/>
        </p:nvPicPr>
        <p:blipFill>
          <a:blip r:embed="rId1"/>
          <a:stretch/>
        </p:blipFill>
        <p:spPr>
          <a:xfrm>
            <a:off x="5357880" y="2571840"/>
            <a:ext cx="2092320" cy="3043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8"/>
          <p:cNvSpPr/>
          <p:nvPr/>
        </p:nvSpPr>
        <p:spPr>
          <a:xfrm>
            <a:off x="3714840" y="135720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ение, семена которого добавляют в було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00008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C37B-DC62-4814-AF83-3F57D7C004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981000"/>
          <a:ext cx="3106800" cy="5145120"/>
        </p:xfrm>
        <a:graphic>
          <a:graphicData uri="http://schemas.openxmlformats.org/drawingml/2006/table">
            <a:tbl>
              <a:tblPr/>
              <a:tblGrid>
                <a:gridCol w="310680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5" descr="i?id=34795742&amp;tov=7&amp;n=2"/>
          <p:cNvPicPr/>
          <p:nvPr/>
        </p:nvPicPr>
        <p:blipFill>
          <a:blip r:embed="rId1"/>
          <a:stretch/>
        </p:blipFill>
        <p:spPr>
          <a:xfrm>
            <a:off x="5214960" y="2928960"/>
            <a:ext cx="1785960" cy="23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8"/>
          <p:cNvSpPr/>
          <p:nvPr/>
        </p:nvSpPr>
        <p:spPr>
          <a:xfrm>
            <a:off x="4286160" y="114300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, который владеет тайнами магии, чарод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285920" y="4714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400-980C-4117-B90C-EF8AD9311F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268280"/>
          <a:ext cx="2890800" cy="485784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24"/>
          <p:cNvSpPr/>
          <p:nvPr/>
        </p:nvSpPr>
        <p:spPr>
          <a:xfrm>
            <a:off x="3929040" y="1214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ницу меры длины, равную расстоянию между стопами ног пр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6" descr="MMj03364140000[1]"/>
          <p:cNvPicPr/>
          <p:nvPr/>
        </p:nvPicPr>
        <p:blipFill>
          <a:blip r:embed="rId1"/>
          <a:stretch/>
        </p:blipFill>
        <p:spPr>
          <a:xfrm>
            <a:off x="5429160" y="4000680"/>
            <a:ext cx="2071800" cy="20714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1214280" y="55008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57120" y="57168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61645"/>
                </a:solidFill>
                <a:latin typeface="Times New Roman"/>
              </a:rPr>
              <a:t>Замени одну букву, чтобы получить слово, обозначающее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Номер слайда 8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67A9-F9AC-4CA8-B467-CAB40B2774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981000"/>
          <a:ext cx="2760480" cy="5184720"/>
        </p:xfrm>
        <a:graphic>
          <a:graphicData uri="http://schemas.openxmlformats.org/drawingml/2006/table">
            <a:tbl>
              <a:tblPr/>
              <a:tblGrid>
                <a:gridCol w="276048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</a:t>
                      </a: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Ш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29" descr="MCj04366680000[1]"/>
          <p:cNvPicPr/>
          <p:nvPr/>
        </p:nvPicPr>
        <p:blipFill>
          <a:blip r:embed="rId1"/>
          <a:stretch/>
        </p:blipFill>
        <p:spPr>
          <a:xfrm>
            <a:off x="4143240" y="1428840"/>
            <a:ext cx="857520" cy="1214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"/>
          <p:cNvPicPr/>
          <p:nvPr/>
        </p:nvPicPr>
        <p:blipFill>
          <a:blip r:embed="rId2"/>
          <a:stretch/>
        </p:blipFill>
        <p:spPr>
          <a:xfrm>
            <a:off x="4857840" y="20718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MCj03979670000[1]"/>
          <p:cNvPicPr/>
          <p:nvPr/>
        </p:nvPicPr>
        <p:blipFill>
          <a:blip r:embed="rId3"/>
          <a:stretch/>
        </p:blipFill>
        <p:spPr>
          <a:xfrm>
            <a:off x="571500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MCj00881900000[1]"/>
          <p:cNvPicPr/>
          <p:nvPr/>
        </p:nvPicPr>
        <p:blipFill>
          <a:blip r:embed="rId4"/>
          <a:stretch/>
        </p:blipFill>
        <p:spPr>
          <a:xfrm>
            <a:off x="6643800" y="3714840"/>
            <a:ext cx="734760" cy="106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i?id=34795742&amp;tov=7&amp;n=2"/>
          <p:cNvPicPr/>
          <p:nvPr/>
        </p:nvPicPr>
        <p:blipFill>
          <a:blip r:embed="rId5"/>
          <a:stretch/>
        </p:blipFill>
        <p:spPr>
          <a:xfrm>
            <a:off x="7286760" y="4357800"/>
            <a:ext cx="769680" cy="102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6" descr="MMj03364140000[1]"/>
          <p:cNvPicPr/>
          <p:nvPr/>
        </p:nvPicPr>
        <p:blipFill>
          <a:blip r:embed="rId6"/>
          <a:stretch/>
        </p:blipFill>
        <p:spPr>
          <a:xfrm>
            <a:off x="8001000" y="5214960"/>
            <a:ext cx="878040" cy="878040"/>
          </a:xfrm>
          <a:prstGeom prst="rect">
            <a:avLst/>
          </a:prstGeom>
          <a:ln w="0">
            <a:noFill/>
          </a:ln>
        </p:spPr>
      </p:pic>
      <p:sp>
        <p:nvSpPr>
          <p:cNvPr id="187" name="Управляющая кнопка: домой 9"/>
          <p:cNvSpPr/>
          <p:nvPr/>
        </p:nvSpPr>
        <p:spPr>
          <a:xfrm>
            <a:off x="4429080" y="607212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14397" y="3837"/>
                </a:moveTo>
                <a:lnTo>
                  <a:pt x="16973" y="6448"/>
                </a:ln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lnTo>
                  <a:pt x="21360" y="10800"/>
                </a:lnTo>
                <a:lnTo>
                  <a:pt x="19706" y="10800"/>
                </a:lnTo>
                <a:lnTo>
                  <a:pt x="19706" y="17989"/>
                </a:lnTo>
                <a:lnTo>
                  <a:pt x="9088" y="17989"/>
                </a:lnTo>
                <a:lnTo>
                  <a:pt x="9088" y="10800"/>
                </a:lnTo>
                <a:lnTo>
                  <a:pt x="7434" y="10800"/>
                </a:lnTo>
                <a:close/>
              </a:path>
              <a:path fill="darkenLess" w="28794" h="21600">
                <a:moveTo>
                  <a:pt x="16973" y="6448"/>
                </a:moveTo>
                <a:lnTo>
                  <a:pt x="16973" y="4707"/>
                </a:lnTo>
                <a:lnTo>
                  <a:pt x="18749" y="4707"/>
                </a:lnTo>
                <a:lnTo>
                  <a:pt x="18749" y="8224"/>
                </a:lnTo>
                <a:close/>
              </a:path>
              <a:path fill="darkenLess" w="28794" h="21600">
                <a:moveTo>
                  <a:pt x="13474" y="14299"/>
                </a:moveTo>
                <a:lnTo>
                  <a:pt x="15320" y="14299"/>
                </a:lnTo>
                <a:lnTo>
                  <a:pt x="15320" y="17989"/>
                </a:lnTo>
                <a:lnTo>
                  <a:pt x="19706" y="17989"/>
                </a:lnTo>
                <a:lnTo>
                  <a:pt x="19706" y="10800"/>
                </a:lnTo>
                <a:lnTo>
                  <a:pt x="9088" y="10800"/>
                </a:lnTo>
                <a:lnTo>
                  <a:pt x="9088" y="17989"/>
                </a:lnTo>
                <a:lnTo>
                  <a:pt x="13474" y="17989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10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2A2-D7F6-4570-8AAD-7AA9AAAD2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сова</cp:lastModifiedBy>
  <dcterms:modified xsi:type="dcterms:W3CDTF">2013-07-29T16:53:34Z</dcterms:modified>
  <cp:revision>41</cp:revision>
  <dc:subject/>
  <dc:title>PowerPoint Presentation</dc:title>
</cp:coreProperties>
</file>