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17.wmf" ContentType="image/x-wmf"/>
  <Override PartName="/ppt/media/image9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0.gif" ContentType="image/gif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12.jpeg" ContentType="image/jpeg"/>
  <Override PartName="/ppt/media/image4.png" ContentType="image/png"/>
  <Override PartName="/ppt/media/image25.wmf" ContentType="image/x-wmf"/>
  <Override PartName="/ppt/media/image23.gif" ContentType="image/gif"/>
  <Override PartName="/ppt/media/image16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118F-AB2C-4D6D-9B85-62621187E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D034-2606-48DC-A00D-BDCF61CBE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F672-45A0-4171-8B3F-EA8B32A91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17C5-7A9C-4E5D-B3E1-7989650D9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2F06-7753-419C-9D90-F1B8C2382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DDB2-FC56-4055-A109-BAE2E664B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A8DA6-812E-467C-88B6-007B0C56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B6D4B-F11C-4F0D-8E43-48CDB4E4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09D7C-8502-4255-9ED9-9B059DEA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8AFA9-67AC-411D-BEBF-B3AA94DC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DCAA4-36F6-4725-99FC-4F25679A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CD974-0119-41C1-B594-C09841B8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F434F-02ED-4491-83AD-96D74A4A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A8A9-BAD0-4F85-A0A5-C695A6910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4462C-EF82-481B-8BD6-AF90C6D6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8E81E-051F-4C88-A88F-B8453951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96FCA-2A46-478C-92A0-DCC0AAA8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723A4-803D-4E0F-A595-4796D13B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D0BF2-CD40-422E-96E0-D1CD9BCE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DC852-4A93-42D4-8C5B-57B1380D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910A6-99B3-4056-977D-82B40754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9FD49-7510-4C0B-9FF9-C8F09198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BF026-F6B1-4272-BED5-D26AECD4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17D3E-FC1F-4EAE-AEAB-060C41B0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7CE6-E59B-41E7-8DE3-74DA1C777A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CF74E-9690-4420-B128-5A5D59D0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98DDA-BE38-45EB-AF92-65F7A880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59D6A-7EDB-4F72-A408-F0578ED1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B0992-6D23-4364-B28B-6C3569E4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7CFE6-8404-4D44-BDA1-9C60804F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460C7-E752-4B28-9FDF-EEC5F6D7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690F8-F67D-4192-9169-DEB030ED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61B0-41E6-4184-95B3-ED97A4806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F776-E8D3-4F7B-ABEB-D54D33F8F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6B2E-2FE7-4FEF-9CC5-755097D68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865C-5954-4FE4-A118-B6306F165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B2BA-1352-498F-9788-323700410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D3A1-AA2C-42A3-8E89-2637028F1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344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03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CFDB-AC04-4DA7-B0E7-80076BA13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16344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803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1C28-1B08-4144-8F52-6EEDB0AE1F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D23E-A6D8-4DF0-974E-B7FF228F8F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gi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5.wmf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17.wmf"/><Relationship Id="rId5" Type="http://schemas.openxmlformats.org/officeDocument/2006/relationships/image" Target="../media/image32.png"/><Relationship Id="rId6" Type="http://schemas.openxmlformats.org/officeDocument/2006/relationships/image" Target="../media/image20.wmf"/><Relationship Id="rId7" Type="http://schemas.openxmlformats.org/officeDocument/2006/relationships/image" Target="../media/image23.gif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images.yandex.ru/search%3Fp=3&amp;text=&#1073;&#1086;&#1075;&amp;spsite=fake-004-139968.ru&amp;img_url=i41.ltalk.ru%2F39%2F90%2F119039%2F1%2F3530901%2F233877355593.jpeg&amp;rpt=simag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12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A217-7C63-4E36-8DA9-A3A462798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07136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Цепочки слов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139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8640" y="6237360"/>
            <a:ext cx="863280" cy="37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06320" y="3492360"/>
            <a:ext cx="3926160" cy="2067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857480" y="3071520"/>
            <a:ext cx="38574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остройте цепочки слов, заменяя каждый раз в исходном слове только одну букву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685800" y="1828800"/>
          <a:ext cx="2085840" cy="4664160"/>
        </p:xfrm>
        <a:graphic>
          <a:graphicData uri="http://schemas.openxmlformats.org/drawingml/2006/table">
            <a:tbl>
              <a:tblPr/>
              <a:tblGrid>
                <a:gridCol w="208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Picture 95" descr="MCj04380660000[1]"/>
          <p:cNvPicPr/>
          <p:nvPr/>
        </p:nvPicPr>
        <p:blipFill>
          <a:blip r:embed="rId1"/>
          <a:stretch/>
        </p:blipFill>
        <p:spPr>
          <a:xfrm>
            <a:off x="3995640" y="19890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Номер слайда 4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3C9B-18FF-4D3C-B06E-27286FDF3A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482760" y="1571760"/>
          <a:ext cx="2160360" cy="496872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4" name="Picture 31" descr="4638_main_b"/>
          <p:cNvPicPr/>
          <p:nvPr/>
        </p:nvPicPr>
        <p:blipFill>
          <a:blip r:embed="rId1"/>
          <a:stretch/>
        </p:blipFill>
        <p:spPr>
          <a:xfrm>
            <a:off x="3500280" y="2214720"/>
            <a:ext cx="3816360" cy="294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5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036D-6A8E-41C4-9F94-5EB8D024A2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571680" y="1500120"/>
          <a:ext cx="2143080" cy="506412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Picture 28" descr="MCj01964580000[1]"/>
          <p:cNvPicPr/>
          <p:nvPr/>
        </p:nvPicPr>
        <p:blipFill>
          <a:blip r:embed="rId1"/>
          <a:stretch/>
        </p:blipFill>
        <p:spPr>
          <a:xfrm>
            <a:off x="3571920" y="1643040"/>
            <a:ext cx="2305080" cy="2023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MCj04413910000[1]"/>
          <p:cNvPicPr/>
          <p:nvPr/>
        </p:nvPicPr>
        <p:blipFill>
          <a:blip r:embed="rId2"/>
          <a:stretch/>
        </p:blipFill>
        <p:spPr>
          <a:xfrm>
            <a:off x="5214960" y="3286080"/>
            <a:ext cx="246204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0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C410-E8AC-44C2-ABAE-7ABDC9CC3A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500040" y="1785960"/>
          <a:ext cx="2127240" cy="4664160"/>
        </p:xfrm>
        <a:graphic>
          <a:graphicData uri="http://schemas.openxmlformats.org/drawingml/2006/table">
            <a:tbl>
              <a:tblPr/>
              <a:tblGrid>
                <a:gridCol w="212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3" name="Picture 30" descr="MCj02954470000[1]"/>
          <p:cNvPicPr/>
          <p:nvPr/>
        </p:nvPicPr>
        <p:blipFill>
          <a:blip r:embed="rId1"/>
          <a:stretch/>
        </p:blipFill>
        <p:spPr>
          <a:xfrm>
            <a:off x="3571920" y="2000160"/>
            <a:ext cx="2898720" cy="207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1" descr="MCj03516410000[1]"/>
          <p:cNvPicPr/>
          <p:nvPr/>
        </p:nvPicPr>
        <p:blipFill>
          <a:blip r:embed="rId2"/>
          <a:stretch/>
        </p:blipFill>
        <p:spPr>
          <a:xfrm>
            <a:off x="6143760" y="4071960"/>
            <a:ext cx="2376360" cy="20638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7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525C-4A65-425F-BD4A-1F6B5E59EF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500040" y="1785960"/>
          <a:ext cx="2171880" cy="4664160"/>
        </p:xfrm>
        <a:graphic>
          <a:graphicData uri="http://schemas.openxmlformats.org/drawingml/2006/table">
            <a:tbl>
              <a:tblPr/>
              <a:tblGrid>
                <a:gridCol w="217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Picture 30" descr="MPj03878110000[1]"/>
          <p:cNvPicPr/>
          <p:nvPr/>
        </p:nvPicPr>
        <p:blipFill>
          <a:blip r:embed="rId1"/>
          <a:stretch/>
        </p:blipFill>
        <p:spPr>
          <a:xfrm>
            <a:off x="3924360" y="1989000"/>
            <a:ext cx="3660840" cy="261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9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Номер слайда 5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EC0-8C90-4E42-8329-DAA7DD7AAB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500040" y="1500120"/>
          <a:ext cx="2214720" cy="466416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33" descr="MCj04359310000[1]"/>
          <p:cNvPicPr/>
          <p:nvPr/>
        </p:nvPicPr>
        <p:blipFill>
          <a:blip r:embed="rId1"/>
          <a:stretch/>
        </p:blipFill>
        <p:spPr>
          <a:xfrm>
            <a:off x="6215040" y="3000240"/>
            <a:ext cx="1944720" cy="1454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4" descr="MCj02283440000[1]"/>
          <p:cNvPicPr/>
          <p:nvPr/>
        </p:nvPicPr>
        <p:blipFill>
          <a:blip r:embed="rId2"/>
          <a:stretch/>
        </p:blipFill>
        <p:spPr>
          <a:xfrm>
            <a:off x="3429000" y="2500200"/>
            <a:ext cx="2048040" cy="2340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омер слайда 6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309A-CF3E-48D0-A91B-F9C306EAFA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28760" y="1714680"/>
          <a:ext cx="2143080" cy="466380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Picture 30" descr="MCj04405300000[1]"/>
          <p:cNvPicPr/>
          <p:nvPr/>
        </p:nvPicPr>
        <p:blipFill>
          <a:blip r:embed="rId1"/>
          <a:stretch/>
        </p:blipFill>
        <p:spPr>
          <a:xfrm>
            <a:off x="6480000" y="1335240"/>
            <a:ext cx="1692360" cy="216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1" descr="MMj03368570000[1]"/>
          <p:cNvPicPr/>
          <p:nvPr/>
        </p:nvPicPr>
        <p:blipFill>
          <a:blip r:embed="rId2"/>
          <a:stretch/>
        </p:blipFill>
        <p:spPr>
          <a:xfrm>
            <a:off x="3643200" y="2286000"/>
            <a:ext cx="1449360" cy="1238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2" descr="MCj03479310000[1]"/>
          <p:cNvPicPr/>
          <p:nvPr/>
        </p:nvPicPr>
        <p:blipFill>
          <a:blip r:embed="rId3"/>
          <a:stretch/>
        </p:blipFill>
        <p:spPr>
          <a:xfrm>
            <a:off x="4716360" y="3860640"/>
            <a:ext cx="1511280" cy="2160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омер слайда 7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865F-397C-4E2A-9957-5160F7A58D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28760" y="1714680"/>
          <a:ext cx="2143080" cy="466380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Е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33" descr="MCj03893100000[1]"/>
          <p:cNvPicPr/>
          <p:nvPr/>
        </p:nvPicPr>
        <p:blipFill>
          <a:blip r:embed="rId1"/>
          <a:stretch/>
        </p:blipFill>
        <p:spPr>
          <a:xfrm>
            <a:off x="4500720" y="5157720"/>
            <a:ext cx="936360" cy="1308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4" descr="MCj03892920000[1]"/>
          <p:cNvPicPr/>
          <p:nvPr/>
        </p:nvPicPr>
        <p:blipFill>
          <a:blip r:embed="rId2"/>
          <a:stretch/>
        </p:blipFill>
        <p:spPr>
          <a:xfrm>
            <a:off x="5435640" y="5084640"/>
            <a:ext cx="720720" cy="1368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6" descr="MCj03893100000[1]"/>
          <p:cNvPicPr/>
          <p:nvPr/>
        </p:nvPicPr>
        <p:blipFill>
          <a:blip r:embed="rId3"/>
          <a:stretch/>
        </p:blipFill>
        <p:spPr>
          <a:xfrm>
            <a:off x="3564000" y="5157720"/>
            <a:ext cx="1079280" cy="1379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7" descr="MCj03893060000[1]"/>
          <p:cNvPicPr/>
          <p:nvPr/>
        </p:nvPicPr>
        <p:blipFill>
          <a:blip r:embed="rId4"/>
          <a:stretch/>
        </p:blipFill>
        <p:spPr>
          <a:xfrm>
            <a:off x="7143840" y="2214720"/>
            <a:ext cx="1820880" cy="100332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9" descr=""/>
          <p:cNvPicPr/>
          <p:nvPr/>
        </p:nvPicPr>
        <p:blipFill>
          <a:blip r:embed="rId5"/>
          <a:stretch/>
        </p:blipFill>
        <p:spPr>
          <a:xfrm>
            <a:off x="3724200" y="3017880"/>
            <a:ext cx="3346560" cy="11523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Номер слайда 10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14FB-BEE1-4779-BEF1-B0CBF7D2C8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500040" y="1214280"/>
          <a:ext cx="2071800" cy="466416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И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И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П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Б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А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Е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Е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Управляющая кнопка: домой 2"/>
          <p:cNvSpPr/>
          <p:nvPr/>
        </p:nvSpPr>
        <p:spPr>
          <a:xfrm>
            <a:off x="4500720" y="607212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9" y="17989"/>
                </a:lnTo>
                <a:lnTo>
                  <a:pt x="9079" y="10800"/>
                </a:lnTo>
                <a:lnTo>
                  <a:pt x="7425" y="10800"/>
                </a:lnTo>
                <a:close/>
              </a:path>
              <a:path fill="darkenLess" w="28776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6" h="21600">
                <a:moveTo>
                  <a:pt x="13465" y="14299"/>
                </a:moveTo>
                <a:lnTo>
                  <a:pt x="15311" y="14299"/>
                </a:lnTo>
                <a:lnTo>
                  <a:pt x="15311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9" y="10800"/>
                </a:lnTo>
                <a:lnTo>
                  <a:pt x="9079" y="17989"/>
                </a:lnTo>
                <a:lnTo>
                  <a:pt x="13465" y="17989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95" descr="MCj04380660000[1]"/>
          <p:cNvPicPr/>
          <p:nvPr/>
        </p:nvPicPr>
        <p:blipFill>
          <a:blip r:embed="rId1"/>
          <a:stretch/>
        </p:blipFill>
        <p:spPr>
          <a:xfrm>
            <a:off x="3286080" y="857160"/>
            <a:ext cx="946080" cy="946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4638_main_b"/>
          <p:cNvPicPr/>
          <p:nvPr/>
        </p:nvPicPr>
        <p:blipFill>
          <a:blip r:embed="rId2"/>
          <a:stretch/>
        </p:blipFill>
        <p:spPr>
          <a:xfrm>
            <a:off x="4206960" y="1566720"/>
            <a:ext cx="1334880" cy="1030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2" descr="MCj04413910000[1]"/>
          <p:cNvPicPr/>
          <p:nvPr/>
        </p:nvPicPr>
        <p:blipFill>
          <a:blip r:embed="rId3"/>
          <a:stretch/>
        </p:blipFill>
        <p:spPr>
          <a:xfrm>
            <a:off x="5500800" y="2143080"/>
            <a:ext cx="785880" cy="87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5" name="Picture 30" descr="MCj02954470000[1]"/>
          <p:cNvPicPr/>
          <p:nvPr/>
        </p:nvPicPr>
        <p:blipFill>
          <a:blip r:embed="rId4"/>
          <a:stretch/>
        </p:blipFill>
        <p:spPr>
          <a:xfrm>
            <a:off x="6143760" y="2500200"/>
            <a:ext cx="1428480" cy="1020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0" descr="MPj03878110000[1]"/>
          <p:cNvPicPr/>
          <p:nvPr/>
        </p:nvPicPr>
        <p:blipFill>
          <a:blip r:embed="rId5"/>
          <a:stretch/>
        </p:blipFill>
        <p:spPr>
          <a:xfrm>
            <a:off x="4280040" y="3279600"/>
            <a:ext cx="1517400" cy="108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3" descr="MCj04359310000[1]"/>
          <p:cNvPicPr/>
          <p:nvPr/>
        </p:nvPicPr>
        <p:blipFill>
          <a:blip r:embed="rId6"/>
          <a:stretch/>
        </p:blipFill>
        <p:spPr>
          <a:xfrm>
            <a:off x="5929200" y="3929040"/>
            <a:ext cx="1214640" cy="907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1" descr="MMj03368570000[1]"/>
          <p:cNvPicPr/>
          <p:nvPr/>
        </p:nvPicPr>
        <p:blipFill>
          <a:blip r:embed="rId7"/>
          <a:stretch/>
        </p:blipFill>
        <p:spPr>
          <a:xfrm>
            <a:off x="6715080" y="4572000"/>
            <a:ext cx="1013040" cy="8650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10" descr=""/>
          <p:cNvPicPr/>
          <p:nvPr/>
        </p:nvPicPr>
        <p:blipFill>
          <a:blip r:embed="rId8"/>
          <a:stretch/>
        </p:blipFill>
        <p:spPr>
          <a:xfrm>
            <a:off x="6638760" y="5467320"/>
            <a:ext cx="2011680" cy="708120"/>
          </a:xfrm>
          <a:prstGeom prst="rect">
            <a:avLst/>
          </a:prstGeom>
          <a:ln w="0">
            <a:noFill/>
          </a:ln>
        </p:spPr>
      </p:pic>
      <p:sp>
        <p:nvSpPr>
          <p:cNvPr id="240" name="Номер слайда 11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D074-5C94-43D4-BEC5-FA25F5C55C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071520" y="2071800"/>
            <a:ext cx="27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БЕГ – ШАГ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ИГ – ВЕК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Прямоугольник 3" descr=""/>
          <p:cNvPicPr/>
          <p:nvPr/>
        </p:nvPicPr>
        <p:blipFill>
          <a:blip r:embed="rId3"/>
          <a:stretch/>
        </p:blipFill>
        <p:spPr>
          <a:xfrm>
            <a:off x="2371680" y="639720"/>
            <a:ext cx="4187880" cy="120168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4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C7EE-37C8-4A6A-A42D-77C33A8B4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052640"/>
          <a:ext cx="2760480" cy="519876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27" descr="i?id=53367421&amp;tov=5&amp;n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92840" y="2779560"/>
            <a:ext cx="2273040" cy="2810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0"/>
          <p:cNvSpPr/>
          <p:nvPr/>
        </p:nvSpPr>
        <p:spPr>
          <a:xfrm>
            <a:off x="3786120" y="13572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рхъестественное существо  в разных религ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928800" y="1857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7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61C4-A9D2-4420-A9FB-B3724638C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50920" y="1052640"/>
          <a:ext cx="2760480" cy="519876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23"/>
          <p:cNvSpPr/>
          <p:nvPr/>
        </p:nvSpPr>
        <p:spPr>
          <a:xfrm>
            <a:off x="4643280" y="3429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3571920" y="14288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ую или левую сторону туловища от плеча до бед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1"/>
          <a:stretch/>
        </p:blipFill>
        <p:spPr>
          <a:xfrm>
            <a:off x="4429080" y="278604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928800" y="26431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те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Номер слайда 9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C744-6EBD-49E4-96C2-DAF19BA2B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50920" y="1052640"/>
          <a:ext cx="2760480" cy="519876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22"/>
          <p:cNvSpPr/>
          <p:nvPr/>
        </p:nvSpPr>
        <p:spPr>
          <a:xfrm>
            <a:off x="4643280" y="3429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3" descr="MCj03979670000[1]"/>
          <p:cNvPicPr/>
          <p:nvPr/>
        </p:nvPicPr>
        <p:blipFill>
          <a:blip r:embed="rId1"/>
          <a:stretch/>
        </p:blipFill>
        <p:spPr>
          <a:xfrm>
            <a:off x="5000760" y="3429000"/>
            <a:ext cx="1366560" cy="1366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4"/>
          <p:cNvSpPr/>
          <p:nvPr/>
        </p:nvSpPr>
        <p:spPr>
          <a:xfrm>
            <a:off x="3857760" y="185724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мкость в которой может храниться мусор, вода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928800" y="33577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D250-537E-4D5F-A271-42988C566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165320"/>
          <a:ext cx="2819160" cy="507204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27" descr="MCj00881900000[1]"/>
          <p:cNvPicPr/>
          <p:nvPr/>
        </p:nvPicPr>
        <p:blipFill>
          <a:blip r:embed="rId1"/>
          <a:stretch/>
        </p:blipFill>
        <p:spPr>
          <a:xfrm>
            <a:off x="5357880" y="2571840"/>
            <a:ext cx="2092320" cy="3043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8"/>
          <p:cNvSpPr/>
          <p:nvPr/>
        </p:nvSpPr>
        <p:spPr>
          <a:xfrm>
            <a:off x="3714840" y="135720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ение, семена которого добавляют в бул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000080" y="4143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8C19-E3F3-4E46-8129-CC4363A366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981000"/>
          <a:ext cx="3106800" cy="5145120"/>
        </p:xfrm>
        <a:graphic>
          <a:graphicData uri="http://schemas.openxmlformats.org/drawingml/2006/table">
            <a:tbl>
              <a:tblPr/>
              <a:tblGrid>
                <a:gridCol w="310680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25" descr="i?id=34795742&amp;tov=7&amp;n=2"/>
          <p:cNvPicPr/>
          <p:nvPr/>
        </p:nvPicPr>
        <p:blipFill>
          <a:blip r:embed="rId1"/>
          <a:stretch/>
        </p:blipFill>
        <p:spPr>
          <a:xfrm>
            <a:off x="5214960" y="2928960"/>
            <a:ext cx="1785960" cy="2374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8"/>
          <p:cNvSpPr/>
          <p:nvPr/>
        </p:nvSpPr>
        <p:spPr>
          <a:xfrm>
            <a:off x="4286160" y="11430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а, который владеет тайнами магии, чароде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1285920" y="47149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94E1-17A0-4DD5-A87B-38C8769E47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268280"/>
          <a:ext cx="2890800" cy="485784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24"/>
          <p:cNvSpPr/>
          <p:nvPr/>
        </p:nvSpPr>
        <p:spPr>
          <a:xfrm>
            <a:off x="3929040" y="1214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диницу меры длины, равную расстоянию между стопами ног пр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6" descr="MMj03364140000[1]"/>
          <p:cNvPicPr/>
          <p:nvPr/>
        </p:nvPicPr>
        <p:blipFill>
          <a:blip r:embed="rId1"/>
          <a:stretch/>
        </p:blipFill>
        <p:spPr>
          <a:xfrm>
            <a:off x="5429160" y="4000680"/>
            <a:ext cx="2071800" cy="20714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1214280" y="550080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2AEC-4818-4C56-84FD-7103522E6D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71640" y="981000"/>
          <a:ext cx="2760480" cy="518472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Ш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Picture 29" descr="MCj04366680000[1]"/>
          <p:cNvPicPr/>
          <p:nvPr/>
        </p:nvPicPr>
        <p:blipFill>
          <a:blip r:embed="rId1"/>
          <a:stretch/>
        </p:blipFill>
        <p:spPr>
          <a:xfrm>
            <a:off x="4143240" y="1428840"/>
            <a:ext cx="857520" cy="1214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"/>
          <p:cNvPicPr/>
          <p:nvPr/>
        </p:nvPicPr>
        <p:blipFill>
          <a:blip r:embed="rId2"/>
          <a:stretch/>
        </p:blipFill>
        <p:spPr>
          <a:xfrm>
            <a:off x="4857840" y="20718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MCj03979670000[1]"/>
          <p:cNvPicPr/>
          <p:nvPr/>
        </p:nvPicPr>
        <p:blipFill>
          <a:blip r:embed="rId3"/>
          <a:stretch/>
        </p:blipFill>
        <p:spPr>
          <a:xfrm>
            <a:off x="5715000" y="3071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7" descr="MCj00881900000[1]"/>
          <p:cNvPicPr/>
          <p:nvPr/>
        </p:nvPicPr>
        <p:blipFill>
          <a:blip r:embed="rId4"/>
          <a:stretch/>
        </p:blipFill>
        <p:spPr>
          <a:xfrm>
            <a:off x="6643800" y="3714840"/>
            <a:ext cx="734760" cy="1068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5" descr="i?id=34795742&amp;tov=7&amp;n=2"/>
          <p:cNvPicPr/>
          <p:nvPr/>
        </p:nvPicPr>
        <p:blipFill>
          <a:blip r:embed="rId5"/>
          <a:stretch/>
        </p:blipFill>
        <p:spPr>
          <a:xfrm>
            <a:off x="7286760" y="4357800"/>
            <a:ext cx="769680" cy="102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" descr="MMj03364140000[1]"/>
          <p:cNvPicPr/>
          <p:nvPr/>
        </p:nvPicPr>
        <p:blipFill>
          <a:blip r:embed="rId6"/>
          <a:stretch/>
        </p:blipFill>
        <p:spPr>
          <a:xfrm>
            <a:off x="8001000" y="5214960"/>
            <a:ext cx="878040" cy="878040"/>
          </a:xfrm>
          <a:prstGeom prst="rect">
            <a:avLst/>
          </a:prstGeom>
          <a:ln w="0">
            <a:noFill/>
          </a:ln>
        </p:spPr>
      </p:pic>
      <p:sp>
        <p:nvSpPr>
          <p:cNvPr id="187" name="Управляющая кнопка: домой 9"/>
          <p:cNvSpPr/>
          <p:nvPr/>
        </p:nvSpPr>
        <p:spPr>
          <a:xfrm>
            <a:off x="4429080" y="607212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омер слайда 10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8174-D18F-4A3D-83C7-B2AFED4D5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ова</cp:lastModifiedBy>
  <dcterms:modified xsi:type="dcterms:W3CDTF">2013-07-29T16:53:34Z</dcterms:modified>
  <cp:revision>41</cp:revision>
  <dc:subject/>
  <dc:title>PowerPoint Presentation</dc:title>
</cp:coreProperties>
</file>