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68C-EB3B-4431-B163-AE353AC5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1D9-7583-4B29-8EC1-76694385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70B-E808-4FD7-A554-66869957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F72-9E10-43F0-BA7F-C80A74F6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CD8-67C8-476E-9555-5289C4A9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1F8-E631-44D6-9DD6-F84920BC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F49-6252-435C-A4E9-9FD5F213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C1C-87A6-4CF5-BE6B-60E6237F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E31-3C26-47B1-8FF0-6F0FED9D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EE7-31E7-447D-AD01-FD386935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B0D8-F4F2-4DD0-ACB4-1945E837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8C4E-654D-440E-A3AD-FD25F869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5070-9EBE-49AE-A07C-7CF9613B93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ГРАММИРОВАНИЕ  РАЗВЕТВЛЯЮЩИХСЯ 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Заголовок 2"/>
          <p:cNvSpPr/>
          <p:nvPr/>
        </p:nvSpPr>
        <p:spPr>
          <a:xfrm>
            <a:off x="357120" y="0"/>
            <a:ext cx="8353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ние линейного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8360" y="2643120"/>
            <a:ext cx="842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n_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a, b, x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Решение линейного уравнения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коэффициенты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readln (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a&lt;&g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x:=-b/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'Корень уравнения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x=', x:9: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lse if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b&lt;&g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Корней нет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lse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'x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е число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12"/>
          <p:cNvGrpSpPr/>
          <p:nvPr/>
        </p:nvGrpSpPr>
        <p:grpSpPr>
          <a:xfrm>
            <a:off x="4786200" y="714240"/>
            <a:ext cx="4357800" cy="3019680"/>
            <a:chOff x="4786200" y="714240"/>
            <a:chExt cx="4357800" cy="3019680"/>
          </a:xfrm>
        </p:grpSpPr>
        <p:sp>
          <p:nvSpPr>
            <p:cNvPr id="170" name="AutoShape 113"/>
            <p:cNvSpPr/>
            <p:nvPr/>
          </p:nvSpPr>
          <p:spPr>
            <a:xfrm>
              <a:off x="5500800" y="2897280"/>
              <a:ext cx="1607760" cy="278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рней 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114"/>
            <p:cNvGrpSpPr/>
            <p:nvPr/>
          </p:nvGrpSpPr>
          <p:grpSpPr>
            <a:xfrm>
              <a:off x="4786200" y="714240"/>
              <a:ext cx="4357800" cy="3019680"/>
              <a:chOff x="4786200" y="714240"/>
              <a:chExt cx="4357800" cy="3019680"/>
            </a:xfrm>
          </p:grpSpPr>
          <p:sp>
            <p:nvSpPr>
              <p:cNvPr id="172" name="Rectangle 115"/>
              <p:cNvSpPr/>
              <p:nvPr/>
            </p:nvSpPr>
            <p:spPr>
              <a:xfrm>
                <a:off x="5514840" y="945720"/>
                <a:ext cx="1645200" cy="27936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писок данны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16"/>
              <p:cNvSpPr/>
              <p:nvPr/>
            </p:nvSpPr>
            <p:spPr>
              <a:xfrm>
                <a:off x="5512680" y="1225080"/>
                <a:ext cx="1647360" cy="27936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, b, x 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е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17"/>
              <p:cNvSpPr/>
              <p:nvPr/>
            </p:nvSpPr>
            <p:spPr>
              <a:xfrm>
                <a:off x="5852160" y="1688760"/>
                <a:ext cx="966600" cy="278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, 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118"/>
              <p:cNvSpPr/>
              <p:nvPr/>
            </p:nvSpPr>
            <p:spPr>
              <a:xfrm>
                <a:off x="5803200" y="2153880"/>
                <a:ext cx="1065960" cy="37152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&lt;&gt;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utoShape 119"/>
              <p:cNvSpPr/>
              <p:nvPr/>
            </p:nvSpPr>
            <p:spPr>
              <a:xfrm>
                <a:off x="4786200" y="2525760"/>
                <a:ext cx="966600" cy="278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b/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120"/>
              <p:cNvSpPr/>
              <p:nvPr/>
            </p:nvSpPr>
            <p:spPr>
              <a:xfrm>
                <a:off x="6869520" y="2524320"/>
                <a:ext cx="1065960" cy="37152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&lt;&gt;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21"/>
              <p:cNvSpPr/>
              <p:nvPr/>
            </p:nvSpPr>
            <p:spPr>
              <a:xfrm>
                <a:off x="7357680" y="2897280"/>
                <a:ext cx="1786320" cy="27864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Любое числ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22"/>
              <p:cNvSpPr/>
              <p:nvPr/>
            </p:nvSpPr>
            <p:spPr>
              <a:xfrm>
                <a:off x="6336360" y="714240"/>
                <a:ext cx="0" cy="23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123"/>
              <p:cNvSpPr/>
              <p:nvPr/>
            </p:nvSpPr>
            <p:spPr>
              <a:xfrm>
                <a:off x="7935840" y="2429280"/>
                <a:ext cx="63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24"/>
              <p:cNvSpPr/>
              <p:nvPr/>
            </p:nvSpPr>
            <p:spPr>
              <a:xfrm>
                <a:off x="6385680" y="3361320"/>
                <a:ext cx="96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25"/>
              <p:cNvSpPr/>
              <p:nvPr/>
            </p:nvSpPr>
            <p:spPr>
              <a:xfrm>
                <a:off x="7354440" y="3361320"/>
                <a:ext cx="106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26"/>
              <p:cNvSpPr/>
              <p:nvPr/>
            </p:nvSpPr>
            <p:spPr>
              <a:xfrm flipV="1">
                <a:off x="7935840" y="2709360"/>
                <a:ext cx="48492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27"/>
              <p:cNvSpPr/>
              <p:nvPr/>
            </p:nvSpPr>
            <p:spPr>
              <a:xfrm>
                <a:off x="6336360" y="150372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28"/>
              <p:cNvSpPr/>
              <p:nvPr/>
            </p:nvSpPr>
            <p:spPr>
              <a:xfrm>
                <a:off x="6336360" y="196740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29"/>
              <p:cNvSpPr/>
              <p:nvPr/>
            </p:nvSpPr>
            <p:spPr>
              <a:xfrm>
                <a:off x="5071320" y="2000160"/>
                <a:ext cx="63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30"/>
              <p:cNvSpPr/>
              <p:nvPr/>
            </p:nvSpPr>
            <p:spPr>
              <a:xfrm>
                <a:off x="5270040" y="2339280"/>
                <a:ext cx="53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31"/>
              <p:cNvSpPr/>
              <p:nvPr/>
            </p:nvSpPr>
            <p:spPr>
              <a:xfrm>
                <a:off x="5270040" y="233928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2"/>
              <p:cNvSpPr/>
              <p:nvPr/>
            </p:nvSpPr>
            <p:spPr>
              <a:xfrm>
                <a:off x="6214680" y="2429280"/>
                <a:ext cx="65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33"/>
              <p:cNvSpPr/>
              <p:nvPr/>
            </p:nvSpPr>
            <p:spPr>
              <a:xfrm flipV="1">
                <a:off x="6385680" y="2709360"/>
                <a:ext cx="4834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34"/>
              <p:cNvSpPr/>
              <p:nvPr/>
            </p:nvSpPr>
            <p:spPr>
              <a:xfrm>
                <a:off x="5270040" y="3547800"/>
                <a:ext cx="10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35"/>
              <p:cNvSpPr/>
              <p:nvPr/>
            </p:nvSpPr>
            <p:spPr>
              <a:xfrm>
                <a:off x="6288120" y="3547800"/>
                <a:ext cx="106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36"/>
              <p:cNvSpPr/>
              <p:nvPr/>
            </p:nvSpPr>
            <p:spPr>
              <a:xfrm>
                <a:off x="6918480" y="2071800"/>
                <a:ext cx="72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37"/>
              <p:cNvSpPr/>
              <p:nvPr/>
            </p:nvSpPr>
            <p:spPr>
              <a:xfrm>
                <a:off x="6869520" y="23392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38"/>
              <p:cNvSpPr/>
              <p:nvPr/>
            </p:nvSpPr>
            <p:spPr>
              <a:xfrm>
                <a:off x="7402680" y="233928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39"/>
              <p:cNvSpPr/>
              <p:nvPr/>
            </p:nvSpPr>
            <p:spPr>
              <a:xfrm>
                <a:off x="6385680" y="271080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40"/>
              <p:cNvSpPr/>
              <p:nvPr/>
            </p:nvSpPr>
            <p:spPr>
              <a:xfrm>
                <a:off x="8420760" y="271080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41"/>
              <p:cNvSpPr/>
              <p:nvPr/>
            </p:nvSpPr>
            <p:spPr>
              <a:xfrm>
                <a:off x="8420760" y="317592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42"/>
              <p:cNvSpPr/>
              <p:nvPr/>
            </p:nvSpPr>
            <p:spPr>
              <a:xfrm>
                <a:off x="6385680" y="317592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43"/>
              <p:cNvSpPr/>
              <p:nvPr/>
            </p:nvSpPr>
            <p:spPr>
              <a:xfrm>
                <a:off x="7354440" y="336132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144"/>
              <p:cNvSpPr/>
              <p:nvPr/>
            </p:nvSpPr>
            <p:spPr>
              <a:xfrm>
                <a:off x="5270040" y="2804040"/>
                <a:ext cx="0" cy="74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45"/>
              <p:cNvSpPr/>
              <p:nvPr/>
            </p:nvSpPr>
            <p:spPr>
              <a:xfrm>
                <a:off x="6288120" y="354780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Прямоугольник 38"/>
          <p:cNvSpPr/>
          <p:nvPr/>
        </p:nvSpPr>
        <p:spPr>
          <a:xfrm>
            <a:off x="642960" y="4357800"/>
            <a:ext cx="6500880" cy="2095560"/>
          </a:xfrm>
          <a:prstGeom prst="rect">
            <a:avLst/>
          </a:prstGeom>
          <a:noFill/>
          <a:ln w="28440">
            <a:solidFill>
              <a:srgbClr val="005a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9"/>
          <p:cNvSpPr/>
          <p:nvPr/>
        </p:nvSpPr>
        <p:spPr>
          <a:xfrm>
            <a:off x="2090880" y="5695920"/>
            <a:ext cx="4838400" cy="571680"/>
          </a:xfrm>
          <a:prstGeom prst="rect">
            <a:avLst/>
          </a:prstGeom>
          <a:noFill/>
          <a:ln w="28440">
            <a:solidFill>
              <a:srgbClr val="005a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8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4"/>
          <p:cNvSpPr/>
          <p:nvPr/>
        </p:nvSpPr>
        <p:spPr>
          <a:xfrm>
            <a:off x="250920" y="907920"/>
            <a:ext cx="86421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записи на языке Паскаль разветвляющихся алгоритмов используют условный опера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условие&gt;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_1&gt;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&lt;оператор_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неполных ветвлений используется сокращённый условный опера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условие&gt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и некотором условии требуется выполнить определённую последовательных операторов, то их объединяют в один составной оператор, имеющий ви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&lt;последовательность операторов&gt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95280" y="2349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 языке Паскаль записывается полное и непол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вл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68360" y="1916280"/>
            <a:ext cx="842472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условным оператором последовательность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if x&lt;y then x:=0 else read 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if x&gt;=y then x:=0; y:=0 else write (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if x&lt;y &lt;z then a:=a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719280" y="1916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составной оператор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он используется в условном операто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68360" y="1700280"/>
            <a:ext cx="842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составной оператор, упростите следующий фрагмент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f a&gt;b then c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f a&gt;b then d:=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f a&lt;=b then c:=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f a&lt;=b then d: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468360" y="981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 трёхзначное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опреде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395280" y="1989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ли среди цифр заданного целого трёхзначного  числа одинак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3716280"/>
          <a:ext cx="8208720" cy="2305080"/>
        </p:xfrm>
        <a:graphic>
          <a:graphicData uri="http://schemas.openxmlformats.org/drawingml/2006/table">
            <a:tbl>
              <a:tblPr/>
              <a:tblGrid>
                <a:gridCol w="4105080"/>
                <a:gridCol w="4103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Text Box 30"/>
          <p:cNvSpPr/>
          <p:nvPr/>
        </p:nvSpPr>
        <p:spPr>
          <a:xfrm>
            <a:off x="468360" y="220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число «перевёртышем», т. е. числом, десятичная запись которого читается одинаково слева направо и справа нале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11280" y="3716280"/>
          <a:ext cx="8208720" cy="2305080"/>
        </p:xfrm>
        <a:graphic>
          <a:graphicData uri="http://schemas.openxmlformats.org/drawingml/2006/table">
            <a:tbl>
              <a:tblPr/>
              <a:tblGrid>
                <a:gridCol w="4105080"/>
                <a:gridCol w="4103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ёрты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ёртыш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48"/>
          <p:cNvSpPr/>
          <p:nvPr/>
        </p:nvSpPr>
        <p:spPr>
          <a:xfrm>
            <a:off x="46836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две точки в плоской прямоугольной системе координат. Напишите программу, определяющую, которая из точек находится ближе к началу координ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84360" y="3716280"/>
          <a:ext cx="8208720" cy="1471680"/>
        </p:xfrm>
        <a:graphic>
          <a:graphicData uri="http://schemas.openxmlformats.org/drawingml/2006/table">
            <a:tbl>
              <a:tblPr/>
              <a:tblGrid>
                <a:gridCol w="4248000"/>
                <a:gridCol w="396072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1-й точк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1,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2-й точк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точка бли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84360" y="3573360"/>
          <a:ext cx="8208720" cy="2881440"/>
        </p:xfrm>
        <a:graphic>
          <a:graphicData uri="http://schemas.openxmlformats.org/drawingml/2006/table">
            <a:tbl>
              <a:tblPr/>
              <a:tblGrid>
                <a:gridCol w="4248000"/>
                <a:gridCol w="3960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&gt;&gt; 1 2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уществ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&gt;&gt;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носторон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&gt;&gt;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20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нобедр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&gt;&gt;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орон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Text Box 80"/>
          <p:cNvSpPr/>
          <p:nvPr/>
        </p:nvSpPr>
        <p:spPr>
          <a:xfrm>
            <a:off x="468360" y="1052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три натуральных числа. Напишите программу,  определяющую, существует ли треугольник с такими  длинами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такой треугольник существует, то определите его тип (равносторонний, равнобедренный, разносторонни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1"/>
          <p:cNvSpPr/>
          <p:nvPr/>
        </p:nvSpPr>
        <p:spPr>
          <a:xfrm>
            <a:off x="468360" y="1844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ся данные о количестве полных лет трёх призёров спартаки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ыбирающую и выводящую возраст самого младшего  призё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11280" y="2276640"/>
          <a:ext cx="8208720" cy="3265200"/>
        </p:xfrm>
        <a:graphic>
          <a:graphicData uri="http://schemas.openxmlformats.org/drawingml/2006/table">
            <a:tbl>
              <a:tblPr/>
              <a:tblGrid>
                <a:gridCol w="4248000"/>
                <a:gridCol w="3960720"/>
              </a:tblGrid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1&gt;&gt;-1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, ya &gt;&gt;1 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лежит под пря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1&gt;&gt;-1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, ya &gt;&gt;1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лежит над пря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1&gt;&gt;-1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, ya &gt;&gt;1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лежит на пря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Text Box 99"/>
          <p:cNvSpPr/>
          <p:nvPr/>
        </p:nvSpPr>
        <p:spPr>
          <a:xfrm>
            <a:off x="468360" y="981000"/>
            <a:ext cx="84247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определяющую, лежит ли 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(ха, y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 прямо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k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, над ней или под 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0"/>
          <p:cNvSpPr/>
          <p:nvPr/>
        </p:nvSpPr>
        <p:spPr>
          <a:xfrm>
            <a:off x="468360" y="5516640"/>
            <a:ext cx="842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а окружност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+ y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над ней или под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входных данных и соответствующих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ных данных разработайте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11280" y="2349360"/>
          <a:ext cx="8208720" cy="2368800"/>
        </p:xfrm>
        <a:graphic>
          <a:graphicData uri="http://schemas.openxmlformats.org/drawingml/2006/table">
            <a:tbl>
              <a:tblPr/>
              <a:tblGrid>
                <a:gridCol w="4248000"/>
                <a:gridCol w="39607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&gt;&gt;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&gt;&gt;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&gt;&gt;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&gt;&gt;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15"/>
          <p:cNvSpPr/>
          <p:nvPr/>
        </p:nvSpPr>
        <p:spPr>
          <a:xfrm>
            <a:off x="395280" y="1268280"/>
            <a:ext cx="8424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роизводит 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й переменных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6"/>
          <p:cNvSpPr/>
          <p:nvPr/>
        </p:nvSpPr>
        <p:spPr>
          <a:xfrm>
            <a:off x="468360" y="1125360"/>
            <a:ext cx="842472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условный опера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&lt;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: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a&gt;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: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: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значение имеет переменна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в результате выполнения условного оператора переменно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ваивается значение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68360" y="4076640"/>
          <a:ext cx="8209080" cy="2305080"/>
        </p:xfrm>
        <a:graphic>
          <a:graphicData uri="http://schemas.openxmlformats.org/drawingml/2006/table">
            <a:tbl>
              <a:tblPr/>
              <a:tblGrid>
                <a:gridCol w="4248000"/>
                <a:gridCol w="39610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134"/>
          <p:cNvSpPr/>
          <p:nvPr/>
        </p:nvSpPr>
        <p:spPr>
          <a:xfrm>
            <a:off x="468360" y="981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ычисляющую значен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35"/>
          <p:cNvSpPr/>
          <p:nvPr/>
        </p:nvSpPr>
        <p:spPr>
          <a:xfrm>
            <a:off x="3527280" y="1989000"/>
            <a:ext cx="358920" cy="1729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6"/>
          <p:cNvSpPr/>
          <p:nvPr/>
        </p:nvSpPr>
        <p:spPr>
          <a:xfrm>
            <a:off x="3886200" y="1989000"/>
            <a:ext cx="19432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7"/>
          <p:cNvSpPr/>
          <p:nvPr/>
        </p:nvSpPr>
        <p:spPr>
          <a:xfrm>
            <a:off x="2878200" y="2637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8"/>
          <p:cNvSpPr/>
          <p:nvPr/>
        </p:nvSpPr>
        <p:spPr>
          <a:xfrm>
            <a:off x="468360" y="105264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программу для решения 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о, что 31 января 2011 года приходится на  понедельник. Какие значения должны быть присвоены литерной переменной y в алгоритме, определяющем день недели для любого числа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chisl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января 2011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islo:= chislo m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3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4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5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6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0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1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2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95280" y="3213000"/>
          <a:ext cx="8497800" cy="3063960"/>
        </p:xfrm>
        <a:graphic>
          <a:graphicData uri="http://schemas.openxmlformats.org/drawingml/2006/table">
            <a:tbl>
              <a:tblPr/>
              <a:tblGrid>
                <a:gridCol w="4464000"/>
                <a:gridCol w="4033800"/>
              </a:tblGrid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1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2 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2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3 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 одного цв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1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2 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2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3 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 разного цв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1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2  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2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5 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 одного цв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156"/>
          <p:cNvSpPr/>
          <p:nvPr/>
        </p:nvSpPr>
        <p:spPr>
          <a:xfrm>
            <a:off x="395280" y="907920"/>
            <a:ext cx="8424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шахматной доски определяется парой натуральных чисел, каждое из которых не превосходит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 введённы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ам двух полей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определяет,  являются ли эти поля полями одн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7"/>
          <p:cNvSpPr/>
          <p:nvPr/>
        </p:nvSpPr>
        <p:spPr>
          <a:xfrm>
            <a:off x="468360" y="213372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 которой пользователю предлагается дополнить до 100 некоторое целое числ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чайное число, меньшее 10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пользователя проверяется и комментиру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843280" y="1214280"/>
            <a:ext cx="338436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словный опера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468360" y="1503360"/>
            <a:ext cx="23749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1692360" y="2870280"/>
            <a:ext cx="7130880" cy="4334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i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условие&gt;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the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ератор_1&gt;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else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ератор_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6"/>
          <p:cNvSpPr/>
          <p:nvPr/>
        </p:nvSpPr>
        <p:spPr>
          <a:xfrm>
            <a:off x="1692360" y="4167360"/>
            <a:ext cx="7127640" cy="4316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i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условие&gt;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the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ератор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1763640" y="5391000"/>
            <a:ext cx="7128000" cy="43200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FangSong"/>
              </a:rPr>
              <a:t>begin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последовательность операторов&gt;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en</a:t>
            </a:r>
            <a:r>
              <a:rPr b="1" i="1" lang="en-US" sz="2200" spc="-1" strike="noStrike">
                <a:solidFill>
                  <a:srgbClr val="000000"/>
                </a:solidFill>
                <a:latin typeface="FangSong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8"/>
          <p:cNvSpPr/>
          <p:nvPr/>
        </p:nvSpPr>
        <p:spPr>
          <a:xfrm flipV="1">
            <a:off x="468360" y="1503360"/>
            <a:ext cx="0" cy="352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8"/>
          <p:cNvSpPr/>
          <p:nvPr/>
        </p:nvSpPr>
        <p:spPr>
          <a:xfrm>
            <a:off x="468360" y="236700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8"/>
          <p:cNvSpPr/>
          <p:nvPr/>
        </p:nvSpPr>
        <p:spPr>
          <a:xfrm>
            <a:off x="468360" y="373536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8"/>
          <p:cNvSpPr/>
          <p:nvPr/>
        </p:nvSpPr>
        <p:spPr>
          <a:xfrm>
            <a:off x="468360" y="503064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1332000" y="308772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>
            <a:off x="1332000" y="438300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8"/>
          <p:cNvSpPr/>
          <p:nvPr/>
        </p:nvSpPr>
        <p:spPr>
          <a:xfrm>
            <a:off x="1403280" y="5607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>
            <a:off x="1332000" y="258300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8"/>
          <p:cNvSpPr/>
          <p:nvPr/>
        </p:nvSpPr>
        <p:spPr>
          <a:xfrm>
            <a:off x="1403280" y="5175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>
            <a:off x="1332000" y="3951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826920" y="2151000"/>
            <a:ext cx="28101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ная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826920" y="3519360"/>
            <a:ext cx="28101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лная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826920" y="4743360"/>
            <a:ext cx="28101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ной оп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4000"/>
                            </p:stCondLst>
                            <p:childTnLst>
                              <p:par>
                                <p:cTn id="9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0"/>
                            </p:stCondLst>
                            <p:childTnLst>
                              <p:par>
                                <p:cTn id="9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8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9000"/>
                            </p:stCondLst>
                            <p:childTnLst>
                              <p:par>
                                <p:cTn id="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кращённая форма условного     опер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ной опер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оженные вет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539640" y="189000"/>
            <a:ext cx="860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бщий вид условного опера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286000" y="3143160"/>
            <a:ext cx="485784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нак «;» не стави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95280" y="907920"/>
            <a:ext cx="849780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ная форма условного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условие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оператор_1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оператор_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95280" y="2060640"/>
            <a:ext cx="8497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кращённая форма условного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условие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оператор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833480" y="5805360"/>
            <a:ext cx="2667240" cy="719280"/>
          </a:xfrm>
          <a:prstGeom prst="rect">
            <a:avLst/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</a:rPr>
              <a:t>Оп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</a:rPr>
              <a:t>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856040" y="5805360"/>
            <a:ext cx="2667240" cy="719280"/>
          </a:xfrm>
          <a:prstGeom prst="rect">
            <a:avLst/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3203640" y="5445000"/>
            <a:ext cx="0" cy="360360"/>
          </a:xfrm>
          <a:prstGeom prst="line">
            <a:avLst/>
          </a:prstGeom>
          <a:ln w="38160">
            <a:solidFill>
              <a:srgbClr val="01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6226200" y="5445000"/>
            <a:ext cx="0" cy="360360"/>
          </a:xfrm>
          <a:prstGeom prst="line">
            <a:avLst/>
          </a:prstGeom>
          <a:ln w="38160">
            <a:solidFill>
              <a:srgbClr val="01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195640" y="501336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219640" y="501336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ж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8"/>
          <p:cNvSpPr/>
          <p:nvPr/>
        </p:nvSpPr>
        <p:spPr>
          <a:xfrm flipV="1">
            <a:off x="3419640" y="458136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6156360" y="450864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197080" y="3860640"/>
            <a:ext cx="511164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- логически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1643040" y="300024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Заголовок 2"/>
          <p:cNvSpPr/>
          <p:nvPr/>
        </p:nvSpPr>
        <p:spPr>
          <a:xfrm>
            <a:off x="611280" y="14292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словный опер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8360" y="1916280"/>
            <a:ext cx="5688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_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x, a, b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Определение принадле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отрезку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Введите а, b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readln (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Введите x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readln 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if (x&gt;=a) and (x&lt;=b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Точка принадлежит отрезку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else 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Точка не принадлежит отрезку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7"/>
          <p:cNvGrpSpPr/>
          <p:nvPr/>
        </p:nvGrpSpPr>
        <p:grpSpPr>
          <a:xfrm>
            <a:off x="4551480" y="2349360"/>
            <a:ext cx="4592160" cy="3143520"/>
            <a:chOff x="4551480" y="2349360"/>
            <a:chExt cx="4592160" cy="3143520"/>
          </a:xfrm>
        </p:grpSpPr>
        <p:sp>
          <p:nvSpPr>
            <p:cNvPr id="62" name="AutoShape 48"/>
            <p:cNvSpPr/>
            <p:nvPr/>
          </p:nvSpPr>
          <p:spPr>
            <a:xfrm>
              <a:off x="6335280" y="261216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, b,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49"/>
            <p:cNvSpPr/>
            <p:nvPr/>
          </p:nvSpPr>
          <p:spPr>
            <a:xfrm>
              <a:off x="5632200" y="3265560"/>
              <a:ext cx="2485440" cy="7866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x&gt;=a) and (x&lt;=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50"/>
            <p:cNvSpPr/>
            <p:nvPr/>
          </p:nvSpPr>
          <p:spPr>
            <a:xfrm>
              <a:off x="4551480" y="437832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51"/>
            <p:cNvSpPr/>
            <p:nvPr/>
          </p:nvSpPr>
          <p:spPr>
            <a:xfrm>
              <a:off x="8065440" y="437832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52"/>
            <p:cNvSpPr/>
            <p:nvPr/>
          </p:nvSpPr>
          <p:spPr>
            <a:xfrm>
              <a:off x="6876360" y="23493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53"/>
            <p:cNvSpPr/>
            <p:nvPr/>
          </p:nvSpPr>
          <p:spPr>
            <a:xfrm>
              <a:off x="5092200" y="3659760"/>
              <a:ext cx="59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54"/>
            <p:cNvSpPr/>
            <p:nvPr/>
          </p:nvSpPr>
          <p:spPr>
            <a:xfrm>
              <a:off x="4908960" y="333216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55"/>
            <p:cNvSpPr/>
            <p:nvPr/>
          </p:nvSpPr>
          <p:spPr>
            <a:xfrm>
              <a:off x="8172720" y="333216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6"/>
            <p:cNvSpPr/>
            <p:nvPr/>
          </p:nvSpPr>
          <p:spPr>
            <a:xfrm>
              <a:off x="8065440" y="3659760"/>
              <a:ext cx="5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7"/>
            <p:cNvSpPr/>
            <p:nvPr/>
          </p:nvSpPr>
          <p:spPr>
            <a:xfrm>
              <a:off x="6876360" y="30045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8"/>
            <p:cNvSpPr/>
            <p:nvPr/>
          </p:nvSpPr>
          <p:spPr>
            <a:xfrm>
              <a:off x="8605440" y="365976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9"/>
            <p:cNvSpPr/>
            <p:nvPr/>
          </p:nvSpPr>
          <p:spPr>
            <a:xfrm>
              <a:off x="5092200" y="365976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0"/>
            <p:cNvSpPr/>
            <p:nvPr/>
          </p:nvSpPr>
          <p:spPr>
            <a:xfrm>
              <a:off x="8605440" y="4772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1"/>
            <p:cNvSpPr/>
            <p:nvPr/>
          </p:nvSpPr>
          <p:spPr>
            <a:xfrm>
              <a:off x="5092200" y="4772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2"/>
            <p:cNvSpPr/>
            <p:nvPr/>
          </p:nvSpPr>
          <p:spPr>
            <a:xfrm>
              <a:off x="6930000" y="5230080"/>
              <a:ext cx="167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63"/>
            <p:cNvSpPr/>
            <p:nvPr/>
          </p:nvSpPr>
          <p:spPr>
            <a:xfrm>
              <a:off x="5092200" y="5230080"/>
              <a:ext cx="183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64"/>
            <p:cNvSpPr/>
            <p:nvPr/>
          </p:nvSpPr>
          <p:spPr>
            <a:xfrm>
              <a:off x="6930000" y="523008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500040" y="142920"/>
            <a:ext cx="814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окращённая форма условного опер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57120" y="1143000"/>
            <a:ext cx="806472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_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y, a, b, c: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Нахождение наибольшей из трёх величин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а, b, с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a, b, 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y:=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if (b&gt;y) then y:=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if (c&gt;y) then y:=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y='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09"/>
          <p:cNvGrpSpPr/>
          <p:nvPr/>
        </p:nvGrpSpPr>
        <p:grpSpPr>
          <a:xfrm>
            <a:off x="6215040" y="2000160"/>
            <a:ext cx="2928960" cy="3928680"/>
            <a:chOff x="6215040" y="2000160"/>
            <a:chExt cx="2928960" cy="3928680"/>
          </a:xfrm>
        </p:grpSpPr>
        <p:sp>
          <p:nvSpPr>
            <p:cNvPr id="82" name="Line 100"/>
            <p:cNvSpPr/>
            <p:nvPr/>
          </p:nvSpPr>
          <p:spPr>
            <a:xfrm>
              <a:off x="8400960" y="3171960"/>
              <a:ext cx="55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7333200" y="2275200"/>
              <a:ext cx="1017360" cy="414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8"/>
            <p:cNvSpPr/>
            <p:nvPr/>
          </p:nvSpPr>
          <p:spPr>
            <a:xfrm>
              <a:off x="7282440" y="2895480"/>
              <a:ext cx="1118160" cy="5511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6215040" y="3585240"/>
              <a:ext cx="1017360" cy="4147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0"/>
            <p:cNvSpPr/>
            <p:nvPr/>
          </p:nvSpPr>
          <p:spPr>
            <a:xfrm>
              <a:off x="6215040" y="5102280"/>
              <a:ext cx="1017360" cy="414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1"/>
            <p:cNvSpPr/>
            <p:nvPr/>
          </p:nvSpPr>
          <p:spPr>
            <a:xfrm>
              <a:off x="7282440" y="4412160"/>
              <a:ext cx="1118160" cy="5511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81"/>
            <p:cNvSpPr/>
            <p:nvPr/>
          </p:nvSpPr>
          <p:spPr>
            <a:xfrm>
              <a:off x="7841880" y="2000160"/>
              <a:ext cx="0" cy="27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3"/>
            <p:cNvSpPr/>
            <p:nvPr/>
          </p:nvSpPr>
          <p:spPr>
            <a:xfrm>
              <a:off x="6572160" y="2826720"/>
              <a:ext cx="70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84"/>
            <p:cNvSpPr/>
            <p:nvPr/>
          </p:nvSpPr>
          <p:spPr>
            <a:xfrm>
              <a:off x="8349480" y="2826720"/>
              <a:ext cx="79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6"/>
            <p:cNvSpPr/>
            <p:nvPr/>
          </p:nvSpPr>
          <p:spPr>
            <a:xfrm>
              <a:off x="7841880" y="5722200"/>
              <a:ext cx="111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87"/>
            <p:cNvSpPr/>
            <p:nvPr/>
          </p:nvSpPr>
          <p:spPr>
            <a:xfrm>
              <a:off x="6723720" y="4205520"/>
              <a:ext cx="111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8"/>
            <p:cNvSpPr/>
            <p:nvPr/>
          </p:nvSpPr>
          <p:spPr>
            <a:xfrm>
              <a:off x="7841880" y="268848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89"/>
            <p:cNvSpPr/>
            <p:nvPr/>
          </p:nvSpPr>
          <p:spPr>
            <a:xfrm>
              <a:off x="6773760" y="4688640"/>
              <a:ext cx="50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90"/>
            <p:cNvSpPr/>
            <p:nvPr/>
          </p:nvSpPr>
          <p:spPr>
            <a:xfrm>
              <a:off x="6572160" y="4343760"/>
              <a:ext cx="70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91"/>
            <p:cNvSpPr/>
            <p:nvPr/>
          </p:nvSpPr>
          <p:spPr>
            <a:xfrm>
              <a:off x="6723720" y="3171960"/>
              <a:ext cx="0" cy="41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92"/>
            <p:cNvSpPr/>
            <p:nvPr/>
          </p:nvSpPr>
          <p:spPr>
            <a:xfrm>
              <a:off x="6773760" y="4688640"/>
              <a:ext cx="0" cy="41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93"/>
            <p:cNvSpPr/>
            <p:nvPr/>
          </p:nvSpPr>
          <p:spPr>
            <a:xfrm>
              <a:off x="7841880" y="4205520"/>
              <a:ext cx="111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4"/>
            <p:cNvSpPr/>
            <p:nvPr/>
          </p:nvSpPr>
          <p:spPr>
            <a:xfrm>
              <a:off x="6723720" y="399852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5"/>
            <p:cNvSpPr/>
            <p:nvPr/>
          </p:nvSpPr>
          <p:spPr>
            <a:xfrm>
              <a:off x="7841880" y="420552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98"/>
            <p:cNvSpPr/>
            <p:nvPr/>
          </p:nvSpPr>
          <p:spPr>
            <a:xfrm>
              <a:off x="6723720" y="3171960"/>
              <a:ext cx="55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1"/>
            <p:cNvSpPr/>
            <p:nvPr/>
          </p:nvSpPr>
          <p:spPr>
            <a:xfrm>
              <a:off x="8501760" y="4343760"/>
              <a:ext cx="64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02"/>
            <p:cNvSpPr/>
            <p:nvPr/>
          </p:nvSpPr>
          <p:spPr>
            <a:xfrm>
              <a:off x="8400960" y="4688640"/>
              <a:ext cx="55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03"/>
            <p:cNvSpPr/>
            <p:nvPr/>
          </p:nvSpPr>
          <p:spPr>
            <a:xfrm>
              <a:off x="8960040" y="3171960"/>
              <a:ext cx="0" cy="10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04"/>
            <p:cNvSpPr/>
            <p:nvPr/>
          </p:nvSpPr>
          <p:spPr>
            <a:xfrm>
              <a:off x="8960040" y="4688640"/>
              <a:ext cx="0" cy="10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5"/>
            <p:cNvSpPr/>
            <p:nvPr/>
          </p:nvSpPr>
          <p:spPr>
            <a:xfrm>
              <a:off x="6773760" y="57222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6"/>
            <p:cNvSpPr/>
            <p:nvPr/>
          </p:nvSpPr>
          <p:spPr>
            <a:xfrm>
              <a:off x="6773760" y="551556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07"/>
            <p:cNvSpPr/>
            <p:nvPr/>
          </p:nvSpPr>
          <p:spPr>
            <a:xfrm>
              <a:off x="7841880" y="572220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ставной опер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900000" y="1773360"/>
            <a:ext cx="7632720" cy="93492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ном операторе и посл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посл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использовать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только один опер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609480" y="3789360"/>
            <a:ext cx="8283600" cy="187164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условном операторе посл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посл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выполнить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несколько операто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составной операто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нструкцию вида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begi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последовательность операторов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лок-схема решения КВ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3419640" y="6093000"/>
            <a:ext cx="151272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6012000" y="5661000"/>
            <a:ext cx="2881080" cy="79236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орни уравн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1=», х1, «х2=», х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6807240" y="4365720"/>
            <a:ext cx="201276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1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-b+sqrt(d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6"/>
          <p:cNvSpPr/>
          <p:nvPr/>
        </p:nvSpPr>
        <p:spPr>
          <a:xfrm>
            <a:off x="7020000" y="3645000"/>
            <a:ext cx="1585800" cy="5047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&g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8028000" y="407664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5364000" y="53737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1"/>
          <p:cNvSpPr/>
          <p:nvPr/>
        </p:nvSpPr>
        <p:spPr>
          <a:xfrm>
            <a:off x="3419640" y="836640"/>
            <a:ext cx="1512720" cy="36036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а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835280" y="1413000"/>
            <a:ext cx="432108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едите коэффициент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, b,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3492360" y="2133720"/>
            <a:ext cx="1441440" cy="358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b*b-4*a*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5"/>
          <p:cNvSpPr/>
          <p:nvPr/>
        </p:nvSpPr>
        <p:spPr>
          <a:xfrm>
            <a:off x="3348000" y="2781360"/>
            <a:ext cx="1584360" cy="43164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&l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770200" y="270828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8"/>
          <p:cNvSpPr/>
          <p:nvPr/>
        </p:nvSpPr>
        <p:spPr>
          <a:xfrm>
            <a:off x="826920" y="3284640"/>
            <a:ext cx="2094120" cy="50328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орней не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9"/>
          <p:cNvSpPr/>
          <p:nvPr/>
        </p:nvSpPr>
        <p:spPr>
          <a:xfrm flipH="1">
            <a:off x="1977840" y="2997360"/>
            <a:ext cx="129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0"/>
          <p:cNvSpPr/>
          <p:nvPr/>
        </p:nvSpPr>
        <p:spPr>
          <a:xfrm flipH="1">
            <a:off x="4859280" y="299736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5075280" y="263700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2"/>
          <p:cNvSpPr/>
          <p:nvPr/>
        </p:nvSpPr>
        <p:spPr>
          <a:xfrm>
            <a:off x="5580000" y="3213000"/>
            <a:ext cx="1513080" cy="43200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5003640" y="314172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4140360" y="3718080"/>
            <a:ext cx="1079280" cy="358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-b/2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2627280" y="4365720"/>
            <a:ext cx="3673440" cy="57600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орень уравнения х=», 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7093080" y="314172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7"/>
          <p:cNvSpPr/>
          <p:nvPr/>
        </p:nvSpPr>
        <p:spPr>
          <a:xfrm flipH="1">
            <a:off x="4642920" y="3429000"/>
            <a:ext cx="1009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8"/>
          <p:cNvSpPr/>
          <p:nvPr/>
        </p:nvSpPr>
        <p:spPr>
          <a:xfrm flipH="1">
            <a:off x="7092720" y="342900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6804000" y="5013360"/>
            <a:ext cx="201312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-b-sqrt(d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1"/>
          <p:cNvSpPr/>
          <p:nvPr/>
        </p:nvSpPr>
        <p:spPr>
          <a:xfrm>
            <a:off x="4140360" y="1197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2"/>
          <p:cNvSpPr/>
          <p:nvPr/>
        </p:nvSpPr>
        <p:spPr>
          <a:xfrm>
            <a:off x="4140360" y="1844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3"/>
          <p:cNvSpPr/>
          <p:nvPr/>
        </p:nvSpPr>
        <p:spPr>
          <a:xfrm>
            <a:off x="4140360" y="2492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4"/>
          <p:cNvSpPr/>
          <p:nvPr/>
        </p:nvSpPr>
        <p:spPr>
          <a:xfrm>
            <a:off x="1979640" y="299736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4643280" y="342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6"/>
          <p:cNvSpPr/>
          <p:nvPr/>
        </p:nvSpPr>
        <p:spPr>
          <a:xfrm>
            <a:off x="6300720" y="2997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7"/>
          <p:cNvSpPr/>
          <p:nvPr/>
        </p:nvSpPr>
        <p:spPr>
          <a:xfrm>
            <a:off x="7812000" y="4149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8"/>
          <p:cNvSpPr/>
          <p:nvPr/>
        </p:nvSpPr>
        <p:spPr>
          <a:xfrm>
            <a:off x="7812000" y="342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9"/>
          <p:cNvSpPr/>
          <p:nvPr/>
        </p:nvSpPr>
        <p:spPr>
          <a:xfrm>
            <a:off x="4643280" y="4076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0"/>
          <p:cNvSpPr/>
          <p:nvPr/>
        </p:nvSpPr>
        <p:spPr>
          <a:xfrm>
            <a:off x="1908000" y="378936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1"/>
          <p:cNvSpPr/>
          <p:nvPr/>
        </p:nvSpPr>
        <p:spPr>
          <a:xfrm>
            <a:off x="4211640" y="53737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2"/>
          <p:cNvSpPr/>
          <p:nvPr/>
        </p:nvSpPr>
        <p:spPr>
          <a:xfrm>
            <a:off x="1908000" y="537372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3"/>
          <p:cNvSpPr/>
          <p:nvPr/>
        </p:nvSpPr>
        <p:spPr>
          <a:xfrm>
            <a:off x="781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4"/>
          <p:cNvSpPr/>
          <p:nvPr/>
        </p:nvSpPr>
        <p:spPr>
          <a:xfrm>
            <a:off x="781200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5"/>
          <p:cNvSpPr/>
          <p:nvPr/>
        </p:nvSpPr>
        <p:spPr>
          <a:xfrm>
            <a:off x="4211640" y="537372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6"/>
          <p:cNvSpPr/>
          <p:nvPr/>
        </p:nvSpPr>
        <p:spPr>
          <a:xfrm>
            <a:off x="7596360" y="6453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7"/>
          <p:cNvSpPr/>
          <p:nvPr/>
        </p:nvSpPr>
        <p:spPr>
          <a:xfrm flipH="1">
            <a:off x="5363640" y="6669000"/>
            <a:ext cx="2235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8"/>
          <p:cNvSpPr/>
          <p:nvPr/>
        </p:nvSpPr>
        <p:spPr>
          <a:xfrm>
            <a:off x="4211640" y="494172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8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8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9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2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35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4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65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4"/>
          <p:cNvSpPr/>
          <p:nvPr/>
        </p:nvSpPr>
        <p:spPr>
          <a:xfrm>
            <a:off x="1357200" y="4581360"/>
            <a:ext cx="5591160" cy="192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1:=(-b+sqrt(d))/2/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2:=(-b-sqrt(d))/2/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'Корни уравнения:'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 ('x1=', x1:9:3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 ('x2=', x2:9: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end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1357200" y="3141720"/>
            <a:ext cx="5591160" cy="1071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:=-b/2/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'Корень уравнения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=',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:9: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end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82760" y="1258920"/>
            <a:ext cx="804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39640" y="0"/>
            <a:ext cx="6891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n_11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a, b, c: real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var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d: real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var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, x1, x2: real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 ('Решение квадратного уравнения'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 ('Введите коэффициенты a, b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&gt;&gt;'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readln (a, b, c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d:=b*b-4*a*c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d&lt;0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writeln ('Корней нет'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d=0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th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4292640"/>
            <a:ext cx="68914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d&gt;0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th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68360" y="6524640"/>
            <a:ext cx="68911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971640" y="4724280"/>
            <a:ext cx="7848360" cy="57636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8"/>
          <p:cNvSpPr/>
          <p:nvPr/>
        </p:nvSpPr>
        <p:spPr>
          <a:xfrm>
            <a:off x="3143160" y="2428920"/>
            <a:ext cx="5072040" cy="10792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Заголовок 2"/>
          <p:cNvSpPr/>
          <p:nvPr/>
        </p:nvSpPr>
        <p:spPr>
          <a:xfrm>
            <a:off x="539640" y="189000"/>
            <a:ext cx="835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ложенные ветвл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900000" y="1197000"/>
            <a:ext cx="752976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а следующая констру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условие1&g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усло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опера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1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71640" y="4724280"/>
            <a:ext cx="78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гда относится к ближайшему оператору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471600" y="464184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928800" y="1785960"/>
            <a:ext cx="7643880" cy="2214720"/>
          </a:xfrm>
          <a:prstGeom prst="rect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8T16:41:15Z</dcterms:modified>
  <cp:revision>118</cp:revision>
  <dc:subject/>
  <dc:title>Презентация PowerPoint</dc:title>
</cp:coreProperties>
</file>