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D9E-0963-491D-B06B-518D5AFC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8FB-60A1-4613-94AB-84523CD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0E1-AEDC-4B49-8830-867DB89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B9D-31C4-48FF-B435-7B01B902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AE8-2997-4476-8572-99519A7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D01-D895-4BB3-8ABB-874EBC6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C3-9FB1-48DD-983F-945BB18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5E9-67B7-4E21-B4EC-FCFAFDB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699-B66D-4B84-9F43-CE59CFC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79A-853D-4981-953A-D86A15B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3B-E053-4EFC-A329-84D6561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A5B-4C1D-41AD-87FE-72D8E8D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C5A5-65B8-4EF5-B5CF-8D86DC61E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РАЗВЕТВЛЯЮЩИХСЯ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2"/>
          <p:cNvSpPr/>
          <p:nvPr/>
        </p:nvSpPr>
        <p:spPr>
          <a:xfrm>
            <a:off x="357120" y="0"/>
            <a:ext cx="8353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инейного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264312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n_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, b, x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Решение линейного уравнения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коэффициенты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-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рень уравнения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=', x:9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 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b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рней нет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'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число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2"/>
          <p:cNvGrpSpPr/>
          <p:nvPr/>
        </p:nvGrpSpPr>
        <p:grpSpPr>
          <a:xfrm>
            <a:off x="4786200" y="714240"/>
            <a:ext cx="4357800" cy="3019680"/>
            <a:chOff x="4786200" y="714240"/>
            <a:chExt cx="4357800" cy="3019680"/>
          </a:xfrm>
        </p:grpSpPr>
        <p:sp>
          <p:nvSpPr>
            <p:cNvPr id="170" name="AutoShape 113"/>
            <p:cNvSpPr/>
            <p:nvPr/>
          </p:nvSpPr>
          <p:spPr>
            <a:xfrm>
              <a:off x="5500800" y="2897280"/>
              <a:ext cx="1607760" cy="278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14"/>
            <p:cNvGrpSpPr/>
            <p:nvPr/>
          </p:nvGrpSpPr>
          <p:grpSpPr>
            <a:xfrm>
              <a:off x="4786200" y="714240"/>
              <a:ext cx="4357800" cy="3019680"/>
              <a:chOff x="4786200" y="714240"/>
              <a:chExt cx="4357800" cy="3019680"/>
            </a:xfrm>
          </p:grpSpPr>
          <p:sp>
            <p:nvSpPr>
              <p:cNvPr id="172" name="Rectangle 115"/>
              <p:cNvSpPr/>
              <p:nvPr/>
            </p:nvSpPr>
            <p:spPr>
              <a:xfrm>
                <a:off x="5514840" y="945720"/>
                <a:ext cx="164520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16"/>
              <p:cNvSpPr/>
              <p:nvPr/>
            </p:nvSpPr>
            <p:spPr>
              <a:xfrm>
                <a:off x="5512680" y="1225080"/>
                <a:ext cx="164736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17"/>
              <p:cNvSpPr/>
              <p:nvPr/>
            </p:nvSpPr>
            <p:spPr>
              <a:xfrm>
                <a:off x="5852160" y="1688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18"/>
              <p:cNvSpPr/>
              <p:nvPr/>
            </p:nvSpPr>
            <p:spPr>
              <a:xfrm>
                <a:off x="5803200" y="215388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19"/>
              <p:cNvSpPr/>
              <p:nvPr/>
            </p:nvSpPr>
            <p:spPr>
              <a:xfrm>
                <a:off x="4786200" y="2525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120"/>
              <p:cNvSpPr/>
              <p:nvPr/>
            </p:nvSpPr>
            <p:spPr>
              <a:xfrm>
                <a:off x="6869520" y="252432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21"/>
              <p:cNvSpPr/>
              <p:nvPr/>
            </p:nvSpPr>
            <p:spPr>
              <a:xfrm>
                <a:off x="7357680" y="2897280"/>
                <a:ext cx="1786320" cy="278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22"/>
              <p:cNvSpPr/>
              <p:nvPr/>
            </p:nvSpPr>
            <p:spPr>
              <a:xfrm>
                <a:off x="6336360" y="714240"/>
                <a:ext cx="0" cy="23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3"/>
              <p:cNvSpPr/>
              <p:nvPr/>
            </p:nvSpPr>
            <p:spPr>
              <a:xfrm>
                <a:off x="7935840" y="2429280"/>
                <a:ext cx="63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24"/>
              <p:cNvSpPr/>
              <p:nvPr/>
            </p:nvSpPr>
            <p:spPr>
              <a:xfrm>
                <a:off x="6385680" y="3361320"/>
                <a:ext cx="96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25"/>
              <p:cNvSpPr/>
              <p:nvPr/>
            </p:nvSpPr>
            <p:spPr>
              <a:xfrm>
                <a:off x="7354440" y="336132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26"/>
              <p:cNvSpPr/>
              <p:nvPr/>
            </p:nvSpPr>
            <p:spPr>
              <a:xfrm flipV="1">
                <a:off x="7935840" y="2709360"/>
                <a:ext cx="4849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7"/>
              <p:cNvSpPr/>
              <p:nvPr/>
            </p:nvSpPr>
            <p:spPr>
              <a:xfrm>
                <a:off x="6336360" y="15037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28"/>
              <p:cNvSpPr/>
              <p:nvPr/>
            </p:nvSpPr>
            <p:spPr>
              <a:xfrm>
                <a:off x="6336360" y="19674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29"/>
              <p:cNvSpPr/>
              <p:nvPr/>
            </p:nvSpPr>
            <p:spPr>
              <a:xfrm>
                <a:off x="5071320" y="2000160"/>
                <a:ext cx="63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30"/>
              <p:cNvSpPr/>
              <p:nvPr/>
            </p:nvSpPr>
            <p:spPr>
              <a:xfrm>
                <a:off x="5270040" y="233928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1"/>
              <p:cNvSpPr/>
              <p:nvPr/>
            </p:nvSpPr>
            <p:spPr>
              <a:xfrm>
                <a:off x="527004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2"/>
              <p:cNvSpPr/>
              <p:nvPr/>
            </p:nvSpPr>
            <p:spPr>
              <a:xfrm>
                <a:off x="6214680" y="2429280"/>
                <a:ext cx="65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33"/>
              <p:cNvSpPr/>
              <p:nvPr/>
            </p:nvSpPr>
            <p:spPr>
              <a:xfrm flipV="1">
                <a:off x="6385680" y="2709360"/>
                <a:ext cx="4834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34"/>
              <p:cNvSpPr/>
              <p:nvPr/>
            </p:nvSpPr>
            <p:spPr>
              <a:xfrm>
                <a:off x="5270040" y="3547800"/>
                <a:ext cx="10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35"/>
              <p:cNvSpPr/>
              <p:nvPr/>
            </p:nvSpPr>
            <p:spPr>
              <a:xfrm>
                <a:off x="6288120" y="354780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36"/>
              <p:cNvSpPr/>
              <p:nvPr/>
            </p:nvSpPr>
            <p:spPr>
              <a:xfrm>
                <a:off x="6918480" y="2071800"/>
                <a:ext cx="72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37"/>
              <p:cNvSpPr/>
              <p:nvPr/>
            </p:nvSpPr>
            <p:spPr>
              <a:xfrm>
                <a:off x="6869520" y="2339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8"/>
              <p:cNvSpPr/>
              <p:nvPr/>
            </p:nvSpPr>
            <p:spPr>
              <a:xfrm>
                <a:off x="740268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39"/>
              <p:cNvSpPr/>
              <p:nvPr/>
            </p:nvSpPr>
            <p:spPr>
              <a:xfrm>
                <a:off x="638568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40"/>
              <p:cNvSpPr/>
              <p:nvPr/>
            </p:nvSpPr>
            <p:spPr>
              <a:xfrm>
                <a:off x="842076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41"/>
              <p:cNvSpPr/>
              <p:nvPr/>
            </p:nvSpPr>
            <p:spPr>
              <a:xfrm>
                <a:off x="842076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42"/>
              <p:cNvSpPr/>
              <p:nvPr/>
            </p:nvSpPr>
            <p:spPr>
              <a:xfrm>
                <a:off x="638568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43"/>
              <p:cNvSpPr/>
              <p:nvPr/>
            </p:nvSpPr>
            <p:spPr>
              <a:xfrm>
                <a:off x="7354440" y="33613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44"/>
              <p:cNvSpPr/>
              <p:nvPr/>
            </p:nvSpPr>
            <p:spPr>
              <a:xfrm>
                <a:off x="5270040" y="2804040"/>
                <a:ext cx="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45"/>
              <p:cNvSpPr/>
              <p:nvPr/>
            </p:nvSpPr>
            <p:spPr>
              <a:xfrm>
                <a:off x="6288120" y="3547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Прямоугольник 38"/>
          <p:cNvSpPr/>
          <p:nvPr/>
        </p:nvSpPr>
        <p:spPr>
          <a:xfrm>
            <a:off x="642960" y="4357800"/>
            <a:ext cx="6500880" cy="209556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9"/>
          <p:cNvSpPr/>
          <p:nvPr/>
        </p:nvSpPr>
        <p:spPr>
          <a:xfrm>
            <a:off x="2090880" y="5695920"/>
            <a:ext cx="4838400" cy="57168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4"/>
          <p:cNvSpPr/>
          <p:nvPr/>
        </p:nvSpPr>
        <p:spPr>
          <a:xfrm>
            <a:off x="250920" y="90792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на языке Паскаль разветвляющихся алгоритмов используют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_1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неполных ветвлений используется сокращённый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некотором условии требуется выполнить определённую последовательных операторов, то их объединяют в один составной оператор, име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последовательность операторов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280" y="234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 языке Паскаль записывается полное и не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360" y="1916280"/>
            <a:ext cx="84247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условным оператором последовательнос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if x&lt;y then x:=0 else read 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if x&gt;=y then x:=0; y:=0 else write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if x&lt;y &lt;z then a:=a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19280" y="191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оставной операто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он используется в условном операт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68360" y="1700280"/>
            <a:ext cx="842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составной оператор, упростите следующий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c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d:=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c: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d: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 трёхзна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95280" y="19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среди цифр заданного целого трёхзначного  числа одинак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30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число «перевёртышем», т. е. числом, десятичная запись которого читается одинаково слева направо и справа нале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8"/>
          <p:cNvSpPr/>
          <p:nvPr/>
        </p:nvSpPr>
        <p:spPr>
          <a:xfrm>
            <a:off x="46836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в плоской прямоугольной системе координат. Напишите программу, определяющую, которая из точек находится ближе к началу координ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4360" y="3716280"/>
          <a:ext cx="8208720" cy="147168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1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1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2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очка бли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84360" y="3573360"/>
          <a:ext cx="8208720" cy="288144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1 2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уще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0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бедр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80"/>
          <p:cNvSpPr/>
          <p:nvPr/>
        </p:nvSpPr>
        <p:spPr>
          <a:xfrm>
            <a:off x="46836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три натуральных числа. Напишите программу,  определяющую, существует ли треугольник с такими  длинами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акой треугольник существует, то определите его тип (равносторонний, равнобедренный, разносторон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1"/>
          <p:cNvSpPr/>
          <p:nvPr/>
        </p:nvSpPr>
        <p:spPr>
          <a:xfrm>
            <a:off x="468360" y="184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данные о количестве полных лет трёх призёров спартаки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бирающую и выводящую возраст самого младшего  призё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2276640"/>
          <a:ext cx="8208720" cy="32652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по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99"/>
          <p:cNvSpPr/>
          <p:nvPr/>
        </p:nvSpPr>
        <p:spPr>
          <a:xfrm>
            <a:off x="468360" y="981000"/>
            <a:ext cx="8424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определяющую, лежит ли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ха, y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k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, над ней или под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68360" y="551664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 окружн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 y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над ней или под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входных данных и соответствующих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ных данных разработайте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349360"/>
          <a:ext cx="8208720" cy="23688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15"/>
          <p:cNvSpPr/>
          <p:nvPr/>
        </p:nvSpPr>
        <p:spPr>
          <a:xfrm>
            <a:off x="395280" y="1268280"/>
            <a:ext cx="8424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роизводит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переменн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6"/>
          <p:cNvSpPr/>
          <p:nvPr/>
        </p:nvSpPr>
        <p:spPr>
          <a:xfrm>
            <a:off x="468360" y="1125360"/>
            <a:ext cx="842472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&l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&g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имеет перемен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 результате выполнения условного оператора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ется значение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4076640"/>
          <a:ext cx="8209080" cy="2305080"/>
        </p:xfrm>
        <a:graphic>
          <a:graphicData uri="http://schemas.openxmlformats.org/drawingml/2006/table">
            <a:tbl>
              <a:tblPr/>
              <a:tblGrid>
                <a:gridCol w="4248000"/>
                <a:gridCol w="3961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134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значен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5"/>
          <p:cNvSpPr/>
          <p:nvPr/>
        </p:nvSpPr>
        <p:spPr>
          <a:xfrm>
            <a:off x="3527280" y="1989000"/>
            <a:ext cx="358920" cy="1729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6"/>
          <p:cNvSpPr/>
          <p:nvPr/>
        </p:nvSpPr>
        <p:spPr>
          <a:xfrm>
            <a:off x="3886200" y="1989000"/>
            <a:ext cx="1943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7"/>
          <p:cNvSpPr/>
          <p:nvPr/>
        </p:nvSpPr>
        <p:spPr>
          <a:xfrm>
            <a:off x="2878200" y="26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8"/>
          <p:cNvSpPr/>
          <p:nvPr/>
        </p:nvSpPr>
        <p:spPr>
          <a:xfrm>
            <a:off x="468360" y="1052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 для решения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  понедельник. Какие значения должны быть присвоены литерной переменной y в алгоритме, определяющем день недели для любого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his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января 201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3213000"/>
          <a:ext cx="8497800" cy="3063960"/>
        </p:xfrm>
        <a:graphic>
          <a:graphicData uri="http://schemas.openxmlformats.org/drawingml/2006/table">
            <a:tbl>
              <a:tblPr/>
              <a:tblGrid>
                <a:gridCol w="4464000"/>
                <a:gridCol w="403380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раз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5 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56"/>
          <p:cNvSpPr/>
          <p:nvPr/>
        </p:nvSpPr>
        <p:spPr>
          <a:xfrm>
            <a:off x="395280" y="907920"/>
            <a:ext cx="842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шахматной доски определяется парой натуральных чисел, каждое из которых не превосходит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 введён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м двух полей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определяет,  являются ли эти поля полями од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7"/>
          <p:cNvSpPr/>
          <p:nvPr/>
        </p:nvSpPr>
        <p:spPr>
          <a:xfrm>
            <a:off x="468360" y="213372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 которой пользователю предлагается дополнить до 100 некоторое целое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ое число, меньшее 10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ьзователя проверяется и комментир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43280" y="1214280"/>
            <a:ext cx="338436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ный опер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468360" y="1503360"/>
            <a:ext cx="2374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1692360" y="2870280"/>
            <a:ext cx="7130880" cy="4334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1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1692360" y="4167360"/>
            <a:ext cx="7127640" cy="431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1763640" y="5391000"/>
            <a:ext cx="7128000" cy="432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n</a:t>
            </a: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V="1">
            <a:off x="468360" y="150336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468360" y="2367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468360" y="373536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468360" y="503064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1332000" y="308772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1332000" y="438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>
            <a:off x="1403280" y="5607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1332000" y="258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1403280" y="517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>
            <a:off x="1332000" y="3951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26920" y="215100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26920" y="3519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26920" y="4743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ной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ённая форма условного    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оженные вет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словны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f (x&gt;=a) and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62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00040" y="142920"/>
            <a:ext cx="814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кращённая форма условного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57120" y="1143000"/>
            <a:ext cx="80647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, a, b, c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Нахождение наибольшей из трёх величин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а, b, с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b&gt;y) then y:=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c&gt;y) then y:=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9"/>
          <p:cNvGrpSpPr/>
          <p:nvPr/>
        </p:nvGrpSpPr>
        <p:grpSpPr>
          <a:xfrm>
            <a:off x="6215040" y="2000160"/>
            <a:ext cx="2928960" cy="3928680"/>
            <a:chOff x="6215040" y="2000160"/>
            <a:chExt cx="2928960" cy="3928680"/>
          </a:xfrm>
        </p:grpSpPr>
        <p:sp>
          <p:nvSpPr>
            <p:cNvPr id="82" name="Line 100"/>
            <p:cNvSpPr/>
            <p:nvPr/>
          </p:nvSpPr>
          <p:spPr>
            <a:xfrm>
              <a:off x="840096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7333200" y="227520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8"/>
            <p:cNvSpPr/>
            <p:nvPr/>
          </p:nvSpPr>
          <p:spPr>
            <a:xfrm>
              <a:off x="7282440" y="289548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6215040" y="3585240"/>
              <a:ext cx="1017360" cy="414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6215040" y="510228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7282440" y="441216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1"/>
            <p:cNvSpPr/>
            <p:nvPr/>
          </p:nvSpPr>
          <p:spPr>
            <a:xfrm>
              <a:off x="7841880" y="2000160"/>
              <a:ext cx="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6572160" y="282672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4"/>
            <p:cNvSpPr/>
            <p:nvPr/>
          </p:nvSpPr>
          <p:spPr>
            <a:xfrm>
              <a:off x="8349480" y="2826720"/>
              <a:ext cx="7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6"/>
            <p:cNvSpPr/>
            <p:nvPr/>
          </p:nvSpPr>
          <p:spPr>
            <a:xfrm>
              <a:off x="7841880" y="5722200"/>
              <a:ext cx="111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6723720" y="4205520"/>
              <a:ext cx="11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7841880" y="268848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9"/>
            <p:cNvSpPr/>
            <p:nvPr/>
          </p:nvSpPr>
          <p:spPr>
            <a:xfrm>
              <a:off x="6773760" y="4688640"/>
              <a:ext cx="50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6572160" y="434376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1"/>
            <p:cNvSpPr/>
            <p:nvPr/>
          </p:nvSpPr>
          <p:spPr>
            <a:xfrm>
              <a:off x="6723720" y="317196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2"/>
            <p:cNvSpPr/>
            <p:nvPr/>
          </p:nvSpPr>
          <p:spPr>
            <a:xfrm>
              <a:off x="6773760" y="468864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3"/>
            <p:cNvSpPr/>
            <p:nvPr/>
          </p:nvSpPr>
          <p:spPr>
            <a:xfrm>
              <a:off x="7841880" y="4205520"/>
              <a:ext cx="11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4"/>
            <p:cNvSpPr/>
            <p:nvPr/>
          </p:nvSpPr>
          <p:spPr>
            <a:xfrm>
              <a:off x="6723720" y="3998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5"/>
            <p:cNvSpPr/>
            <p:nvPr/>
          </p:nvSpPr>
          <p:spPr>
            <a:xfrm>
              <a:off x="7841880" y="4205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8"/>
            <p:cNvSpPr/>
            <p:nvPr/>
          </p:nvSpPr>
          <p:spPr>
            <a:xfrm>
              <a:off x="672372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1"/>
            <p:cNvSpPr/>
            <p:nvPr/>
          </p:nvSpPr>
          <p:spPr>
            <a:xfrm>
              <a:off x="8501760" y="4343760"/>
              <a:ext cx="64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02"/>
            <p:cNvSpPr/>
            <p:nvPr/>
          </p:nvSpPr>
          <p:spPr>
            <a:xfrm>
              <a:off x="8400960" y="468864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3"/>
            <p:cNvSpPr/>
            <p:nvPr/>
          </p:nvSpPr>
          <p:spPr>
            <a:xfrm>
              <a:off x="8960040" y="317196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4"/>
            <p:cNvSpPr/>
            <p:nvPr/>
          </p:nvSpPr>
          <p:spPr>
            <a:xfrm>
              <a:off x="8960040" y="468864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5"/>
            <p:cNvSpPr/>
            <p:nvPr/>
          </p:nvSpPr>
          <p:spPr>
            <a:xfrm>
              <a:off x="6773760" y="5722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6"/>
            <p:cNvSpPr/>
            <p:nvPr/>
          </p:nvSpPr>
          <p:spPr>
            <a:xfrm>
              <a:off x="6773760" y="551556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7"/>
            <p:cNvSpPr/>
            <p:nvPr/>
          </p:nvSpPr>
          <p:spPr>
            <a:xfrm>
              <a:off x="7841880" y="572220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ставно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00000" y="1773360"/>
            <a:ext cx="7632720" cy="9349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ном операторе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олько один оп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09480" y="3789360"/>
            <a:ext cx="8283600" cy="18716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условном операторе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полни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сколько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оставной опера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струкцию вид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begi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лок-схема решения КВ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3419640" y="6093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012000" y="5661000"/>
            <a:ext cx="2881080" cy="792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и урав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=», х1, «х2=», х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807240" y="4365720"/>
            <a:ext cx="201276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+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7020000" y="3645000"/>
            <a:ext cx="1585800" cy="5047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028000" y="4076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5364000" y="537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3419640" y="836640"/>
            <a:ext cx="1512720" cy="36036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835280" y="1413000"/>
            <a:ext cx="432108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едите коэффициент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3492360" y="2133720"/>
            <a:ext cx="144144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b*b-4*a*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3348000" y="2781360"/>
            <a:ext cx="1584360" cy="4316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770200" y="270828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826920" y="3284640"/>
            <a:ext cx="2094120" cy="50328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 flipH="1">
            <a:off x="1977840" y="2997360"/>
            <a:ext cx="129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H="1">
            <a:off x="4859280" y="2997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075280" y="2637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2"/>
          <p:cNvSpPr/>
          <p:nvPr/>
        </p:nvSpPr>
        <p:spPr>
          <a:xfrm>
            <a:off x="5580000" y="3213000"/>
            <a:ext cx="1513080" cy="432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00364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4140360" y="3718080"/>
            <a:ext cx="107928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-b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2627280" y="4365720"/>
            <a:ext cx="3673440" cy="576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ень уравнения х=»,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709308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 flipH="1">
            <a:off x="4642920" y="3429000"/>
            <a:ext cx="1009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7092720" y="3429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804000" y="5013360"/>
            <a:ext cx="201312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-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414036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4140360" y="2492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1979640" y="2997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464328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6300720" y="2997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7812000" y="4149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8"/>
          <p:cNvSpPr/>
          <p:nvPr/>
        </p:nvSpPr>
        <p:spPr>
          <a:xfrm>
            <a:off x="781200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4643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1908000" y="3789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1"/>
          <p:cNvSpPr/>
          <p:nvPr/>
        </p:nvSpPr>
        <p:spPr>
          <a:xfrm>
            <a:off x="4211640" y="53737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2"/>
          <p:cNvSpPr/>
          <p:nvPr/>
        </p:nvSpPr>
        <p:spPr>
          <a:xfrm>
            <a:off x="1908000" y="537372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>
            <a:off x="781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4"/>
          <p:cNvSpPr/>
          <p:nvPr/>
        </p:nvSpPr>
        <p:spPr>
          <a:xfrm>
            <a:off x="781200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5"/>
          <p:cNvSpPr/>
          <p:nvPr/>
        </p:nvSpPr>
        <p:spPr>
          <a:xfrm>
            <a:off x="4211640" y="537372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6"/>
          <p:cNvSpPr/>
          <p:nvPr/>
        </p:nvSpPr>
        <p:spPr>
          <a:xfrm>
            <a:off x="7596360" y="6453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7"/>
          <p:cNvSpPr/>
          <p:nvPr/>
        </p:nvSpPr>
        <p:spPr>
          <a:xfrm flipH="1">
            <a:off x="5363640" y="6669000"/>
            <a:ext cx="2235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8"/>
          <p:cNvSpPr/>
          <p:nvPr/>
        </p:nvSpPr>
        <p:spPr>
          <a:xfrm>
            <a:off x="421164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4"/>
          <p:cNvSpPr/>
          <p:nvPr/>
        </p:nvSpPr>
        <p:spPr>
          <a:xfrm>
            <a:off x="1357200" y="4581360"/>
            <a:ext cx="5591160" cy="192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1:=(-b+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2:=(-b-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ни уравнения: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1=', x1:9:3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2=', x2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1357200" y="3141720"/>
            <a:ext cx="559116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:=-b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ень уравнения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=',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2760" y="1258920"/>
            <a:ext cx="80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9640" y="0"/>
            <a:ext cx="6891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n_1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a, b, c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, x1, x2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Решение квадратного уравнения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 ('Введите коэффициенты a, b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&gt;&gt;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=b*b-4*a*c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l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writeln ('Корней нет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=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4292640"/>
            <a:ext cx="6891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g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6524640"/>
            <a:ext cx="68911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971640" y="4724280"/>
            <a:ext cx="7848360" cy="5763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3143160" y="2428920"/>
            <a:ext cx="5072040" cy="107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ложенные вет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00000" y="1197000"/>
            <a:ext cx="75297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а следующая ко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1&g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1640" y="4724280"/>
            <a:ext cx="78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да относится к ближайшему оператору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71600" y="46418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928800" y="1785960"/>
            <a:ext cx="7643880" cy="2214720"/>
          </a:xfrm>
          <a:prstGeom prst="rect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1:15Z</dcterms:modified>
  <cp:revision>118</cp:revision>
  <dc:subject/>
  <dc:title>Презентация PowerPoint</dc:title>
</cp:coreProperties>
</file>