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DF0-E5A1-4F93-857D-54B3DA2C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B09-A6E4-44B3-8808-DDAA21FC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5C9-92FC-4B12-AB99-16014D10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E2F-79A9-4C82-BCFE-2CD7431C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DA9-3D93-4221-B0E0-1A4BB62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2C4-A016-4788-8931-9949B0F1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96A-4790-4DBB-B356-8AA3F49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60D-2EE2-46E8-B564-FC35014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F7-1CDE-457B-80A2-94EC98D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1E4-BAB9-4B81-B5B3-E03BD98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164-7AFF-491B-B8CA-BC5F17B3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1F8-BBB0-4BFB-B497-C73392BF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7CF-B059-4094-A451-75CE684EC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РАЗВЕТВЛЯЮЩИХСЯ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2"/>
          <p:cNvSpPr/>
          <p:nvPr/>
        </p:nvSpPr>
        <p:spPr>
          <a:xfrm>
            <a:off x="357120" y="0"/>
            <a:ext cx="8353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инейного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264312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n_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, b, x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Решение линейного уравнения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коэффициенты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a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-b/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рень уравнения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=', x:9: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 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b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рней нет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'x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число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2"/>
          <p:cNvGrpSpPr/>
          <p:nvPr/>
        </p:nvGrpSpPr>
        <p:grpSpPr>
          <a:xfrm>
            <a:off x="4786200" y="714240"/>
            <a:ext cx="4357800" cy="3019680"/>
            <a:chOff x="4786200" y="714240"/>
            <a:chExt cx="4357800" cy="3019680"/>
          </a:xfrm>
        </p:grpSpPr>
        <p:sp>
          <p:nvSpPr>
            <p:cNvPr id="170" name="AutoShape 113"/>
            <p:cNvSpPr/>
            <p:nvPr/>
          </p:nvSpPr>
          <p:spPr>
            <a:xfrm>
              <a:off x="5500800" y="2897280"/>
              <a:ext cx="1607760" cy="278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14"/>
            <p:cNvGrpSpPr/>
            <p:nvPr/>
          </p:nvGrpSpPr>
          <p:grpSpPr>
            <a:xfrm>
              <a:off x="4786200" y="714240"/>
              <a:ext cx="4357800" cy="3019680"/>
              <a:chOff x="4786200" y="714240"/>
              <a:chExt cx="4357800" cy="3019680"/>
            </a:xfrm>
          </p:grpSpPr>
          <p:sp>
            <p:nvSpPr>
              <p:cNvPr id="172" name="Rectangle 115"/>
              <p:cNvSpPr/>
              <p:nvPr/>
            </p:nvSpPr>
            <p:spPr>
              <a:xfrm>
                <a:off x="5514840" y="945720"/>
                <a:ext cx="164520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116"/>
              <p:cNvSpPr/>
              <p:nvPr/>
            </p:nvSpPr>
            <p:spPr>
              <a:xfrm>
                <a:off x="5512680" y="1225080"/>
                <a:ext cx="1647360" cy="27936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, x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17"/>
              <p:cNvSpPr/>
              <p:nvPr/>
            </p:nvSpPr>
            <p:spPr>
              <a:xfrm>
                <a:off x="5852160" y="1688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,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18"/>
              <p:cNvSpPr/>
              <p:nvPr/>
            </p:nvSpPr>
            <p:spPr>
              <a:xfrm>
                <a:off x="5803200" y="215388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&lt;&gt;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19"/>
              <p:cNvSpPr/>
              <p:nvPr/>
            </p:nvSpPr>
            <p:spPr>
              <a:xfrm>
                <a:off x="4786200" y="2525760"/>
                <a:ext cx="966600" cy="278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/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120"/>
              <p:cNvSpPr/>
              <p:nvPr/>
            </p:nvSpPr>
            <p:spPr>
              <a:xfrm>
                <a:off x="6869520" y="2524320"/>
                <a:ext cx="1065960" cy="37152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&lt;&gt;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21"/>
              <p:cNvSpPr/>
              <p:nvPr/>
            </p:nvSpPr>
            <p:spPr>
              <a:xfrm>
                <a:off x="7357680" y="2897280"/>
                <a:ext cx="1786320" cy="27864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Любое чис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22"/>
              <p:cNvSpPr/>
              <p:nvPr/>
            </p:nvSpPr>
            <p:spPr>
              <a:xfrm>
                <a:off x="6336360" y="714240"/>
                <a:ext cx="0" cy="23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23"/>
              <p:cNvSpPr/>
              <p:nvPr/>
            </p:nvSpPr>
            <p:spPr>
              <a:xfrm>
                <a:off x="7935840" y="2429280"/>
                <a:ext cx="63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24"/>
              <p:cNvSpPr/>
              <p:nvPr/>
            </p:nvSpPr>
            <p:spPr>
              <a:xfrm>
                <a:off x="6385680" y="3361320"/>
                <a:ext cx="96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25"/>
              <p:cNvSpPr/>
              <p:nvPr/>
            </p:nvSpPr>
            <p:spPr>
              <a:xfrm>
                <a:off x="7354440" y="336132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26"/>
              <p:cNvSpPr/>
              <p:nvPr/>
            </p:nvSpPr>
            <p:spPr>
              <a:xfrm flipV="1">
                <a:off x="7935840" y="2709360"/>
                <a:ext cx="48492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27"/>
              <p:cNvSpPr/>
              <p:nvPr/>
            </p:nvSpPr>
            <p:spPr>
              <a:xfrm>
                <a:off x="6336360" y="15037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28"/>
              <p:cNvSpPr/>
              <p:nvPr/>
            </p:nvSpPr>
            <p:spPr>
              <a:xfrm>
                <a:off x="6336360" y="19674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29"/>
              <p:cNvSpPr/>
              <p:nvPr/>
            </p:nvSpPr>
            <p:spPr>
              <a:xfrm>
                <a:off x="5071320" y="2000160"/>
                <a:ext cx="63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30"/>
              <p:cNvSpPr/>
              <p:nvPr/>
            </p:nvSpPr>
            <p:spPr>
              <a:xfrm>
                <a:off x="5270040" y="2339280"/>
                <a:ext cx="532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31"/>
              <p:cNvSpPr/>
              <p:nvPr/>
            </p:nvSpPr>
            <p:spPr>
              <a:xfrm>
                <a:off x="527004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2"/>
              <p:cNvSpPr/>
              <p:nvPr/>
            </p:nvSpPr>
            <p:spPr>
              <a:xfrm>
                <a:off x="6214680" y="2429280"/>
                <a:ext cx="65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33"/>
              <p:cNvSpPr/>
              <p:nvPr/>
            </p:nvSpPr>
            <p:spPr>
              <a:xfrm flipV="1">
                <a:off x="6385680" y="2709360"/>
                <a:ext cx="4834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34"/>
              <p:cNvSpPr/>
              <p:nvPr/>
            </p:nvSpPr>
            <p:spPr>
              <a:xfrm>
                <a:off x="5270040" y="3547800"/>
                <a:ext cx="101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35"/>
              <p:cNvSpPr/>
              <p:nvPr/>
            </p:nvSpPr>
            <p:spPr>
              <a:xfrm>
                <a:off x="6288120" y="3547800"/>
                <a:ext cx="106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36"/>
              <p:cNvSpPr/>
              <p:nvPr/>
            </p:nvSpPr>
            <p:spPr>
              <a:xfrm>
                <a:off x="6918480" y="2071800"/>
                <a:ext cx="72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37"/>
              <p:cNvSpPr/>
              <p:nvPr/>
            </p:nvSpPr>
            <p:spPr>
              <a:xfrm>
                <a:off x="6869520" y="2339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8"/>
              <p:cNvSpPr/>
              <p:nvPr/>
            </p:nvSpPr>
            <p:spPr>
              <a:xfrm>
                <a:off x="7402680" y="233928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39"/>
              <p:cNvSpPr/>
              <p:nvPr/>
            </p:nvSpPr>
            <p:spPr>
              <a:xfrm>
                <a:off x="638568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40"/>
              <p:cNvSpPr/>
              <p:nvPr/>
            </p:nvSpPr>
            <p:spPr>
              <a:xfrm>
                <a:off x="8420760" y="2710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41"/>
              <p:cNvSpPr/>
              <p:nvPr/>
            </p:nvSpPr>
            <p:spPr>
              <a:xfrm>
                <a:off x="842076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42"/>
              <p:cNvSpPr/>
              <p:nvPr/>
            </p:nvSpPr>
            <p:spPr>
              <a:xfrm>
                <a:off x="6385680" y="31759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43"/>
              <p:cNvSpPr/>
              <p:nvPr/>
            </p:nvSpPr>
            <p:spPr>
              <a:xfrm>
                <a:off x="7354440" y="336132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44"/>
              <p:cNvSpPr/>
              <p:nvPr/>
            </p:nvSpPr>
            <p:spPr>
              <a:xfrm>
                <a:off x="5270040" y="2804040"/>
                <a:ext cx="0" cy="74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45"/>
              <p:cNvSpPr/>
              <p:nvPr/>
            </p:nvSpPr>
            <p:spPr>
              <a:xfrm>
                <a:off x="6288120" y="3547800"/>
                <a:ext cx="0" cy="18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Прямоугольник 38"/>
          <p:cNvSpPr/>
          <p:nvPr/>
        </p:nvSpPr>
        <p:spPr>
          <a:xfrm>
            <a:off x="642960" y="4357800"/>
            <a:ext cx="6500880" cy="209556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9"/>
          <p:cNvSpPr/>
          <p:nvPr/>
        </p:nvSpPr>
        <p:spPr>
          <a:xfrm>
            <a:off x="2090880" y="5695920"/>
            <a:ext cx="4838400" cy="571680"/>
          </a:xfrm>
          <a:prstGeom prst="rect">
            <a:avLst/>
          </a:prstGeom>
          <a:noFill/>
          <a:ln w="28440">
            <a:solidFill>
              <a:srgbClr val="005a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4"/>
          <p:cNvSpPr/>
          <p:nvPr/>
        </p:nvSpPr>
        <p:spPr>
          <a:xfrm>
            <a:off x="250920" y="90792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на языке Паскаль разветвляющихся алгоритмов используют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_1&gt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неполных ветвлений используется сокращённый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 некотором условии требуется выполнить определённую последовательных операторов, то их объединяют в один составной оператор, имеющий ви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&lt;последовательность операторов&gt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95280" y="234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 языке Паскаль записывается полное и непол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т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68360" y="1916280"/>
            <a:ext cx="84247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условным оператором последовательность симво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if x&lt;y then x:=0 else read 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if x&gt;=y then x:=0; y:=0 else write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if x&lt;y &lt;z then a:=a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719280" y="191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оставной операто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он используется в условном операто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68360" y="1700280"/>
            <a:ext cx="842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составной оператор, упростите следующий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c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gt;b then d:=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c: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f a&lt;=b then d: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 трёхзначное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95280" y="19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среди цифр заданного целого трёхзначного  числа одинак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30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число «перевёртышем», т. е. числом, десятичная запись которого читается одинаково слева направо и справа нале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11280" y="3716280"/>
          <a:ext cx="8208720" cy="2305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ёртыш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48"/>
          <p:cNvSpPr/>
          <p:nvPr/>
        </p:nvSpPr>
        <p:spPr>
          <a:xfrm>
            <a:off x="46836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две точки в плоской прямоугольной системе координат. Напишите программу, определяющую, которая из точек находится ближе к началу координ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4360" y="3716280"/>
          <a:ext cx="8208720" cy="147168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1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1,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2-й точк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точка ближ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84360" y="3573360"/>
          <a:ext cx="8208720" cy="288144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1 2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уще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20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бедр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&gt;&gt;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осторон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80"/>
          <p:cNvSpPr/>
          <p:nvPr/>
        </p:nvSpPr>
        <p:spPr>
          <a:xfrm>
            <a:off x="46836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три натуральных числа. Напишите программу,  определяющую, существует ли треугольник с такими  длинами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акой треугольник существует, то определите его тип (равносторонний, равнобедренный, разносторон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1"/>
          <p:cNvSpPr/>
          <p:nvPr/>
        </p:nvSpPr>
        <p:spPr>
          <a:xfrm>
            <a:off x="468360" y="1844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данные о количестве полных лет трёх призёров спартаки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бирающую и выводящую возраст самого младшего  призё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11280" y="2276640"/>
          <a:ext cx="8208720" cy="32652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по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д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1&gt;&gt;-1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, ya &gt;&gt;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 лежит на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99"/>
          <p:cNvSpPr/>
          <p:nvPr/>
        </p:nvSpPr>
        <p:spPr>
          <a:xfrm>
            <a:off x="468360" y="981000"/>
            <a:ext cx="8424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определяющую, лежит ли 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(ха, y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k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, над ней или под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68360" y="5516640"/>
            <a:ext cx="842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 окружн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+ y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над ней или под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 входных данных и соответствующих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ных данных разработайте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349360"/>
          <a:ext cx="8208720" cy="2368800"/>
        </p:xfrm>
        <a:graphic>
          <a:graphicData uri="http://schemas.openxmlformats.org/drawingml/2006/table">
            <a:tbl>
              <a:tblPr/>
              <a:tblGrid>
                <a:gridCol w="4248000"/>
                <a:gridCol w="39607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&gt;&gt;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&gt;&gt;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115"/>
          <p:cNvSpPr/>
          <p:nvPr/>
        </p:nvSpPr>
        <p:spPr>
          <a:xfrm>
            <a:off x="395280" y="1268280"/>
            <a:ext cx="8424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роизводит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переменных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6"/>
          <p:cNvSpPr/>
          <p:nvPr/>
        </p:nvSpPr>
        <p:spPr>
          <a:xfrm>
            <a:off x="468360" y="1125360"/>
            <a:ext cx="842472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условный опера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&l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&gt;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: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имеет перемен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 результате выполнения условного оператора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ваивается значение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4076640"/>
          <a:ext cx="8209080" cy="2305080"/>
        </p:xfrm>
        <a:graphic>
          <a:graphicData uri="http://schemas.openxmlformats.org/drawingml/2006/table">
            <a:tbl>
              <a:tblPr/>
              <a:tblGrid>
                <a:gridCol w="4248000"/>
                <a:gridCol w="39610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Text Box 134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значен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5"/>
          <p:cNvSpPr/>
          <p:nvPr/>
        </p:nvSpPr>
        <p:spPr>
          <a:xfrm>
            <a:off x="3527280" y="1989000"/>
            <a:ext cx="358920" cy="1729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6"/>
          <p:cNvSpPr/>
          <p:nvPr/>
        </p:nvSpPr>
        <p:spPr>
          <a:xfrm>
            <a:off x="3886200" y="1989000"/>
            <a:ext cx="1943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7"/>
          <p:cNvSpPr/>
          <p:nvPr/>
        </p:nvSpPr>
        <p:spPr>
          <a:xfrm>
            <a:off x="2878200" y="26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8"/>
          <p:cNvSpPr/>
          <p:nvPr/>
        </p:nvSpPr>
        <p:spPr>
          <a:xfrm>
            <a:off x="468360" y="1052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 для решения 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31 января 2011 года приходится на  понедельник. Какие значения должны быть присвоены литерной переменной y в алгоритме, определяющем день недели для любого числа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his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января 201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hislo:= chislo m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3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4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5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6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0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1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chislo=2 то у:='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5280" y="3213000"/>
          <a:ext cx="8497800" cy="3063960"/>
        </p:xfrm>
        <a:graphic>
          <a:graphicData uri="http://schemas.openxmlformats.org/drawingml/2006/table">
            <a:tbl>
              <a:tblPr/>
              <a:tblGrid>
                <a:gridCol w="4464000"/>
                <a:gridCol w="403380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3 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раз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1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2  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ординаты  2 – го пол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&gt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5 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я одного цве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56"/>
          <p:cNvSpPr/>
          <p:nvPr/>
        </p:nvSpPr>
        <p:spPr>
          <a:xfrm>
            <a:off x="395280" y="907920"/>
            <a:ext cx="842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шахматной доски определяется парой натуральных чисел, каждое из которых не превосходит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по введённы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ам двух полей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определяет,  являются ли эти поля полями од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7"/>
          <p:cNvSpPr/>
          <p:nvPr/>
        </p:nvSpPr>
        <p:spPr>
          <a:xfrm>
            <a:off x="468360" y="213372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 которой пользователю предлагается дополнить до 100 некоторое целое числ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чайное число, меньшее 10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ьзователя проверяется и комментиру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43280" y="1214280"/>
            <a:ext cx="338436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ный опер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468360" y="1503360"/>
            <a:ext cx="2374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1692360" y="2870280"/>
            <a:ext cx="7130880" cy="4334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1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_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1692360" y="4167360"/>
            <a:ext cx="7127640" cy="43164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i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условие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th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ер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1763640" y="5391000"/>
            <a:ext cx="7128000" cy="432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angSong"/>
              </a:rPr>
              <a:t>en</a:t>
            </a:r>
            <a:r>
              <a:rPr b="1" i="1" lang="en-US" sz="2200" spc="-1" strike="noStrike">
                <a:solidFill>
                  <a:srgbClr val="000000"/>
                </a:solidFill>
                <a:latin typeface="FangSong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V="1">
            <a:off x="468360" y="150336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468360" y="2367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>
            <a:off x="468360" y="373536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>
            <a:off x="468360" y="503064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1332000" y="308772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>
            <a:off x="1332000" y="4383000"/>
            <a:ext cx="3585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8"/>
          <p:cNvSpPr/>
          <p:nvPr/>
        </p:nvSpPr>
        <p:spPr>
          <a:xfrm>
            <a:off x="1403280" y="5607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1332000" y="258300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1403280" y="517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>
            <a:off x="1332000" y="3951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26920" y="215100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26920" y="3519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лн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26920" y="4743360"/>
            <a:ext cx="28101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тавной оп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00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8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90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кращённая форма условного    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ной опе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оженные вет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й вид условного опер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286000" y="3143160"/>
            <a:ext cx="4857840" cy="459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нак «;» не стави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907920"/>
            <a:ext cx="84978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_1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р_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95280" y="2060640"/>
            <a:ext cx="8497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кращённая форма условного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условие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оператор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83348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856040" y="5805360"/>
            <a:ext cx="2667240" cy="719280"/>
          </a:xfrm>
          <a:prstGeom prst="rect">
            <a:avLst/>
          </a:prstGeom>
          <a:solidFill>
            <a:srgbClr val="e8fafc"/>
          </a:solidFill>
          <a:ln w="57240">
            <a:solidFill>
              <a:srgbClr val="018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ab4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>
            <a:off x="320364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226200" y="5445000"/>
            <a:ext cx="0" cy="360360"/>
          </a:xfrm>
          <a:prstGeom prst="line">
            <a:avLst/>
          </a:prstGeom>
          <a:ln w="38160">
            <a:solidFill>
              <a:srgbClr val="018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195640" y="501336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219640" y="5013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ож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 flipV="1">
            <a:off x="3419640" y="458136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615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197080" y="3860640"/>
            <a:ext cx="511164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- логические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643040" y="3000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Заголовок 2"/>
          <p:cNvSpPr/>
          <p:nvPr/>
        </p:nvSpPr>
        <p:spPr>
          <a:xfrm>
            <a:off x="611280" y="14292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словны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8360" y="1916280"/>
            <a:ext cx="5688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, a, b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пределение принадл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отрезку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а, b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x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f (x&gt;=a) and (x&lt;=b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else 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Точка не принадлежит отрезку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7"/>
          <p:cNvGrpSpPr/>
          <p:nvPr/>
        </p:nvGrpSpPr>
        <p:grpSpPr>
          <a:xfrm>
            <a:off x="4551480" y="2349360"/>
            <a:ext cx="4592160" cy="3143520"/>
            <a:chOff x="4551480" y="2349360"/>
            <a:chExt cx="4592160" cy="3143520"/>
          </a:xfrm>
        </p:grpSpPr>
        <p:sp>
          <p:nvSpPr>
            <p:cNvPr id="62" name="AutoShape 48"/>
            <p:cNvSpPr/>
            <p:nvPr/>
          </p:nvSpPr>
          <p:spPr>
            <a:xfrm>
              <a:off x="6335280" y="261216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, b,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49"/>
            <p:cNvSpPr/>
            <p:nvPr/>
          </p:nvSpPr>
          <p:spPr>
            <a:xfrm>
              <a:off x="5632200" y="3265560"/>
              <a:ext cx="2485440" cy="7866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x&gt;=a) and (x&lt;=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50"/>
            <p:cNvSpPr/>
            <p:nvPr/>
          </p:nvSpPr>
          <p:spPr>
            <a:xfrm>
              <a:off x="455148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51"/>
            <p:cNvSpPr/>
            <p:nvPr/>
          </p:nvSpPr>
          <p:spPr>
            <a:xfrm>
              <a:off x="8065440" y="4378320"/>
              <a:ext cx="1078200" cy="3924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52"/>
            <p:cNvSpPr/>
            <p:nvPr/>
          </p:nvSpPr>
          <p:spPr>
            <a:xfrm>
              <a:off x="6876360" y="23493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53"/>
            <p:cNvSpPr/>
            <p:nvPr/>
          </p:nvSpPr>
          <p:spPr>
            <a:xfrm>
              <a:off x="5092200" y="3659760"/>
              <a:ext cx="59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54"/>
            <p:cNvSpPr/>
            <p:nvPr/>
          </p:nvSpPr>
          <p:spPr>
            <a:xfrm>
              <a:off x="4908960" y="333216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5"/>
            <p:cNvSpPr/>
            <p:nvPr/>
          </p:nvSpPr>
          <p:spPr>
            <a:xfrm>
              <a:off x="8172720" y="3332160"/>
              <a:ext cx="73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6"/>
            <p:cNvSpPr/>
            <p:nvPr/>
          </p:nvSpPr>
          <p:spPr>
            <a:xfrm>
              <a:off x="8065440" y="365976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7"/>
            <p:cNvSpPr/>
            <p:nvPr/>
          </p:nvSpPr>
          <p:spPr>
            <a:xfrm>
              <a:off x="6876360" y="30045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8"/>
            <p:cNvSpPr/>
            <p:nvPr/>
          </p:nvSpPr>
          <p:spPr>
            <a:xfrm>
              <a:off x="860544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9"/>
            <p:cNvSpPr/>
            <p:nvPr/>
          </p:nvSpPr>
          <p:spPr>
            <a:xfrm>
              <a:off x="5092200" y="365976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0"/>
            <p:cNvSpPr/>
            <p:nvPr/>
          </p:nvSpPr>
          <p:spPr>
            <a:xfrm>
              <a:off x="860544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1"/>
            <p:cNvSpPr/>
            <p:nvPr/>
          </p:nvSpPr>
          <p:spPr>
            <a:xfrm>
              <a:off x="5092200" y="4772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2"/>
            <p:cNvSpPr/>
            <p:nvPr/>
          </p:nvSpPr>
          <p:spPr>
            <a:xfrm>
              <a:off x="6930000" y="5230080"/>
              <a:ext cx="167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3"/>
            <p:cNvSpPr/>
            <p:nvPr/>
          </p:nvSpPr>
          <p:spPr>
            <a:xfrm>
              <a:off x="5092200" y="5230080"/>
              <a:ext cx="183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4"/>
            <p:cNvSpPr/>
            <p:nvPr/>
          </p:nvSpPr>
          <p:spPr>
            <a:xfrm>
              <a:off x="6930000" y="523008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00040" y="142920"/>
            <a:ext cx="814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кращённая форма условного опер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57120" y="1143000"/>
            <a:ext cx="80647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, a, b, c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Нахождение наибольшей из трёх величин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а, b, с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b&gt;y) then y:=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f (c&gt;y) then y:=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9"/>
          <p:cNvGrpSpPr/>
          <p:nvPr/>
        </p:nvGrpSpPr>
        <p:grpSpPr>
          <a:xfrm>
            <a:off x="6215040" y="2000160"/>
            <a:ext cx="2928960" cy="3928680"/>
            <a:chOff x="6215040" y="2000160"/>
            <a:chExt cx="2928960" cy="3928680"/>
          </a:xfrm>
        </p:grpSpPr>
        <p:sp>
          <p:nvSpPr>
            <p:cNvPr id="82" name="Line 100"/>
            <p:cNvSpPr/>
            <p:nvPr/>
          </p:nvSpPr>
          <p:spPr>
            <a:xfrm>
              <a:off x="840096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7333200" y="227520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8"/>
            <p:cNvSpPr/>
            <p:nvPr/>
          </p:nvSpPr>
          <p:spPr>
            <a:xfrm>
              <a:off x="7282440" y="289548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6215040" y="3585240"/>
              <a:ext cx="1017360" cy="4147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6215040" y="5102280"/>
              <a:ext cx="1017360" cy="41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Y:=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7282440" y="4412160"/>
              <a:ext cx="1118160" cy="5511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&gt;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1"/>
            <p:cNvSpPr/>
            <p:nvPr/>
          </p:nvSpPr>
          <p:spPr>
            <a:xfrm>
              <a:off x="7841880" y="2000160"/>
              <a:ext cx="0" cy="27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3"/>
            <p:cNvSpPr/>
            <p:nvPr/>
          </p:nvSpPr>
          <p:spPr>
            <a:xfrm>
              <a:off x="6572160" y="282672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4"/>
            <p:cNvSpPr/>
            <p:nvPr/>
          </p:nvSpPr>
          <p:spPr>
            <a:xfrm>
              <a:off x="8349480" y="2826720"/>
              <a:ext cx="7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6"/>
            <p:cNvSpPr/>
            <p:nvPr/>
          </p:nvSpPr>
          <p:spPr>
            <a:xfrm>
              <a:off x="7841880" y="5722200"/>
              <a:ext cx="111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7"/>
            <p:cNvSpPr/>
            <p:nvPr/>
          </p:nvSpPr>
          <p:spPr>
            <a:xfrm>
              <a:off x="6723720" y="4205520"/>
              <a:ext cx="111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8"/>
            <p:cNvSpPr/>
            <p:nvPr/>
          </p:nvSpPr>
          <p:spPr>
            <a:xfrm>
              <a:off x="7841880" y="268848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9"/>
            <p:cNvSpPr/>
            <p:nvPr/>
          </p:nvSpPr>
          <p:spPr>
            <a:xfrm>
              <a:off x="6773760" y="4688640"/>
              <a:ext cx="50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6572160" y="4343760"/>
              <a:ext cx="70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1"/>
            <p:cNvSpPr/>
            <p:nvPr/>
          </p:nvSpPr>
          <p:spPr>
            <a:xfrm>
              <a:off x="6723720" y="317196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2"/>
            <p:cNvSpPr/>
            <p:nvPr/>
          </p:nvSpPr>
          <p:spPr>
            <a:xfrm>
              <a:off x="6773760" y="4688640"/>
              <a:ext cx="0" cy="41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3"/>
            <p:cNvSpPr/>
            <p:nvPr/>
          </p:nvSpPr>
          <p:spPr>
            <a:xfrm>
              <a:off x="7841880" y="4205520"/>
              <a:ext cx="11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4"/>
            <p:cNvSpPr/>
            <p:nvPr/>
          </p:nvSpPr>
          <p:spPr>
            <a:xfrm>
              <a:off x="6723720" y="3998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5"/>
            <p:cNvSpPr/>
            <p:nvPr/>
          </p:nvSpPr>
          <p:spPr>
            <a:xfrm>
              <a:off x="7841880" y="420552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98"/>
            <p:cNvSpPr/>
            <p:nvPr/>
          </p:nvSpPr>
          <p:spPr>
            <a:xfrm>
              <a:off x="6723720" y="317196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1"/>
            <p:cNvSpPr/>
            <p:nvPr/>
          </p:nvSpPr>
          <p:spPr>
            <a:xfrm>
              <a:off x="8501760" y="4343760"/>
              <a:ext cx="64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02"/>
            <p:cNvSpPr/>
            <p:nvPr/>
          </p:nvSpPr>
          <p:spPr>
            <a:xfrm>
              <a:off x="8400960" y="4688640"/>
              <a:ext cx="55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3"/>
            <p:cNvSpPr/>
            <p:nvPr/>
          </p:nvSpPr>
          <p:spPr>
            <a:xfrm>
              <a:off x="8960040" y="317196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4"/>
            <p:cNvSpPr/>
            <p:nvPr/>
          </p:nvSpPr>
          <p:spPr>
            <a:xfrm>
              <a:off x="8960040" y="4688640"/>
              <a:ext cx="0" cy="10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5"/>
            <p:cNvSpPr/>
            <p:nvPr/>
          </p:nvSpPr>
          <p:spPr>
            <a:xfrm>
              <a:off x="6773760" y="57222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6"/>
            <p:cNvSpPr/>
            <p:nvPr/>
          </p:nvSpPr>
          <p:spPr>
            <a:xfrm>
              <a:off x="6773760" y="551556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07"/>
            <p:cNvSpPr/>
            <p:nvPr/>
          </p:nvSpPr>
          <p:spPr>
            <a:xfrm>
              <a:off x="7841880" y="5722200"/>
              <a:ext cx="0" cy="20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ставной опера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900000" y="1773360"/>
            <a:ext cx="7632720" cy="93492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ном операторе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использова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олько один оп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09480" y="3789360"/>
            <a:ext cx="8283600" cy="187164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условном операторе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посл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выполнить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несколько операт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составной операто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струкцию вида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begin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последовательность операторов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Блок-схема решения КВ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3419640" y="6093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6012000" y="5661000"/>
            <a:ext cx="2881080" cy="792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и уравн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=», х1, «х2=», х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807240" y="4365720"/>
            <a:ext cx="201276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1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+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7020000" y="3645000"/>
            <a:ext cx="1585800" cy="5047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&g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028000" y="4076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5364000" y="53737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3419640" y="836640"/>
            <a:ext cx="1512720" cy="36036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835280" y="1413000"/>
            <a:ext cx="432108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едите коэффициент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, b,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3492360" y="2133720"/>
            <a:ext cx="144144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b*b-4*a*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3348000" y="2781360"/>
            <a:ext cx="1584360" cy="43164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770200" y="270828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826920" y="3284640"/>
            <a:ext cx="2094120" cy="50328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 flipH="1">
            <a:off x="1977840" y="2997360"/>
            <a:ext cx="129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H="1">
            <a:off x="4859280" y="2997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075280" y="2637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2"/>
          <p:cNvSpPr/>
          <p:nvPr/>
        </p:nvSpPr>
        <p:spPr>
          <a:xfrm>
            <a:off x="5580000" y="3213000"/>
            <a:ext cx="1513080" cy="432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00364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4140360" y="3718080"/>
            <a:ext cx="107928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-b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2627280" y="4365720"/>
            <a:ext cx="3673440" cy="576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рень уравнения х=»,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7093080" y="314172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 flipH="1">
            <a:off x="4642920" y="3429000"/>
            <a:ext cx="1009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 flipH="1">
            <a:off x="7092720" y="3429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6804000" y="5013360"/>
            <a:ext cx="201312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-b-sqrt(d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414036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3"/>
          <p:cNvSpPr/>
          <p:nvPr/>
        </p:nvSpPr>
        <p:spPr>
          <a:xfrm>
            <a:off x="4140360" y="2492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1979640" y="2997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4643280" y="3429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6300720" y="2997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7812000" y="4149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8"/>
          <p:cNvSpPr/>
          <p:nvPr/>
        </p:nvSpPr>
        <p:spPr>
          <a:xfrm>
            <a:off x="7812000" y="342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4643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1908000" y="3789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1"/>
          <p:cNvSpPr/>
          <p:nvPr/>
        </p:nvSpPr>
        <p:spPr>
          <a:xfrm>
            <a:off x="4211640" y="53737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2"/>
          <p:cNvSpPr/>
          <p:nvPr/>
        </p:nvSpPr>
        <p:spPr>
          <a:xfrm>
            <a:off x="1908000" y="537372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3"/>
          <p:cNvSpPr/>
          <p:nvPr/>
        </p:nvSpPr>
        <p:spPr>
          <a:xfrm>
            <a:off x="781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4"/>
          <p:cNvSpPr/>
          <p:nvPr/>
        </p:nvSpPr>
        <p:spPr>
          <a:xfrm>
            <a:off x="781200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5"/>
          <p:cNvSpPr/>
          <p:nvPr/>
        </p:nvSpPr>
        <p:spPr>
          <a:xfrm>
            <a:off x="4211640" y="537372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6"/>
          <p:cNvSpPr/>
          <p:nvPr/>
        </p:nvSpPr>
        <p:spPr>
          <a:xfrm>
            <a:off x="7596360" y="6453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7"/>
          <p:cNvSpPr/>
          <p:nvPr/>
        </p:nvSpPr>
        <p:spPr>
          <a:xfrm flipH="1">
            <a:off x="5363640" y="6669000"/>
            <a:ext cx="2235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8"/>
          <p:cNvSpPr/>
          <p:nvPr/>
        </p:nvSpPr>
        <p:spPr>
          <a:xfrm>
            <a:off x="421164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4"/>
          <p:cNvSpPr/>
          <p:nvPr/>
        </p:nvSpPr>
        <p:spPr>
          <a:xfrm>
            <a:off x="1357200" y="4581360"/>
            <a:ext cx="5591160" cy="192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1:=(-b+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2:=(-b-sqrt(d))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ни уравнения: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1=', x1:9:3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x2=', x2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1357200" y="3141720"/>
            <a:ext cx="5591160" cy="1071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:=-b/2/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'Корень уравнения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=',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9: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82760" y="1258920"/>
            <a:ext cx="80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9640" y="0"/>
            <a:ext cx="6891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n_1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a, b, c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var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x, x1, x2: real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ln ('Решение квадратного уравнения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write ('Введите коэффициенты a, b,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&gt;&gt;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d:=b*b-4*a*c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l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writeln ('Корней нет'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=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4292640"/>
            <a:ext cx="68914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1900" spc="-1" strike="noStrike">
                <a:solidFill>
                  <a:srgbClr val="000000"/>
                </a:solidFill>
                <a:latin typeface="FangSong"/>
              </a:rPr>
              <a:t> d&gt;0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68360" y="6524640"/>
            <a:ext cx="68911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7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971640" y="4724280"/>
            <a:ext cx="7848360" cy="576360"/>
          </a:xfrm>
          <a:prstGeom prst="rect">
            <a:avLst/>
          </a:prstGeom>
          <a:solidFill>
            <a:srgbClr val="d9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8"/>
          <p:cNvSpPr/>
          <p:nvPr/>
        </p:nvSpPr>
        <p:spPr>
          <a:xfrm>
            <a:off x="3143160" y="2428920"/>
            <a:ext cx="5072040" cy="1079280"/>
          </a:xfrm>
          <a:prstGeom prst="rect">
            <a:avLst/>
          </a:prstGeom>
          <a:solidFill>
            <a:srgbClr val="dce6f2"/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35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ложенные ветв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00000" y="1197000"/>
            <a:ext cx="752976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а следующая констру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условие1&gt;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hen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опера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1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ператор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1640" y="4724280"/>
            <a:ext cx="78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гда относится к ближайшему оператору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71600" y="4641840"/>
            <a:ext cx="5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928800" y="1785960"/>
            <a:ext cx="7643880" cy="2214720"/>
          </a:xfrm>
          <a:prstGeom prst="rect">
            <a:avLst/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1:15Z</dcterms:modified>
  <cp:revision>118</cp:revision>
  <dc:subject/>
  <dc:title>Презентация PowerPoint</dc:title>
</cp:coreProperties>
</file>