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342-D5A9-4B70-AC72-551C30F4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9D2-5969-43E7-9432-2EEC28FF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2B3-7E44-4E20-B8C8-5BC152D7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50A-1179-4CEC-9174-B418B11A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DF7-176B-42AD-8EC2-4B4A30EF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607-8A39-4BC5-A742-E4AE38C5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4B5-4E98-40AF-965A-0EE9C320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9A0-E0BF-4B74-98AE-ADB5BEE8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A43-D80B-425A-A423-68D3DB4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63A-4C62-4E1B-B223-3A54DE64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6FB-E6DA-40A4-A8BE-966ABF6E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F8B-B88E-4361-8154-21C5E0A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D4F-E27A-4748-B316-3AD3EF55C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715b2861-5e83-4a1d-895e-db9e5961d66f/%5BINF_019%5D_%5BAM_01%5D.swf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ЗДАНИЕ ТЕКСТОВЫХ ДОКУМЕНТОВ НА КОМПЬЮТЕ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280"/>
            <a:ext cx="7643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бор (ввод)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виатурный тренажё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дактирование (правка)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жим вставки/заме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ерка правопис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иск и 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г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фер об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абор (ввод)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042920" y="76500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документа на компьютере состоит из таких этапов,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б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14842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бор (ввод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кста осуществляется с помощью клавиатуры. Навык квалифицированного клавиатурного письма сегодня считается социальным, общекультур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4246560" cy="2685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1187280" y="2637000"/>
            <a:ext cx="75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ие букв на клавиатуре выполнено с учётом принципа «наибольшей повторяемо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187280" y="6093000"/>
            <a:ext cx="75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ы ответственности пальцев на клави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42920" y="83664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вила ввода текс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042920" y="177336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следите за концом строки: как только он будет достигнут, курсор автоматически перейдёт на начало следующей стро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042920" y="1844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того чтобы перейти к вводу нового абзаца, нажмите клавишу Ent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514600" cy="2522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4"/>
          <p:cNvSpPr/>
          <p:nvPr/>
        </p:nvSpPr>
        <p:spPr>
          <a:xfrm>
            <a:off x="1042920" y="184464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м, где это нужно, используйте прописные буквы (Shift +  букв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1835280" y="2997360"/>
            <a:ext cx="5257800" cy="863280"/>
            <a:chOff x="1835280" y="2997360"/>
            <a:chExt cx="5257800" cy="863280"/>
          </a:xfrm>
        </p:grpSpPr>
        <p:grpSp>
          <p:nvGrpSpPr>
            <p:cNvPr id="176" name="Group 16"/>
            <p:cNvGrpSpPr/>
            <p:nvPr/>
          </p:nvGrpSpPr>
          <p:grpSpPr>
            <a:xfrm>
              <a:off x="1835280" y="3068640"/>
              <a:ext cx="2736720" cy="792000"/>
              <a:chOff x="1835280" y="3068640"/>
              <a:chExt cx="2736720" cy="792000"/>
            </a:xfrm>
          </p:grpSpPr>
          <p:sp>
            <p:nvSpPr>
              <p:cNvPr id="177" name="AutoShape 17"/>
              <p:cNvSpPr/>
              <p:nvPr/>
            </p:nvSpPr>
            <p:spPr>
              <a:xfrm>
                <a:off x="1835280" y="3068640"/>
                <a:ext cx="2736720" cy="792000"/>
              </a:xfrm>
              <a:prstGeom prst="bevel">
                <a:avLst>
                  <a:gd name="adj" fmla="val 12500"/>
                </a:avLst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hi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8"/>
              <p:cNvSpPr/>
              <p:nvPr/>
            </p:nvSpPr>
            <p:spPr>
              <a:xfrm>
                <a:off x="2339640" y="3284280"/>
                <a:ext cx="142560" cy="360000"/>
              </a:xfrm>
              <a:prstGeom prst="upArrow">
                <a:avLst>
                  <a:gd name="adj1" fmla="val 50000"/>
                  <a:gd name="adj2" fmla="val 6313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AutoShape 19"/>
            <p:cNvSpPr/>
            <p:nvPr/>
          </p:nvSpPr>
          <p:spPr>
            <a:xfrm>
              <a:off x="6012000" y="3068640"/>
              <a:ext cx="1081080" cy="792000"/>
            </a:xfrm>
            <a:prstGeom prst="bevel">
              <a:avLst>
                <a:gd name="adj" fmla="val 12500"/>
              </a:avLst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Бук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0"/>
            <p:cNvSpPr/>
            <p:nvPr/>
          </p:nvSpPr>
          <p:spPr>
            <a:xfrm>
              <a:off x="5003640" y="2997360"/>
              <a:ext cx="64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1042920" y="184464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едние слова отделяйте одним пробел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2411280" y="2924280"/>
            <a:ext cx="4897440" cy="50472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042920" y="17733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и препинания (запятую, двоеточие, точку, восклицательный и вопросительный знаки) пишите слитно с предшествующим словом и отделяйте пробелом от следующего слов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1187280" y="422100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Хорошо? Отлично! Лето, сол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4643280" y="3284640"/>
            <a:ext cx="151308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4500720" y="5516640"/>
            <a:ext cx="2016000" cy="45972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тделить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3059280" y="3789360"/>
            <a:ext cx="5689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3059280" y="378936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5435640" y="378936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6804000" y="378936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8748720" y="3789360"/>
            <a:ext cx="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3419640" y="5516640"/>
            <a:ext cx="360036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419640" y="4652640"/>
            <a:ext cx="0" cy="863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5651640" y="4581360"/>
            <a:ext cx="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7020000" y="4581360"/>
            <a:ext cx="0" cy="935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1476360" y="386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«Хорошо летом!»        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4284720" y="2924280"/>
            <a:ext cx="151272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2413080" y="3429000"/>
            <a:ext cx="5329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9"/>
          <p:cNvSpPr/>
          <p:nvPr/>
        </p:nvSpPr>
        <p:spPr>
          <a:xfrm>
            <a:off x="2413080" y="3429000"/>
            <a:ext cx="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7453440" y="3429000"/>
            <a:ext cx="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5942160" y="342900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7742160" y="3429000"/>
            <a:ext cx="0" cy="719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1042920" y="1773360"/>
            <a:ext cx="7921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вычки и скобки пишите слитно с соответствующими слов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1476360" y="328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равка – это доку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1042920" y="177336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ре выделяйте пробелами с двух сторо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3276720" y="2565360"/>
            <a:ext cx="2016000" cy="45972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тделить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7"/>
          <p:cNvSpPr/>
          <p:nvPr/>
        </p:nvSpPr>
        <p:spPr>
          <a:xfrm>
            <a:off x="4067280" y="3068640"/>
            <a:ext cx="0" cy="504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4500720" y="3068640"/>
            <a:ext cx="0" cy="504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1476360" y="328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еловек-амфиб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0"/>
          <p:cNvSpPr/>
          <p:nvPr/>
        </p:nvSpPr>
        <p:spPr>
          <a:xfrm>
            <a:off x="1042920" y="177336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фис пишите слитно с соединяемыми им слов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1"/>
          <p:cNvSpPr/>
          <p:nvPr/>
        </p:nvSpPr>
        <p:spPr>
          <a:xfrm>
            <a:off x="4067280" y="2421000"/>
            <a:ext cx="151272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лит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4643280" y="292428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3"/>
          <p:cNvSpPr/>
          <p:nvPr/>
        </p:nvSpPr>
        <p:spPr>
          <a:xfrm>
            <a:off x="4859280" y="2924280"/>
            <a:ext cx="0" cy="718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едактирование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71640" y="692280"/>
            <a:ext cx="81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дактировании (правк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кста его просматривают, чтобы убедиться, что всё правильно, исправляют обнаруженные ошибки и вносят необходимые изме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692360" y="1844640"/>
            <a:ext cx="65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перемещение курс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1908000" y="242100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364000" y="242100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начало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908000" y="306864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364000" y="306864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онец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908000" y="37162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364000" y="371808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лово 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1908000" y="436572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364000" y="436572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лово вл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908000" y="501336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5364000" y="501336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«экран» ввер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1908000" y="5661000"/>
            <a:ext cx="1151280" cy="72072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364000" y="5805360"/>
            <a:ext cx="259272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«экран»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3851280" y="3716280"/>
            <a:ext cx="57636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 flipH="1">
            <a:off x="3850560" y="4365720"/>
            <a:ext cx="57636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3276720" y="3789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3276720" y="436572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1692360" y="1844640"/>
            <a:ext cx="655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бинации клавиш для режима прокру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908000" y="37162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5724360" y="256536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траницу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1908000" y="479736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5724360" y="371628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 страницу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3851280" y="4797360"/>
            <a:ext cx="100800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5796000" y="486900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 начало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5796000" y="5734080"/>
            <a:ext cx="2951280" cy="398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конец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3276720" y="3789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4797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2"/>
          <p:cNvSpPr/>
          <p:nvPr/>
        </p:nvSpPr>
        <p:spPr>
          <a:xfrm>
            <a:off x="1835280" y="256536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3203640" y="256536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4"/>
          <p:cNvSpPr/>
          <p:nvPr/>
        </p:nvSpPr>
        <p:spPr>
          <a:xfrm>
            <a:off x="3708360" y="256536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5"/>
          <p:cNvSpPr/>
          <p:nvPr/>
        </p:nvSpPr>
        <p:spPr>
          <a:xfrm>
            <a:off x="3708360" y="3645000"/>
            <a:ext cx="1150920" cy="6476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36"/>
          <p:cNvSpPr/>
          <p:nvPr/>
        </p:nvSpPr>
        <p:spPr>
          <a:xfrm>
            <a:off x="1908000" y="5734080"/>
            <a:ext cx="115128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3276720" y="5734080"/>
            <a:ext cx="358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8"/>
          <p:cNvSpPr/>
          <p:nvPr/>
        </p:nvSpPr>
        <p:spPr>
          <a:xfrm>
            <a:off x="3851280" y="5734080"/>
            <a:ext cx="100800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>
            <a:hlinkClick r:id="rId1"/>
          </p:cNvPr>
          <p:cNvSpPr/>
          <p:nvPr/>
        </p:nvSpPr>
        <p:spPr>
          <a:xfrm>
            <a:off x="1476360" y="3284640"/>
            <a:ext cx="309708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екст сдвиг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раво, освобожд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есто вводим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в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0"/>
          <p:cNvSpPr/>
          <p:nvPr/>
        </p:nvSpPr>
        <p:spPr>
          <a:xfrm>
            <a:off x="4356000" y="2421000"/>
            <a:ext cx="1150920" cy="4334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5364000" y="3284640"/>
            <a:ext cx="309744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вол, стоящ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 курсор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меняется символ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водимым с клави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 flipV="1">
            <a:off x="3059280" y="2852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V="1">
            <a:off x="6948360" y="2852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268360" y="2349360"/>
            <a:ext cx="16210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та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6084720" y="2349360"/>
            <a:ext cx="162108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м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V="1">
            <a:off x="3851280" y="184464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H="1" flipV="1">
            <a:off x="4932000" y="1844640"/>
            <a:ext cx="1152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979640" y="1197000"/>
            <a:ext cx="604836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жимы работы текстового ред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1222200" y="9079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е текстовые процессоры снабжены средствами проверки правопис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50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86056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1"/>
          <p:cNvSpPr/>
          <p:nvPr/>
        </p:nvSpPr>
        <p:spPr>
          <a:xfrm>
            <a:off x="1042920" y="2060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ё многообразие ошибок, допускаемых при вводе текста, может быть сведено к трём типам: лишний символ, пропущенный символ и ошибочный симв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58920" y="3500280"/>
          <a:ext cx="7561080" cy="2895840"/>
        </p:xfrm>
        <a:graphic>
          <a:graphicData uri="http://schemas.openxmlformats.org/drawingml/2006/table">
            <a:tbl>
              <a:tblPr/>
              <a:tblGrid>
                <a:gridCol w="1800360"/>
                <a:gridCol w="576072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ы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ы устранения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шни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перед лишним симво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нопк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ущен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на место вставки симв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с нуж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ер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ановить курсор перед ошибоч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4960" indent="-26496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ать клавишу с верным символ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7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8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Заголовок 2"/>
          <p:cNvSpPr/>
          <p:nvPr/>
        </p:nvSpPr>
        <p:spPr>
          <a:xfrm>
            <a:off x="1042920" y="189000"/>
            <a:ext cx="7921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абота с фрагментами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5508720" y="836640"/>
            <a:ext cx="3457440" cy="3988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рывная часть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1042920" y="2133720"/>
            <a:ext cx="10796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1116000" y="4581360"/>
            <a:ext cx="1513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далит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клавиш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e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space)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 flipH="1">
            <a:off x="1979640" y="4005360"/>
            <a:ext cx="6192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817236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219564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341964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643280" y="213372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15280" y="2133720"/>
            <a:ext cx="1079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бз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7667640" y="2133720"/>
            <a:ext cx="1224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окум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763640" y="1628640"/>
            <a:ext cx="640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5148360" y="1052640"/>
            <a:ext cx="32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3"/>
          <p:cNvSpPr/>
          <p:nvPr/>
        </p:nvSpPr>
        <p:spPr>
          <a:xfrm>
            <a:off x="176364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277164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392436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"/>
          <p:cNvSpPr/>
          <p:nvPr/>
        </p:nvSpPr>
        <p:spPr>
          <a:xfrm>
            <a:off x="550872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709308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8172360" y="1628640"/>
            <a:ext cx="0" cy="468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4067280" y="1268280"/>
            <a:ext cx="0" cy="3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132000" y="836640"/>
            <a:ext cx="2016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рагмен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 flipH="1">
            <a:off x="5003280" y="3573360"/>
            <a:ext cx="3240" cy="397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3059280" y="3141720"/>
            <a:ext cx="39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йствия с фрагментом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059280" y="4581360"/>
            <a:ext cx="1657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резать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омест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буф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мен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5291280" y="4581360"/>
            <a:ext cx="1657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п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 буф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м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7451640" y="4581360"/>
            <a:ext cx="151308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з бу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3"/>
          <p:cNvSpPr/>
          <p:nvPr/>
        </p:nvSpPr>
        <p:spPr>
          <a:xfrm>
            <a:off x="622764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3"/>
          <p:cNvSpPr/>
          <p:nvPr/>
        </p:nvSpPr>
        <p:spPr>
          <a:xfrm>
            <a:off x="385128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>
            <a:off x="1979640" y="4005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Object 38" descr=""/>
          <p:cNvPicPr/>
          <p:nvPr/>
        </p:nvPicPr>
        <p:blipFill>
          <a:blip r:embed="rId1"/>
          <a:stretch/>
        </p:blipFill>
        <p:spPr>
          <a:xfrm>
            <a:off x="6012000" y="5877000"/>
            <a:ext cx="23508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9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250920" y="907920"/>
            <a:ext cx="871380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бор (ввод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, как правило, осуществляется с помощью клавиатуры. Навык квалифицированного клавиатурного письма сегодня считается социальным, общекультурным. Изучить расположение букв на клавиатуре и освоить навыки ввода текста проще всего в процессе работы с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виатурным тренажё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дактировании (правке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 его просматривают, чтобы убедиться, что всё правильно, исправляют обнаруженные ошибки и вносят необходимые изменения. При редактировании можно работать не только с отдельными символами, но и с целыми фрагментами текста: удалять, вырезать, копировать в буфер обмена и вставлять в нужное место один или несколько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текстовых процессорах реализован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и проверки правописания, по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нног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раг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екста и замены его другим фрагм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1116000" y="21337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о том, что «навык квалифицированного клавиатурного письма сегодня считается социальным, общекультурным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ен ли этот навык лично в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ому принципу расположены на клавиатуре русские бук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116000" y="2133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рекомендации, которых следует придерживаться при работе на клави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 тот же фрагмент из буфера обм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клавиатурном пись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116000" y="2133720"/>
            <a:ext cx="7777080" cy="27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из перечисленных ниже предложений правильно расставлены пробелы между словами и знаками препин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иница на море пустилась :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Синица на море пустилась: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Синица на море пустилась: 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Синица на море пустилась : она хвалилась, что хочет море сж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жно переместить курсор к обнаруженной ошиб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ет рассматриваться в качестве фрагмента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116000" y="2133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можно вставить в текст один и тот же фрагмент из буфера обме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2 (стр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116000" y="141300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действия, которые могут быть выполнены в режиме работы с файлам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908000" y="2421000"/>
          <a:ext cx="6480360" cy="4267080"/>
        </p:xfrm>
        <a:graphic>
          <a:graphicData uri="http://schemas.openxmlformats.org/drawingml/2006/table">
            <a:tbl>
              <a:tblPr/>
              <a:tblGrid>
                <a:gridCol w="1606680"/>
                <a:gridCol w="48736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тирова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ирова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и замена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правопис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 параметров 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щение фрагментов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ение к справочной систе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ение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ать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08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3 (стр. 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116000" y="1413000"/>
            <a:ext cx="777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пиктограммами и обозначенными ими действиям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5003640" y="2276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03640" y="2852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003640" y="342900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5003640" y="400536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5003640" y="457992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5003640" y="515628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ть ка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5003640" y="5732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о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5003640" y="6308640"/>
            <a:ext cx="3095640" cy="3603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9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501480" cy="576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0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04720" cy="419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1" descr=""/>
          <p:cNvPicPr/>
          <p:nvPr/>
        </p:nvPicPr>
        <p:blipFill>
          <a:blip r:embed="rId3"/>
          <a:stretch/>
        </p:blipFill>
        <p:spPr>
          <a:xfrm>
            <a:off x="2195640" y="3357720"/>
            <a:ext cx="504720" cy="502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2" descr=""/>
          <p:cNvPicPr/>
          <p:nvPr/>
        </p:nvPicPr>
        <p:blipFill>
          <a:blip r:embed="rId4"/>
          <a:stretch/>
        </p:blipFill>
        <p:spPr>
          <a:xfrm>
            <a:off x="2195640" y="3860640"/>
            <a:ext cx="539640" cy="578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3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527040" cy="504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4" descr=""/>
          <p:cNvPicPr/>
          <p:nvPr/>
        </p:nvPicPr>
        <p:blipFill>
          <a:blip r:embed="rId6"/>
          <a:stretch/>
        </p:blipFill>
        <p:spPr>
          <a:xfrm>
            <a:off x="2268360" y="6165720"/>
            <a:ext cx="414360" cy="41436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65"/>
          <p:cNvGrpSpPr/>
          <p:nvPr/>
        </p:nvGrpSpPr>
        <p:grpSpPr>
          <a:xfrm>
            <a:off x="2268360" y="5589720"/>
            <a:ext cx="433080" cy="359640"/>
            <a:chOff x="2268360" y="5589720"/>
            <a:chExt cx="433080" cy="359640"/>
          </a:xfrm>
        </p:grpSpPr>
        <p:sp>
          <p:nvSpPr>
            <p:cNvPr id="325" name="AutoShape 66"/>
            <p:cNvSpPr/>
            <p:nvPr/>
          </p:nvSpPr>
          <p:spPr>
            <a:xfrm flipV="1">
              <a:off x="2268360" y="5589720"/>
              <a:ext cx="288000" cy="308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67"/>
            <p:cNvSpPr/>
            <p:nvPr/>
          </p:nvSpPr>
          <p:spPr>
            <a:xfrm flipV="1">
              <a:off x="2413080" y="5639760"/>
              <a:ext cx="288360" cy="309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Picture 68" descr=""/>
          <p:cNvPicPr/>
          <p:nvPr/>
        </p:nvPicPr>
        <p:blipFill>
          <a:blip r:embed="rId7"/>
          <a:stretch/>
        </p:blipFill>
        <p:spPr>
          <a:xfrm>
            <a:off x="2268360" y="5084640"/>
            <a:ext cx="432000" cy="3366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3"/>
          <p:cNvSpPr/>
          <p:nvPr/>
        </p:nvSpPr>
        <p:spPr>
          <a:xfrm>
            <a:off x="3132000" y="90792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74 (стр. 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116000" y="1413000"/>
            <a:ext cx="7777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берите (отметьте галочкой) команды, при выполнении которых выделенный фрагмент текста попадёт в буфер обмен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203640" y="2205000"/>
          <a:ext cx="4464000" cy="4437000"/>
        </p:xfrm>
        <a:graphic>
          <a:graphicData uri="http://schemas.openxmlformats.org/drawingml/2006/table">
            <a:tbl>
              <a:tblPr/>
              <a:tblGrid>
                <a:gridCol w="1106280"/>
                <a:gridCol w="33577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иров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еза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ав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ст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90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1187280" y="1916280"/>
            <a:ext cx="1584360" cy="1225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ж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д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708360" y="2060640"/>
            <a:ext cx="1800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3673440" y="2637000"/>
            <a:ext cx="1835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2773440" y="223992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2736720" y="245592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948360" y="3141720"/>
            <a:ext cx="18734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и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3"/>
          <p:cNvSpPr/>
          <p:nvPr/>
        </p:nvSpPr>
        <p:spPr>
          <a:xfrm>
            <a:off x="6912000" y="4294080"/>
            <a:ext cx="1908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пущ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6913440" y="5410080"/>
            <a:ext cx="19065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в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708360" y="4005360"/>
            <a:ext cx="19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даля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3635280" y="4724280"/>
            <a:ext cx="1943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ырез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3708360" y="537372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оп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1"/>
          <p:cNvSpPr/>
          <p:nvPr/>
        </p:nvSpPr>
        <p:spPr>
          <a:xfrm>
            <a:off x="3708360" y="6021360"/>
            <a:ext cx="19065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ст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6443640" y="2889360"/>
            <a:ext cx="0" cy="291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6443640" y="342900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6443640" y="4581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"/>
          <p:cNvSpPr/>
          <p:nvPr/>
        </p:nvSpPr>
        <p:spPr>
          <a:xfrm>
            <a:off x="6443640" y="5805360"/>
            <a:ext cx="468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 flipV="1">
            <a:off x="2700360" y="4184640"/>
            <a:ext cx="1042920" cy="1044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1"/>
          <p:cNvSpPr/>
          <p:nvPr/>
        </p:nvSpPr>
        <p:spPr>
          <a:xfrm flipV="1">
            <a:off x="2700360" y="4941360"/>
            <a:ext cx="934920" cy="28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2"/>
          <p:cNvSpPr/>
          <p:nvPr/>
        </p:nvSpPr>
        <p:spPr>
          <a:xfrm>
            <a:off x="2771640" y="5229360"/>
            <a:ext cx="86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3"/>
          <p:cNvSpPr/>
          <p:nvPr/>
        </p:nvSpPr>
        <p:spPr>
          <a:xfrm>
            <a:off x="2700360" y="5229360"/>
            <a:ext cx="1008000" cy="1008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6335640" y="2133720"/>
            <a:ext cx="1584360" cy="75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шиб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1116000" y="907920"/>
            <a:ext cx="7848720" cy="703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документа на компьюте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оит из таких этапов, как набор, редактирование и формат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116000" y="4581360"/>
            <a:ext cx="1655640" cy="14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ра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кст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прерыв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асть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20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3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0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700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8000"/>
                            </p:stCondLst>
                            <p:childTnLst>
                              <p:par>
                                <p:cTn id="9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2 (стр. 147-1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69 - 181 (стр. 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32:17Z</dcterms:modified>
  <cp:revision>45</cp:revision>
  <dc:subject/>
  <dc:title>Презентация PowerPoint</dc:title>
</cp:coreProperties>
</file>