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756-458E-4948-9C80-C485376B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61E-345F-4BA1-B33F-C6884873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32B-0930-4A33-94EA-DF7FF17C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4DF-D348-4F88-885C-1B923312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0E6-0EC7-4490-8074-C4D54930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CB6-AFC5-46F9-862F-405327F2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8A9-E9D3-4259-88DC-8CC0D1E2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C43-AD90-44D7-BD8E-AC721DE4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3D8-F4F7-44C9-A37D-40B5786E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BB3-E3FC-4EA2-A6DB-61EAD146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DDD-C257-4ACE-9010-BBCE605F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A21-5ED7-46F8-9DF7-BC15B076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33A5-CE59-485B-8DAC-56FD73AEBC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715b2861-5e83-4a1d-895e-db9e5961d66f/%5BINF_019%5D_%5BAM_01%5D.swf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ЗДАНИЕ ТЕКСТОВЫХ ДОКУМЕНТОВ НА КОМПЬЮТЕ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280"/>
            <a:ext cx="7643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бор (ввод) тек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авиатурный тренажё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дактирование (правка) тек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жим вставки/заме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верка правопис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иск и за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агм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фер об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Набор (ввод)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42920" y="76500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готовка документа на компьютере состоит из таких этапов, ка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б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атир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116000" y="148428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бор (ввод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екста осуществляется с помощью клавиатуры. Навык квалифицированного клавиатурного письма сегодня считается социальным, общекультур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4246560" cy="2685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1187280" y="2637000"/>
            <a:ext cx="756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оложение букв на клавиатуре выполнено с учётом принципа «наибольшей повторяемост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187280" y="6093000"/>
            <a:ext cx="75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ны ответственности пальцев на клави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042920" y="83664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вила ввода текс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1042920" y="177336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следите за концом строки: как только он будет достигнут, курсор автоматически перейдёт на начало следующей стро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042920" y="184464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того чтобы перейти к вводу нового абзаца, нажмите клавишу Ent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3" descr=""/>
          <p:cNvPicPr/>
          <p:nvPr/>
        </p:nvPicPr>
        <p:blipFill>
          <a:blip r:embed="rId2"/>
          <a:stretch/>
        </p:blipFill>
        <p:spPr>
          <a:xfrm>
            <a:off x="3132000" y="2997360"/>
            <a:ext cx="2514600" cy="25225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4"/>
          <p:cNvSpPr/>
          <p:nvPr/>
        </p:nvSpPr>
        <p:spPr>
          <a:xfrm>
            <a:off x="1042920" y="184464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м, где это нужно, используйте прописные буквы (Shift +  букв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5"/>
          <p:cNvGrpSpPr/>
          <p:nvPr/>
        </p:nvGrpSpPr>
        <p:grpSpPr>
          <a:xfrm>
            <a:off x="1835280" y="2997360"/>
            <a:ext cx="5257800" cy="863280"/>
            <a:chOff x="1835280" y="2997360"/>
            <a:chExt cx="5257800" cy="863280"/>
          </a:xfrm>
        </p:grpSpPr>
        <p:grpSp>
          <p:nvGrpSpPr>
            <p:cNvPr id="176" name="Group 16"/>
            <p:cNvGrpSpPr/>
            <p:nvPr/>
          </p:nvGrpSpPr>
          <p:grpSpPr>
            <a:xfrm>
              <a:off x="1835280" y="3068640"/>
              <a:ext cx="2736720" cy="792000"/>
              <a:chOff x="1835280" y="3068640"/>
              <a:chExt cx="2736720" cy="792000"/>
            </a:xfrm>
          </p:grpSpPr>
          <p:sp>
            <p:nvSpPr>
              <p:cNvPr id="177" name="AutoShape 17"/>
              <p:cNvSpPr/>
              <p:nvPr/>
            </p:nvSpPr>
            <p:spPr>
              <a:xfrm>
                <a:off x="1835280" y="3068640"/>
                <a:ext cx="2736720" cy="792000"/>
              </a:xfrm>
              <a:prstGeom prst="bevel">
                <a:avLst>
                  <a:gd name="adj" fmla="val 12500"/>
                </a:avLst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hi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18"/>
              <p:cNvSpPr/>
              <p:nvPr/>
            </p:nvSpPr>
            <p:spPr>
              <a:xfrm>
                <a:off x="2339640" y="3284280"/>
                <a:ext cx="142560" cy="360000"/>
              </a:xfrm>
              <a:prstGeom prst="upArrow">
                <a:avLst>
                  <a:gd name="adj1" fmla="val 50000"/>
                  <a:gd name="adj2" fmla="val 6313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AutoShape 19"/>
            <p:cNvSpPr/>
            <p:nvPr/>
          </p:nvSpPr>
          <p:spPr>
            <a:xfrm>
              <a:off x="6012000" y="3068640"/>
              <a:ext cx="1081080" cy="792000"/>
            </a:xfrm>
            <a:prstGeom prst="bevel">
              <a:avLst>
                <a:gd name="adj" fmla="val 12500"/>
              </a:avLst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Бук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0"/>
            <p:cNvSpPr/>
            <p:nvPr/>
          </p:nvSpPr>
          <p:spPr>
            <a:xfrm>
              <a:off x="5003640" y="2997360"/>
              <a:ext cx="64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21"/>
          <p:cNvSpPr/>
          <p:nvPr/>
        </p:nvSpPr>
        <p:spPr>
          <a:xfrm>
            <a:off x="1042920" y="184464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едние слова отделяйте одним пробел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2"/>
          <p:cNvSpPr/>
          <p:nvPr/>
        </p:nvSpPr>
        <p:spPr>
          <a:xfrm>
            <a:off x="2411280" y="2924280"/>
            <a:ext cx="4897440" cy="504720"/>
          </a:xfrm>
          <a:prstGeom prst="bevel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1042920" y="1773360"/>
            <a:ext cx="79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ки препинания (запятую, двоеточие, точку, восклицательный и вопросительный знаки) пишите слитно с предшествующим словом и отделяйте пробелом от следующего слов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1187280" y="422100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Хорошо? Отлично! Лето, солн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4643280" y="3284640"/>
            <a:ext cx="1513080" cy="459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ли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4500720" y="5516640"/>
            <a:ext cx="2016000" cy="45972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тделить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7"/>
          <p:cNvSpPr/>
          <p:nvPr/>
        </p:nvSpPr>
        <p:spPr>
          <a:xfrm>
            <a:off x="3059280" y="3789360"/>
            <a:ext cx="56894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3059280" y="3789360"/>
            <a:ext cx="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5435640" y="3789360"/>
            <a:ext cx="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0"/>
          <p:cNvSpPr/>
          <p:nvPr/>
        </p:nvSpPr>
        <p:spPr>
          <a:xfrm>
            <a:off x="6804000" y="3789360"/>
            <a:ext cx="0" cy="719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1"/>
          <p:cNvSpPr/>
          <p:nvPr/>
        </p:nvSpPr>
        <p:spPr>
          <a:xfrm>
            <a:off x="8748720" y="3789360"/>
            <a:ext cx="0" cy="79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2"/>
          <p:cNvSpPr/>
          <p:nvPr/>
        </p:nvSpPr>
        <p:spPr>
          <a:xfrm>
            <a:off x="3419640" y="5516640"/>
            <a:ext cx="3600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419640" y="4652640"/>
            <a:ext cx="0" cy="863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5651640" y="4581360"/>
            <a:ext cx="0" cy="9352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7020000" y="4581360"/>
            <a:ext cx="0" cy="9352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1476360" y="3860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«Хорошо летом!»         (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4284720" y="2924280"/>
            <a:ext cx="1512720" cy="459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ли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8"/>
          <p:cNvSpPr/>
          <p:nvPr/>
        </p:nvSpPr>
        <p:spPr>
          <a:xfrm>
            <a:off x="2413080" y="3429000"/>
            <a:ext cx="53290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9"/>
          <p:cNvSpPr/>
          <p:nvPr/>
        </p:nvSpPr>
        <p:spPr>
          <a:xfrm>
            <a:off x="2413080" y="3429000"/>
            <a:ext cx="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0"/>
          <p:cNvSpPr/>
          <p:nvPr/>
        </p:nvSpPr>
        <p:spPr>
          <a:xfrm>
            <a:off x="7453440" y="3429000"/>
            <a:ext cx="0" cy="79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1"/>
          <p:cNvSpPr/>
          <p:nvPr/>
        </p:nvSpPr>
        <p:spPr>
          <a:xfrm>
            <a:off x="5942160" y="3429000"/>
            <a:ext cx="0" cy="719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2"/>
          <p:cNvSpPr/>
          <p:nvPr/>
        </p:nvSpPr>
        <p:spPr>
          <a:xfrm>
            <a:off x="7742160" y="3429000"/>
            <a:ext cx="0" cy="719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1042920" y="1773360"/>
            <a:ext cx="7921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вычки и скобки пишите слитно с соответствующими слов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1476360" y="3284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правка – это докумен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1042920" y="177336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ре выделяйте пробелами с двух сторон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3276720" y="2565360"/>
            <a:ext cx="2016000" cy="45972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тделить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7"/>
          <p:cNvSpPr/>
          <p:nvPr/>
        </p:nvSpPr>
        <p:spPr>
          <a:xfrm>
            <a:off x="4067280" y="3068640"/>
            <a:ext cx="0" cy="5047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8"/>
          <p:cNvSpPr/>
          <p:nvPr/>
        </p:nvSpPr>
        <p:spPr>
          <a:xfrm>
            <a:off x="4500720" y="3068640"/>
            <a:ext cx="0" cy="5047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9"/>
          <p:cNvSpPr/>
          <p:nvPr/>
        </p:nvSpPr>
        <p:spPr>
          <a:xfrm>
            <a:off x="1476360" y="3284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еловек-амфиб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0"/>
          <p:cNvSpPr/>
          <p:nvPr/>
        </p:nvSpPr>
        <p:spPr>
          <a:xfrm>
            <a:off x="1042920" y="177336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фис пишите слитно с соединяемыми им слов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1"/>
          <p:cNvSpPr/>
          <p:nvPr/>
        </p:nvSpPr>
        <p:spPr>
          <a:xfrm>
            <a:off x="4067280" y="2421000"/>
            <a:ext cx="1512720" cy="459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ли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2"/>
          <p:cNvSpPr/>
          <p:nvPr/>
        </p:nvSpPr>
        <p:spPr>
          <a:xfrm>
            <a:off x="4643280" y="2924280"/>
            <a:ext cx="0" cy="718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3"/>
          <p:cNvSpPr/>
          <p:nvPr/>
        </p:nvSpPr>
        <p:spPr>
          <a:xfrm>
            <a:off x="4859280" y="2924280"/>
            <a:ext cx="0" cy="718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Редактирование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71640" y="692280"/>
            <a:ext cx="81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дактировании (правке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екста его просматривают, чтобы убедиться, что всё правильно, исправляют обнаруженные ошибки и вносят необходимые измен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692360" y="1844640"/>
            <a:ext cx="655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строе перемещение курс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1908000" y="242100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364000" y="242100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начало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1908000" y="306864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364000" y="306864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конец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1908000" y="371628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364000" y="371808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слово в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1908000" y="436572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364000" y="436572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слово вл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1908000" y="501336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5364000" y="501336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«экран» ввер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1908000" y="5661000"/>
            <a:ext cx="1151280" cy="72072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364000" y="580536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«экран» вн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3851280" y="3716280"/>
            <a:ext cx="57636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 flipH="1">
            <a:off x="3850560" y="4365720"/>
            <a:ext cx="57636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3276720" y="378936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3276720" y="436572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1692360" y="1844640"/>
            <a:ext cx="655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бинации клавиш для режима прокру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908000" y="371628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5724360" y="2565360"/>
            <a:ext cx="295128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страницу вве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1908000" y="479736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5724360" y="3716280"/>
            <a:ext cx="295128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страницу вн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7"/>
          <p:cNvSpPr/>
          <p:nvPr/>
        </p:nvSpPr>
        <p:spPr>
          <a:xfrm>
            <a:off x="3851280" y="4797360"/>
            <a:ext cx="100800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8"/>
          <p:cNvSpPr/>
          <p:nvPr/>
        </p:nvSpPr>
        <p:spPr>
          <a:xfrm>
            <a:off x="5796000" y="4869000"/>
            <a:ext cx="295128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 начало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9"/>
          <p:cNvSpPr/>
          <p:nvPr/>
        </p:nvSpPr>
        <p:spPr>
          <a:xfrm>
            <a:off x="5796000" y="5734080"/>
            <a:ext cx="295128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конец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0"/>
          <p:cNvSpPr/>
          <p:nvPr/>
        </p:nvSpPr>
        <p:spPr>
          <a:xfrm>
            <a:off x="3276720" y="378936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3276720" y="479736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2"/>
          <p:cNvSpPr/>
          <p:nvPr/>
        </p:nvSpPr>
        <p:spPr>
          <a:xfrm>
            <a:off x="1835280" y="2565360"/>
            <a:ext cx="115092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3"/>
          <p:cNvSpPr/>
          <p:nvPr/>
        </p:nvSpPr>
        <p:spPr>
          <a:xfrm>
            <a:off x="3203640" y="256536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4"/>
          <p:cNvSpPr/>
          <p:nvPr/>
        </p:nvSpPr>
        <p:spPr>
          <a:xfrm>
            <a:off x="3708360" y="2565360"/>
            <a:ext cx="115092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5"/>
          <p:cNvSpPr/>
          <p:nvPr/>
        </p:nvSpPr>
        <p:spPr>
          <a:xfrm>
            <a:off x="3708360" y="3645000"/>
            <a:ext cx="1150920" cy="6476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6"/>
          <p:cNvSpPr/>
          <p:nvPr/>
        </p:nvSpPr>
        <p:spPr>
          <a:xfrm>
            <a:off x="1908000" y="573408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7"/>
          <p:cNvSpPr/>
          <p:nvPr/>
        </p:nvSpPr>
        <p:spPr>
          <a:xfrm>
            <a:off x="3276720" y="573408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8"/>
          <p:cNvSpPr/>
          <p:nvPr/>
        </p:nvSpPr>
        <p:spPr>
          <a:xfrm>
            <a:off x="3851280" y="5734080"/>
            <a:ext cx="100800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>
            <a:hlinkClick r:id="rId1"/>
          </p:cNvPr>
          <p:cNvSpPr/>
          <p:nvPr/>
        </p:nvSpPr>
        <p:spPr>
          <a:xfrm>
            <a:off x="1476360" y="3284640"/>
            <a:ext cx="3097080" cy="15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екст сдвиг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раво, освобожд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есто вводим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в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0"/>
          <p:cNvSpPr/>
          <p:nvPr/>
        </p:nvSpPr>
        <p:spPr>
          <a:xfrm>
            <a:off x="4356000" y="2421000"/>
            <a:ext cx="115092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5364000" y="3284640"/>
            <a:ext cx="3097440" cy="15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вол, стоящ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 курсор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меняется символ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водимым с клави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5"/>
          <p:cNvSpPr/>
          <p:nvPr/>
        </p:nvSpPr>
        <p:spPr>
          <a:xfrm flipV="1">
            <a:off x="3059280" y="2852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 flipV="1">
            <a:off x="6948360" y="2852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268360" y="2349360"/>
            <a:ext cx="162108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став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084720" y="2349360"/>
            <a:ext cx="162108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 flipV="1">
            <a:off x="3851280" y="1844640"/>
            <a:ext cx="115236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5"/>
          <p:cNvSpPr/>
          <p:nvPr/>
        </p:nvSpPr>
        <p:spPr>
          <a:xfrm flipH="1" flipV="1">
            <a:off x="4932000" y="1844640"/>
            <a:ext cx="115236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1979640" y="1197000"/>
            <a:ext cx="6048360" cy="649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жимы работы текстового реда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9"/>
          <p:cNvSpPr/>
          <p:nvPr/>
        </p:nvSpPr>
        <p:spPr>
          <a:xfrm>
            <a:off x="1222200" y="90792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ременные текстовые процессоры снабжены средствами проверки правопис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ject 50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286056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1"/>
          <p:cNvSpPr/>
          <p:nvPr/>
        </p:nvSpPr>
        <p:spPr>
          <a:xfrm>
            <a:off x="1042920" y="206064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ё многообразие ошибок, допускаемых при вводе текста, может быть сведено к трём типам: лишний символ, пропущенный символ и ошибочный симво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258920" y="3500280"/>
          <a:ext cx="7561080" cy="2895840"/>
        </p:xfrm>
        <a:graphic>
          <a:graphicData uri="http://schemas.openxmlformats.org/drawingml/2006/table">
            <a:tbl>
              <a:tblPr/>
              <a:tblGrid>
                <a:gridCol w="1800360"/>
                <a:gridCol w="5760720"/>
              </a:tblGrid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ы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ы устранения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шни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ить курсор перед лишним символ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нопку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ущен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ить курсор на место вставки симв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лавишу с нужным симво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ер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ить курсор перед ошибочным симво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лавишу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лавишу с верным симво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7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8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Заголовок 2"/>
          <p:cNvSpPr/>
          <p:nvPr/>
        </p:nvSpPr>
        <p:spPr>
          <a:xfrm>
            <a:off x="1042920" y="189000"/>
            <a:ext cx="7921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Работа с фрагментами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5508720" y="836640"/>
            <a:ext cx="3457440" cy="3988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ерывная часть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1042920" y="2133720"/>
            <a:ext cx="10796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мв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1116000" y="4581360"/>
            <a:ext cx="1513080" cy="151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далить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клавиш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ckspace)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 flipH="1">
            <a:off x="1979640" y="4005360"/>
            <a:ext cx="61927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>
            <a:off x="8172360" y="4005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2195640" y="2133720"/>
            <a:ext cx="1079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л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3419640" y="2133720"/>
            <a:ext cx="1079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тр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643280" y="2133720"/>
            <a:ext cx="1800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едл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6515280" y="2133720"/>
            <a:ext cx="1079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бза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7667640" y="2133720"/>
            <a:ext cx="1224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кум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"/>
          <p:cNvSpPr/>
          <p:nvPr/>
        </p:nvSpPr>
        <p:spPr>
          <a:xfrm flipH="1">
            <a:off x="1763640" y="1628640"/>
            <a:ext cx="64087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3"/>
          <p:cNvSpPr/>
          <p:nvPr/>
        </p:nvSpPr>
        <p:spPr>
          <a:xfrm>
            <a:off x="5148360" y="1052640"/>
            <a:ext cx="323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3"/>
          <p:cNvSpPr/>
          <p:nvPr/>
        </p:nvSpPr>
        <p:spPr>
          <a:xfrm>
            <a:off x="176364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>
            <a:off x="277164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"/>
          <p:cNvSpPr/>
          <p:nvPr/>
        </p:nvSpPr>
        <p:spPr>
          <a:xfrm>
            <a:off x="392436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"/>
          <p:cNvSpPr/>
          <p:nvPr/>
        </p:nvSpPr>
        <p:spPr>
          <a:xfrm>
            <a:off x="550872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"/>
          <p:cNvSpPr/>
          <p:nvPr/>
        </p:nvSpPr>
        <p:spPr>
          <a:xfrm>
            <a:off x="709308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"/>
          <p:cNvSpPr/>
          <p:nvPr/>
        </p:nvSpPr>
        <p:spPr>
          <a:xfrm>
            <a:off x="817236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"/>
          <p:cNvSpPr/>
          <p:nvPr/>
        </p:nvSpPr>
        <p:spPr>
          <a:xfrm>
            <a:off x="4067280" y="1268280"/>
            <a:ext cx="0" cy="397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132000" y="836640"/>
            <a:ext cx="2016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рагмент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"/>
          <p:cNvSpPr/>
          <p:nvPr/>
        </p:nvSpPr>
        <p:spPr>
          <a:xfrm flipH="1">
            <a:off x="5003280" y="3573360"/>
            <a:ext cx="3240" cy="397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3059280" y="3141720"/>
            <a:ext cx="396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ействия с фрагментом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059280" y="4581360"/>
            <a:ext cx="1657080" cy="151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ырезать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помест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буф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мена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5291280" y="4581360"/>
            <a:ext cx="1657080" cy="151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п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  буф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м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7451640" y="4581360"/>
            <a:ext cx="1513080" cy="151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ста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з бу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3"/>
          <p:cNvSpPr/>
          <p:nvPr/>
        </p:nvSpPr>
        <p:spPr>
          <a:xfrm>
            <a:off x="6227640" y="4005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3"/>
          <p:cNvSpPr/>
          <p:nvPr/>
        </p:nvSpPr>
        <p:spPr>
          <a:xfrm>
            <a:off x="3851280" y="4005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>
            <a:off x="1979640" y="4005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Object 38" descr=""/>
          <p:cNvPicPr/>
          <p:nvPr/>
        </p:nvPicPr>
        <p:blipFill>
          <a:blip r:embed="rId1"/>
          <a:stretch/>
        </p:blipFill>
        <p:spPr>
          <a:xfrm>
            <a:off x="6012000" y="5877000"/>
            <a:ext cx="235080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9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0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250920" y="907920"/>
            <a:ext cx="871380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бор (ввод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екста, как правило, осуществляется с помощью клавиатуры. Навык квалифицированного клавиатурного письма сегодня считается социальным, общекультурным. Изучить расположение букв на клавиатуре и освоить навыки ввода текста проще всего в процессе работы с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лавиатурным тренажёр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дактировании (правке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екста его просматривают, чтобы убедиться, что всё правильно, исправляют обнаруженные ошибки и вносят необходимые изменения. При редактировании можно работать не только с отдельными символами, но и с целыми фрагментами текста: удалять, вырезать, копировать в буфер обмена и вставлять в нужное место один или несколько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временных текстовых процессорах реализованы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и проверки правописания, по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данног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рагм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екста и замены его другим фрагме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1116000" y="213372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понимаете высказывание о том, что «навык квалифицированного клавиатурного письма сегодня считается социальным, общекультурным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ен ли этот навык лично в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116000" y="2133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акому принципу расположены на клавиатуре русские бук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116000" y="21337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рекомендации, которых следует придерживаться при работе на клави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 тот же фрагмент из буфера обме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116000" y="2133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х правил следует придерживаться при клавиатурном пись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116000" y="2133720"/>
            <a:ext cx="7777080" cy="27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из перечисленных ниже предложений правильно расставлены пробелы между словами и знаками препин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Синица на море пустилась :она хвалилась, что хочет море сж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Синица на море пустилась:она хвалилась, что хочет море сж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Синица на море пустилась: она хвалилась, что хочет море сж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Синица на море пустилась : она хвалилась, что хочет море сж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116000" y="2133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можно переместить курсор к обнаруженной ошиб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116000" y="2133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ожет рассматриваться в качестве фрагмента тек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1116000" y="2133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раз можно вставить в текст один и тот же фрагмент из буфера обме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72 (стр. 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116000" y="1413000"/>
            <a:ext cx="777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ерите (отметьте галочкой) действия, которые могут быть выполнены в режиме работы с файлам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908000" y="2421000"/>
          <a:ext cx="6480360" cy="4267080"/>
        </p:xfrm>
        <a:graphic>
          <a:graphicData uri="http://schemas.openxmlformats.org/drawingml/2006/table">
            <a:tbl>
              <a:tblPr/>
              <a:tblGrid>
                <a:gridCol w="1606680"/>
                <a:gridCol w="48736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ие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актирование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ирование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и замена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правопис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параметров стран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щение фрагментов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щение к справочной систе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ение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ать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308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73 (стр. 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116000" y="1413000"/>
            <a:ext cx="777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пиктограммами и обозначенными ими действиям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5003640" y="227664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5003640" y="285264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5003640" y="342900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хран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5003640" y="400536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5003640" y="457992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5003640" y="515628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хранить ка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5003640" y="573264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иров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5003640" y="630864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9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501480" cy="576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0" descr=""/>
          <p:cNvPicPr/>
          <p:nvPr/>
        </p:nvPicPr>
        <p:blipFill>
          <a:blip r:embed="rId2"/>
          <a:stretch/>
        </p:blipFill>
        <p:spPr>
          <a:xfrm>
            <a:off x="2195640" y="2924280"/>
            <a:ext cx="504720" cy="419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1" descr=""/>
          <p:cNvPicPr/>
          <p:nvPr/>
        </p:nvPicPr>
        <p:blipFill>
          <a:blip r:embed="rId3"/>
          <a:stretch/>
        </p:blipFill>
        <p:spPr>
          <a:xfrm>
            <a:off x="2195640" y="3357720"/>
            <a:ext cx="504720" cy="502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2" descr=""/>
          <p:cNvPicPr/>
          <p:nvPr/>
        </p:nvPicPr>
        <p:blipFill>
          <a:blip r:embed="rId4"/>
          <a:stretch/>
        </p:blipFill>
        <p:spPr>
          <a:xfrm>
            <a:off x="2195640" y="3860640"/>
            <a:ext cx="539640" cy="578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3" descr=""/>
          <p:cNvPicPr/>
          <p:nvPr/>
        </p:nvPicPr>
        <p:blipFill>
          <a:blip r:embed="rId5"/>
          <a:stretch/>
        </p:blipFill>
        <p:spPr>
          <a:xfrm>
            <a:off x="2195640" y="4437000"/>
            <a:ext cx="527040" cy="504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4" descr=""/>
          <p:cNvPicPr/>
          <p:nvPr/>
        </p:nvPicPr>
        <p:blipFill>
          <a:blip r:embed="rId6"/>
          <a:stretch/>
        </p:blipFill>
        <p:spPr>
          <a:xfrm>
            <a:off x="2268360" y="6165720"/>
            <a:ext cx="414360" cy="41436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65"/>
          <p:cNvGrpSpPr/>
          <p:nvPr/>
        </p:nvGrpSpPr>
        <p:grpSpPr>
          <a:xfrm>
            <a:off x="2268360" y="5589720"/>
            <a:ext cx="433080" cy="359640"/>
            <a:chOff x="2268360" y="5589720"/>
            <a:chExt cx="433080" cy="359640"/>
          </a:xfrm>
        </p:grpSpPr>
        <p:sp>
          <p:nvSpPr>
            <p:cNvPr id="325" name="AutoShape 66"/>
            <p:cNvSpPr/>
            <p:nvPr/>
          </p:nvSpPr>
          <p:spPr>
            <a:xfrm flipV="1">
              <a:off x="2268360" y="5589720"/>
              <a:ext cx="288000" cy="3088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67"/>
            <p:cNvSpPr/>
            <p:nvPr/>
          </p:nvSpPr>
          <p:spPr>
            <a:xfrm flipV="1">
              <a:off x="2413080" y="5639760"/>
              <a:ext cx="288360" cy="3092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7" name="Picture 68" descr=""/>
          <p:cNvPicPr/>
          <p:nvPr/>
        </p:nvPicPr>
        <p:blipFill>
          <a:blip r:embed="rId7"/>
          <a:stretch/>
        </p:blipFill>
        <p:spPr>
          <a:xfrm>
            <a:off x="2268360" y="5084640"/>
            <a:ext cx="432000" cy="3366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74 (стр. 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1116000" y="1413000"/>
            <a:ext cx="7777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берите (отметьте галочкой) команды, при выполнении которых выделенный фрагмент текста попадёт в буфер обмен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203640" y="2205000"/>
          <a:ext cx="4464000" cy="4437000"/>
        </p:xfrm>
        <a:graphic>
          <a:graphicData uri="http://schemas.openxmlformats.org/drawingml/2006/table">
            <a:tbl>
              <a:tblPr/>
              <a:tblGrid>
                <a:gridCol w="1106280"/>
                <a:gridCol w="335772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пиров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л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ез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ав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ст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н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н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0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000"/>
                            </p:stCondLst>
                            <p:childTnLst>
                              <p:par>
                                <p:cTn id="8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9000"/>
                            </p:stCondLst>
                            <p:childTnLst>
                              <p:par>
                                <p:cTn id="8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1187280" y="1916280"/>
            <a:ext cx="1584360" cy="1225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ж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да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708360" y="2060640"/>
            <a:ext cx="1800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ст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3673440" y="2637000"/>
            <a:ext cx="1835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а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 flipV="1">
            <a:off x="2773440" y="223992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2736720" y="2455920"/>
            <a:ext cx="93672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6948360" y="3141720"/>
            <a:ext cx="18734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иш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мв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6912000" y="4294080"/>
            <a:ext cx="1908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пущ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мв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6913440" y="5410080"/>
            <a:ext cx="1906560" cy="75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еве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м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708360" y="400536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даля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9"/>
          <p:cNvSpPr/>
          <p:nvPr/>
        </p:nvSpPr>
        <p:spPr>
          <a:xfrm>
            <a:off x="3635280" y="4724280"/>
            <a:ext cx="1943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ырез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0"/>
          <p:cNvSpPr/>
          <p:nvPr/>
        </p:nvSpPr>
        <p:spPr>
          <a:xfrm>
            <a:off x="3708360" y="537372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п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1"/>
          <p:cNvSpPr/>
          <p:nvPr/>
        </p:nvSpPr>
        <p:spPr>
          <a:xfrm>
            <a:off x="3708360" y="602136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став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6443640" y="2889360"/>
            <a:ext cx="0" cy="291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6443640" y="342900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6443640" y="458136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7"/>
          <p:cNvSpPr/>
          <p:nvPr/>
        </p:nvSpPr>
        <p:spPr>
          <a:xfrm>
            <a:off x="6443640" y="580536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9"/>
          <p:cNvSpPr/>
          <p:nvPr/>
        </p:nvSpPr>
        <p:spPr>
          <a:xfrm flipV="1">
            <a:off x="2700360" y="4184640"/>
            <a:ext cx="1042920" cy="1044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1"/>
          <p:cNvSpPr/>
          <p:nvPr/>
        </p:nvSpPr>
        <p:spPr>
          <a:xfrm flipV="1">
            <a:off x="2700360" y="4941360"/>
            <a:ext cx="934920" cy="287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2"/>
          <p:cNvSpPr/>
          <p:nvPr/>
        </p:nvSpPr>
        <p:spPr>
          <a:xfrm>
            <a:off x="2771640" y="5229360"/>
            <a:ext cx="86364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3"/>
          <p:cNvSpPr/>
          <p:nvPr/>
        </p:nvSpPr>
        <p:spPr>
          <a:xfrm>
            <a:off x="2700360" y="5229360"/>
            <a:ext cx="1008000" cy="1008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6335640" y="2133720"/>
            <a:ext cx="1584360" cy="75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шиб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1116000" y="907920"/>
            <a:ext cx="7848720" cy="7038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ка документа на компьюте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стоит из таких этапов, как набор, редактирование и формат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116000" y="4581360"/>
            <a:ext cx="1655640" cy="14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раг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епреры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асть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0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30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4000"/>
                            </p:stCondLst>
                            <p:childTnLst>
                              <p:par>
                                <p:cTn id="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0"/>
                            </p:stCondLst>
                            <p:childTnLst>
                              <p:par>
                                <p:cTn id="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7000"/>
                            </p:stCondLst>
                            <p:childTnLst>
                              <p:par>
                                <p:cTn id="9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8000"/>
                            </p:stCondLst>
                            <p:childTnLst>
                              <p:par>
                                <p:cTn id="9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90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9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20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2 (стр. 147-1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69 - 181 (стр. 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32:17Z</dcterms:modified>
  <cp:revision>45</cp:revision>
  <dc:subject/>
  <dc:title>Презентация PowerPoint</dc:title>
</cp:coreProperties>
</file>