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9.png" ContentType="image/png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5.jpeg" ContentType="image/jpeg"/>
  <Override PartName="/ppt/media/image4.jpeg" ContentType="image/jpeg"/>
  <Override PartName="/ppt/media/image25.png" ContentType="image/png"/>
  <Override PartName="/ppt/media/image27.jpeg" ContentType="image/jpeg"/>
  <Override PartName="/ppt/media/image1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F38-CA4A-4122-ACFA-30C39846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1FA-41BD-44A8-B350-1C1E4E6D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B89-197D-4D7C-BC77-1682A41C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CDB8-AADB-47C1-A44A-A35A7A25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610-1A45-4F61-B5E1-57698B15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114-1EAB-414A-B06F-74938633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AD34-9A5D-426D-B4B8-FA0441C5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2145-0B93-467A-92B4-8712D7AB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4B33-65D4-42AA-AFBC-01647DD0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17C-9C90-43F3-8CE1-D0C3DF2A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F43-3771-4676-9CBC-DC25EC26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EFB5-564D-4458-BA08-EAB88BA1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7909-533C-41C8-B36C-0224A03FE5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2"/>
          <p:cNvSpPr/>
          <p:nvPr/>
        </p:nvSpPr>
        <p:spPr>
          <a:xfrm>
            <a:off x="3857760" y="421488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Жизненные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следовательность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Алгорит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71440" y="2349360"/>
            <a:ext cx="7072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 ТАКОЕ АЛГОРИТ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57480" y="1979280"/>
            <a:ext cx="73152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довательность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28440" y="70920"/>
            <a:ext cx="764388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Жизненные задачи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3" name="Rectangle 1027"/>
          <p:cNvSpPr/>
          <p:nvPr/>
        </p:nvSpPr>
        <p:spPr>
          <a:xfrm>
            <a:off x="1000080" y="1071720"/>
            <a:ext cx="6572160" cy="535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шить пугови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Купить хле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ся в шк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Закрыть дверь на клю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ть контрольную работу на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Выполнить фонетический разбор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наименьшее обще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ное нескольки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туральн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8" descr="http://freedesignfile.com/upload/2012/09/School-bag-5.jpg"/>
          <p:cNvPicPr/>
          <p:nvPr/>
        </p:nvPicPr>
        <p:blipFill>
          <a:blip r:embed="rId2"/>
          <a:stretch/>
        </p:blipFill>
        <p:spPr>
          <a:xfrm>
            <a:off x="6594480" y="4257720"/>
            <a:ext cx="2549520" cy="2386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5" name="Picture 20" descr="http://img-fotki.yandex.ru/get/6109/159699517.cf/0_7f85a_288236ea_XL"/>
          <p:cNvPicPr/>
          <p:nvPr/>
        </p:nvPicPr>
        <p:blipFill>
          <a:blip r:embed="rId3"/>
          <a:stretch/>
        </p:blipFill>
        <p:spPr>
          <a:xfrm>
            <a:off x="6858000" y="2214720"/>
            <a:ext cx="2357280" cy="2357280"/>
          </a:xfrm>
          <a:prstGeom prst="rect">
            <a:avLst/>
          </a:prstGeom>
          <a:ln w="0">
            <a:noFill/>
          </a:ln>
        </p:spPr>
      </p:pic>
      <p:grpSp>
        <p:nvGrpSpPr>
          <p:cNvPr id="166" name="Группа 33"/>
          <p:cNvGrpSpPr/>
          <p:nvPr/>
        </p:nvGrpSpPr>
        <p:grpSpPr>
          <a:xfrm>
            <a:off x="6858000" y="428760"/>
            <a:ext cx="2000160" cy="2128680"/>
            <a:chOff x="6858000" y="428760"/>
            <a:chExt cx="2000160" cy="2128680"/>
          </a:xfrm>
        </p:grpSpPr>
        <p:pic>
          <p:nvPicPr>
            <p:cNvPr id="167" name="Picture 2" descr="http://lenagold.narod.ru/fon/clipart/p/pugo/pugo32.png"/>
            <p:cNvPicPr/>
            <p:nvPr/>
          </p:nvPicPr>
          <p:blipFill>
            <a:blip r:embed="rId4"/>
            <a:srcRect l="66404" t="-499" r="0" b="47160"/>
            <a:stretch/>
          </p:blipFill>
          <p:spPr>
            <a:xfrm>
              <a:off x="7429320" y="428760"/>
              <a:ext cx="142884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2" descr="http://lenagold.narod.ru/fon/clipart/p/pugo/pugo32.png"/>
            <p:cNvPicPr/>
            <p:nvPr/>
          </p:nvPicPr>
          <p:blipFill>
            <a:blip r:embed="rId5"/>
            <a:srcRect l="66404" t="50819" r="0" b="-3646"/>
            <a:stretch/>
          </p:blipFill>
          <p:spPr>
            <a:xfrm>
              <a:off x="6858000" y="1071720"/>
              <a:ext cx="1428840" cy="1485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666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Покупка хлеб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857160" y="1214280"/>
            <a:ext cx="5715000" cy="43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10000"/>
              </a:lnSpc>
              <a:spcBef>
                <a:spcPts val="1800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Взять у мамы день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1800"/>
              </a:spcBef>
              <a:buClr>
                <a:srgbClr val="2159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"/>
              </a:rPr>
              <a:t>Пойти в магаз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1800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Выбрать нужные хлебобулочные из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1800"/>
              </a:spcBef>
              <a:buClr>
                <a:srgbClr val="2159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"/>
              </a:rPr>
              <a:t>Оплатить стоимость поку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1800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ринести хлеб до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http://www.ugra-tv.ru/upload/iblock/5c2/5c26334145ddcedf5cfd32ab19cbde03.jpg"/>
          <p:cNvPicPr/>
          <p:nvPr/>
        </p:nvPicPr>
        <p:blipFill>
          <a:blip r:embed="rId2"/>
          <a:srcRect l="0" t="18384" r="5867" b="4415"/>
          <a:stretch/>
        </p:blipFill>
        <p:spPr>
          <a:xfrm>
            <a:off x="5133960" y="3855960"/>
            <a:ext cx="4010040" cy="271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unconditional.ru/img/items/394x394/024_4841_b_01.jpg"/>
          <p:cNvPicPr/>
          <p:nvPr/>
        </p:nvPicPr>
        <p:blipFill>
          <a:blip r:embed="rId3"/>
          <a:stretch/>
        </p:blipFill>
        <p:spPr>
          <a:xfrm>
            <a:off x="6676920" y="1357200"/>
            <a:ext cx="2252880" cy="225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Фонетический разбор слова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74" name="Rectangle 1028"/>
          <p:cNvSpPr/>
          <p:nvPr/>
        </p:nvSpPr>
        <p:spPr>
          <a:xfrm>
            <a:off x="1000080" y="1285920"/>
            <a:ext cx="6324480" cy="43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1800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Записать слово, разделив его на фонетические сл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800"/>
              </a:spcBef>
              <a:buClr>
                <a:srgbClr val="2159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"/>
              </a:rPr>
              <a:t>Указать количество слогов, выделить удар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800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Дать характеристику звуков – гласных и соглас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800"/>
              </a:spcBef>
              <a:buClr>
                <a:srgbClr val="2159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Arial"/>
              </a:rPr>
              <a:t>Указать количество букв и звуков в сл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D:\Личные_документы\Елена\КАРТИНКИ\Ucheniki_w450_h468.jpg"/>
          <p:cNvPicPr/>
          <p:nvPr/>
        </p:nvPicPr>
        <p:blipFill>
          <a:blip r:embed="rId2"/>
          <a:stretch/>
        </p:blipFill>
        <p:spPr>
          <a:xfrm>
            <a:off x="6459480" y="3929040"/>
            <a:ext cx="254160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Группа 49"/>
          <p:cNvGrpSpPr/>
          <p:nvPr/>
        </p:nvGrpSpPr>
        <p:grpSpPr>
          <a:xfrm>
            <a:off x="733320" y="1285920"/>
            <a:ext cx="7848720" cy="5300640"/>
            <a:chOff x="733320" y="1285920"/>
            <a:chExt cx="7848720" cy="5300640"/>
          </a:xfrm>
        </p:grpSpPr>
        <p:sp>
          <p:nvSpPr>
            <p:cNvPr id="177" name="AutoShape 2072"/>
            <p:cNvSpPr/>
            <p:nvPr/>
          </p:nvSpPr>
          <p:spPr>
            <a:xfrm>
              <a:off x="6599160" y="2004840"/>
              <a:ext cx="360360" cy="366480"/>
            </a:xfrm>
            <a:prstGeom prst="downArrow">
              <a:avLst>
                <a:gd name="adj1" fmla="val 50000"/>
                <a:gd name="adj2" fmla="val 40124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2064"/>
            <p:cNvSpPr/>
            <p:nvPr/>
          </p:nvSpPr>
          <p:spPr>
            <a:xfrm>
              <a:off x="2508120" y="2004840"/>
              <a:ext cx="360360" cy="366480"/>
            </a:xfrm>
            <a:prstGeom prst="downArrow">
              <a:avLst>
                <a:gd name="adj1" fmla="val 50000"/>
                <a:gd name="adj2" fmla="val 40124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053"/>
            <p:cNvSpPr/>
            <p:nvPr/>
          </p:nvSpPr>
          <p:spPr>
            <a:xfrm>
              <a:off x="6215040" y="1285920"/>
              <a:ext cx="1079280" cy="792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Garamond"/>
                </a:rPr>
                <a:t>4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052"/>
            <p:cNvSpPr/>
            <p:nvPr/>
          </p:nvSpPr>
          <p:spPr>
            <a:xfrm>
              <a:off x="2143080" y="1285920"/>
              <a:ext cx="1079280" cy="7920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Garamond"/>
                </a:rPr>
                <a:t>3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2054"/>
            <p:cNvGrpSpPr/>
            <p:nvPr/>
          </p:nvGrpSpPr>
          <p:grpSpPr>
            <a:xfrm>
              <a:off x="2172960" y="4562640"/>
              <a:ext cx="5097600" cy="2023920"/>
              <a:chOff x="2172960" y="4562640"/>
              <a:chExt cx="5097600" cy="2023920"/>
            </a:xfrm>
          </p:grpSpPr>
          <p:pic>
            <p:nvPicPr>
              <p:cNvPr id="1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172960" y="4562640"/>
                <a:ext cx="5097600" cy="123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Rectangle 2056"/>
              <p:cNvSpPr/>
              <p:nvPr/>
            </p:nvSpPr>
            <p:spPr>
              <a:xfrm>
                <a:off x="3876480" y="5794560"/>
                <a:ext cx="1441440" cy="79200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Garamond"/>
                  </a:rPr>
                  <a:t>210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AutoShape 2057"/>
              <p:cNvSpPr/>
              <p:nvPr/>
            </p:nvSpPr>
            <p:spPr>
              <a:xfrm>
                <a:off x="4524120" y="5361120"/>
                <a:ext cx="360360" cy="368280"/>
              </a:xfrm>
              <a:prstGeom prst="downArrow">
                <a:avLst>
                  <a:gd name="adj1" fmla="val 50000"/>
                  <a:gd name="adj2" fmla="val 43935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Rectangle 2059"/>
            <p:cNvSpPr/>
            <p:nvPr/>
          </p:nvSpPr>
          <p:spPr>
            <a:xfrm>
              <a:off x="996840" y="2797200"/>
              <a:ext cx="86508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60"/>
            <p:cNvSpPr/>
            <p:nvPr/>
          </p:nvSpPr>
          <p:spPr>
            <a:xfrm>
              <a:off x="2076120" y="2797200"/>
              <a:ext cx="86508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061"/>
            <p:cNvSpPr/>
            <p:nvPr/>
          </p:nvSpPr>
          <p:spPr>
            <a:xfrm>
              <a:off x="3228840" y="2797200"/>
              <a:ext cx="86508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996840" y="2084400"/>
              <a:ext cx="336888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2065"/>
            <p:cNvSpPr/>
            <p:nvPr/>
          </p:nvSpPr>
          <p:spPr>
            <a:xfrm>
              <a:off x="1788840" y="2725560"/>
              <a:ext cx="43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066"/>
            <p:cNvSpPr/>
            <p:nvPr/>
          </p:nvSpPr>
          <p:spPr>
            <a:xfrm>
              <a:off x="2868480" y="2797200"/>
              <a:ext cx="43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068"/>
            <p:cNvSpPr/>
            <p:nvPr/>
          </p:nvSpPr>
          <p:spPr>
            <a:xfrm>
              <a:off x="5086440" y="2725560"/>
              <a:ext cx="86508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069"/>
            <p:cNvSpPr/>
            <p:nvPr/>
          </p:nvSpPr>
          <p:spPr>
            <a:xfrm>
              <a:off x="6237360" y="2725560"/>
              <a:ext cx="86508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070"/>
            <p:cNvSpPr/>
            <p:nvPr/>
          </p:nvSpPr>
          <p:spPr>
            <a:xfrm>
              <a:off x="7391520" y="2709720"/>
              <a:ext cx="86508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2096"/>
            <p:cNvGrpSpPr/>
            <p:nvPr/>
          </p:nvGrpSpPr>
          <p:grpSpPr>
            <a:xfrm>
              <a:off x="5244840" y="2157480"/>
              <a:ext cx="3017160" cy="396360"/>
              <a:chOff x="5244840" y="2157480"/>
              <a:chExt cx="3017160" cy="396360"/>
            </a:xfrm>
          </p:grpSpPr>
          <p:sp>
            <p:nvSpPr>
              <p:cNvPr id="195" name="Rectangle 2085"/>
              <p:cNvSpPr/>
              <p:nvPr/>
            </p:nvSpPr>
            <p:spPr>
              <a:xfrm>
                <a:off x="803052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2086"/>
              <p:cNvSpPr/>
              <p:nvPr/>
            </p:nvSpPr>
            <p:spPr>
              <a:xfrm>
                <a:off x="774720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2087"/>
              <p:cNvSpPr/>
              <p:nvPr/>
            </p:nvSpPr>
            <p:spPr>
              <a:xfrm>
                <a:off x="739476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2088"/>
              <p:cNvSpPr/>
              <p:nvPr/>
            </p:nvSpPr>
            <p:spPr>
              <a:xfrm>
                <a:off x="704232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2089"/>
              <p:cNvSpPr/>
              <p:nvPr/>
            </p:nvSpPr>
            <p:spPr>
              <a:xfrm>
                <a:off x="814104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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2090"/>
              <p:cNvSpPr/>
              <p:nvPr/>
            </p:nvSpPr>
            <p:spPr>
              <a:xfrm>
                <a:off x="641340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2091"/>
              <p:cNvSpPr/>
              <p:nvPr/>
            </p:nvSpPr>
            <p:spPr>
              <a:xfrm>
                <a:off x="629712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2092"/>
              <p:cNvSpPr/>
              <p:nvPr/>
            </p:nvSpPr>
            <p:spPr>
              <a:xfrm>
                <a:off x="594432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2093"/>
              <p:cNvSpPr/>
              <p:nvPr/>
            </p:nvSpPr>
            <p:spPr>
              <a:xfrm>
                <a:off x="559224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2094"/>
              <p:cNvSpPr/>
              <p:nvPr/>
            </p:nvSpPr>
            <p:spPr>
              <a:xfrm>
                <a:off x="669276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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2095"/>
              <p:cNvSpPr/>
              <p:nvPr/>
            </p:nvSpPr>
            <p:spPr>
              <a:xfrm>
                <a:off x="5244840" y="215748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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Text Box 2073"/>
            <p:cNvSpPr/>
            <p:nvPr/>
          </p:nvSpPr>
          <p:spPr>
            <a:xfrm>
              <a:off x="5951520" y="2725560"/>
              <a:ext cx="43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074"/>
            <p:cNvSpPr/>
            <p:nvPr/>
          </p:nvSpPr>
          <p:spPr>
            <a:xfrm>
              <a:off x="7031160" y="2654280"/>
              <a:ext cx="43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2075"/>
            <p:cNvGrpSpPr/>
            <p:nvPr/>
          </p:nvGrpSpPr>
          <p:grpSpPr>
            <a:xfrm>
              <a:off x="733320" y="2436840"/>
              <a:ext cx="7848720" cy="2736720"/>
              <a:chOff x="733320" y="2436840"/>
              <a:chExt cx="7848720" cy="2736720"/>
            </a:xfrm>
          </p:grpSpPr>
          <p:sp>
            <p:nvSpPr>
              <p:cNvPr id="209" name="Rectangle 2076"/>
              <p:cNvSpPr/>
              <p:nvPr/>
            </p:nvSpPr>
            <p:spPr>
              <a:xfrm>
                <a:off x="2365200" y="4452840"/>
                <a:ext cx="865440" cy="72072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Garamond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2077"/>
              <p:cNvSpPr/>
              <p:nvPr/>
            </p:nvSpPr>
            <p:spPr>
              <a:xfrm>
                <a:off x="3516480" y="4452840"/>
                <a:ext cx="865080" cy="72072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Garamond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2078"/>
              <p:cNvSpPr/>
              <p:nvPr/>
            </p:nvSpPr>
            <p:spPr>
              <a:xfrm>
                <a:off x="4813200" y="4452840"/>
                <a:ext cx="865440" cy="72072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Garamond"/>
                  </a:rPr>
                  <a:t>5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2079"/>
              <p:cNvSpPr/>
              <p:nvPr/>
            </p:nvSpPr>
            <p:spPr>
              <a:xfrm>
                <a:off x="6037200" y="4452840"/>
                <a:ext cx="865080" cy="72072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Garamond"/>
                  </a:rPr>
                  <a:t>7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3320" y="2436840"/>
                <a:ext cx="7848720" cy="19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AutoShape 2081"/>
              <p:cNvSpPr/>
              <p:nvPr/>
            </p:nvSpPr>
            <p:spPr>
              <a:xfrm>
                <a:off x="4452840" y="3805200"/>
                <a:ext cx="360360" cy="423720"/>
              </a:xfrm>
              <a:prstGeom prst="downArrow">
                <a:avLst>
                  <a:gd name="adj1" fmla="val 50000"/>
                  <a:gd name="adj2" fmla="val 40136"/>
                </a:avLst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2082"/>
              <p:cNvSpPr/>
              <p:nvPr/>
            </p:nvSpPr>
            <p:spPr>
              <a:xfrm>
                <a:off x="5676840" y="4452840"/>
                <a:ext cx="433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2083"/>
              <p:cNvSpPr/>
              <p:nvPr/>
            </p:nvSpPr>
            <p:spPr>
              <a:xfrm>
                <a:off x="4381560" y="4381200"/>
                <a:ext cx="433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2084"/>
              <p:cNvSpPr/>
              <p:nvPr/>
            </p:nvSpPr>
            <p:spPr>
              <a:xfrm>
                <a:off x="3228840" y="4452840"/>
                <a:ext cx="433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Наименьшее общее крат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2" descr="http://cdn.garcya.us/wp-content/uploads/2009/05/Garcya.us_blog_000006462509.jpg"/>
          <p:cNvPicPr/>
          <p:nvPr/>
        </p:nvPicPr>
        <p:blipFill>
          <a:blip r:embed="rId2"/>
          <a:stretch/>
        </p:blipFill>
        <p:spPr>
          <a:xfrm>
            <a:off x="7723080" y="3413160"/>
            <a:ext cx="1408320" cy="1012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http://cdn.garcya.us/wp-content/uploads/2009/05/Garcya.us_blog_000006462509.jpg"/>
          <p:cNvPicPr/>
          <p:nvPr/>
        </p:nvPicPr>
        <p:blipFill>
          <a:blip r:embed="rId3"/>
          <a:stretch/>
        </p:blipFill>
        <p:spPr>
          <a:xfrm>
            <a:off x="5205240" y="3925800"/>
            <a:ext cx="1457640" cy="1152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http://cdn.garcya.us/wp-content/uploads/2009/05/Garcya.us_blog_000006462509.jpg"/>
          <p:cNvPicPr/>
          <p:nvPr/>
        </p:nvPicPr>
        <p:blipFill>
          <a:blip r:embed="rId4"/>
          <a:stretch/>
        </p:blipFill>
        <p:spPr>
          <a:xfrm>
            <a:off x="5711760" y="2494080"/>
            <a:ext cx="1463760" cy="1296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cdn.garcya.us/wp-content/uploads/2009/05/Garcya.us_blog_000006462509.jpg"/>
          <p:cNvPicPr/>
          <p:nvPr/>
        </p:nvPicPr>
        <p:blipFill>
          <a:blip r:embed="rId5"/>
          <a:stretch/>
        </p:blipFill>
        <p:spPr>
          <a:xfrm>
            <a:off x="579600" y="2382840"/>
            <a:ext cx="1407960" cy="1440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http://cdn.garcya.us/wp-content/uploads/2009/05/Garcya.us_blog_000006462509.jpg"/>
          <p:cNvPicPr/>
          <p:nvPr/>
        </p:nvPicPr>
        <p:blipFill>
          <a:blip r:embed="rId6"/>
          <a:stretch/>
        </p:blipFill>
        <p:spPr>
          <a:xfrm>
            <a:off x="401760" y="4352760"/>
            <a:ext cx="1177920" cy="14576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70920"/>
            <a:ext cx="764388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Что такое алгорит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857240" y="1052640"/>
            <a:ext cx="7072560" cy="18050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17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Алгоритм</a:t>
            </a:r>
            <a:r>
              <a:rPr b="0" lang="ru-RU" sz="2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– это конечная последовательность шагов в решении задачи, приводящая от исходных данных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 требуемому результат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9"/>
          <p:cNvSpPr/>
          <p:nvPr/>
        </p:nvSpPr>
        <p:spPr>
          <a:xfrm>
            <a:off x="642960" y="12859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http://www.ikirov.ru/files/1203/arcus_015.png"/>
          <p:cNvPicPr/>
          <p:nvPr/>
        </p:nvPicPr>
        <p:blipFill>
          <a:blip r:embed="rId7"/>
          <a:stretch/>
        </p:blipFill>
        <p:spPr>
          <a:xfrm>
            <a:off x="857160" y="3214800"/>
            <a:ext cx="2857680" cy="2981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http://wheresmyamerica.files.wordpress.com/2007/09/robotdog.jpg"/>
          <p:cNvPicPr/>
          <p:nvPr/>
        </p:nvPicPr>
        <p:blipFill>
          <a:blip r:embed="rId8"/>
          <a:stretch/>
        </p:blipFill>
        <p:spPr>
          <a:xfrm>
            <a:off x="6357960" y="4173480"/>
            <a:ext cx="2786040" cy="2684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http://cdn.garcya.us/wp-content/uploads/2009/05/Garcya.us_blog_000006462509.jpg"/>
          <p:cNvPicPr/>
          <p:nvPr/>
        </p:nvPicPr>
        <p:blipFill>
          <a:blip r:embed="rId9"/>
          <a:stretch/>
        </p:blipFill>
        <p:spPr>
          <a:xfrm>
            <a:off x="2567160" y="5638680"/>
            <a:ext cx="1395360" cy="981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http://cdn.garcya.us/wp-content/uploads/2009/05/Garcya.us_blog_000006462509.jpg"/>
          <p:cNvPicPr/>
          <p:nvPr/>
        </p:nvPicPr>
        <p:blipFill>
          <a:blip r:embed="rId10"/>
          <a:stretch/>
        </p:blipFill>
        <p:spPr>
          <a:xfrm>
            <a:off x="3352680" y="3706920"/>
            <a:ext cx="1395360" cy="143820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27" descr=""/>
          <p:cNvPicPr/>
          <p:nvPr/>
        </p:nvPicPr>
        <p:blipFill>
          <a:blip r:embed="rId11"/>
          <a:stretch/>
        </p:blipFill>
        <p:spPr>
          <a:xfrm>
            <a:off x="2822400" y="2700360"/>
            <a:ext cx="2267280" cy="171288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28" descr=""/>
          <p:cNvPicPr/>
          <p:nvPr/>
        </p:nvPicPr>
        <p:blipFill>
          <a:blip r:embed="rId12"/>
          <a:stretch/>
        </p:blipFill>
        <p:spPr>
          <a:xfrm>
            <a:off x="3693960" y="3584520"/>
            <a:ext cx="2189160" cy="164628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29" descr=""/>
          <p:cNvPicPr/>
          <p:nvPr/>
        </p:nvPicPr>
        <p:blipFill>
          <a:blip r:embed="rId13"/>
          <a:stretch/>
        </p:blipFill>
        <p:spPr>
          <a:xfrm>
            <a:off x="4621320" y="4443480"/>
            <a:ext cx="276048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868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85960" y="1785960"/>
            <a:ext cx="811512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конечная последовательность шагов в решении задачи для получения результатов из исходных да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рабатывает алгоритмы человек. Исполняет алгоритмы исполнител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примеры правил или предписаний, которым вы следуете в повседнев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считать хорошо поставленной задачу: «Иди туда, не знаю куда. Принеси то, не знаю что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алгорит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2-3 примера алгоритмов, изученных вами в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Давайте обсуд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4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34:59Z</dcterms:modified>
  <cp:revision>24</cp:revision>
  <dc:subject/>
  <dc:title>Презентация PowerPoint</dc:title>
</cp:coreProperties>
</file>