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054-8B14-40EF-AB30-7321D234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974-919D-4362-866A-55949C5C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C69-8BDC-4E6B-A6E7-EDE6DC6D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689-AB10-4F1C-AB6C-5185277F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F3A-A1B0-48D9-A463-31A1A863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96B-7B3A-4D8E-956F-38E7A0B7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CB3-523C-48CE-841D-4F5A1191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82D-1FC1-4B7D-BC24-903236B7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A0D-7E4F-45F6-8DFA-6418D556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4A0-593C-4EF4-B725-FE11B47C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32B-3435-4215-8DD0-0128F4C2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B57-B76C-4017-8C78-869A880C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E10B-312E-4529-A47E-9F55EB0BE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kol.ru/uploads/posts/2011-03/1300118025_dtp2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КАК  ЭТАП  РЕШЕНИЯ  ЗАДАЧ  НА 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61"/>
          <p:cNvSpPr/>
          <p:nvPr/>
        </p:nvSpPr>
        <p:spPr>
          <a:xfrm>
            <a:off x="468360" y="2421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этапы решения задачи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м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62"/>
          <p:cNvSpPr/>
          <p:nvPr/>
        </p:nvSpPr>
        <p:spPr>
          <a:xfrm>
            <a:off x="539640" y="242100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постановки задач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63"/>
          <p:cNvSpPr/>
          <p:nvPr/>
        </p:nvSpPr>
        <p:spPr>
          <a:xfrm>
            <a:off x="395280" y="2276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форма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64"/>
          <p:cNvSpPr/>
          <p:nvPr/>
        </p:nvSpPr>
        <p:spPr>
          <a:xfrm>
            <a:off x="468360" y="2349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алгоритмиза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65"/>
          <p:cNvSpPr/>
          <p:nvPr/>
        </p:nvSpPr>
        <p:spPr>
          <a:xfrm>
            <a:off x="468360" y="242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программи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66"/>
          <p:cNvSpPr/>
          <p:nvPr/>
        </p:nvSpPr>
        <p:spPr>
          <a:xfrm>
            <a:off x="468360" y="2349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компьютерного экспери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7"/>
          <p:cNvSpPr/>
          <p:nvPr/>
        </p:nvSpPr>
        <p:spPr>
          <a:xfrm>
            <a:off x="395280" y="23493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этап, по вашему мнению, является наи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ёмк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68"/>
          <p:cNvSpPr/>
          <p:nvPr/>
        </p:nvSpPr>
        <p:spPr>
          <a:xfrm>
            <a:off x="395280" y="227664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считаете, по силам ли одному специалисту  реализация всех этапов решения сложной практической задач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69"/>
          <p:cNvSpPr/>
          <p:nvPr/>
        </p:nvSpPr>
        <p:spPr>
          <a:xfrm>
            <a:off x="395280" y="1484280"/>
            <a:ext cx="849780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сложные практические задачи решаются большими коллективами разработч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ьные группы в этих коллективах специализируются на выполнении одного или нескольких этапов решения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ли в таком случае им иметь представление обо всех этапах решения задачи с использованием  компьюте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70"/>
          <p:cNvSpPr/>
          <p:nvPr/>
        </p:nvSpPr>
        <p:spPr>
          <a:xfrm>
            <a:off x="395280" y="234936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пригодиться в жизни представление об этапах решения задачи с использованием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71"/>
          <p:cNvSpPr/>
          <p:nvPr/>
        </p:nvSpPr>
        <p:spPr>
          <a:xfrm>
            <a:off x="395280" y="1484280"/>
            <a:ext cx="84978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ичный продавец газет получае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ублей с продажи каждой из первых 50 газ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дажи каждой из остальных газет он получает на 20% бо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йте программу, которая вычислит заработок продавца, если он продаст за день 200 газ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фиксируйте свои действия на каждом из этапов решения этой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72"/>
          <p:cNvSpPr/>
          <p:nvPr/>
        </p:nvSpPr>
        <p:spPr>
          <a:xfrm>
            <a:off x="395280" y="1125360"/>
            <a:ext cx="8497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эробусе, вмещающем 160 пассажиров, три четверти мест находятся в салонах экономического класса и одна четверть мест - в салоне бизнес-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мость билета в салоне бизнес класса составля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лей, что в два раза выше стоимости билета в салонах  экономическо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йте программу, которая вычислит сумму денег, полученную авиакомпанией от продажи билетов на этот рейс, если известно, что остались нераспроданным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етов бизнес-класса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етов экономического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е все этапы решения этой задачи и опишите свои действия на каждом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68360" y="836640"/>
            <a:ext cx="8424720" cy="100872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 обладает огромным быстродействием и абсолютной исполнительностью. Он способен решать только ту задачу, программу решения которой ему подготовил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2411280" y="234936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2408400" y="3286080"/>
            <a:ext cx="352404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2411280" y="422100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2408400" y="5157720"/>
            <a:ext cx="352404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2408400" y="6094440"/>
            <a:ext cx="3524040" cy="531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ный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4067280" y="292572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4067280" y="38624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4067280" y="4797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2"/>
          <p:cNvSpPr/>
          <p:nvPr/>
        </p:nvSpPr>
        <p:spPr>
          <a:xfrm>
            <a:off x="4067280" y="573408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755640" y="1916280"/>
            <a:ext cx="7851960" cy="3988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решения задач с использованием компьюте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68360" y="981000"/>
            <a:ext cx="835164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vkol.ru/uploads/posts/2011-03/1300118025_dtp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автомобиль у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arsic.spbu.ru/olymp/2009olymp_tren1_11_test.files/image003.gif - равноускоренное дв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home-edu.ru/user/f/00001491/profil/Les_pr_04/Pict_pr_04/grafiki7.jpg  - 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n.foto.radikal.ru/0708/03/6b8d148af5e5.jpg - автомоб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resimde.com/resim/araba/lincoln_mks_2009_motion_899833.jpg - автомоб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ановка зада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ладка и тест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1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шения задач на компьют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68360" y="1916280"/>
            <a:ext cx="352404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788000" y="1916280"/>
            <a:ext cx="410832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есная информационн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4"/>
          <p:cNvSpPr/>
          <p:nvPr/>
        </p:nvSpPr>
        <p:spPr>
          <a:xfrm>
            <a:off x="465120" y="285264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5"/>
          <p:cNvSpPr/>
          <p:nvPr/>
        </p:nvSpPr>
        <p:spPr>
          <a:xfrm>
            <a:off x="4932360" y="2852640"/>
            <a:ext cx="396072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468360" y="3787920"/>
            <a:ext cx="352404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935600" y="3787920"/>
            <a:ext cx="396072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465120" y="472428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4932360" y="4724280"/>
            <a:ext cx="396072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465120" y="5661000"/>
            <a:ext cx="3524400" cy="936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адка, 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мпьютерный экспериме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4932360" y="5661000"/>
            <a:ext cx="3960720" cy="936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ение мод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3995640" y="2205000"/>
            <a:ext cx="79236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3"/>
          <p:cNvSpPr/>
          <p:nvPr/>
        </p:nvSpPr>
        <p:spPr>
          <a:xfrm>
            <a:off x="3995640" y="314172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3995640" y="407664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5"/>
          <p:cNvSpPr/>
          <p:nvPr/>
        </p:nvSpPr>
        <p:spPr>
          <a:xfrm>
            <a:off x="3995640" y="501336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>
            <a:off x="3995640" y="602136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7"/>
          <p:cNvSpPr/>
          <p:nvPr/>
        </p:nvSpPr>
        <p:spPr>
          <a:xfrm>
            <a:off x="2124000" y="249228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9"/>
          <p:cNvSpPr/>
          <p:nvPr/>
        </p:nvSpPr>
        <p:spPr>
          <a:xfrm>
            <a:off x="2124000" y="342900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0"/>
          <p:cNvSpPr/>
          <p:nvPr/>
        </p:nvSpPr>
        <p:spPr>
          <a:xfrm>
            <a:off x="2124000" y="436392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1"/>
          <p:cNvSpPr/>
          <p:nvPr/>
        </p:nvSpPr>
        <p:spPr>
          <a:xfrm>
            <a:off x="2124000" y="5300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2"/>
          <p:cNvSpPr/>
          <p:nvPr/>
        </p:nvSpPr>
        <p:spPr>
          <a:xfrm>
            <a:off x="6948360" y="249228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6948360" y="342900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4"/>
          <p:cNvSpPr/>
          <p:nvPr/>
        </p:nvSpPr>
        <p:spPr>
          <a:xfrm>
            <a:off x="6948360" y="436392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"/>
          <p:cNvSpPr/>
          <p:nvPr/>
        </p:nvSpPr>
        <p:spPr>
          <a:xfrm>
            <a:off x="6948360" y="530064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547640" y="134136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5505480" y="134136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119700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дитель автомобиля, движущегося с некоторой постоянной скоростью, увидев красный свет светофора, нажал на тормоз. После этого скорость автомобиля стала уменьшаться каждую секунду на 5 метров. Требуется найти расстояние, которое автомобиль пройдёт до полной остан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484360" y="328464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68360" y="3716280"/>
            <a:ext cx="842472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начальная скор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онечная скорость (равна нулю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корение (равно -5 м/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уется найти: - расстояние, которое пройдёт автомобиль до полной остан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889360" cy="299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2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68360" y="198900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анной ситуации мы имеем дело с прямолинейным равноускоренным движением тела. Формула для перемещения при этом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7"/>
              <p:cNvSpPr txBox="1"/>
              <p:nvPr/>
            </p:nvSpPr>
            <p:spPr>
              <a:xfrm>
                <a:off x="1187280" y="3068640"/>
                <a:ext cx="46213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Text Box 18"/>
          <p:cNvSpPr/>
          <p:nvPr/>
        </p:nvSpPr>
        <p:spPr>
          <a:xfrm>
            <a:off x="539640" y="450864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остим эту формулу с учётом того, что конечная скорость равна нулю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0"/>
              <p:cNvSpPr txBox="1"/>
              <p:nvPr/>
            </p:nvSpPr>
            <p:spPr>
              <a:xfrm>
                <a:off x="932040" y="5372280"/>
                <a:ext cx="12301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 Box 21"/>
          <p:cNvSpPr/>
          <p:nvPr/>
        </p:nvSpPr>
        <p:spPr>
          <a:xfrm>
            <a:off x="2411280" y="458136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2627280" y="5587920"/>
            <a:ext cx="33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 - 5м/с получи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4"/>
              <p:cNvSpPr txBox="1"/>
              <p:nvPr/>
            </p:nvSpPr>
            <p:spPr>
              <a:xfrm>
                <a:off x="6012000" y="5300640"/>
                <a:ext cx="12952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5" name="Picture 17" descr="http://www.home-edu.ru/user/f/00001491/profil/Les_pr_04/Pict_pr_04/grafiki7.jpg"/>
          <p:cNvPicPr/>
          <p:nvPr/>
        </p:nvPicPr>
        <p:blipFill>
          <a:blip r:embed="rId2"/>
          <a:stretch/>
        </p:blipFill>
        <p:spPr>
          <a:xfrm>
            <a:off x="6156360" y="263700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ети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68360" y="1916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алгоритм решения задачи в виде блок-схе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1547640" y="2565360"/>
            <a:ext cx="1800360" cy="503280"/>
          </a:xfrm>
          <a:prstGeom prst="flowChartTerminator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332000" y="3429000"/>
            <a:ext cx="2303280" cy="433440"/>
          </a:xfrm>
          <a:prstGeom prst="flowChartInputOutput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1332000" y="5013360"/>
            <a:ext cx="2303280" cy="433440"/>
          </a:xfrm>
          <a:prstGeom prst="flowChartInputOutput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1547640" y="5805360"/>
            <a:ext cx="1800360" cy="503280"/>
          </a:xfrm>
          <a:prstGeom prst="flowChartTerminator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403280" y="4221000"/>
            <a:ext cx="2087640" cy="432000"/>
          </a:xfrm>
          <a:prstGeom prst="rect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1763640" y="4221000"/>
                <a:ext cx="15843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Line 15"/>
          <p:cNvSpPr/>
          <p:nvPr/>
        </p:nvSpPr>
        <p:spPr>
          <a:xfrm>
            <a:off x="2484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2484360" y="3860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2484360" y="5445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"/>
          <p:cNvPicPr/>
          <p:nvPr/>
        </p:nvPicPr>
        <p:blipFill>
          <a:blip r:embed="rId2"/>
          <a:stretch/>
        </p:blipFill>
        <p:spPr>
          <a:xfrm>
            <a:off x="4140360" y="3395520"/>
            <a:ext cx="4651200" cy="29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вёрт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9640" y="19162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шем данный алгоритм на языке программирования Паска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95280" y="2749680"/>
            <a:ext cx="87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 n_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 v0, 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'Вычисление длины пути торможения автомобиля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wri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'Введите начальную скорость (м/с)&gt;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readln (v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s:=v0*v0/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'До полной остановки автомобиль пройдет', s:8:4,' м.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ят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719280" y="18446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естировать составленную программу можно, используя ту информацию, что при скорости 72 км/ч с начала торможения до полной остановки автомобиль проходит 40 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68360" y="3284640"/>
            <a:ext cx="410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в программу несколько раз при различных исходных данных, можно сделать вывод: чем больше начальная скорость автомобиля, тем большее расстояние он пройдет с начала торможения до полной остан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219560" cy="218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4"/>
          <p:cNvSpPr/>
          <p:nvPr/>
        </p:nvSpPr>
        <p:spPr>
          <a:xfrm>
            <a:off x="250920" y="907920"/>
            <a:ext cx="8424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ы ре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чи с использованием компью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остановка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формал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алгоритм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рограмм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компьютерный экспери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шения задач на компьютере необходимо владеть языком программирования, обладать знаниями в области информационного моделирования и алгоритм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06:16:50Z</dcterms:modified>
  <cp:revision>89</cp:revision>
  <dc:subject/>
  <dc:title>Презентация PowerPoint</dc:title>
</cp:coreProperties>
</file>