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6.wmf" ContentType="image/x-wmf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4.png" ContentType="image/png"/>
  <Override PartName="/ppt/media/image15.jpeg" ContentType="image/jpeg"/>
  <Override PartName="/ppt/media/image25.png" ContentType="image/png"/>
  <Override PartName="/ppt/media/image11.jpeg" ContentType="image/jpeg"/>
  <Override PartName="/ppt/media/image24.png" ContentType="image/png"/>
  <Override PartName="/ppt/media/image29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18.png" ContentType="image/png"/>
  <Override PartName="/ppt/media/image23.png" ContentType="image/png"/>
  <Override PartName="/ppt/media/image57.png" ContentType="image/png"/>
  <Override PartName="/ppt/media/image20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6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275-16F6-4CF6-A692-8E77DB64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DDA-22BF-46EB-B86E-B4DF23C7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A76-F821-468A-AA56-90BA422A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2EA5-23F8-47DD-B40D-860C3FCC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820-02BC-400B-B2ED-5A9A504D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6B1-D55F-4B28-BC80-140C6C36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C94-86A4-4B66-A19D-CB718524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026-AFF0-4637-9BE1-AA94FF2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87A-6EDA-467C-8F42-80E1449D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FD3-0A26-4481-9F53-0B9D748D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A86-E181-4185-84AF-FB1762D1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0C8-7CE8-432C-90CE-E21B6665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068B-506D-4E87-9928-23B57B6AF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6.png"/><Relationship Id="rId20" Type="http://schemas.openxmlformats.org/officeDocument/2006/relationships/image" Target="../media/image48.png"/><Relationship Id="rId2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43080" y="2356920"/>
            <a:ext cx="68580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Текстовая информац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дзаголовок 2"/>
          <p:cNvSpPr/>
          <p:nvPr/>
        </p:nvSpPr>
        <p:spPr>
          <a:xfrm>
            <a:off x="1928880" y="4000680"/>
            <a:ext cx="700092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Текст как форма представления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Текстовые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Компьютер – основной инструмент подготовки тек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Ввод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Редактирование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Форматирование тек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a9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Этапы подготовки докум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Схема 4" descr=""/>
          <p:cNvPicPr/>
          <p:nvPr/>
        </p:nvPicPr>
        <p:blipFill>
          <a:blip r:embed="rId1"/>
          <a:stretch/>
        </p:blipFill>
        <p:spPr>
          <a:xfrm>
            <a:off x="579600" y="1378080"/>
            <a:ext cx="8381880" cy="409572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5" descr=""/>
          <p:cNvPicPr/>
          <p:nvPr/>
        </p:nvPicPr>
        <p:blipFill>
          <a:blip r:embed="rId2"/>
          <a:stretch/>
        </p:blipFill>
        <p:spPr>
          <a:xfrm>
            <a:off x="762120" y="125568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6" descr=""/>
          <p:cNvPicPr/>
          <p:nvPr/>
        </p:nvPicPr>
        <p:blipFill>
          <a:blip r:embed="rId3"/>
          <a:stretch/>
        </p:blipFill>
        <p:spPr>
          <a:xfrm>
            <a:off x="2901960" y="125568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7" descr=""/>
          <p:cNvPicPr/>
          <p:nvPr/>
        </p:nvPicPr>
        <p:blipFill>
          <a:blip r:embed="rId4"/>
          <a:stretch/>
        </p:blipFill>
        <p:spPr>
          <a:xfrm>
            <a:off x="5187960" y="1328760"/>
            <a:ext cx="1189080" cy="11034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8" descr=""/>
          <p:cNvPicPr/>
          <p:nvPr/>
        </p:nvPicPr>
        <p:blipFill>
          <a:blip r:embed="rId5"/>
          <a:stretch/>
        </p:blipFill>
        <p:spPr>
          <a:xfrm>
            <a:off x="7620120" y="1328760"/>
            <a:ext cx="1189080" cy="11034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9"/>
          <p:cNvSpPr/>
          <p:nvPr/>
        </p:nvSpPr>
        <p:spPr>
          <a:xfrm>
            <a:off x="1143000" y="5429160"/>
            <a:ext cx="7358040" cy="1191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Подготовка документа на компьютере состоит </a:t>
            </a:r>
            <a:br>
              <a:rPr sz="2400"/>
            </a:b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из нескольких этапов: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ввод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 (набор)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текста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редактирование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форматирование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 и </a:t>
            </a:r>
            <a:r>
              <a:rPr b="1" i="1" lang="en-US" sz="2400" spc="-1" strike="noStrike">
                <a:solidFill>
                  <a:srgbClr val="10253f"/>
                </a:solidFill>
                <a:latin typeface="Calibri"/>
              </a:rPr>
              <a:t>печать</a:t>
            </a: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Управляющая кнопка: домой 11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50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50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50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357200" y="1000080"/>
            <a:ext cx="73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При вводе текста придерживайтесь следующих </a:t>
            </a: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правил</a:t>
            </a:r>
            <a:r>
              <a:rPr b="0" lang="en-US" sz="2800" spc="-1" strike="noStrike">
                <a:solidFill>
                  <a:srgbClr val="10253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Ввод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Горизонтальный свиток 4"/>
          <p:cNvSpPr/>
          <p:nvPr/>
        </p:nvSpPr>
        <p:spPr>
          <a:xfrm>
            <a:off x="642960" y="1571760"/>
            <a:ext cx="8215200" cy="5072040"/>
          </a:xfrm>
          <a:prstGeom prst="horizontalScroll">
            <a:avLst>
              <a:gd name="adj" fmla="val 7925"/>
            </a:avLst>
          </a:prstGeom>
          <a:solidFill>
            <a:srgbClr val="4f81bd"/>
          </a:solidFill>
          <a:ln w="25560">
            <a:solidFill>
              <a:srgbClr val="1e477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ам, где это нужно, используйте прописные бук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се знаки препинания, кроме тире, ставьте сразу же за последней буквой слова; после любого знака препинания нажимайте клавишу Пробел. Тире выделяйте пробелами с двух стор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збегайте ввода подряд двух и более пробелов; не используйте пробел для выравнивания границ абза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 следите за концом строки: как только он будет достигнут, курсор автоматически перейдёт на начало следующей стро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ля перехода к вводу нового абзаца, нажмите клавишу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nter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213920" y="1142640"/>
            <a:ext cx="76438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10253f"/>
                </a:solidFill>
                <a:latin typeface="Calibri"/>
              </a:rPr>
              <a:t>Редактирование</a:t>
            </a: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 – это очередной этап подготовки документа, начинающийся вслед за вводом информации, в результате которого происходит проверка документа на его правильность и исправляются обнаруженные ошибки, а так же вносятся необходимые измен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Схема 5" descr=""/>
          <p:cNvPicPr/>
          <p:nvPr/>
        </p:nvPicPr>
        <p:blipFill>
          <a:blip r:embed="rId1"/>
          <a:stretch/>
        </p:blipFill>
        <p:spPr>
          <a:xfrm>
            <a:off x="573120" y="4498920"/>
            <a:ext cx="8345520" cy="1792440"/>
          </a:xfrm>
          <a:prstGeom prst="rect">
            <a:avLst/>
          </a:prstGeom>
          <a:ln w="0">
            <a:noFill/>
          </a:ln>
        </p:spPr>
      </p:pic>
      <p:sp>
        <p:nvSpPr>
          <p:cNvPr id="253" name="Скругленный прямоугольник 6"/>
          <p:cNvSpPr/>
          <p:nvPr/>
        </p:nvSpPr>
        <p:spPr>
          <a:xfrm>
            <a:off x="642960" y="3786120"/>
            <a:ext cx="821520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сновные операции редакт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7" descr="http://mechatronica-pro.com/upload/devblog/rtf/957_Pic_27scheme.png"/>
          <p:cNvPicPr/>
          <p:nvPr/>
        </p:nvPicPr>
        <p:blipFill>
          <a:blip r:embed="rId2"/>
          <a:stretch/>
        </p:blipFill>
        <p:spPr>
          <a:xfrm>
            <a:off x="2706840" y="4705200"/>
            <a:ext cx="493560" cy="489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http://mechatronica-pro.com/upload/devblog/rtf/957_Pic_27scheme.png"/>
          <p:cNvPicPr/>
          <p:nvPr/>
        </p:nvPicPr>
        <p:blipFill>
          <a:blip r:embed="rId3"/>
          <a:stretch/>
        </p:blipFill>
        <p:spPr>
          <a:xfrm>
            <a:off x="8137440" y="4705200"/>
            <a:ext cx="433440" cy="427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ttp://mechatronica-pro.com/upload/devblog/rtf/957_Pic_27scheme.png"/>
          <p:cNvPicPr/>
          <p:nvPr/>
        </p:nvPicPr>
        <p:blipFill>
          <a:blip r:embed="rId4"/>
          <a:stretch/>
        </p:blipFill>
        <p:spPr>
          <a:xfrm>
            <a:off x="5353200" y="4705200"/>
            <a:ext cx="493560" cy="489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142640" y="1143000"/>
            <a:ext cx="75438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При редактировании важно уметь перемещаться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по всему документу, подводя курсор к любому символу. Для этого предназначены специальные клавиши или комбинации клавиш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Группа 24"/>
          <p:cNvGrpSpPr/>
          <p:nvPr/>
        </p:nvGrpSpPr>
        <p:grpSpPr>
          <a:xfrm>
            <a:off x="1000080" y="3780000"/>
            <a:ext cx="7358040" cy="1935000"/>
            <a:chOff x="1000080" y="3780000"/>
            <a:chExt cx="7358040" cy="1935000"/>
          </a:xfrm>
        </p:grpSpPr>
        <p:pic>
          <p:nvPicPr>
            <p:cNvPr id="260" name="Скругленный 1" descr=""/>
            <p:cNvPicPr/>
            <p:nvPr/>
          </p:nvPicPr>
          <p:blipFill>
            <a:blip r:embed="rId1"/>
            <a:stretch/>
          </p:blipFill>
          <p:spPr>
            <a:xfrm>
              <a:off x="3482640" y="3780000"/>
              <a:ext cx="19922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Скругленный 2" descr=""/>
            <p:cNvPicPr/>
            <p:nvPr/>
          </p:nvPicPr>
          <p:blipFill>
            <a:blip r:embed="rId2"/>
            <a:stretch/>
          </p:blipFill>
          <p:spPr>
            <a:xfrm>
              <a:off x="3482640" y="4906080"/>
              <a:ext cx="2040480" cy="80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Скругленный 3" descr=""/>
            <p:cNvPicPr/>
            <p:nvPr/>
          </p:nvPicPr>
          <p:blipFill>
            <a:blip r:embed="rId3"/>
            <a:stretch/>
          </p:blipFill>
          <p:spPr>
            <a:xfrm>
              <a:off x="1000080" y="3780000"/>
              <a:ext cx="14954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Скругленный 4" descr=""/>
            <p:cNvPicPr/>
            <p:nvPr/>
          </p:nvPicPr>
          <p:blipFill>
            <a:blip r:embed="rId4"/>
            <a:stretch/>
          </p:blipFill>
          <p:spPr>
            <a:xfrm>
              <a:off x="1000080" y="4906080"/>
              <a:ext cx="1495440" cy="80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" name="Группа 5"/>
            <p:cNvGrpSpPr/>
            <p:nvPr/>
          </p:nvGrpSpPr>
          <p:grpSpPr>
            <a:xfrm>
              <a:off x="6278760" y="4029480"/>
              <a:ext cx="2079360" cy="1260360"/>
              <a:chOff x="6278760" y="4029480"/>
              <a:chExt cx="2079360" cy="1260360"/>
            </a:xfrm>
          </p:grpSpPr>
          <p:pic>
            <p:nvPicPr>
              <p:cNvPr id="265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278760" y="4646880"/>
                <a:ext cx="72648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6966360" y="4646880"/>
                <a:ext cx="69876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Прямоугольник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631640" y="4641840"/>
                <a:ext cx="726480" cy="64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Прямоугольник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6966360" y="4029480"/>
                <a:ext cx="698760" cy="6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9" name="TextBox 23"/>
          <p:cNvSpPr/>
          <p:nvPr/>
        </p:nvSpPr>
        <p:spPr>
          <a:xfrm>
            <a:off x="571680" y="2824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a9e"/>
                </a:solidFill>
                <a:latin typeface="Calibri"/>
              </a:rPr>
              <a:t>а) Вспомним назначение клавиш перемещения курсо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25"/>
          <p:cNvSpPr/>
          <p:nvPr/>
        </p:nvSpPr>
        <p:spPr>
          <a:xfrm>
            <a:off x="571680" y="28242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5a9e"/>
                </a:solidFill>
                <a:latin typeface="Calibri"/>
              </a:rPr>
              <a:t>б) Запомним назначение комбинаций клавиш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Группа 57"/>
          <p:cNvGrpSpPr/>
          <p:nvPr/>
        </p:nvGrpSpPr>
        <p:grpSpPr>
          <a:xfrm>
            <a:off x="785880" y="3286080"/>
            <a:ext cx="4286160" cy="559080"/>
            <a:chOff x="785880" y="3286080"/>
            <a:chExt cx="4286160" cy="559080"/>
          </a:xfrm>
        </p:grpSpPr>
        <p:pic>
          <p:nvPicPr>
            <p:cNvPr id="272" name="Скругленный 6" descr=""/>
            <p:cNvPicPr/>
            <p:nvPr/>
          </p:nvPicPr>
          <p:blipFill>
            <a:blip r:embed="rId9"/>
            <a:stretch/>
          </p:blipFill>
          <p:spPr>
            <a:xfrm>
              <a:off x="785880" y="3286080"/>
              <a:ext cx="113328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Прямоугольник 32" descr=""/>
            <p:cNvPicPr/>
            <p:nvPr/>
          </p:nvPicPr>
          <p:blipFill>
            <a:blip r:embed="rId10"/>
            <a:stretch/>
          </p:blipFill>
          <p:spPr>
            <a:xfrm>
              <a:off x="2075760" y="3286080"/>
              <a:ext cx="7833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46"/>
            <p:cNvSpPr/>
            <p:nvPr/>
          </p:nvSpPr>
          <p:spPr>
            <a:xfrm>
              <a:off x="1822320" y="332460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51"/>
            <p:cNvSpPr/>
            <p:nvPr/>
          </p:nvSpPr>
          <p:spPr>
            <a:xfrm>
              <a:off x="2740680" y="3324600"/>
              <a:ext cx="233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лово вправо;</a:t>
              </a:r>
              <a:r>
                <a:rPr b="1" lang="en-US" sz="28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Группа 58"/>
          <p:cNvGrpSpPr/>
          <p:nvPr/>
        </p:nvGrpSpPr>
        <p:grpSpPr>
          <a:xfrm>
            <a:off x="5072040" y="3357720"/>
            <a:ext cx="4214880" cy="562320"/>
            <a:chOff x="5072040" y="3357720"/>
            <a:chExt cx="4214880" cy="562320"/>
          </a:xfrm>
        </p:grpSpPr>
        <p:pic>
          <p:nvPicPr>
            <p:cNvPr id="277" name="Скругленный 6" descr=""/>
            <p:cNvPicPr/>
            <p:nvPr/>
          </p:nvPicPr>
          <p:blipFill>
            <a:blip r:embed="rId11"/>
            <a:stretch/>
          </p:blipFill>
          <p:spPr>
            <a:xfrm>
              <a:off x="5072040" y="3362400"/>
              <a:ext cx="113292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Прямоугольник 36" descr=""/>
            <p:cNvPicPr/>
            <p:nvPr/>
          </p:nvPicPr>
          <p:blipFill>
            <a:blip r:embed="rId12"/>
            <a:stretch/>
          </p:blipFill>
          <p:spPr>
            <a:xfrm>
              <a:off x="6361560" y="3357720"/>
              <a:ext cx="7833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Box 45"/>
            <p:cNvSpPr/>
            <p:nvPr/>
          </p:nvSpPr>
          <p:spPr>
            <a:xfrm>
              <a:off x="6108840" y="3399480"/>
              <a:ext cx="42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TextBox 52"/>
            <p:cNvSpPr/>
            <p:nvPr/>
          </p:nvSpPr>
          <p:spPr>
            <a:xfrm>
              <a:off x="6956640" y="3399480"/>
              <a:ext cx="233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лово влево;</a:t>
              </a:r>
              <a:r>
                <a:rPr b="1" lang="en-US" sz="2800" spc="-1" strike="noStrike">
                  <a:solidFill>
                    <a:srgbClr val="17375e"/>
                  </a:solidFill>
                  <a:latin typeface="Calibr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Группа 59"/>
          <p:cNvGrpSpPr/>
          <p:nvPr/>
        </p:nvGrpSpPr>
        <p:grpSpPr>
          <a:xfrm>
            <a:off x="785880" y="4000680"/>
            <a:ext cx="6215040" cy="559800"/>
            <a:chOff x="785880" y="4000680"/>
            <a:chExt cx="6215040" cy="559800"/>
          </a:xfrm>
        </p:grpSpPr>
        <p:pic>
          <p:nvPicPr>
            <p:cNvPr id="282" name="Скругленный 6" descr=""/>
            <p:cNvPicPr/>
            <p:nvPr/>
          </p:nvPicPr>
          <p:blipFill>
            <a:blip r:embed="rId13"/>
            <a:stretch/>
          </p:blipFill>
          <p:spPr>
            <a:xfrm>
              <a:off x="785880" y="4000680"/>
              <a:ext cx="11372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Скругленный 1" descr=""/>
            <p:cNvPicPr/>
            <p:nvPr/>
          </p:nvPicPr>
          <p:blipFill>
            <a:blip r:embed="rId14"/>
            <a:stretch/>
          </p:blipFill>
          <p:spPr>
            <a:xfrm>
              <a:off x="2134800" y="4000680"/>
              <a:ext cx="19839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Box 47"/>
            <p:cNvSpPr/>
            <p:nvPr/>
          </p:nvSpPr>
          <p:spPr>
            <a:xfrm>
              <a:off x="1825920" y="4039920"/>
              <a:ext cx="42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53"/>
            <p:cNvSpPr/>
            <p:nvPr/>
          </p:nvSpPr>
          <p:spPr>
            <a:xfrm>
              <a:off x="4023720" y="4039920"/>
              <a:ext cx="29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траницу вверх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Группа 60"/>
          <p:cNvGrpSpPr/>
          <p:nvPr/>
        </p:nvGrpSpPr>
        <p:grpSpPr>
          <a:xfrm>
            <a:off x="785880" y="4714920"/>
            <a:ext cx="6215040" cy="560880"/>
            <a:chOff x="785880" y="4714920"/>
            <a:chExt cx="6215040" cy="560880"/>
          </a:xfrm>
        </p:grpSpPr>
        <p:pic>
          <p:nvPicPr>
            <p:cNvPr id="287" name="Скругленный 6" descr=""/>
            <p:cNvPicPr/>
            <p:nvPr/>
          </p:nvPicPr>
          <p:blipFill>
            <a:blip r:embed="rId15"/>
            <a:stretch/>
          </p:blipFill>
          <p:spPr>
            <a:xfrm>
              <a:off x="785880" y="4714920"/>
              <a:ext cx="113724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Скругленный 2" descr=""/>
            <p:cNvPicPr/>
            <p:nvPr/>
          </p:nvPicPr>
          <p:blipFill>
            <a:blip r:embed="rId16"/>
            <a:stretch/>
          </p:blipFill>
          <p:spPr>
            <a:xfrm>
              <a:off x="2134800" y="4714920"/>
              <a:ext cx="20325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Box 48"/>
            <p:cNvSpPr/>
            <p:nvPr/>
          </p:nvSpPr>
          <p:spPr>
            <a:xfrm>
              <a:off x="1825920" y="4755240"/>
              <a:ext cx="42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TextBox 54"/>
            <p:cNvSpPr/>
            <p:nvPr/>
          </p:nvSpPr>
          <p:spPr>
            <a:xfrm>
              <a:off x="4023720" y="4811040"/>
              <a:ext cx="29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на страницу вниз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Группа 61"/>
          <p:cNvGrpSpPr/>
          <p:nvPr/>
        </p:nvGrpSpPr>
        <p:grpSpPr>
          <a:xfrm>
            <a:off x="785880" y="5429160"/>
            <a:ext cx="5715000" cy="557280"/>
            <a:chOff x="785880" y="5429160"/>
            <a:chExt cx="5715000" cy="557280"/>
          </a:xfrm>
        </p:grpSpPr>
        <p:pic>
          <p:nvPicPr>
            <p:cNvPr id="292" name="Скругленный 6" descr=""/>
            <p:cNvPicPr/>
            <p:nvPr/>
          </p:nvPicPr>
          <p:blipFill>
            <a:blip r:embed="rId17"/>
            <a:stretch/>
          </p:blipFill>
          <p:spPr>
            <a:xfrm>
              <a:off x="785880" y="5429160"/>
              <a:ext cx="11365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Скругленный 3" descr=""/>
            <p:cNvPicPr/>
            <p:nvPr/>
          </p:nvPicPr>
          <p:blipFill>
            <a:blip r:embed="rId18"/>
            <a:stretch/>
          </p:blipFill>
          <p:spPr>
            <a:xfrm>
              <a:off x="2133720" y="5429160"/>
              <a:ext cx="148716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Box 49"/>
            <p:cNvSpPr/>
            <p:nvPr/>
          </p:nvSpPr>
          <p:spPr>
            <a:xfrm>
              <a:off x="1825200" y="5465880"/>
              <a:ext cx="42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Box 55"/>
            <p:cNvSpPr/>
            <p:nvPr/>
          </p:nvSpPr>
          <p:spPr>
            <a:xfrm>
              <a:off x="3525480" y="5522400"/>
              <a:ext cx="297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в начало текста;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Группа 62"/>
          <p:cNvGrpSpPr/>
          <p:nvPr/>
        </p:nvGrpSpPr>
        <p:grpSpPr>
          <a:xfrm>
            <a:off x="785880" y="6143760"/>
            <a:ext cx="5715000" cy="558000"/>
            <a:chOff x="785880" y="6143760"/>
            <a:chExt cx="5715000" cy="558000"/>
          </a:xfrm>
        </p:grpSpPr>
        <p:pic>
          <p:nvPicPr>
            <p:cNvPr id="297" name="Скругленный 6" descr=""/>
            <p:cNvPicPr/>
            <p:nvPr/>
          </p:nvPicPr>
          <p:blipFill>
            <a:blip r:embed="rId19"/>
            <a:stretch/>
          </p:blipFill>
          <p:spPr>
            <a:xfrm>
              <a:off x="785880" y="6143760"/>
              <a:ext cx="11365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Скругленный 4" descr=""/>
            <p:cNvPicPr/>
            <p:nvPr/>
          </p:nvPicPr>
          <p:blipFill>
            <a:blip r:embed="rId20"/>
            <a:stretch/>
          </p:blipFill>
          <p:spPr>
            <a:xfrm>
              <a:off x="2133720" y="6143760"/>
              <a:ext cx="14871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Box 50"/>
            <p:cNvSpPr/>
            <p:nvPr/>
          </p:nvSpPr>
          <p:spPr>
            <a:xfrm>
              <a:off x="1825200" y="6181200"/>
              <a:ext cx="42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a9e"/>
                  </a:solidFill>
                  <a:latin typeface="Calibri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Box 56"/>
            <p:cNvSpPr/>
            <p:nvPr/>
          </p:nvSpPr>
          <p:spPr>
            <a:xfrm>
              <a:off x="3525480" y="6237720"/>
              <a:ext cx="297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17375e"/>
                  </a:solidFill>
                  <a:latin typeface="Calibri"/>
                </a:rPr>
                <a:t>- в конец текста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Управляющая кнопка: домой 4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Форматирование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071720" y="1142640"/>
            <a:ext cx="78580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10253f"/>
                </a:solidFill>
                <a:latin typeface="Calibri"/>
              </a:rPr>
              <a:t>Форматирование</a:t>
            </a: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 – это один из этапов подготовки документа, в ходе которого совершаются различные операции по оформлению докумен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Скругленный прямоугольник 5"/>
          <p:cNvSpPr/>
          <p:nvPr/>
        </p:nvSpPr>
        <p:spPr>
          <a:xfrm>
            <a:off x="642960" y="2571840"/>
            <a:ext cx="8215200" cy="5713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перации формат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Схема 6" descr=""/>
          <p:cNvPicPr/>
          <p:nvPr/>
        </p:nvPicPr>
        <p:blipFill>
          <a:blip r:embed="rId1"/>
          <a:stretch/>
        </p:blipFill>
        <p:spPr>
          <a:xfrm>
            <a:off x="706320" y="3200400"/>
            <a:ext cx="815652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Выравнивание абзац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0040" y="1928880"/>
            <a:ext cx="2858040" cy="28476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анный текст выровнен влево (по левому краю). При этом левая граница абзаца образует прямую ли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Содержимое 2"/>
          <p:cNvSpPr/>
          <p:nvPr/>
        </p:nvSpPr>
        <p:spPr>
          <a:xfrm>
            <a:off x="3500280" y="1928880"/>
            <a:ext cx="2571840" cy="4214880"/>
          </a:xfrm>
          <a:prstGeom prst="flowChartDocumen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анный текст выровнен по центру. При этом с обеих сторон каждой строки ширина свободного пространства одинак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Содержимое 2"/>
          <p:cNvSpPr/>
          <p:nvPr/>
        </p:nvSpPr>
        <p:spPr>
          <a:xfrm>
            <a:off x="6215040" y="1928880"/>
            <a:ext cx="2857680" cy="3543120"/>
          </a:xfrm>
          <a:prstGeom prst="flowChartDocumen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Данный текст выровнен вправо (по правому краю). При этом правая граница абзаца образует прямую ли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7" descr="http://www.bestreferat.ru/images/paper/12/28/5792812.png"/>
          <p:cNvPicPr/>
          <p:nvPr/>
        </p:nvPicPr>
        <p:blipFill>
          <a:blip r:embed="rId1"/>
          <a:stretch/>
        </p:blipFill>
        <p:spPr>
          <a:xfrm>
            <a:off x="2395440" y="561492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http://www.bestreferat.ru/images/paper/12/28/5792812.png"/>
          <p:cNvPicPr/>
          <p:nvPr/>
        </p:nvPicPr>
        <p:blipFill>
          <a:blip r:embed="rId2"/>
          <a:stretch/>
        </p:blipFill>
        <p:spPr>
          <a:xfrm>
            <a:off x="5327640" y="5614920"/>
            <a:ext cx="787320" cy="828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estreferat.ru/images/paper/12/28/5792812.png"/>
          <p:cNvPicPr/>
          <p:nvPr/>
        </p:nvPicPr>
        <p:blipFill>
          <a:blip r:embed="rId3"/>
          <a:stretch/>
        </p:blipFill>
        <p:spPr>
          <a:xfrm>
            <a:off x="8186760" y="5614920"/>
            <a:ext cx="785880" cy="82872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ая соединительная линия 9"/>
          <p:cNvSpPr/>
          <p:nvPr/>
        </p:nvSpPr>
        <p:spPr>
          <a:xfrm flipH="1">
            <a:off x="498600" y="1714680"/>
            <a:ext cx="1440" cy="385740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 flipH="1">
            <a:off x="4784760" y="1785960"/>
            <a:ext cx="1440" cy="385776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Прямая соединительная линия 11"/>
          <p:cNvSpPr/>
          <p:nvPr/>
        </p:nvSpPr>
        <p:spPr>
          <a:xfrm flipH="1">
            <a:off x="9040320" y="1701720"/>
            <a:ext cx="1800" cy="3857760"/>
          </a:xfrm>
          <a:prstGeom prst="line">
            <a:avLst/>
          </a:prstGeom>
          <a:ln w="28440">
            <a:solidFill>
              <a:srgbClr val="10253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50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50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071720" y="1214280"/>
            <a:ext cx="7929360" cy="3043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0253f"/>
                </a:solidFill>
                <a:latin typeface="Calibri"/>
              </a:rPr>
              <a:t>Нормальный шрифт ничем не выделяется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Полужирный шрифт темнее, он хорошо замет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10253f"/>
                </a:solidFill>
                <a:latin typeface="Calibri"/>
              </a:rPr>
              <a:t>Курсивный шрифт имеет накл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10253f"/>
                </a:solidFill>
                <a:uFillTx/>
                <a:latin typeface="Calibri"/>
              </a:rPr>
              <a:t>А так выглядит подчёркнутый шриф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Начертание шриф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1071720" y="45720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ля изменения начертания шрифта имеются инструмен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Скругленный прямоугольник 7"/>
          <p:cNvSpPr/>
          <p:nvPr/>
        </p:nvSpPr>
        <p:spPr>
          <a:xfrm>
            <a:off x="3500280" y="5572080"/>
            <a:ext cx="7146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Скругленный прямоугольник 8"/>
          <p:cNvSpPr/>
          <p:nvPr/>
        </p:nvSpPr>
        <p:spPr>
          <a:xfrm>
            <a:off x="4572000" y="5572080"/>
            <a:ext cx="714240" cy="71460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14600"/>
              <a:gd name="textAreaBottom" fmla="*/ 680040 h 714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Скругленный прямоугольник 9"/>
          <p:cNvSpPr/>
          <p:nvPr/>
        </p:nvSpPr>
        <p:spPr>
          <a:xfrm>
            <a:off x="5643720" y="5572080"/>
            <a:ext cx="714240" cy="714600"/>
          </a:xfrm>
          <a:custGeom>
            <a:avLst/>
            <a:gdLst>
              <a:gd name="textAreaLeft" fmla="*/ 34560 w 714240"/>
              <a:gd name="textAreaRight" fmla="*/ 679680 w 714240"/>
              <a:gd name="textAreaTop" fmla="*/ 34560 h 714600"/>
              <a:gd name="textAreaBottom" fmla="*/ 680040 h 71460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142640" y="5029200"/>
            <a:ext cx="7729560" cy="14716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Для вывода документа на бумагу </a:t>
            </a:r>
            <a:br>
              <a:rPr sz="3000"/>
            </a:br>
            <a:r>
              <a:rPr b="0" lang="en-US" sz="3000" spc="-1" strike="noStrike">
                <a:solidFill>
                  <a:srgbClr val="10253f"/>
                </a:solidFill>
                <a:latin typeface="Calibri"/>
              </a:rPr>
              <a:t>к компьютеру подключается печатающее устройство – </a:t>
            </a:r>
            <a:r>
              <a:rPr b="1" i="1" lang="en-US" sz="3000" spc="-1" strike="noStrike">
                <a:solidFill>
                  <a:srgbClr val="10253f"/>
                </a:solidFill>
                <a:latin typeface="Calibri"/>
              </a:rPr>
              <a:t>принте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Печать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хема 8" descr=""/>
          <p:cNvPicPr/>
          <p:nvPr/>
        </p:nvPicPr>
        <p:blipFill>
          <a:blip r:embed="rId1"/>
          <a:stretch/>
        </p:blipFill>
        <p:spPr>
          <a:xfrm>
            <a:off x="981000" y="1133640"/>
            <a:ext cx="7321680" cy="3450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http://www.allshops.ro/files/clients/75/479/p/54/konica-minolta---promotie-imprimanta-pagepro-1350w--cadou-628981.jpeg"/>
          <p:cNvPicPr/>
          <p:nvPr/>
        </p:nvPicPr>
        <p:blipFill>
          <a:blip r:embed="rId2"/>
          <a:stretch/>
        </p:blipFill>
        <p:spPr>
          <a:xfrm>
            <a:off x="6854760" y="1285920"/>
            <a:ext cx="190836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42960" y="1052280"/>
            <a:ext cx="80438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Текст — это любое словесное высказывание, напечатанное, написанное или существующее в устной форм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Информация, представленная в форме письменного текста, называется текстовой информаци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Для обработки текстовой информации предназначены специальные программы — текстовые редактор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Любой текст, созданный с помощью текстового редактора, вместе с включёнными в него нетекстовыми материалами называют документ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Подготовка документа на компьютере состоит из таких этапов,  как ввод (набор), редактирование и форматиров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Содержимое 2"/>
          <p:cNvSpPr/>
          <p:nvPr/>
        </p:nvSpPr>
        <p:spPr>
          <a:xfrm>
            <a:off x="1143000" y="1000080"/>
            <a:ext cx="77295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  <a:ea typeface="Arial"/>
              </a:rPr>
              <a:t>1. Превратите одно слово в другое, всякий раз заменяя по одной букве так, чтобы новое слово было существительным в именительном падеже, используя подсказ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523960" y="2714760"/>
          <a:ext cx="1833840" cy="2315880"/>
        </p:xfrm>
        <a:graphic>
          <a:graphicData uri="http://schemas.openxmlformats.org/drawingml/2006/table">
            <a:tbl>
              <a:tblPr/>
              <a:tblGrid>
                <a:gridCol w="1833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АР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ОЗ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Прямоугольник 8"/>
          <p:cNvSpPr/>
          <p:nvPr/>
        </p:nvSpPr>
        <p:spPr>
          <a:xfrm>
            <a:off x="945000" y="271476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9"/>
          <p:cNvSpPr/>
          <p:nvPr/>
        </p:nvSpPr>
        <p:spPr>
          <a:xfrm>
            <a:off x="1016280" y="342900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1. Наказ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10"/>
          <p:cNvSpPr/>
          <p:nvPr/>
        </p:nvSpPr>
        <p:spPr>
          <a:xfrm>
            <a:off x="1031400" y="39877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2. Древес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11"/>
          <p:cNvSpPr/>
          <p:nvPr/>
        </p:nvSpPr>
        <p:spPr>
          <a:xfrm>
            <a:off x="5301360" y="27147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12"/>
          <p:cNvSpPr/>
          <p:nvPr/>
        </p:nvSpPr>
        <p:spPr>
          <a:xfrm>
            <a:off x="5344560" y="3429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1. Оц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13"/>
          <p:cNvSpPr/>
          <p:nvPr/>
        </p:nvSpPr>
        <p:spPr>
          <a:xfrm>
            <a:off x="5286240" y="4071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alibri"/>
              </a:rPr>
              <a:t>2. Домашнее живот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929280" y="2714760"/>
          <a:ext cx="1833840" cy="2315880"/>
        </p:xfrm>
        <a:graphic>
          <a:graphicData uri="http://schemas.openxmlformats.org/drawingml/2006/table">
            <a:tbl>
              <a:tblPr/>
              <a:tblGrid>
                <a:gridCol w="1833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ВО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К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0" name="Picture 38" descr="http://www.orel-region.ru/kadastr/images/14.jpg"/>
          <p:cNvPicPr/>
          <p:nvPr/>
        </p:nvPicPr>
        <p:blipFill>
          <a:blip r:embed="rId1"/>
          <a:stretch/>
        </p:blipFill>
        <p:spPr>
          <a:xfrm>
            <a:off x="1285920" y="4929120"/>
            <a:ext cx="2217600" cy="1317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6" descr="http://www.lenagold.ru/fon/clipart/k/koza/kozel01.png"/>
          <p:cNvPicPr/>
          <p:nvPr/>
        </p:nvPicPr>
        <p:blipFill>
          <a:blip r:embed="rId2"/>
          <a:stretch/>
        </p:blipFill>
        <p:spPr>
          <a:xfrm>
            <a:off x="3429000" y="4695840"/>
            <a:ext cx="1481040" cy="1805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8" descr="http://www.patriotfiles.com/archive/319thbombgroup/images/Bull1.jpg"/>
          <p:cNvPicPr/>
          <p:nvPr/>
        </p:nvPicPr>
        <p:blipFill>
          <a:blip r:embed="rId3"/>
          <a:stretch/>
        </p:blipFill>
        <p:spPr>
          <a:xfrm>
            <a:off x="5357880" y="4572000"/>
            <a:ext cx="1785960" cy="1806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2" descr="http://cdn.dailyclipart.net/wp-content/uploads/small/clipart0053.jpg"/>
          <p:cNvPicPr/>
          <p:nvPr/>
        </p:nvPicPr>
        <p:blipFill>
          <a:blip r:embed="rId4"/>
          <a:stretch/>
        </p:blipFill>
        <p:spPr>
          <a:xfrm>
            <a:off x="6572160" y="5000760"/>
            <a:ext cx="2381400" cy="14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овый доку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Текстовый ред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авила ввода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едакт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Формат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Содержимое 2"/>
          <p:cNvSpPr/>
          <p:nvPr/>
        </p:nvSpPr>
        <p:spPr>
          <a:xfrm>
            <a:off x="1214280" y="1000080"/>
            <a:ext cx="7658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  <a:ea typeface="Arial"/>
              </a:rPr>
              <a:t>2. Укажите алгоритмы устранения следующих оши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Скругленный прямоугольник 6"/>
          <p:cNvSpPr/>
          <p:nvPr/>
        </p:nvSpPr>
        <p:spPr>
          <a:xfrm>
            <a:off x="1000080" y="2000160"/>
            <a:ext cx="214308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ишний симв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Скругленный прямоугольник 7"/>
          <p:cNvSpPr/>
          <p:nvPr/>
        </p:nvSpPr>
        <p:spPr>
          <a:xfrm>
            <a:off x="1000080" y="3500280"/>
            <a:ext cx="2143080" cy="1000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ропущенный симв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Скругленный прямоугольник 8"/>
          <p:cNvSpPr/>
          <p:nvPr/>
        </p:nvSpPr>
        <p:spPr>
          <a:xfrm>
            <a:off x="1000080" y="5072040"/>
            <a:ext cx="214308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Неверный симв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Скругленный прямоугольник 9"/>
          <p:cNvSpPr/>
          <p:nvPr/>
        </p:nvSpPr>
        <p:spPr>
          <a:xfrm>
            <a:off x="4143240" y="1928880"/>
            <a:ext cx="4357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Установить курсор на место  вставки симво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Нажать клавишу с нужны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кругленный прямоугольник 10"/>
          <p:cNvSpPr/>
          <p:nvPr/>
        </p:nvSpPr>
        <p:spPr>
          <a:xfrm>
            <a:off x="4143240" y="3357720"/>
            <a:ext cx="4357800" cy="15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становить курсор за ошибочны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Нажать клавишу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BackSpace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Нажать клавишу с верны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Скругленный прямоугольник 11"/>
          <p:cNvSpPr/>
          <p:nvPr/>
        </p:nvSpPr>
        <p:spPr>
          <a:xfrm>
            <a:off x="4143240" y="5072040"/>
            <a:ext cx="43578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становить курсор перед лишним симво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Нажать клавишу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Delete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Прямоугольник 7"/>
          <p:cNvSpPr/>
          <p:nvPr/>
        </p:nvSpPr>
        <p:spPr>
          <a:xfrm>
            <a:off x="1285920" y="107172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12"/>
          <p:cNvSpPr/>
          <p:nvPr/>
        </p:nvSpPr>
        <p:spPr>
          <a:xfrm>
            <a:off x="1000080" y="250020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1. Презентация </a:t>
            </a:r>
            <a:br>
              <a:rPr sz="2000"/>
            </a:b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«Текст. История </a:t>
            </a:r>
            <a:br>
              <a:rPr sz="2000"/>
            </a:b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и современность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6"/>
          <p:cNvSpPr/>
          <p:nvPr/>
        </p:nvSpPr>
        <p:spPr>
          <a:xfrm>
            <a:off x="1000080" y="4842000"/>
            <a:ext cx="45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2. Видеолекции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риёмы работы с текстом» (</a:t>
            </a: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sc.edu.ru)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5572080" y="4357800"/>
            <a:ext cx="2879640" cy="21603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58" name="Picture 7" descr=""/>
          <p:cNvPicPr/>
          <p:nvPr/>
        </p:nvPicPr>
        <p:blipFill>
          <a:blip r:embed="rId2"/>
          <a:stretch/>
        </p:blipFill>
        <p:spPr>
          <a:xfrm>
            <a:off x="5572080" y="2000160"/>
            <a:ext cx="2857680" cy="21607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59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Текст как форма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представле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3000" y="3928680"/>
            <a:ext cx="7586640" cy="142884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Информация, представленная в форме письменного текста, называется </a:t>
            </a:r>
            <a:r>
              <a:rPr b="1" i="1" lang="en-US" sz="2600" spc="-1" strike="noStrike">
                <a:solidFill>
                  <a:srgbClr val="002060"/>
                </a:solidFill>
                <a:latin typeface="Calibri"/>
              </a:rPr>
              <a:t>текстовой информаци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одержимое 5"/>
          <p:cNvSpPr/>
          <p:nvPr/>
        </p:nvSpPr>
        <p:spPr>
          <a:xfrm>
            <a:off x="1643040" y="1671480"/>
            <a:ext cx="7215120" cy="19004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Текст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это любое словесное высказывание напечатанное, написанное или существующее в устной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63360" y="-136440"/>
            <a:ext cx="518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11" descr="http://afrus.ru/samara/sites/afrus.ru.samara/files/fichiers/images/2010/otzyvy.jpg"/>
          <p:cNvPicPr/>
          <p:nvPr/>
        </p:nvPicPr>
        <p:blipFill>
          <a:blip r:embed="rId1"/>
          <a:stretch/>
        </p:blipFill>
        <p:spPr>
          <a:xfrm>
            <a:off x="5857920" y="45720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Овал 7"/>
          <p:cNvSpPr/>
          <p:nvPr/>
        </p:nvSpPr>
        <p:spPr>
          <a:xfrm>
            <a:off x="500040" y="20718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13920" y="1356840"/>
            <a:ext cx="7472520" cy="1685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пуск, замена или перестановка хотя бы одного символа в тексте подчас изменяет его смыс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Удивительный фа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Прямоугольник 4" descr=""/>
          <p:cNvPicPr/>
          <p:nvPr/>
        </p:nvPicPr>
        <p:blipFill>
          <a:blip r:embed="rId1"/>
          <a:stretch/>
        </p:blipFill>
        <p:spPr>
          <a:xfrm>
            <a:off x="1158840" y="3402000"/>
            <a:ext cx="7454880" cy="1249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Documents and Settings\Елена\Local Settings\Temporary Internet Files\Content.IE5\TV3VPPCE\MC900434411[1].wmf"/>
          <p:cNvPicPr/>
          <p:nvPr/>
        </p:nvPicPr>
        <p:blipFill>
          <a:blip r:embed="rId2"/>
          <a:stretch/>
        </p:blipFill>
        <p:spPr>
          <a:xfrm>
            <a:off x="3660840" y="460044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6" descr=""/>
          <p:cNvPicPr/>
          <p:nvPr/>
        </p:nvPicPr>
        <p:blipFill>
          <a:blip r:embed="rId3"/>
          <a:stretch/>
        </p:blipFill>
        <p:spPr>
          <a:xfrm>
            <a:off x="1170000" y="3382920"/>
            <a:ext cx="7242120" cy="1268280"/>
          </a:xfrm>
          <a:prstGeom prst="rect">
            <a:avLst/>
          </a:prstGeom>
          <a:ln w="0">
            <a:noFill/>
          </a:ln>
        </p:spPr>
      </p:pic>
      <p:grpSp>
        <p:nvGrpSpPr>
          <p:cNvPr id="174" name="Группа 8"/>
          <p:cNvGrpSpPr/>
          <p:nvPr/>
        </p:nvGrpSpPr>
        <p:grpSpPr>
          <a:xfrm>
            <a:off x="3071880" y="3692520"/>
            <a:ext cx="3071880" cy="2451240"/>
            <a:chOff x="3071880" y="3692520"/>
            <a:chExt cx="3071880" cy="2451240"/>
          </a:xfrm>
        </p:grpSpPr>
        <p:sp>
          <p:nvSpPr>
            <p:cNvPr id="175" name="Овал 7"/>
            <p:cNvSpPr/>
            <p:nvPr/>
          </p:nvSpPr>
          <p:spPr>
            <a:xfrm>
              <a:off x="4000680" y="4786200"/>
              <a:ext cx="1143000" cy="1000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6" name="Picture 5" descr="http://rudocs.exdat.com/pars_docs/tw_refs/527/526099/526099_html_1c2d40d4.jpg"/>
            <p:cNvPicPr/>
            <p:nvPr/>
          </p:nvPicPr>
          <p:blipFill>
            <a:blip r:embed="rId4"/>
            <a:stretch/>
          </p:blipFill>
          <p:spPr>
            <a:xfrm>
              <a:off x="3071880" y="3692520"/>
              <a:ext cx="3071880" cy="245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71720" y="5429160"/>
            <a:ext cx="7657920" cy="11145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На протяжении тысячелетий </a:t>
            </a:r>
            <a:br>
              <a:rPr sz="3200"/>
            </a:b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люди записывали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Носители текстовой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9" descr="http://mysavior.info/media/image_files/articles/archaeology-nt/stone-inscription.png"/>
          <p:cNvPicPr/>
          <p:nvPr/>
        </p:nvPicPr>
        <p:blipFill>
          <a:blip r:embed="rId1"/>
          <a:stretch/>
        </p:blipFill>
        <p:spPr>
          <a:xfrm>
            <a:off x="571680" y="3000240"/>
            <a:ext cx="1500120" cy="216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http://www.sati.archaeology.nsc.ru/sibirica/img/news/01008600"/>
          <p:cNvPicPr/>
          <p:nvPr/>
        </p:nvPicPr>
        <p:blipFill>
          <a:blip r:embed="rId2"/>
          <a:stretch/>
        </p:blipFill>
        <p:spPr>
          <a:xfrm>
            <a:off x="523800" y="1214280"/>
            <a:ext cx="2476440" cy="18576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7358040" y="1357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Кам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7358040" y="17859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Г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7358040" y="21765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7358040" y="30002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Папир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7358040" y="34290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Перг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5"/>
          <p:cNvSpPr/>
          <p:nvPr/>
        </p:nvSpPr>
        <p:spPr>
          <a:xfrm>
            <a:off x="7358040" y="385776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a9e"/>
                </a:solidFill>
                <a:latin typeface="Calibri"/>
              </a:rPr>
              <a:t>Бума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D:\Личные_документы\Елена\Школа_информатика\Школа_3\материал по темам\носители информации\картинки\папирус3.jpg"/>
          <p:cNvPicPr/>
          <p:nvPr/>
        </p:nvPicPr>
        <p:blipFill>
          <a:blip r:embed="rId3"/>
          <a:stretch/>
        </p:blipFill>
        <p:spPr>
          <a:xfrm>
            <a:off x="2662200" y="1566720"/>
            <a:ext cx="2481480" cy="1881360"/>
          </a:xfrm>
          <a:prstGeom prst="rect">
            <a:avLst/>
          </a:prstGeom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8" name="Picture 2" descr="D:\Личные_документы\Елена\Школа_информатика\Школа_3\материал по темам\носители информации\картинки\китайская бумага.jpg"/>
          <p:cNvPicPr/>
          <p:nvPr/>
        </p:nvPicPr>
        <p:blipFill>
          <a:blip r:embed="rId4"/>
          <a:stretch/>
        </p:blipFill>
        <p:spPr>
          <a:xfrm>
            <a:off x="5000760" y="3618000"/>
            <a:ext cx="2239920" cy="16286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24" descr=""/>
          <p:cNvPicPr/>
          <p:nvPr/>
        </p:nvPicPr>
        <p:blipFill>
          <a:blip r:embed="rId5"/>
          <a:stretch/>
        </p:blipFill>
        <p:spPr>
          <a:xfrm>
            <a:off x="6943680" y="3676680"/>
            <a:ext cx="2316240" cy="203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D:\Личные_документы\Елена\Школа_информатика\Школа_3\материал по темам\носители информации\картинки\пергамент 919 год.jpg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4962600" y="1301760"/>
            <a:ext cx="2395440" cy="2055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http://www.graycell.ru/picture/big/gramota.jpg"/>
          <p:cNvPicPr/>
          <p:nvPr/>
        </p:nvPicPr>
        <p:blipFill>
          <a:blip r:embed="rId7"/>
          <a:stretch/>
        </p:blipFill>
        <p:spPr>
          <a:xfrm>
            <a:off x="2000160" y="3571920"/>
            <a:ext cx="3000600" cy="15717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7"/>
          <p:cNvSpPr/>
          <p:nvPr/>
        </p:nvSpPr>
        <p:spPr>
          <a:xfrm>
            <a:off x="7358040" y="26049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Бер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Управляющая кнопка: домой 17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500"/>
                            </p:stCondLst>
                            <p:childTnLst>
                              <p:par>
                                <p:cTn id="8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50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85920" y="1285920"/>
            <a:ext cx="7500960" cy="1900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 u="sng">
                <a:solidFill>
                  <a:srgbClr val="17375e"/>
                </a:solidFill>
                <a:uFillTx/>
                <a:latin typeface="Calibri"/>
              </a:rPr>
              <a:t>Документ 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– любой текст, созданный с помощью текстового редактора, вместе с включёнными в него нетекстовыми материал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Текстовые док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Скругленный прямоугольник 7"/>
          <p:cNvGrpSpPr/>
          <p:nvPr/>
        </p:nvGrpSpPr>
        <p:grpSpPr>
          <a:xfrm>
            <a:off x="2584440" y="3249720"/>
            <a:ext cx="4114800" cy="755640"/>
            <a:chOff x="2584440" y="3249720"/>
            <a:chExt cx="4114800" cy="755640"/>
          </a:xfrm>
        </p:grpSpPr>
        <p:pic>
          <p:nvPicPr>
            <p:cNvPr id="197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2584440" y="3249720"/>
              <a:ext cx="41148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674800" y="3317760"/>
              <a:ext cx="393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Текстовый докумен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Скругленный прямоугольник 8"/>
          <p:cNvSpPr/>
          <p:nvPr/>
        </p:nvSpPr>
        <p:spPr>
          <a:xfrm>
            <a:off x="500040" y="40719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тат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кругленный прямоугольник 9"/>
          <p:cNvSpPr/>
          <p:nvPr/>
        </p:nvSpPr>
        <p:spPr>
          <a:xfrm>
            <a:off x="1000080" y="50007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Докл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Скругленный прямоугольник 10"/>
          <p:cNvSpPr/>
          <p:nvPr/>
        </p:nvSpPr>
        <p:spPr>
          <a:xfrm>
            <a:off x="2214720" y="578628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Расска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Скругленный прямоугольник 11"/>
          <p:cNvSpPr/>
          <p:nvPr/>
        </p:nvSpPr>
        <p:spPr>
          <a:xfrm>
            <a:off x="4786200" y="578628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Стихотвор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кругленный прямоугольник 12"/>
          <p:cNvSpPr/>
          <p:nvPr/>
        </p:nvSpPr>
        <p:spPr>
          <a:xfrm>
            <a:off x="6643800" y="407196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Приглаш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Скругленный прямоугольник 13"/>
          <p:cNvSpPr/>
          <p:nvPr/>
        </p:nvSpPr>
        <p:spPr>
          <a:xfrm>
            <a:off x="6143760" y="492912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Calibri"/>
              </a:rPr>
              <a:t>Объяв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5" name="Прямая со стрелкой 16"/>
          <p:cNvCxnSpPr>
            <a:endCxn id="201" idx="0"/>
          </p:cNvCxnSpPr>
          <p:nvPr/>
        </p:nvCxnSpPr>
        <p:spPr>
          <a:xfrm flipH="1">
            <a:off x="3285720" y="3928680"/>
            <a:ext cx="1357920" cy="185796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6" name="Прямая со стрелкой 18"/>
          <p:cNvCxnSpPr>
            <a:endCxn id="200" idx="3"/>
          </p:cNvCxnSpPr>
          <p:nvPr/>
        </p:nvCxnSpPr>
        <p:spPr>
          <a:xfrm flipH="1">
            <a:off x="3142440" y="3929040"/>
            <a:ext cx="1500840" cy="139464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7" name="Прямая со стрелкой 20"/>
          <p:cNvCxnSpPr>
            <a:endCxn id="199" idx="3"/>
          </p:cNvCxnSpPr>
          <p:nvPr/>
        </p:nvCxnSpPr>
        <p:spPr>
          <a:xfrm flipH="1">
            <a:off x="2642760" y="3929040"/>
            <a:ext cx="2000880" cy="46584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8" name="Прямая со стрелкой 22"/>
          <p:cNvCxnSpPr>
            <a:endCxn id="202" idx="0"/>
          </p:cNvCxnSpPr>
          <p:nvPr/>
        </p:nvCxnSpPr>
        <p:spPr>
          <a:xfrm>
            <a:off x="4642200" y="3928680"/>
            <a:ext cx="1251720" cy="185796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09" name="Прямая со стрелкой 24"/>
          <p:cNvCxnSpPr>
            <a:endCxn id="204" idx="1"/>
          </p:cNvCxnSpPr>
          <p:nvPr/>
        </p:nvCxnSpPr>
        <p:spPr>
          <a:xfrm>
            <a:off x="4643280" y="3928680"/>
            <a:ext cx="1501200" cy="132120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  <p:cxnSp>
        <p:nvCxnSpPr>
          <p:cNvPr id="210" name="Прямая со стрелкой 26"/>
          <p:cNvCxnSpPr>
            <a:endCxn id="203" idx="1"/>
          </p:cNvCxnSpPr>
          <p:nvPr/>
        </p:nvCxnSpPr>
        <p:spPr>
          <a:xfrm>
            <a:off x="4642200" y="3929040"/>
            <a:ext cx="2001240" cy="464400"/>
          </a:xfrm>
          <a:prstGeom prst="straightConnector1">
            <a:avLst/>
          </a:prstGeom>
          <a:ln w="28440">
            <a:solidFill>
              <a:srgbClr val="1f497d"/>
            </a:solidFill>
            <a:miter/>
            <a:tailEnd len="lg" type="stealth" w="lg"/>
          </a:ln>
        </p:spPr>
      </p:cxn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Объекты текстового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85560" y="1571760"/>
            <a:ext cx="371484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Основными объектами текстового документа являютс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2159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имво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ло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2159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тро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абза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стран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фрагм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D:\Личные_документы\Елена\КАРТИНКИ\пк и книги.jpg"/>
          <p:cNvPicPr/>
          <p:nvPr/>
        </p:nvPicPr>
        <p:blipFill>
          <a:blip r:embed="rId1"/>
          <a:stretch/>
        </p:blipFill>
        <p:spPr>
          <a:xfrm>
            <a:off x="5214960" y="1714680"/>
            <a:ext cx="3595680" cy="4429080"/>
          </a:xfrm>
          <a:prstGeom prst="rect">
            <a:avLst/>
          </a:prstGeom>
          <a:ln w="0">
            <a:noFill/>
          </a:ln>
        </p:spPr>
      </p:pic>
      <p:sp>
        <p:nvSpPr>
          <p:cNvPr id="214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643960" y="6429240"/>
            <a:ext cx="428760" cy="35748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3" h="21600">
                <a:moveTo>
                  <a:pt x="12951" y="3837"/>
                </a:moveTo>
                <a:lnTo>
                  <a:pt x="15528" y="6448"/>
                </a:ln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lnTo>
                  <a:pt x="19914" y="10800"/>
                </a:lnTo>
                <a:lnTo>
                  <a:pt x="18261" y="10800"/>
                </a:lnTo>
                <a:lnTo>
                  <a:pt x="18261" y="17989"/>
                </a:lnTo>
                <a:lnTo>
                  <a:pt x="7642" y="17989"/>
                </a:lnTo>
                <a:lnTo>
                  <a:pt x="7642" y="10800"/>
                </a:lnTo>
                <a:lnTo>
                  <a:pt x="5988" y="10800"/>
                </a:lnTo>
                <a:close/>
              </a:path>
              <a:path fill="darkenLess" w="25903" h="21600">
                <a:moveTo>
                  <a:pt x="15528" y="6448"/>
                </a:moveTo>
                <a:lnTo>
                  <a:pt x="15528" y="4707"/>
                </a:lnTo>
                <a:lnTo>
                  <a:pt x="17303" y="4707"/>
                </a:lnTo>
                <a:lnTo>
                  <a:pt x="17303" y="8224"/>
                </a:lnTo>
                <a:close/>
              </a:path>
              <a:path fill="darkenLess" w="25903" h="21600">
                <a:moveTo>
                  <a:pt x="12029" y="14299"/>
                </a:moveTo>
                <a:lnTo>
                  <a:pt x="13874" y="14299"/>
                </a:lnTo>
                <a:lnTo>
                  <a:pt x="13874" y="17989"/>
                </a:lnTo>
                <a:lnTo>
                  <a:pt x="18261" y="17989"/>
                </a:lnTo>
                <a:lnTo>
                  <a:pt x="18261" y="10800"/>
                </a:lnTo>
                <a:lnTo>
                  <a:pt x="7642" y="10800"/>
                </a:lnTo>
                <a:lnTo>
                  <a:pt x="7642" y="17989"/>
                </a:lnTo>
                <a:lnTo>
                  <a:pt x="1202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й помощ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3643200" cy="2876400"/>
          </a:xfrm>
          <a:prstGeom prst="rect">
            <a:avLst/>
          </a:prstGeom>
          <a:ln w="0">
            <a:noFill/>
          </a:ln>
        </p:spPr>
      </p:pic>
      <p:pic>
        <p:nvPicPr>
          <p:cNvPr id="217" name="Схема 8" descr=""/>
          <p:cNvPicPr/>
          <p:nvPr/>
        </p:nvPicPr>
        <p:blipFill>
          <a:blip r:embed="rId2"/>
          <a:stretch/>
        </p:blipFill>
        <p:spPr>
          <a:xfrm>
            <a:off x="3754440" y="1603440"/>
            <a:ext cx="6108840" cy="4773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213920" y="4786200"/>
            <a:ext cx="3286440" cy="15004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Возможности компьютера </a:t>
            </a:r>
            <a:br>
              <a:rPr sz="2600"/>
            </a:b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при работе с текст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214280" y="5314680"/>
            <a:ext cx="7715520" cy="13287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На любом компьютере установлены специальные  программы, предназначенные для создания текстов, - </a:t>
            </a:r>
            <a:r>
              <a:rPr b="1" i="1" lang="en-US" sz="2600" spc="-1" strike="noStrike">
                <a:solidFill>
                  <a:srgbClr val="10253f"/>
                </a:solidFill>
                <a:latin typeface="Calibri"/>
              </a:rPr>
              <a:t>текстовые редакторы</a:t>
            </a:r>
            <a:r>
              <a:rPr b="0" lang="en-US" sz="26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85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Компьютер – основной инструмент подготовки текс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2214720" y="2000160"/>
            <a:ext cx="4705200" cy="3071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2" name="TextBox 6"/>
          <p:cNvSpPr/>
          <p:nvPr/>
        </p:nvSpPr>
        <p:spPr>
          <a:xfrm>
            <a:off x="500040" y="165744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Кнопка основного меню </a:t>
            </a: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WordP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28608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6929280" y="1285920"/>
            <a:ext cx="21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Панели  с инструмен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7286760" y="26431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Лине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7215120" y="4357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Полосы прокру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500040" y="35719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Рабочая обл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500040" y="4357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253f"/>
                </a:solidFill>
                <a:latin typeface="Calibri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ая соединительная линия 14"/>
          <p:cNvSpPr/>
          <p:nvPr/>
        </p:nvSpPr>
        <p:spPr>
          <a:xfrm flipH="1">
            <a:off x="4428720" y="1642320"/>
            <a:ext cx="785880" cy="5000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ая соединительная линия 17"/>
          <p:cNvSpPr/>
          <p:nvPr/>
        </p:nvSpPr>
        <p:spPr>
          <a:xfrm flipH="1">
            <a:off x="5715000" y="1932120"/>
            <a:ext cx="2286000" cy="7826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ая соединительная линия 19"/>
          <p:cNvSpPr/>
          <p:nvPr/>
        </p:nvSpPr>
        <p:spPr>
          <a:xfrm flipH="1">
            <a:off x="6072120" y="1932120"/>
            <a:ext cx="1928880" cy="106812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ая соединительная линия 23"/>
          <p:cNvSpPr/>
          <p:nvPr/>
        </p:nvSpPr>
        <p:spPr>
          <a:xfrm flipH="1">
            <a:off x="6643440" y="2999520"/>
            <a:ext cx="1143000" cy="42876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ая соединительная линия 25"/>
          <p:cNvSpPr/>
          <p:nvPr/>
        </p:nvSpPr>
        <p:spPr>
          <a:xfrm flipH="1" flipV="1">
            <a:off x="6714720" y="4000320"/>
            <a:ext cx="500040" cy="68076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ая соединительная линия 29"/>
          <p:cNvSpPr/>
          <p:nvPr/>
        </p:nvSpPr>
        <p:spPr>
          <a:xfrm flipH="1">
            <a:off x="5714640" y="4680720"/>
            <a:ext cx="1500120" cy="3348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ая соединительная линия 32"/>
          <p:cNvSpPr/>
          <p:nvPr/>
        </p:nvSpPr>
        <p:spPr>
          <a:xfrm flipH="1">
            <a:off x="1714680" y="2214720"/>
            <a:ext cx="714240" cy="42840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ая соединительная линия 34"/>
          <p:cNvSpPr/>
          <p:nvPr/>
        </p:nvSpPr>
        <p:spPr>
          <a:xfrm flipH="1">
            <a:off x="1714320" y="3714840"/>
            <a:ext cx="857160" cy="28584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ая соединительная линия 36"/>
          <p:cNvSpPr/>
          <p:nvPr/>
        </p:nvSpPr>
        <p:spPr>
          <a:xfrm flipH="1" flipV="1">
            <a:off x="2000160" y="4857840"/>
            <a:ext cx="928800" cy="71280"/>
          </a:xfrm>
          <a:prstGeom prst="line">
            <a:avLst/>
          </a:prstGeom>
          <a:ln w="2844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27:01Z</dcterms:modified>
  <cp:revision>18</cp:revision>
  <dc:subject/>
  <dc:title>Презентация PowerPoint</dc:title>
</cp:coreProperties>
</file>