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25.png" ContentType="image/png"/>
  <Override PartName="/ppt/media/image11.jpeg" ContentType="image/jpeg"/>
  <Override PartName="/ppt/media/image24.png" ContentType="image/png"/>
  <Override PartName="/ppt/media/image2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57.png" ContentType="image/png"/>
  <Override PartName="/ppt/media/image20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068-5CCF-4FCD-A303-31F8D8B0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456-31F2-467F-8C2F-53D7F24B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D27-3E2B-444A-B5BB-4CE7A6FE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47E-8E20-4636-9724-D2474FB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C9D-F134-4A59-8952-C3768E2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665-AE4A-4518-87AB-FDF40DD1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ACA-8CE3-4878-9EB7-6B7B152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C81-A7CF-44B4-9FB5-44069CA4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9E6-2D47-4B6D-9F8A-D346F4F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4ED-F0E3-4E78-B916-93D07E5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4B5-42B1-4348-B879-5C0DD17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DBC-379F-4DBE-9FA1-1A7ADFB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BE5E-C6FF-49FA-940F-ED288586F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6.png"/><Relationship Id="rId20" Type="http://schemas.openxmlformats.org/officeDocument/2006/relationships/image" Target="../media/image48.png"/><Relationship Id="rId2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Текстовая информ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дзаголовок 2"/>
          <p:cNvSpPr/>
          <p:nvPr/>
        </p:nvSpPr>
        <p:spPr>
          <a:xfrm>
            <a:off x="1928880" y="4000680"/>
            <a:ext cx="700092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 как форма представления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Компьютер – основной инструмент подготовки тек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Ввод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Редак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Форма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Этапы подготовки доку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4" descr=""/>
          <p:cNvPicPr/>
          <p:nvPr/>
        </p:nvPicPr>
        <p:blipFill>
          <a:blip r:embed="rId1"/>
          <a:stretch/>
        </p:blipFill>
        <p:spPr>
          <a:xfrm>
            <a:off x="579600" y="1378080"/>
            <a:ext cx="8381880" cy="4095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2"/>
          <a:stretch/>
        </p:blipFill>
        <p:spPr>
          <a:xfrm>
            <a:off x="76212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290196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4"/>
          <a:stretch/>
        </p:blipFill>
        <p:spPr>
          <a:xfrm>
            <a:off x="5187960" y="13287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5"/>
          <a:stretch/>
        </p:blipFill>
        <p:spPr>
          <a:xfrm>
            <a:off x="7620120" y="1328760"/>
            <a:ext cx="1189080" cy="1103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143000" y="5429160"/>
            <a:ext cx="7358040" cy="119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Подготовка документа на компьютере состоит </a:t>
            </a:r>
            <a:br>
              <a:rPr sz="2400"/>
            </a:b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из нескольких этапов: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ввод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(набор)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текста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печать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50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57200" y="100008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При вводе текста придерживайтесь следующих 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правил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вод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Горизонтальный свиток 4"/>
          <p:cNvSpPr/>
          <p:nvPr/>
        </p:nvSpPr>
        <p:spPr>
          <a:xfrm>
            <a:off x="642960" y="1571760"/>
            <a:ext cx="8215200" cy="5072040"/>
          </a:xfrm>
          <a:prstGeom prst="horizontalScroll">
            <a:avLst>
              <a:gd name="adj" fmla="val 7925"/>
            </a:avLst>
          </a:prstGeom>
          <a:solidFill>
            <a:srgbClr val="4f81bd"/>
          </a:solidFill>
          <a:ln w="25560">
            <a:solidFill>
              <a:srgbClr val="1e477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, где это нужно, используйте прописные бу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знаки препинания, кроме тире, ставьте сразу же за последней буквой слова; после любого знака препинания нажимайте клавишу Пробел. Тире выделяйте пробелами с двух стор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бегайте ввода подряд двух и более пробелов; не используйте пробел для выравнивания границ абза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следите за концом строки: как только он будет достигнут, курсор автоматически перейдёт на начало следующей ст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перехода к вводу нового абзаца, нажмите клавишу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3920" y="1142640"/>
            <a:ext cx="7643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чередной этап подготовки документа, начинающийся вслед за вводом информации, в результате которого происходит проверка документа на его правильность и исправляются обнаруженные ошибки, а так же вносятся необходимые изме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хема 5" descr=""/>
          <p:cNvPicPr/>
          <p:nvPr/>
        </p:nvPicPr>
        <p:blipFill>
          <a:blip r:embed="rId1"/>
          <a:stretch/>
        </p:blipFill>
        <p:spPr>
          <a:xfrm>
            <a:off x="573120" y="4498920"/>
            <a:ext cx="8345520" cy="1792440"/>
          </a:xfrm>
          <a:prstGeom prst="rect">
            <a:avLst/>
          </a:prstGeom>
          <a:ln w="0">
            <a:noFill/>
          </a:ln>
        </p:spPr>
      </p:pic>
      <p:sp>
        <p:nvSpPr>
          <p:cNvPr id="253" name="Скругленный прямоугольник 6"/>
          <p:cNvSpPr/>
          <p:nvPr/>
        </p:nvSpPr>
        <p:spPr>
          <a:xfrm>
            <a:off x="642960" y="3786120"/>
            <a:ext cx="821520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сновные операции редак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" descr="http://mechatronica-pro.com/upload/devblog/rtf/957_Pic_27scheme.png"/>
          <p:cNvPicPr/>
          <p:nvPr/>
        </p:nvPicPr>
        <p:blipFill>
          <a:blip r:embed="rId2"/>
          <a:stretch/>
        </p:blipFill>
        <p:spPr>
          <a:xfrm>
            <a:off x="2706840" y="4705200"/>
            <a:ext cx="493560" cy="489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mechatronica-pro.com/upload/devblog/rtf/957_Pic_27scheme.png"/>
          <p:cNvPicPr/>
          <p:nvPr/>
        </p:nvPicPr>
        <p:blipFill>
          <a:blip r:embed="rId3"/>
          <a:stretch/>
        </p:blipFill>
        <p:spPr>
          <a:xfrm>
            <a:off x="8137440" y="4705200"/>
            <a:ext cx="433440" cy="42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echatronica-pro.com/upload/devblog/rtf/957_Pic_27scheme.png"/>
          <p:cNvPicPr/>
          <p:nvPr/>
        </p:nvPicPr>
        <p:blipFill>
          <a:blip r:embed="rId4"/>
          <a:stretch/>
        </p:blipFill>
        <p:spPr>
          <a:xfrm>
            <a:off x="5353200" y="4705200"/>
            <a:ext cx="493560" cy="48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2640" y="114300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ри редактировании важно уметь перемещаться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о всему документу, подводя курсор к любому символу. Для этого предназначены специальные клавиши или комбинации клавиш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Группа 24"/>
          <p:cNvGrpSpPr/>
          <p:nvPr/>
        </p:nvGrpSpPr>
        <p:grpSpPr>
          <a:xfrm>
            <a:off x="1000080" y="3780000"/>
            <a:ext cx="7358040" cy="1935000"/>
            <a:chOff x="1000080" y="3780000"/>
            <a:chExt cx="7358040" cy="1935000"/>
          </a:xfrm>
        </p:grpSpPr>
        <p:pic>
          <p:nvPicPr>
            <p:cNvPr id="260" name="Скругленный 1" descr=""/>
            <p:cNvPicPr/>
            <p:nvPr/>
          </p:nvPicPr>
          <p:blipFill>
            <a:blip r:embed="rId1"/>
            <a:stretch/>
          </p:blipFill>
          <p:spPr>
            <a:xfrm>
              <a:off x="3482640" y="3780000"/>
              <a:ext cx="1992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Скругленный 2" descr=""/>
            <p:cNvPicPr/>
            <p:nvPr/>
          </p:nvPicPr>
          <p:blipFill>
            <a:blip r:embed="rId2"/>
            <a:stretch/>
          </p:blipFill>
          <p:spPr>
            <a:xfrm>
              <a:off x="3482640" y="4906080"/>
              <a:ext cx="20404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Скругленный 3" descr=""/>
            <p:cNvPicPr/>
            <p:nvPr/>
          </p:nvPicPr>
          <p:blipFill>
            <a:blip r:embed="rId3"/>
            <a:stretch/>
          </p:blipFill>
          <p:spPr>
            <a:xfrm>
              <a:off x="1000080" y="3780000"/>
              <a:ext cx="1495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Скругленный 4" descr=""/>
            <p:cNvPicPr/>
            <p:nvPr/>
          </p:nvPicPr>
          <p:blipFill>
            <a:blip r:embed="rId4"/>
            <a:stretch/>
          </p:blipFill>
          <p:spPr>
            <a:xfrm>
              <a:off x="1000080" y="4906080"/>
              <a:ext cx="1495440" cy="80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Группа 5"/>
            <p:cNvGrpSpPr/>
            <p:nvPr/>
          </p:nvGrpSpPr>
          <p:grpSpPr>
            <a:xfrm>
              <a:off x="6278760" y="4029480"/>
              <a:ext cx="2079360" cy="1260360"/>
              <a:chOff x="6278760" y="4029480"/>
              <a:chExt cx="2079360" cy="1260360"/>
            </a:xfrm>
          </p:grpSpPr>
          <p:pic>
            <p:nvPicPr>
              <p:cNvPr id="265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278760" y="464688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966360" y="46468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1640" y="464184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966360" y="40294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9" name="TextBox 23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а) Вспомним назначение клавиш перемещения курсо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б) Запомним назначение комбинаций клавиш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Группа 57"/>
          <p:cNvGrpSpPr/>
          <p:nvPr/>
        </p:nvGrpSpPr>
        <p:grpSpPr>
          <a:xfrm>
            <a:off x="785880" y="3286080"/>
            <a:ext cx="4286160" cy="559080"/>
            <a:chOff x="785880" y="3286080"/>
            <a:chExt cx="4286160" cy="559080"/>
          </a:xfrm>
        </p:grpSpPr>
        <p:pic>
          <p:nvPicPr>
            <p:cNvPr id="272" name="Скругленный 6" descr=""/>
            <p:cNvPicPr/>
            <p:nvPr/>
          </p:nvPicPr>
          <p:blipFill>
            <a:blip r:embed="rId9"/>
            <a:stretch/>
          </p:blipFill>
          <p:spPr>
            <a:xfrm>
              <a:off x="785880" y="3286080"/>
              <a:ext cx="1133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Прямоугольник 32" descr=""/>
            <p:cNvPicPr/>
            <p:nvPr/>
          </p:nvPicPr>
          <p:blipFill>
            <a:blip r:embed="rId10"/>
            <a:stretch/>
          </p:blipFill>
          <p:spPr>
            <a:xfrm>
              <a:off x="2075760" y="328608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1822320" y="332460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51"/>
            <p:cNvSpPr/>
            <p:nvPr/>
          </p:nvSpPr>
          <p:spPr>
            <a:xfrm>
              <a:off x="2740680" y="3324600"/>
              <a:ext cx="23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пра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Группа 58"/>
          <p:cNvGrpSpPr/>
          <p:nvPr/>
        </p:nvGrpSpPr>
        <p:grpSpPr>
          <a:xfrm>
            <a:off x="5072040" y="3357720"/>
            <a:ext cx="4214880" cy="562320"/>
            <a:chOff x="5072040" y="3357720"/>
            <a:chExt cx="4214880" cy="562320"/>
          </a:xfrm>
        </p:grpSpPr>
        <p:pic>
          <p:nvPicPr>
            <p:cNvPr id="277" name="Скругленный 6" descr=""/>
            <p:cNvPicPr/>
            <p:nvPr/>
          </p:nvPicPr>
          <p:blipFill>
            <a:blip r:embed="rId11"/>
            <a:stretch/>
          </p:blipFill>
          <p:spPr>
            <a:xfrm>
              <a:off x="5072040" y="3362400"/>
              <a:ext cx="113292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6361560" y="335772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5"/>
            <p:cNvSpPr/>
            <p:nvPr/>
          </p:nvSpPr>
          <p:spPr>
            <a:xfrm>
              <a:off x="6108840" y="339948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Box 52"/>
            <p:cNvSpPr/>
            <p:nvPr/>
          </p:nvSpPr>
          <p:spPr>
            <a:xfrm>
              <a:off x="6956640" y="3399480"/>
              <a:ext cx="23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ле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Группа 59"/>
          <p:cNvGrpSpPr/>
          <p:nvPr/>
        </p:nvGrpSpPr>
        <p:grpSpPr>
          <a:xfrm>
            <a:off x="785880" y="4000680"/>
            <a:ext cx="6215040" cy="559800"/>
            <a:chOff x="785880" y="4000680"/>
            <a:chExt cx="6215040" cy="559800"/>
          </a:xfrm>
        </p:grpSpPr>
        <p:pic>
          <p:nvPicPr>
            <p:cNvPr id="282" name="Скругленный 6" descr=""/>
            <p:cNvPicPr/>
            <p:nvPr/>
          </p:nvPicPr>
          <p:blipFill>
            <a:blip r:embed="rId13"/>
            <a:stretch/>
          </p:blipFill>
          <p:spPr>
            <a:xfrm>
              <a:off x="785880" y="400068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Скругленный 1" descr=""/>
            <p:cNvPicPr/>
            <p:nvPr/>
          </p:nvPicPr>
          <p:blipFill>
            <a:blip r:embed="rId14"/>
            <a:stretch/>
          </p:blipFill>
          <p:spPr>
            <a:xfrm>
              <a:off x="2134800" y="4000680"/>
              <a:ext cx="1983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47"/>
            <p:cNvSpPr/>
            <p:nvPr/>
          </p:nvSpPr>
          <p:spPr>
            <a:xfrm>
              <a:off x="1825920" y="403992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53"/>
            <p:cNvSpPr/>
            <p:nvPr/>
          </p:nvSpPr>
          <p:spPr>
            <a:xfrm>
              <a:off x="4023720" y="403992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верх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Группа 60"/>
          <p:cNvGrpSpPr/>
          <p:nvPr/>
        </p:nvGrpSpPr>
        <p:grpSpPr>
          <a:xfrm>
            <a:off x="785880" y="4714920"/>
            <a:ext cx="6215040" cy="560880"/>
            <a:chOff x="785880" y="4714920"/>
            <a:chExt cx="6215040" cy="560880"/>
          </a:xfrm>
        </p:grpSpPr>
        <p:pic>
          <p:nvPicPr>
            <p:cNvPr id="287" name="Скругленный 6" descr=""/>
            <p:cNvPicPr/>
            <p:nvPr/>
          </p:nvPicPr>
          <p:blipFill>
            <a:blip r:embed="rId15"/>
            <a:stretch/>
          </p:blipFill>
          <p:spPr>
            <a:xfrm>
              <a:off x="785880" y="471492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Скругленный 2" descr=""/>
            <p:cNvPicPr/>
            <p:nvPr/>
          </p:nvPicPr>
          <p:blipFill>
            <a:blip r:embed="rId16"/>
            <a:stretch/>
          </p:blipFill>
          <p:spPr>
            <a:xfrm>
              <a:off x="2134800" y="4714920"/>
              <a:ext cx="2032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Box 48"/>
            <p:cNvSpPr/>
            <p:nvPr/>
          </p:nvSpPr>
          <p:spPr>
            <a:xfrm>
              <a:off x="1825920" y="475524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54"/>
            <p:cNvSpPr/>
            <p:nvPr/>
          </p:nvSpPr>
          <p:spPr>
            <a:xfrm>
              <a:off x="4023720" y="481104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низ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Группа 61"/>
          <p:cNvGrpSpPr/>
          <p:nvPr/>
        </p:nvGrpSpPr>
        <p:grpSpPr>
          <a:xfrm>
            <a:off x="785880" y="5429160"/>
            <a:ext cx="5715000" cy="557280"/>
            <a:chOff x="785880" y="5429160"/>
            <a:chExt cx="5715000" cy="557280"/>
          </a:xfrm>
        </p:grpSpPr>
        <p:pic>
          <p:nvPicPr>
            <p:cNvPr id="292" name="Скругленный 6" descr=""/>
            <p:cNvPicPr/>
            <p:nvPr/>
          </p:nvPicPr>
          <p:blipFill>
            <a:blip r:embed="rId17"/>
            <a:stretch/>
          </p:blipFill>
          <p:spPr>
            <a:xfrm>
              <a:off x="785880" y="5429160"/>
              <a:ext cx="1136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Скругленный 3" descr=""/>
            <p:cNvPicPr/>
            <p:nvPr/>
          </p:nvPicPr>
          <p:blipFill>
            <a:blip r:embed="rId18"/>
            <a:stretch/>
          </p:blipFill>
          <p:spPr>
            <a:xfrm>
              <a:off x="2133720" y="5429160"/>
              <a:ext cx="148716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49"/>
            <p:cNvSpPr/>
            <p:nvPr/>
          </p:nvSpPr>
          <p:spPr>
            <a:xfrm>
              <a:off x="1825200" y="546588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55"/>
            <p:cNvSpPr/>
            <p:nvPr/>
          </p:nvSpPr>
          <p:spPr>
            <a:xfrm>
              <a:off x="3525480" y="552240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начало текста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Группа 62"/>
          <p:cNvGrpSpPr/>
          <p:nvPr/>
        </p:nvGrpSpPr>
        <p:grpSpPr>
          <a:xfrm>
            <a:off x="785880" y="6143760"/>
            <a:ext cx="5715000" cy="558000"/>
            <a:chOff x="785880" y="6143760"/>
            <a:chExt cx="5715000" cy="558000"/>
          </a:xfrm>
        </p:grpSpPr>
        <p:pic>
          <p:nvPicPr>
            <p:cNvPr id="297" name="Скругленный 6" descr=""/>
            <p:cNvPicPr/>
            <p:nvPr/>
          </p:nvPicPr>
          <p:blipFill>
            <a:blip r:embed="rId19"/>
            <a:stretch/>
          </p:blipFill>
          <p:spPr>
            <a:xfrm>
              <a:off x="785880" y="6143760"/>
              <a:ext cx="11365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Скругленный 4" descr=""/>
            <p:cNvPicPr/>
            <p:nvPr/>
          </p:nvPicPr>
          <p:blipFill>
            <a:blip r:embed="rId20"/>
            <a:stretch/>
          </p:blipFill>
          <p:spPr>
            <a:xfrm>
              <a:off x="2133720" y="6143760"/>
              <a:ext cx="14871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0"/>
            <p:cNvSpPr/>
            <p:nvPr/>
          </p:nvSpPr>
          <p:spPr>
            <a:xfrm>
              <a:off x="1825200" y="618120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56"/>
            <p:cNvSpPr/>
            <p:nvPr/>
          </p:nvSpPr>
          <p:spPr>
            <a:xfrm>
              <a:off x="3525480" y="623772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конец текста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Управляющая кнопка: домой 4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71720" y="1142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дин из этапов подготовки документа, в ходе которого совершаются различные операции по оформлению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Скругленный прямоугольник 5"/>
          <p:cNvSpPr/>
          <p:nvPr/>
        </p:nvSpPr>
        <p:spPr>
          <a:xfrm>
            <a:off x="642960" y="2571840"/>
            <a:ext cx="82152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перации форма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Схема 6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81565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ыравнивание абза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0040" y="1928880"/>
            <a:ext cx="2858040" cy="2847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лево (по левому краю). При этом ле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3500280" y="1928880"/>
            <a:ext cx="2571840" cy="421488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по центру. При этом с обеих сторон каждой строки ширина свободного пространства одина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215040" y="1928880"/>
            <a:ext cx="2857680" cy="354312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право (по правому краю). При этом пра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http://www.bestreferat.ru/images/paper/12/28/5792812.png"/>
          <p:cNvPicPr/>
          <p:nvPr/>
        </p:nvPicPr>
        <p:blipFill>
          <a:blip r:embed="rId1"/>
          <a:stretch/>
        </p:blipFill>
        <p:spPr>
          <a:xfrm>
            <a:off x="2395440" y="561492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http://www.bestreferat.ru/images/paper/12/28/5792812.png"/>
          <p:cNvPicPr/>
          <p:nvPr/>
        </p:nvPicPr>
        <p:blipFill>
          <a:blip r:embed="rId2"/>
          <a:stretch/>
        </p:blipFill>
        <p:spPr>
          <a:xfrm>
            <a:off x="5327640" y="5614920"/>
            <a:ext cx="787320" cy="828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estreferat.ru/images/paper/12/28/5792812.png"/>
          <p:cNvPicPr/>
          <p:nvPr/>
        </p:nvPicPr>
        <p:blipFill>
          <a:blip r:embed="rId3"/>
          <a:stretch/>
        </p:blipFill>
        <p:spPr>
          <a:xfrm>
            <a:off x="8186760" y="5614920"/>
            <a:ext cx="785880" cy="8287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ая соединительная линия 9"/>
          <p:cNvSpPr/>
          <p:nvPr/>
        </p:nvSpPr>
        <p:spPr>
          <a:xfrm flipH="1">
            <a:off x="498600" y="1714680"/>
            <a:ext cx="1440" cy="385740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 flipH="1">
            <a:off x="4784760" y="1785960"/>
            <a:ext cx="144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 flipH="1">
            <a:off x="9040320" y="1701720"/>
            <a:ext cx="180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71720" y="1214280"/>
            <a:ext cx="7929360" cy="304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0253f"/>
                </a:solidFill>
                <a:latin typeface="Calibri"/>
              </a:rPr>
              <a:t>Нормальный шрифт ничем не выделяетс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Полужирный шрифт темнее, он хорошо замет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10253f"/>
                </a:solidFill>
                <a:latin typeface="Calibri"/>
              </a:rPr>
              <a:t>Курсивный шрифт имеет на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10253f"/>
                </a:solidFill>
                <a:uFillTx/>
                <a:latin typeface="Calibri"/>
              </a:rPr>
              <a:t>А так выглядит подчёркнутый шриф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1071720" y="45720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изменения начертания шрифта имеются инструм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3500280" y="5572080"/>
            <a:ext cx="7146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457200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564372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42640" y="5029200"/>
            <a:ext cx="7729560" cy="1471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Для вывода документа на бумагу </a:t>
            </a:r>
            <a:br>
              <a:rPr sz="3000"/>
            </a:b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к компьютеру подключается печатающее устройство – </a:t>
            </a:r>
            <a:r>
              <a:rPr b="1" i="1" lang="en-US" sz="3000" spc="-1" strike="noStrike">
                <a:solidFill>
                  <a:srgbClr val="10253f"/>
                </a:solidFill>
                <a:latin typeface="Calibri"/>
              </a:rPr>
              <a:t>принт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ечать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8" descr=""/>
          <p:cNvPicPr/>
          <p:nvPr/>
        </p:nvPicPr>
        <p:blipFill>
          <a:blip r:embed="rId1"/>
          <a:stretch/>
        </p:blipFill>
        <p:spPr>
          <a:xfrm>
            <a:off x="981000" y="1133640"/>
            <a:ext cx="7321680" cy="3450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http://www.allshops.ro/files/clients/75/479/p/54/konica-minolta---promotie-imprimanta-pagepro-1350w--cadou-628981.jpeg"/>
          <p:cNvPicPr/>
          <p:nvPr/>
        </p:nvPicPr>
        <p:blipFill>
          <a:blip r:embed="rId2"/>
          <a:stretch/>
        </p:blipFill>
        <p:spPr>
          <a:xfrm>
            <a:off x="6854760" y="1285920"/>
            <a:ext cx="19083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42960" y="1052280"/>
            <a:ext cx="80438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Текст — это любое словесное высказывание, напечатанное, написанное или существующее в устной форм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нформация, представленная в форме письменного текста, называется текстовой информац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ля обработки текстовой информации предназначены специальные программы — текстовые редакто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Любой текст, созданный с помощью текстового редактора, вместе с включёнными в него нетекстовыми материалами называют докумен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дготовка документа на компьютере состоит из таких этапов,  как ввод (набор), редактирование и формат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1143000" y="1000080"/>
            <a:ext cx="77295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вратите одно слово в другое, всякий раз заменяя по одной букве так, чтобы новое слово было существительным в именительном падеже, используя под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52396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АР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О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Прямоугольник 8"/>
          <p:cNvSpPr/>
          <p:nvPr/>
        </p:nvSpPr>
        <p:spPr>
          <a:xfrm>
            <a:off x="945000" y="271476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1016280" y="3429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Наказ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1031400" y="39877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ревес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5301360" y="27147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5344560" y="3429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13"/>
          <p:cNvSpPr/>
          <p:nvPr/>
        </p:nvSpPr>
        <p:spPr>
          <a:xfrm>
            <a:off x="5286240" y="4071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омашнее живот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92928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38" descr="http://www.orel-region.ru/kadastr/images/14.jpg"/>
          <p:cNvPicPr/>
          <p:nvPr/>
        </p:nvPicPr>
        <p:blipFill>
          <a:blip r:embed="rId1"/>
          <a:stretch/>
        </p:blipFill>
        <p:spPr>
          <a:xfrm>
            <a:off x="1285920" y="4929120"/>
            <a:ext cx="22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6" descr="http://www.lenagold.ru/fon/clipart/k/koza/kozel01.png"/>
          <p:cNvPicPr/>
          <p:nvPr/>
        </p:nvPicPr>
        <p:blipFill>
          <a:blip r:embed="rId2"/>
          <a:stretch/>
        </p:blipFill>
        <p:spPr>
          <a:xfrm>
            <a:off x="3429000" y="4695840"/>
            <a:ext cx="1481040" cy="180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8" descr="http://www.patriotfiles.com/archive/319thbombgroup/images/Bull1.jpg"/>
          <p:cNvPicPr/>
          <p:nvPr/>
        </p:nvPicPr>
        <p:blipFill>
          <a:blip r:embed="rId3"/>
          <a:stretch/>
        </p:blipFill>
        <p:spPr>
          <a:xfrm>
            <a:off x="5357880" y="4572000"/>
            <a:ext cx="1785960" cy="180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2" descr="http://cdn.dailyclipart.net/wp-content/uploads/small/clipart0053.jpg"/>
          <p:cNvPicPr/>
          <p:nvPr/>
        </p:nvPicPr>
        <p:blipFill>
          <a:blip r:embed="rId4"/>
          <a:stretch/>
        </p:blipFill>
        <p:spPr>
          <a:xfrm>
            <a:off x="6572160" y="5000760"/>
            <a:ext cx="23814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доку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ввода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1214280" y="1000080"/>
            <a:ext cx="7658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2. Укажите алгоритмы устранения следующих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6"/>
          <p:cNvSpPr/>
          <p:nvPr/>
        </p:nvSpPr>
        <p:spPr>
          <a:xfrm>
            <a:off x="1000080" y="200016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ишни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Скругленный прямоугольник 7"/>
          <p:cNvSpPr/>
          <p:nvPr/>
        </p:nvSpPr>
        <p:spPr>
          <a:xfrm>
            <a:off x="1000080" y="3500280"/>
            <a:ext cx="2143080" cy="1000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опущен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кругленный прямоугольник 8"/>
          <p:cNvSpPr/>
          <p:nvPr/>
        </p:nvSpPr>
        <p:spPr>
          <a:xfrm>
            <a:off x="1000080" y="507204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вер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Скругленный прямоугольник 9"/>
          <p:cNvSpPr/>
          <p:nvPr/>
        </p:nvSpPr>
        <p:spPr>
          <a:xfrm>
            <a:off x="4143240" y="1928880"/>
            <a:ext cx="4357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Установить курсор на место  вставки симво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Нажать клавишу с нуж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10"/>
          <p:cNvSpPr/>
          <p:nvPr/>
        </p:nvSpPr>
        <p:spPr>
          <a:xfrm>
            <a:off x="4143240" y="3357720"/>
            <a:ext cx="435780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за ошибоч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BackSpac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с вер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11"/>
          <p:cNvSpPr/>
          <p:nvPr/>
        </p:nvSpPr>
        <p:spPr>
          <a:xfrm>
            <a:off x="4143240" y="5072040"/>
            <a:ext cx="43578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перед лишни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Delet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128592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1000080" y="25002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1. Презентац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«Текст. Истор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и современность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1000080" y="48420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Видеолекции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риёмы работы с текстом» 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5572080" y="4357800"/>
            <a:ext cx="2879640" cy="216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5572080" y="2000160"/>
            <a:ext cx="285768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 как форма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3928680"/>
            <a:ext cx="7586640" cy="14288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Информация, представленная в форме письменного текста, называется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текстовой информ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одержимое 5"/>
          <p:cNvSpPr/>
          <p:nvPr/>
        </p:nvSpPr>
        <p:spPr>
          <a:xfrm>
            <a:off x="1643040" y="1671480"/>
            <a:ext cx="7215120" cy="1900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Текст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это любое словесное высказывание напечатанное, написанное или существующее в устной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360" y="-13644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1" descr="http://afrus.ru/samara/sites/afrus.ru.samara/files/fichiers/images/2010/otzyvy.jpg"/>
          <p:cNvPicPr/>
          <p:nvPr/>
        </p:nvPicPr>
        <p:blipFill>
          <a:blip r:embed="rId1"/>
          <a:stretch/>
        </p:blipFill>
        <p:spPr>
          <a:xfrm>
            <a:off x="585792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7"/>
          <p:cNvSpPr/>
          <p:nvPr/>
        </p:nvSpPr>
        <p:spPr>
          <a:xfrm>
            <a:off x="500040" y="2071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3920" y="1356840"/>
            <a:ext cx="7472520" cy="16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пуск, замена или перестановка хотя бы одного символа в тексте подчас изменяет его смыс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Удивительный ф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4" descr=""/>
          <p:cNvPicPr/>
          <p:nvPr/>
        </p:nvPicPr>
        <p:blipFill>
          <a:blip r:embed="rId1"/>
          <a:stretch/>
        </p:blipFill>
        <p:spPr>
          <a:xfrm>
            <a:off x="1158840" y="3402000"/>
            <a:ext cx="7454880" cy="124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Елена\Local Settings\Temporary Internet Files\Content.IE5\TV3VPPCE\MC900434411[1].wmf"/>
          <p:cNvPicPr/>
          <p:nvPr/>
        </p:nvPicPr>
        <p:blipFill>
          <a:blip r:embed="rId2"/>
          <a:stretch/>
        </p:blipFill>
        <p:spPr>
          <a:xfrm>
            <a:off x="3660840" y="460044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6" descr=""/>
          <p:cNvPicPr/>
          <p:nvPr/>
        </p:nvPicPr>
        <p:blipFill>
          <a:blip r:embed="rId3"/>
          <a:stretch/>
        </p:blipFill>
        <p:spPr>
          <a:xfrm>
            <a:off x="1170000" y="3382920"/>
            <a:ext cx="7242120" cy="126828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8"/>
          <p:cNvGrpSpPr/>
          <p:nvPr/>
        </p:nvGrpSpPr>
        <p:grpSpPr>
          <a:xfrm>
            <a:off x="3071880" y="3692520"/>
            <a:ext cx="3071880" cy="2451240"/>
            <a:chOff x="3071880" y="3692520"/>
            <a:chExt cx="3071880" cy="2451240"/>
          </a:xfrm>
        </p:grpSpPr>
        <p:sp>
          <p:nvSpPr>
            <p:cNvPr id="175" name="Овал 7"/>
            <p:cNvSpPr/>
            <p:nvPr/>
          </p:nvSpPr>
          <p:spPr>
            <a:xfrm>
              <a:off x="4000680" y="4786200"/>
              <a:ext cx="1143000" cy="1000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5" descr="http://rudocs.exdat.com/pars_docs/tw_refs/527/526099/526099_html_1c2d40d4.jpg"/>
            <p:cNvPicPr/>
            <p:nvPr/>
          </p:nvPicPr>
          <p:blipFill>
            <a:blip r:embed="rId4"/>
            <a:stretch/>
          </p:blipFill>
          <p:spPr>
            <a:xfrm>
              <a:off x="3071880" y="3692520"/>
              <a:ext cx="30718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71720" y="5429160"/>
            <a:ext cx="7657920" cy="1114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На протяжении тысячелетий </a:t>
            </a:r>
            <a:br>
              <a:rPr sz="3200"/>
            </a:b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люди записывали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осители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9" descr="http://mysavior.info/media/image_files/articles/archaeology-nt/stone-inscription.png"/>
          <p:cNvPicPr/>
          <p:nvPr/>
        </p:nvPicPr>
        <p:blipFill>
          <a:blip r:embed="rId1"/>
          <a:stretch/>
        </p:blipFill>
        <p:spPr>
          <a:xfrm>
            <a:off x="571680" y="3000240"/>
            <a:ext cx="1500120" cy="216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sati.archaeology.nsc.ru/sibirica/img/news/01008600"/>
          <p:cNvPicPr/>
          <p:nvPr/>
        </p:nvPicPr>
        <p:blipFill>
          <a:blip r:embed="rId2"/>
          <a:stretch/>
        </p:blipFill>
        <p:spPr>
          <a:xfrm>
            <a:off x="523800" y="1214280"/>
            <a:ext cx="2476440" cy="1857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7358040" y="1357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Кам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358040" y="1785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Г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7358040" y="21765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7358040" y="30002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Папир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35804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Перг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7358040" y="38577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D:\Личные_документы\Елена\Школа_информатика\Школа_3\материал по темам\носители информации\картинки\папирус3.jpg"/>
          <p:cNvPicPr/>
          <p:nvPr/>
        </p:nvPicPr>
        <p:blipFill>
          <a:blip r:embed="rId3"/>
          <a:stretch/>
        </p:blipFill>
        <p:spPr>
          <a:xfrm>
            <a:off x="2662200" y="1566720"/>
            <a:ext cx="2481480" cy="1881360"/>
          </a:xfrm>
          <a:prstGeom prst="rect">
            <a:avLst/>
          </a:prstGeom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8" name="Picture 2" descr="D:\Личные_документы\Елена\Школа_информатика\Школа_3\материал по темам\носители информации\картинки\китайская бумага.jpg"/>
          <p:cNvPicPr/>
          <p:nvPr/>
        </p:nvPicPr>
        <p:blipFill>
          <a:blip r:embed="rId4"/>
          <a:stretch/>
        </p:blipFill>
        <p:spPr>
          <a:xfrm>
            <a:off x="5000760" y="3618000"/>
            <a:ext cx="2239920" cy="16286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4" descr=""/>
          <p:cNvPicPr/>
          <p:nvPr/>
        </p:nvPicPr>
        <p:blipFill>
          <a:blip r:embed="rId5"/>
          <a:stretch/>
        </p:blipFill>
        <p:spPr>
          <a:xfrm>
            <a:off x="6943680" y="3676680"/>
            <a:ext cx="23162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:\Личные_документы\Елена\Школа_информатика\Школа_3\материал по темам\носители информации\картинки\пергамент 919 год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962600" y="1301760"/>
            <a:ext cx="2395440" cy="205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http://www.graycell.ru/picture/big/gramota.jpg"/>
          <p:cNvPicPr/>
          <p:nvPr/>
        </p:nvPicPr>
        <p:blipFill>
          <a:blip r:embed="rId7"/>
          <a:stretch/>
        </p:blipFill>
        <p:spPr>
          <a:xfrm>
            <a:off x="2000160" y="3571920"/>
            <a:ext cx="300060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7"/>
          <p:cNvSpPr/>
          <p:nvPr/>
        </p:nvSpPr>
        <p:spPr>
          <a:xfrm>
            <a:off x="7358040" y="26049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Бер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Управляющая кнопка: домой 17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85920" y="1285920"/>
            <a:ext cx="7500960" cy="1900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</a:rPr>
              <a:t>Документ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– любой текст, созданный с помощью текстового редактора, вместе с включёнными в него нетекстовыми материа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овые док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7"/>
          <p:cNvGrpSpPr/>
          <p:nvPr/>
        </p:nvGrpSpPr>
        <p:grpSpPr>
          <a:xfrm>
            <a:off x="2584440" y="3249720"/>
            <a:ext cx="4114800" cy="755640"/>
            <a:chOff x="2584440" y="3249720"/>
            <a:chExt cx="4114800" cy="755640"/>
          </a:xfrm>
        </p:grpSpPr>
        <p:pic>
          <p:nvPicPr>
            <p:cNvPr id="197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584440" y="3249720"/>
              <a:ext cx="4114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674800" y="3317760"/>
              <a:ext cx="393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Текстовый докумен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Скругленный прямоугольник 8"/>
          <p:cNvSpPr/>
          <p:nvPr/>
        </p:nvSpPr>
        <p:spPr>
          <a:xfrm>
            <a:off x="50004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ат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кругленный прямоугольник 9"/>
          <p:cNvSpPr/>
          <p:nvPr/>
        </p:nvSpPr>
        <p:spPr>
          <a:xfrm>
            <a:off x="1000080" y="50007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10"/>
          <p:cNvSpPr/>
          <p:nvPr/>
        </p:nvSpPr>
        <p:spPr>
          <a:xfrm>
            <a:off x="2214720" y="578628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11"/>
          <p:cNvSpPr/>
          <p:nvPr/>
        </p:nvSpPr>
        <p:spPr>
          <a:xfrm>
            <a:off x="4786200" y="578628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664380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игла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13"/>
          <p:cNvSpPr/>
          <p:nvPr/>
        </p:nvSpPr>
        <p:spPr>
          <a:xfrm>
            <a:off x="6143760" y="49291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Прямая со стрелкой 16"/>
          <p:cNvCxnSpPr>
            <a:endCxn id="201" idx="0"/>
          </p:cNvCxnSpPr>
          <p:nvPr/>
        </p:nvCxnSpPr>
        <p:spPr>
          <a:xfrm flipH="1">
            <a:off x="3285720" y="3928680"/>
            <a:ext cx="13579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6" name="Прямая со стрелкой 18"/>
          <p:cNvCxnSpPr>
            <a:endCxn id="200" idx="3"/>
          </p:cNvCxnSpPr>
          <p:nvPr/>
        </p:nvCxnSpPr>
        <p:spPr>
          <a:xfrm flipH="1">
            <a:off x="3142440" y="3929040"/>
            <a:ext cx="1500840" cy="13946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7" name="Прямая со стрелкой 20"/>
          <p:cNvCxnSpPr>
            <a:endCxn id="199" idx="3"/>
          </p:cNvCxnSpPr>
          <p:nvPr/>
        </p:nvCxnSpPr>
        <p:spPr>
          <a:xfrm flipH="1">
            <a:off x="2642760" y="3929040"/>
            <a:ext cx="2000880" cy="4658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8" name="Прямая со стрелкой 22"/>
          <p:cNvCxnSpPr>
            <a:endCxn id="202" idx="0"/>
          </p:cNvCxnSpPr>
          <p:nvPr/>
        </p:nvCxnSpPr>
        <p:spPr>
          <a:xfrm>
            <a:off x="4642200" y="3928680"/>
            <a:ext cx="12517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9" name="Прямая со стрелкой 24"/>
          <p:cNvCxnSpPr>
            <a:endCxn id="204" idx="1"/>
          </p:cNvCxnSpPr>
          <p:nvPr/>
        </p:nvCxnSpPr>
        <p:spPr>
          <a:xfrm>
            <a:off x="4643280" y="3928680"/>
            <a:ext cx="1501200" cy="13212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10" name="Прямая со стрелкой 26"/>
          <p:cNvCxnSpPr>
            <a:endCxn id="203" idx="1"/>
          </p:cNvCxnSpPr>
          <p:nvPr/>
        </p:nvCxnSpPr>
        <p:spPr>
          <a:xfrm>
            <a:off x="4642200" y="3929040"/>
            <a:ext cx="2001240" cy="4644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бъекты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85560" y="1571760"/>
            <a:ext cx="3714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Основными объектами текстового документа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имв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D:\Личные_документы\Елена\КАРТИНКИ\пк и книги.jpg"/>
          <p:cNvPicPr/>
          <p:nvPr/>
        </p:nvPicPr>
        <p:blipFill>
          <a:blip r:embed="rId1"/>
          <a:stretch/>
        </p:blipFill>
        <p:spPr>
          <a:xfrm>
            <a:off x="5214960" y="1714680"/>
            <a:ext cx="3595680" cy="442908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й помощ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643200" cy="2876400"/>
          </a:xfrm>
          <a:prstGeom prst="rect">
            <a:avLst/>
          </a:prstGeom>
          <a:ln w="0">
            <a:noFill/>
          </a:ln>
        </p:spPr>
      </p:pic>
      <p:pic>
        <p:nvPicPr>
          <p:cNvPr id="217" name="Схема 8" descr=""/>
          <p:cNvPicPr/>
          <p:nvPr/>
        </p:nvPicPr>
        <p:blipFill>
          <a:blip r:embed="rId2"/>
          <a:stretch/>
        </p:blipFill>
        <p:spPr>
          <a:xfrm>
            <a:off x="3754440" y="1603440"/>
            <a:ext cx="6108840" cy="477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213920" y="4786200"/>
            <a:ext cx="3286440" cy="1500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Возможности компьютера </a:t>
            </a:r>
            <a:br>
              <a:rPr sz="2600"/>
            </a:b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при работе с текст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214280" y="5314680"/>
            <a:ext cx="7715520" cy="1328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На любом компьютере установлены специальные  программы, предназначенные для создания текстов, - </a:t>
            </a: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текстовые редакторы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85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– основной инструмент подготовки текс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4705200" cy="3071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500040" y="165744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Word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8608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929280" y="1285920"/>
            <a:ext cx="21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анели 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86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21512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00040" y="3571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50004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 flipH="1">
            <a:off x="4428720" y="1642320"/>
            <a:ext cx="785880" cy="5000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ая соединительная линия 17"/>
          <p:cNvSpPr/>
          <p:nvPr/>
        </p:nvSpPr>
        <p:spPr>
          <a:xfrm flipH="1">
            <a:off x="5715000" y="1932120"/>
            <a:ext cx="2286000" cy="7826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ая соединительная линия 19"/>
          <p:cNvSpPr/>
          <p:nvPr/>
        </p:nvSpPr>
        <p:spPr>
          <a:xfrm flipH="1">
            <a:off x="6072120" y="1932120"/>
            <a:ext cx="1928880" cy="106812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ая соединительная линия 23"/>
          <p:cNvSpPr/>
          <p:nvPr/>
        </p:nvSpPr>
        <p:spPr>
          <a:xfrm flipH="1">
            <a:off x="6643440" y="2999520"/>
            <a:ext cx="1143000" cy="428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ая соединительная линия 25"/>
          <p:cNvSpPr/>
          <p:nvPr/>
        </p:nvSpPr>
        <p:spPr>
          <a:xfrm flipH="1" flipV="1">
            <a:off x="6714720" y="4000320"/>
            <a:ext cx="500040" cy="680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ая соединительная линия 29"/>
          <p:cNvSpPr/>
          <p:nvPr/>
        </p:nvSpPr>
        <p:spPr>
          <a:xfrm flipH="1">
            <a:off x="5714640" y="4680720"/>
            <a:ext cx="1500120" cy="334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 flipH="1">
            <a:off x="1714680" y="2214720"/>
            <a:ext cx="714240" cy="42840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34"/>
          <p:cNvSpPr/>
          <p:nvPr/>
        </p:nvSpPr>
        <p:spPr>
          <a:xfrm flipH="1">
            <a:off x="1714320" y="3714840"/>
            <a:ext cx="857160" cy="2858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36"/>
          <p:cNvSpPr/>
          <p:nvPr/>
        </p:nvSpPr>
        <p:spPr>
          <a:xfrm flipH="1" flipV="1">
            <a:off x="2000160" y="4857840"/>
            <a:ext cx="928800" cy="712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01Z</dcterms:modified>
  <cp:revision>18</cp:revision>
  <dc:subject/>
  <dc:title>Презентация PowerPoint</dc:title>
</cp:coreProperties>
</file>