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44A6-E004-476C-8C08-C906B80F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07A3-8326-41D1-9B61-5EA0C631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F70A-8BC3-4B8A-BAC6-F656D928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D836-2FDE-460A-B2EA-7C515933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36D-63D7-4B9A-9832-BF8A062D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9697-4E68-4E99-844A-94B4B9F0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528F-87A2-4645-B5C7-C50A068B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3F3C-4D06-49C2-9EC3-213E5556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972-8D7C-459F-B3F1-CC5D8EE0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428E-D5CF-4C03-9923-EB5FA108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2160-E164-4E80-B3C1-CC47A247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BD85-7A77-4CC7-8D32-7039998D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07B9-42B5-4664-8AAA-4A4F1E8F2C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ГРАММИРОВАНИЕ  ЦИКЛИЧЕСКИХ  АЛГОРИТ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ЧАЛА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22"/>
          <p:cNvSpPr/>
          <p:nvPr/>
        </p:nvSpPr>
        <p:spPr>
          <a:xfrm>
            <a:off x="395280" y="260280"/>
            <a:ext cx="4897440" cy="5545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95280" y="189000"/>
            <a:ext cx="5113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program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n_1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, k1, k2: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k1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k2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Введите целое число&gt;&gt;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ln 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if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&gt;0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then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k1:=k1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if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&lt;0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then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k2:=k2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until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Введено: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положительных чисел – ',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k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отрицательных чисел – ',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k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86"/>
          <p:cNvGrpSpPr/>
          <p:nvPr/>
        </p:nvGrpSpPr>
        <p:grpSpPr>
          <a:xfrm>
            <a:off x="5435280" y="333360"/>
            <a:ext cx="3021480" cy="5761080"/>
            <a:chOff x="5435280" y="333360"/>
            <a:chExt cx="3021480" cy="5761080"/>
          </a:xfrm>
        </p:grpSpPr>
        <p:sp>
          <p:nvSpPr>
            <p:cNvPr id="178" name="Line 105"/>
            <p:cNvSpPr/>
            <p:nvPr/>
          </p:nvSpPr>
          <p:spPr>
            <a:xfrm>
              <a:off x="7451640" y="256536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88"/>
            <p:cNvGrpSpPr/>
            <p:nvPr/>
          </p:nvGrpSpPr>
          <p:grpSpPr>
            <a:xfrm>
              <a:off x="5435280" y="333360"/>
              <a:ext cx="3021480" cy="5761080"/>
              <a:chOff x="5435280" y="333360"/>
              <a:chExt cx="3021480" cy="5761080"/>
            </a:xfrm>
          </p:grpSpPr>
          <p:sp>
            <p:nvSpPr>
              <p:cNvPr id="180" name="Line 105"/>
              <p:cNvSpPr/>
              <p:nvPr/>
            </p:nvSpPr>
            <p:spPr>
              <a:xfrm>
                <a:off x="7451640" y="436572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88"/>
              <p:cNvSpPr/>
              <p:nvPr/>
            </p:nvSpPr>
            <p:spPr>
              <a:xfrm>
                <a:off x="7667640" y="4941720"/>
                <a:ext cx="50328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" name="Group 191"/>
              <p:cNvGrpSpPr/>
              <p:nvPr/>
            </p:nvGrpSpPr>
            <p:grpSpPr>
              <a:xfrm>
                <a:off x="5435280" y="333360"/>
                <a:ext cx="3021480" cy="5761080"/>
                <a:chOff x="5435280" y="333360"/>
                <a:chExt cx="3021480" cy="5761080"/>
              </a:xfrm>
            </p:grpSpPr>
            <p:sp>
              <p:nvSpPr>
                <p:cNvPr id="183" name="Text Box 89"/>
                <p:cNvSpPr/>
                <p:nvPr/>
              </p:nvSpPr>
              <p:spPr>
                <a:xfrm>
                  <a:off x="7524720" y="3716280"/>
                  <a:ext cx="5032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нет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Line 92"/>
                <p:cNvSpPr/>
                <p:nvPr/>
              </p:nvSpPr>
              <p:spPr>
                <a:xfrm>
                  <a:off x="5435640" y="2708280"/>
                  <a:ext cx="0" cy="20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96"/>
                <p:cNvSpPr/>
                <p:nvPr/>
              </p:nvSpPr>
              <p:spPr>
                <a:xfrm>
                  <a:off x="6732720" y="2781360"/>
                  <a:ext cx="1436400" cy="287280"/>
                </a:xfrm>
                <a:prstGeom prst="flowChartInputOutpu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AutoShape 98"/>
                <p:cNvSpPr/>
                <p:nvPr/>
              </p:nvSpPr>
              <p:spPr>
                <a:xfrm>
                  <a:off x="6877080" y="3284640"/>
                  <a:ext cx="1150920" cy="431640"/>
                </a:xfrm>
                <a:prstGeom prst="flowChartDecision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&gt; 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110"/>
                <p:cNvSpPr/>
                <p:nvPr/>
              </p:nvSpPr>
              <p:spPr>
                <a:xfrm flipH="1">
                  <a:off x="6587640" y="4149720"/>
                  <a:ext cx="287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113"/>
                <p:cNvSpPr/>
                <p:nvPr/>
              </p:nvSpPr>
              <p:spPr>
                <a:xfrm>
                  <a:off x="5435640" y="2708280"/>
                  <a:ext cx="201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AutoShape 91"/>
                <p:cNvSpPr/>
                <p:nvPr/>
              </p:nvSpPr>
              <p:spPr>
                <a:xfrm>
                  <a:off x="6656400" y="333360"/>
                  <a:ext cx="1512720" cy="431640"/>
                </a:xfrm>
                <a:prstGeom prst="flowChartTerminator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Начало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94"/>
                <p:cNvSpPr/>
                <p:nvPr/>
              </p:nvSpPr>
              <p:spPr>
                <a:xfrm>
                  <a:off x="6440400" y="909720"/>
                  <a:ext cx="2013120" cy="433440"/>
                </a:xfrm>
                <a:prstGeom prst="rec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Список данны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95"/>
                <p:cNvSpPr/>
                <p:nvPr/>
              </p:nvSpPr>
              <p:spPr>
                <a:xfrm>
                  <a:off x="6443640" y="1341360"/>
                  <a:ext cx="2013120" cy="433440"/>
                </a:xfrm>
                <a:prstGeom prst="rec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, k1, k2 -</a:t>
                  </a:r>
                  <a:r>
                    <a:rPr b="0" i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цел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104"/>
                <p:cNvSpPr/>
                <p:nvPr/>
              </p:nvSpPr>
              <p:spPr>
                <a:xfrm>
                  <a:off x="7448400" y="765000"/>
                  <a:ext cx="0" cy="144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105"/>
                <p:cNvSpPr/>
                <p:nvPr/>
              </p:nvSpPr>
              <p:spPr>
                <a:xfrm>
                  <a:off x="7448400" y="1773360"/>
                  <a:ext cx="0" cy="215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AutoShape 98"/>
                <p:cNvSpPr/>
                <p:nvPr/>
              </p:nvSpPr>
              <p:spPr>
                <a:xfrm>
                  <a:off x="6877080" y="3933720"/>
                  <a:ext cx="1152360" cy="432000"/>
                </a:xfrm>
                <a:prstGeom prst="flowChartDecision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&lt; 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AutoShape 98"/>
                <p:cNvSpPr/>
                <p:nvPr/>
              </p:nvSpPr>
              <p:spPr>
                <a:xfrm>
                  <a:off x="6877080" y="4581360"/>
                  <a:ext cx="1150920" cy="432000"/>
                </a:xfrm>
                <a:prstGeom prst="flowChartDecision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= 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AutoShape 111"/>
                <p:cNvSpPr/>
                <p:nvPr/>
              </p:nvSpPr>
              <p:spPr>
                <a:xfrm>
                  <a:off x="6732720" y="5229360"/>
                  <a:ext cx="1436400" cy="287280"/>
                </a:xfrm>
                <a:prstGeom prst="flowChartInputOutpu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k1, k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AutoShape 100"/>
                <p:cNvSpPr/>
                <p:nvPr/>
              </p:nvSpPr>
              <p:spPr>
                <a:xfrm>
                  <a:off x="6877080" y="5805360"/>
                  <a:ext cx="1225440" cy="289080"/>
                </a:xfrm>
                <a:prstGeom prst="flowChartTerminator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Конец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110"/>
                <p:cNvSpPr/>
                <p:nvPr/>
              </p:nvSpPr>
              <p:spPr>
                <a:xfrm>
                  <a:off x="7524720" y="551664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Rectangle 97"/>
                <p:cNvSpPr/>
                <p:nvPr/>
              </p:nvSpPr>
              <p:spPr>
                <a:xfrm>
                  <a:off x="6732720" y="1989000"/>
                  <a:ext cx="1441440" cy="576360"/>
                </a:xfrm>
                <a:prstGeom prst="rec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k1:=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k2:=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Rectangle 95"/>
                <p:cNvSpPr/>
                <p:nvPr/>
              </p:nvSpPr>
              <p:spPr>
                <a:xfrm>
                  <a:off x="5580000" y="3284640"/>
                  <a:ext cx="1009800" cy="360360"/>
                </a:xfrm>
                <a:prstGeom prst="rec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k1:=k1+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Rectangle 95"/>
                <p:cNvSpPr/>
                <p:nvPr/>
              </p:nvSpPr>
              <p:spPr>
                <a:xfrm>
                  <a:off x="5580000" y="4005360"/>
                  <a:ext cx="1009800" cy="360360"/>
                </a:xfrm>
                <a:prstGeom prst="rec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k2:=k2+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05"/>
                <p:cNvSpPr/>
                <p:nvPr/>
              </p:nvSpPr>
              <p:spPr>
                <a:xfrm>
                  <a:off x="7451640" y="3068640"/>
                  <a:ext cx="0" cy="21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105"/>
                <p:cNvSpPr/>
                <p:nvPr/>
              </p:nvSpPr>
              <p:spPr>
                <a:xfrm>
                  <a:off x="7451640" y="3716280"/>
                  <a:ext cx="0" cy="21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105"/>
                <p:cNvSpPr/>
                <p:nvPr/>
              </p:nvSpPr>
              <p:spPr>
                <a:xfrm>
                  <a:off x="7451640" y="5013360"/>
                  <a:ext cx="0" cy="21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110"/>
                <p:cNvSpPr/>
                <p:nvPr/>
              </p:nvSpPr>
              <p:spPr>
                <a:xfrm flipH="1">
                  <a:off x="6587640" y="3500280"/>
                  <a:ext cx="287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110"/>
                <p:cNvSpPr/>
                <p:nvPr/>
              </p:nvSpPr>
              <p:spPr>
                <a:xfrm flipH="1">
                  <a:off x="5435640" y="4797360"/>
                  <a:ext cx="1440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110"/>
                <p:cNvSpPr/>
                <p:nvPr/>
              </p:nvSpPr>
              <p:spPr>
                <a:xfrm flipH="1">
                  <a:off x="5435280" y="4149720"/>
                  <a:ext cx="144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110"/>
                <p:cNvSpPr/>
                <p:nvPr/>
              </p:nvSpPr>
              <p:spPr>
                <a:xfrm flipH="1">
                  <a:off x="5435280" y="3500280"/>
                  <a:ext cx="144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Text Box 88"/>
                <p:cNvSpPr/>
                <p:nvPr/>
              </p:nvSpPr>
              <p:spPr>
                <a:xfrm>
                  <a:off x="6588000" y="3141720"/>
                  <a:ext cx="5032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да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88"/>
                <p:cNvSpPr/>
                <p:nvPr/>
              </p:nvSpPr>
              <p:spPr>
                <a:xfrm>
                  <a:off x="6588000" y="3789360"/>
                  <a:ext cx="5032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да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Text Box 89"/>
                <p:cNvSpPr/>
                <p:nvPr/>
              </p:nvSpPr>
              <p:spPr>
                <a:xfrm>
                  <a:off x="7524720" y="4365720"/>
                  <a:ext cx="5032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нет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Text Box 89"/>
                <p:cNvSpPr/>
                <p:nvPr/>
              </p:nvSpPr>
              <p:spPr>
                <a:xfrm>
                  <a:off x="6300720" y="4508640"/>
                  <a:ext cx="5032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нет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wedg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8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9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1000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82"/>
          <p:cNvSpPr/>
          <p:nvPr/>
        </p:nvSpPr>
        <p:spPr>
          <a:xfrm>
            <a:off x="611280" y="1746360"/>
            <a:ext cx="4465440" cy="4968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468360" y="0"/>
            <a:ext cx="8351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од осуществляется до тех пор, пока не будет введён н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продолжается, пок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ользуемся операторо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FangSong"/>
              </a:rPr>
              <a:t>whil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611280" y="1746360"/>
            <a:ext cx="460836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program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n_1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n, k1, k2: 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k1: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k2: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while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n&lt;&gt;0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Введите целое число&gt;&gt;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read (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n&gt;0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then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k1:=k1+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n&lt;0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then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k2:=k2+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Введено: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положительных – ',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writel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'отрицательных – ',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k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7"/>
              <p:cNvSpPr txBox="1"/>
              <p:nvPr/>
            </p:nvSpPr>
            <p:spPr>
              <a:xfrm>
                <a:off x="4500720" y="714240"/>
                <a:ext cx="2887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217" name="Group 249"/>
          <p:cNvGrpSpPr/>
          <p:nvPr/>
        </p:nvGrpSpPr>
        <p:grpSpPr>
          <a:xfrm>
            <a:off x="5651640" y="1700280"/>
            <a:ext cx="2952720" cy="4968720"/>
            <a:chOff x="5651640" y="1700280"/>
            <a:chExt cx="2952720" cy="4968720"/>
          </a:xfrm>
        </p:grpSpPr>
        <p:sp>
          <p:nvSpPr>
            <p:cNvPr id="218" name="Line 105"/>
            <p:cNvSpPr/>
            <p:nvPr/>
          </p:nvSpPr>
          <p:spPr>
            <a:xfrm>
              <a:off x="7621560" y="3625920"/>
              <a:ext cx="0" cy="18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216"/>
            <p:cNvGrpSpPr/>
            <p:nvPr/>
          </p:nvGrpSpPr>
          <p:grpSpPr>
            <a:xfrm>
              <a:off x="5651640" y="1700280"/>
              <a:ext cx="2952720" cy="4968720"/>
              <a:chOff x="5651640" y="1700280"/>
              <a:chExt cx="2952720" cy="4968720"/>
            </a:xfrm>
          </p:grpSpPr>
          <p:sp>
            <p:nvSpPr>
              <p:cNvPr id="220" name="Text Box 88"/>
              <p:cNvSpPr/>
              <p:nvPr/>
            </p:nvSpPr>
            <p:spPr>
              <a:xfrm>
                <a:off x="6765840" y="4700520"/>
                <a:ext cx="49068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Group 218"/>
              <p:cNvGrpSpPr/>
              <p:nvPr/>
            </p:nvGrpSpPr>
            <p:grpSpPr>
              <a:xfrm>
                <a:off x="5651640" y="1700280"/>
                <a:ext cx="2952720" cy="4968720"/>
                <a:chOff x="5651640" y="1700280"/>
                <a:chExt cx="2952720" cy="4968720"/>
              </a:xfrm>
            </p:grpSpPr>
            <p:sp>
              <p:nvSpPr>
                <p:cNvPr id="222" name="Line 105"/>
                <p:cNvSpPr/>
                <p:nvPr/>
              </p:nvSpPr>
              <p:spPr>
                <a:xfrm>
                  <a:off x="7655040" y="4035600"/>
                  <a:ext cx="0" cy="18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AutoShape 98"/>
                <p:cNvSpPr/>
                <p:nvPr/>
              </p:nvSpPr>
              <p:spPr>
                <a:xfrm>
                  <a:off x="7093080" y="4869000"/>
                  <a:ext cx="1125360" cy="372960"/>
                </a:xfrm>
                <a:prstGeom prst="flowChartDecision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&gt; 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Text Box 88"/>
                <p:cNvSpPr/>
                <p:nvPr/>
              </p:nvSpPr>
              <p:spPr>
                <a:xfrm>
                  <a:off x="7667640" y="4653000"/>
                  <a:ext cx="4906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да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Text Box 89"/>
                <p:cNvSpPr/>
                <p:nvPr/>
              </p:nvSpPr>
              <p:spPr>
                <a:xfrm>
                  <a:off x="8028000" y="4149720"/>
                  <a:ext cx="49212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нет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AutoShape 96"/>
                <p:cNvSpPr/>
                <p:nvPr/>
              </p:nvSpPr>
              <p:spPr>
                <a:xfrm>
                  <a:off x="6919920" y="3811680"/>
                  <a:ext cx="1403280" cy="247680"/>
                </a:xfrm>
                <a:prstGeom prst="flowChartInputOutpu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110"/>
                <p:cNvSpPr/>
                <p:nvPr/>
              </p:nvSpPr>
              <p:spPr>
                <a:xfrm flipH="1">
                  <a:off x="8244000" y="4437000"/>
                  <a:ext cx="280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113"/>
                <p:cNvSpPr/>
                <p:nvPr/>
              </p:nvSpPr>
              <p:spPr>
                <a:xfrm>
                  <a:off x="7667640" y="5734080"/>
                  <a:ext cx="865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AutoShape 91"/>
                <p:cNvSpPr/>
                <p:nvPr/>
              </p:nvSpPr>
              <p:spPr>
                <a:xfrm>
                  <a:off x="6845400" y="1700280"/>
                  <a:ext cx="1477800" cy="372960"/>
                </a:xfrm>
                <a:prstGeom prst="flowChartTerminator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Начало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Rectangle 94"/>
                <p:cNvSpPr/>
                <p:nvPr/>
              </p:nvSpPr>
              <p:spPr>
                <a:xfrm>
                  <a:off x="6634080" y="2197080"/>
                  <a:ext cx="1967040" cy="374760"/>
                </a:xfrm>
                <a:prstGeom prst="rec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Список данны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Rectangle 95"/>
                <p:cNvSpPr/>
                <p:nvPr/>
              </p:nvSpPr>
              <p:spPr>
                <a:xfrm>
                  <a:off x="6637320" y="2570040"/>
                  <a:ext cx="1967040" cy="373320"/>
                </a:xfrm>
                <a:prstGeom prst="rec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, k1, k2 -</a:t>
                  </a:r>
                  <a:r>
                    <a:rPr b="0" i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цел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04"/>
                <p:cNvSpPr/>
                <p:nvPr/>
              </p:nvSpPr>
              <p:spPr>
                <a:xfrm>
                  <a:off x="7618320" y="2073240"/>
                  <a:ext cx="0" cy="123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05"/>
                <p:cNvSpPr/>
                <p:nvPr/>
              </p:nvSpPr>
              <p:spPr>
                <a:xfrm>
                  <a:off x="7618320" y="2941560"/>
                  <a:ext cx="0" cy="187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AutoShape 98"/>
                <p:cNvSpPr/>
                <p:nvPr/>
              </p:nvSpPr>
              <p:spPr>
                <a:xfrm>
                  <a:off x="7093080" y="4221000"/>
                  <a:ext cx="1125360" cy="432000"/>
                </a:xfrm>
                <a:prstGeom prst="flowChartDecision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&lt;&gt; 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AutoShape 111"/>
                <p:cNvSpPr/>
                <p:nvPr/>
              </p:nvSpPr>
              <p:spPr>
                <a:xfrm>
                  <a:off x="6919920" y="5923080"/>
                  <a:ext cx="1403280" cy="247680"/>
                </a:xfrm>
                <a:prstGeom prst="flowChartInputOutpu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k1, k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AutoShape 100"/>
                <p:cNvSpPr/>
                <p:nvPr/>
              </p:nvSpPr>
              <p:spPr>
                <a:xfrm>
                  <a:off x="7059600" y="6419880"/>
                  <a:ext cx="1198440" cy="249120"/>
                </a:xfrm>
                <a:prstGeom prst="flowChartTerminator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Конец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110"/>
                <p:cNvSpPr/>
                <p:nvPr/>
              </p:nvSpPr>
              <p:spPr>
                <a:xfrm>
                  <a:off x="7693200" y="6170760"/>
                  <a:ext cx="0" cy="249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Rectangle 97"/>
                <p:cNvSpPr/>
                <p:nvPr/>
              </p:nvSpPr>
              <p:spPr>
                <a:xfrm>
                  <a:off x="6919920" y="3129120"/>
                  <a:ext cx="1407960" cy="496800"/>
                </a:xfrm>
                <a:prstGeom prst="rec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k1:=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k2:=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105"/>
                <p:cNvSpPr/>
                <p:nvPr/>
              </p:nvSpPr>
              <p:spPr>
                <a:xfrm>
                  <a:off x="7667640" y="5734080"/>
                  <a:ext cx="0" cy="185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92"/>
                <p:cNvSpPr/>
                <p:nvPr/>
              </p:nvSpPr>
              <p:spPr>
                <a:xfrm>
                  <a:off x="5651640" y="3716280"/>
                  <a:ext cx="0" cy="180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Rectangle 95"/>
                <p:cNvSpPr/>
                <p:nvPr/>
              </p:nvSpPr>
              <p:spPr>
                <a:xfrm>
                  <a:off x="5796000" y="4869000"/>
                  <a:ext cx="987480" cy="311040"/>
                </a:xfrm>
                <a:prstGeom prst="rec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k1:=k1+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95"/>
                <p:cNvSpPr/>
                <p:nvPr/>
              </p:nvSpPr>
              <p:spPr>
                <a:xfrm>
                  <a:off x="5796000" y="5300640"/>
                  <a:ext cx="987480" cy="311040"/>
                </a:xfrm>
                <a:prstGeom prst="rect">
                  <a:avLst/>
                </a:prstGeom>
                <a:noFill/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k2:=k2+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05"/>
                <p:cNvSpPr/>
                <p:nvPr/>
              </p:nvSpPr>
              <p:spPr>
                <a:xfrm>
                  <a:off x="7655040" y="4683240"/>
                  <a:ext cx="0" cy="185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05"/>
                <p:cNvSpPr/>
                <p:nvPr/>
              </p:nvSpPr>
              <p:spPr>
                <a:xfrm>
                  <a:off x="7667640" y="5229360"/>
                  <a:ext cx="0" cy="215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110"/>
                <p:cNvSpPr/>
                <p:nvPr/>
              </p:nvSpPr>
              <p:spPr>
                <a:xfrm flipH="1">
                  <a:off x="6781320" y="5056200"/>
                  <a:ext cx="281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110"/>
                <p:cNvSpPr/>
                <p:nvPr/>
              </p:nvSpPr>
              <p:spPr>
                <a:xfrm flipH="1">
                  <a:off x="6803640" y="5445000"/>
                  <a:ext cx="863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110"/>
                <p:cNvSpPr/>
                <p:nvPr/>
              </p:nvSpPr>
              <p:spPr>
                <a:xfrm flipH="1">
                  <a:off x="5651640" y="5535720"/>
                  <a:ext cx="141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Line 110"/>
                <p:cNvSpPr/>
                <p:nvPr/>
              </p:nvSpPr>
              <p:spPr>
                <a:xfrm flipH="1">
                  <a:off x="5651640" y="4976640"/>
                  <a:ext cx="141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Text Box 89"/>
                <p:cNvSpPr/>
                <p:nvPr/>
              </p:nvSpPr>
              <p:spPr>
                <a:xfrm>
                  <a:off x="7740720" y="5229360"/>
                  <a:ext cx="49212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</a:rPr>
                    <a:t>нет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Line 113"/>
                <p:cNvSpPr/>
                <p:nvPr/>
              </p:nvSpPr>
              <p:spPr>
                <a:xfrm>
                  <a:off x="5651640" y="3716280"/>
                  <a:ext cx="1971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113"/>
                <p:cNvSpPr/>
                <p:nvPr/>
              </p:nvSpPr>
              <p:spPr>
                <a:xfrm flipV="1">
                  <a:off x="8532720" y="4436640"/>
                  <a:ext cx="0" cy="1297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Стрелка вниз 40"/>
          <p:cNvSpPr/>
          <p:nvPr/>
        </p:nvSpPr>
        <p:spPr>
          <a:xfrm>
            <a:off x="4143240" y="357120"/>
            <a:ext cx="7858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трелка вниз 41"/>
          <p:cNvSpPr/>
          <p:nvPr/>
        </p:nvSpPr>
        <p:spPr>
          <a:xfrm>
            <a:off x="4143240" y="1000080"/>
            <a:ext cx="7858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0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0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60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80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9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10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1000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1000"/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1000"/>
                                        <p:tgtEl>
                                          <p:spTgt spid="2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1000"/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24"/>
          <p:cNvSpPr/>
          <p:nvPr/>
        </p:nvSpPr>
        <p:spPr>
          <a:xfrm>
            <a:off x="539640" y="981000"/>
            <a:ext cx="813600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языке Паскаль имеются три вида операторов цик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-ПО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цикл-Д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 с параметр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число повторений тела цикла известно, то лучше воспользоваться оператором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в остальных случаях используются операторы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 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68360" y="907920"/>
            <a:ext cx="813600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а последовательность оператор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: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b:=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hile a+b&lt;8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:=a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b:=b+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:=a+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раз будет повторен цикл и какими буду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начения переменных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a, b, 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ле исполнения эт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ости оператор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66560" y="5013360"/>
          <a:ext cx="8498160" cy="1728720"/>
        </p:xfrm>
        <a:graphic>
          <a:graphicData uri="http://schemas.openxmlformats.org/drawingml/2006/table">
            <a:tbl>
              <a:tblPr/>
              <a:tblGrid>
                <a:gridCol w="4464360"/>
                <a:gridCol w="40338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едите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&gt; 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! = 1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едите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&gt; 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! = 7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Text Box 21"/>
          <p:cNvSpPr/>
          <p:nvPr/>
        </p:nvSpPr>
        <p:spPr>
          <a:xfrm>
            <a:off x="468360" y="981000"/>
            <a:ext cx="842472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овалось написать программу вычисления факториала числ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факториал числ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ть произведение всех целых чисел от 1до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ист торопился и написал  программу неправиль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же приведён фрагмент его программы, в котором содержи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ять ошиб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k:=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f:=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while k&lt;n 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f:=f*k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k:=k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ошибки. Допишите необходимые операто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468360" y="162864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анализируйте следующий цикл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a&lt;b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c:=a=b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чём его особенност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395280" y="1197000"/>
            <a:ext cx="84247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на последовательность оператор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:=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:=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pe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a:=a+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:=b*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b&gt;8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s:=a+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олько раз будет повторён цикл и какими будут значе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еременных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a, b, 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сле исполнения это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следовательности операторов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826920" y="2060640"/>
            <a:ext cx="7993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в которой осуществляется вво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целых чисел (ввод осуществляется до тех пор, пока 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будет введён ноль) и подсчёт суммы и среднег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арифметического введённых положительных чисе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ьзуйте оператор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repea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395280" y="148428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в которой осуществляется вво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целых чисел (ввод осуществляется до тех пор, пока 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будет введён ноль) и определение максимальног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наибольшего) из введённых чисе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ьзуйте оператор </a:t>
            </a:r>
            <a:r>
              <a:rPr b="0" lang="ru-RU" sz="2400" spc="-1" strike="noStrike">
                <a:solidFill>
                  <a:srgbClr val="ff0000"/>
                </a:solidFill>
                <a:latin typeface="FangSong"/>
              </a:rPr>
              <a:t>rep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68360" y="198900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 вычисления наибольшего общег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елителя двух целых чисел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используйте оператор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repea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используйте оператор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468360" y="1557360"/>
            <a:ext cx="799308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олько раз будет выполнен цикл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i:=0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s:=s+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i:=10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s:=s+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i:=-1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s:=s+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i:=10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10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s:=s+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 k:=5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i:=k-1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k+1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s:=s+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468360" y="227664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10 раз выводит на экр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ши имя и фамили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0"/>
          <p:cNvSpPr/>
          <p:nvPr/>
        </p:nvSpPr>
        <p:spPr>
          <a:xfrm>
            <a:off x="684360" y="1197000"/>
            <a:ext cx="7993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выводящую на экран изображен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шахматной доски, где чёрные клетки изображаютс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вёздочками, а белые  - пробелами. Рекомендуемый ви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экрана после выполнения программы представлен ниж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1"/>
          <p:cNvSpPr/>
          <p:nvPr/>
        </p:nvSpPr>
        <p:spPr>
          <a:xfrm>
            <a:off x="395280" y="2060640"/>
            <a:ext cx="7993080" cy="20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вычисляет сумм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первых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туральных чисел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квадратов первых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туральных чисел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всех чётных чисел в диапазоне от 1 до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всех двузначных чисе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2"/>
          <p:cNvSpPr/>
          <p:nvPr/>
        </p:nvSpPr>
        <p:spPr>
          <a:xfrm>
            <a:off x="395280" y="2349360"/>
            <a:ext cx="79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генерирует 10 случайны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чисел в диапазоне от 1 до 20, выводит эти числа на экра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вычисляет их среднее арифметическ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3"/>
          <p:cNvSpPr/>
          <p:nvPr/>
        </p:nvSpPr>
        <p:spPr>
          <a:xfrm>
            <a:off x="395280" y="981000"/>
            <a:ext cx="8352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выводит на экран таблиц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тепеней двойки (от нулевой до десятой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комендуемый вид экрана после выполнения программы представлен  ниж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блица степеней двойк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2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5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10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84360" y="2349360"/>
          <a:ext cx="8208720" cy="4469040"/>
        </p:xfrm>
        <a:graphic>
          <a:graphicData uri="http://schemas.openxmlformats.org/drawingml/2006/table">
            <a:tbl>
              <a:tblPr/>
              <a:tblGrid>
                <a:gridCol w="4311360"/>
                <a:gridCol w="3897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6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едите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&gt; 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2 = 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3 = 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4 = 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5 = 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6 = 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7 = 3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8 = 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9 = 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10 = 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Text Box 45"/>
          <p:cNvSpPr/>
          <p:nvPr/>
        </p:nvSpPr>
        <p:spPr>
          <a:xfrm>
            <a:off x="468360" y="112536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ишите программу, которая выводит на экран таблиц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умножения на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лое число в диапазоне от 2 до 10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одимое с клавиатуры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6"/>
          <p:cNvSpPr/>
          <p:nvPr/>
        </p:nvSpPr>
        <p:spPr>
          <a:xfrm>
            <a:off x="395280" y="227664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из трёх рассмотренных операторов цик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, по вашему мнению, основным, т. е. таким, ч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 можно заменить два други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нуйте свою точку зр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000"/>
                            </p:stCondLst>
                            <p:childTnLst>
                              <p:par>
                                <p:cTn id="8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3000"/>
                            </p:stCondLst>
                            <p:childTnLst>
                              <p:par>
                                <p:cTn id="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40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1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600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1000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70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1000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1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10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000"/>
                            </p:stCondLst>
                            <p:childTnLst>
                              <p:par>
                                <p:cTn id="9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10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3000"/>
                            </p:stCondLst>
                            <p:childTnLst>
                              <p:par>
                                <p:cTn id="9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100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400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1000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0"/>
                            </p:stCondLst>
                            <p:childTnLst>
                              <p:par>
                                <p:cTn id="9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1000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1000"/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700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1000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8000"/>
                            </p:stCondLst>
                            <p:childTnLst>
                              <p:par>
                                <p:cTn id="9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1000"/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900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1000"/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1000"/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187280" y="4508640"/>
            <a:ext cx="3816360" cy="504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FangSong"/>
              </a:rPr>
              <a:t>w</a:t>
            </a:r>
            <a:r>
              <a:rPr b="1" i="1" lang="ru-RU" sz="2800" spc="-1" strike="noStrike">
                <a:solidFill>
                  <a:srgbClr val="ffffff"/>
                </a:solidFill>
                <a:latin typeface="FangSong"/>
              </a:rPr>
              <a:t>hile 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цикл-ПОК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187280" y="3213000"/>
            <a:ext cx="3816360" cy="505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FangSong"/>
              </a:rPr>
              <a:t>repeat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(цикл-ДО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187280" y="2060640"/>
            <a:ext cx="3673800" cy="576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FangSong"/>
              </a:rPr>
              <a:t>for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цикл с параметром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5724360" y="1989000"/>
            <a:ext cx="3168720" cy="86364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Число повторен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цикла известн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7"/>
          <p:cNvSpPr/>
          <p:nvPr/>
        </p:nvSpPr>
        <p:spPr>
          <a:xfrm flipV="1">
            <a:off x="826920" y="1484280"/>
            <a:ext cx="0" cy="3240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539640" y="981000"/>
            <a:ext cx="8136000" cy="462600"/>
          </a:xfrm>
          <a:prstGeom prst="rect">
            <a:avLst/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языке Паскаль имеются три вида операторов цикл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5651640" y="3645000"/>
            <a:ext cx="3168360" cy="86364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Число повторен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цикла неизвестн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7"/>
          <p:cNvSpPr/>
          <p:nvPr/>
        </p:nvSpPr>
        <p:spPr>
          <a:xfrm>
            <a:off x="826920" y="242100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7"/>
          <p:cNvSpPr/>
          <p:nvPr/>
        </p:nvSpPr>
        <p:spPr>
          <a:xfrm>
            <a:off x="826920" y="472428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7"/>
          <p:cNvSpPr/>
          <p:nvPr/>
        </p:nvSpPr>
        <p:spPr>
          <a:xfrm>
            <a:off x="826920" y="350028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7"/>
          <p:cNvSpPr/>
          <p:nvPr/>
        </p:nvSpPr>
        <p:spPr>
          <a:xfrm>
            <a:off x="4932360" y="2421000"/>
            <a:ext cx="71928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7"/>
          <p:cNvSpPr/>
          <p:nvPr/>
        </p:nvSpPr>
        <p:spPr>
          <a:xfrm>
            <a:off x="5003640" y="3499560"/>
            <a:ext cx="648000" cy="576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7"/>
          <p:cNvSpPr/>
          <p:nvPr/>
        </p:nvSpPr>
        <p:spPr>
          <a:xfrm flipV="1">
            <a:off x="5003640" y="4076280"/>
            <a:ext cx="648000" cy="647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 цикл-ПО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цикл-Д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цикл с параметра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7"/>
          <p:cNvSpPr/>
          <p:nvPr/>
        </p:nvSpPr>
        <p:spPr>
          <a:xfrm>
            <a:off x="1258920" y="4005360"/>
            <a:ext cx="7058160" cy="2592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2"/>
          <p:cNvSpPr/>
          <p:nvPr/>
        </p:nvSpPr>
        <p:spPr>
          <a:xfrm>
            <a:off x="468360" y="189000"/>
            <a:ext cx="8218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рограммирование циклов с заданным условием продолжения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03280" y="3933720"/>
            <a:ext cx="6929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щий вид опера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whi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200" spc="-1" strike="noStrike">
                <a:solidFill>
                  <a:srgbClr val="00b050"/>
                </a:solidFill>
                <a:latin typeface="Arial"/>
              </a:rPr>
              <a:t>услов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200" spc="-1" strike="noStrike">
                <a:solidFill>
                  <a:srgbClr val="00b050"/>
                </a:solidFill>
                <a:latin typeface="Arial"/>
              </a:rPr>
              <a:t>операто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дес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200" spc="-1" strike="noStrike">
                <a:solidFill>
                  <a:srgbClr val="00b050"/>
                </a:solidFill>
                <a:latin typeface="Arial"/>
              </a:rPr>
              <a:t>услов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- логическое выражение;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ка оно истинно, выполняется тело цикл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200" spc="-1" strike="noStrike">
                <a:solidFill>
                  <a:srgbClr val="00b050"/>
                </a:solidFill>
                <a:latin typeface="Arial"/>
              </a:rPr>
              <a:t>операто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- простой или составной оператор, с помощью которого записано тело цик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9"/>
          <p:cNvGrpSpPr/>
          <p:nvPr/>
        </p:nvGrpSpPr>
        <p:grpSpPr>
          <a:xfrm>
            <a:off x="3429000" y="1698480"/>
            <a:ext cx="2950920" cy="2016000"/>
            <a:chOff x="3429000" y="1698480"/>
            <a:chExt cx="2950920" cy="2016000"/>
          </a:xfrm>
        </p:grpSpPr>
        <p:sp>
          <p:nvSpPr>
            <p:cNvPr id="49" name="Rectangle 30"/>
            <p:cNvSpPr/>
            <p:nvPr/>
          </p:nvSpPr>
          <p:spPr>
            <a:xfrm>
              <a:off x="3716280" y="2922480"/>
              <a:ext cx="1869840" cy="43344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ло цик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31"/>
            <p:cNvSpPr/>
            <p:nvPr/>
          </p:nvSpPr>
          <p:spPr>
            <a:xfrm>
              <a:off x="3571920" y="1987560"/>
              <a:ext cx="2160360" cy="57600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слов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32"/>
            <p:cNvSpPr/>
            <p:nvPr/>
          </p:nvSpPr>
          <p:spPr>
            <a:xfrm>
              <a:off x="4653000" y="169848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33"/>
            <p:cNvSpPr/>
            <p:nvPr/>
          </p:nvSpPr>
          <p:spPr>
            <a:xfrm>
              <a:off x="4653000" y="2563560"/>
              <a:ext cx="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34"/>
            <p:cNvSpPr/>
            <p:nvPr/>
          </p:nvSpPr>
          <p:spPr>
            <a:xfrm>
              <a:off x="4653000" y="3355920"/>
              <a:ext cx="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35"/>
            <p:cNvSpPr/>
            <p:nvPr/>
          </p:nvSpPr>
          <p:spPr>
            <a:xfrm>
              <a:off x="6379920" y="2274840"/>
              <a:ext cx="0" cy="129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36"/>
            <p:cNvSpPr/>
            <p:nvPr/>
          </p:nvSpPr>
          <p:spPr>
            <a:xfrm>
              <a:off x="5732280" y="2274840"/>
              <a:ext cx="64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37"/>
            <p:cNvSpPr/>
            <p:nvPr/>
          </p:nvSpPr>
          <p:spPr>
            <a:xfrm>
              <a:off x="3429000" y="1842840"/>
              <a:ext cx="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38"/>
            <p:cNvSpPr/>
            <p:nvPr/>
          </p:nvSpPr>
          <p:spPr>
            <a:xfrm>
              <a:off x="3429000" y="184284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9"/>
            <p:cNvSpPr/>
            <p:nvPr/>
          </p:nvSpPr>
          <p:spPr>
            <a:xfrm>
              <a:off x="3429000" y="371448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40"/>
            <p:cNvSpPr/>
            <p:nvPr/>
          </p:nvSpPr>
          <p:spPr>
            <a:xfrm>
              <a:off x="3932280" y="2563560"/>
              <a:ext cx="502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41"/>
            <p:cNvSpPr/>
            <p:nvPr/>
          </p:nvSpPr>
          <p:spPr>
            <a:xfrm>
              <a:off x="5587920" y="191448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1"/>
          <p:cNvSpPr/>
          <p:nvPr/>
        </p:nvSpPr>
        <p:spPr>
          <a:xfrm>
            <a:off x="4140360" y="0"/>
            <a:ext cx="5003640" cy="685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87"/>
          <p:cNvGrpSpPr/>
          <p:nvPr/>
        </p:nvGrpSpPr>
        <p:grpSpPr>
          <a:xfrm>
            <a:off x="611280" y="260280"/>
            <a:ext cx="2735280" cy="5904000"/>
            <a:chOff x="611280" y="260280"/>
            <a:chExt cx="2735280" cy="5904000"/>
          </a:xfrm>
        </p:grpSpPr>
        <p:sp>
          <p:nvSpPr>
            <p:cNvPr id="63" name="Text Box 88"/>
            <p:cNvSpPr/>
            <p:nvPr/>
          </p:nvSpPr>
          <p:spPr>
            <a:xfrm>
              <a:off x="1906920" y="371628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89"/>
            <p:cNvSpPr/>
            <p:nvPr/>
          </p:nvSpPr>
          <p:spPr>
            <a:xfrm>
              <a:off x="2698920" y="321156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90"/>
            <p:cNvGrpSpPr/>
            <p:nvPr/>
          </p:nvGrpSpPr>
          <p:grpSpPr>
            <a:xfrm>
              <a:off x="611280" y="260280"/>
              <a:ext cx="2735280" cy="5904000"/>
              <a:chOff x="611280" y="260280"/>
              <a:chExt cx="2735280" cy="5904000"/>
            </a:xfrm>
          </p:grpSpPr>
          <p:sp>
            <p:nvSpPr>
              <p:cNvPr id="66" name="AutoShape 91"/>
              <p:cNvSpPr/>
              <p:nvPr/>
            </p:nvSpPr>
            <p:spPr>
              <a:xfrm>
                <a:off x="1114560" y="260280"/>
                <a:ext cx="1513080" cy="432000"/>
              </a:xfrm>
              <a:prstGeom prst="flowChartTerminator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ачал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92"/>
              <p:cNvSpPr/>
              <p:nvPr/>
            </p:nvSpPr>
            <p:spPr>
              <a:xfrm>
                <a:off x="611280" y="3140280"/>
                <a:ext cx="0" cy="165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93"/>
              <p:cNvSpPr/>
              <p:nvPr/>
            </p:nvSpPr>
            <p:spPr>
              <a:xfrm>
                <a:off x="611280" y="479592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94"/>
              <p:cNvSpPr/>
              <p:nvPr/>
            </p:nvSpPr>
            <p:spPr>
              <a:xfrm>
                <a:off x="898560" y="836640"/>
                <a:ext cx="2013120" cy="43344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Список данны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95"/>
              <p:cNvSpPr/>
              <p:nvPr/>
            </p:nvSpPr>
            <p:spPr>
              <a:xfrm>
                <a:off x="901800" y="1268640"/>
                <a:ext cx="2013120" cy="43344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, y, r, q -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це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utoShape 96"/>
              <p:cNvSpPr/>
              <p:nvPr/>
            </p:nvSpPr>
            <p:spPr>
              <a:xfrm>
                <a:off x="1187640" y="1916280"/>
                <a:ext cx="1436760" cy="287280"/>
              </a:xfrm>
              <a:prstGeom prst="flowChartInputOutpu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, 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97"/>
              <p:cNvSpPr/>
              <p:nvPr/>
            </p:nvSpPr>
            <p:spPr>
              <a:xfrm>
                <a:off x="1187640" y="2419560"/>
                <a:ext cx="1441440" cy="57600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r: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: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AutoShape 98"/>
              <p:cNvSpPr/>
              <p:nvPr/>
            </p:nvSpPr>
            <p:spPr>
              <a:xfrm>
                <a:off x="1114560" y="3284640"/>
                <a:ext cx="1584360" cy="431640"/>
              </a:xfrm>
              <a:prstGeom prst="flowChartDecision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gt;=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99"/>
              <p:cNvSpPr/>
              <p:nvPr/>
            </p:nvSpPr>
            <p:spPr>
              <a:xfrm>
                <a:off x="1187640" y="4003920"/>
                <a:ext cx="1441440" cy="645840"/>
              </a:xfrm>
              <a:prstGeom prst="rec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r:=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:=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+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AutoShape 100"/>
              <p:cNvSpPr/>
              <p:nvPr/>
            </p:nvSpPr>
            <p:spPr>
              <a:xfrm>
                <a:off x="1114560" y="5732640"/>
                <a:ext cx="1513080" cy="431640"/>
              </a:xfrm>
              <a:prstGeom prst="flowChartTerminator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Конец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101"/>
              <p:cNvSpPr/>
              <p:nvPr/>
            </p:nvSpPr>
            <p:spPr>
              <a:xfrm>
                <a:off x="2627640" y="3500640"/>
                <a:ext cx="71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102"/>
              <p:cNvSpPr/>
              <p:nvPr/>
            </p:nvSpPr>
            <p:spPr>
              <a:xfrm>
                <a:off x="1906920" y="4653000"/>
                <a:ext cx="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03"/>
              <p:cNvSpPr/>
              <p:nvPr/>
            </p:nvSpPr>
            <p:spPr>
              <a:xfrm>
                <a:off x="1906920" y="5011920"/>
                <a:ext cx="14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04"/>
              <p:cNvSpPr/>
              <p:nvPr/>
            </p:nvSpPr>
            <p:spPr>
              <a:xfrm>
                <a:off x="1906920" y="692280"/>
                <a:ext cx="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105"/>
              <p:cNvSpPr/>
              <p:nvPr/>
            </p:nvSpPr>
            <p:spPr>
              <a:xfrm>
                <a:off x="1906920" y="170028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106"/>
              <p:cNvSpPr/>
              <p:nvPr/>
            </p:nvSpPr>
            <p:spPr>
              <a:xfrm>
                <a:off x="1906920" y="5011920"/>
                <a:ext cx="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107"/>
              <p:cNvSpPr/>
              <p:nvPr/>
            </p:nvSpPr>
            <p:spPr>
              <a:xfrm>
                <a:off x="1906920" y="220356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08"/>
              <p:cNvSpPr/>
              <p:nvPr/>
            </p:nvSpPr>
            <p:spPr>
              <a:xfrm>
                <a:off x="1906920" y="2995560"/>
                <a:ext cx="0" cy="28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109"/>
              <p:cNvSpPr/>
              <p:nvPr/>
            </p:nvSpPr>
            <p:spPr>
              <a:xfrm>
                <a:off x="1906920" y="3714840"/>
                <a:ext cx="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110"/>
              <p:cNvSpPr/>
              <p:nvPr/>
            </p:nvSpPr>
            <p:spPr>
              <a:xfrm>
                <a:off x="1906920" y="551664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AutoShape 111"/>
              <p:cNvSpPr/>
              <p:nvPr/>
            </p:nvSpPr>
            <p:spPr>
              <a:xfrm>
                <a:off x="1187640" y="5229360"/>
                <a:ext cx="1436760" cy="287280"/>
              </a:xfrm>
              <a:prstGeom prst="flowChartInputOutput">
                <a:avLst/>
              </a:prstGeom>
              <a:noFill/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r, 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112"/>
              <p:cNvSpPr/>
              <p:nvPr/>
            </p:nvSpPr>
            <p:spPr>
              <a:xfrm>
                <a:off x="3346560" y="3500640"/>
                <a:ext cx="0" cy="151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13"/>
              <p:cNvSpPr/>
              <p:nvPr/>
            </p:nvSpPr>
            <p:spPr>
              <a:xfrm>
                <a:off x="611280" y="3140280"/>
                <a:ext cx="129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" name="Text Box 30"/>
          <p:cNvSpPr/>
          <p:nvPr/>
        </p:nvSpPr>
        <p:spPr>
          <a:xfrm>
            <a:off x="4211640" y="193680"/>
            <a:ext cx="44658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program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n_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x, y, q, r: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Частное и остаток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'Введите делимое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&gt;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ln 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Введите делитель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&gt;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 (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: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q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while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r&gt;=x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:=r-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q:=q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Частное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q=', 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Остаток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=', 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8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2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6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8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6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6"/>
          <p:cNvSpPr/>
          <p:nvPr/>
        </p:nvSpPr>
        <p:spPr>
          <a:xfrm>
            <a:off x="468360" y="3789360"/>
            <a:ext cx="8424720" cy="2808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Заголовок 2"/>
          <p:cNvSpPr/>
          <p:nvPr/>
        </p:nvSpPr>
        <p:spPr>
          <a:xfrm>
            <a:off x="468360" y="189000"/>
            <a:ext cx="8218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рограммирование циклов с заданным условием окончания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39640" y="3789360"/>
            <a:ext cx="8353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щий вид опера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repea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оператор1; оператор2; …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until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услов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дес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оператор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; 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оператор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; … - операторы, образующие тело цикл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услов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- логическое выражение; если оно ложно, то выполняется тело цик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5"/>
          <p:cNvGrpSpPr/>
          <p:nvPr/>
        </p:nvGrpSpPr>
        <p:grpSpPr>
          <a:xfrm>
            <a:off x="3203640" y="1628640"/>
            <a:ext cx="2906640" cy="2017440"/>
            <a:chOff x="3203640" y="1628640"/>
            <a:chExt cx="2906640" cy="2017440"/>
          </a:xfrm>
        </p:grpSpPr>
        <p:sp>
          <p:nvSpPr>
            <p:cNvPr id="94" name="Line 39"/>
            <p:cNvSpPr/>
            <p:nvPr/>
          </p:nvSpPr>
          <p:spPr>
            <a:xfrm>
              <a:off x="3203640" y="364500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30"/>
            <p:cNvSpPr/>
            <p:nvPr/>
          </p:nvSpPr>
          <p:spPr>
            <a:xfrm>
              <a:off x="3519360" y="1916280"/>
              <a:ext cx="1870200" cy="43308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ело цик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31"/>
            <p:cNvSpPr/>
            <p:nvPr/>
          </p:nvSpPr>
          <p:spPr>
            <a:xfrm>
              <a:off x="3375000" y="2708280"/>
              <a:ext cx="2160720" cy="57636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слов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2"/>
            <p:cNvSpPr/>
            <p:nvPr/>
          </p:nvSpPr>
          <p:spPr>
            <a:xfrm>
              <a:off x="4427640" y="162864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33"/>
            <p:cNvSpPr/>
            <p:nvPr/>
          </p:nvSpPr>
          <p:spPr>
            <a:xfrm>
              <a:off x="4454640" y="2347920"/>
              <a:ext cx="0" cy="36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4"/>
            <p:cNvSpPr/>
            <p:nvPr/>
          </p:nvSpPr>
          <p:spPr>
            <a:xfrm>
              <a:off x="4427640" y="3286080"/>
              <a:ext cx="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6"/>
            <p:cNvSpPr/>
            <p:nvPr/>
          </p:nvSpPr>
          <p:spPr>
            <a:xfrm flipV="1">
              <a:off x="5535720" y="2995200"/>
              <a:ext cx="5745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7"/>
            <p:cNvSpPr/>
            <p:nvPr/>
          </p:nvSpPr>
          <p:spPr>
            <a:xfrm>
              <a:off x="3203640" y="1773360"/>
              <a:ext cx="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8"/>
            <p:cNvSpPr/>
            <p:nvPr/>
          </p:nvSpPr>
          <p:spPr>
            <a:xfrm>
              <a:off x="3203640" y="177336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40"/>
            <p:cNvSpPr/>
            <p:nvPr/>
          </p:nvSpPr>
          <p:spPr>
            <a:xfrm>
              <a:off x="5435640" y="263700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41"/>
            <p:cNvSpPr/>
            <p:nvPr/>
          </p:nvSpPr>
          <p:spPr>
            <a:xfrm>
              <a:off x="3708360" y="3357720"/>
              <a:ext cx="503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3"/>
            <p:cNvSpPr/>
            <p:nvPr/>
          </p:nvSpPr>
          <p:spPr>
            <a:xfrm>
              <a:off x="6084720" y="299736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2"/>
          <p:cNvSpPr/>
          <p:nvPr/>
        </p:nvSpPr>
        <p:spPr>
          <a:xfrm>
            <a:off x="468360" y="1052640"/>
            <a:ext cx="4390920" cy="4608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1052640"/>
            <a:ext cx="4319640" cy="47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program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_1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i: integer; x: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График тренировок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i:=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x:=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i:=i+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x:=x+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1*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until</a:t>
            </a:r>
            <a:r>
              <a:rPr b="0" lang="ru-RU" sz="2000" spc="-1" strike="noStrike">
                <a:solidFill>
                  <a:srgbClr val="000000"/>
                </a:solidFill>
                <a:latin typeface="FangSong"/>
              </a:rPr>
              <a:t> 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=2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Начиная с ',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'-го    дня спортсмен будет пробегать 25 км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8"/>
          <p:cNvGrpSpPr/>
          <p:nvPr/>
        </p:nvGrpSpPr>
        <p:grpSpPr>
          <a:xfrm>
            <a:off x="4932360" y="836640"/>
            <a:ext cx="4211280" cy="5689080"/>
            <a:chOff x="4932360" y="836640"/>
            <a:chExt cx="4211280" cy="5689080"/>
          </a:xfrm>
        </p:grpSpPr>
        <p:sp>
          <p:nvSpPr>
            <p:cNvPr id="109" name="AutoShape 29"/>
            <p:cNvSpPr/>
            <p:nvPr/>
          </p:nvSpPr>
          <p:spPr>
            <a:xfrm>
              <a:off x="7787160" y="6245640"/>
              <a:ext cx="1291680" cy="28008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30"/>
            <p:cNvSpPr/>
            <p:nvPr/>
          </p:nvSpPr>
          <p:spPr>
            <a:xfrm>
              <a:off x="7379640" y="5472720"/>
              <a:ext cx="4748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31"/>
            <p:cNvSpPr/>
            <p:nvPr/>
          </p:nvSpPr>
          <p:spPr>
            <a:xfrm>
              <a:off x="6496560" y="6035040"/>
              <a:ext cx="4748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32"/>
            <p:cNvSpPr/>
            <p:nvPr/>
          </p:nvSpPr>
          <p:spPr>
            <a:xfrm>
              <a:off x="4932360" y="3927240"/>
              <a:ext cx="149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33"/>
            <p:cNvSpPr/>
            <p:nvPr/>
          </p:nvSpPr>
          <p:spPr>
            <a:xfrm>
              <a:off x="5748840" y="836640"/>
              <a:ext cx="1428120" cy="42084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34"/>
            <p:cNvSpPr/>
            <p:nvPr/>
          </p:nvSpPr>
          <p:spPr>
            <a:xfrm>
              <a:off x="5410080" y="1539360"/>
              <a:ext cx="2038680" cy="42264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писок 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35"/>
            <p:cNvSpPr/>
            <p:nvPr/>
          </p:nvSpPr>
          <p:spPr>
            <a:xfrm>
              <a:off x="5410080" y="1960560"/>
              <a:ext cx="2038680" cy="77292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– це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е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6"/>
            <p:cNvSpPr/>
            <p:nvPr/>
          </p:nvSpPr>
          <p:spPr>
            <a:xfrm>
              <a:off x="5408640" y="3085200"/>
              <a:ext cx="2038320" cy="70128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= 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37"/>
            <p:cNvSpPr/>
            <p:nvPr/>
          </p:nvSpPr>
          <p:spPr>
            <a:xfrm>
              <a:off x="5545080" y="5472720"/>
              <a:ext cx="1766880" cy="561960"/>
            </a:xfrm>
            <a:prstGeom prst="flowChartDecision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gt;= 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8"/>
            <p:cNvSpPr/>
            <p:nvPr/>
          </p:nvSpPr>
          <p:spPr>
            <a:xfrm>
              <a:off x="5408640" y="4137840"/>
              <a:ext cx="2038320" cy="70164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=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0,1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39"/>
            <p:cNvSpPr/>
            <p:nvPr/>
          </p:nvSpPr>
          <p:spPr>
            <a:xfrm>
              <a:off x="7787160" y="5542560"/>
              <a:ext cx="1356480" cy="42084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0"/>
            <p:cNvSpPr/>
            <p:nvPr/>
          </p:nvSpPr>
          <p:spPr>
            <a:xfrm>
              <a:off x="4932360" y="3927240"/>
              <a:ext cx="0" cy="238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1"/>
            <p:cNvSpPr/>
            <p:nvPr/>
          </p:nvSpPr>
          <p:spPr>
            <a:xfrm>
              <a:off x="4932360" y="6315120"/>
              <a:ext cx="1495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2"/>
            <p:cNvSpPr/>
            <p:nvPr/>
          </p:nvSpPr>
          <p:spPr>
            <a:xfrm>
              <a:off x="6428160" y="484092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3"/>
            <p:cNvSpPr/>
            <p:nvPr/>
          </p:nvSpPr>
          <p:spPr>
            <a:xfrm>
              <a:off x="6428160" y="3786480"/>
              <a:ext cx="0" cy="35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44"/>
            <p:cNvSpPr/>
            <p:nvPr/>
          </p:nvSpPr>
          <p:spPr>
            <a:xfrm>
              <a:off x="6428160" y="6035040"/>
              <a:ext cx="0" cy="28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45"/>
            <p:cNvSpPr/>
            <p:nvPr/>
          </p:nvSpPr>
          <p:spPr>
            <a:xfrm>
              <a:off x="7245000" y="5753160"/>
              <a:ext cx="67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6"/>
            <p:cNvSpPr/>
            <p:nvPr/>
          </p:nvSpPr>
          <p:spPr>
            <a:xfrm>
              <a:off x="8467920" y="5963760"/>
              <a:ext cx="0" cy="28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47"/>
            <p:cNvSpPr/>
            <p:nvPr/>
          </p:nvSpPr>
          <p:spPr>
            <a:xfrm>
              <a:off x="6428160" y="2733480"/>
              <a:ext cx="0" cy="35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8"/>
            <p:cNvSpPr/>
            <p:nvPr/>
          </p:nvSpPr>
          <p:spPr>
            <a:xfrm>
              <a:off x="6428160" y="1258920"/>
              <a:ext cx="0" cy="28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Picture 53" descr="MC900280302[1]"/>
          <p:cNvPicPr/>
          <p:nvPr/>
        </p:nvPicPr>
        <p:blipFill>
          <a:blip r:embed="rId2"/>
          <a:stretch/>
        </p:blipFill>
        <p:spPr>
          <a:xfrm>
            <a:off x="7308720" y="1700280"/>
            <a:ext cx="1540080" cy="2290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9"/>
          <p:cNvSpPr/>
          <p:nvPr/>
        </p:nvSpPr>
        <p:spPr>
          <a:xfrm>
            <a:off x="468360" y="5084640"/>
            <a:ext cx="8461440" cy="122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468360" y="4508640"/>
            <a:ext cx="8424720" cy="2016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468360" y="3213000"/>
            <a:ext cx="8424720" cy="1295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Заголовок 2"/>
          <p:cNvSpPr/>
          <p:nvPr/>
        </p:nvSpPr>
        <p:spPr>
          <a:xfrm>
            <a:off x="468360" y="189000"/>
            <a:ext cx="8218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рограммирование циклов с заданным числом повтор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68360" y="3213000"/>
            <a:ext cx="842472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щий вид опера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  <a:ea typeface="Times New Roman"/>
              </a:rPr>
              <a:t>f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парамет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:=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начальное_знач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to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конечное_знач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do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операто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68360" y="4508640"/>
            <a:ext cx="842472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дес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парамет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- переменная целого тип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начальное_знач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и 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конечное_знач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- выражения того же типа, что и параметр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200" spc="-1" strike="noStrike">
                <a:solidFill>
                  <a:srgbClr val="009249"/>
                </a:solidFill>
                <a:latin typeface="Arial"/>
              </a:rPr>
              <a:t>операто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- простой или составной оператор - тело цик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68360" y="515772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 каждого выполнения тела цикла происходит увеличение на единицу параметра цикла; условие выхода из цикла  - превышение параметром конечного знач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38"/>
          <p:cNvGrpSpPr/>
          <p:nvPr/>
        </p:nvGrpSpPr>
        <p:grpSpPr>
          <a:xfrm>
            <a:off x="2987640" y="1197000"/>
            <a:ext cx="2592360" cy="1872720"/>
            <a:chOff x="2987640" y="1197000"/>
            <a:chExt cx="2592360" cy="1872720"/>
          </a:xfrm>
        </p:grpSpPr>
        <p:grpSp>
          <p:nvGrpSpPr>
            <p:cNvPr id="138" name="Group 36"/>
            <p:cNvGrpSpPr/>
            <p:nvPr/>
          </p:nvGrpSpPr>
          <p:grpSpPr>
            <a:xfrm>
              <a:off x="2987640" y="1412640"/>
              <a:ext cx="2592360" cy="1657080"/>
              <a:chOff x="2987640" y="1412640"/>
              <a:chExt cx="2592360" cy="1657080"/>
            </a:xfrm>
          </p:grpSpPr>
          <p:sp>
            <p:nvSpPr>
              <p:cNvPr id="139" name="Line 35"/>
              <p:cNvSpPr/>
              <p:nvPr/>
            </p:nvSpPr>
            <p:spPr>
              <a:xfrm>
                <a:off x="4284720" y="1988640"/>
                <a:ext cx="0" cy="10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33"/>
              <p:cNvSpPr/>
              <p:nvPr/>
            </p:nvSpPr>
            <p:spPr>
              <a:xfrm>
                <a:off x="2987640" y="1701000"/>
                <a:ext cx="259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29"/>
              <p:cNvSpPr/>
              <p:nvPr/>
            </p:nvSpPr>
            <p:spPr>
              <a:xfrm>
                <a:off x="3492360" y="2420280"/>
                <a:ext cx="1584360" cy="433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Тело цикл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30"/>
              <p:cNvSpPr/>
              <p:nvPr/>
            </p:nvSpPr>
            <p:spPr>
              <a:xfrm>
                <a:off x="2987640" y="1701000"/>
                <a:ext cx="0" cy="136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31"/>
              <p:cNvSpPr/>
              <p:nvPr/>
            </p:nvSpPr>
            <p:spPr>
              <a:xfrm flipV="1">
                <a:off x="5580000" y="1700640"/>
                <a:ext cx="0" cy="122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AutoShape 32"/>
              <p:cNvSpPr/>
              <p:nvPr/>
            </p:nvSpPr>
            <p:spPr>
              <a:xfrm>
                <a:off x="3492360" y="1412640"/>
                <a:ext cx="1656000" cy="576000"/>
              </a:xfrm>
              <a:prstGeom prst="flowChartPreparation">
                <a:avLst/>
              </a:prstGeom>
              <a:solidFill>
                <a:srgbClr val="ffffff"/>
              </a:soli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 = i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, i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34"/>
              <p:cNvSpPr/>
              <p:nvPr/>
            </p:nvSpPr>
            <p:spPr>
              <a:xfrm>
                <a:off x="2987640" y="3069720"/>
                <a:ext cx="129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Line 37"/>
            <p:cNvSpPr/>
            <p:nvPr/>
          </p:nvSpPr>
          <p:spPr>
            <a:xfrm>
              <a:off x="4284720" y="119700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8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6"/>
          <p:cNvSpPr/>
          <p:nvPr/>
        </p:nvSpPr>
        <p:spPr>
          <a:xfrm>
            <a:off x="468360" y="1413000"/>
            <a:ext cx="4319640" cy="4464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468360" y="1413000"/>
            <a:ext cx="439092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program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_1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i,n:integer;a,y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Возведение в степень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Введите основание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&gt;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ln 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'Введите показатель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&gt;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ln 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y: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fo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i:=1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to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do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y:=y*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'y=',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32"/>
          <p:cNvGrpSpPr/>
          <p:nvPr/>
        </p:nvGrpSpPr>
        <p:grpSpPr>
          <a:xfrm>
            <a:off x="4971960" y="1197000"/>
            <a:ext cx="4171680" cy="5400360"/>
            <a:chOff x="4971960" y="1197000"/>
            <a:chExt cx="4171680" cy="5400360"/>
          </a:xfrm>
        </p:grpSpPr>
        <p:sp>
          <p:nvSpPr>
            <p:cNvPr id="150" name="AutoShape 33"/>
            <p:cNvSpPr/>
            <p:nvPr/>
          </p:nvSpPr>
          <p:spPr>
            <a:xfrm>
              <a:off x="7800120" y="6264000"/>
              <a:ext cx="1279800" cy="33336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4"/>
            <p:cNvSpPr/>
            <p:nvPr/>
          </p:nvSpPr>
          <p:spPr>
            <a:xfrm>
              <a:off x="4971960" y="4330800"/>
              <a:ext cx="148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35"/>
            <p:cNvSpPr/>
            <p:nvPr/>
          </p:nvSpPr>
          <p:spPr>
            <a:xfrm>
              <a:off x="5847480" y="1197000"/>
              <a:ext cx="1279800" cy="332280"/>
            </a:xfrm>
            <a:prstGeom prst="flowChartTerminator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6"/>
            <p:cNvSpPr/>
            <p:nvPr/>
          </p:nvSpPr>
          <p:spPr>
            <a:xfrm>
              <a:off x="5445360" y="1796760"/>
              <a:ext cx="2019240" cy="40104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писок 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7"/>
            <p:cNvSpPr/>
            <p:nvPr/>
          </p:nvSpPr>
          <p:spPr>
            <a:xfrm>
              <a:off x="5445360" y="2196360"/>
              <a:ext cx="2019240" cy="53352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, 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– це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е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8"/>
            <p:cNvSpPr/>
            <p:nvPr/>
          </p:nvSpPr>
          <p:spPr>
            <a:xfrm>
              <a:off x="5644080" y="3729600"/>
              <a:ext cx="1618200" cy="46764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= 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9"/>
            <p:cNvSpPr/>
            <p:nvPr/>
          </p:nvSpPr>
          <p:spPr>
            <a:xfrm>
              <a:off x="5443920" y="5664240"/>
              <a:ext cx="2018880" cy="398160"/>
            </a:xfrm>
            <a:prstGeom prst="rec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: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*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40"/>
            <p:cNvSpPr/>
            <p:nvPr/>
          </p:nvSpPr>
          <p:spPr>
            <a:xfrm>
              <a:off x="7800120" y="5596560"/>
              <a:ext cx="1343520" cy="39960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1"/>
            <p:cNvSpPr/>
            <p:nvPr/>
          </p:nvSpPr>
          <p:spPr>
            <a:xfrm>
              <a:off x="4971960" y="4330800"/>
              <a:ext cx="0" cy="199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2"/>
            <p:cNvSpPr/>
            <p:nvPr/>
          </p:nvSpPr>
          <p:spPr>
            <a:xfrm>
              <a:off x="4971960" y="6329880"/>
              <a:ext cx="1481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43"/>
            <p:cNvSpPr/>
            <p:nvPr/>
          </p:nvSpPr>
          <p:spPr>
            <a:xfrm>
              <a:off x="6453720" y="5064120"/>
              <a:ext cx="0" cy="59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4"/>
            <p:cNvSpPr/>
            <p:nvPr/>
          </p:nvSpPr>
          <p:spPr>
            <a:xfrm>
              <a:off x="6453720" y="4197240"/>
              <a:ext cx="0" cy="3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5"/>
            <p:cNvSpPr/>
            <p:nvPr/>
          </p:nvSpPr>
          <p:spPr>
            <a:xfrm>
              <a:off x="6453720" y="6063840"/>
              <a:ext cx="0" cy="26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46"/>
            <p:cNvSpPr/>
            <p:nvPr/>
          </p:nvSpPr>
          <p:spPr>
            <a:xfrm>
              <a:off x="7262640" y="4797000"/>
              <a:ext cx="121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47"/>
            <p:cNvSpPr/>
            <p:nvPr/>
          </p:nvSpPr>
          <p:spPr>
            <a:xfrm>
              <a:off x="8474040" y="5996160"/>
              <a:ext cx="0" cy="26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8"/>
            <p:cNvSpPr/>
            <p:nvPr/>
          </p:nvSpPr>
          <p:spPr>
            <a:xfrm>
              <a:off x="6453720" y="2730240"/>
              <a:ext cx="0" cy="3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49"/>
            <p:cNvSpPr/>
            <p:nvPr/>
          </p:nvSpPr>
          <p:spPr>
            <a:xfrm>
              <a:off x="6453720" y="1530360"/>
              <a:ext cx="0" cy="266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50"/>
            <p:cNvSpPr/>
            <p:nvPr/>
          </p:nvSpPr>
          <p:spPr>
            <a:xfrm>
              <a:off x="5780880" y="3063960"/>
              <a:ext cx="1343520" cy="333360"/>
            </a:xfrm>
            <a:prstGeom prst="flowChartInputOutput">
              <a:avLst/>
            </a:prstGeom>
            <a:noFill/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1"/>
            <p:cNvSpPr/>
            <p:nvPr/>
          </p:nvSpPr>
          <p:spPr>
            <a:xfrm>
              <a:off x="6453720" y="3397680"/>
              <a:ext cx="0" cy="3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52"/>
            <p:cNvSpPr/>
            <p:nvPr/>
          </p:nvSpPr>
          <p:spPr>
            <a:xfrm>
              <a:off x="5645880" y="4530960"/>
              <a:ext cx="1615320" cy="533160"/>
            </a:xfrm>
            <a:prstGeom prst="flowChartPreparation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3"/>
            <p:cNvSpPr/>
            <p:nvPr/>
          </p:nvSpPr>
          <p:spPr>
            <a:xfrm>
              <a:off x="8474040" y="4797000"/>
              <a:ext cx="0" cy="79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Заголовок 2"/>
          <p:cNvSpPr/>
          <p:nvPr/>
        </p:nvSpPr>
        <p:spPr>
          <a:xfrm>
            <a:off x="468360" y="189000"/>
            <a:ext cx="8218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Различные варианты программирования циклического алгорит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68360" y="1773360"/>
            <a:ext cx="8424720" cy="8312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решения одной и той же задачи могут быть созданы разные программ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68360" y="3357720"/>
            <a:ext cx="8424720" cy="30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рганизуем ввод целых чисел и подсчёт количества введённых положительных и отрицательных чисел. Ввод должен осуществляться до тех пор, пока не будет введён но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задаче в явном виде задано условие окончания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спользуемся оператором 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repeat</a:t>
            </a: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трелка вниз 4"/>
          <p:cNvSpPr/>
          <p:nvPr/>
        </p:nvSpPr>
        <p:spPr>
          <a:xfrm>
            <a:off x="4286160" y="5429160"/>
            <a:ext cx="85752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8T16:49:55Z</dcterms:modified>
  <cp:revision>112</cp:revision>
  <dc:subject/>
  <dc:title>Презентация PowerPoint</dc:title>
</cp:coreProperties>
</file>