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34E-9001-4EC3-9675-3242CEB5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C65-1EBF-4449-BCA9-6FF81957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8BE-450E-43D7-963D-DAE5C191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634-CE54-4287-AA8E-74F511A8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AC9-04D4-4C25-8203-D36DC954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293-28E5-41DC-A04C-19201D42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952-0C98-46AB-88F4-3C2A4956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374-402F-4396-9C13-40595EA3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6DF-3204-4CB3-B692-21E562FE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DE5-0E26-45B8-AEAB-4533F9F3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30F-6A5F-4838-B707-EDB6492C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C4D-94BC-4613-8BE5-83358B50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C40A-602C-40E1-BAB9-489510A5D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ГРАММИРОВАНИЕ  ЦИКЛИЧЕСКИХ 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22"/>
          <p:cNvSpPr/>
          <p:nvPr/>
        </p:nvSpPr>
        <p:spPr>
          <a:xfrm>
            <a:off x="395280" y="260280"/>
            <a:ext cx="4897440" cy="554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95280" y="189000"/>
            <a:ext cx="511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_1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, k1, k2: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1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2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целое число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&gt;0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k1:=k1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&lt;0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k2:=k2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until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ено: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положительных чисел – ',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отрицательных чисел – ',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86"/>
          <p:cNvGrpSpPr/>
          <p:nvPr/>
        </p:nvGrpSpPr>
        <p:grpSpPr>
          <a:xfrm>
            <a:off x="5435280" y="333360"/>
            <a:ext cx="3021480" cy="5761080"/>
            <a:chOff x="5435280" y="333360"/>
            <a:chExt cx="3021480" cy="5761080"/>
          </a:xfrm>
        </p:grpSpPr>
        <p:sp>
          <p:nvSpPr>
            <p:cNvPr id="178" name="Line 105"/>
            <p:cNvSpPr/>
            <p:nvPr/>
          </p:nvSpPr>
          <p:spPr>
            <a:xfrm>
              <a:off x="7451640" y="2565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88"/>
            <p:cNvGrpSpPr/>
            <p:nvPr/>
          </p:nvGrpSpPr>
          <p:grpSpPr>
            <a:xfrm>
              <a:off x="5435280" y="333360"/>
              <a:ext cx="3021480" cy="5761080"/>
              <a:chOff x="5435280" y="333360"/>
              <a:chExt cx="3021480" cy="5761080"/>
            </a:xfrm>
          </p:grpSpPr>
          <p:sp>
            <p:nvSpPr>
              <p:cNvPr id="180" name="Line 105"/>
              <p:cNvSpPr/>
              <p:nvPr/>
            </p:nvSpPr>
            <p:spPr>
              <a:xfrm>
                <a:off x="7451640" y="436572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8"/>
              <p:cNvSpPr/>
              <p:nvPr/>
            </p:nvSpPr>
            <p:spPr>
              <a:xfrm>
                <a:off x="7667640" y="4941720"/>
                <a:ext cx="50328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191"/>
              <p:cNvGrpSpPr/>
              <p:nvPr/>
            </p:nvGrpSpPr>
            <p:grpSpPr>
              <a:xfrm>
                <a:off x="5435280" y="333360"/>
                <a:ext cx="3021480" cy="5761080"/>
                <a:chOff x="5435280" y="333360"/>
                <a:chExt cx="3021480" cy="5761080"/>
              </a:xfrm>
            </p:grpSpPr>
            <p:sp>
              <p:nvSpPr>
                <p:cNvPr id="183" name="Text Box 89"/>
                <p:cNvSpPr/>
                <p:nvPr/>
              </p:nvSpPr>
              <p:spPr>
                <a:xfrm>
                  <a:off x="7524720" y="371628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92"/>
                <p:cNvSpPr/>
                <p:nvPr/>
              </p:nvSpPr>
              <p:spPr>
                <a:xfrm>
                  <a:off x="5435640" y="2708280"/>
                  <a:ext cx="0" cy="20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96"/>
                <p:cNvSpPr/>
                <p:nvPr/>
              </p:nvSpPr>
              <p:spPr>
                <a:xfrm>
                  <a:off x="6732720" y="2781360"/>
                  <a:ext cx="1436400" cy="287280"/>
                </a:xfrm>
                <a:prstGeom prst="flowChartInputOutpu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AutoShape 98"/>
                <p:cNvSpPr/>
                <p:nvPr/>
              </p:nvSpPr>
              <p:spPr>
                <a:xfrm>
                  <a:off x="6877080" y="3284640"/>
                  <a:ext cx="1150920" cy="43164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gt;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110"/>
                <p:cNvSpPr/>
                <p:nvPr/>
              </p:nvSpPr>
              <p:spPr>
                <a:xfrm flipH="1">
                  <a:off x="6587640" y="4149720"/>
                  <a:ext cx="287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13"/>
                <p:cNvSpPr/>
                <p:nvPr/>
              </p:nvSpPr>
              <p:spPr>
                <a:xfrm>
                  <a:off x="5435640" y="2708280"/>
                  <a:ext cx="201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91"/>
                <p:cNvSpPr/>
                <p:nvPr/>
              </p:nvSpPr>
              <p:spPr>
                <a:xfrm>
                  <a:off x="6656400" y="333360"/>
                  <a:ext cx="1512720" cy="431640"/>
                </a:xfrm>
                <a:prstGeom prst="flowChartTerminator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ачало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94"/>
                <p:cNvSpPr/>
                <p:nvPr/>
              </p:nvSpPr>
              <p:spPr>
                <a:xfrm>
                  <a:off x="6440400" y="909720"/>
                  <a:ext cx="2013120" cy="43344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Список дан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95"/>
                <p:cNvSpPr/>
                <p:nvPr/>
              </p:nvSpPr>
              <p:spPr>
                <a:xfrm>
                  <a:off x="6443640" y="1341360"/>
                  <a:ext cx="2013120" cy="43344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, k1, k2 -</a:t>
                  </a:r>
                  <a:r>
                    <a:rPr b="0" i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цел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04"/>
                <p:cNvSpPr/>
                <p:nvPr/>
              </p:nvSpPr>
              <p:spPr>
                <a:xfrm>
                  <a:off x="7448400" y="765000"/>
                  <a:ext cx="0" cy="14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05"/>
                <p:cNvSpPr/>
                <p:nvPr/>
              </p:nvSpPr>
              <p:spPr>
                <a:xfrm>
                  <a:off x="7448400" y="1773360"/>
                  <a:ext cx="0" cy="215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98"/>
                <p:cNvSpPr/>
                <p:nvPr/>
              </p:nvSpPr>
              <p:spPr>
                <a:xfrm>
                  <a:off x="6877080" y="3933720"/>
                  <a:ext cx="1152360" cy="43200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lt;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98"/>
                <p:cNvSpPr/>
                <p:nvPr/>
              </p:nvSpPr>
              <p:spPr>
                <a:xfrm>
                  <a:off x="6877080" y="4581360"/>
                  <a:ext cx="1150920" cy="43200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=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111"/>
                <p:cNvSpPr/>
                <p:nvPr/>
              </p:nvSpPr>
              <p:spPr>
                <a:xfrm>
                  <a:off x="6732720" y="5229360"/>
                  <a:ext cx="1436400" cy="287280"/>
                </a:xfrm>
                <a:prstGeom prst="flowChartInputOutpu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, k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AutoShape 100"/>
                <p:cNvSpPr/>
                <p:nvPr/>
              </p:nvSpPr>
              <p:spPr>
                <a:xfrm>
                  <a:off x="6877080" y="5805360"/>
                  <a:ext cx="1225440" cy="289080"/>
                </a:xfrm>
                <a:prstGeom prst="flowChartTerminator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Конец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110"/>
                <p:cNvSpPr/>
                <p:nvPr/>
              </p:nvSpPr>
              <p:spPr>
                <a:xfrm>
                  <a:off x="7524720" y="551664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97"/>
                <p:cNvSpPr/>
                <p:nvPr/>
              </p:nvSpPr>
              <p:spPr>
                <a:xfrm>
                  <a:off x="6732720" y="1989000"/>
                  <a:ext cx="1441440" cy="57636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:=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2:=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95"/>
                <p:cNvSpPr/>
                <p:nvPr/>
              </p:nvSpPr>
              <p:spPr>
                <a:xfrm>
                  <a:off x="5580000" y="3284640"/>
                  <a:ext cx="1009800" cy="36036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:=k1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95"/>
                <p:cNvSpPr/>
                <p:nvPr/>
              </p:nvSpPr>
              <p:spPr>
                <a:xfrm>
                  <a:off x="5580000" y="4005360"/>
                  <a:ext cx="1009800" cy="36036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2:=k2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5"/>
                <p:cNvSpPr/>
                <p:nvPr/>
              </p:nvSpPr>
              <p:spPr>
                <a:xfrm>
                  <a:off x="7451640" y="306864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105"/>
                <p:cNvSpPr/>
                <p:nvPr/>
              </p:nvSpPr>
              <p:spPr>
                <a:xfrm>
                  <a:off x="7451640" y="371628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105"/>
                <p:cNvSpPr/>
                <p:nvPr/>
              </p:nvSpPr>
              <p:spPr>
                <a:xfrm>
                  <a:off x="7451640" y="501336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110"/>
                <p:cNvSpPr/>
                <p:nvPr/>
              </p:nvSpPr>
              <p:spPr>
                <a:xfrm flipH="1">
                  <a:off x="6587640" y="3500280"/>
                  <a:ext cx="287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110"/>
                <p:cNvSpPr/>
                <p:nvPr/>
              </p:nvSpPr>
              <p:spPr>
                <a:xfrm flipH="1">
                  <a:off x="5435640" y="4797360"/>
                  <a:ext cx="1440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10"/>
                <p:cNvSpPr/>
                <p:nvPr/>
              </p:nvSpPr>
              <p:spPr>
                <a:xfrm flipH="1">
                  <a:off x="5435280" y="4149720"/>
                  <a:ext cx="14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110"/>
                <p:cNvSpPr/>
                <p:nvPr/>
              </p:nvSpPr>
              <p:spPr>
                <a:xfrm flipH="1">
                  <a:off x="5435280" y="3500280"/>
                  <a:ext cx="14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Text Box 88"/>
                <p:cNvSpPr/>
                <p:nvPr/>
              </p:nvSpPr>
              <p:spPr>
                <a:xfrm>
                  <a:off x="6588000" y="314172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88"/>
                <p:cNvSpPr/>
                <p:nvPr/>
              </p:nvSpPr>
              <p:spPr>
                <a:xfrm>
                  <a:off x="6588000" y="378936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89"/>
                <p:cNvSpPr/>
                <p:nvPr/>
              </p:nvSpPr>
              <p:spPr>
                <a:xfrm>
                  <a:off x="7524720" y="436572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89"/>
                <p:cNvSpPr/>
                <p:nvPr/>
              </p:nvSpPr>
              <p:spPr>
                <a:xfrm>
                  <a:off x="6300720" y="450864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82"/>
          <p:cNvSpPr/>
          <p:nvPr/>
        </p:nvSpPr>
        <p:spPr>
          <a:xfrm>
            <a:off x="611280" y="1746360"/>
            <a:ext cx="4465440" cy="496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68360" y="0"/>
            <a:ext cx="8351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 осуществляется до тех пор, пока не будет введён н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продолжается, по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ользуемся оператор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whil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11280" y="1746360"/>
            <a:ext cx="460836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_1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, k1, k2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k1: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k2: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while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&lt;&g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целое число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read 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&g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k1:=k1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&l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k2:=k2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ено: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положительных – ',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отрицательных – ',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k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4500720" y="71424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17" name="Group 249"/>
          <p:cNvGrpSpPr/>
          <p:nvPr/>
        </p:nvGrpSpPr>
        <p:grpSpPr>
          <a:xfrm>
            <a:off x="5651640" y="1700280"/>
            <a:ext cx="2952720" cy="4968720"/>
            <a:chOff x="5651640" y="1700280"/>
            <a:chExt cx="2952720" cy="4968720"/>
          </a:xfrm>
        </p:grpSpPr>
        <p:sp>
          <p:nvSpPr>
            <p:cNvPr id="218" name="Line 105"/>
            <p:cNvSpPr/>
            <p:nvPr/>
          </p:nvSpPr>
          <p:spPr>
            <a:xfrm>
              <a:off x="7621560" y="3625920"/>
              <a:ext cx="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216"/>
            <p:cNvGrpSpPr/>
            <p:nvPr/>
          </p:nvGrpSpPr>
          <p:grpSpPr>
            <a:xfrm>
              <a:off x="5651640" y="1700280"/>
              <a:ext cx="2952720" cy="4968720"/>
              <a:chOff x="5651640" y="1700280"/>
              <a:chExt cx="2952720" cy="4968720"/>
            </a:xfrm>
          </p:grpSpPr>
          <p:sp>
            <p:nvSpPr>
              <p:cNvPr id="220" name="Text Box 88"/>
              <p:cNvSpPr/>
              <p:nvPr/>
            </p:nvSpPr>
            <p:spPr>
              <a:xfrm>
                <a:off x="6765840" y="4700520"/>
                <a:ext cx="49068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218"/>
              <p:cNvGrpSpPr/>
              <p:nvPr/>
            </p:nvGrpSpPr>
            <p:grpSpPr>
              <a:xfrm>
                <a:off x="5651640" y="1700280"/>
                <a:ext cx="2952720" cy="4968720"/>
                <a:chOff x="5651640" y="1700280"/>
                <a:chExt cx="2952720" cy="4968720"/>
              </a:xfrm>
            </p:grpSpPr>
            <p:sp>
              <p:nvSpPr>
                <p:cNvPr id="222" name="Line 105"/>
                <p:cNvSpPr/>
                <p:nvPr/>
              </p:nvSpPr>
              <p:spPr>
                <a:xfrm>
                  <a:off x="7655040" y="4035600"/>
                  <a:ext cx="0" cy="18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98"/>
                <p:cNvSpPr/>
                <p:nvPr/>
              </p:nvSpPr>
              <p:spPr>
                <a:xfrm>
                  <a:off x="7093080" y="4869000"/>
                  <a:ext cx="1125360" cy="37296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gt;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 Box 88"/>
                <p:cNvSpPr/>
                <p:nvPr/>
              </p:nvSpPr>
              <p:spPr>
                <a:xfrm>
                  <a:off x="7667640" y="4653000"/>
                  <a:ext cx="49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 Box 89"/>
                <p:cNvSpPr/>
                <p:nvPr/>
              </p:nvSpPr>
              <p:spPr>
                <a:xfrm>
                  <a:off x="8028000" y="4149720"/>
                  <a:ext cx="4921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AutoShape 96"/>
                <p:cNvSpPr/>
                <p:nvPr/>
              </p:nvSpPr>
              <p:spPr>
                <a:xfrm>
                  <a:off x="6919920" y="3811680"/>
                  <a:ext cx="1403280" cy="247680"/>
                </a:xfrm>
                <a:prstGeom prst="flowChartInputOutpu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10"/>
                <p:cNvSpPr/>
                <p:nvPr/>
              </p:nvSpPr>
              <p:spPr>
                <a:xfrm flipH="1">
                  <a:off x="8244000" y="4437000"/>
                  <a:ext cx="280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13"/>
                <p:cNvSpPr/>
                <p:nvPr/>
              </p:nvSpPr>
              <p:spPr>
                <a:xfrm>
                  <a:off x="7667640" y="5734080"/>
                  <a:ext cx="86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91"/>
                <p:cNvSpPr/>
                <p:nvPr/>
              </p:nvSpPr>
              <p:spPr>
                <a:xfrm>
                  <a:off x="6845400" y="1700280"/>
                  <a:ext cx="1477800" cy="372960"/>
                </a:xfrm>
                <a:prstGeom prst="flowChartTerminator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ачало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94"/>
                <p:cNvSpPr/>
                <p:nvPr/>
              </p:nvSpPr>
              <p:spPr>
                <a:xfrm>
                  <a:off x="6634080" y="2197080"/>
                  <a:ext cx="1967040" cy="37476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Список дан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95"/>
                <p:cNvSpPr/>
                <p:nvPr/>
              </p:nvSpPr>
              <p:spPr>
                <a:xfrm>
                  <a:off x="6637320" y="2570040"/>
                  <a:ext cx="1967040" cy="37332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, k1, k2 -</a:t>
                  </a:r>
                  <a:r>
                    <a:rPr b="0" i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цел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4"/>
                <p:cNvSpPr/>
                <p:nvPr/>
              </p:nvSpPr>
              <p:spPr>
                <a:xfrm>
                  <a:off x="7618320" y="2073240"/>
                  <a:ext cx="0" cy="12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5"/>
                <p:cNvSpPr/>
                <p:nvPr/>
              </p:nvSpPr>
              <p:spPr>
                <a:xfrm>
                  <a:off x="7618320" y="2941560"/>
                  <a:ext cx="0" cy="187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AutoShape 98"/>
                <p:cNvSpPr/>
                <p:nvPr/>
              </p:nvSpPr>
              <p:spPr>
                <a:xfrm>
                  <a:off x="7093080" y="4221000"/>
                  <a:ext cx="1125360" cy="43200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lt;&gt;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AutoShape 111"/>
                <p:cNvSpPr/>
                <p:nvPr/>
              </p:nvSpPr>
              <p:spPr>
                <a:xfrm>
                  <a:off x="6919920" y="5923080"/>
                  <a:ext cx="1403280" cy="247680"/>
                </a:xfrm>
                <a:prstGeom prst="flowChartInputOutpu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, k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100"/>
                <p:cNvSpPr/>
                <p:nvPr/>
              </p:nvSpPr>
              <p:spPr>
                <a:xfrm>
                  <a:off x="7059600" y="6419880"/>
                  <a:ext cx="1198440" cy="249120"/>
                </a:xfrm>
                <a:prstGeom prst="flowChartTerminator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Конец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0"/>
                <p:cNvSpPr/>
                <p:nvPr/>
              </p:nvSpPr>
              <p:spPr>
                <a:xfrm>
                  <a:off x="7693200" y="6170760"/>
                  <a:ext cx="0" cy="24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97"/>
                <p:cNvSpPr/>
                <p:nvPr/>
              </p:nvSpPr>
              <p:spPr>
                <a:xfrm>
                  <a:off x="6919920" y="3129120"/>
                  <a:ext cx="1407960" cy="49680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:=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2:=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05"/>
                <p:cNvSpPr/>
                <p:nvPr/>
              </p:nvSpPr>
              <p:spPr>
                <a:xfrm>
                  <a:off x="7667640" y="5734080"/>
                  <a:ext cx="0" cy="18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2"/>
                <p:cNvSpPr/>
                <p:nvPr/>
              </p:nvSpPr>
              <p:spPr>
                <a:xfrm>
                  <a:off x="5651640" y="3716280"/>
                  <a:ext cx="0" cy="180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95"/>
                <p:cNvSpPr/>
                <p:nvPr/>
              </p:nvSpPr>
              <p:spPr>
                <a:xfrm>
                  <a:off x="5796000" y="4869000"/>
                  <a:ext cx="987480" cy="31104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:=k1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95"/>
                <p:cNvSpPr/>
                <p:nvPr/>
              </p:nvSpPr>
              <p:spPr>
                <a:xfrm>
                  <a:off x="5796000" y="5300640"/>
                  <a:ext cx="987480" cy="31104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2:=k2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5"/>
                <p:cNvSpPr/>
                <p:nvPr/>
              </p:nvSpPr>
              <p:spPr>
                <a:xfrm>
                  <a:off x="7655040" y="4683240"/>
                  <a:ext cx="0" cy="18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05"/>
                <p:cNvSpPr/>
                <p:nvPr/>
              </p:nvSpPr>
              <p:spPr>
                <a:xfrm>
                  <a:off x="7667640" y="5229360"/>
                  <a:ext cx="0" cy="215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10"/>
                <p:cNvSpPr/>
                <p:nvPr/>
              </p:nvSpPr>
              <p:spPr>
                <a:xfrm flipH="1">
                  <a:off x="6781320" y="5056200"/>
                  <a:ext cx="281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10"/>
                <p:cNvSpPr/>
                <p:nvPr/>
              </p:nvSpPr>
              <p:spPr>
                <a:xfrm flipH="1">
                  <a:off x="6803640" y="5445000"/>
                  <a:ext cx="863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10"/>
                <p:cNvSpPr/>
                <p:nvPr/>
              </p:nvSpPr>
              <p:spPr>
                <a:xfrm flipH="1">
                  <a:off x="5651640" y="5535720"/>
                  <a:ext cx="141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10"/>
                <p:cNvSpPr/>
                <p:nvPr/>
              </p:nvSpPr>
              <p:spPr>
                <a:xfrm flipH="1">
                  <a:off x="5651640" y="4976640"/>
                  <a:ext cx="141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89"/>
                <p:cNvSpPr/>
                <p:nvPr/>
              </p:nvSpPr>
              <p:spPr>
                <a:xfrm>
                  <a:off x="7740720" y="5229360"/>
                  <a:ext cx="4921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13"/>
                <p:cNvSpPr/>
                <p:nvPr/>
              </p:nvSpPr>
              <p:spPr>
                <a:xfrm>
                  <a:off x="5651640" y="3716280"/>
                  <a:ext cx="1971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13"/>
                <p:cNvSpPr/>
                <p:nvPr/>
              </p:nvSpPr>
              <p:spPr>
                <a:xfrm flipV="1">
                  <a:off x="8532720" y="4436640"/>
                  <a:ext cx="0" cy="12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Стрелка вниз 40"/>
          <p:cNvSpPr/>
          <p:nvPr/>
        </p:nvSpPr>
        <p:spPr>
          <a:xfrm>
            <a:off x="4143240" y="35712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низ 41"/>
          <p:cNvSpPr/>
          <p:nvPr/>
        </p:nvSpPr>
        <p:spPr>
          <a:xfrm>
            <a:off x="4143240" y="100008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9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4"/>
          <p:cNvSpPr/>
          <p:nvPr/>
        </p:nvSpPr>
        <p:spPr>
          <a:xfrm>
            <a:off x="539640" y="981000"/>
            <a:ext cx="813600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зыке Паскаль имеются три вида операторов цик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-ПО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икл-Д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параметр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число повторений тела цикла известно, то лучше воспользоваться операторо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в остальных случаях используются операторы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68360" y="907920"/>
            <a:ext cx="81360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а последовательность операто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:=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ile a+b&lt;8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:=a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:=b+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:=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раз будет повторен цикл и какими буду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чения переменны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, b, 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исполнения эт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и оператор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6560" y="5013360"/>
          <a:ext cx="8498160" cy="1728720"/>
        </p:xfrm>
        <a:graphic>
          <a:graphicData uri="http://schemas.openxmlformats.org/drawingml/2006/table">
            <a:tbl>
              <a:tblPr/>
              <a:tblGrid>
                <a:gridCol w="4464360"/>
                <a:gridCol w="4033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ите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&gt; 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 = 1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ите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&gt; 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 = 7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21"/>
          <p:cNvSpPr/>
          <p:nvPr/>
        </p:nvSpPr>
        <p:spPr>
          <a:xfrm>
            <a:off x="468360" y="981000"/>
            <a:ext cx="842472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лось написать программу вычисления факториала числ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факториал числ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произведение всех целых чисел от 1д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ист торопился и написал  программу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же приведён фрагмент его программы, в котором содержи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ять ошиб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k:=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f: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while k&lt;n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f:=f*k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k:=k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ошибки. Допишите необходимые опера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468360" y="1628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анализируйте следующий цик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a&lt;b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:=a=b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чём его особенн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395280" y="1197000"/>
            <a:ext cx="8424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а последовательность оператор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:=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:=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pe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:=a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:=b*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b&gt;8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s:=a+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лько раз будет повторён цикл и какими будут знач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еременны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a, b, 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сле исполнения это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следовательности операторов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826920" y="2060640"/>
            <a:ext cx="7993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в которой осуществляется вв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целых чисел (ввод осуществляется до тех пор, пока 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удет введён ноль) и подсчёт суммы и сред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рифметического введённых положительн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йте оператор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395280" y="148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в которой осуществляется вв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целых чисел (ввод осуществляется до тех пор, пока 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удет введён ноль) и определение максимально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наибольшего) из введённ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йте оператор </a:t>
            </a:r>
            <a:r>
              <a:rPr b="0" lang="ru-RU" sz="2400" spc="-1" strike="noStrike">
                <a:solidFill>
                  <a:srgbClr val="ff0000"/>
                </a:solidFill>
                <a:latin typeface="FangSong"/>
              </a:rPr>
              <a:t>rep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68360" y="198900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 вычисления наибольшего общ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елителя двух целых чисе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используйте оператор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используйте оператор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468360" y="1557360"/>
            <a:ext cx="799308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лько раз будет выполнен цик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1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-1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1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k:=5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k-1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k+1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468360" y="2276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10 раз выводит на экр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ши имя и фамил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684360" y="1197000"/>
            <a:ext cx="7993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выводящую на экран изображ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шахматной доски, где чёрные клетки изображаютс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ёздочками, а белые  - пробелами. Рекомендуемый ви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экрана после выполнения программы представлен ниж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395280" y="2060640"/>
            <a:ext cx="7993080" cy="20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первых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туральных чисе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квадратов первых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туральных чисе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всех чётных чисел в диапазоне от 1 до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всех двузначн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395280" y="2349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генерирует 10 случайны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исел в диапазоне от 1 до 20, выводит эти числа на экр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вычисляет их среднее арифметическ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395280" y="981000"/>
            <a:ext cx="835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водит на экран таблиц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тепеней двойки (от нулевой до десято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омендуемый вид экрана после выполнения программы представлен  ниж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степеней двой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5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0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84360" y="2349360"/>
          <a:ext cx="8208720" cy="4469040"/>
        </p:xfrm>
        <a:graphic>
          <a:graphicData uri="http://schemas.openxmlformats.org/drawingml/2006/table">
            <a:tbl>
              <a:tblPr/>
              <a:tblGrid>
                <a:gridCol w="4311360"/>
                <a:gridCol w="3897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6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ите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&gt; 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2 = 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3 = 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4 = 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5 = 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6 = 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7 = 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8 = 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9 = 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10 = 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Text Box 45"/>
          <p:cNvSpPr/>
          <p:nvPr/>
        </p:nvSpPr>
        <p:spPr>
          <a:xfrm>
            <a:off x="468360" y="112536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водит на экран таблиц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множения на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ое число в диапазоне от 2 до 10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имое с клавиатуры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6"/>
          <p:cNvSpPr/>
          <p:nvPr/>
        </p:nvSpPr>
        <p:spPr>
          <a:xfrm>
            <a:off x="395280" y="2276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из трёх рассмотренных операторов цик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, по вашему мнению, основным, т. е. таким, ч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 можно заменить два други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свою точку з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6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70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0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4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7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80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1000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90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187280" y="4508640"/>
            <a:ext cx="381636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FangSong"/>
              </a:rPr>
              <a:t>w</a:t>
            </a:r>
            <a:r>
              <a:rPr b="1" i="1" lang="ru-RU" sz="2800" spc="-1" strike="noStrike">
                <a:solidFill>
                  <a:srgbClr val="ffffff"/>
                </a:solidFill>
                <a:latin typeface="FangSong"/>
              </a:rPr>
              <a:t>hile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цикл-ПОК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187280" y="3213000"/>
            <a:ext cx="381636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angSong"/>
              </a:rPr>
              <a:t>repeat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(цикл-Д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187280" y="206064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angSong"/>
              </a:rPr>
              <a:t>for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цикл с параметро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5724360" y="1989000"/>
            <a:ext cx="3168720" cy="8636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 повтор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икла извест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7"/>
          <p:cNvSpPr/>
          <p:nvPr/>
        </p:nvSpPr>
        <p:spPr>
          <a:xfrm flipV="1">
            <a:off x="826920" y="1484280"/>
            <a:ext cx="0" cy="3240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539640" y="981000"/>
            <a:ext cx="8136000" cy="46260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языке Паскаль имеются три вида операторов цикл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5651640" y="3645000"/>
            <a:ext cx="3168360" cy="8636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 повтор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икла неизвест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26920" y="2421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826920" y="472428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26920" y="350028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>
            <a:off x="4932360" y="2421000"/>
            <a:ext cx="7192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5003640" y="3499560"/>
            <a:ext cx="648000" cy="57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 flipV="1">
            <a:off x="5003640" y="4076280"/>
            <a:ext cx="64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 цикл-ПО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цикл-Д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цикл с параметра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1258920" y="4005360"/>
            <a:ext cx="7058160" cy="259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468360" y="189000"/>
            <a:ext cx="8218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граммирование циклов с заданным условием продолж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03280" y="3933720"/>
            <a:ext cx="6929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й вид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whi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опера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логическое выражение;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ка оно истинно, выполняется тело цик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опера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простой или составной оператор, с помощью которого записано тело цик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9"/>
          <p:cNvGrpSpPr/>
          <p:nvPr/>
        </p:nvGrpSpPr>
        <p:grpSpPr>
          <a:xfrm>
            <a:off x="3429000" y="1698480"/>
            <a:ext cx="2950920" cy="2016000"/>
            <a:chOff x="3429000" y="1698480"/>
            <a:chExt cx="2950920" cy="2016000"/>
          </a:xfrm>
        </p:grpSpPr>
        <p:sp>
          <p:nvSpPr>
            <p:cNvPr id="49" name="Rectangle 30"/>
            <p:cNvSpPr/>
            <p:nvPr/>
          </p:nvSpPr>
          <p:spPr>
            <a:xfrm>
              <a:off x="3716280" y="2922480"/>
              <a:ext cx="186984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ло цик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31"/>
            <p:cNvSpPr/>
            <p:nvPr/>
          </p:nvSpPr>
          <p:spPr>
            <a:xfrm>
              <a:off x="3571920" y="1987560"/>
              <a:ext cx="216036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2"/>
            <p:cNvSpPr/>
            <p:nvPr/>
          </p:nvSpPr>
          <p:spPr>
            <a:xfrm>
              <a:off x="4653000" y="16984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33"/>
            <p:cNvSpPr/>
            <p:nvPr/>
          </p:nvSpPr>
          <p:spPr>
            <a:xfrm>
              <a:off x="4653000" y="256356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4"/>
            <p:cNvSpPr/>
            <p:nvPr/>
          </p:nvSpPr>
          <p:spPr>
            <a:xfrm>
              <a:off x="4653000" y="3355920"/>
              <a:ext cx="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5"/>
            <p:cNvSpPr/>
            <p:nvPr/>
          </p:nvSpPr>
          <p:spPr>
            <a:xfrm>
              <a:off x="6379920" y="2274840"/>
              <a:ext cx="0" cy="12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36"/>
            <p:cNvSpPr/>
            <p:nvPr/>
          </p:nvSpPr>
          <p:spPr>
            <a:xfrm>
              <a:off x="5732280" y="227484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37"/>
            <p:cNvSpPr/>
            <p:nvPr/>
          </p:nvSpPr>
          <p:spPr>
            <a:xfrm>
              <a:off x="3429000" y="184284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38"/>
            <p:cNvSpPr/>
            <p:nvPr/>
          </p:nvSpPr>
          <p:spPr>
            <a:xfrm>
              <a:off x="3429000" y="184284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9"/>
            <p:cNvSpPr/>
            <p:nvPr/>
          </p:nvSpPr>
          <p:spPr>
            <a:xfrm>
              <a:off x="3429000" y="37144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40"/>
            <p:cNvSpPr/>
            <p:nvPr/>
          </p:nvSpPr>
          <p:spPr>
            <a:xfrm>
              <a:off x="3932280" y="2563560"/>
              <a:ext cx="502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41"/>
            <p:cNvSpPr/>
            <p:nvPr/>
          </p:nvSpPr>
          <p:spPr>
            <a:xfrm>
              <a:off x="5587920" y="191448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1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87"/>
          <p:cNvGrpSpPr/>
          <p:nvPr/>
        </p:nvGrpSpPr>
        <p:grpSpPr>
          <a:xfrm>
            <a:off x="611280" y="260280"/>
            <a:ext cx="2735280" cy="5904000"/>
            <a:chOff x="611280" y="260280"/>
            <a:chExt cx="2735280" cy="5904000"/>
          </a:xfrm>
        </p:grpSpPr>
        <p:sp>
          <p:nvSpPr>
            <p:cNvPr id="63" name="Text Box 88"/>
            <p:cNvSpPr/>
            <p:nvPr/>
          </p:nvSpPr>
          <p:spPr>
            <a:xfrm>
              <a:off x="1906920" y="371628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89"/>
            <p:cNvSpPr/>
            <p:nvPr/>
          </p:nvSpPr>
          <p:spPr>
            <a:xfrm>
              <a:off x="2698920" y="32115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90"/>
            <p:cNvGrpSpPr/>
            <p:nvPr/>
          </p:nvGrpSpPr>
          <p:grpSpPr>
            <a:xfrm>
              <a:off x="611280" y="260280"/>
              <a:ext cx="2735280" cy="5904000"/>
              <a:chOff x="611280" y="260280"/>
              <a:chExt cx="2735280" cy="5904000"/>
            </a:xfrm>
          </p:grpSpPr>
          <p:sp>
            <p:nvSpPr>
              <p:cNvPr id="66" name="AutoShape 91"/>
              <p:cNvSpPr/>
              <p:nvPr/>
            </p:nvSpPr>
            <p:spPr>
              <a:xfrm>
                <a:off x="1114560" y="260280"/>
                <a:ext cx="1513080" cy="432000"/>
              </a:xfrm>
              <a:prstGeom prst="flowChartTerminator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92"/>
              <p:cNvSpPr/>
              <p:nvPr/>
            </p:nvSpPr>
            <p:spPr>
              <a:xfrm>
                <a:off x="611280" y="3140280"/>
                <a:ext cx="0" cy="165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93"/>
              <p:cNvSpPr/>
              <p:nvPr/>
            </p:nvSpPr>
            <p:spPr>
              <a:xfrm>
                <a:off x="611280" y="479592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94"/>
              <p:cNvSpPr/>
              <p:nvPr/>
            </p:nvSpPr>
            <p:spPr>
              <a:xfrm>
                <a:off x="898560" y="836640"/>
                <a:ext cx="201312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писок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95"/>
              <p:cNvSpPr/>
              <p:nvPr/>
            </p:nvSpPr>
            <p:spPr>
              <a:xfrm>
                <a:off x="901800" y="1268640"/>
                <a:ext cx="201312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, y, r, q 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це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96"/>
              <p:cNvSpPr/>
              <p:nvPr/>
            </p:nvSpPr>
            <p:spPr>
              <a:xfrm>
                <a:off x="1187640" y="1916280"/>
                <a:ext cx="1436760" cy="287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,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97"/>
              <p:cNvSpPr/>
              <p:nvPr/>
            </p:nvSpPr>
            <p:spPr>
              <a:xfrm>
                <a:off x="1187640" y="2419560"/>
                <a:ext cx="1441440" cy="57600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: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: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98"/>
              <p:cNvSpPr/>
              <p:nvPr/>
            </p:nvSpPr>
            <p:spPr>
              <a:xfrm>
                <a:off x="1114560" y="3284640"/>
                <a:ext cx="1584360" cy="43164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gt;=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99"/>
              <p:cNvSpPr/>
              <p:nvPr/>
            </p:nvSpPr>
            <p:spPr>
              <a:xfrm>
                <a:off x="1187640" y="4003920"/>
                <a:ext cx="1441440" cy="6458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+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100"/>
              <p:cNvSpPr/>
              <p:nvPr/>
            </p:nvSpPr>
            <p:spPr>
              <a:xfrm>
                <a:off x="1114560" y="5732640"/>
                <a:ext cx="1513080" cy="431640"/>
              </a:xfrm>
              <a:prstGeom prst="flowChartTerminator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01"/>
              <p:cNvSpPr/>
              <p:nvPr/>
            </p:nvSpPr>
            <p:spPr>
              <a:xfrm>
                <a:off x="2627640" y="3500640"/>
                <a:ext cx="71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02"/>
              <p:cNvSpPr/>
              <p:nvPr/>
            </p:nvSpPr>
            <p:spPr>
              <a:xfrm>
                <a:off x="1906920" y="4653000"/>
                <a:ext cx="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03"/>
              <p:cNvSpPr/>
              <p:nvPr/>
            </p:nvSpPr>
            <p:spPr>
              <a:xfrm>
                <a:off x="1906920" y="5011920"/>
                <a:ext cx="14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04"/>
              <p:cNvSpPr/>
              <p:nvPr/>
            </p:nvSpPr>
            <p:spPr>
              <a:xfrm>
                <a:off x="1906920" y="69228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05"/>
              <p:cNvSpPr/>
              <p:nvPr/>
            </p:nvSpPr>
            <p:spPr>
              <a:xfrm>
                <a:off x="1906920" y="170028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06"/>
              <p:cNvSpPr/>
              <p:nvPr/>
            </p:nvSpPr>
            <p:spPr>
              <a:xfrm>
                <a:off x="1906920" y="5011920"/>
                <a:ext cx="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07"/>
              <p:cNvSpPr/>
              <p:nvPr/>
            </p:nvSpPr>
            <p:spPr>
              <a:xfrm>
                <a:off x="1906920" y="220356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08"/>
              <p:cNvSpPr/>
              <p:nvPr/>
            </p:nvSpPr>
            <p:spPr>
              <a:xfrm>
                <a:off x="1906920" y="299556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09"/>
              <p:cNvSpPr/>
              <p:nvPr/>
            </p:nvSpPr>
            <p:spPr>
              <a:xfrm>
                <a:off x="1906920" y="371484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10"/>
              <p:cNvSpPr/>
              <p:nvPr/>
            </p:nvSpPr>
            <p:spPr>
              <a:xfrm>
                <a:off x="1906920" y="551664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111"/>
              <p:cNvSpPr/>
              <p:nvPr/>
            </p:nvSpPr>
            <p:spPr>
              <a:xfrm>
                <a:off x="1187640" y="5229360"/>
                <a:ext cx="1436760" cy="287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,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12"/>
              <p:cNvSpPr/>
              <p:nvPr/>
            </p:nvSpPr>
            <p:spPr>
              <a:xfrm>
                <a:off x="3346560" y="3500640"/>
                <a:ext cx="0" cy="151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13"/>
              <p:cNvSpPr/>
              <p:nvPr/>
            </p:nvSpPr>
            <p:spPr>
              <a:xfrm>
                <a:off x="611280" y="314028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Text Box 30"/>
          <p:cNvSpPr/>
          <p:nvPr/>
        </p:nvSpPr>
        <p:spPr>
          <a:xfrm>
            <a:off x="4211640" y="193680"/>
            <a:ext cx="4465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_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x, y, q, r: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Частное и остаток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Введите делимое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делитель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 (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: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q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&gt;=x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:=r-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q:=q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Частное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q=', 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Остаток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=', 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6"/>
          <p:cNvSpPr/>
          <p:nvPr/>
        </p:nvSpPr>
        <p:spPr>
          <a:xfrm>
            <a:off x="468360" y="3789360"/>
            <a:ext cx="8424720" cy="280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2"/>
          <p:cNvSpPr/>
          <p:nvPr/>
        </p:nvSpPr>
        <p:spPr>
          <a:xfrm>
            <a:off x="468360" y="189000"/>
            <a:ext cx="8218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граммирование циклов с заданным условием оконча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9640" y="3789360"/>
            <a:ext cx="8353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й вид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epea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1; оператор2; …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unti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;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; … - операторы, образующие тело цик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логическое выражение; если оно ложно, то выполняется тело цик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5"/>
          <p:cNvGrpSpPr/>
          <p:nvPr/>
        </p:nvGrpSpPr>
        <p:grpSpPr>
          <a:xfrm>
            <a:off x="3203640" y="1628640"/>
            <a:ext cx="2906640" cy="2017440"/>
            <a:chOff x="3203640" y="1628640"/>
            <a:chExt cx="2906640" cy="2017440"/>
          </a:xfrm>
        </p:grpSpPr>
        <p:sp>
          <p:nvSpPr>
            <p:cNvPr id="94" name="Line 39"/>
            <p:cNvSpPr/>
            <p:nvPr/>
          </p:nvSpPr>
          <p:spPr>
            <a:xfrm>
              <a:off x="3203640" y="364500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3519360" y="1916280"/>
              <a:ext cx="187020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ло цик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31"/>
            <p:cNvSpPr/>
            <p:nvPr/>
          </p:nvSpPr>
          <p:spPr>
            <a:xfrm>
              <a:off x="3375000" y="2708280"/>
              <a:ext cx="2160720" cy="5763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>
              <a:off x="4427640" y="162864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3"/>
            <p:cNvSpPr/>
            <p:nvPr/>
          </p:nvSpPr>
          <p:spPr>
            <a:xfrm>
              <a:off x="4454640" y="2347920"/>
              <a:ext cx="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4"/>
            <p:cNvSpPr/>
            <p:nvPr/>
          </p:nvSpPr>
          <p:spPr>
            <a:xfrm>
              <a:off x="4427640" y="328608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6"/>
            <p:cNvSpPr/>
            <p:nvPr/>
          </p:nvSpPr>
          <p:spPr>
            <a:xfrm flipV="1">
              <a:off x="5535720" y="2995200"/>
              <a:ext cx="5745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7"/>
            <p:cNvSpPr/>
            <p:nvPr/>
          </p:nvSpPr>
          <p:spPr>
            <a:xfrm>
              <a:off x="3203640" y="177336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8"/>
            <p:cNvSpPr/>
            <p:nvPr/>
          </p:nvSpPr>
          <p:spPr>
            <a:xfrm>
              <a:off x="3203640" y="177336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0"/>
            <p:cNvSpPr/>
            <p:nvPr/>
          </p:nvSpPr>
          <p:spPr>
            <a:xfrm>
              <a:off x="5435640" y="263700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1"/>
            <p:cNvSpPr/>
            <p:nvPr/>
          </p:nvSpPr>
          <p:spPr>
            <a:xfrm>
              <a:off x="3708360" y="335772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3"/>
            <p:cNvSpPr/>
            <p:nvPr/>
          </p:nvSpPr>
          <p:spPr>
            <a:xfrm>
              <a:off x="6084720" y="299736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2"/>
          <p:cNvSpPr/>
          <p:nvPr/>
        </p:nvSpPr>
        <p:spPr>
          <a:xfrm>
            <a:off x="468360" y="1052640"/>
            <a:ext cx="4390920" cy="460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1052640"/>
            <a:ext cx="431964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1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: integer; x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График тренировок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i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x:=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i:=i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x:=x+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1*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until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=2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Начиная с ',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'-го    дня спортсмен будет пробегать 25 км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8"/>
          <p:cNvGrpSpPr/>
          <p:nvPr/>
        </p:nvGrpSpPr>
        <p:grpSpPr>
          <a:xfrm>
            <a:off x="4932360" y="836640"/>
            <a:ext cx="4211280" cy="5689080"/>
            <a:chOff x="4932360" y="836640"/>
            <a:chExt cx="4211280" cy="5689080"/>
          </a:xfrm>
        </p:grpSpPr>
        <p:sp>
          <p:nvSpPr>
            <p:cNvPr id="109" name="AutoShape 29"/>
            <p:cNvSpPr/>
            <p:nvPr/>
          </p:nvSpPr>
          <p:spPr>
            <a:xfrm>
              <a:off x="7787160" y="6245640"/>
              <a:ext cx="1291680" cy="2800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0"/>
            <p:cNvSpPr/>
            <p:nvPr/>
          </p:nvSpPr>
          <p:spPr>
            <a:xfrm>
              <a:off x="7379640" y="5472720"/>
              <a:ext cx="474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1"/>
            <p:cNvSpPr/>
            <p:nvPr/>
          </p:nvSpPr>
          <p:spPr>
            <a:xfrm>
              <a:off x="6496560" y="6035040"/>
              <a:ext cx="474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2"/>
            <p:cNvSpPr/>
            <p:nvPr/>
          </p:nvSpPr>
          <p:spPr>
            <a:xfrm>
              <a:off x="4932360" y="3927240"/>
              <a:ext cx="149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33"/>
            <p:cNvSpPr/>
            <p:nvPr/>
          </p:nvSpPr>
          <p:spPr>
            <a:xfrm>
              <a:off x="5748840" y="836640"/>
              <a:ext cx="1428120" cy="4208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5410080" y="1539360"/>
              <a:ext cx="2038680" cy="4226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5410080" y="1960560"/>
              <a:ext cx="2038680" cy="7729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5408640" y="3085200"/>
              <a:ext cx="2038320" cy="7012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7"/>
            <p:cNvSpPr/>
            <p:nvPr/>
          </p:nvSpPr>
          <p:spPr>
            <a:xfrm>
              <a:off x="5545080" y="5472720"/>
              <a:ext cx="1766880" cy="5619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= 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8"/>
            <p:cNvSpPr/>
            <p:nvPr/>
          </p:nvSpPr>
          <p:spPr>
            <a:xfrm>
              <a:off x="5408640" y="4137840"/>
              <a:ext cx="2038320" cy="7016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0,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9"/>
            <p:cNvSpPr/>
            <p:nvPr/>
          </p:nvSpPr>
          <p:spPr>
            <a:xfrm>
              <a:off x="7787160" y="5542560"/>
              <a:ext cx="1356480" cy="4208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0"/>
            <p:cNvSpPr/>
            <p:nvPr/>
          </p:nvSpPr>
          <p:spPr>
            <a:xfrm>
              <a:off x="4932360" y="3927240"/>
              <a:ext cx="0" cy="238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1"/>
            <p:cNvSpPr/>
            <p:nvPr/>
          </p:nvSpPr>
          <p:spPr>
            <a:xfrm>
              <a:off x="4932360" y="6315120"/>
              <a:ext cx="149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2"/>
            <p:cNvSpPr/>
            <p:nvPr/>
          </p:nvSpPr>
          <p:spPr>
            <a:xfrm>
              <a:off x="6428160" y="484092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3"/>
            <p:cNvSpPr/>
            <p:nvPr/>
          </p:nvSpPr>
          <p:spPr>
            <a:xfrm>
              <a:off x="6428160" y="3786480"/>
              <a:ext cx="0" cy="35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4"/>
            <p:cNvSpPr/>
            <p:nvPr/>
          </p:nvSpPr>
          <p:spPr>
            <a:xfrm>
              <a:off x="6428160" y="6035040"/>
              <a:ext cx="0" cy="28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5"/>
            <p:cNvSpPr/>
            <p:nvPr/>
          </p:nvSpPr>
          <p:spPr>
            <a:xfrm>
              <a:off x="7245000" y="5753160"/>
              <a:ext cx="67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6"/>
            <p:cNvSpPr/>
            <p:nvPr/>
          </p:nvSpPr>
          <p:spPr>
            <a:xfrm>
              <a:off x="8467920" y="5963760"/>
              <a:ext cx="0" cy="28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7"/>
            <p:cNvSpPr/>
            <p:nvPr/>
          </p:nvSpPr>
          <p:spPr>
            <a:xfrm>
              <a:off x="6428160" y="2733480"/>
              <a:ext cx="0" cy="35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8"/>
            <p:cNvSpPr/>
            <p:nvPr/>
          </p:nvSpPr>
          <p:spPr>
            <a:xfrm>
              <a:off x="6428160" y="1258920"/>
              <a:ext cx="0" cy="28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53" descr="MC900280302[1]"/>
          <p:cNvPicPr/>
          <p:nvPr/>
        </p:nvPicPr>
        <p:blipFill>
          <a:blip r:embed="rId2"/>
          <a:stretch/>
        </p:blipFill>
        <p:spPr>
          <a:xfrm>
            <a:off x="7308720" y="1700280"/>
            <a:ext cx="1540080" cy="2290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9"/>
          <p:cNvSpPr/>
          <p:nvPr/>
        </p:nvSpPr>
        <p:spPr>
          <a:xfrm>
            <a:off x="468360" y="5084640"/>
            <a:ext cx="8461440" cy="122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468360" y="4508640"/>
            <a:ext cx="842472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468360" y="3213000"/>
            <a:ext cx="842472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оловок 2"/>
          <p:cNvSpPr/>
          <p:nvPr/>
        </p:nvSpPr>
        <p:spPr>
          <a:xfrm>
            <a:off x="468360" y="189000"/>
            <a:ext cx="8218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граммирование циклов с заданным числом повто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8360" y="3213000"/>
            <a:ext cx="84247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й вид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  <a:ea typeface="Times New Roman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парамет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:=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начальное_зна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конечное_зна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do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68360" y="4508640"/>
            <a:ext cx="842472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парамет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переменная целого тип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начальное_зна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и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конечное_зна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выражения того же типа, что и параметр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простой или составной оператор - тело цик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68360" y="515772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каждого выполнения тела цикла происходит увеличение на единицу параметра цикла; условие выхода из цикла  - превышение параметром конечного зна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8"/>
          <p:cNvGrpSpPr/>
          <p:nvPr/>
        </p:nvGrpSpPr>
        <p:grpSpPr>
          <a:xfrm>
            <a:off x="2987640" y="1197000"/>
            <a:ext cx="2592360" cy="1872720"/>
            <a:chOff x="2987640" y="1197000"/>
            <a:chExt cx="2592360" cy="1872720"/>
          </a:xfrm>
        </p:grpSpPr>
        <p:grpSp>
          <p:nvGrpSpPr>
            <p:cNvPr id="138" name="Group 36"/>
            <p:cNvGrpSpPr/>
            <p:nvPr/>
          </p:nvGrpSpPr>
          <p:grpSpPr>
            <a:xfrm>
              <a:off x="2987640" y="1412640"/>
              <a:ext cx="2592360" cy="1657080"/>
              <a:chOff x="2987640" y="1412640"/>
              <a:chExt cx="2592360" cy="1657080"/>
            </a:xfrm>
          </p:grpSpPr>
          <p:sp>
            <p:nvSpPr>
              <p:cNvPr id="139" name="Line 35"/>
              <p:cNvSpPr/>
              <p:nvPr/>
            </p:nvSpPr>
            <p:spPr>
              <a:xfrm>
                <a:off x="4284720" y="1988640"/>
                <a:ext cx="0" cy="10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3"/>
              <p:cNvSpPr/>
              <p:nvPr/>
            </p:nvSpPr>
            <p:spPr>
              <a:xfrm>
                <a:off x="2987640" y="1701000"/>
                <a:ext cx="25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29"/>
              <p:cNvSpPr/>
              <p:nvPr/>
            </p:nvSpPr>
            <p:spPr>
              <a:xfrm>
                <a:off x="3492360" y="2420280"/>
                <a:ext cx="1584360" cy="433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Тело цикл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0"/>
              <p:cNvSpPr/>
              <p:nvPr/>
            </p:nvSpPr>
            <p:spPr>
              <a:xfrm>
                <a:off x="2987640" y="1701000"/>
                <a:ext cx="0" cy="136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1"/>
              <p:cNvSpPr/>
              <p:nvPr/>
            </p:nvSpPr>
            <p:spPr>
              <a:xfrm flipV="1">
                <a:off x="5580000" y="1700640"/>
                <a:ext cx="0" cy="12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32"/>
              <p:cNvSpPr/>
              <p:nvPr/>
            </p:nvSpPr>
            <p:spPr>
              <a:xfrm>
                <a:off x="3492360" y="1412640"/>
                <a:ext cx="1656000" cy="576000"/>
              </a:xfrm>
              <a:prstGeom prst="flowChartPreparation">
                <a:avLst/>
              </a:prstGeom>
              <a:solidFill>
                <a:srgbClr val="ffffff"/>
              </a:soli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 = 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4"/>
              <p:cNvSpPr/>
              <p:nvPr/>
            </p:nvSpPr>
            <p:spPr>
              <a:xfrm>
                <a:off x="2987640" y="3069720"/>
                <a:ext cx="129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Line 37"/>
            <p:cNvSpPr/>
            <p:nvPr/>
          </p:nvSpPr>
          <p:spPr>
            <a:xfrm>
              <a:off x="4284720" y="119700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6"/>
          <p:cNvSpPr/>
          <p:nvPr/>
        </p:nvSpPr>
        <p:spPr>
          <a:xfrm>
            <a:off x="468360" y="1413000"/>
            <a:ext cx="4319640" cy="4464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468360" y="1413000"/>
            <a:ext cx="43909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,n:integer;a,y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озведение в степень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основание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показатель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y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:=1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y:=y*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y='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2"/>
          <p:cNvGrpSpPr/>
          <p:nvPr/>
        </p:nvGrpSpPr>
        <p:grpSpPr>
          <a:xfrm>
            <a:off x="4971960" y="1197000"/>
            <a:ext cx="4171680" cy="5400360"/>
            <a:chOff x="4971960" y="1197000"/>
            <a:chExt cx="4171680" cy="5400360"/>
          </a:xfrm>
        </p:grpSpPr>
        <p:sp>
          <p:nvSpPr>
            <p:cNvPr id="150" name="AutoShape 33"/>
            <p:cNvSpPr/>
            <p:nvPr/>
          </p:nvSpPr>
          <p:spPr>
            <a:xfrm>
              <a:off x="7800120" y="6264000"/>
              <a:ext cx="1279800" cy="33336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>
              <a:off x="4971960" y="4330800"/>
              <a:ext cx="148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5"/>
            <p:cNvSpPr/>
            <p:nvPr/>
          </p:nvSpPr>
          <p:spPr>
            <a:xfrm>
              <a:off x="5847480" y="1197000"/>
              <a:ext cx="1279800" cy="3322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6"/>
            <p:cNvSpPr/>
            <p:nvPr/>
          </p:nvSpPr>
          <p:spPr>
            <a:xfrm>
              <a:off x="5445360" y="1796760"/>
              <a:ext cx="2019240" cy="4010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7"/>
            <p:cNvSpPr/>
            <p:nvPr/>
          </p:nvSpPr>
          <p:spPr>
            <a:xfrm>
              <a:off x="5445360" y="2196360"/>
              <a:ext cx="2019240" cy="5335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, 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8"/>
            <p:cNvSpPr/>
            <p:nvPr/>
          </p:nvSpPr>
          <p:spPr>
            <a:xfrm>
              <a:off x="5644080" y="3729600"/>
              <a:ext cx="1618200" cy="4676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9"/>
            <p:cNvSpPr/>
            <p:nvPr/>
          </p:nvSpPr>
          <p:spPr>
            <a:xfrm>
              <a:off x="5443920" y="5664240"/>
              <a:ext cx="2018880" cy="3981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*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0"/>
            <p:cNvSpPr/>
            <p:nvPr/>
          </p:nvSpPr>
          <p:spPr>
            <a:xfrm>
              <a:off x="7800120" y="5596560"/>
              <a:ext cx="1343520" cy="3996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1"/>
            <p:cNvSpPr/>
            <p:nvPr/>
          </p:nvSpPr>
          <p:spPr>
            <a:xfrm>
              <a:off x="4971960" y="4330800"/>
              <a:ext cx="0" cy="19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2"/>
            <p:cNvSpPr/>
            <p:nvPr/>
          </p:nvSpPr>
          <p:spPr>
            <a:xfrm>
              <a:off x="4971960" y="6329880"/>
              <a:ext cx="1481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3"/>
            <p:cNvSpPr/>
            <p:nvPr/>
          </p:nvSpPr>
          <p:spPr>
            <a:xfrm>
              <a:off x="6453720" y="5064120"/>
              <a:ext cx="0" cy="5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4"/>
            <p:cNvSpPr/>
            <p:nvPr/>
          </p:nvSpPr>
          <p:spPr>
            <a:xfrm>
              <a:off x="6453720" y="419724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5"/>
            <p:cNvSpPr/>
            <p:nvPr/>
          </p:nvSpPr>
          <p:spPr>
            <a:xfrm>
              <a:off x="6453720" y="6063840"/>
              <a:ext cx="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6"/>
            <p:cNvSpPr/>
            <p:nvPr/>
          </p:nvSpPr>
          <p:spPr>
            <a:xfrm>
              <a:off x="7262640" y="4797000"/>
              <a:ext cx="121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7"/>
            <p:cNvSpPr/>
            <p:nvPr/>
          </p:nvSpPr>
          <p:spPr>
            <a:xfrm>
              <a:off x="8474040" y="5996160"/>
              <a:ext cx="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8"/>
            <p:cNvSpPr/>
            <p:nvPr/>
          </p:nvSpPr>
          <p:spPr>
            <a:xfrm>
              <a:off x="6453720" y="273024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9"/>
            <p:cNvSpPr/>
            <p:nvPr/>
          </p:nvSpPr>
          <p:spPr>
            <a:xfrm>
              <a:off x="6453720" y="1530360"/>
              <a:ext cx="0" cy="26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50"/>
            <p:cNvSpPr/>
            <p:nvPr/>
          </p:nvSpPr>
          <p:spPr>
            <a:xfrm>
              <a:off x="5780880" y="3063960"/>
              <a:ext cx="1343520" cy="33336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1"/>
            <p:cNvSpPr/>
            <p:nvPr/>
          </p:nvSpPr>
          <p:spPr>
            <a:xfrm>
              <a:off x="6453720" y="339768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2"/>
            <p:cNvSpPr/>
            <p:nvPr/>
          </p:nvSpPr>
          <p:spPr>
            <a:xfrm>
              <a:off x="5645880" y="4530960"/>
              <a:ext cx="1615320" cy="533160"/>
            </a:xfrm>
            <a:prstGeom prst="flowChartPreparation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3"/>
            <p:cNvSpPr/>
            <p:nvPr/>
          </p:nvSpPr>
          <p:spPr>
            <a:xfrm>
              <a:off x="8474040" y="4797000"/>
              <a:ext cx="0" cy="79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2"/>
          <p:cNvSpPr/>
          <p:nvPr/>
        </p:nvSpPr>
        <p:spPr>
          <a:xfrm>
            <a:off x="468360" y="189000"/>
            <a:ext cx="8218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Различные варианты программирования циклического алгорит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68360" y="1773360"/>
            <a:ext cx="8424720" cy="831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решения одной и той же задачи могут быть созданы разные програм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68360" y="3357720"/>
            <a:ext cx="842472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уем ввод целых чисел и подсчёт количества введённых положительных и отрицательных чисел. Ввод должен осуществляться до тех пор, пока не будет введён но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задаче в явном виде задано условие окончания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ользуемся оператором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epeat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низ 4"/>
          <p:cNvSpPr/>
          <p:nvPr/>
        </p:nvSpPr>
        <p:spPr>
          <a:xfrm>
            <a:off x="4286160" y="5429160"/>
            <a:ext cx="8575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8T16:49:55Z</dcterms:modified>
  <cp:revision>112</cp:revision>
  <dc:subject/>
  <dc:title>Презентация PowerPoint</dc:title>
</cp:coreProperties>
</file>