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124-1BD2-4827-BF68-BC4B2F5A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B8D-B2AB-442C-9990-D97CE455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B45-C8C7-40CF-B0F7-E7B811E7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FAA-1FB7-41F5-AAFB-0A30E4D1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E62-E71E-476D-BFDB-02C9D78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C44-A6B6-4AB1-A0E7-99B59E8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FD7-EE5B-4980-A7CE-2F2097B1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B6-FDB8-4254-8FE4-438F341C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62A-8235-49B4-8E5A-F887A388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414-0ED8-4C67-A79F-129E967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F25-B52E-40E1-A45E-3A462AC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F1E-37D5-405D-99FB-0E93AA7C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0E0F-06B1-4213-970F-2C5C568EB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НАКОВЫЕ МОД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68360" y="1125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e8fefcde-4906-4660-9342-d1b536be2a90/9_67.swf - имит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6b72ba68-190b-411f-aace-cd5b63656d1d/9_66.swf - математическ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48428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овес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765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482560" y="3213000"/>
            <a:ext cx="1297080" cy="3571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 flipV="1">
            <a:off x="2556000" y="3645000"/>
            <a:ext cx="1079280" cy="6458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732720" y="386064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5866920" y="3070080"/>
            <a:ext cx="793800" cy="214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4360" y="3141720"/>
            <a:ext cx="208728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659640" y="1628640"/>
            <a:ext cx="219528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659640" y="270828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граф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 flipV="1">
            <a:off x="5867280" y="4365720"/>
            <a:ext cx="86544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866920" y="2133720"/>
            <a:ext cx="79236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780000" y="2997360"/>
            <a:ext cx="208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5940000" y="4005360"/>
            <a:ext cx="79236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708360" y="3860640"/>
            <a:ext cx="2303640" cy="790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43280" y="5445000"/>
            <a:ext cx="4249800" cy="107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нос отнош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людьми на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ерсонажами басни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7380360" y="494136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732720" y="458136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с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bee-bee.ucoz.ru/basni/Lebed_chuka_rak03.jpg"/>
          <p:cNvPicPr/>
          <p:nvPr/>
        </p:nvPicPr>
        <p:blipFill>
          <a:blip r:embed="rId2"/>
          <a:stretch/>
        </p:blipFill>
        <p:spPr>
          <a:xfrm>
            <a:off x="611280" y="155736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755640" y="3933720"/>
            <a:ext cx="2135160" cy="2640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http://semidnevka.ru/uploads/events/1309424663_gallery_1425_32_771.jpg"/>
          <p:cNvPicPr/>
          <p:nvPr/>
        </p:nvPicPr>
        <p:blipFill>
          <a:blip r:embed="rId4"/>
          <a:stretch/>
        </p:blipFill>
        <p:spPr>
          <a:xfrm>
            <a:off x="3132000" y="1557360"/>
            <a:ext cx="3095640" cy="137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83664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916360" y="1989000"/>
            <a:ext cx="316836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ма Пифаг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258920" y="4653000"/>
            <a:ext cx="676908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ямолинейное равноускоренное дви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788000" y="5589720"/>
            <a:ext cx="4032000" cy="764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координаты те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2"/>
              <p:cNvSpPr txBox="1"/>
              <p:nvPr/>
            </p:nvSpPr>
            <p:spPr>
              <a:xfrm>
                <a:off x="1116000" y="5373720"/>
                <a:ext cx="273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" name="Group 13"/>
          <p:cNvGrpSpPr/>
          <p:nvPr/>
        </p:nvGrpSpPr>
        <p:grpSpPr>
          <a:xfrm>
            <a:off x="2052000" y="2708280"/>
            <a:ext cx="4678920" cy="1911960"/>
            <a:chOff x="2052000" y="2708280"/>
            <a:chExt cx="4678920" cy="1911960"/>
          </a:xfrm>
        </p:grpSpPr>
        <p:sp>
          <p:nvSpPr>
            <p:cNvPr id="72" name="Rectangle 14"/>
            <p:cNvSpPr/>
            <p:nvPr/>
          </p:nvSpPr>
          <p:spPr>
            <a:xfrm>
              <a:off x="5290920" y="2708280"/>
              <a:ext cx="432000" cy="4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2052000" y="2708280"/>
              <a:ext cx="4678920" cy="1911960"/>
              <a:chOff x="2052000" y="2708280"/>
              <a:chExt cx="4678920" cy="1911960"/>
            </a:xfrm>
          </p:grpSpPr>
          <p:sp>
            <p:nvSpPr>
              <p:cNvPr id="74" name="Rectangle 16"/>
              <p:cNvSpPr/>
              <p:nvPr/>
            </p:nvSpPr>
            <p:spPr>
              <a:xfrm>
                <a:off x="6059520" y="3475080"/>
                <a:ext cx="38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i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7"/>
              <p:cNvGrpSpPr/>
              <p:nvPr/>
            </p:nvGrpSpPr>
            <p:grpSpPr>
              <a:xfrm>
                <a:off x="2052000" y="2708280"/>
                <a:ext cx="4678920" cy="1911960"/>
                <a:chOff x="2052000" y="2708280"/>
                <a:chExt cx="4678920" cy="1911960"/>
              </a:xfrm>
            </p:grpSpPr>
            <p:sp>
              <p:nvSpPr>
                <p:cNvPr id="76" name="AutoShape 18"/>
                <p:cNvSpPr/>
                <p:nvPr/>
              </p:nvSpPr>
              <p:spPr>
                <a:xfrm>
                  <a:off x="2482560" y="321300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AutoShape 19"/>
                <p:cNvSpPr/>
                <p:nvPr/>
              </p:nvSpPr>
              <p:spPr>
                <a:xfrm>
                  <a:off x="341928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AutoShape 20"/>
                <p:cNvSpPr/>
                <p:nvPr/>
              </p:nvSpPr>
              <p:spPr>
                <a:xfrm>
                  <a:off x="529092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AutoShape 21"/>
                <p:cNvSpPr/>
                <p:nvPr/>
              </p:nvSpPr>
              <p:spPr>
                <a:xfrm rot="16200000">
                  <a:off x="601056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22"/>
                <p:cNvSpPr/>
                <p:nvPr/>
              </p:nvSpPr>
              <p:spPr>
                <a:xfrm rot="16200000">
                  <a:off x="4138920" y="3428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23"/>
                <p:cNvSpPr/>
                <p:nvPr/>
              </p:nvSpPr>
              <p:spPr>
                <a:xfrm flipH="1" flipV="1" rot="16200000">
                  <a:off x="3707280" y="2420280"/>
                  <a:ext cx="43200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24"/>
                <p:cNvSpPr/>
                <p:nvPr/>
              </p:nvSpPr>
              <p:spPr>
                <a:xfrm flipH="1" flipV="1">
                  <a:off x="5290200" y="314172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utoShape 25"/>
                <p:cNvSpPr/>
                <p:nvPr/>
              </p:nvSpPr>
              <p:spPr>
                <a:xfrm flipH="1" flipV="1">
                  <a:off x="4426560" y="2708280"/>
                  <a:ext cx="431640" cy="100800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AutoShape 26"/>
                <p:cNvSpPr/>
                <p:nvPr/>
              </p:nvSpPr>
              <p:spPr>
                <a:xfrm flipH="1" flipV="1" rot="16200000">
                  <a:off x="6009840" y="2419920"/>
                  <a:ext cx="432000" cy="1008360"/>
                </a:xfrm>
                <a:prstGeom prst="rtTriangle">
                  <a:avLst/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7"/>
                <p:cNvSpPr/>
                <p:nvPr/>
              </p:nvSpPr>
              <p:spPr>
                <a:xfrm>
                  <a:off x="5722560" y="3141720"/>
                  <a:ext cx="1008360" cy="100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3850920" y="321300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9"/>
                <p:cNvSpPr/>
                <p:nvPr/>
              </p:nvSpPr>
              <p:spPr>
                <a:xfrm>
                  <a:off x="5295960" y="2708280"/>
                  <a:ext cx="38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0"/>
                <p:cNvSpPr/>
                <p:nvPr/>
              </p:nvSpPr>
              <p:spPr>
                <a:xfrm>
                  <a:off x="2596320" y="42213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1"/>
                <p:cNvSpPr/>
                <p:nvPr/>
              </p:nvSpPr>
              <p:spPr>
                <a:xfrm>
                  <a:off x="2052000" y="3645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32"/>
                <p:cNvSpPr/>
                <p:nvPr/>
              </p:nvSpPr>
              <p:spPr>
                <a:xfrm>
                  <a:off x="2779560" y="342900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" name="Text Box 12"/>
          <p:cNvSpPr/>
          <p:nvPr/>
        </p:nvSpPr>
        <p:spPr>
          <a:xfrm>
            <a:off x="2340000" y="2060640"/>
            <a:ext cx="424800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гическ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2197080" y="602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&amp; C = A &amp; (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5"/>
          <p:cNvGrpSpPr/>
          <p:nvPr/>
        </p:nvGrpSpPr>
        <p:grpSpPr>
          <a:xfrm>
            <a:off x="2629080" y="2708280"/>
            <a:ext cx="3399480" cy="3168720"/>
            <a:chOff x="2629080" y="2708280"/>
            <a:chExt cx="3399480" cy="3168720"/>
          </a:xfrm>
        </p:grpSpPr>
        <p:grpSp>
          <p:nvGrpSpPr>
            <p:cNvPr id="94" name="Group 15"/>
            <p:cNvGrpSpPr/>
            <p:nvPr/>
          </p:nvGrpSpPr>
          <p:grpSpPr>
            <a:xfrm>
              <a:off x="3060720" y="2708280"/>
              <a:ext cx="2967840" cy="3168720"/>
              <a:chOff x="3060720" y="2708280"/>
              <a:chExt cx="2967840" cy="3168720"/>
            </a:xfrm>
          </p:grpSpPr>
          <p:sp>
            <p:nvSpPr>
              <p:cNvPr id="95" name="Rectangle 16"/>
              <p:cNvSpPr/>
              <p:nvPr/>
            </p:nvSpPr>
            <p:spPr>
              <a:xfrm>
                <a:off x="3204720" y="4003920"/>
                <a:ext cx="1223640" cy="122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87"/>
              <p:cNvSpPr/>
              <p:nvPr/>
            </p:nvSpPr>
            <p:spPr>
              <a:xfrm>
                <a:off x="4057200" y="350064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Picture 18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52840" y="3500640"/>
                <a:ext cx="675720" cy="769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" name="Group 190"/>
              <p:cNvGrpSpPr/>
              <p:nvPr/>
            </p:nvGrpSpPr>
            <p:grpSpPr>
              <a:xfrm>
                <a:off x="4860720" y="5516640"/>
                <a:ext cx="348840" cy="360360"/>
                <a:chOff x="4860720" y="5516640"/>
                <a:chExt cx="348840" cy="360360"/>
              </a:xfrm>
            </p:grpSpPr>
            <p:sp>
              <p:nvSpPr>
                <p:cNvPr id="99" name="Oval 191"/>
                <p:cNvSpPr/>
                <p:nvPr/>
              </p:nvSpPr>
              <p:spPr>
                <a:xfrm>
                  <a:off x="4860720" y="5516640"/>
                  <a:ext cx="34884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92"/>
                <p:cNvGrpSpPr/>
                <p:nvPr/>
              </p:nvGrpSpPr>
              <p:grpSpPr>
                <a:xfrm>
                  <a:off x="4924440" y="5639760"/>
                  <a:ext cx="221400" cy="113400"/>
                  <a:chOff x="4924440" y="5639760"/>
                  <a:chExt cx="221400" cy="113400"/>
                </a:xfrm>
              </p:grpSpPr>
              <p:sp>
                <p:nvSpPr>
                  <p:cNvPr id="101" name="Arc 193"/>
                  <p:cNvSpPr/>
                  <p:nvPr/>
                </p:nvSpPr>
                <p:spPr>
                  <a:xfrm>
                    <a:off x="4924440" y="56397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rc 194"/>
                  <p:cNvSpPr/>
                  <p:nvPr/>
                </p:nvSpPr>
                <p:spPr>
                  <a:xfrm flipH="1" flipV="1">
                    <a:off x="5034960" y="5695560"/>
                    <a:ext cx="110880" cy="5724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Freeform 195"/>
              <p:cNvSpPr/>
              <p:nvPr/>
            </p:nvSpPr>
            <p:spPr>
              <a:xfrm>
                <a:off x="5208120" y="4254480"/>
                <a:ext cx="474480" cy="14781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97"/>
              <p:cNvSpPr/>
              <p:nvPr/>
            </p:nvSpPr>
            <p:spPr>
              <a:xfrm>
                <a:off x="3708000" y="2708280"/>
                <a:ext cx="2017440" cy="147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Picture 199" descr=""/>
              <p:cNvPicPr/>
              <p:nvPr/>
            </p:nvPicPr>
            <p:blipFill>
              <a:blip r:embed="rId3"/>
              <a:stretch/>
            </p:blipFill>
            <p:spPr>
              <a:xfrm>
                <a:off x="4057200" y="437364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pic>
            <p:nvPicPr>
              <p:cNvPr id="106" name="Picture 64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720" y="4364280"/>
                <a:ext cx="493200" cy="4410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7" name="Line 28"/>
              <p:cNvSpPr/>
              <p:nvPr/>
            </p:nvSpPr>
            <p:spPr>
              <a:xfrm>
                <a:off x="3708000" y="3645000"/>
                <a:ext cx="0" cy="35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189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0720" y="3213000"/>
                <a:ext cx="599760" cy="45720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109" name="Line 30"/>
              <p:cNvSpPr/>
              <p:nvPr/>
            </p:nvSpPr>
            <p:spPr>
              <a:xfrm flipH="1">
                <a:off x="3707640" y="573264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1"/>
              <p:cNvSpPr/>
              <p:nvPr/>
            </p:nvSpPr>
            <p:spPr>
              <a:xfrm>
                <a:off x="3708000" y="5229360"/>
                <a:ext cx="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32"/>
            <p:cNvSpPr/>
            <p:nvPr/>
          </p:nvSpPr>
          <p:spPr>
            <a:xfrm>
              <a:off x="3060720" y="3211560"/>
              <a:ext cx="28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262908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4716360" y="4364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ые математически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9640" y="1557360"/>
            <a:ext cx="82105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ми математическими модел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ются математические модели, реализованные с помощью систем программирования, электронных таблиц, специализированных математических пакетов и программных средств для моделир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35280" y="4500720"/>
            <a:ext cx="52560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ject 2" descr=""/>
          <p:cNvPicPr/>
          <p:nvPr/>
        </p:nvPicPr>
        <p:blipFill>
          <a:blip r:embed="rId2"/>
          <a:stretch/>
        </p:blipFill>
        <p:spPr>
          <a:xfrm>
            <a:off x="6010200" y="457200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8"/>
          <p:cNvSpPr/>
          <p:nvPr/>
        </p:nvSpPr>
        <p:spPr>
          <a:xfrm flipH="1" flipV="1">
            <a:off x="5868720" y="3141720"/>
            <a:ext cx="649080" cy="288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516720" y="1989000"/>
            <a:ext cx="2195640" cy="792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ле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516720" y="3068640"/>
            <a:ext cx="223344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при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 flipV="1">
            <a:off x="2773080" y="2565000"/>
            <a:ext cx="718920" cy="360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>
            <a:off x="5797440" y="2494080"/>
            <a:ext cx="719280" cy="3585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 flipV="1">
            <a:off x="4573440" y="3789360"/>
            <a:ext cx="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41440" y="2133720"/>
            <a:ext cx="219528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мон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тер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41440" y="3357720"/>
            <a:ext cx="2233440" cy="86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р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76720" y="4581360"/>
            <a:ext cx="2593800" cy="100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нспорт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т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773080" y="3286080"/>
            <a:ext cx="71892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421080" y="2494080"/>
            <a:ext cx="2448000" cy="129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ст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9640" y="907920"/>
            <a:ext cx="83520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268360" y="5877000"/>
            <a:ext cx="52563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итационн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17" descr=""/>
          <p:cNvPicPr/>
          <p:nvPr/>
        </p:nvPicPr>
        <p:blipFill>
          <a:blip r:embed="rId2"/>
          <a:stretch/>
        </p:blipFill>
        <p:spPr>
          <a:xfrm>
            <a:off x="6372360" y="594828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итационные мо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1"/>
          <p:cNvSpPr/>
          <p:nvPr/>
        </p:nvSpPr>
        <p:spPr>
          <a:xfrm>
            <a:off x="395280" y="1052640"/>
            <a:ext cx="835344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вес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описания предметов, явлений, событий, процессов на естественных язы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информационные модели, построенные с использованием математических понятий и форму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мпьютерные математически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математические модели, реализованные с помощью систем программирования, специализированных математических пакетов, программных средств для моделирования и электронных табл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митационные моде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оспроизводят поведение сложных систем, элементы которых могут вести себя случайным образ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39640" y="14018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2–3 собственных примера словесных моделей, рассматриваемых на уроках истории, географии, би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1128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 басни И. А. Крылова: «Волк и ягнёнок», «Ворона и лисица», «Демьянова уха», «Квартет», «Лебедь, Щука и Рак», «Лисица и виноград», «Слон и Моська», «Стрекоза и Муравей», «Тришкин кафта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ерты характера людей и отношения между людьми смоделировал в них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68360" y="134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ании следующей геометрической модели докажите справедливость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тр = 1/2 · a · 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2411280" y="4005360"/>
            <a:ext cx="4897440" cy="1755000"/>
            <a:chOff x="2411280" y="4005360"/>
            <a:chExt cx="4897440" cy="1755000"/>
          </a:xfrm>
        </p:grpSpPr>
        <p:sp>
          <p:nvSpPr>
            <p:cNvPr id="140" name="Rectangle 9"/>
            <p:cNvSpPr/>
            <p:nvPr/>
          </p:nvSpPr>
          <p:spPr>
            <a:xfrm>
              <a:off x="2411280" y="4005360"/>
              <a:ext cx="4897440" cy="12240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0"/>
            <p:cNvSpPr/>
            <p:nvPr/>
          </p:nvSpPr>
          <p:spPr>
            <a:xfrm flipV="1">
              <a:off x="2484360" y="4005360"/>
              <a:ext cx="3527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1"/>
            <p:cNvSpPr/>
            <p:nvPr/>
          </p:nvSpPr>
          <p:spPr>
            <a:xfrm>
              <a:off x="5940360" y="4005360"/>
              <a:ext cx="1295640" cy="122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"/>
            <p:cNvSpPr/>
            <p:nvPr/>
          </p:nvSpPr>
          <p:spPr>
            <a:xfrm>
              <a:off x="5940360" y="4005360"/>
              <a:ext cx="0" cy="12240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"/>
            <p:cNvSpPr/>
            <p:nvPr/>
          </p:nvSpPr>
          <p:spPr>
            <a:xfrm>
              <a:off x="5940360" y="486900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5"/>
            <p:cNvSpPr/>
            <p:nvPr/>
          </p:nvSpPr>
          <p:spPr>
            <a:xfrm>
              <a:off x="6227640" y="4869000"/>
              <a:ext cx="0" cy="360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42926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4140360" y="5300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0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, составив математическую модель, следующую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ход прошёл 4 км против течения реки, а затем прошёл ещё 33 км по течению, затратив на весь путь один час. Найдите собственную скорость парохода, если скорость течения реки равна 6,5 км/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39640" y="1413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спроектировать электрическую цепь, показывающую итог тайного голосования комиссии в составе трёх членов. При голосовании «за» член комиссии нажимает кнопку. Предложение считается принятым, если оно собирает большинство голосов. В этом случае загорается ламп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68360" y="907920"/>
            <a:ext cx="828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ите, составив логическую модель, следующую задачу. На международных соревнованиях по прыжкам в воду первые пять мест заняли спортсмены из Германии, Италии, Китая, России и Украины. Ещё до начала соревнований эксперты высказали свои предположения об их итога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ервое место займёт спортсмен из Китая, а спортсмен из Украины будет треть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краина будет на последнем месте, а Германия - на предпослед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Германия точно будет четвёртой, а первое место займёт Ки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Россия будет первой, а Италия - на втором ме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Нет, Италия будет пятой, а победит Герм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кончании соревнований выяснилось, что каждый эксперт был прав только в одном утверждении. Какие места в соревновании заняли участ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68360" y="1413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прошлого века экономисты оценили ежегодный объём вычислений, необходимых для эффективного управления народным хозяйством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составил 1017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правиться с таким объёмом вычислений за год, если привлечь к работе миллион вычислителей, каждый из которых способен выполнять одну операцию в секун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11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использования компьютерных мод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55640" y="3429000"/>
            <a:ext cx="1584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вес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 flipV="1">
            <a:off x="2050920" y="2565000"/>
            <a:ext cx="2521080" cy="863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4716360" y="2565000"/>
            <a:ext cx="194328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4643280" y="2565000"/>
            <a:ext cx="0" cy="792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19640" y="3429000"/>
            <a:ext cx="237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наковые моде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оят с использованием различных естественных и формальных яз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203640" y="1916280"/>
            <a:ext cx="295272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наковая 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227640" y="3429000"/>
            <a:ext cx="237672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08:48:20Z</dcterms:modified>
  <cp:revision>68</cp:revision>
  <dc:subject/>
  <dc:title>Презентация PowerPoint</dc:title>
</cp:coreProperties>
</file>