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1.wmf" ContentType="image/x-wmf"/>
  <Override PartName="/ppt/media/image9.png" ContentType="image/png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AE80-30BC-48B8-9910-C979DD67E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05C7-350C-4548-91E0-812F1926E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1D17-74C7-4774-A2F6-D132DDBBD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7AF4-56E7-4E3C-B5FA-E4CD166A2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2F4D-C79F-42ED-A8C2-A11BF7859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5A46-DB1A-41F0-80FC-A312AF234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DE75-E017-4E77-8D7B-6CF0D4B83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A487-4AF6-48BC-8B66-E74BF2557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A5E1-4DE9-4082-9561-F17F87E89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DBBE-5C1E-40F9-B0B3-1C97324F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C6AB-9EF8-440E-95AB-A9F545D2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80B9-6F08-4328-AEDB-3BB0ED41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D5890-7AC0-4E3E-93E5-C0B4E1AD00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Заголовок 1"/>
          <p:cNvSpPr/>
          <p:nvPr/>
        </p:nvSpPr>
        <p:spPr>
          <a:xfrm>
            <a:off x="2124000" y="2781360"/>
            <a:ext cx="6696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ЗНАКОВЫЕ МОД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дзаголовок 2"/>
          <p:cNvSpPr/>
          <p:nvPr/>
        </p:nvSpPr>
        <p:spPr>
          <a:xfrm>
            <a:off x="2050920" y="4005360"/>
            <a:ext cx="64818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ОДЕЛИРОВАНИЕ И ФОРМАЛИЗ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Заголовок 2"/>
          <p:cNvSpPr/>
          <p:nvPr/>
        </p:nvSpPr>
        <p:spPr>
          <a:xfrm>
            <a:off x="1042920" y="189000"/>
            <a:ext cx="7643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Источники 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468360" y="112536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files.school-collection.edu.ru/dlrstore/e8fefcde-4906-4660-9342-d1b536be2a90/9_67.swf - имитационная мод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files.school-collection.edu.ru/dlrstore/6b72ba68-190b-411f-aace-cd5b63656d1d/9_66.swf - математическая мод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Ключевы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Объект 4"/>
          <p:cNvSpPr/>
          <p:nvPr/>
        </p:nvSpPr>
        <p:spPr>
          <a:xfrm>
            <a:off x="324000" y="1484280"/>
            <a:ext cx="83628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весные мод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тематические мод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мпьютерные мод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Заголовок 2"/>
          <p:cNvSpPr/>
          <p:nvPr/>
        </p:nvSpPr>
        <p:spPr>
          <a:xfrm>
            <a:off x="468360" y="189000"/>
            <a:ext cx="8218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ловесные мод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468360" y="765000"/>
            <a:ext cx="835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Словесные модел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это описания предметов, явлений, событий, процессов на естественных языка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8"/>
          <p:cNvSpPr/>
          <p:nvPr/>
        </p:nvSpPr>
        <p:spPr>
          <a:xfrm flipH="1">
            <a:off x="2482560" y="3213000"/>
            <a:ext cx="1297080" cy="3571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8"/>
          <p:cNvSpPr/>
          <p:nvPr/>
        </p:nvSpPr>
        <p:spPr>
          <a:xfrm flipH="1" flipV="1">
            <a:off x="2556000" y="3645000"/>
            <a:ext cx="1079280" cy="6458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6732720" y="3860640"/>
            <a:ext cx="216036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м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8"/>
          <p:cNvSpPr/>
          <p:nvPr/>
        </p:nvSpPr>
        <p:spPr>
          <a:xfrm flipH="1">
            <a:off x="5866920" y="3070080"/>
            <a:ext cx="793800" cy="2145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684360" y="3141720"/>
            <a:ext cx="2087280" cy="720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ловесна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модел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6659640" y="1628640"/>
            <a:ext cx="2195280" cy="792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орическ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бы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6659640" y="2708280"/>
            <a:ext cx="2233440" cy="79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графическ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ъек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 flipH="1" flipV="1">
            <a:off x="5867280" y="4365720"/>
            <a:ext cx="865440" cy="3585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8"/>
          <p:cNvSpPr/>
          <p:nvPr/>
        </p:nvSpPr>
        <p:spPr>
          <a:xfrm flipH="1">
            <a:off x="5866920" y="2133720"/>
            <a:ext cx="792360" cy="100800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3780000" y="2997360"/>
            <a:ext cx="208728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еб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8"/>
          <p:cNvSpPr/>
          <p:nvPr/>
        </p:nvSpPr>
        <p:spPr>
          <a:xfrm flipH="1">
            <a:off x="5940000" y="4005360"/>
            <a:ext cx="792360" cy="287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3708360" y="3860640"/>
            <a:ext cx="2303640" cy="7905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Художестве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итера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4643280" y="5445000"/>
            <a:ext cx="4249800" cy="1079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енос отноше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жду людьми на отно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жду персонажами басни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8"/>
          <p:cNvSpPr/>
          <p:nvPr/>
        </p:nvSpPr>
        <p:spPr>
          <a:xfrm flipV="1">
            <a:off x="7380360" y="4941360"/>
            <a:ext cx="0" cy="5050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6732720" y="4581360"/>
            <a:ext cx="216036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ас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http://bee-bee.ucoz.ru/basni/Lebed_chuka_rak03.jpg"/>
          <p:cNvPicPr/>
          <p:nvPr/>
        </p:nvPicPr>
        <p:blipFill>
          <a:blip r:embed="rId2"/>
          <a:stretch/>
        </p:blipFill>
        <p:spPr>
          <a:xfrm>
            <a:off x="611280" y="1557360"/>
            <a:ext cx="2016000" cy="1531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http://freelance.ru/img/portfolio/pics/00/08/88/559188.jpg"/>
          <p:cNvPicPr/>
          <p:nvPr/>
        </p:nvPicPr>
        <p:blipFill>
          <a:blip r:embed="rId3"/>
          <a:stretch/>
        </p:blipFill>
        <p:spPr>
          <a:xfrm>
            <a:off x="755640" y="3933720"/>
            <a:ext cx="2135160" cy="2640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2" descr="http://semidnevka.ru/uploads/events/1309424663_gallery_1425_32_771.jpg"/>
          <p:cNvPicPr/>
          <p:nvPr/>
        </p:nvPicPr>
        <p:blipFill>
          <a:blip r:embed="rId4"/>
          <a:stretch/>
        </p:blipFill>
        <p:spPr>
          <a:xfrm>
            <a:off x="3132000" y="1557360"/>
            <a:ext cx="3095640" cy="1376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7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1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3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4000"/>
                            </p:stCondLst>
                            <p:childTnLst>
                              <p:par>
                                <p:cTn id="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6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7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Заголовок 2"/>
          <p:cNvSpPr/>
          <p:nvPr/>
        </p:nvSpPr>
        <p:spPr>
          <a:xfrm>
            <a:off x="539640" y="189000"/>
            <a:ext cx="8147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Математические мод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468360" y="836640"/>
            <a:ext cx="842472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Математическими моделям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называются информационные модели, построенные с использованием математических понятий и форму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2916360" y="1989000"/>
            <a:ext cx="3168360" cy="4291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орема Пифаго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1258920" y="4653000"/>
            <a:ext cx="6769080" cy="4291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ямолинейное равноускоренное движ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4788000" y="5589720"/>
            <a:ext cx="4032000" cy="764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менение координаты тела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любой момент врем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12"/>
              <p:cNvSpPr txBox="1"/>
              <p:nvPr/>
            </p:nvSpPr>
            <p:spPr>
              <a:xfrm>
                <a:off x="1116000" y="5373720"/>
                <a:ext cx="273672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1" name="Group 13"/>
          <p:cNvGrpSpPr/>
          <p:nvPr/>
        </p:nvGrpSpPr>
        <p:grpSpPr>
          <a:xfrm>
            <a:off x="2052000" y="2708280"/>
            <a:ext cx="4678920" cy="1911960"/>
            <a:chOff x="2052000" y="2708280"/>
            <a:chExt cx="4678920" cy="1911960"/>
          </a:xfrm>
        </p:grpSpPr>
        <p:sp>
          <p:nvSpPr>
            <p:cNvPr id="72" name="Rectangle 14"/>
            <p:cNvSpPr/>
            <p:nvPr/>
          </p:nvSpPr>
          <p:spPr>
            <a:xfrm>
              <a:off x="5290920" y="2708280"/>
              <a:ext cx="432000" cy="432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Group 15"/>
            <p:cNvGrpSpPr/>
            <p:nvPr/>
          </p:nvGrpSpPr>
          <p:grpSpPr>
            <a:xfrm>
              <a:off x="2052000" y="2708280"/>
              <a:ext cx="4678920" cy="1911960"/>
              <a:chOff x="2052000" y="2708280"/>
              <a:chExt cx="4678920" cy="1911960"/>
            </a:xfrm>
          </p:grpSpPr>
          <p:sp>
            <p:nvSpPr>
              <p:cNvPr id="74" name="Rectangle 16"/>
              <p:cNvSpPr/>
              <p:nvPr/>
            </p:nvSpPr>
            <p:spPr>
              <a:xfrm>
                <a:off x="6059520" y="3475080"/>
                <a:ext cx="383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b</a:t>
                </a:r>
                <a:r>
                  <a:rPr b="0" i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" name="Group 17"/>
              <p:cNvGrpSpPr/>
              <p:nvPr/>
            </p:nvGrpSpPr>
            <p:grpSpPr>
              <a:xfrm>
                <a:off x="2052000" y="2708280"/>
                <a:ext cx="4678920" cy="1911960"/>
                <a:chOff x="2052000" y="2708280"/>
                <a:chExt cx="4678920" cy="1911960"/>
              </a:xfrm>
            </p:grpSpPr>
            <p:sp>
              <p:nvSpPr>
                <p:cNvPr id="76" name="AutoShape 18"/>
                <p:cNvSpPr/>
                <p:nvPr/>
              </p:nvSpPr>
              <p:spPr>
                <a:xfrm>
                  <a:off x="2482560" y="3213000"/>
                  <a:ext cx="432000" cy="1008360"/>
                </a:xfrm>
                <a:prstGeom prst="rtTriangle">
                  <a:avLst/>
                </a:prstGeom>
                <a:solidFill>
                  <a:srgbClr val="33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AutoShape 19"/>
                <p:cNvSpPr/>
                <p:nvPr/>
              </p:nvSpPr>
              <p:spPr>
                <a:xfrm>
                  <a:off x="3419280" y="3141720"/>
                  <a:ext cx="431640" cy="1008000"/>
                </a:xfrm>
                <a:prstGeom prst="rtTriangle">
                  <a:avLst/>
                </a:prstGeom>
                <a:solidFill>
                  <a:srgbClr val="33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AutoShape 20"/>
                <p:cNvSpPr/>
                <p:nvPr/>
              </p:nvSpPr>
              <p:spPr>
                <a:xfrm>
                  <a:off x="5290920" y="3141720"/>
                  <a:ext cx="431640" cy="1008000"/>
                </a:xfrm>
                <a:prstGeom prst="rtTriangle">
                  <a:avLst/>
                </a:prstGeom>
                <a:solidFill>
                  <a:srgbClr val="33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AutoShape 21"/>
                <p:cNvSpPr/>
                <p:nvPr/>
              </p:nvSpPr>
              <p:spPr>
                <a:xfrm rot="16200000">
                  <a:off x="6010560" y="2419920"/>
                  <a:ext cx="432000" cy="1008360"/>
                </a:xfrm>
                <a:prstGeom prst="rtTriangle">
                  <a:avLst/>
                </a:prstGeom>
                <a:solidFill>
                  <a:srgbClr val="33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AutoShape 22"/>
                <p:cNvSpPr/>
                <p:nvPr/>
              </p:nvSpPr>
              <p:spPr>
                <a:xfrm rot="16200000">
                  <a:off x="4138920" y="3428280"/>
                  <a:ext cx="432000" cy="1008000"/>
                </a:xfrm>
                <a:prstGeom prst="rtTriangle">
                  <a:avLst/>
                </a:prstGeom>
                <a:solidFill>
                  <a:srgbClr val="33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AutoShape 23"/>
                <p:cNvSpPr/>
                <p:nvPr/>
              </p:nvSpPr>
              <p:spPr>
                <a:xfrm flipH="1" flipV="1" rot="16200000">
                  <a:off x="3707280" y="2420280"/>
                  <a:ext cx="432000" cy="1008000"/>
                </a:xfrm>
                <a:prstGeom prst="rtTriangle">
                  <a:avLst/>
                </a:prstGeom>
                <a:solidFill>
                  <a:srgbClr val="33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AutoShape 24"/>
                <p:cNvSpPr/>
                <p:nvPr/>
              </p:nvSpPr>
              <p:spPr>
                <a:xfrm flipH="1" flipV="1">
                  <a:off x="5290200" y="3141720"/>
                  <a:ext cx="431640" cy="1008000"/>
                </a:xfrm>
                <a:prstGeom prst="rtTriangle">
                  <a:avLst/>
                </a:prstGeom>
                <a:solidFill>
                  <a:srgbClr val="33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AutoShape 25"/>
                <p:cNvSpPr/>
                <p:nvPr/>
              </p:nvSpPr>
              <p:spPr>
                <a:xfrm flipH="1" flipV="1">
                  <a:off x="4426560" y="2708280"/>
                  <a:ext cx="431640" cy="1008000"/>
                </a:xfrm>
                <a:prstGeom prst="rtTriangle">
                  <a:avLst/>
                </a:prstGeom>
                <a:solidFill>
                  <a:srgbClr val="33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AutoShape 26"/>
                <p:cNvSpPr/>
                <p:nvPr/>
              </p:nvSpPr>
              <p:spPr>
                <a:xfrm flipH="1" flipV="1" rot="16200000">
                  <a:off x="6009840" y="2419920"/>
                  <a:ext cx="432000" cy="1008360"/>
                </a:xfrm>
                <a:prstGeom prst="rtTriangle">
                  <a:avLst/>
                </a:prstGeom>
                <a:solidFill>
                  <a:srgbClr val="33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Rectangle 27"/>
                <p:cNvSpPr/>
                <p:nvPr/>
              </p:nvSpPr>
              <p:spPr>
                <a:xfrm>
                  <a:off x="5722560" y="3141720"/>
                  <a:ext cx="1008360" cy="100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Text Box 28"/>
                <p:cNvSpPr/>
                <p:nvPr/>
              </p:nvSpPr>
              <p:spPr>
                <a:xfrm>
                  <a:off x="3850920" y="3213000"/>
                  <a:ext cx="432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r>
                    <a:rPr b="0" i="1" lang="en-US" sz="20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9"/>
                <p:cNvSpPr/>
                <p:nvPr/>
              </p:nvSpPr>
              <p:spPr>
                <a:xfrm>
                  <a:off x="5295960" y="2708280"/>
                  <a:ext cx="383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</a:t>
                  </a:r>
                  <a:r>
                    <a:rPr b="0" i="1" lang="en-US" sz="20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0"/>
                <p:cNvSpPr/>
                <p:nvPr/>
              </p:nvSpPr>
              <p:spPr>
                <a:xfrm>
                  <a:off x="2596320" y="422136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Rectangle 31"/>
                <p:cNvSpPr/>
                <p:nvPr/>
              </p:nvSpPr>
              <p:spPr>
                <a:xfrm>
                  <a:off x="2052000" y="364500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Rectangle 32"/>
                <p:cNvSpPr/>
                <p:nvPr/>
              </p:nvSpPr>
              <p:spPr>
                <a:xfrm>
                  <a:off x="2779560" y="3429000"/>
                  <a:ext cx="293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1" name="Text Box 12"/>
          <p:cNvSpPr/>
          <p:nvPr/>
        </p:nvSpPr>
        <p:spPr>
          <a:xfrm>
            <a:off x="2340000" y="2060640"/>
            <a:ext cx="4248000" cy="4291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Логическая модел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2197080" y="602136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&amp; B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&amp; C = A &amp; (B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35"/>
          <p:cNvGrpSpPr/>
          <p:nvPr/>
        </p:nvGrpSpPr>
        <p:grpSpPr>
          <a:xfrm>
            <a:off x="2629080" y="2708280"/>
            <a:ext cx="3399480" cy="3168720"/>
            <a:chOff x="2629080" y="2708280"/>
            <a:chExt cx="3399480" cy="3168720"/>
          </a:xfrm>
        </p:grpSpPr>
        <p:grpSp>
          <p:nvGrpSpPr>
            <p:cNvPr id="94" name="Group 15"/>
            <p:cNvGrpSpPr/>
            <p:nvPr/>
          </p:nvGrpSpPr>
          <p:grpSpPr>
            <a:xfrm>
              <a:off x="3060720" y="2708280"/>
              <a:ext cx="2967840" cy="3168720"/>
              <a:chOff x="3060720" y="2708280"/>
              <a:chExt cx="2967840" cy="3168720"/>
            </a:xfrm>
          </p:grpSpPr>
          <p:sp>
            <p:nvSpPr>
              <p:cNvPr id="95" name="Rectangle 16"/>
              <p:cNvSpPr/>
              <p:nvPr/>
            </p:nvSpPr>
            <p:spPr>
              <a:xfrm>
                <a:off x="3204720" y="4003920"/>
                <a:ext cx="1223640" cy="1223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AutoShape 187"/>
              <p:cNvSpPr/>
              <p:nvPr/>
            </p:nvSpPr>
            <p:spPr>
              <a:xfrm>
                <a:off x="4057200" y="3500640"/>
                <a:ext cx="1971360" cy="187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7" name="Picture 188" descr=""/>
              <p:cNvPicPr/>
              <p:nvPr/>
            </p:nvPicPr>
            <p:blipFill>
              <a:blip r:embed="rId2"/>
              <a:stretch/>
            </p:blipFill>
            <p:spPr>
              <a:xfrm>
                <a:off x="5352840" y="3500640"/>
                <a:ext cx="675720" cy="769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98" name="Group 190"/>
              <p:cNvGrpSpPr/>
              <p:nvPr/>
            </p:nvGrpSpPr>
            <p:grpSpPr>
              <a:xfrm>
                <a:off x="4860720" y="5516640"/>
                <a:ext cx="348840" cy="360360"/>
                <a:chOff x="4860720" y="5516640"/>
                <a:chExt cx="348840" cy="360360"/>
              </a:xfrm>
            </p:grpSpPr>
            <p:sp>
              <p:nvSpPr>
                <p:cNvPr id="99" name="Oval 191"/>
                <p:cNvSpPr/>
                <p:nvPr/>
              </p:nvSpPr>
              <p:spPr>
                <a:xfrm>
                  <a:off x="4860720" y="5516640"/>
                  <a:ext cx="348840" cy="360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0" name="Group 192"/>
                <p:cNvGrpSpPr/>
                <p:nvPr/>
              </p:nvGrpSpPr>
              <p:grpSpPr>
                <a:xfrm>
                  <a:off x="4924440" y="5639760"/>
                  <a:ext cx="221400" cy="113400"/>
                  <a:chOff x="4924440" y="5639760"/>
                  <a:chExt cx="221400" cy="113400"/>
                </a:xfrm>
              </p:grpSpPr>
              <p:sp>
                <p:nvSpPr>
                  <p:cNvPr id="101" name="Arc 193"/>
                  <p:cNvSpPr/>
                  <p:nvPr/>
                </p:nvSpPr>
                <p:spPr>
                  <a:xfrm>
                    <a:off x="4924440" y="5639760"/>
                    <a:ext cx="110880" cy="572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Arc 194"/>
                  <p:cNvSpPr/>
                  <p:nvPr/>
                </p:nvSpPr>
                <p:spPr>
                  <a:xfrm flipH="1" flipV="1">
                    <a:off x="5034960" y="5695560"/>
                    <a:ext cx="110880" cy="572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3" name="Freeform 195"/>
              <p:cNvSpPr/>
              <p:nvPr/>
            </p:nvSpPr>
            <p:spPr>
              <a:xfrm>
                <a:off x="5208120" y="4254480"/>
                <a:ext cx="474480" cy="147816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197"/>
              <p:cNvSpPr/>
              <p:nvPr/>
            </p:nvSpPr>
            <p:spPr>
              <a:xfrm>
                <a:off x="3708000" y="2708280"/>
                <a:ext cx="2017440" cy="147636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" name="Picture 199" descr=""/>
              <p:cNvPicPr/>
              <p:nvPr/>
            </p:nvPicPr>
            <p:blipFill>
              <a:blip r:embed="rId3"/>
              <a:stretch/>
            </p:blipFill>
            <p:spPr>
              <a:xfrm>
                <a:off x="4057200" y="4373640"/>
                <a:ext cx="599760" cy="457200"/>
              </a:xfrm>
              <a:prstGeom prst="rect">
                <a:avLst/>
              </a:prstGeom>
              <a:ln w="9360">
                <a:solidFill>
                  <a:srgbClr val="5a5a5a"/>
                </a:solidFill>
                <a:miter/>
              </a:ln>
            </p:spPr>
          </p:pic>
          <p:pic>
            <p:nvPicPr>
              <p:cNvPr id="106" name="Picture 64" descr=""/>
              <p:cNvPicPr/>
              <p:nvPr/>
            </p:nvPicPr>
            <p:blipFill>
              <a:blip r:embed="rId4"/>
              <a:stretch/>
            </p:blipFill>
            <p:spPr>
              <a:xfrm>
                <a:off x="3060720" y="4364280"/>
                <a:ext cx="493200" cy="441000"/>
              </a:xfrm>
              <a:prstGeom prst="rect">
                <a:avLst/>
              </a:prstGeom>
              <a:ln w="9360">
                <a:solidFill>
                  <a:srgbClr val="5a5a5a"/>
                </a:solidFill>
                <a:miter/>
              </a:ln>
            </p:spPr>
          </p:pic>
          <p:sp>
            <p:nvSpPr>
              <p:cNvPr id="107" name="Line 28"/>
              <p:cNvSpPr/>
              <p:nvPr/>
            </p:nvSpPr>
            <p:spPr>
              <a:xfrm>
                <a:off x="3708000" y="3645000"/>
                <a:ext cx="0" cy="35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" name="Picture 189" descr=""/>
              <p:cNvPicPr/>
              <p:nvPr/>
            </p:nvPicPr>
            <p:blipFill>
              <a:blip r:embed="rId5"/>
              <a:stretch/>
            </p:blipFill>
            <p:spPr>
              <a:xfrm>
                <a:off x="3420720" y="3213000"/>
                <a:ext cx="599760" cy="457200"/>
              </a:xfrm>
              <a:prstGeom prst="rect">
                <a:avLst/>
              </a:prstGeom>
              <a:ln w="9360">
                <a:solidFill>
                  <a:srgbClr val="5a5a5a"/>
                </a:solidFill>
                <a:miter/>
              </a:ln>
            </p:spPr>
          </p:pic>
          <p:sp>
            <p:nvSpPr>
              <p:cNvPr id="109" name="Line 30"/>
              <p:cNvSpPr/>
              <p:nvPr/>
            </p:nvSpPr>
            <p:spPr>
              <a:xfrm flipH="1">
                <a:off x="3707640" y="5732640"/>
                <a:ext cx="1152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31"/>
              <p:cNvSpPr/>
              <p:nvPr/>
            </p:nvSpPr>
            <p:spPr>
              <a:xfrm>
                <a:off x="3708000" y="5229360"/>
                <a:ext cx="0" cy="503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Text Box 32"/>
            <p:cNvSpPr/>
            <p:nvPr/>
          </p:nvSpPr>
          <p:spPr>
            <a:xfrm>
              <a:off x="3060720" y="3211560"/>
              <a:ext cx="28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33"/>
            <p:cNvSpPr/>
            <p:nvPr/>
          </p:nvSpPr>
          <p:spPr>
            <a:xfrm>
              <a:off x="2629080" y="4364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34"/>
            <p:cNvSpPr/>
            <p:nvPr/>
          </p:nvSpPr>
          <p:spPr>
            <a:xfrm>
              <a:off x="4716360" y="4364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Заголовок 2"/>
          <p:cNvSpPr/>
          <p:nvPr/>
        </p:nvSpPr>
        <p:spPr>
          <a:xfrm>
            <a:off x="468360" y="189000"/>
            <a:ext cx="8218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Компьютерные математические мод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539640" y="1557360"/>
            <a:ext cx="821052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Компьютерными математическими моделям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называются математические модели, реализованные с помощью систем программирования, электронных таблиц, специализированных математических пакетов и программных средств для моделиров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1835280" y="4500720"/>
            <a:ext cx="5256000" cy="576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тематическая мод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Object 2" descr=""/>
          <p:cNvPicPr/>
          <p:nvPr/>
        </p:nvPicPr>
        <p:blipFill>
          <a:blip r:embed="rId2"/>
          <a:stretch/>
        </p:blipFill>
        <p:spPr>
          <a:xfrm>
            <a:off x="6010200" y="4572000"/>
            <a:ext cx="914400" cy="714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Line 8"/>
          <p:cNvSpPr/>
          <p:nvPr/>
        </p:nvSpPr>
        <p:spPr>
          <a:xfrm flipH="1" flipV="1">
            <a:off x="5868720" y="3141720"/>
            <a:ext cx="649080" cy="2887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6516720" y="1989000"/>
            <a:ext cx="2195640" cy="792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илет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с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6516720" y="3068640"/>
            <a:ext cx="2233440" cy="79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оргов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едприя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8"/>
          <p:cNvSpPr/>
          <p:nvPr/>
        </p:nvSpPr>
        <p:spPr>
          <a:xfrm flipH="1" flipV="1">
            <a:off x="2773080" y="2565000"/>
            <a:ext cx="718920" cy="36036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8"/>
          <p:cNvSpPr/>
          <p:nvPr/>
        </p:nvSpPr>
        <p:spPr>
          <a:xfrm flipH="1">
            <a:off x="5797440" y="2494080"/>
            <a:ext cx="719280" cy="3585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8"/>
          <p:cNvSpPr/>
          <p:nvPr/>
        </p:nvSpPr>
        <p:spPr>
          <a:xfrm flipV="1">
            <a:off x="4573440" y="3789360"/>
            <a:ext cx="0" cy="7207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541440" y="2133720"/>
            <a:ext cx="2195280" cy="79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монт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стер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541440" y="3357720"/>
            <a:ext cx="2233440" cy="863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луж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корой помощ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3276720" y="4581360"/>
            <a:ext cx="2593800" cy="1008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пра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анспортн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то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8"/>
          <p:cNvSpPr/>
          <p:nvPr/>
        </p:nvSpPr>
        <p:spPr>
          <a:xfrm flipH="1">
            <a:off x="2773080" y="3286080"/>
            <a:ext cx="718920" cy="43200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3421080" y="2494080"/>
            <a:ext cx="2448000" cy="1296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истем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массовог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обслужив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539640" y="907920"/>
            <a:ext cx="835200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Имитационные модел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оспроизводят поведение сложных систем, элементы которых могут вести себя случайным образ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2268360" y="5877000"/>
            <a:ext cx="525636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митационная мод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Object 17" descr=""/>
          <p:cNvPicPr/>
          <p:nvPr/>
        </p:nvPicPr>
        <p:blipFill>
          <a:blip r:embed="rId2"/>
          <a:stretch/>
        </p:blipFill>
        <p:spPr>
          <a:xfrm>
            <a:off x="6372360" y="5948280"/>
            <a:ext cx="914400" cy="714600"/>
          </a:xfrm>
          <a:prstGeom prst="rect">
            <a:avLst/>
          </a:prstGeom>
          <a:ln w="0">
            <a:noFill/>
          </a:ln>
        </p:spPr>
      </p:pic>
      <p:sp>
        <p:nvSpPr>
          <p:cNvPr id="132" name="Заголовок 2"/>
          <p:cNvSpPr/>
          <p:nvPr/>
        </p:nvSpPr>
        <p:spPr>
          <a:xfrm>
            <a:off x="539640" y="189000"/>
            <a:ext cx="8147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Имитационные мод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600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80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90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300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Заголовок 2"/>
          <p:cNvSpPr/>
          <p:nvPr/>
        </p:nvSpPr>
        <p:spPr>
          <a:xfrm>
            <a:off x="1547640" y="189000"/>
            <a:ext cx="7210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21"/>
          <p:cNvSpPr/>
          <p:nvPr/>
        </p:nvSpPr>
        <p:spPr>
          <a:xfrm>
            <a:off x="395280" y="1052640"/>
            <a:ext cx="8353440" cy="47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Словесные модел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это описания предметов, явлений, событий, процессов на естественных языка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Математические модел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это информационные модели, построенные с использованием математических понятий и форму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Компьютерные математические модел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это математические модели, реализованные с помощью систем программирования, специализированных математических пакетов, программных средств для моделирования и электронных табли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Имитационные модел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оспроизводят поведение сложных систем, элементы которых могут вести себя случайным образ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539640" y="14018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едите 2–3 собственных примера словесных моделей, рассматриваемых на уроках истории, географии, биолог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611280" y="141300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помните басни И. А. Крылова: «Волк и ягнёнок», «Ворона и лисица», «Демьянова уха», «Квартет», «Лебедь, Щука и Рак», «Лисица и виноград», «Слон и Моська», «Стрекоза и Муравей», «Тришкин кафтан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черты характера людей и отношения между людьми смоделировал в них автор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468360" y="134136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основании следующей геометрической модели докажите справедливость формул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тр = 1/2 · a · 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9"/>
          <p:cNvGrpSpPr/>
          <p:nvPr/>
        </p:nvGrpSpPr>
        <p:grpSpPr>
          <a:xfrm>
            <a:off x="2411280" y="4005360"/>
            <a:ext cx="4897440" cy="1755000"/>
            <a:chOff x="2411280" y="4005360"/>
            <a:chExt cx="4897440" cy="1755000"/>
          </a:xfrm>
        </p:grpSpPr>
        <p:sp>
          <p:nvSpPr>
            <p:cNvPr id="140" name="Rectangle 9"/>
            <p:cNvSpPr/>
            <p:nvPr/>
          </p:nvSpPr>
          <p:spPr>
            <a:xfrm>
              <a:off x="2411280" y="4005360"/>
              <a:ext cx="4897440" cy="12240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0"/>
            <p:cNvSpPr/>
            <p:nvPr/>
          </p:nvSpPr>
          <p:spPr>
            <a:xfrm flipV="1">
              <a:off x="2484360" y="4005360"/>
              <a:ext cx="3527640" cy="1224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1"/>
            <p:cNvSpPr/>
            <p:nvPr/>
          </p:nvSpPr>
          <p:spPr>
            <a:xfrm>
              <a:off x="5940360" y="4005360"/>
              <a:ext cx="1295640" cy="1224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2"/>
            <p:cNvSpPr/>
            <p:nvPr/>
          </p:nvSpPr>
          <p:spPr>
            <a:xfrm>
              <a:off x="5940360" y="4005360"/>
              <a:ext cx="0" cy="122400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14"/>
            <p:cNvSpPr/>
            <p:nvPr/>
          </p:nvSpPr>
          <p:spPr>
            <a:xfrm>
              <a:off x="5940360" y="4869000"/>
              <a:ext cx="2872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15"/>
            <p:cNvSpPr/>
            <p:nvPr/>
          </p:nvSpPr>
          <p:spPr>
            <a:xfrm>
              <a:off x="6227640" y="4869000"/>
              <a:ext cx="0" cy="3603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17"/>
            <p:cNvSpPr/>
            <p:nvPr/>
          </p:nvSpPr>
          <p:spPr>
            <a:xfrm>
              <a:off x="5867280" y="429264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18"/>
            <p:cNvSpPr/>
            <p:nvPr/>
          </p:nvSpPr>
          <p:spPr>
            <a:xfrm>
              <a:off x="4140360" y="5300640"/>
              <a:ext cx="5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Text Box 20"/>
          <p:cNvSpPr/>
          <p:nvPr/>
        </p:nvSpPr>
        <p:spPr>
          <a:xfrm>
            <a:off x="539640" y="141300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ите, составив математическую модель, следующую задач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оход прошёл 4 км против течения реки, а затем прошёл ещё 33 км по течению, затратив на весь путь один час. Найдите собственную скорость парохода, если скорость течения реки равна 6,5 км/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1"/>
          <p:cNvSpPr/>
          <p:nvPr/>
        </p:nvSpPr>
        <p:spPr>
          <a:xfrm>
            <a:off x="539640" y="141300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буется спроектировать электрическую цепь, показывающую итог тайного голосования комиссии в составе трёх членов. При голосовании «за» член комиссии нажимает кнопку. Предложение считается принятым, если оно собирает большинство голосов. В этом случае загорается лампоч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2"/>
          <p:cNvSpPr/>
          <p:nvPr/>
        </p:nvSpPr>
        <p:spPr>
          <a:xfrm>
            <a:off x="468360" y="907920"/>
            <a:ext cx="82803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шите, составив логическую модель, следующую задачу. На международных соревнованиях по прыжкам в воду первые пять мест заняли спортсмены из Германии, Италии, Китая, России и Украины. Ещё до начала соревнований эксперты высказали свои предположения об их итогах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) Первое место займёт спортсмен из Китая, а спортсмен из Украины будет третьи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) Украина будет на последнем месте, а Германия - на предпоследне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) Германия точно будет четвёртой, а первое место займёт Кита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) Россия будет первой, а Италия - на втором мест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5) Нет, Италия будет пятой, а победит Герм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 окончании соревнований выяснилось, что каждый эксперт был прав только в одном утверждении. Какие места в соревновании заняли участники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3"/>
          <p:cNvSpPr/>
          <p:nvPr/>
        </p:nvSpPr>
        <p:spPr>
          <a:xfrm>
            <a:off x="468360" y="1413000"/>
            <a:ext cx="8353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ередине прошлого века экономисты оценили ежегодный объём вычислений, необходимых для эффективного управления народным хозяйством стра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 составил 1017 опера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ли справиться с таким объёмом вычислений за год, если привлечь к работе миллион вычислителей, каждый из которых способен выполнять одну операцию в секун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4"/>
          <p:cNvSpPr/>
          <p:nvPr/>
        </p:nvSpPr>
        <p:spPr>
          <a:xfrm>
            <a:off x="611280" y="141300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едите примеры использования компьютерных модел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Заголовок 2"/>
          <p:cNvSpPr/>
          <p:nvPr/>
        </p:nvSpPr>
        <p:spPr>
          <a:xfrm>
            <a:off x="1042920" y="189000"/>
            <a:ext cx="7643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755640" y="3429000"/>
            <a:ext cx="1584360" cy="79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ловесн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д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8"/>
          <p:cNvSpPr/>
          <p:nvPr/>
        </p:nvSpPr>
        <p:spPr>
          <a:xfrm flipV="1">
            <a:off x="2050920" y="2565000"/>
            <a:ext cx="2521080" cy="863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7"/>
          <p:cNvSpPr/>
          <p:nvPr/>
        </p:nvSpPr>
        <p:spPr>
          <a:xfrm flipH="1" flipV="1">
            <a:off x="4716360" y="2565000"/>
            <a:ext cx="1943280" cy="792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9"/>
          <p:cNvSpPr/>
          <p:nvPr/>
        </p:nvSpPr>
        <p:spPr>
          <a:xfrm flipV="1">
            <a:off x="4643280" y="2565000"/>
            <a:ext cx="0" cy="792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3419640" y="3429000"/>
            <a:ext cx="2376360" cy="79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тематическ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д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5"/>
          <p:cNvSpPr/>
          <p:nvPr/>
        </p:nvSpPr>
        <p:spPr>
          <a:xfrm>
            <a:off x="468360" y="836640"/>
            <a:ext cx="8424720" cy="764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Знаковые модели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строят с использованием различных естественных и формальных язык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3203640" y="1916280"/>
            <a:ext cx="2952720" cy="649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Знаковая модел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6227640" y="3429000"/>
            <a:ext cx="2376720" cy="79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мпьютерн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д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4000"/>
                            </p:stCondLst>
                            <p:childTnLst>
                              <p:par>
                                <p:cTn id="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0"/>
                            </p:stCondLst>
                            <p:childTnLst>
                              <p:par>
                                <p:cTn id="3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6000"/>
                            </p:stCondLst>
                            <p:childTnLst>
                              <p:par>
                                <p:cTn id="3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7000"/>
                            </p:stCondLst>
                            <p:childTnLst>
                              <p:par>
                                <p:cTn id="3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Босова</cp:lastModifiedBy>
  <dcterms:modified xsi:type="dcterms:W3CDTF">2012-06-30T08:48:20Z</dcterms:modified>
  <cp:revision>68</cp:revision>
  <dc:subject/>
  <dc:title>Презентация PowerPoint</dc:title>
</cp:coreProperties>
</file>