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7.png" ContentType="image/png"/>
  <Override PartName="/ppt/media/image32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1.png" ContentType="image/png"/>
  <Override PartName="/ppt/media/image35.png" ContentType="image/png"/>
  <Override PartName="/ppt/media/image28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0.jpeg" ContentType="image/jpeg"/>
  <Override PartName="/ppt/media/image14.png" ContentType="image/png"/>
  <Override PartName="/ppt/media/image5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2.jpeg" ContentType="image/jpeg"/>
  <Override PartName="/ppt/media/image16.png" ContentType="image/png"/>
  <Override PartName="/ppt/media/image17.gif" ContentType="image/gi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5FD5-F381-408D-8A9C-A7926F63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03B1-56B5-41BB-AD8C-C9C0A399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077-EE56-4B75-922D-2FF335AE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292-E60A-4392-B6FB-67598F54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162D-420F-40E8-BF0D-238C8E54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B5FE-867D-42E1-953C-0A7BCAAA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8E9B-F764-4C7B-940C-667BBEB2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06C-110B-4B1A-B1A5-5924FE86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4E7-AEC0-4535-922F-3296F170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4E3-9534-48BD-AFA0-41CEE8A0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704-A24E-43ED-B526-6485122F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361-9973-4E7E-B239-A59BCB1C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1944-FF78-4F6A-849C-67C0F1829C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g-fotki.yandex.ru/get/41/sin264.5/0_1302d_674b5ebb_XL" TargetMode="External"/><Relationship Id="rId3" Type="http://schemas.openxmlformats.org/officeDocument/2006/relationships/hyperlink" Target="http://my-strongdc.ru/wp-content/uploads/2010/08/p2p.jpg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reatweb.co.uk/images/greatweb_network.jpg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276640"/>
            <a:ext cx="7020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ЛОКАЛЬНЫЕ  И  ГЛОБАЛЬНЫЕ  КОМПЬЮТЕРНЫЕ  СЕ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МУНИКАЦИОННЫЕ 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1" descr=""/>
          <p:cNvPicPr/>
          <p:nvPr/>
        </p:nvPicPr>
        <p:blipFill>
          <a:blip r:embed="rId2"/>
          <a:stretch/>
        </p:blipFill>
        <p:spPr>
          <a:xfrm>
            <a:off x="3708360" y="1557360"/>
            <a:ext cx="1447920" cy="676080"/>
          </a:xfrm>
          <a:prstGeom prst="rect">
            <a:avLst/>
          </a:prstGeom>
          <a:ln w="0">
            <a:noFill/>
          </a:ln>
        </p:spPr>
      </p:pic>
      <p:sp>
        <p:nvSpPr>
          <p:cNvPr id="106" name="Line 44"/>
          <p:cNvSpPr/>
          <p:nvPr/>
        </p:nvSpPr>
        <p:spPr>
          <a:xfrm>
            <a:off x="7162920" y="973080"/>
            <a:ext cx="316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Заголовок 2"/>
          <p:cNvSpPr/>
          <p:nvPr/>
        </p:nvSpPr>
        <p:spPr>
          <a:xfrm>
            <a:off x="539640" y="189000"/>
            <a:ext cx="8147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11280" y="4653000"/>
            <a:ext cx="82087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ерве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более мощный компьютер; на нем хранится основная часть программного обеспечения и данных, которыми могут воспользоваться все другие компьютеры  сети - клиенты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4500720" y="3068640"/>
            <a:ext cx="1728720" cy="125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4"/>
          <a:stretch/>
        </p:blipFill>
        <p:spPr>
          <a:xfrm>
            <a:off x="2556000" y="2924280"/>
            <a:ext cx="1873080" cy="136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5"/>
          <a:stretch/>
        </p:blipFill>
        <p:spPr>
          <a:xfrm>
            <a:off x="6588000" y="2924280"/>
            <a:ext cx="1873440" cy="1365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6"/>
          <a:stretch/>
        </p:blipFill>
        <p:spPr>
          <a:xfrm>
            <a:off x="6732720" y="1557360"/>
            <a:ext cx="1800000" cy="1311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http://www.ruben.ru/lj/2009.03.18/mediasmart.jpg"/>
          <p:cNvPicPr/>
          <p:nvPr/>
        </p:nvPicPr>
        <p:blipFill>
          <a:blip r:embed="rId7"/>
          <a:stretch/>
        </p:blipFill>
        <p:spPr>
          <a:xfrm>
            <a:off x="1979640" y="836640"/>
            <a:ext cx="836640" cy="129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8"/>
          <a:stretch/>
        </p:blipFill>
        <p:spPr>
          <a:xfrm>
            <a:off x="900000" y="3213000"/>
            <a:ext cx="1079640" cy="695520"/>
          </a:xfrm>
          <a:prstGeom prst="rect">
            <a:avLst/>
          </a:prstGeom>
          <a:ln w="0">
            <a:noFill/>
          </a:ln>
        </p:spPr>
      </p:pic>
      <p:sp>
        <p:nvSpPr>
          <p:cNvPr id="115" name="Line 13"/>
          <p:cNvSpPr/>
          <p:nvPr/>
        </p:nvSpPr>
        <p:spPr>
          <a:xfrm flipH="1">
            <a:off x="1402920" y="2060640"/>
            <a:ext cx="865080" cy="10810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 flipH="1">
            <a:off x="3995280" y="2060640"/>
            <a:ext cx="360360" cy="100800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4500720" y="1989000"/>
            <a:ext cx="934920" cy="13687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4643280" y="1989000"/>
            <a:ext cx="2953080" cy="122400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 flipH="1" flipV="1">
            <a:off x="4787640" y="1988640"/>
            <a:ext cx="2089080" cy="28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684360" y="393372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нт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395280" y="981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рвер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6012000" y="2781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 flipH="1" flipV="1">
            <a:off x="2771640" y="1773000"/>
            <a:ext cx="1368720" cy="215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3419640" y="76500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центратор 3Com Office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Заголовок 2"/>
          <p:cNvSpPr/>
          <p:nvPr/>
        </p:nvSpPr>
        <p:spPr>
          <a:xfrm>
            <a:off x="539640" y="189000"/>
            <a:ext cx="8147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кальны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42960" y="1643040"/>
            <a:ext cx="4392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ый компьютер в сети должен иметь сетевой адаптер для передачи и приёма сигналов, распространяемых по каналам свя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714240" y="4214880"/>
            <a:ext cx="8105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единение компьютеров (их сетевых плат) в локальную сеть осуществляется с помощью различных типов кабелей (витая пара, оптическое волокно) или по  беспроводным каналам (типа Wi-F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http://www.3dnews.ru/documents/2799/lancard.jpg"/>
          <p:cNvPicPr/>
          <p:nvPr/>
        </p:nvPicPr>
        <p:blipFill>
          <a:blip r:embed="rId2"/>
          <a:stretch/>
        </p:blipFill>
        <p:spPr>
          <a:xfrm rot="610200">
            <a:off x="5416200" y="1292040"/>
            <a:ext cx="2727360" cy="2530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14"/>
          <p:cNvSpPr/>
          <p:nvPr/>
        </p:nvSpPr>
        <p:spPr>
          <a:xfrm>
            <a:off x="857160" y="4076640"/>
            <a:ext cx="7715520" cy="249552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6"/>
          <p:cNvSpPr/>
          <p:nvPr/>
        </p:nvSpPr>
        <p:spPr>
          <a:xfrm>
            <a:off x="4500720" y="3586320"/>
            <a:ext cx="360360" cy="502920"/>
          </a:xfrm>
          <a:prstGeom prst="downArrow">
            <a:avLst>
              <a:gd name="adj1" fmla="val 50000"/>
              <a:gd name="adj2" fmla="val 34890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Глобальны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1042920" y="2060640"/>
            <a:ext cx="7346880" cy="151272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лоба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зволяет организовать информационное общ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жду абонентами на больших расстояния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 масштабах всей плане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1044720" y="4221000"/>
            <a:ext cx="2881080" cy="216072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гиональ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ъединяю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пьютеры 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елах регио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ода, област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я, стр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5510160" y="4221000"/>
            <a:ext cx="2881440" cy="216072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рпоратив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еспечиваю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поратив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уктур (филиал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тельств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2341440" y="357336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732720" y="357336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58920" y="620640"/>
            <a:ext cx="84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лобальная компьютерная сеть  - это система связанных между собой компьютеров, расположенных на большом удалении друг от дру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28760" y="857160"/>
            <a:ext cx="828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тернет объединяет многочисленные локальные, региональные и корпоративные сети, а также компьютеры отдельных пользователей, распределённые по всему мир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28760" y="2000160"/>
            <a:ext cx="831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ой сети Интернет являются компьютерные узлы и каналы связи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зел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мощный компьютер, постоянно подключённый к се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9" descr="http://www.lookinfo.org/uploads/posts/1190733496_20070312101944615_1.png"/>
          <p:cNvPicPr/>
          <p:nvPr/>
        </p:nvPicPr>
        <p:blipFill>
          <a:blip r:embed="rId2"/>
          <a:stretch/>
        </p:blipFill>
        <p:spPr>
          <a:xfrm>
            <a:off x="3000240" y="3286080"/>
            <a:ext cx="3581640" cy="308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4" descr=""/>
          <p:cNvPicPr/>
          <p:nvPr/>
        </p:nvPicPr>
        <p:blipFill>
          <a:blip r:embed="rId2"/>
          <a:stretch/>
        </p:blipFill>
        <p:spPr>
          <a:xfrm>
            <a:off x="3995640" y="1989000"/>
            <a:ext cx="4248360" cy="362916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ана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1403280" y="907920"/>
            <a:ext cx="6840720" cy="57636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зические каналы для передачи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971640" y="1773360"/>
            <a:ext cx="2448000" cy="79200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лектрическ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б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971640" y="3716280"/>
            <a:ext cx="2448000" cy="79236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диосвяз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971640" y="4724280"/>
            <a:ext cx="2448000" cy="79236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ракрас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у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971640" y="2781360"/>
            <a:ext cx="2442960" cy="79200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товолокон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б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971640" y="5734080"/>
            <a:ext cx="2450880" cy="792000"/>
          </a:xfrm>
          <a:prstGeom prst="roundRect">
            <a:avLst>
              <a:gd name="adj" fmla="val 16667"/>
            </a:avLst>
          </a:prstGeom>
          <a:solidFill>
            <a:srgbClr val="c5ecff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лефон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2" descr="http://upload.wikimedia.org/wikipedia/commons/c/cb/UTP_cable.jpg"/>
          <p:cNvPicPr/>
          <p:nvPr/>
        </p:nvPicPr>
        <p:blipFill>
          <a:blip r:embed="rId3"/>
          <a:stretch/>
        </p:blipFill>
        <p:spPr>
          <a:xfrm rot="14647200">
            <a:off x="5454360" y="2618640"/>
            <a:ext cx="2909880" cy="2370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4"/>
          <a:stretch/>
        </p:blipFill>
        <p:spPr>
          <a:xfrm>
            <a:off x="4788000" y="1844640"/>
            <a:ext cx="2563560" cy="3384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6" descr="http://www.mobile-review.com/pda/review/image/acsessories/keyboards/luch2.jpg"/>
          <p:cNvPicPr/>
          <p:nvPr/>
        </p:nvPicPr>
        <p:blipFill>
          <a:blip r:embed="rId5"/>
          <a:stretch/>
        </p:blipFill>
        <p:spPr>
          <a:xfrm>
            <a:off x="3995640" y="1916280"/>
            <a:ext cx="4464000" cy="3716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8" descr="http://www.telecomfamily.com/wp-content/uploads/2010/07/wireless-telecommunications1.jpg"/>
          <p:cNvPicPr/>
          <p:nvPr/>
        </p:nvPicPr>
        <p:blipFill>
          <a:blip r:embed="rId6"/>
          <a:stretch/>
        </p:blipFill>
        <p:spPr>
          <a:xfrm>
            <a:off x="3780000" y="1916280"/>
            <a:ext cx="4895640" cy="360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68360" y="928800"/>
            <a:ext cx="83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 узлам компьютерной сети подключаю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бонент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ерсональные компьютеры пользователей или локальные се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ганизация, предоставляющая пользователям связь с Интернет через свои компьютеры, называе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вайдером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provider - поставщик) сетевых услу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"/>
          <p:cNvGrpSpPr/>
          <p:nvPr/>
        </p:nvGrpSpPr>
        <p:grpSpPr>
          <a:xfrm>
            <a:off x="611280" y="3284640"/>
            <a:ext cx="8133840" cy="2415600"/>
            <a:chOff x="611280" y="3284640"/>
            <a:chExt cx="8133840" cy="2415600"/>
          </a:xfrm>
        </p:grpSpPr>
        <p:pic>
          <p:nvPicPr>
            <p:cNvPr id="157" name="Picture 7" descr=""/>
            <p:cNvPicPr/>
            <p:nvPr/>
          </p:nvPicPr>
          <p:blipFill>
            <a:blip r:embed="rId2"/>
            <a:stretch/>
          </p:blipFill>
          <p:spPr>
            <a:xfrm>
              <a:off x="682560" y="3789000"/>
              <a:ext cx="119016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8" descr=""/>
            <p:cNvPicPr/>
            <p:nvPr/>
          </p:nvPicPr>
          <p:blipFill>
            <a:blip r:embed="rId3"/>
            <a:stretch/>
          </p:blipFill>
          <p:spPr>
            <a:xfrm>
              <a:off x="2987640" y="3860640"/>
              <a:ext cx="1066320" cy="9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9" descr=""/>
            <p:cNvPicPr/>
            <p:nvPr/>
          </p:nvPicPr>
          <p:blipFill>
            <a:blip r:embed="rId4"/>
            <a:stretch/>
          </p:blipFill>
          <p:spPr>
            <a:xfrm>
              <a:off x="5148000" y="3284640"/>
              <a:ext cx="143820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0" descr=""/>
            <p:cNvPicPr/>
            <p:nvPr/>
          </p:nvPicPr>
          <p:blipFill>
            <a:blip r:embed="rId5"/>
            <a:stretch/>
          </p:blipFill>
          <p:spPr>
            <a:xfrm>
              <a:off x="5074920" y="4652640"/>
              <a:ext cx="143820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1" descr=""/>
            <p:cNvPicPr/>
            <p:nvPr/>
          </p:nvPicPr>
          <p:blipFill>
            <a:blip r:embed="rId6"/>
            <a:stretch/>
          </p:blipFill>
          <p:spPr>
            <a:xfrm>
              <a:off x="7307280" y="3860640"/>
              <a:ext cx="1437840" cy="104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2"/>
            <p:cNvSpPr/>
            <p:nvPr/>
          </p:nvSpPr>
          <p:spPr>
            <a:xfrm>
              <a:off x="611280" y="4939920"/>
              <a:ext cx="136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5ab4"/>
                  </a:solidFill>
                  <a:latin typeface="Arial"/>
                </a:rPr>
                <a:t>Интерн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3"/>
            <p:cNvSpPr/>
            <p:nvPr/>
          </p:nvSpPr>
          <p:spPr>
            <a:xfrm>
              <a:off x="2698560" y="5084640"/>
              <a:ext cx="17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5ab4"/>
                  </a:solidFill>
                  <a:latin typeface="Arial"/>
                </a:rPr>
                <a:t>Провайде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4"/>
            <p:cNvSpPr/>
            <p:nvPr/>
          </p:nvSpPr>
          <p:spPr>
            <a:xfrm>
              <a:off x="6730920" y="5084640"/>
              <a:ext cx="17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5ab4"/>
                  </a:solidFill>
                  <a:latin typeface="Arial"/>
                </a:rPr>
                <a:t>Абонен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5"/>
            <p:cNvSpPr/>
            <p:nvPr/>
          </p:nvSpPr>
          <p:spPr>
            <a:xfrm>
              <a:off x="1763640" y="4292280"/>
              <a:ext cx="122364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6"/>
            <p:cNvSpPr/>
            <p:nvPr/>
          </p:nvSpPr>
          <p:spPr>
            <a:xfrm flipV="1">
              <a:off x="4066920" y="3788640"/>
              <a:ext cx="1223640" cy="431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7"/>
            <p:cNvSpPr/>
            <p:nvPr/>
          </p:nvSpPr>
          <p:spPr>
            <a:xfrm>
              <a:off x="4066920" y="4437000"/>
              <a:ext cx="331272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8"/>
            <p:cNvSpPr/>
            <p:nvPr/>
          </p:nvSpPr>
          <p:spPr>
            <a:xfrm>
              <a:off x="4066920" y="4652640"/>
              <a:ext cx="1007640" cy="4316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хнология 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 ADS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28760" y="857160"/>
            <a:ext cx="842472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повышения скорости передачи данных по телефонным линиям разработана техология ADSL (Asymmetric Digital Subscriber Line - асимметричная цифровая абонентская линия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правило, пользователь загружает из Интернета на свой компьютер большой объём информации, а в обратном направлении передаёт значительно меньший объём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ьное оборудование, подключаемое к телефонной линии, обеспечивает достаточно высокую входящую и более низкую исходящую скорость передачи да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5" descr="http://kunegin.narod.ru/ref2/wireless/images/acc_05.gif"/>
          <p:cNvPicPr/>
          <p:nvPr/>
        </p:nvPicPr>
        <p:blipFill>
          <a:blip r:embed="rId2"/>
          <a:stretch/>
        </p:blipFill>
        <p:spPr>
          <a:xfrm>
            <a:off x="6786720" y="5000760"/>
            <a:ext cx="2286000" cy="1743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Заголовок 2"/>
          <p:cNvSpPr/>
          <p:nvPr/>
        </p:nvSpPr>
        <p:spPr>
          <a:xfrm>
            <a:off x="539640" y="189000"/>
            <a:ext cx="860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числяем время передачи данн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28760" y="150012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ч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корость передачи данных через ADSL-соединение равна 128 000 бит/c. Какое количество времени (в секундах) потребуется для передачи через это соединение файла размером 625 Кбайт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68360" y="35002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68360" y="39337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25 Кбай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128 00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ит/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468360" y="4797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2843280" y="386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 flipH="1">
            <a:off x="395280" y="4797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2916360" y="393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I /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4140360" y="3860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4211640" y="3933720"/>
            <a:ext cx="46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25 Кбайт = 625*1024*8 битов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625*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1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 0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ит/с=128*1000бит/с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*125 бит/с=125*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/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6"/>
              <p:cNvSpPr txBox="1"/>
              <p:nvPr/>
            </p:nvSpPr>
            <p:spPr>
              <a:xfrm>
                <a:off x="611280" y="5516640"/>
                <a:ext cx="3960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бит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бит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17"/>
          <p:cNvSpPr/>
          <p:nvPr/>
        </p:nvSpPr>
        <p:spPr>
          <a:xfrm>
            <a:off x="5435640" y="6093000"/>
            <a:ext cx="273672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0 секу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4"/>
          <p:cNvSpPr/>
          <p:nvPr/>
        </p:nvSpPr>
        <p:spPr>
          <a:xfrm>
            <a:off x="324000" y="981000"/>
            <a:ext cx="8569080" cy="48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Компьютерная сеть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- это два и более компьютеров, соединённых линиями передачи информаци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Локальная компьютерная сеть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объединяет компьютеры, установленные в одном помещении или в одном здании, и обеспечивает пользователям возможность совместного доступа к ресурсам компьютеров, а также к периферийным устройствам, подключённым к сети. Локальные сети бывают одноранговыми и с выделенным серверо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Глобальная компьютерная сеть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- это система связанных между собой компьютеров, расположенных на сколь угодно большом удалении друг от друга (например, в разных странах и на разных континентах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39640" y="18446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понимаете смысл фразы: «Возможность пере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й, информации - основа прогресса всего общества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м и каждого человека в  отдельности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омпьютерная се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анал связ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определяется пропускная способность канала связ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строена одноранговая локальная се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39640" y="1844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строена локальная сеть с выделенным сервер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го типа локальная сеть установлена в ваш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ном классе? Какие функции она выполня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сети называются глоба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таких с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аналы связи используются для передачи данных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х компьютерных сет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539640" y="18446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передачи данных через ADSL-соединение ра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12 000 бит/с. Передача файла по этому каналу заним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 с. Определите объём файла в килобай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йте названия фирм, являющихся поставщ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евых услуг в вашей мес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539640" y="184464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граф отношений, связывающих понят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енные в этом параграф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нал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ьютер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рость передач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ка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оба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8"/>
          <p:cNvSpPr/>
          <p:nvPr/>
        </p:nvSpPr>
        <p:spPr>
          <a:xfrm flipV="1">
            <a:off x="3851280" y="2420640"/>
            <a:ext cx="50472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539640" y="765000"/>
            <a:ext cx="8353440" cy="100836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а информации – важнейший информационный проце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ьютерная сеть -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истема компьютеров, связанных каналами передач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971640" y="2997360"/>
            <a:ext cx="2952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окаль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е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5219640" y="2997360"/>
            <a:ext cx="2952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лобальная се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7"/>
          <p:cNvSpPr/>
          <p:nvPr/>
        </p:nvSpPr>
        <p:spPr>
          <a:xfrm>
            <a:off x="814320" y="4076640"/>
            <a:ext cx="3194280" cy="244800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мож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вместного доступ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 информаци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устройств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0"/>
          <p:cNvSpPr/>
          <p:nvPr/>
        </p:nvSpPr>
        <p:spPr>
          <a:xfrm>
            <a:off x="5076720" y="4076640"/>
            <a:ext cx="3311640" cy="244800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стема связ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жду соб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пьютеров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положен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большом удален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уг от дру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8"/>
          <p:cNvSpPr/>
          <p:nvPr/>
        </p:nvSpPr>
        <p:spPr>
          <a:xfrm flipH="1" flipV="1">
            <a:off x="4643280" y="2420640"/>
            <a:ext cx="64944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2698920" y="2060640"/>
            <a:ext cx="36734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ьютерная с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3"/>
          <p:cNvSpPr/>
          <p:nvPr/>
        </p:nvSpPr>
        <p:spPr>
          <a:xfrm>
            <a:off x="2268360" y="3645000"/>
            <a:ext cx="360720" cy="431640"/>
          </a:xfrm>
          <a:prstGeom prst="downArrow">
            <a:avLst>
              <a:gd name="adj1" fmla="val 50000"/>
              <a:gd name="adj2" fmla="val 29915"/>
            </a:avLst>
          </a:prstGeom>
          <a:solidFill>
            <a:srgbClr val="e8fafc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4"/>
          <p:cNvSpPr/>
          <p:nvPr/>
        </p:nvSpPr>
        <p:spPr>
          <a:xfrm>
            <a:off x="6516720" y="364500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e8fafc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1"/>
          <p:cNvSpPr/>
          <p:nvPr/>
        </p:nvSpPr>
        <p:spPr>
          <a:xfrm>
            <a:off x="468360" y="836640"/>
            <a:ext cx="8424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img-fotki.yandex.ru/get/41/sin264.5/0_1302d_674b5ebb_X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азговор под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entorthirdgrade.homestead.com/000801_0204_0002_tsls_op_600x600.jpg - чтение кни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abble.com/CS/blogs/strollerderby/2009/06/tvkids.jpg - просмотр телепере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computerbooks.ru/books/Music/Book.AdobeAfterEffect6/Glava_01/8.gif - звуковые во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hone.vpfile.ru/images/phone1.jpg - разговор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valbib.ru/strawberry/data/upimages/laksiq10.png -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webpark.ru/uploads54/091229/Cards_09.jpg - почталь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.primamedia.ru/f/big/185/184649.jpg - современная поч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blog.uole-museum.ru/wp-content/uploads/2009/09/telefon.jpg - теле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archive.cnews.ru/img/cnews/2010/06/09/panas_63977.jpg - современный теле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evrostd.ru/uploads/products/max/9966.jpg - телефа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my-strongdc.ru/wp-content/uploads/2010/08/p2p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днорангов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pnetworks.ru/m_m_img/bw_ip/w-ip.png   - Схема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uralprinter.ru/sites/default/files/2868B009.jpg - прин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.4pk.ru/11824.jpg - концентратор 3Com Office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468360" y="765000"/>
            <a:ext cx="842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greatweb.co.uk/images/greatweb_network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омпьютерн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chool-collection.edu.ru/catalog/res/14e721e6-4bb2-4bbb-974c-90787cc4e34f/?interface=catalog – устройство компьютерных с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818e5481-5d5d-41fd-86ed-85d87dc7aaf7/9_43.swf - пакетная передач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evt.ru/load/internet_istoriya_powerpoint/87-1-0-429 - презентация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kvlar.narod.ru/kvlar3dn/seti.files/slide0014_image029.gif - локальная сеть с выделенным серве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3dnews.ru/documents/2799/lancard.jpg - сетевая п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upload.wikimedia.org/wikipedia/commons/c/cb/UTP_cable.jpg - кабель витая п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911-comp.ru/upload/medialibrary/f19/network.jpg - глобальн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voip.jalita.com/literature/images/voip_for_sb_3.jpg - телефонн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mobile-review.com/pda/review/image/acsessories/keyboards/luch2.jpg - инфракрасная 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telecomfamily.com/wp-content/uploads/2010/07/wireless-telecommunications1.jpg - радио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upport.by/images/auto/lanwithinternet.gif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S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468360" y="260280"/>
            <a:ext cx="8361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оцесс передачи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031"/>
          <p:cNvPicPr/>
          <p:nvPr/>
        </p:nvPicPr>
        <p:blipFill>
          <a:blip r:embed="rId2"/>
          <a:stretch/>
        </p:blipFill>
        <p:spPr>
          <a:xfrm>
            <a:off x="2411280" y="1812960"/>
            <a:ext cx="5040360" cy="4057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9640" y="981000"/>
            <a:ext cx="8282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разговоре происходит передача звуковых сигналов - ре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539640" y="836640"/>
            <a:ext cx="8352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чтении текста воспринимаются графические символы - букв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68360" y="836640"/>
            <a:ext cx="8281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росмотре телепередачи воспринимается видеоинформац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611280" y="5950080"/>
            <a:ext cx="8281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аваемая последовательность сигналов, символов,знаков называется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сообщение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"/>
          <p:cNvPicPr/>
          <p:nvPr/>
        </p:nvPicPr>
        <p:blipFill>
          <a:blip r:embed="rId3"/>
          <a:stretch/>
        </p:blipFill>
        <p:spPr>
          <a:xfrm>
            <a:off x="2268360" y="1844640"/>
            <a:ext cx="5834160" cy="4214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4"/>
          <a:stretch/>
        </p:blipFill>
        <p:spPr>
          <a:xfrm>
            <a:off x="2340000" y="1844640"/>
            <a:ext cx="4537080" cy="45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Заголовок 2"/>
          <p:cNvSpPr/>
          <p:nvPr/>
        </p:nvSpPr>
        <p:spPr>
          <a:xfrm>
            <a:off x="611280" y="260280"/>
            <a:ext cx="821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аналы передачи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539640" y="6922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нал связ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передачи информации) - это система технических средств и среда распространения сигналов для передачи сообщений от источника к приёмн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468360" y="170028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непосредственном общении людей информация  передаётся с помощью звуковых вол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68360" y="1700280"/>
            <a:ext cx="83534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разговоре по телефону - с помощью акустических и  электрических сигналов, распространяемых по линиям свя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539640" y="1773360"/>
            <a:ext cx="77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чтении - с помощью световых вол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7" descr=""/>
          <p:cNvPicPr/>
          <p:nvPr/>
        </p:nvPicPr>
        <p:blipFill>
          <a:blip r:embed="rId2"/>
          <a:stretch/>
        </p:blipFill>
        <p:spPr>
          <a:xfrm>
            <a:off x="1908000" y="2565360"/>
            <a:ext cx="5688360" cy="4044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"/>
          <p:cNvPicPr/>
          <p:nvPr/>
        </p:nvPicPr>
        <p:blipFill>
          <a:blip r:embed="rId3"/>
          <a:stretch/>
        </p:blipFill>
        <p:spPr>
          <a:xfrm>
            <a:off x="1908000" y="2637000"/>
            <a:ext cx="5616720" cy="3860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"/>
          <p:cNvPicPr/>
          <p:nvPr/>
        </p:nvPicPr>
        <p:blipFill>
          <a:blip r:embed="rId4"/>
          <a:stretch/>
        </p:blipFill>
        <p:spPr>
          <a:xfrm>
            <a:off x="2268360" y="256536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2"/>
          <p:cNvSpPr/>
          <p:nvPr/>
        </p:nvSpPr>
        <p:spPr>
          <a:xfrm>
            <a:off x="611280" y="260280"/>
            <a:ext cx="821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одирование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28760" y="3000240"/>
            <a:ext cx="842472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образование информации, идущей от источника, в форму, пригодную для её передачи по каналу связи, называется кодирование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фровая связь основана на передаче информации, преобразованной в двоичный ко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Группа 12"/>
          <p:cNvGrpSpPr/>
          <p:nvPr/>
        </p:nvGrpSpPr>
        <p:grpSpPr>
          <a:xfrm>
            <a:off x="357120" y="785880"/>
            <a:ext cx="8786880" cy="1357200"/>
            <a:chOff x="357120" y="785880"/>
            <a:chExt cx="8786880" cy="1357200"/>
          </a:xfrm>
        </p:grpSpPr>
        <p:sp>
          <p:nvSpPr>
            <p:cNvPr id="64" name="Прямоугольник 11"/>
            <p:cNvSpPr/>
            <p:nvPr/>
          </p:nvSpPr>
          <p:spPr>
            <a:xfrm>
              <a:off x="428400" y="785880"/>
              <a:ext cx="8715600" cy="13572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Нашивка 6"/>
            <p:cNvSpPr/>
            <p:nvPr/>
          </p:nvSpPr>
          <p:spPr>
            <a:xfrm>
              <a:off x="357120" y="1214280"/>
              <a:ext cx="1928880" cy="57132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00" y="0"/>
                  </a:lnTo>
                  <a:lnTo>
                    <a:pt x="21600" y="10800"/>
                  </a:lnTo>
                  <a:lnTo>
                    <a:pt x="18400" y="21600"/>
                  </a:lnTo>
                  <a:lnTo>
                    <a:pt x="0" y="21600"/>
                  </a:lnTo>
                  <a:lnTo>
                    <a:pt x="320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Источник 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Нашивка 7"/>
            <p:cNvSpPr/>
            <p:nvPr/>
          </p:nvSpPr>
          <p:spPr>
            <a:xfrm>
              <a:off x="2143080" y="1214280"/>
              <a:ext cx="1928880" cy="57132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00" y="0"/>
                  </a:lnTo>
                  <a:lnTo>
                    <a:pt x="21600" y="10800"/>
                  </a:lnTo>
                  <a:lnTo>
                    <a:pt x="18400" y="21600"/>
                  </a:lnTo>
                  <a:lnTo>
                    <a:pt x="0" y="21600"/>
                  </a:lnTo>
                  <a:lnTo>
                    <a:pt x="320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Кодирующее устрой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Нашивка 8"/>
            <p:cNvSpPr/>
            <p:nvPr/>
          </p:nvSpPr>
          <p:spPr>
            <a:xfrm>
              <a:off x="3929040" y="1214280"/>
              <a:ext cx="1357200" cy="571320"/>
            </a:xfrm>
            <a:custGeom>
              <a:avLst/>
              <a:gdLst>
                <a:gd name="textAreaLeft" fmla="*/ 0 w 1357200"/>
                <a:gd name="textAreaRight" fmla="*/ 1357560 w 13572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3" y="0"/>
                  </a:lnTo>
                  <a:lnTo>
                    <a:pt x="21600" y="10800"/>
                  </a:lnTo>
                  <a:lnTo>
                    <a:pt x="17053" y="21600"/>
                  </a:lnTo>
                  <a:lnTo>
                    <a:pt x="0" y="21600"/>
                  </a:lnTo>
                  <a:lnTo>
                    <a:pt x="4547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Канал связ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Нашивка 9"/>
            <p:cNvSpPr/>
            <p:nvPr/>
          </p:nvSpPr>
          <p:spPr>
            <a:xfrm>
              <a:off x="5143320" y="1214280"/>
              <a:ext cx="2286000" cy="571320"/>
            </a:xfrm>
            <a:custGeom>
              <a:avLst/>
              <a:gdLst>
                <a:gd name="textAreaLeft" fmla="*/ 0 w 2286000"/>
                <a:gd name="textAreaRight" fmla="*/ 2286360 w 22860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00" y="0"/>
                  </a:lnTo>
                  <a:lnTo>
                    <a:pt x="21600" y="10800"/>
                  </a:lnTo>
                  <a:lnTo>
                    <a:pt x="18900" y="21600"/>
                  </a:lnTo>
                  <a:lnTo>
                    <a:pt x="0" y="21600"/>
                  </a:lnTo>
                  <a:lnTo>
                    <a:pt x="270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Декодирующее устрой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Нашивка 10"/>
            <p:cNvSpPr/>
            <p:nvPr/>
          </p:nvSpPr>
          <p:spPr>
            <a:xfrm>
              <a:off x="7215120" y="1214280"/>
              <a:ext cx="1928880" cy="57132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00" y="0"/>
                  </a:lnTo>
                  <a:lnTo>
                    <a:pt x="21600" y="10800"/>
                  </a:lnTo>
                  <a:lnTo>
                    <a:pt x="18400" y="21600"/>
                  </a:lnTo>
                  <a:lnTo>
                    <a:pt x="0" y="21600"/>
                  </a:lnTo>
                  <a:lnTo>
                    <a:pt x="320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Приёмник 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Заголовок 2"/>
          <p:cNvSpPr/>
          <p:nvPr/>
        </p:nvSpPr>
        <p:spPr>
          <a:xfrm>
            <a:off x="611280" y="260280"/>
            <a:ext cx="821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тория передачи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68360" y="692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протяжении столетий для передачи писем человечество пользовалось услугами почтовой свя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еще почтальон"/>
          <p:cNvPicPr/>
          <p:nvPr/>
        </p:nvPicPr>
        <p:blipFill>
          <a:blip r:embed="rId2"/>
          <a:stretch/>
        </p:blipFill>
        <p:spPr>
          <a:xfrm>
            <a:off x="826920" y="1916280"/>
            <a:ext cx="2946600" cy="4508280"/>
          </a:xfrm>
          <a:prstGeom prst="rect">
            <a:avLst/>
          </a:prstGeom>
          <a:ln w="38160">
            <a:solidFill>
              <a:srgbClr val="f9a88b"/>
            </a:solidFill>
            <a:miter/>
          </a:ln>
        </p:spPr>
      </p:pic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4067280" y="2492280"/>
            <a:ext cx="4752720" cy="3565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1"/>
          <p:cNvSpPr/>
          <p:nvPr/>
        </p:nvSpPr>
        <p:spPr>
          <a:xfrm>
            <a:off x="468360" y="692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 второй половине XIX века была изобретена технология передачи звука (телефон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"/>
          <p:cNvPicPr/>
          <p:nvPr/>
        </p:nvPicPr>
        <p:blipFill>
          <a:blip r:embed="rId4"/>
          <a:stretch/>
        </p:blipFill>
        <p:spPr>
          <a:xfrm>
            <a:off x="684360" y="1844640"/>
            <a:ext cx="3063600" cy="4467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"/>
          <p:cNvPicPr/>
          <p:nvPr/>
        </p:nvPicPr>
        <p:blipFill>
          <a:blip r:embed="rId5"/>
          <a:stretch/>
        </p:blipFill>
        <p:spPr>
          <a:xfrm>
            <a:off x="4211640" y="2205000"/>
            <a:ext cx="4191120" cy="3952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539640" y="62064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30-х годов XX века для передачи изображений стал использоваться телефак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"/>
          <p:cNvPicPr/>
          <p:nvPr/>
        </p:nvPicPr>
        <p:blipFill>
          <a:blip r:embed="rId6"/>
          <a:stretch/>
        </p:blipFill>
        <p:spPr>
          <a:xfrm>
            <a:off x="183528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2"/>
          <p:cNvSpPr/>
          <p:nvPr/>
        </p:nvSpPr>
        <p:spPr>
          <a:xfrm>
            <a:off x="611280" y="260280"/>
            <a:ext cx="821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омпьютер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71680" y="3929040"/>
            <a:ext cx="8424720" cy="25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корость передачи информаци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пропускная способность канала) -  количество информации в битах в секунду (бит/с) и в производных единицах (Кбит/с, Мбит/с, Гбит/с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Кбит/с = 1024 бит/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Мбит/с = 1024 Кбит/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Гбит/с = 1024 Мбит/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539640" y="76500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ьютерная се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два и более компьютеров, соединенных линиями передачи информации. Различают локальные и глобальные компьютерные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0"/>
          <p:cNvGrpSpPr/>
          <p:nvPr/>
        </p:nvGrpSpPr>
        <p:grpSpPr>
          <a:xfrm>
            <a:off x="1582560" y="2205000"/>
            <a:ext cx="5616360" cy="421560"/>
            <a:chOff x="1582560" y="2205000"/>
            <a:chExt cx="5616360" cy="421560"/>
          </a:xfrm>
        </p:grpSpPr>
        <p:pic>
          <p:nvPicPr>
            <p:cNvPr id="83" name="Picture 11" descr="AG00056_"/>
            <p:cNvPicPr/>
            <p:nvPr/>
          </p:nvPicPr>
          <p:blipFill>
            <a:blip r:embed="rId2">
              <a:lum bright="48000"/>
            </a:blip>
            <a:stretch/>
          </p:blipFill>
          <p:spPr>
            <a:xfrm flipH="1">
              <a:off x="1585440" y="2402640"/>
              <a:ext cx="561276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12" descr="AG00056_"/>
            <p:cNvPicPr/>
            <p:nvPr/>
          </p:nvPicPr>
          <p:blipFill>
            <a:blip r:embed="rId3"/>
            <a:stretch/>
          </p:blipFill>
          <p:spPr>
            <a:xfrm>
              <a:off x="1582560" y="2205000"/>
              <a:ext cx="5616360" cy="19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13" descr="computer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74560" y="1839960"/>
            <a:ext cx="2484720" cy="207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computer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6156360" y="1773360"/>
            <a:ext cx="2484360" cy="20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5"/>
          <p:cNvSpPr/>
          <p:nvPr/>
        </p:nvSpPr>
        <p:spPr>
          <a:xfrm>
            <a:off x="3096000" y="272412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ия  передачи 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Заголовок 2"/>
          <p:cNvSpPr/>
          <p:nvPr/>
        </p:nvSpPr>
        <p:spPr>
          <a:xfrm>
            <a:off x="539640" y="189000"/>
            <a:ext cx="8147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9640" y="836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кальная компьютерная сеть объединяет компьютеры, установленные в одном помеще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9640" y="521172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кальная сеть позволяет пользователям получить совместный доступ к ресурсам компьютеров, а также к периферийным устройствам (принтерам, сканерам, дискам, модемам и др.), подключенным к се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8"/>
          <p:cNvGrpSpPr/>
          <p:nvPr/>
        </p:nvGrpSpPr>
        <p:grpSpPr>
          <a:xfrm>
            <a:off x="2143080" y="1468440"/>
            <a:ext cx="5357880" cy="3889440"/>
            <a:chOff x="2143080" y="1468440"/>
            <a:chExt cx="5357880" cy="3889440"/>
          </a:xfrm>
        </p:grpSpPr>
        <p:sp>
          <p:nvSpPr>
            <p:cNvPr id="92" name="Прямоугольник 6"/>
            <p:cNvSpPr/>
            <p:nvPr/>
          </p:nvSpPr>
          <p:spPr>
            <a:xfrm>
              <a:off x="2571480" y="2325600"/>
              <a:ext cx="4643640" cy="285768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pc-life.ru/uploads/posts/2010-06/1276518423_lan_2.jpg"/>
            <p:cNvPicPr/>
            <p:nvPr/>
          </p:nvPicPr>
          <p:blipFill>
            <a:blip r:embed="rId2"/>
            <a:stretch/>
          </p:blipFill>
          <p:spPr>
            <a:xfrm>
              <a:off x="2555640" y="2023920"/>
              <a:ext cx="4286520" cy="33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Равнобедренный треугольник 7"/>
            <p:cNvSpPr/>
            <p:nvPr/>
          </p:nvSpPr>
          <p:spPr>
            <a:xfrm>
              <a:off x="2143080" y="1468440"/>
              <a:ext cx="5357880" cy="85716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2"/>
          <p:cNvSpPr/>
          <p:nvPr/>
        </p:nvSpPr>
        <p:spPr>
          <a:xfrm>
            <a:off x="2214720" y="4071960"/>
            <a:ext cx="5929200" cy="207180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2"/>
          <p:cNvSpPr/>
          <p:nvPr/>
        </p:nvSpPr>
        <p:spPr>
          <a:xfrm>
            <a:off x="539640" y="189000"/>
            <a:ext cx="8147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дноранговая 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708360" y="1341360"/>
            <a:ext cx="500076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дноранговых сетях все компьютеры равноправ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щие устройства могут быть подключены к любому компьютеру в се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3"/>
          <p:cNvSpPr/>
          <p:nvPr/>
        </p:nvSpPr>
        <p:spPr>
          <a:xfrm flipH="1">
            <a:off x="3017880" y="4395960"/>
            <a:ext cx="1915920" cy="48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4"/>
          <p:cNvSpPr/>
          <p:nvPr/>
        </p:nvSpPr>
        <p:spPr>
          <a:xfrm flipV="1">
            <a:off x="4243320" y="4395960"/>
            <a:ext cx="744480" cy="48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5"/>
          <p:cNvSpPr/>
          <p:nvPr/>
        </p:nvSpPr>
        <p:spPr>
          <a:xfrm flipV="1">
            <a:off x="5143680" y="4786200"/>
            <a:ext cx="73008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6"/>
          <p:cNvSpPr/>
          <p:nvPr/>
        </p:nvSpPr>
        <p:spPr>
          <a:xfrm>
            <a:off x="5092560" y="4395960"/>
            <a:ext cx="90504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7"/>
          <p:cNvSpPr/>
          <p:nvPr/>
        </p:nvSpPr>
        <p:spPr>
          <a:xfrm>
            <a:off x="5092560" y="4395960"/>
            <a:ext cx="223524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7" descr="http://my-strongdc.ru/wp-content/uploads/2010/08/p2p.jpg"/>
          <p:cNvPicPr/>
          <p:nvPr/>
        </p:nvPicPr>
        <p:blipFill>
          <a:blip r:embed="rId2"/>
          <a:stretch/>
        </p:blipFill>
        <p:spPr>
          <a:xfrm>
            <a:off x="714240" y="1500120"/>
            <a:ext cx="2776680" cy="2424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9" descr="локальная сеть1"/>
          <p:cNvPicPr/>
          <p:nvPr/>
        </p:nvPicPr>
        <p:blipFill>
          <a:blip r:embed="rId3"/>
          <a:stretch/>
        </p:blipFill>
        <p:spPr>
          <a:xfrm>
            <a:off x="2286000" y="4071960"/>
            <a:ext cx="5715000" cy="1735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6-14T17:02:41Z</dcterms:modified>
  <cp:revision>124</cp:revision>
  <dc:subject/>
  <dc:title>Презентация PowerPoint</dc:title>
</cp:coreProperties>
</file>