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6.wmf" ContentType="image/x-wmf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815-9B63-41DB-8C55-A25B5648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794-262B-4E3F-B617-10454C34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3C6-21AF-4DAD-875E-D9A93F95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3DB-A41B-4A7A-AE17-E87B00BD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ED67-617F-4E56-ADB9-C08FCB99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8D9-9A06-4C17-A180-80B5894E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DEE-E19D-498C-ACEB-C101E533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828-8D17-4CB7-863A-6BC78916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C99-0B7A-4D5E-84D7-82E3245B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B1D-D07C-45EA-9292-5D6EAEF2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09C-0422-465A-B6AE-40F92346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491-A3BA-4524-8FB6-0ECAA1A6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2265-21E9-44FA-9D2B-F35A9BFD6B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8238b47b-de57-410f-936d-b48d7dbbf592/%5BINF_014%5D_%5BAM_01%5D.swf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ИЗУАЛИЗАЦИЯ ИНФОРМАЦИИ В ТЕКСТОВЫХ ДОКУМЕНТ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3"/>
          <p:cNvSpPr/>
          <p:nvPr/>
        </p:nvSpPr>
        <p:spPr>
          <a:xfrm>
            <a:off x="1692360" y="1628640"/>
            <a:ext cx="50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4 (стр. 164 - 1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640"/>
            <a:ext cx="76438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умерованн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ркированн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ногоуровнев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афические изобра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изуализ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16000" y="765000"/>
            <a:ext cx="75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зуализац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едставление информации в наглядном виде. Текстовую информацию представляют в виде списков, таблиц, диаграмм, снабжают иллюстрациями  (фотографиями, схемами, рисунк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484360" y="3284640"/>
            <a:ext cx="216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ис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 flipV="1">
            <a:off x="1835280" y="2924280"/>
            <a:ext cx="1440" cy="2736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 flipH="1">
            <a:off x="1834920" y="350028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332000" y="2421000"/>
            <a:ext cx="47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изуализация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484360" y="4005360"/>
            <a:ext cx="216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 flipH="1">
            <a:off x="1834920" y="422100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484360" y="472428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а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 flipH="1">
            <a:off x="1834920" y="494028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484360" y="5445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люс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 flipH="1">
            <a:off x="1834920" y="5661000"/>
            <a:ext cx="647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0"/>
          <p:cNvSpPr/>
          <p:nvPr/>
        </p:nvSpPr>
        <p:spPr>
          <a:xfrm>
            <a:off x="5292720" y="3213000"/>
            <a:ext cx="3456000" cy="32907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исок предметов 8 клас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глийский 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тика и И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9280" indent="-2746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88000" y="3789360"/>
          <a:ext cx="4176720" cy="2389320"/>
        </p:xfrm>
        <a:graphic>
          <a:graphicData uri="http://schemas.openxmlformats.org/drawingml/2006/table">
            <a:tbl>
              <a:tblPr/>
              <a:tblGrid>
                <a:gridCol w="1485720"/>
                <a:gridCol w="1298520"/>
                <a:gridCol w="1392480"/>
              </a:tblGrid>
              <a:tr h="350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280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280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Са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лова Ка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 Вит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280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280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280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28080">
                      <a:solidFill>
                        <a:srgbClr val="00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pic>
        <p:nvPicPr>
          <p:cNvPr id="178" name="Picture 90" descr=""/>
          <p:cNvPicPr/>
          <p:nvPr/>
        </p:nvPicPr>
        <p:blipFill>
          <a:blip r:embed="rId1"/>
          <a:stretch/>
        </p:blipFill>
        <p:spPr>
          <a:xfrm>
            <a:off x="4788000" y="3119400"/>
            <a:ext cx="4200480" cy="3355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1"/>
          <p:cNvSpPr/>
          <p:nvPr/>
        </p:nvSpPr>
        <p:spPr>
          <a:xfrm>
            <a:off x="4861080" y="64911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а цв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2" descr=""/>
          <p:cNvPicPr/>
          <p:nvPr/>
        </p:nvPicPr>
        <p:blipFill>
          <a:blip r:embed="rId2"/>
          <a:stretch/>
        </p:blipFill>
        <p:spPr>
          <a:xfrm>
            <a:off x="5724360" y="2997360"/>
            <a:ext cx="2452680" cy="3662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Спис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116000" y="765000"/>
            <a:ext cx="75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возможные перечни в документах оформляются с помощь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ис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ы перечня рассматриваются как абзацы, оформленные по единому образ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>
            <a:hlinkClick r:id="rId1"/>
          </p:cNvPr>
          <p:cNvSpPr/>
          <p:nvPr/>
        </p:nvSpPr>
        <p:spPr>
          <a:xfrm>
            <a:off x="197964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уме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 flipV="1">
            <a:off x="4138560" y="2925720"/>
            <a:ext cx="720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550692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рки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 flipH="1" flipV="1">
            <a:off x="4858920" y="2925720"/>
            <a:ext cx="6476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87280" y="4653000"/>
          <a:ext cx="7777440" cy="2016000"/>
        </p:xfrm>
        <a:graphic>
          <a:graphicData uri="http://schemas.openxmlformats.org/drawingml/2006/table">
            <a:tbl>
              <a:tblPr/>
              <a:tblGrid>
                <a:gridCol w="2544840"/>
                <a:gridCol w="2640240"/>
                <a:gridCol w="2592360"/>
              </a:tblGrid>
              <a:tr h="433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нумерованных спис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Араб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им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Латин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ус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Араб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им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Латин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ус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Араб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имские циф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Латин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усские бу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88" name="Rectangle 9"/>
          <p:cNvSpPr/>
          <p:nvPr/>
        </p:nvSpPr>
        <p:spPr>
          <a:xfrm>
            <a:off x="2556000" y="2421000"/>
            <a:ext cx="47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писок 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чень в докуме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1"/>
          <p:cNvSpPr/>
          <p:nvPr/>
        </p:nvSpPr>
        <p:spPr>
          <a:xfrm>
            <a:off x="1116000" y="3716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умерованного сп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ся с помощью чисел или букв (латинских или русск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124000" y="4724280"/>
          <a:ext cx="6193080" cy="2016360"/>
        </p:xfrm>
        <a:graphic>
          <a:graphicData uri="http://schemas.openxmlformats.org/drawingml/2006/table">
            <a:tbl>
              <a:tblPr/>
              <a:tblGrid>
                <a:gridCol w="1455840"/>
                <a:gridCol w="1579680"/>
                <a:gridCol w="1573200"/>
                <a:gridCol w="1584360"/>
              </a:tblGrid>
              <a:tr h="433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маркированных спис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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91" name="Text Box 66"/>
          <p:cNvSpPr/>
          <p:nvPr/>
        </p:nvSpPr>
        <p:spPr>
          <a:xfrm>
            <a:off x="1116000" y="3716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ированного сп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ся с помощью значков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е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124000" y="4724280"/>
          <a:ext cx="6193080" cy="2016360"/>
        </p:xfrm>
        <a:graphic>
          <a:graphicData uri="http://schemas.openxmlformats.org/drawingml/2006/table">
            <a:tbl>
              <a:tblPr/>
              <a:tblGrid>
                <a:gridCol w="3035520"/>
                <a:gridCol w="3157560"/>
              </a:tblGrid>
              <a:tr h="433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трёхуровневых спис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ла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д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араграф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араграф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365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93" name="Rectangle 8"/>
          <p:cNvSpPr/>
          <p:nvPr/>
        </p:nvSpPr>
        <p:spPr>
          <a:xfrm>
            <a:off x="197964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уровне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 flipV="1">
            <a:off x="4138560" y="2925720"/>
            <a:ext cx="720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5506920" y="3213000"/>
            <a:ext cx="2160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оуровне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 flipV="1">
            <a:off x="4858920" y="2925720"/>
            <a:ext cx="6476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2556000" y="2421000"/>
            <a:ext cx="4752720" cy="5047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уктура спис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2"/>
          <p:cNvSpPr/>
          <p:nvPr/>
        </p:nvSpPr>
        <p:spPr>
          <a:xfrm>
            <a:off x="1116000" y="3789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, элемент которого сам является списком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оуровнев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42920" y="76500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описания ряда объектов, обладающих одинаковыми наборами свойств, наиболее часто использую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блиц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остоящие из столбцов (граф) и стр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58920" y="3365640"/>
          <a:ext cx="7200720" cy="2744640"/>
        </p:xfrm>
        <a:graphic>
          <a:graphicData uri="http://schemas.openxmlformats.org/drawingml/2006/table">
            <a:tbl>
              <a:tblPr/>
              <a:tblGrid>
                <a:gridCol w="3013200"/>
                <a:gridCol w="1022040"/>
                <a:gridCol w="987480"/>
                <a:gridCol w="1090800"/>
                <a:gridCol w="1087200"/>
              </a:tblGrid>
              <a:tr h="39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толбцов (верхний заголово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2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трок (боковой заголово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9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чей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9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02" name="Line 35"/>
          <p:cNvSpPr/>
          <p:nvPr/>
        </p:nvSpPr>
        <p:spPr>
          <a:xfrm flipV="1">
            <a:off x="485928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6"/>
          <p:cNvSpPr/>
          <p:nvPr/>
        </p:nvSpPr>
        <p:spPr>
          <a:xfrm>
            <a:off x="5794200" y="646128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б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7"/>
          <p:cNvSpPr/>
          <p:nvPr/>
        </p:nvSpPr>
        <p:spPr>
          <a:xfrm flipV="1">
            <a:off x="579420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8"/>
          <p:cNvSpPr/>
          <p:nvPr/>
        </p:nvSpPr>
        <p:spPr>
          <a:xfrm flipV="1">
            <a:off x="673092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9"/>
          <p:cNvSpPr/>
          <p:nvPr/>
        </p:nvSpPr>
        <p:spPr>
          <a:xfrm flipV="1">
            <a:off x="7667640" y="5812920"/>
            <a:ext cx="0" cy="621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0"/>
          <p:cNvSpPr/>
          <p:nvPr/>
        </p:nvSpPr>
        <p:spPr>
          <a:xfrm flipH="1">
            <a:off x="7954920" y="4516560"/>
            <a:ext cx="7207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1"/>
          <p:cNvSpPr/>
          <p:nvPr/>
        </p:nvSpPr>
        <p:spPr>
          <a:xfrm flipH="1">
            <a:off x="7954920" y="5092560"/>
            <a:ext cx="7207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2"/>
          <p:cNvSpPr/>
          <p:nvPr/>
        </p:nvSpPr>
        <p:spPr>
          <a:xfrm flipH="1">
            <a:off x="7954560" y="5884920"/>
            <a:ext cx="7923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3"/>
          <p:cNvSpPr/>
          <p:nvPr/>
        </p:nvSpPr>
        <p:spPr>
          <a:xfrm rot="16200000">
            <a:off x="8371080" y="45331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4"/>
          <p:cNvSpPr/>
          <p:nvPr/>
        </p:nvSpPr>
        <p:spPr>
          <a:xfrm flipH="1">
            <a:off x="7954920" y="4013280"/>
            <a:ext cx="7207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8"/>
          <p:cNvSpPr/>
          <p:nvPr/>
        </p:nvSpPr>
        <p:spPr>
          <a:xfrm>
            <a:off x="6227640" y="227664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чный н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9"/>
          <p:cNvSpPr/>
          <p:nvPr/>
        </p:nvSpPr>
        <p:spPr>
          <a:xfrm>
            <a:off x="1258920" y="2781360"/>
            <a:ext cx="44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ий заголовок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1619280" y="907560"/>
            <a:ext cx="0" cy="468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1"/>
          <p:cNvSpPr/>
          <p:nvPr/>
        </p:nvSpPr>
        <p:spPr>
          <a:xfrm>
            <a:off x="2411280" y="1268280"/>
            <a:ext cx="6481800" cy="7038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оловок таблицы должен давать представление о содержащейся в не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2"/>
          <p:cNvSpPr/>
          <p:nvPr/>
        </p:nvSpPr>
        <p:spPr>
          <a:xfrm>
            <a:off x="2411280" y="2133720"/>
            <a:ext cx="6481800" cy="7038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оловки столбцов и строк должны быть краткими, не содержать лишних слов и сокра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2411280" y="3141720"/>
            <a:ext cx="6481800" cy="131256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аблице должны быть указаны единицы измерения. Общие для всей таблицы указываются в заголовке таблицы, если единицы измерения различаются, то они указываются в заголовке строки или столб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4"/>
          <p:cNvSpPr/>
          <p:nvPr/>
        </p:nvSpPr>
        <p:spPr>
          <a:xfrm>
            <a:off x="2411280" y="4632480"/>
            <a:ext cx="6408720" cy="180000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ательно, чтобы все ячейки таблицы были заполнены. При необходимости в них заносят условные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- данные неизвест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  - данные невозмож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анные должны быть взяты из вышележащей ячей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1618920" y="558972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1116000" y="333360"/>
            <a:ext cx="59054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авила оформления табл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618920" y="378936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1618920" y="249228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 flipH="1">
            <a:off x="1618920" y="1628640"/>
            <a:ext cx="7938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0"/>
          <p:cNvSpPr/>
          <p:nvPr/>
        </p:nvSpPr>
        <p:spPr>
          <a:xfrm>
            <a:off x="1042920" y="26028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ячейках таблиц могут быть размещены тексты, числа, 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1"/>
          <p:cNvSpPr/>
          <p:nvPr/>
        </p:nvSpPr>
        <p:spPr>
          <a:xfrm>
            <a:off x="1222200" y="69228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тические носител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116000" y="1181160"/>
          <a:ext cx="7848720" cy="5578560"/>
        </p:xfrm>
        <a:graphic>
          <a:graphicData uri="http://schemas.openxmlformats.org/drawingml/2006/table">
            <a:tbl>
              <a:tblPr/>
              <a:tblGrid>
                <a:gridCol w="4535640"/>
                <a:gridCol w="1714320"/>
                <a:gridCol w="159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и описание информационного нос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о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мк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и-ди, компакт-диск) – оптический носитель информации в виде диска с отверстием в центре, информация с которого считывается с помощью лаз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, 700 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и-ви-ди) – носитель информации, имеющий возможность хранить больше информации, чем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за счёт использования лазера с меньшей длиной волны, чем для обычных компакт-дис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 – 17,1 Г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-ray Disc, B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дю-рей-диск) – формат оптического носителя, используемый для записи и хранения цифровых данных, включая видео высокой чёткости с повышенной плотнос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Г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pic>
        <p:nvPicPr>
          <p:cNvPr id="227" name="Picture 84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1461960" cy="744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5" descr=""/>
          <p:cNvPicPr/>
          <p:nvPr/>
        </p:nvPicPr>
        <p:blipFill>
          <a:blip r:embed="rId2"/>
          <a:stretch/>
        </p:blipFill>
        <p:spPr>
          <a:xfrm>
            <a:off x="5724360" y="3860640"/>
            <a:ext cx="1584360" cy="706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6" descr=""/>
          <p:cNvPicPr/>
          <p:nvPr/>
        </p:nvPicPr>
        <p:blipFill>
          <a:blip r:embed="rId3"/>
          <a:stretch/>
        </p:blipFill>
        <p:spPr>
          <a:xfrm>
            <a:off x="5796000" y="5445000"/>
            <a:ext cx="1444680" cy="7797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7"/>
          <p:cNvSpPr/>
          <p:nvPr/>
        </p:nvSpPr>
        <p:spPr>
          <a:xfrm>
            <a:off x="7020000" y="5877000"/>
            <a:ext cx="216000" cy="1443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2195640" y="2852640"/>
            <a:ext cx="5256000" cy="649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бота с табл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ject 90" descr=""/>
          <p:cNvPicPr/>
          <p:nvPr/>
        </p:nvPicPr>
        <p:blipFill>
          <a:blip r:embed="rId4"/>
          <a:stretch/>
        </p:blipFill>
        <p:spPr>
          <a:xfrm>
            <a:off x="6156360" y="3141720"/>
            <a:ext cx="210960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5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Графические изоб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116000" y="836640"/>
            <a:ext cx="7848720" cy="99792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ременные текстовые процессоры позволяют включать в документы различные графические изображ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052720" y="278136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менение раз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052720" y="335772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менение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052720" y="386064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менение яр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052720" y="443700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ворот о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2052720" y="4941720"/>
            <a:ext cx="273528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кладывание 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 flipV="1">
            <a:off x="1405080" y="2420640"/>
            <a:ext cx="0" cy="2663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7280" y="1989000"/>
            <a:ext cx="482472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едактирование графических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4"/>
          <p:cNvSpPr/>
          <p:nvPr/>
        </p:nvSpPr>
        <p:spPr>
          <a:xfrm flipH="1">
            <a:off x="1404720" y="299736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4"/>
          <p:cNvSpPr/>
          <p:nvPr/>
        </p:nvSpPr>
        <p:spPr>
          <a:xfrm flipH="1">
            <a:off x="1404720" y="350028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4"/>
          <p:cNvSpPr/>
          <p:nvPr/>
        </p:nvSpPr>
        <p:spPr>
          <a:xfrm flipH="1">
            <a:off x="1404720" y="407844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 flipH="1">
            <a:off x="1404720" y="458136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 flipH="1">
            <a:off x="1404720" y="5084640"/>
            <a:ext cx="610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5219640" y="2924280"/>
            <a:ext cx="3097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ображений из автофиг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5219640" y="3429000"/>
            <a:ext cx="3097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расочных надп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4"/>
          <p:cNvSpPr/>
          <p:nvPr/>
        </p:nvSpPr>
        <p:spPr>
          <a:xfrm flipV="1">
            <a:off x="8677440" y="2565000"/>
            <a:ext cx="0" cy="1079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8316360" y="3141720"/>
            <a:ext cx="36036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8316360" y="3645000"/>
            <a:ext cx="36036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588000" y="2060640"/>
            <a:ext cx="223200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озд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7"/>
          <p:cNvGrpSpPr/>
          <p:nvPr/>
        </p:nvGrpSpPr>
        <p:grpSpPr>
          <a:xfrm>
            <a:off x="5796000" y="3933720"/>
            <a:ext cx="2520720" cy="1584360"/>
            <a:chOff x="5796000" y="3933720"/>
            <a:chExt cx="2520720" cy="1584360"/>
          </a:xfrm>
        </p:grpSpPr>
        <p:sp>
          <p:nvSpPr>
            <p:cNvPr id="255" name="Rectangle 36"/>
            <p:cNvSpPr/>
            <p:nvPr/>
          </p:nvSpPr>
          <p:spPr>
            <a:xfrm>
              <a:off x="5796000" y="3933720"/>
              <a:ext cx="2520720" cy="1584360"/>
            </a:xfrm>
            <a:prstGeom prst="rect">
              <a:avLst/>
            </a:prstGeom>
            <a:solidFill>
              <a:srgbClr val="b9cd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29"/>
            <p:cNvGrpSpPr/>
            <p:nvPr/>
          </p:nvGrpSpPr>
          <p:grpSpPr>
            <a:xfrm>
              <a:off x="6011640" y="4078440"/>
              <a:ext cx="2011320" cy="1328760"/>
              <a:chOff x="6011640" y="4078440"/>
              <a:chExt cx="2011320" cy="1328760"/>
            </a:xfrm>
          </p:grpSpPr>
          <p:pic>
            <p:nvPicPr>
              <p:cNvPr id="257" name="Picture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6027480" y="4127760"/>
                <a:ext cx="542880" cy="47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31" descr=""/>
              <p:cNvPicPr/>
              <p:nvPr/>
            </p:nvPicPr>
            <p:blipFill>
              <a:blip r:embed="rId2"/>
              <a:stretch/>
            </p:blipFill>
            <p:spPr>
              <a:xfrm>
                <a:off x="6659280" y="4078440"/>
                <a:ext cx="647640" cy="57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Picture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6011640" y="4797360"/>
                <a:ext cx="609480" cy="58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icture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6730560" y="4797360"/>
                <a:ext cx="609840" cy="60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Picture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1280" y="4870440"/>
                <a:ext cx="571680" cy="5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Picture 35" descr=""/>
              <p:cNvPicPr/>
              <p:nvPr/>
            </p:nvPicPr>
            <p:blipFill>
              <a:blip r:embed="rId6"/>
              <a:stretch/>
            </p:blipFill>
            <p:spPr>
              <a:xfrm>
                <a:off x="7378560" y="4078440"/>
                <a:ext cx="609480" cy="552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3" name="Text Box 38"/>
          <p:cNvSpPr/>
          <p:nvPr/>
        </p:nvSpPr>
        <p:spPr>
          <a:xfrm>
            <a:off x="5398920" y="5589720"/>
            <a:ext cx="374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ы графических схем в текстовом процессоре Microsoft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9"/>
          <p:cNvSpPr/>
          <p:nvPr/>
        </p:nvSpPr>
        <p:spPr>
          <a:xfrm>
            <a:off x="1187280" y="5516640"/>
            <a:ext cx="4176720" cy="10674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кстовые процессоры позволяют строить разные виды графических схем обеспечивающих визуализацию текстовой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Object 40" descr=""/>
          <p:cNvPicPr/>
          <p:nvPr/>
        </p:nvPicPr>
        <p:blipFill>
          <a:blip r:embed="rId7"/>
          <a:stretch/>
        </p:blipFill>
        <p:spPr>
          <a:xfrm>
            <a:off x="6156360" y="6172200"/>
            <a:ext cx="199548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9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250920" y="981000"/>
            <a:ext cx="8713800" cy="55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овая информаци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зуализирован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ована в виде списков, таблиц, диаграмм, снабжена иллюстрациями (фотографиями, рисунками, схем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возможные перечни в документах оформляются с помощью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пис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 способу оформления различ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умерова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ркирова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писки. Нумерованный список принято использовать в тех случаях, когда имеет значение порядок следования пунктов; маркированный - когда порядок следования пунктов в нём не ва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труктуре различ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дноуровне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ногоуровне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пи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писания ряда объектов, обладающих одинаковыми наборами свойств, наиболее часто использую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бл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стоящие из столбцов и ст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овременных текстовых процессорах предусмотрены возможности включения, обработки и создани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рафических объек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опросы и зад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87280" y="2205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ой целью разработчики включают в текстовые документы списки, таблицы, графически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используются списки? Приведите при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нумерованные и маркированные списки. Что у них общего? В чём различ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список называется многоуровневым? Приведите пример такого спи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информация может быть организована в табличной форме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еимущества обеспечивает табличное представление информ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х правил следует придерживаться при оформлении табли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графические объекты могут быть включены в текстовый докумен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1187280" y="220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возможности текстовых процессоров по работе с графическими объе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15"/>
          <p:cNvSpPr/>
          <p:nvPr/>
        </p:nvSpPr>
        <p:spPr>
          <a:xfrm>
            <a:off x="5580000" y="2060640"/>
            <a:ext cx="360360" cy="1008000"/>
          </a:xfrm>
          <a:custGeom>
            <a:avLst/>
            <a:gdLst>
              <a:gd name="textAreaLeft" fmla="*/ 0 w 360360"/>
              <a:gd name="textAreaRight" fmla="*/ 12996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116000" y="907920"/>
            <a:ext cx="784872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зуализа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едставление информации в наглядном вид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ки, таблицы, диаграммы, иллюст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1116000" y="2205000"/>
            <a:ext cx="158436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421080" y="2060640"/>
            <a:ext cx="20876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уме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3386160" y="2637000"/>
            <a:ext cx="21286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ркир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9"/>
          <p:cNvSpPr/>
          <p:nvPr/>
        </p:nvSpPr>
        <p:spPr>
          <a:xfrm flipV="1">
            <a:off x="2701800" y="2204640"/>
            <a:ext cx="719280" cy="2509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2665440" y="2455920"/>
            <a:ext cx="755640" cy="325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Заголовок 2"/>
          <p:cNvSpPr/>
          <p:nvPr/>
        </p:nvSpPr>
        <p:spPr>
          <a:xfrm>
            <a:off x="1042920" y="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6732720" y="2060640"/>
            <a:ext cx="20872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оуров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6697800" y="2637000"/>
            <a:ext cx="21286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уров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 flipV="1">
            <a:off x="5867280" y="2204640"/>
            <a:ext cx="86544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1187280" y="3213000"/>
            <a:ext cx="7777440" cy="76428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ют для описания ряда объектов, обладающих одинаковыми наборами св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187280" y="4365720"/>
            <a:ext cx="7705800" cy="109944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ческие объек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создавать в других приложениях, находить в Интернете, включать и обрабатывать  в текстовых процесс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5867280" y="2565360"/>
            <a:ext cx="8654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0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7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41:44Z</dcterms:modified>
  <cp:revision>49</cp:revision>
  <dc:subject/>
  <dc:title>Презентация PowerPoint</dc:title>
</cp:coreProperties>
</file>