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BE6-7F46-449B-8A72-CC766AFD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D13-9162-40A3-9606-F795A208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53C-CA8D-4927-8F7E-E59868BA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EF2-083E-42E0-8065-FD144C95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312-D01B-4EA5-984C-99E5113B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CB9-11F8-432F-B7E1-88C4294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84B-9D56-4782-953E-EECB03F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3BB-E009-4F87-BE60-0E1C401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D7F-20C4-46C6-8956-311229E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2CE-541D-473F-B9FC-A786E77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4AD-ACAD-4C82-8E94-0F960D3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D19-250B-4466-9803-AC2E425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0DB-73FB-47E9-B4FE-FB7D1F1F7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8238b47b-de57-410f-936d-b48d7dbbf592/%5BINF_014%5D_%5BAM_01%5D.swf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ИЗУАЛИЗАЦИЯ ИНФОРМАЦИИ В ТЕКСТОВЫХ ДОКУМЕН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1692360" y="162864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4 (стр. 164 - 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ки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фические изоб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изуал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76500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. Текстовую информацию представляют в виде списков, таблиц, диаграмм, снабжают иллюстрациями  (фотографиями, схемами, рисун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484360" y="328464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V="1">
            <a:off x="1835280" y="2924280"/>
            <a:ext cx="1440" cy="27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1834920" y="350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изуализация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484360" y="400536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1834920" y="422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484360" y="472428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1834920" y="494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484360" y="5445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1834920" y="566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0"/>
          <p:cNvSpPr/>
          <p:nvPr/>
        </p:nvSpPr>
        <p:spPr>
          <a:xfrm>
            <a:off x="5292720" y="3213000"/>
            <a:ext cx="3456000" cy="32907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предметов 8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тика и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88000" y="3789360"/>
          <a:ext cx="4176720" cy="2389320"/>
        </p:xfrm>
        <a:graphic>
          <a:graphicData uri="http://schemas.openxmlformats.org/drawingml/2006/table">
            <a:tbl>
              <a:tblPr/>
              <a:tblGrid>
                <a:gridCol w="1485720"/>
                <a:gridCol w="1298520"/>
                <a:gridCol w="1392480"/>
              </a:tblGrid>
              <a:tr h="35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лова Ка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Ви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90" descr=""/>
          <p:cNvPicPr/>
          <p:nvPr/>
        </p:nvPicPr>
        <p:blipFill>
          <a:blip r:embed="rId1"/>
          <a:stretch/>
        </p:blipFill>
        <p:spPr>
          <a:xfrm>
            <a:off x="4788000" y="3119400"/>
            <a:ext cx="420048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1"/>
          <p:cNvSpPr/>
          <p:nvPr/>
        </p:nvSpPr>
        <p:spPr>
          <a:xfrm>
            <a:off x="4861080" y="64911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2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452680" cy="366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пи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116000" y="765000"/>
            <a:ext cx="75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озможные перечни в документах оформляю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ы перечня рассматриваются как абзацы, оформленные по единому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>
            <a:hlinkClick r:id="rId1"/>
          </p:cNvPr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4653000"/>
          <a:ext cx="7777440" cy="2016000"/>
        </p:xfrm>
        <a:graphic>
          <a:graphicData uri="http://schemas.openxmlformats.org/drawingml/2006/table">
            <a:tbl>
              <a:tblPr/>
              <a:tblGrid>
                <a:gridCol w="2544840"/>
                <a:gridCol w="2640240"/>
                <a:gridCol w="259236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нуме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исок 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в доку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1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ме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чисел или букв (латинских или русск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1455840"/>
                <a:gridCol w="1579680"/>
                <a:gridCol w="1573200"/>
                <a:gridCol w="158436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марки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66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и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значков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3035520"/>
                <a:gridCol w="3157560"/>
              </a:tblGrid>
              <a:tr h="43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трёхуровнев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сп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2"/>
          <p:cNvSpPr/>
          <p:nvPr/>
        </p:nvSpPr>
        <p:spPr>
          <a:xfrm>
            <a:off x="111600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, элемент которого сам является списком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ровне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76500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стоящие из столбцов (граф) и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58920" y="3365640"/>
          <a:ext cx="7200720" cy="2744640"/>
        </p:xfrm>
        <a:graphic>
          <a:graphicData uri="http://schemas.openxmlformats.org/drawingml/2006/table">
            <a:tbl>
              <a:tblPr/>
              <a:tblGrid>
                <a:gridCol w="3013200"/>
                <a:gridCol w="1022040"/>
                <a:gridCol w="987480"/>
                <a:gridCol w="1090800"/>
                <a:gridCol w="108720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олбцов (верхни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рок (боково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2" name="Line 35"/>
          <p:cNvSpPr/>
          <p:nvPr/>
        </p:nvSpPr>
        <p:spPr>
          <a:xfrm flipV="1">
            <a:off x="485928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5794200" y="6461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 flipV="1">
            <a:off x="579420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 flipV="1">
            <a:off x="673092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V="1">
            <a:off x="766764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H="1">
            <a:off x="7954920" y="4516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 flipH="1">
            <a:off x="7954920" y="5092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H="1">
            <a:off x="7954560" y="5884920"/>
            <a:ext cx="7923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 rot="16200000">
            <a:off x="8371080" y="4533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4"/>
          <p:cNvSpPr/>
          <p:nvPr/>
        </p:nvSpPr>
        <p:spPr>
          <a:xfrm flipH="1">
            <a:off x="7954920" y="401328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6227640" y="2276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чн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9"/>
          <p:cNvSpPr/>
          <p:nvPr/>
        </p:nvSpPr>
        <p:spPr>
          <a:xfrm>
            <a:off x="1258920" y="278136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ий заголовок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1619280" y="907560"/>
            <a:ext cx="0" cy="468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1"/>
          <p:cNvSpPr/>
          <p:nvPr/>
        </p:nvSpPr>
        <p:spPr>
          <a:xfrm>
            <a:off x="2411280" y="126828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ок таблицы должен давать представление о содержащейся в н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2411280" y="213372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ки столбцов и строк должны быть краткими, не содержать лишних слов и сокра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2411280" y="3141720"/>
            <a:ext cx="6481800" cy="131256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должны быть указаны единицы измерения. Общие для всей таблицы указываются в заголовке таблицы, если единицы измерения различаются, то они указываются в заголовке строки или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4"/>
          <p:cNvSpPr/>
          <p:nvPr/>
        </p:nvSpPr>
        <p:spPr>
          <a:xfrm>
            <a:off x="2411280" y="4632480"/>
            <a:ext cx="6408720" cy="18000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ельно, чтобы все ячейки таблицы были заполнены. При необходимости в них заносят 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- данные неизвест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- данные невозмож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анные должны быть взяты из вышележащей я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618920" y="558972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116000" y="333360"/>
            <a:ext cx="59054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авила оформления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618920" y="378936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618920" y="249228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1618920" y="162864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1042920" y="260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ах таблиц могут быть размещены тексты, числа, 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222200" y="692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чески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181160"/>
          <a:ext cx="7848720" cy="5578560"/>
        </p:xfrm>
        <a:graphic>
          <a:graphicData uri="http://schemas.openxmlformats.org/drawingml/2006/table">
            <a:tbl>
              <a:tblPr/>
              <a:tblGrid>
                <a:gridCol w="4535640"/>
                <a:gridCol w="1714320"/>
                <a:gridCol w="159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и описание информационного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-ди, компакт-диск) – оптический носитель информации в виде диска с отверстием в центре, информация с которого считывается с помощью ла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 700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и-ви-ди) – носитель информации, имеющий возможность хранить больше информации, чем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за счёт использования лазера с меньшей длиной волны, чем для обычных компакт-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– 17,1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-ray Disc, B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дю-рей-диск) – формат оптического носителя, используемый для записи и хранения цифровых данных, включая видео высокой чёткости с повышенной плот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4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1461960" cy="744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5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84360" cy="70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6" descr=""/>
          <p:cNvPicPr/>
          <p:nvPr/>
        </p:nvPicPr>
        <p:blipFill>
          <a:blip r:embed="rId3"/>
          <a:stretch/>
        </p:blipFill>
        <p:spPr>
          <a:xfrm>
            <a:off x="5796000" y="5445000"/>
            <a:ext cx="1444680" cy="7797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7"/>
          <p:cNvSpPr/>
          <p:nvPr/>
        </p:nvSpPr>
        <p:spPr>
          <a:xfrm>
            <a:off x="7020000" y="5877000"/>
            <a:ext cx="216000" cy="144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195640" y="2852640"/>
            <a:ext cx="525600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та с табл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ject 90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109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Графические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16000" y="836640"/>
            <a:ext cx="7848720" cy="99792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позволяют включать в документы различные графические изоб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052720" y="278136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52720" y="3357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2720" y="386064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яр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52720" y="443700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оро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052720" y="4941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кладывание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1405080" y="242064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7280" y="1989000"/>
            <a:ext cx="4824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1404720" y="2997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404720" y="350028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 flipH="1">
            <a:off x="1404720" y="40784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1404720" y="4581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1404720" y="50846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219640" y="292428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й из авто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219640" y="342900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асоч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 flipV="1">
            <a:off x="8677440" y="256500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8316360" y="3141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8316360" y="3645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588000" y="2060640"/>
            <a:ext cx="223200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5796000" y="3933720"/>
            <a:ext cx="2520720" cy="1584360"/>
            <a:chOff x="5796000" y="3933720"/>
            <a:chExt cx="2520720" cy="1584360"/>
          </a:xfrm>
        </p:grpSpPr>
        <p:sp>
          <p:nvSpPr>
            <p:cNvPr id="255" name="Rectangle 36"/>
            <p:cNvSpPr/>
            <p:nvPr/>
          </p:nvSpPr>
          <p:spPr>
            <a:xfrm>
              <a:off x="5796000" y="393372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9"/>
            <p:cNvGrpSpPr/>
            <p:nvPr/>
          </p:nvGrpSpPr>
          <p:grpSpPr>
            <a:xfrm>
              <a:off x="6011640" y="4078440"/>
              <a:ext cx="2011320" cy="1328760"/>
              <a:chOff x="6011640" y="4078440"/>
              <a:chExt cx="2011320" cy="1328760"/>
            </a:xfrm>
          </p:grpSpPr>
          <p:pic>
            <p:nvPicPr>
              <p:cNvPr id="257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7480" y="4127760"/>
                <a:ext cx="542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280" y="4078440"/>
                <a:ext cx="64764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4797360"/>
                <a:ext cx="60948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0560" y="4797360"/>
                <a:ext cx="60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1280" y="4870440"/>
                <a:ext cx="571680" cy="5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8560" y="4078440"/>
                <a:ext cx="609480" cy="55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Text Box 38"/>
          <p:cNvSpPr/>
          <p:nvPr/>
        </p:nvSpPr>
        <p:spPr>
          <a:xfrm>
            <a:off x="5398920" y="558972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ы графических схем в текстовом процессоре 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1187280" y="5516640"/>
            <a:ext cx="4176720" cy="10674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овые процессоры позволяют строить разные виды графических схем обеспечивающих визуализацию текст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ject 40" descr=""/>
          <p:cNvPicPr/>
          <p:nvPr/>
        </p:nvPicPr>
        <p:blipFill>
          <a:blip r:embed="rId7"/>
          <a:stretch/>
        </p:blipFill>
        <p:spPr>
          <a:xfrm>
            <a:off x="6156360" y="6172200"/>
            <a:ext cx="19954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50920" y="981000"/>
            <a:ext cx="871380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ая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изирован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в виде списков, таблиц, диаграмм, снабжена иллюстрациями (фотографиями, рисунками, схем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озможные перечни в документах оформляю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способу оформления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ме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рк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 Нумерованный список принято использовать в тех случаях, когда имеет значение порядок следования пунктов; маркированный - когда порядок следования пунктов в нём не в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труктуре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ящие из столбцов и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временных текстовых процессорах предусмотрены возможности включения, обработки и созд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афических объек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87280" y="220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разработчики включают в текстовые документы списки, таблицы, графически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спользуются списки? 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нумерованные и маркированные списки. Что у них общего? В чём различ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список называется многоуровневым? Приведите пример такого спи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организована в табличной форм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табличное представление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оформлении таб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графические объекты могут быть включены в текстовый докуме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возможности текстовых процессоров по работе с графическими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15"/>
          <p:cNvSpPr/>
          <p:nvPr/>
        </p:nvSpPr>
        <p:spPr>
          <a:xfrm>
            <a:off x="5580000" y="206064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116000" y="90792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и, таблицы, диаграммы, иллю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11600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421080" y="2060640"/>
            <a:ext cx="2087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38616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 flipV="1">
            <a:off x="2701800" y="2204640"/>
            <a:ext cx="719280" cy="250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2665440" y="2455920"/>
            <a:ext cx="75564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732720" y="2060640"/>
            <a:ext cx="2087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69780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V="1">
            <a:off x="5867280" y="2204640"/>
            <a:ext cx="8654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187280" y="3213000"/>
            <a:ext cx="777744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описания ряда объектов, обладающих одинаковыми наборами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187280" y="4365720"/>
            <a:ext cx="7705800" cy="10994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объек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здавать в других приложениях, находить в Интернете, включать и обрабатывать  в текстовых процесс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867280" y="2565360"/>
            <a:ext cx="8654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1:44Z</dcterms:modified>
  <cp:revision>49</cp:revision>
  <dc:subject/>
  <dc:title>Презентация PowerPoint</dc:title>
</cp:coreProperties>
</file>