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7.jpeg" ContentType="image/jpeg"/>
  <Override PartName="/ppt/media/image16.wmf" ContentType="image/x-wmf"/>
  <Override PartName="/ppt/media/image8.png" ContentType="image/png"/>
  <Override PartName="/ppt/media/image18.png" ContentType="image/png"/>
  <Override PartName="/ppt/media/image6.jpeg" ContentType="image/jpeg"/>
  <Override PartName="/ppt/media/image33.jpeg" ContentType="image/jpeg"/>
  <Override PartName="/ppt/media/image12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9.png" ContentType="image/png"/>
  <Override PartName="/ppt/media/image34.png" ContentType="image/png"/>
  <Override PartName="/ppt/media/image11.png" ContentType="image/png"/>
  <Override PartName="/ppt/media/image27.jpeg" ContentType="image/jpeg"/>
  <Override PartName="/ppt/media/image13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877-D399-44BD-A1AF-B8C03FAF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065-2B3B-48E9-957F-3A1663E2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195-E994-4629-9231-08D32734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319-432B-4BBF-B911-93F38B72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AD9-66A9-479C-BB9C-E512951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109-DAA0-49ED-9CD3-A2530556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798-9270-41A8-9539-56C7CB0E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FC1-B34F-4ED7-AD27-3D38DACC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D3C-3AD7-4DD4-8426-D4555397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FA1-9FA6-41BE-A10E-B9D83248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C27-D402-4980-B96D-B1286EE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B89-B85A-4B90-A867-A98BF1A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CEC4-8BE6-47FF-9BEE-56073D4575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iles.school-collection.edu.ru/dlrstore/6147f54b-9322-4163-a9a8-7a75fef34e81/ftp3.swf" TargetMode="External"/><Relationship Id="rId3" Type="http://schemas.openxmlformats.org/officeDocument/2006/relationships/hyperlink" Target="http://files.school-collection.edu.ru/dlrstore/fb31e305-aee0-430e-8117-c3cdcc5ba1a1/ftp1.swf" TargetMode="External"/><Relationship Id="rId4" Type="http://schemas.openxmlformats.org/officeDocument/2006/relationships/hyperlink" Target="http://files.school-collection.edu.ru/dlrstore/fb31e305-aee0-430e-8117-c3cdcc5ba1a1/ftp1.swf" TargetMode="External"/><Relationship Id="rId5" Type="http://schemas.openxmlformats.org/officeDocument/2006/relationships/hyperlink" Target="http://files.school-collection.edu.ru/dlrstore/fb31e305-aee0-430e-8117-c3cdcc5ba1a1/ftp1.swf" TargetMode="External"/><Relationship Id="rId6" Type="http://schemas.openxmlformats.org/officeDocument/2006/relationships/hyperlink" Target="http://files.school-collection.edu.ru/dlrstore/fb31e305-aee0-430e-8117-c3cdcc5ba1a1/ftp1.swf" TargetMode="External"/><Relationship Id="rId7" Type="http://schemas.openxmlformats.org/officeDocument/2006/relationships/hyperlink" Target="http://files.school-collection.edu.ru/dlrstore/fb31e305-aee0-430e-8117-c3cdcc5ba1a1/ftp1.swf" TargetMode="External"/><Relationship Id="rId8" Type="http://schemas.openxmlformats.org/officeDocument/2006/relationships/hyperlink" Target="http://files.school-collection.edu.ru/dlrstore/fb31e305-aee0-430e-8117-c3cdcc5ba1a1/ftp1.swf" TargetMode="External"/><Relationship Id="rId9" Type="http://schemas.openxmlformats.org/officeDocument/2006/relationships/hyperlink" Target="http://files.school-collection.edu.ru/dlrstore/fb31e305-aee0-430e-8117-c3cdcc5ba1a1/ftp1.swf" TargetMode="External"/><Relationship Id="rId10" Type="http://schemas.openxmlformats.org/officeDocument/2006/relationships/hyperlink" Target="http://files.school-collection.edu.ru/dlrstore/fb31e305-aee0-430e-8117-c3cdcc5ba1a1/ftp1.swf" TargetMode="External"/><Relationship Id="rId11" Type="http://schemas.openxmlformats.org/officeDocument/2006/relationships/hyperlink" Target="http://files.school-collection.edu.ru/dlrstore/fb31e305-aee0-430e-8117-c3cdcc5ba1a1/ftp1.swf" TargetMode="External"/><Relationship Id="rId12" Type="http://schemas.openxmlformats.org/officeDocument/2006/relationships/hyperlink" Target="http://files.school-collection.edu.ru/dlrstore/fb31e305-aee0-430e-8117-c3cdcc5ba1a1/ftp1.swf" TargetMode="External"/><Relationship Id="rId13" Type="http://schemas.openxmlformats.org/officeDocument/2006/relationships/hyperlink" Target="http://files.school-collection.edu.ru/dlrstore/fb31e305-aee0-430e-8117-c3cdcc5ba1a1/ftp1.swf" TargetMode="External"/><Relationship Id="rId14" Type="http://schemas.openxmlformats.org/officeDocument/2006/relationships/hyperlink" Target="http://files.school-collection.edu.ru/dlrstore/fb31e305-aee0-430e-8117-c3cdcc5ba1a1/ftp1.swf" TargetMode="External"/><Relationship Id="rId15" Type="http://schemas.openxmlformats.org/officeDocument/2006/relationships/hyperlink" Target="http://files.school-collection.edu.ru/dlrstore/fb31e305-aee0-430e-8117-c3cdcc5ba1a1/ftp1.swf" TargetMode="External"/><Relationship Id="rId16" Type="http://schemas.openxmlformats.org/officeDocument/2006/relationships/hyperlink" Target="http://files.school-collection.edu.ru/dlrstore/fb31e305-aee0-430e-8117-c3cdcc5ba1a1/ftp1.swf" TargetMode="External"/><Relationship Id="rId17" Type="http://schemas.openxmlformats.org/officeDocument/2006/relationships/hyperlink" Target="http://files.school-collection.edu.ru/dlrstore/fb31e305-aee0-430e-8117-c3cdcc5ba1a1/ftp1.swf" TargetMode="External"/><Relationship Id="rId18" Type="http://schemas.openxmlformats.org/officeDocument/2006/relationships/hyperlink" Target="http://files.school-collection.edu.ru/dlrstore/fb31e305-aee0-430e-8117-c3cdcc5ba1a1/ftp1.swf" TargetMode="External"/><Relationship Id="rId19" Type="http://schemas.openxmlformats.org/officeDocument/2006/relationships/hyperlink" Target="http://files.school-collection.edu.ru/dlrstore/fb31e305-aee0-430e-8117-c3cdcc5ba1a1/ftp1.swf" TargetMode="External"/><Relationship Id="rId20" Type="http://schemas.openxmlformats.org/officeDocument/2006/relationships/hyperlink" Target="http://files.school-collection.edu.ru/dlrstore/fb31e305-aee0-430e-8117-c3cdcc5ba1a1/ftp1.swf" TargetMode="External"/><Relationship Id="rId21" Type="http://schemas.openxmlformats.org/officeDocument/2006/relationships/hyperlink" Target="http://files.school-collection.edu.ru/dlrstore/fb31e305-aee0-430e-8117-c3cdcc5ba1a1/ftp1.swf" TargetMode="External"/><Relationship Id="rId22" Type="http://schemas.openxmlformats.org/officeDocument/2006/relationships/hyperlink" Target="http://files.school-collection.edu.ru/dlrstore/fb31e305-aee0-430e-8117-c3cdcc5ba1a1/ftp1.swf" TargetMode="External"/><Relationship Id="rId23" Type="http://schemas.openxmlformats.org/officeDocument/2006/relationships/hyperlink" Target="http://files.school-collection.edu.ru/dlrstore/fb31e305-aee0-430e-8117-c3cdcc5ba1a1/ftp1.swf" TargetMode="External"/><Relationship Id="rId24" Type="http://schemas.openxmlformats.org/officeDocument/2006/relationships/hyperlink" Target="http://files.school-collection.edu.ru/dlrstore/fb31e305-aee0-430e-8117-c3cdcc5ba1a1/ftp1.swf" TargetMode="External"/><Relationship Id="rId25" Type="http://schemas.openxmlformats.org/officeDocument/2006/relationships/hyperlink" Target="http://files.school-collection.edu.ru/dlrstore/fb31e305-aee0-430e-8117-c3cdcc5ba1a1/ftp1.swf" TargetMode="External"/><Relationship Id="rId26" Type="http://schemas.openxmlformats.org/officeDocument/2006/relationships/hyperlink" Target="http://files.school-collection.edu.ru/dlrstore/fb31e305-aee0-430e-8117-c3cdcc5ba1a1/ftp1.swf" TargetMode="External"/><Relationship Id="rId27" Type="http://schemas.openxmlformats.org/officeDocument/2006/relationships/hyperlink" Target="http://files.school-collection.edu.ru/dlrstore/fb31e305-aee0-430e-8117-c3cdcc5ba1a1/ftp1.swf" TargetMode="External"/><Relationship Id="rId28" Type="http://schemas.openxmlformats.org/officeDocument/2006/relationships/hyperlink" Target="http://files.school-collection.edu.ru/dlrstore/fb31e305-aee0-430e-8117-c3cdcc5ba1a1/ftp1.swf" TargetMode="External"/><Relationship Id="rId29" Type="http://schemas.openxmlformats.org/officeDocument/2006/relationships/hyperlink" Target="http://files.school-collection.edu.ru/dlrstore/fb31e305-aee0-430e-8117-c3cdcc5ba1a1/ftp1.swf" TargetMode="External"/><Relationship Id="rId30" Type="http://schemas.openxmlformats.org/officeDocument/2006/relationships/hyperlink" Target="http://files.school-collection.edu.ru/dlrstore/fb31e305-aee0-430e-8117-c3cdcc5ba1a1/ftp1.swf" TargetMode="External"/><Relationship Id="rId31" Type="http://schemas.openxmlformats.org/officeDocument/2006/relationships/hyperlink" Target="http://files.school-collection.edu.ru/dlrstore/fb31e305-aee0-430e-8117-c3cdcc5ba1a1/ftp1.swf" TargetMode="External"/><Relationship Id="rId32" Type="http://schemas.openxmlformats.org/officeDocument/2006/relationships/hyperlink" Target="http://files.school-collection.edu.ru/dlrstore/fb31e305-aee0-430e-8117-c3cdcc5ba1a1/ftp1.swf" TargetMode="External"/><Relationship Id="rId33" Type="http://schemas.openxmlformats.org/officeDocument/2006/relationships/hyperlink" Target="http://files.school-collection.edu.ru/dlrstore/fb31e305-aee0-430e-8117-c3cdcc5ba1a1/ftp1.swf" TargetMode="External"/><Relationship Id="rId34" Type="http://schemas.openxmlformats.org/officeDocument/2006/relationships/hyperlink" Target="http://files.school-collection.edu.ru/dlrstore/fb31e305-aee0-430e-8117-c3cdcc5ba1a1/ftp1.swf" TargetMode="External"/><Relationship Id="rId35" Type="http://schemas.openxmlformats.org/officeDocument/2006/relationships/hyperlink" Target="http://files.school-collection.edu.ru/dlrstore/be09c90c-9976-46b7-b043-a348f7100c4e/ftp4.swf" TargetMode="External"/><Relationship Id="rId36" Type="http://schemas.openxmlformats.org/officeDocument/2006/relationships/hyperlink" Target="http://files.school-collection.edu.ru/dlrstore/be09c90c-9976-46b7-b043-a348f7100c4e/ftp4.swf" TargetMode="External"/><Relationship Id="rId37" Type="http://schemas.openxmlformats.org/officeDocument/2006/relationships/hyperlink" Target="http://files.school-collection.edu.ru/dlrstore/be09c90c-9976-46b7-b043-a348f7100c4e/ftp4.swf" TargetMode="External"/><Relationship Id="rId38" Type="http://schemas.openxmlformats.org/officeDocument/2006/relationships/hyperlink" Target="http://files.school-collection.edu.ru/dlrstore/be09c90c-9976-46b7-b043-a348f7100c4e/ftp4.swf" TargetMode="External"/><Relationship Id="rId39" Type="http://schemas.openxmlformats.org/officeDocument/2006/relationships/hyperlink" Target="http://files.school-collection.edu.ru/dlrstore/be09c90c-9976-46b7-b043-a348f7100c4e/ftp4.swf" TargetMode="External"/><Relationship Id="rId40" Type="http://schemas.openxmlformats.org/officeDocument/2006/relationships/hyperlink" Target="http://files.school-collection.edu.ru/dlrstore/be09c90c-9976-46b7-b043-a348f7100c4e/ftp4.swf" TargetMode="External"/><Relationship Id="rId41" Type="http://schemas.openxmlformats.org/officeDocument/2006/relationships/hyperlink" Target="http://files.school-collection.edu.ru/dlrstore/be09c90c-9976-46b7-b043-a348f7100c4e/ftp4.swf" TargetMode="External"/><Relationship Id="rId42" Type="http://schemas.openxmlformats.org/officeDocument/2006/relationships/hyperlink" Target="http://files.school-collection.edu.ru/dlrstore/be09c90c-9976-46b7-b043-a348f7100c4e/ftp4.swf" TargetMode="External"/><Relationship Id="rId43" Type="http://schemas.openxmlformats.org/officeDocument/2006/relationships/hyperlink" Target="http://files.school-collection.edu.ru/dlrstore/be09c90c-9976-46b7-b043-a348f7100c4e/ftp4.swf" TargetMode="External"/><Relationship Id="rId44" Type="http://schemas.openxmlformats.org/officeDocument/2006/relationships/hyperlink" Target="http://files.school-collection.edu.ru/dlrstore/be09c90c-9976-46b7-b043-a348f7100c4e/ftp4.swf" TargetMode="External"/><Relationship Id="rId45" Type="http://schemas.openxmlformats.org/officeDocument/2006/relationships/hyperlink" Target="http://files.school-collection.edu.ru/dlrstore/be09c90c-9976-46b7-b043-a348f7100c4e/ftp4.swf" TargetMode="External"/><Relationship Id="rId46" Type="http://schemas.openxmlformats.org/officeDocument/2006/relationships/hyperlink" Target="http://files.school-collection.edu.ru/dlrstore/be09c90c-9976-46b7-b043-a348f7100c4e/ftp4.swf" TargetMode="External"/><Relationship Id="rId47" Type="http://schemas.openxmlformats.org/officeDocument/2006/relationships/hyperlink" Target="http://files.school-collection.edu.ru/dlrstore/be09c90c-9976-46b7-b043-a348f7100c4e/ftp4.swf" TargetMode="External"/><Relationship Id="rId48" Type="http://schemas.openxmlformats.org/officeDocument/2006/relationships/hyperlink" Target="http://files.school-collection.edu.ru/dlrstore/be09c90c-9976-46b7-b043-a348f7100c4e/ftp4.swf" TargetMode="External"/><Relationship Id="rId49" Type="http://schemas.openxmlformats.org/officeDocument/2006/relationships/hyperlink" Target="http://files.school-collection.edu.ru/dlrstore/be09c90c-9976-46b7-b043-a348f7100c4e/ftp4.swf" TargetMode="External"/><Relationship Id="rId50" Type="http://schemas.openxmlformats.org/officeDocument/2006/relationships/hyperlink" Target="http://files.school-collection.edu.ru/dlrstore/be09c90c-9976-46b7-b043-a348f7100c4e/ftp4.swf" TargetMode="External"/><Relationship Id="rId51" Type="http://schemas.openxmlformats.org/officeDocument/2006/relationships/hyperlink" Target="http://files.school-collection.edu.ru/dlrstore/be09c90c-9976-46b7-b043-a348f7100c4e/ftp4.swf" TargetMode="External"/><Relationship Id="rId52" Type="http://schemas.openxmlformats.org/officeDocument/2006/relationships/hyperlink" Target="http://files.school-collection.edu.ru/dlrstore/be09c90c-9976-46b7-b043-a348f7100c4e/ftp4.swf" TargetMode="External"/><Relationship Id="rId53" Type="http://schemas.openxmlformats.org/officeDocument/2006/relationships/hyperlink" Target="http://files.school-collection.edu.ru/dlrstore/be09c90c-9976-46b7-b043-a348f7100c4e/ftp4.swf" TargetMode="External"/><Relationship Id="rId54" Type="http://schemas.openxmlformats.org/officeDocument/2006/relationships/hyperlink" Target="http://files.school-collection.edu.ru/dlrstore/be09c90c-9976-46b7-b043-a348f7100c4e/ftp4.swf" TargetMode="External"/><Relationship Id="rId55" Type="http://schemas.openxmlformats.org/officeDocument/2006/relationships/hyperlink" Target="http://files.school-collection.edu.ru/dlrstore/be09c90c-9976-46b7-b043-a348f7100c4e/ftp4.swf" TargetMode="External"/><Relationship Id="rId56" Type="http://schemas.openxmlformats.org/officeDocument/2006/relationships/hyperlink" Target="http://files.school-collection.edu.ru/dlrstore/be09c90c-9976-46b7-b043-a348f7100c4e/ftp4.swf" TargetMode="External"/><Relationship Id="rId57" Type="http://schemas.openxmlformats.org/officeDocument/2006/relationships/hyperlink" Target="http://files.school-collection.edu.ru/dlrstore/be09c90c-9976-46b7-b043-a348f7100c4e/ftp4.swf" TargetMode="External"/><Relationship Id="rId58" Type="http://schemas.openxmlformats.org/officeDocument/2006/relationships/hyperlink" Target="http://files.school-collection.edu.ru/dlrstore/be09c90c-9976-46b7-b043-a348f7100c4e/ftp4.swf" TargetMode="External"/><Relationship Id="rId59" Type="http://schemas.openxmlformats.org/officeDocument/2006/relationships/hyperlink" Target="http://files.school-collection.edu.ru/dlrstore/be09c90c-9976-46b7-b043-a348f7100c4e/ftp4.swf" TargetMode="External"/><Relationship Id="rId60" Type="http://schemas.openxmlformats.org/officeDocument/2006/relationships/hyperlink" Target="http://files.school-collection.edu.ru/dlrstore/be09c90c-9976-46b7-b043-a348f7100c4e/ftp4.swf" TargetMode="External"/><Relationship Id="rId61" Type="http://schemas.openxmlformats.org/officeDocument/2006/relationships/hyperlink" Target="http://files.school-collection.edu.ru/dlrstore/be09c90c-9976-46b7-b043-a348f7100c4e/ftp4.swf" TargetMode="External"/><Relationship Id="rId62" Type="http://schemas.openxmlformats.org/officeDocument/2006/relationships/hyperlink" Target="http://files.school-collection.edu.ru/dlrstore/be09c90c-9976-46b7-b043-a348f7100c4e/ftp4.swf" TargetMode="External"/><Relationship Id="rId63" Type="http://schemas.openxmlformats.org/officeDocument/2006/relationships/hyperlink" Target="http://files.school-collection.edu.ru/dlrstore/be09c90c-9976-46b7-b043-a348f7100c4e/ftp4.swf" TargetMode="External"/><Relationship Id="rId64" Type="http://schemas.openxmlformats.org/officeDocument/2006/relationships/hyperlink" Target="http://files.school-collection.edu.ru/dlrstore/be09c90c-9976-46b7-b043-a348f7100c4e/ftp4.swf" TargetMode="External"/><Relationship Id="rId65" Type="http://schemas.openxmlformats.org/officeDocument/2006/relationships/hyperlink" Target="http://files.school-collection.edu.ru/dlrstore/be09c90c-9976-46b7-b043-a348f7100c4e/ftp4.swf" TargetMode="External"/><Relationship Id="rId66" Type="http://schemas.openxmlformats.org/officeDocument/2006/relationships/hyperlink" Target="http://files.school-collection.edu.ru/dlrstore/be09c90c-9976-46b7-b043-a348f7100c4e/ftp4.swf" TargetMode="External"/><Relationship Id="rId67" Type="http://schemas.openxmlformats.org/officeDocument/2006/relationships/hyperlink" Target="http://files.school-collection.edu.ru/dlrstore/be09c90c-9976-46b7-b043-a348f7100c4e/ftp4.swf" TargetMode="External"/><Relationship Id="rId68" Type="http://schemas.openxmlformats.org/officeDocument/2006/relationships/hyperlink" Target="http://files.school-collection.edu.ru/dlrstore/be09c90c-9976-46b7-b043-a348f7100c4e/ftp4.swf" TargetMode="External"/><Relationship Id="rId6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arezatut.net/uploads/posts/2012-03/133171321116345.jpe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276640"/>
            <a:ext cx="7020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НФОРМАЦИОННЫЕ  РЕСУРСЫ  И  СЕРВИСЫ   ИНТЕРНЕ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МУНИКАЦИОННЫЕ 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7"/>
          <p:cNvSpPr/>
          <p:nvPr/>
        </p:nvSpPr>
        <p:spPr>
          <a:xfrm>
            <a:off x="5364000" y="2060640"/>
            <a:ext cx="1368720" cy="433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3852720" y="2060640"/>
            <a:ext cx="1511280" cy="433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2987640" y="2060640"/>
            <a:ext cx="865080" cy="433440"/>
          </a:xfrm>
          <a:prstGeom prst="rect">
            <a:avLst/>
          </a:prstGeom>
          <a:solidFill>
            <a:srgbClr val="aee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айловые арх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468360" y="19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 com.edu/ htm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2268360" y="2565360"/>
            <a:ext cx="151164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995640" y="2565360"/>
            <a:ext cx="136836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ве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5508720" y="2565360"/>
            <a:ext cx="122400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684360" y="76500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файла на сервере файлового архива включает в себя протокол доступа к файлу, имя сервера и полное имя фай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539640" y="3645000"/>
            <a:ext cx="518472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гие файлы, принимаемые по протоколу FTP, являются сжат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имена заканчиваются расширения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p, arj, ra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др. После копирования сжатого файла его следует распаковать, то есть восстановить его первоначальный ви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7" descr="http://www.cwer.ru/media/files/u97654/Folder06/Z.jpg"/>
          <p:cNvPicPr/>
          <p:nvPr/>
        </p:nvPicPr>
        <p:blipFill>
          <a:blip r:embed="rId2"/>
          <a:stretch/>
        </p:blipFill>
        <p:spPr>
          <a:xfrm>
            <a:off x="6143760" y="36417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5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543120" cy="4133880"/>
          </a:xfrm>
          <a:prstGeom prst="rect">
            <a:avLst/>
          </a:prstGeom>
          <a:ln w="0">
            <a:noFill/>
          </a:ln>
        </p:spPr>
      </p:pic>
      <p:sp>
        <p:nvSpPr>
          <p:cNvPr id="16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лектронная почта (e-mail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система обмена сообщениями (письмами) между абонентами компьютерных с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2627280" y="2637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окая скорость пересылки сооб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2627280" y="3645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пересылки прикреплё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ов, содержащих графику, зв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27280" y="4653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ожность одновременной рассыл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исьма сразу нескольким адреса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1187280" y="1844640"/>
            <a:ext cx="748836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имущества электронной поч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1619280" y="2421000"/>
            <a:ext cx="0" cy="259236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619280" y="2997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619280" y="4005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1619280" y="5013360"/>
            <a:ext cx="100800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68360" y="5516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юбой пользователь Интернета может завести свой почтовый ящик - поименованную область дисковой памяти на почтовом сервере своего провайдера, куда будет помещаться входящая и исходящая корреспонден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4"/>
          <p:cNvSpPr/>
          <p:nvPr/>
        </p:nvSpPr>
        <p:spPr>
          <a:xfrm>
            <a:off x="539640" y="17002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имя_пользователя&gt;@&lt;имя_сервера&gt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2484360" y="4292640"/>
            <a:ext cx="3457800" cy="520560"/>
            <a:chOff x="2484360" y="4292640"/>
            <a:chExt cx="3457800" cy="520560"/>
          </a:xfrm>
        </p:grpSpPr>
        <p:sp>
          <p:nvSpPr>
            <p:cNvPr id="178" name="Text Box 37"/>
            <p:cNvSpPr/>
            <p:nvPr/>
          </p:nvSpPr>
          <p:spPr>
            <a:xfrm>
              <a:off x="2484360" y="4292640"/>
              <a:ext cx="108108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ul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8"/>
            <p:cNvSpPr/>
            <p:nvPr/>
          </p:nvSpPr>
          <p:spPr>
            <a:xfrm>
              <a:off x="3565440" y="42926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9"/>
            <p:cNvSpPr/>
            <p:nvPr/>
          </p:nvSpPr>
          <p:spPr>
            <a:xfrm>
              <a:off x="4141800" y="4292640"/>
              <a:ext cx="86364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0"/>
            <p:cNvSpPr/>
            <p:nvPr/>
          </p:nvSpPr>
          <p:spPr>
            <a:xfrm>
              <a:off x="5005440" y="42926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5365800" y="4292640"/>
              <a:ext cx="57636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4"/>
          <p:cNvSpPr/>
          <p:nvPr/>
        </p:nvSpPr>
        <p:spPr>
          <a:xfrm>
            <a:off x="611280" y="566100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ользов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5"/>
          <p:cNvSpPr/>
          <p:nvPr/>
        </p:nvSpPr>
        <p:spPr>
          <a:xfrm>
            <a:off x="3706920" y="5661000"/>
            <a:ext cx="23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енное и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6372360" y="566100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д стра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>
            <a:off x="2484360" y="4869000"/>
            <a:ext cx="35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>
            <a:off x="3132000" y="4869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0"/>
          <p:cNvSpPr/>
          <p:nvPr/>
        </p:nvSpPr>
        <p:spPr>
          <a:xfrm flipH="1">
            <a:off x="1908000" y="5300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>
            <a:off x="1908000" y="53006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>
            <a:off x="4643280" y="486900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3"/>
          <p:cNvSpPr/>
          <p:nvPr/>
        </p:nvSpPr>
        <p:spPr>
          <a:xfrm>
            <a:off x="5724360" y="4869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4"/>
          <p:cNvSpPr/>
          <p:nvPr/>
        </p:nvSpPr>
        <p:spPr>
          <a:xfrm flipH="1">
            <a:off x="5724360" y="5300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5"/>
          <p:cNvSpPr/>
          <p:nvPr/>
        </p:nvSpPr>
        <p:spPr>
          <a:xfrm>
            <a:off x="6948360" y="530064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дрес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7" descr="http://www.pro-smart.ru/wp-content/uploads/2012/03/e-mail.jpg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000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2"/>
          <p:cNvSpPr/>
          <p:nvPr/>
        </p:nvSpPr>
        <p:spPr>
          <a:xfrm>
            <a:off x="468360" y="119700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электронной почт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39640" y="227664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вая часть выбирается самим пользователем; вторая часть жестко связана с сервером, на котором пользователь зарегистрировал свой почтовый ящик. Разделителем между частями адреса служит символ @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6" descr="http://www.ruben.ru/lj/2009.03.18/mediasmart.jpg"/>
          <p:cNvPicPr/>
          <p:nvPr/>
        </p:nvPicPr>
        <p:blipFill>
          <a:blip r:embed="rId2"/>
          <a:stretch/>
        </p:blipFill>
        <p:spPr>
          <a:xfrm>
            <a:off x="2916360" y="191628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7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1172880" cy="1031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8" descr="http://www.ruben.ru/lj/2009.03.18/mediasmart.jpg"/>
          <p:cNvPicPr/>
          <p:nvPr/>
        </p:nvPicPr>
        <p:blipFill>
          <a:blip r:embed="rId4"/>
          <a:stretch/>
        </p:blipFill>
        <p:spPr>
          <a:xfrm>
            <a:off x="5651640" y="184464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9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674640" cy="7189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1"/>
          <p:cNvSpPr/>
          <p:nvPr/>
        </p:nvSpPr>
        <p:spPr>
          <a:xfrm>
            <a:off x="468360" y="1773360"/>
            <a:ext cx="8424720" cy="17269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2"/>
          <p:cNvSpPr/>
          <p:nvPr/>
        </p:nvSpPr>
        <p:spPr>
          <a:xfrm>
            <a:off x="1979640" y="2852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3"/>
          <p:cNvSpPr/>
          <p:nvPr/>
        </p:nvSpPr>
        <p:spPr>
          <a:xfrm rot="20004000">
            <a:off x="3419640" y="263700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59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4"/>
          <p:cNvSpPr/>
          <p:nvPr/>
        </p:nvSpPr>
        <p:spPr>
          <a:xfrm rot="2121600">
            <a:off x="5076360" y="2420640"/>
            <a:ext cx="792360" cy="288720"/>
          </a:xfrm>
          <a:prstGeom prst="rightArrow">
            <a:avLst>
              <a:gd name="adj1" fmla="val 50000"/>
              <a:gd name="adj2" fmla="val 68610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947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5"/>
          <p:cNvSpPr/>
          <p:nvPr/>
        </p:nvSpPr>
        <p:spPr>
          <a:xfrm>
            <a:off x="6659640" y="292428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468360" y="3500280"/>
            <a:ext cx="20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равитель наб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ет сообщ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ывает адрес получателя и о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ля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ервер ис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й по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7"/>
          <p:cNvSpPr/>
          <p:nvPr/>
        </p:nvSpPr>
        <p:spPr>
          <a:xfrm>
            <a:off x="2411280" y="3500280"/>
            <a:ext cx="165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 исходя-щей почты на-правляет сооб-щение по ук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ному адр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8"/>
          <p:cNvSpPr/>
          <p:nvPr/>
        </p:nvSpPr>
        <p:spPr>
          <a:xfrm>
            <a:off x="4067280" y="3500280"/>
            <a:ext cx="1441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нтернету письмо пе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ётся на сер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 входящей почты, указа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ый в адресе получ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5508720" y="350028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вер в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й почты п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а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что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щик получ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0"/>
          <p:cNvSpPr/>
          <p:nvPr/>
        </p:nvSpPr>
        <p:spPr>
          <a:xfrm>
            <a:off x="7236000" y="3500280"/>
            <a:ext cx="165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атель открывает свой почтовый ящик и получает доступ к поступившим к нему пись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3" descr="j0195384"/>
          <p:cNvPicPr/>
          <p:nvPr/>
        </p:nvPicPr>
        <p:blipFill>
          <a:blip r:embed="rId6"/>
          <a:stretch/>
        </p:blipFill>
        <p:spPr>
          <a:xfrm>
            <a:off x="7596360" y="2060640"/>
            <a:ext cx="13014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66"/>
          <p:cNvGrpSpPr/>
          <p:nvPr/>
        </p:nvGrpSpPr>
        <p:grpSpPr>
          <a:xfrm>
            <a:off x="539640" y="1916280"/>
            <a:ext cx="1898640" cy="1328400"/>
            <a:chOff x="539640" y="1916280"/>
            <a:chExt cx="1898640" cy="1328400"/>
          </a:xfrm>
        </p:grpSpPr>
        <p:pic>
          <p:nvPicPr>
            <p:cNvPr id="214" name="Picture 12" descr=""/>
            <p:cNvPicPr/>
            <p:nvPr/>
          </p:nvPicPr>
          <p:blipFill>
            <a:blip r:embed="rId7"/>
            <a:stretch/>
          </p:blipFill>
          <p:spPr>
            <a:xfrm>
              <a:off x="1889280" y="1916280"/>
              <a:ext cx="54900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4" descr="j0195384"/>
            <p:cNvPicPr/>
            <p:nvPr/>
          </p:nvPicPr>
          <p:blipFill>
            <a:blip r:embed="rId8"/>
            <a:stretch/>
          </p:blipFill>
          <p:spPr>
            <a:xfrm flipH="1">
              <a:off x="539640" y="1916280"/>
              <a:ext cx="1301760" cy="13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Заголовок 2"/>
          <p:cNvSpPr/>
          <p:nvPr/>
        </p:nvSpPr>
        <p:spPr>
          <a:xfrm>
            <a:off x="684360" y="404640"/>
            <a:ext cx="8002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хема работы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очтовые прото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11280" y="83664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ая почта используют два протоко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токол SMT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отправки поч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5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токол РОР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приёма поч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28760" y="2071800"/>
            <a:ext cx="42145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отправлять почту имеет право кто угодно и кому угодно, то протокол SMTP не предполагает идентификацию отправит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ть письмо должен именно тот, кому оно адресовано; тут необходима идентификация получателя (по логину и паролю), которая обеспечивается протоколом РОР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http://openclipart.org/image/800px/svg_to_png/rgtaylor_csc_net_server.png"/>
          <p:cNvPicPr/>
          <p:nvPr/>
        </p:nvPicPr>
        <p:blipFill>
          <a:blip r:embed="rId2"/>
          <a:stretch/>
        </p:blipFill>
        <p:spPr>
          <a:xfrm>
            <a:off x="4913280" y="1916280"/>
            <a:ext cx="1392120" cy="1873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http://openclipart.org/image/800px/svg_to_png/rgtaylor_csc_net_server.png"/>
          <p:cNvPicPr/>
          <p:nvPr/>
        </p:nvPicPr>
        <p:blipFill>
          <a:blip r:embed="rId3"/>
          <a:stretch/>
        </p:blipFill>
        <p:spPr>
          <a:xfrm>
            <a:off x="7753320" y="1844640"/>
            <a:ext cx="1390680" cy="1871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0"/>
          <p:cNvSpPr/>
          <p:nvPr/>
        </p:nvSpPr>
        <p:spPr>
          <a:xfrm>
            <a:off x="5724360" y="3645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чтовый сер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2" descr="http://cs10381.vkontakte.ru/u2276452/-14/x_3296a2d1.jpg"/>
          <p:cNvPicPr/>
          <p:nvPr/>
        </p:nvPicPr>
        <p:blipFill>
          <a:blip r:embed="rId4"/>
          <a:stretch/>
        </p:blipFill>
        <p:spPr>
          <a:xfrm>
            <a:off x="7419960" y="4941720"/>
            <a:ext cx="1724040" cy="1293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3" descr="http://cs10381.vkontakte.ru/u2276452/-14/x_3296a2d1.jpg"/>
          <p:cNvPicPr/>
          <p:nvPr/>
        </p:nvPicPr>
        <p:blipFill>
          <a:blip r:embed="rId5"/>
          <a:stretch/>
        </p:blipFill>
        <p:spPr>
          <a:xfrm>
            <a:off x="4788000" y="4941720"/>
            <a:ext cx="1724040" cy="12938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24"/>
          <p:cNvSpPr/>
          <p:nvPr/>
        </p:nvSpPr>
        <p:spPr>
          <a:xfrm>
            <a:off x="4140360" y="62373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ьзовате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622920" y="623736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Пользовате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6"/>
          <p:cNvSpPr/>
          <p:nvPr/>
        </p:nvSpPr>
        <p:spPr>
          <a:xfrm flipV="1">
            <a:off x="5651640" y="37162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7"/>
          <p:cNvSpPr/>
          <p:nvPr/>
        </p:nvSpPr>
        <p:spPr>
          <a:xfrm flipV="1">
            <a:off x="8388360" y="357336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6372360" y="24922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9"/>
          <p:cNvSpPr/>
          <p:nvPr/>
        </p:nvSpPr>
        <p:spPr>
          <a:xfrm>
            <a:off x="6516720" y="213372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 rot="16062600">
            <a:off x="4861080" y="40744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 rot="5400000">
            <a:off x="8062200" y="4005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765000"/>
          <a:ext cx="8353440" cy="3468960"/>
        </p:xfrm>
        <a:graphic>
          <a:graphicData uri="http://schemas.openxmlformats.org/drawingml/2006/table">
            <a:tbl>
              <a:tblPr/>
              <a:tblGrid>
                <a:gridCol w="2160720"/>
                <a:gridCol w="2663640"/>
                <a:gridCol w="3529080"/>
              </a:tblGrid>
              <a:tr h="572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мотр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280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ин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овый кли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у на время загрузки сообщ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п/я только с компьютера с установленным почтовым клиен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фей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 к п/я с любого компью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чтения корреспонденции нужно подключение к с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cc"/>
                      </a:solidFill>
                    </a:lnL>
                    <a:lnR w="280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28080">
                      <a:solidFill>
                        <a:srgbClr val="00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Заголовок 2"/>
          <p:cNvSpPr/>
          <p:nvPr/>
        </p:nvSpPr>
        <p:spPr>
          <a:xfrm>
            <a:off x="468360" y="0"/>
            <a:ext cx="8362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пособы просмотра сообщ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http://www.brainity.ru/upload/iblock/305/3055d15cf83cafe3c8f7eaee22377637.gif"/>
          <p:cNvPicPr/>
          <p:nvPr/>
        </p:nvPicPr>
        <p:blipFill>
          <a:blip r:embed="rId2"/>
          <a:stretch/>
        </p:blipFill>
        <p:spPr>
          <a:xfrm>
            <a:off x="826920" y="4221000"/>
            <a:ext cx="1357560" cy="1357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"/>
          <p:cNvPicPr/>
          <p:nvPr/>
        </p:nvPicPr>
        <p:blipFill>
          <a:blip r:embed="rId3"/>
          <a:stretch/>
        </p:blipFill>
        <p:spPr>
          <a:xfrm>
            <a:off x="3203640" y="4292640"/>
            <a:ext cx="1214280" cy="1220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"/>
          <p:cNvPicPr/>
          <p:nvPr/>
        </p:nvPicPr>
        <p:blipFill>
          <a:blip r:embed="rId4"/>
          <a:stretch/>
        </p:blipFill>
        <p:spPr>
          <a:xfrm>
            <a:off x="5364000" y="5786280"/>
            <a:ext cx="3329280" cy="857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2" descr="The Bat! 4.2.42 Pro Rus скачать бесплатно - лучший почтовый клиент"/>
          <p:cNvPicPr/>
          <p:nvPr/>
        </p:nvPicPr>
        <p:blipFill>
          <a:blip r:embed="rId5"/>
          <a:stretch/>
        </p:blipFill>
        <p:spPr>
          <a:xfrm>
            <a:off x="4859280" y="4365720"/>
            <a:ext cx="1357200" cy="135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4" descr="Mailplane 2.5.6 - почтовый клиент"/>
          <p:cNvPicPr/>
          <p:nvPr/>
        </p:nvPicPr>
        <p:blipFill>
          <a:blip r:embed="rId6"/>
          <a:srcRect l="0" t="0" r="0" b="8332"/>
          <a:stretch/>
        </p:blipFill>
        <p:spPr>
          <a:xfrm>
            <a:off x="7236000" y="4292640"/>
            <a:ext cx="1481040" cy="1357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6" descr="http://www.kommersant.ru/factbook/picture/206797"/>
          <p:cNvPicPr/>
          <p:nvPr/>
        </p:nvPicPr>
        <p:blipFill>
          <a:blip r:embed="rId7"/>
          <a:stretch/>
        </p:blipFill>
        <p:spPr>
          <a:xfrm>
            <a:off x="642960" y="5500800"/>
            <a:ext cx="3809880" cy="11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2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аше время широкое распространение получи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вис мгновенного обме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ебольшими текстовым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общ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реально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468360" y="2492280"/>
            <a:ext cx="842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аиболее известная программа, используемая для этой це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ому пользовател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ваивается личный номер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отличие от электронной почты, в которой имеется возможность отложенной доставки сообщения, сообщения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Q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даются в режиме реально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7" descr=""/>
          <p:cNvPicPr/>
          <p:nvPr/>
        </p:nvPicPr>
        <p:blipFill>
          <a:blip r:embed="rId2"/>
          <a:stretch/>
        </p:blipFill>
        <p:spPr>
          <a:xfrm>
            <a:off x="2627280" y="4714920"/>
            <a:ext cx="5086440" cy="2143080"/>
          </a:xfrm>
          <a:prstGeom prst="rect">
            <a:avLst/>
          </a:prstGeom>
          <a:ln w="0">
            <a:noFill/>
          </a:ln>
        </p:spPr>
      </p:pic>
      <p:sp>
        <p:nvSpPr>
          <p:cNvPr id="244" name="Заголовок 2"/>
          <p:cNvSpPr/>
          <p:nvPr/>
        </p:nvSpPr>
        <p:spPr>
          <a:xfrm>
            <a:off x="684360" y="0"/>
            <a:ext cx="80024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Мгновенный обмен сообщ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Заголовок 2"/>
          <p:cNvSpPr/>
          <p:nvPr/>
        </p:nvSpPr>
        <p:spPr>
          <a:xfrm>
            <a:off x="684360" y="189000"/>
            <a:ext cx="8002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евое коллективное взаимо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476360" y="1413000"/>
            <a:ext cx="676764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ы коллектив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042920" y="249228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042920" y="3573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"/>
          <p:cNvSpPr/>
          <p:nvPr/>
        </p:nvSpPr>
        <p:spPr>
          <a:xfrm>
            <a:off x="1042920" y="4581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1042920" y="566100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3924360" y="2276640"/>
            <a:ext cx="4968720" cy="1079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обмена информацией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ователя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ограничена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3924360" y="357336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набор разде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3924360" y="4581360"/>
            <a:ext cx="4968720" cy="7909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вис группового об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3924360" y="566100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активные многопольз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684360" y="1700280"/>
            <a:ext cx="79200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684360" y="1700280"/>
            <a:ext cx="0" cy="4249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684360" y="278136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684360" y="393372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684360" y="494172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684360" y="5950080"/>
            <a:ext cx="3585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"/>
          <p:cNvSpPr/>
          <p:nvPr/>
        </p:nvSpPr>
        <p:spPr>
          <a:xfrm>
            <a:off x="3348000" y="278136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"/>
          <p:cNvSpPr/>
          <p:nvPr/>
        </p:nvSpPr>
        <p:spPr>
          <a:xfrm>
            <a:off x="3348000" y="393372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3348000" y="494172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3348000" y="5950080"/>
            <a:ext cx="57636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9" descr="http://home-tv.promodev.ru/f/media/71510/illu_photo_gallery.jpg"/>
          <p:cNvPicPr/>
          <p:nvPr/>
        </p:nvPicPr>
        <p:blipFill>
          <a:blip r:embed="rId2"/>
          <a:stretch/>
        </p:blipFill>
        <p:spPr>
          <a:xfrm>
            <a:off x="1332000" y="1989000"/>
            <a:ext cx="6626160" cy="458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6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етевой этик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68360" y="620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ети Интернет существуют негласные правила поведения, так называемый сетевой этикет. Кратко, суть сетевого этикета может быть выражена одной фразой: «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Уважайте своих невидимых партнёров по Сети!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835280" y="2276640"/>
            <a:ext cx="532908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правила сетевого этик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>
            <a:off x="539640" y="314172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нтифицируйте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539640" y="422100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йте и уваж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го адрес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39640" y="5300640"/>
            <a:ext cx="3024360" cy="63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у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2"/>
          <p:cNvSpPr/>
          <p:nvPr/>
        </p:nvSpPr>
        <p:spPr>
          <a:xfrm>
            <a:off x="539640" y="6165720"/>
            <a:ext cx="3024360" cy="520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шите грамо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3"/>
          <p:cNvSpPr/>
          <p:nvPr/>
        </p:nvSpPr>
        <p:spPr>
          <a:xfrm>
            <a:off x="5148360" y="3068640"/>
            <a:ext cx="36716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выра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с помощью смай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4"/>
          <p:cNvSpPr/>
          <p:nvPr/>
        </p:nvSpPr>
        <p:spPr>
          <a:xfrm>
            <a:off x="5148360" y="4148280"/>
            <a:ext cx="3671640" cy="86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праши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я пол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бщения без над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5148360" y="6093000"/>
            <a:ext cx="3671640" cy="50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с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>
            <a:off x="5148360" y="5229360"/>
            <a:ext cx="3671640" cy="663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ейтесь на пол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иденциальность пере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4500720" y="2781360"/>
            <a:ext cx="0" cy="360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3564000" y="357336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>
            <a:off x="4500720" y="458136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3564000" y="5589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1"/>
          <p:cNvSpPr/>
          <p:nvPr/>
        </p:nvSpPr>
        <p:spPr>
          <a:xfrm>
            <a:off x="4500720" y="638172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>
            <a:off x="4500720" y="558972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"/>
          <p:cNvSpPr/>
          <p:nvPr/>
        </p:nvSpPr>
        <p:spPr>
          <a:xfrm>
            <a:off x="3564000" y="4581360"/>
            <a:ext cx="9349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4"/>
          <p:cNvSpPr/>
          <p:nvPr/>
        </p:nvSpPr>
        <p:spPr>
          <a:xfrm>
            <a:off x="4500720" y="357336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564000" y="6381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4"/>
          <p:cNvSpPr/>
          <p:nvPr/>
        </p:nvSpPr>
        <p:spPr>
          <a:xfrm>
            <a:off x="250920" y="907920"/>
            <a:ext cx="864216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, размещённый в Интернете, имеет адрес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Доступ пользователей к документам, размещённым на Web-сайтах, возможен по протоколу HT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айловый архи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хранилище в сети Интернет файлов с программным обеспечением, графикой, музыкой и другой информацией. Доступ к файловым архивам возможен по протоколу передачи файлов F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ектронная почта (e-mail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стема обмена сообщениями (письмами) между абонентами компьютерных с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коллективного взаимодействия -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конференции, форумы, чаты, социальные с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1480" y="765000"/>
            <a:ext cx="864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версальный указатель ресурса (U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кол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йловые арх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кол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с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г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организацию и назначение сервиса WW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браузе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брауз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документы называют гипертекстов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68360" y="9079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блице приведены запросы к поисковому серве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547640" y="1484280"/>
          <a:ext cx="6096240" cy="2232000"/>
        </p:xfrm>
        <a:graphic>
          <a:graphicData uri="http://schemas.openxmlformats.org/drawingml/2006/table">
            <a:tbl>
              <a:tblPr/>
              <a:tblGrid>
                <a:gridCol w="1248120"/>
                <a:gridCol w="4848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льдог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л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58"/>
          <p:cNvSpPr/>
          <p:nvPr/>
        </p:nvSpPr>
        <p:spPr>
          <a:xfrm>
            <a:off x="468360" y="386064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зите графически количество страниц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ёт поисковый сервер по каждому запро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ите номера запросов в порядке уб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а страниц, которые найдёт поисковый сервер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запро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9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U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его структу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0"/>
          <p:cNvSpPr/>
          <p:nvPr/>
        </p:nvSpPr>
        <p:spPr>
          <a:xfrm>
            <a:off x="468360" y="1916280"/>
            <a:ext cx="86756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уйте адреса следующих доку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inf.1 september.ru/2007/11/01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ipi.ru/view/sections/218/docs/51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kf.ru/carera/2008/09/11/09194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1"/>
          <p:cNvSpPr/>
          <p:nvPr/>
        </p:nvSpPr>
        <p:spPr>
          <a:xfrm>
            <a:off x="468360" y="105264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рвер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du.ru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фай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mo.r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доступ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му осуществляется по протокол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f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Фраг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 данного файла закодированы буквами о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последовательность этих букв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ует адрес указанного файла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348000" y="2997360"/>
          <a:ext cx="2543040" cy="3627360"/>
        </p:xfrm>
        <a:graphic>
          <a:graphicData uri="http://schemas.openxmlformats.org/drawingml/2006/table">
            <a:tbl>
              <a:tblPr/>
              <a:tblGrid>
                <a:gridCol w="887400"/>
                <a:gridCol w="16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/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89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аким протоколам возможен доступ пользователей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, хранящейся в файловых архив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0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еимущества электронной почты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й поч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1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структура электронного адре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2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в общих чертах схему работы электр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3"/>
          <p:cNvSpPr/>
          <p:nvPr/>
        </p:nvSpPr>
        <p:spPr>
          <a:xfrm>
            <a:off x="468360" y="1916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ьте, что вам нужно связаться с малознако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очень занятым человеком. Вам удалось получ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мобильного телефона и электронный адрес э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. Каким видом связи, по вашему мнению, удоб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ользоваться в э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туации? Обосн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4"/>
          <p:cNvSpPr/>
          <p:nvPr/>
        </p:nvSpPr>
        <p:spPr>
          <a:xfrm>
            <a:off x="468360" y="191628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существуют способы работы с сообщ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ой поч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уйте достоинства и недостатки каждого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5"/>
          <p:cNvSpPr/>
          <p:nvPr/>
        </p:nvSpPr>
        <p:spPr>
          <a:xfrm>
            <a:off x="468360" y="19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щего и в чём различие между таки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ого коллективного взаимодействия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конференция, форум и ч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6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ы знаете о социальных сет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7"/>
          <p:cNvSpPr/>
          <p:nvPr/>
        </p:nvSpPr>
        <p:spPr>
          <a:xfrm>
            <a:off x="468360" y="191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логи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использовать один и тот же логин на 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8"/>
          <p:cNvSpPr/>
          <p:nvPr/>
        </p:nvSpPr>
        <p:spPr>
          <a:xfrm>
            <a:off x="468360" y="1916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паро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х правил следует придерживаться при вы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л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е рекомендуется использовать одина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оль на разных сай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9"/>
          <p:cNvSpPr/>
          <p:nvPr/>
        </p:nvSpPr>
        <p:spPr>
          <a:xfrm>
            <a:off x="468360" y="1916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основное правило сетевого этик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0"/>
          <p:cNvSpPr/>
          <p:nvPr/>
        </p:nvSpPr>
        <p:spPr>
          <a:xfrm>
            <a:off x="468360" y="1916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спа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 историю этого терм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539640" y="907920"/>
            <a:ext cx="8353440" cy="13136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это сервис для получения доступа пользователей сети к информационным ресурсам, хранящимся на компьютерах в разных частях св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о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ются Web-страницы и Web-сай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39640" y="2637000"/>
            <a:ext cx="8391600" cy="10087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токол передачи файлов FT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доступ к файловым архивам с программным обеспечением, графикой, музыкой и другой информа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39640" y="4005360"/>
            <a:ext cx="8391600" cy="10087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сообщениями (письмами) между абонентами компьютерных сет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производится по электронной почте (e-mail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39640" y="5445000"/>
            <a:ext cx="8391600" cy="82548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леконференции, форумы, чаты, социальные сет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формы коллективного взаимодействия в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27"/>
          <p:cNvSpPr/>
          <p:nvPr/>
        </p:nvSpPr>
        <p:spPr>
          <a:xfrm>
            <a:off x="395280" y="692280"/>
            <a:ext cx="8569440" cy="60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files.school-collection.edu.ru/dlrstore/6147f54b-9322-4163-a9a8-7a75fef34e81/ftp3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торизаци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file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schoo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collection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ed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dlrstor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f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31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305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ae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0-43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-8117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3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cdc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5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b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9"/>
              </a:rPr>
              <a:t>1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0"/>
              </a:rPr>
              <a:t>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1"/>
              </a:rPr>
              <a:t>1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2"/>
              </a:rPr>
              <a:t>f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3"/>
              </a:rPr>
              <a:t>1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4"/>
              </a:rPr>
              <a:t>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бщая схема рабо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fb1d5b60-555b-472e-9110-d8ba87868f1d/ftp4.swf - передача данных в акт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4da50b31-7474-48f4-8ec7-7476815bff6f/ftp5.swf - передача данных в пасс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062b6cfb-9edf-422f-8daa-5649c8f9dc74/ftp8.swf - передача данных на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960f4a27-a9bc-45f1-b4ea-17222c362d3a/ftp2.swf сеанс передачи данных между двумя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ерв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5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6"/>
              </a:rPr>
              <a:t>file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7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8"/>
              </a:rPr>
              <a:t>schoo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9"/>
              </a:rPr>
              <a:t>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0"/>
              </a:rPr>
              <a:t>collection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1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2"/>
              </a:rPr>
              <a:t>ed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3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4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6"/>
              </a:rPr>
              <a:t>dlrstor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7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8"/>
              </a:rPr>
              <a:t>b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9"/>
              </a:rPr>
              <a:t>09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0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1"/>
              </a:rPr>
              <a:t>9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2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3"/>
              </a:rPr>
              <a:t>-9976-46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4"/>
              </a:rPr>
              <a:t>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5"/>
              </a:rPr>
              <a:t>7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6"/>
              </a:rPr>
              <a:t>b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7"/>
              </a:rPr>
              <a:t>043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8"/>
              </a:rPr>
              <a:t>a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9"/>
              </a:rPr>
              <a:t>348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0"/>
              </a:rPr>
              <a:t>f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1"/>
              </a:rPr>
              <a:t>7100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2"/>
              </a:rPr>
              <a:t>c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3"/>
              </a:rPr>
              <a:t>4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4"/>
              </a:rPr>
              <a:t>e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5"/>
              </a:rPr>
              <a:t>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6"/>
              </a:rPr>
              <a:t>ftp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7"/>
              </a:rPr>
              <a:t>4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8"/>
              </a:rPr>
              <a:t>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ередача данных в акт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les.school-collection.edu.ru/dlrstore/4ebd3d80-7a0c-4dd0-b50c-538ba2361f41/ftp5.swf   - передача данных в пассивном режи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home-tv.promodev.ru/f/media/71510/illu_photo_gallery.jpg - сетевой эти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ecuritylab.ru/upload/iblock/905/905a505ba985d640bd6a96c28d357eaf.jpg - логотип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rainity.ru/upload/iblock/305/3055d15cf83cafe3c8f7eaee22377637.gif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оти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crosoft-Outlook-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2"/>
          <p:cNvSpPr/>
          <p:nvPr/>
        </p:nvSpPr>
        <p:spPr>
          <a:xfrm>
            <a:off x="1042920" y="189000"/>
            <a:ext cx="7643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95280" y="69228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arezatut.net/uploads/posts/2012-03/13317132111634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готип   Mozilla Trunder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24.am/ru/thumbnail.php?file=old/mail_ru_logo_354574855.jpg&amp;size=article_large логоти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ages.lpcdn.ca/924x615/201106/02/336832-avant-reseaux-sociaux-y-avait.jpg - логотип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313/134910719.2/0_5707b_7a9ab54_XL - конверт с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ruben.ru/lj/2009.03.18/mediasmart.jpg -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01.chitalnya.ru/upload/527/44764173077419.jpg - компьютерная с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penclipart.org/image/800px/svg_to_png/rgtaylor_csc_net_server.png - 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1763640" y="1341360"/>
            <a:ext cx="5761080" cy="576360"/>
          </a:xfrm>
          <a:prstGeom prst="rect">
            <a:avLst/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сурсы и сервисы сети 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8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и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484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457200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bde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ектр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6588000" y="2421000"/>
            <a:ext cx="2087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1692000" y="1917720"/>
            <a:ext cx="64764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3276720" y="1917720"/>
            <a:ext cx="712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5292720" y="1917720"/>
            <a:ext cx="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948360" y="1917720"/>
            <a:ext cx="5050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7" descr="http://4pda.info/uploads/posts/2010-03/1267439022_4-web2_icons.jpg"/>
          <p:cNvPicPr/>
          <p:nvPr/>
        </p:nvPicPr>
        <p:blipFill>
          <a:blip r:embed="rId2"/>
          <a:stretch/>
        </p:blipFill>
        <p:spPr>
          <a:xfrm>
            <a:off x="6067440" y="3943440"/>
            <a:ext cx="3076560" cy="2928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  <p:pic>
        <p:nvPicPr>
          <p:cNvPr id="55" name="Picture 35" descr="http://img.ntv.ru/home/news/20110730/browser.jpg"/>
          <p:cNvPicPr/>
          <p:nvPr/>
        </p:nvPicPr>
        <p:blipFill>
          <a:blip r:embed="rId3"/>
          <a:stretch/>
        </p:blipFill>
        <p:spPr>
          <a:xfrm>
            <a:off x="2357280" y="3929040"/>
            <a:ext cx="39164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http://ikryanka.ru/uploads/posts/2010-10/1288286742_internet_03.jpg"/>
          <p:cNvPicPr/>
          <p:nvPr/>
        </p:nvPicPr>
        <p:blipFill>
          <a:blip r:embed="rId4"/>
          <a:stretch/>
        </p:blipFill>
        <p:spPr>
          <a:xfrm>
            <a:off x="0" y="392904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сурсы и сервисы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2"/>
          <p:cNvSpPr/>
          <p:nvPr/>
        </p:nvSpPr>
        <p:spPr>
          <a:xfrm>
            <a:off x="3492360" y="907920"/>
            <a:ext cx="2305080" cy="576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2629080" y="213192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4645080" y="213192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ff7d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852720" y="1484280"/>
            <a:ext cx="648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861080" y="148428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539640" y="112392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6732720" y="1197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H="1" flipV="1">
            <a:off x="2123640" y="1988640"/>
            <a:ext cx="505080" cy="28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229440" y="1989000"/>
            <a:ext cx="503280" cy="358920"/>
          </a:xfrm>
          <a:prstGeom prst="line">
            <a:avLst/>
          </a:prstGeom>
          <a:ln w="28440">
            <a:solidFill>
              <a:srgbClr val="005ab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1620720" y="2852640"/>
            <a:ext cx="302580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овпадает с лог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539640" y="3429000"/>
            <a:ext cx="410688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ит не менее чем из 6 симв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3"/>
          <p:cNvSpPr/>
          <p:nvPr/>
        </p:nvSpPr>
        <p:spPr>
          <a:xfrm>
            <a:off x="2484360" y="4005360"/>
            <a:ext cx="633420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ы не образуют никаких слов, чисел, аббревиа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6013440" y="321300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 для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5437080" y="2563920"/>
            <a:ext cx="0" cy="14414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508720" y="256392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H="1">
            <a:off x="4644720" y="2563920"/>
            <a:ext cx="718920" cy="8650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 flipH="1">
            <a:off x="4572000" y="2563920"/>
            <a:ext cx="72072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2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ступ к серви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allmir.net/wp-content/uploads/2010/06/10-1.jpg"/>
          <p:cNvPicPr/>
          <p:nvPr/>
        </p:nvPicPr>
        <p:blipFill>
          <a:blip r:embed="rId2"/>
          <a:stretch/>
        </p:blipFill>
        <p:spPr>
          <a:xfrm>
            <a:off x="3571920" y="4714920"/>
            <a:ext cx="2951280" cy="196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2"/>
          <p:cNvSpPr/>
          <p:nvPr/>
        </p:nvSpPr>
        <p:spPr>
          <a:xfrm>
            <a:off x="684360" y="189000"/>
            <a:ext cx="8002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семирная пау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692280"/>
            <a:ext cx="8424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мирная паути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- это сервис для получения доступа пользователей сети к информационным ресурсам, хранящимся на компьютерах в разных частях с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ой WWW явля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страниц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eb-сай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22766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ча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таблице приведены запросы к поисковому серверу. Для обозначения логической операции ИЛИ в запросах используется символ |, а для логической операции И – символ &amp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835280" y="3716280"/>
          <a:ext cx="5784840" cy="1744560"/>
        </p:xfrm>
        <a:graphic>
          <a:graphicData uri="http://schemas.openxmlformats.org/drawingml/2006/table">
            <a:tbl>
              <a:tblPr/>
              <a:tblGrid>
                <a:gridCol w="1081080"/>
                <a:gridCol w="47037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т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54"/>
          <p:cNvSpPr/>
          <p:nvPr/>
        </p:nvSpPr>
        <p:spPr>
          <a:xfrm>
            <a:off x="539640" y="566100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зите графически количество страниц, которые найдёт поисковый сервер по каждому запросу. Расположите номера запросов в порядке убывания количества страни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4" descr=""/>
          <p:cNvPicPr/>
          <p:nvPr/>
        </p:nvPicPr>
        <p:blipFill>
          <a:blip r:embed="rId2"/>
          <a:stretch/>
        </p:blipFill>
        <p:spPr>
          <a:xfrm>
            <a:off x="324000" y="2928960"/>
            <a:ext cx="2592360" cy="241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2" descr=""/>
          <p:cNvPicPr/>
          <p:nvPr/>
        </p:nvPicPr>
        <p:blipFill>
          <a:blip r:embed="rId3"/>
          <a:stretch/>
        </p:blipFill>
        <p:spPr>
          <a:xfrm>
            <a:off x="7237440" y="2852640"/>
            <a:ext cx="16192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4"/>
          <a:stretch/>
        </p:blipFill>
        <p:spPr>
          <a:xfrm>
            <a:off x="5342040" y="2852640"/>
            <a:ext cx="1646280" cy="2451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724360" y="616572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 3 4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1116000" y="544500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565440" y="544500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869080" y="544500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669080" y="544500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612720" y="342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1765440" y="35719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84360" y="4724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5653080" y="3213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7524720" y="3213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5653080" y="450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7453440" y="4724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5"/>
          <a:stretch/>
        </p:blipFill>
        <p:spPr>
          <a:xfrm>
            <a:off x="2773440" y="2890800"/>
            <a:ext cx="2590560" cy="234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8"/>
          <p:cNvSpPr/>
          <p:nvPr/>
        </p:nvSpPr>
        <p:spPr>
          <a:xfrm>
            <a:off x="3132000" y="3284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2916360" y="450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4213080" y="4076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907920"/>
          <a:ext cx="5403960" cy="1708200"/>
        </p:xfrm>
        <a:graphic>
          <a:graphicData uri="http://schemas.openxmlformats.org/drawingml/2006/table">
            <a:tbl>
              <a:tblPr/>
              <a:tblGrid>
                <a:gridCol w="1009800"/>
                <a:gridCol w="4394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ан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рта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7"/>
          <p:cNvSpPr/>
          <p:nvPr/>
        </p:nvSpPr>
        <p:spPr>
          <a:xfrm>
            <a:off x="755640" y="5157720"/>
            <a:ext cx="863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1125360"/>
            <a:ext cx="8208720" cy="109944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дрес документа в Интернет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е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Uniform Resource Locator -  универсальный указатель ресурса) состоит из следующих част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547640" y="321300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енное имя сервера со знаком / в конце и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1547640" y="393372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е имя файла на сервере, где он находи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547640" y="2494080"/>
            <a:ext cx="6553440" cy="503280"/>
          </a:xfrm>
          <a:prstGeom prst="roundRect">
            <a:avLst>
              <a:gd name="adj" fmla="val 16667"/>
            </a:avLst>
          </a:prstGeom>
          <a:solidFill>
            <a:srgbClr val="e8fafc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протокола со знаками :// в конце на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4788000" y="22780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4788000" y="2997360"/>
            <a:ext cx="0" cy="215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4788000" y="3718080"/>
            <a:ext cx="0" cy="215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1619280" y="5157720"/>
            <a:ext cx="158436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203640" y="5157720"/>
            <a:ext cx="525600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68360" y="479736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м пример адреса (UR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fcior.edu.ru/ card/701/algebraicheskie-uravneniy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395280" y="59500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HTTP:// указывает на то, что это Web-страница (протокол HTTP - Hyper Text Transfer Protocol - протокол передачи гипертекстовых файл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719280" y="6093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енное имя сервера, на котором хранится стран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32400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имя файла, включающее путь к файлу, т. е. все каталоги, в которые следует последовательно зайти, чтобы открыть требуемый фай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дрес документа в Интер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940360" y="1052640"/>
          <a:ext cx="2665440" cy="2773080"/>
        </p:xfrm>
        <a:graphic>
          <a:graphicData uri="http://schemas.openxmlformats.org/drawingml/2006/table">
            <a:tbl>
              <a:tblPr/>
              <a:tblGrid>
                <a:gridCol w="1333440"/>
                <a:gridCol w="13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/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o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74"/>
          <p:cNvSpPr/>
          <p:nvPr/>
        </p:nvSpPr>
        <p:spPr>
          <a:xfrm>
            <a:off x="395280" y="41497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вая часть адреса файла - название протоко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5013360"/>
          <a:ext cx="8280360" cy="981000"/>
        </p:xfrm>
        <a:graphic>
          <a:graphicData uri="http://schemas.openxmlformats.org/drawingml/2006/table">
            <a:tbl>
              <a:tblPr/>
              <a:tblGrid>
                <a:gridCol w="1184400"/>
                <a:gridCol w="1181160"/>
                <a:gridCol w="1184040"/>
                <a:gridCol w="1181160"/>
                <a:gridCol w="1184400"/>
                <a:gridCol w="1181160"/>
                <a:gridCol w="11840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39"/>
          <p:cNvSpPr/>
          <p:nvPr/>
        </p:nvSpPr>
        <p:spPr>
          <a:xfrm>
            <a:off x="61128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0"/>
          <p:cNvSpPr/>
          <p:nvPr/>
        </p:nvSpPr>
        <p:spPr>
          <a:xfrm>
            <a:off x="176364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1"/>
          <p:cNvSpPr/>
          <p:nvPr/>
        </p:nvSpPr>
        <p:spPr>
          <a:xfrm>
            <a:off x="61128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2"/>
          <p:cNvSpPr/>
          <p:nvPr/>
        </p:nvSpPr>
        <p:spPr>
          <a:xfrm>
            <a:off x="176364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3"/>
          <p:cNvSpPr/>
          <p:nvPr/>
        </p:nvSpPr>
        <p:spPr>
          <a:xfrm>
            <a:off x="298620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4"/>
          <p:cNvSpPr/>
          <p:nvPr/>
        </p:nvSpPr>
        <p:spPr>
          <a:xfrm>
            <a:off x="413856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5"/>
          <p:cNvSpPr/>
          <p:nvPr/>
        </p:nvSpPr>
        <p:spPr>
          <a:xfrm>
            <a:off x="298620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6"/>
          <p:cNvSpPr/>
          <p:nvPr/>
        </p:nvSpPr>
        <p:spPr>
          <a:xfrm>
            <a:off x="413856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7"/>
          <p:cNvSpPr/>
          <p:nvPr/>
        </p:nvSpPr>
        <p:spPr>
          <a:xfrm>
            <a:off x="5362560" y="5157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8"/>
          <p:cNvSpPr/>
          <p:nvPr/>
        </p:nvSpPr>
        <p:spPr>
          <a:xfrm>
            <a:off x="6515280" y="5157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9"/>
          <p:cNvSpPr/>
          <p:nvPr/>
        </p:nvSpPr>
        <p:spPr>
          <a:xfrm>
            <a:off x="536256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0"/>
          <p:cNvSpPr/>
          <p:nvPr/>
        </p:nvSpPr>
        <p:spPr>
          <a:xfrm>
            <a:off x="6515280" y="5589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9"/>
          <p:cNvSpPr/>
          <p:nvPr/>
        </p:nvSpPr>
        <p:spPr>
          <a:xfrm>
            <a:off x="7738920" y="50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0"/>
          <p:cNvSpPr/>
          <p:nvPr/>
        </p:nvSpPr>
        <p:spPr>
          <a:xfrm>
            <a:off x="7812000" y="55897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1"/>
          <p:cNvSpPr/>
          <p:nvPr/>
        </p:nvSpPr>
        <p:spPr>
          <a:xfrm>
            <a:off x="395280" y="4149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торая часть адреса - имя сервера (компьютер, на котором расположен фай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2"/>
          <p:cNvSpPr/>
          <p:nvPr/>
        </p:nvSpPr>
        <p:spPr>
          <a:xfrm>
            <a:off x="395280" y="414972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етья часть адреса - полное имя файла на компьют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оловок 2"/>
          <p:cNvSpPr/>
          <p:nvPr/>
        </p:nvSpPr>
        <p:spPr>
          <a:xfrm>
            <a:off x="684360" y="189000"/>
            <a:ext cx="800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907920"/>
            <a:ext cx="439272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ступ к фай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ходящемуся на сервер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t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существляется по протоко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блице фрагменты адреса файла закодированы буквами о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ишите адрес указанного файла в сети Интернет и последовательность букв, кодирующую этот адр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5"/>
          <p:cNvSpPr/>
          <p:nvPr/>
        </p:nvSpPr>
        <p:spPr>
          <a:xfrm>
            <a:off x="684360" y="6165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xt.org/ftp.net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ЖЕД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айловые арх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00000" y="3068640"/>
            <a:ext cx="7775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изац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00000" y="3789360"/>
            <a:ext cx="77756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ая схема работы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900000" y="458136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в активном режи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00000" y="530064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на сер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00000" y="6021360"/>
            <a:ext cx="7775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дача данных между двум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серве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21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22" descr=""/>
          <p:cNvPicPr/>
          <p:nvPr/>
        </p:nvPicPr>
        <p:blipFill>
          <a:blip r:embed="rId3"/>
          <a:stretch/>
        </p:blipFill>
        <p:spPr>
          <a:xfrm>
            <a:off x="5219640" y="378936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23" descr=""/>
          <p:cNvPicPr/>
          <p:nvPr/>
        </p:nvPicPr>
        <p:blipFill>
          <a:blip r:embed="rId4"/>
          <a:stretch/>
        </p:blipFill>
        <p:spPr>
          <a:xfrm>
            <a:off x="6084720" y="465300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24" descr=""/>
          <p:cNvPicPr/>
          <p:nvPr/>
        </p:nvPicPr>
        <p:blipFill>
          <a:blip r:embed="rId5"/>
          <a:stretch/>
        </p:blipFill>
        <p:spPr>
          <a:xfrm>
            <a:off x="4788000" y="530064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25" descr=""/>
          <p:cNvPicPr/>
          <p:nvPr/>
        </p:nvPicPr>
        <p:blipFill>
          <a:blip r:embed="rId6"/>
          <a:stretch/>
        </p:blipFill>
        <p:spPr>
          <a:xfrm>
            <a:off x="7236000" y="6086520"/>
            <a:ext cx="914400" cy="771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3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айловые архив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воего рода библиотеки, хранящие файлы с программным обеспечением, графикой, музыкой и другой 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00040" y="16430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уп к файлам в файловых архивах возможен по протокол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протокол передачи гипертекстовых докумен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пециальный протокол передачи файл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14T16:51:57Z</dcterms:modified>
  <cp:revision>142</cp:revision>
  <dc:subject/>
  <dc:title>Презентация PowerPoint</dc:title>
</cp:coreProperties>
</file>