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7.png" ContentType="image/png"/>
  <Override PartName="/ppt/media/image29.wmf" ContentType="image/x-wmf"/>
  <Override PartName="/ppt/media/image11.png" ContentType="image/png"/>
  <Override PartName="/ppt/media/image12.png" ContentType="image/png"/>
  <Override PartName="/ppt/media/image19.jpeg" ContentType="image/jpeg"/>
  <Override PartName="/ppt/media/image32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4.wmf" ContentType="image/x-wmf"/>
  <Override PartName="/ppt/media/image14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5D9-FC78-45EF-B9EF-7ED330DC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2F16-8039-4A70-8AEE-C5C16AEC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3C9-B35A-4A97-B2A5-9F2B59BB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05F-2C6B-4C7F-8986-0BCD2370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332D-8BF7-41E1-AD83-4592A67D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A4AD-00DF-4E6B-9BFC-0DC2ABFC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CB70-B2EB-4EFF-8932-5F205D2D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A1D5-A90A-4E10-B7C0-21288F7F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55D-57FE-45AE-B9D4-87F081B4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FF34-E0F2-401A-BFD8-1C92DB78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11A-3007-49BA-8F3F-E050794C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60E2-7687-46F3-84DA-5CD7B170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8862-D4A9-4AEE-8F79-D10B4F7A01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1.jpeg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chool-collection.edu.ru/catalog/res/caeea6cc-bd1d-4f47-9046-1434ac57e111/?from=a30a9550-6a62-11da-8cd6-0800200c9a66&amp;interface=catalog&amp;class=51&amp;subject=19&amp;rub_guid[]=a30a9550-6a62-11da-8cd6-0800200c9a66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9.png"/><Relationship Id="rId13" Type="http://schemas.openxmlformats.org/officeDocument/2006/relationships/image" Target="../media/image12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8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276640"/>
            <a:ext cx="64072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ИСТЕМЫ СЧИС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05360"/>
            <a:ext cx="6481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МАТИЧЕСКИЕ ОСНОВЫ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1"/>
          <p:cNvSpPr/>
          <p:nvPr/>
        </p:nvSpPr>
        <p:spPr>
          <a:xfrm>
            <a:off x="428760" y="1700280"/>
            <a:ext cx="839304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q =±(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…+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…+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–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имер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записи чисел в развёрнутой форм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012=2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0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2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0,125=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2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5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–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4351,1=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4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3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5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2"/>
          <p:cNvSpPr/>
          <p:nvPr/>
        </p:nvSpPr>
        <p:spPr>
          <a:xfrm>
            <a:off x="46836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вёрнутая фор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Выноска со стрелкой вниз 4"/>
          <p:cNvSpPr/>
          <p:nvPr/>
        </p:nvSpPr>
        <p:spPr>
          <a:xfrm>
            <a:off x="500040" y="3571920"/>
            <a:ext cx="8286840" cy="785880"/>
          </a:xfrm>
          <a:prstGeom prst="downArrowCallout">
            <a:avLst>
              <a:gd name="adj1" fmla="val -21643"/>
              <a:gd name="adj2" fmla="val 24995"/>
              <a:gd name="adj3" fmla="val 25000"/>
              <a:gd name="adj4" fmla="val 64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2"/>
          <p:cNvSpPr/>
          <p:nvPr/>
        </p:nvSpPr>
        <p:spPr>
          <a:xfrm>
            <a:off x="684360" y="0"/>
            <a:ext cx="795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Двоичная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истема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68360" y="90792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воичной системой счисл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зывается позиционная система счисления с основани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воичный алфави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0 и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714240" y="2214720"/>
            <a:ext cx="817884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целых двоичных чисел можно записат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+…+ a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0011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=1</a:t>
            </a:r>
            <a:r>
              <a:rPr b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2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+0</a:t>
            </a:r>
            <a:r>
              <a:rPr b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+0</a:t>
            </a:r>
            <a:r>
              <a:rPr b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= 2</a:t>
            </a:r>
            <a:r>
              <a:rPr b="0" lang="ru-RU" sz="22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+2</a:t>
            </a:r>
            <a:r>
              <a:rPr b="0" lang="ru-RU" sz="2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ru-RU" sz="2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=19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Выноска со стрелкой вниз 5"/>
          <p:cNvSpPr/>
          <p:nvPr/>
        </p:nvSpPr>
        <p:spPr>
          <a:xfrm>
            <a:off x="500040" y="4419720"/>
            <a:ext cx="8286840" cy="785520"/>
          </a:xfrm>
          <a:prstGeom prst="downArrowCallout">
            <a:avLst>
              <a:gd name="adj1" fmla="val -21653"/>
              <a:gd name="adj2" fmla="val 25006"/>
              <a:gd name="adj3" fmla="val 25000"/>
              <a:gd name="adj4" fmla="val 64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авило перевода двоичных чисел в десятичную систему счисл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7"/>
          <p:cNvSpPr/>
          <p:nvPr/>
        </p:nvSpPr>
        <p:spPr>
          <a:xfrm>
            <a:off x="500040" y="5214960"/>
            <a:ext cx="828684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ычислить сумму степеней двойки, соответствующих единицам в свёрнутой форме записи двоичного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"/>
          <p:cNvSpPr/>
          <p:nvPr/>
        </p:nvSpPr>
        <p:spPr>
          <a:xfrm>
            <a:off x="539640" y="189000"/>
            <a:ext cx="80726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Правило перевода целых десятичных чисел в двоичную систему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00040" y="1273320"/>
            <a:ext cx="3929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…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7"/>
          <p:cNvSpPr/>
          <p:nvPr/>
        </p:nvSpPr>
        <p:spPr>
          <a:xfrm>
            <a:off x="571680" y="1701720"/>
            <a:ext cx="392904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4429080" y="1519200"/>
            <a:ext cx="378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…+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статок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2143080" y="17017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500040" y="2428920"/>
            <a:ext cx="3929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…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14"/>
          <p:cNvSpPr/>
          <p:nvPr/>
        </p:nvSpPr>
        <p:spPr>
          <a:xfrm>
            <a:off x="571680" y="2857680"/>
            <a:ext cx="392904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4429080" y="2673360"/>
            <a:ext cx="378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…+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статок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6"/>
          <p:cNvSpPr/>
          <p:nvPr/>
        </p:nvSpPr>
        <p:spPr>
          <a:xfrm>
            <a:off x="2143080" y="28576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3357720" y="457200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8"/>
          <p:cNvSpPr/>
          <p:nvPr/>
        </p:nvSpPr>
        <p:spPr>
          <a:xfrm>
            <a:off x="500040" y="3500280"/>
            <a:ext cx="3929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…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19"/>
          <p:cNvSpPr/>
          <p:nvPr/>
        </p:nvSpPr>
        <p:spPr>
          <a:xfrm>
            <a:off x="571680" y="3929040"/>
            <a:ext cx="392904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4429080" y="3745080"/>
            <a:ext cx="378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…+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статок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1"/>
          <p:cNvSpPr/>
          <p:nvPr/>
        </p:nvSpPr>
        <p:spPr>
          <a:xfrm>
            <a:off x="2143080" y="39290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Прямая со стрелкой 23"/>
          <p:cNvCxnSpPr/>
          <p:nvPr/>
        </p:nvCxnSpPr>
        <p:spPr>
          <a:xfrm flipH="1">
            <a:off x="8357400" y="1571400"/>
            <a:ext cx="1080" cy="3429720"/>
          </a:xfrm>
          <a:prstGeom prst="straightConnector1">
            <a:avLst/>
          </a:prstGeom>
          <a:ln w="38160">
            <a:solidFill>
              <a:srgbClr val="4f81bd"/>
            </a:solidFill>
            <a:miter/>
          </a:ln>
        </p:spPr>
      </p:cxnSp>
      <p:sp>
        <p:nvSpPr>
          <p:cNvPr id="147" name="TextBox 26"/>
          <p:cNvSpPr/>
          <p:nvPr/>
        </p:nvSpPr>
        <p:spPr>
          <a:xfrm>
            <a:off x="1000080" y="5072040"/>
            <a:ext cx="671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м шаге получим набор цифр: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28"/>
          <p:cNvSpPr/>
          <p:nvPr/>
        </p:nvSpPr>
        <p:spPr>
          <a:xfrm flipH="1" flipV="1">
            <a:off x="5500440" y="5000760"/>
            <a:ext cx="285732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Прямая со стрелкой 31"/>
          <p:cNvCxnSpPr/>
          <p:nvPr/>
        </p:nvCxnSpPr>
        <p:spPr>
          <a:xfrm flipH="1">
            <a:off x="5522040" y="5000400"/>
            <a:ext cx="2520" cy="2149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763640" y="1643040"/>
          <a:ext cx="6096240" cy="129708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1" name="Group 46"/>
          <p:cNvGrpSpPr/>
          <p:nvPr/>
        </p:nvGrpSpPr>
        <p:grpSpPr>
          <a:xfrm>
            <a:off x="1834920" y="3011400"/>
            <a:ext cx="5616720" cy="216000"/>
            <a:chOff x="1834920" y="3011400"/>
            <a:chExt cx="5616720" cy="216000"/>
          </a:xfrm>
        </p:grpSpPr>
        <p:sp>
          <p:nvSpPr>
            <p:cNvPr id="152" name="Line 47"/>
            <p:cNvSpPr/>
            <p:nvPr/>
          </p:nvSpPr>
          <p:spPr>
            <a:xfrm flipH="1">
              <a:off x="1834920" y="3227400"/>
              <a:ext cx="56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48"/>
            <p:cNvSpPr/>
            <p:nvPr/>
          </p:nvSpPr>
          <p:spPr>
            <a:xfrm flipV="1">
              <a:off x="7451640" y="301140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49"/>
          <p:cNvSpPr/>
          <p:nvPr/>
        </p:nvSpPr>
        <p:spPr>
          <a:xfrm>
            <a:off x="3143160" y="3357720"/>
            <a:ext cx="309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6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01101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928880" y="4214880"/>
          <a:ext cx="6095880" cy="129708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6" name="Group 82"/>
          <p:cNvGrpSpPr/>
          <p:nvPr/>
        </p:nvGrpSpPr>
        <p:grpSpPr>
          <a:xfrm>
            <a:off x="2000160" y="5583240"/>
            <a:ext cx="5616720" cy="216000"/>
            <a:chOff x="2000160" y="5583240"/>
            <a:chExt cx="5616720" cy="216000"/>
          </a:xfrm>
        </p:grpSpPr>
        <p:sp>
          <p:nvSpPr>
            <p:cNvPr id="157" name="Line 83"/>
            <p:cNvSpPr/>
            <p:nvPr/>
          </p:nvSpPr>
          <p:spPr>
            <a:xfrm flipH="1">
              <a:off x="2000160" y="5799240"/>
              <a:ext cx="561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84"/>
            <p:cNvSpPr/>
            <p:nvPr/>
          </p:nvSpPr>
          <p:spPr>
            <a:xfrm flipV="1">
              <a:off x="7616880" y="558324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85"/>
          <p:cNvSpPr/>
          <p:nvPr/>
        </p:nvSpPr>
        <p:spPr>
          <a:xfrm>
            <a:off x="3008160" y="5943600"/>
            <a:ext cx="309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14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001110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6"/>
          <p:cNvSpPr/>
          <p:nvPr/>
        </p:nvSpPr>
        <p:spPr>
          <a:xfrm>
            <a:off x="714240" y="5000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Компакт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оформ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611280" y="1341360"/>
            <a:ext cx="820872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осьмеричной системой счисл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зывается позиционная система счисления с основанием 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фавит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0, 1, 2, 3, 4, 5, 6, 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…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1063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0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+6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563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перевода целого восьмеричного числа в десятичную систему счисления следует перейти к его развёрнутой записи и вычислить значение получившегося выраж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Заголовок 2"/>
          <p:cNvSpPr/>
          <p:nvPr/>
        </p:nvSpPr>
        <p:spPr>
          <a:xfrm>
            <a:off x="539640" y="189000"/>
            <a:ext cx="860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Восьмеричная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истема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714240" y="492912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перевода целого десятичного числа в восьмеричную систему счисления следует последовательно выполнять деление данного числа и получаемых целых частных на 8 до тех пор, пока не получим частное, равное нул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642960" y="1143000"/>
            <a:ext cx="806436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сно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1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фави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0, 1, 2, 3, 4, 5, 6, 7, 8, 9, A, B, C, D, E, 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АF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3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+10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+15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768+160+15=943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Заголовок 2"/>
          <p:cNvSpPr/>
          <p:nvPr/>
        </p:nvSpPr>
        <p:spPr>
          <a:xfrm>
            <a:off x="285840" y="189000"/>
            <a:ext cx="8786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Шестнадцатеричная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истема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611280" y="251316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ведём десятичное число 154 в шестнадцатеричную систему счис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3492360" y="424008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2700360" y="48895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3492360" y="3736440"/>
            <a:ext cx="0" cy="1295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4140360" y="4240080"/>
            <a:ext cx="0" cy="115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H="1">
            <a:off x="3131640" y="5608800"/>
            <a:ext cx="863640" cy="649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4356000" y="6257880"/>
            <a:ext cx="324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9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3492360" y="4889520"/>
            <a:ext cx="6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4211640" y="488952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2698920" y="35924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3635280" y="35924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3635280" y="4240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2411280" y="42400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2843280" y="4888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2771640" y="531972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1"/>
          <p:cNvSpPr/>
          <p:nvPr/>
        </p:nvSpPr>
        <p:spPr>
          <a:xfrm>
            <a:off x="3635280" y="4888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4356000" y="4240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4354560" y="4888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9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468360" y="1268280"/>
            <a:ext cx="8424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последовательно выполнять деление данного числа и получаемых целых частных на основание новой системы счисления до тех пор, пока не получим частное, равное нул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полученные остатки, являющиеся цифрами числа в новой системе счисления, привести в соответствие с алфавитом новой системы счислен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 составить число в новой системе счисления, записывая его, начиная с последнего полученного остат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554200" y="5756400"/>
            <a:ext cx="40323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фровые ве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ject 6" descr=""/>
          <p:cNvPicPr/>
          <p:nvPr/>
        </p:nvPicPr>
        <p:blipFill>
          <a:blip r:embed="rId2"/>
          <a:stretch/>
        </p:blipFill>
        <p:spPr>
          <a:xfrm>
            <a:off x="5435640" y="5734080"/>
            <a:ext cx="914400" cy="714240"/>
          </a:xfrm>
          <a:prstGeom prst="rect">
            <a:avLst/>
          </a:prstGeom>
          <a:ln w="0">
            <a:noFill/>
          </a:ln>
        </p:spPr>
      </p:pic>
      <p:sp>
        <p:nvSpPr>
          <p:cNvPr id="187" name="Заголовок 2"/>
          <p:cNvSpPr/>
          <p:nvPr/>
        </p:nvSpPr>
        <p:spPr>
          <a:xfrm>
            <a:off x="684360" y="189000"/>
            <a:ext cx="845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Правило перевода целых десятичных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чисел в систему счисления с основанием </a:t>
            </a: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5"/>
          <p:cNvSpPr/>
          <p:nvPr/>
        </p:nvSpPr>
        <p:spPr>
          <a:xfrm>
            <a:off x="539640" y="189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Таблица соответствия 10-х, 2-х, 8-х и 16-х чисел от 1 до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763640" y="549360"/>
          <a:ext cx="6193080" cy="6003720"/>
        </p:xfrm>
        <a:graphic>
          <a:graphicData uri="http://schemas.openxmlformats.org/drawingml/2006/table">
            <a:tbl>
              <a:tblPr/>
              <a:tblGrid>
                <a:gridCol w="1297080"/>
                <a:gridCol w="1224000"/>
                <a:gridCol w="1584360"/>
                <a:gridCol w="208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ичная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оичная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ьмеричная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надцатеричная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Заголовок 2"/>
          <p:cNvSpPr/>
          <p:nvPr/>
        </p:nvSpPr>
        <p:spPr>
          <a:xfrm>
            <a:off x="1042920" y="189000"/>
            <a:ext cx="7643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Двоичная арифме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39640" y="1052640"/>
            <a:ext cx="806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рифметика двоичной системы счисления основывается на использовании следующих таблиц сложения и умножен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405080" y="2133720"/>
          <a:ext cx="2760480" cy="1887480"/>
        </p:xfrm>
        <a:graphic>
          <a:graphicData uri="http://schemas.openxmlformats.org/drawingml/2006/table">
            <a:tbl>
              <a:tblPr/>
              <a:tblGrid>
                <a:gridCol w="920520"/>
                <a:gridCol w="919080"/>
                <a:gridCol w="92088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148360" y="2133720"/>
          <a:ext cx="2760480" cy="1887480"/>
        </p:xfrm>
        <a:graphic>
          <a:graphicData uri="http://schemas.openxmlformats.org/drawingml/2006/table">
            <a:tbl>
              <a:tblPr/>
              <a:tblGrid>
                <a:gridCol w="920520"/>
                <a:gridCol w="919440"/>
                <a:gridCol w="92052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6"/>
          <p:cNvSpPr/>
          <p:nvPr/>
        </p:nvSpPr>
        <p:spPr>
          <a:xfrm>
            <a:off x="611280" y="4292640"/>
            <a:ext cx="7416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ифметика одноразрядных двоичн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Object 74" descr=""/>
          <p:cNvPicPr/>
          <p:nvPr/>
        </p:nvPicPr>
        <p:blipFill>
          <a:blip r:embed="rId2"/>
          <a:stretch/>
        </p:blipFill>
        <p:spPr>
          <a:xfrm>
            <a:off x="6948360" y="4292640"/>
            <a:ext cx="914400" cy="714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611280" y="5157720"/>
            <a:ext cx="7416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ифметика многоразрядных двоичн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Object 76" descr=""/>
          <p:cNvPicPr/>
          <p:nvPr/>
        </p:nvPicPr>
        <p:blipFill>
          <a:blip r:embed="rId3"/>
          <a:stretch/>
        </p:blipFill>
        <p:spPr>
          <a:xfrm>
            <a:off x="6948360" y="5157720"/>
            <a:ext cx="914400" cy="7146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611280" y="5950080"/>
            <a:ext cx="7416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множение и деление двоичн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Object 78" descr=""/>
          <p:cNvPicPr/>
          <p:nvPr/>
        </p:nvPicPr>
        <p:blipFill>
          <a:blip r:embed="rId4"/>
          <a:stretch/>
        </p:blipFill>
        <p:spPr>
          <a:xfrm>
            <a:off x="7093080" y="5950080"/>
            <a:ext cx="914400" cy="714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Заголовок 2"/>
          <p:cNvSpPr/>
          <p:nvPr/>
        </p:nvSpPr>
        <p:spPr>
          <a:xfrm>
            <a:off x="468360" y="189000"/>
            <a:ext cx="8218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«Компьютерные»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истемы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468360" y="1341360"/>
            <a:ext cx="681840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система используется в компьютерной технике, так к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 algn="just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ые числа представляются в компьютере с помощью простых технических элементов с двумя устойчивыми состоян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 algn="just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информации посредством только двух состояний надёжно и помехоустойчи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 algn="just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арифметика наиболее про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 algn="just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математический аппарат, обеспечивающий логические преобразования двоичных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3"/>
          <p:cNvSpPr/>
          <p:nvPr/>
        </p:nvSpPr>
        <p:spPr>
          <a:xfrm>
            <a:off x="3071880" y="4643280"/>
            <a:ext cx="607212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ый код удобен для компьют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у неудобно пользоваться длинными и однородными кодами. Специалисты заменяют двоичные коды на величины в восьмеричной или шестнадцатеричной системах счис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8" descr="глаза,двоичные коды,изобразительное искусство,искусство,компьютерные коды,скульптуры,технология,фотографии"/>
          <p:cNvPicPr/>
          <p:nvPr/>
        </p:nvPicPr>
        <p:blipFill>
          <a:blip r:embed="rId6"/>
          <a:stretch/>
        </p:blipFill>
        <p:spPr>
          <a:xfrm>
            <a:off x="285840" y="4429080"/>
            <a:ext cx="2643120" cy="19051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9" descr="MM900254443.GIF"/>
          <p:cNvPicPr/>
          <p:nvPr/>
        </p:nvPicPr>
        <p:blipFill>
          <a:blip r:embed="rId7"/>
          <a:stretch/>
        </p:blipFill>
        <p:spPr>
          <a:xfrm>
            <a:off x="7429680" y="1571760"/>
            <a:ext cx="1657080" cy="1643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052640"/>
            <a:ext cx="867564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стема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иф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лф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зиционная система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ёрнутая форма записи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ёрнутая форма записи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воичная система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сьмеричная система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естнадцатеричная система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250920" y="907920"/>
            <a:ext cx="8569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знаковая система, в которой приняты определённые правила записи чис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счисления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зицион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количественный эквивалент цифры в числе зависит от её положения в записи чис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зиционной системе счисления с основанием q любое число может быть представлено в ви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±(a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…+ a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…+ a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–m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–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е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— числ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q — основание системы счис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цифры, принадлежащие алфавиту данной системы счис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 — количество целых разрядов чис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 — количество дробных разрядов чис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«вес»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го разря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468360" y="148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различаются унарные, позиционные и непозиционные системы счис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0" y="148428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фры каких систем счисления приведены на рис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1728720" y="2492280"/>
            <a:ext cx="6193080" cy="21402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250920" y="14842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ите, почему позиционные системы счисления с основаниями 5, 10, 12 и 20 называют системами счисления анатомического происхо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50920" y="148428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от свёрнутой формы записи десятичного числа перейти к его развёрнутой фор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611280" y="1484280"/>
            <a:ext cx="828180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в развёрнутом вид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43,5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435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1435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1435,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684360" y="1484280"/>
            <a:ext cx="820872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десятичные эквиваленты следующих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7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2Е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1010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10,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24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611280" y="1484280"/>
            <a:ext cx="8281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жите, какое из чисел 110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3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1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наибольш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наименьш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684360" y="148428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минимальное основание имеет система счисления, если в ней записаны числа 123, 222, 111, 241? Определите десятичный эквивалент данных чисел в найденной системе с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611280" y="1484280"/>
            <a:ext cx="82818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ы ли следующие равен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3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3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684360" y="1484280"/>
            <a:ext cx="8208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основание х системы счисления,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4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9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200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3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611280" y="1484280"/>
            <a:ext cx="82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целые числа из десятичной системы счисления в двоичну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468360" y="1484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целые числа из десятичной системы счисления в восьмеричну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5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539640" y="148428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целые числа из десятичной системы счисления в шестнадцатеричну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5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684360" y="148428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е таблицу, в каждой строке которой одно и то же число должно быть записано в системах счисления с основаниями 2, 8, 10 и 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611280" y="1484280"/>
            <a:ext cx="82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те операцию сложения над двоичными числ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01010 + 1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010 + 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10101 + 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2"/>
          <p:cNvSpPr/>
          <p:nvPr/>
        </p:nvSpPr>
        <p:spPr>
          <a:xfrm>
            <a:off x="611280" y="148428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те операцию умножения над двоичными числ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010 ·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11 · 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1010 · 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3"/>
          <p:cNvSpPr/>
          <p:nvPr/>
        </p:nvSpPr>
        <p:spPr>
          <a:xfrm>
            <a:off x="611280" y="1484280"/>
            <a:ext cx="82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тавьте знаки арифметических операций так, чтобы были верны следующие равенства в двоичной сис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100 ? 11 ? 100 = 10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100 ? 10 ? 10 = 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1100 ? 11 ? 100 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611280" y="1484280"/>
            <a:ext cx="82818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ит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(1111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A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:3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2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·2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14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 дайте в десятичной системе с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11280" y="3284640"/>
          <a:ext cx="8064360" cy="2582640"/>
        </p:xfrm>
        <a:graphic>
          <a:graphicData uri="http://schemas.openxmlformats.org/drawingml/2006/table">
            <a:tbl>
              <a:tblPr/>
              <a:tblGrid>
                <a:gridCol w="2016000"/>
                <a:gridCol w="2016000"/>
                <a:gridCol w="2016360"/>
                <a:gridCol w="2016000"/>
              </a:tblGrid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Rectangle 6"/>
          <p:cNvSpPr/>
          <p:nvPr/>
        </p:nvSpPr>
        <p:spPr>
          <a:xfrm>
            <a:off x="1116000" y="5157720"/>
            <a:ext cx="6912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ник «Системы счисл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Object 55" descr=""/>
          <p:cNvPicPr/>
          <p:nvPr/>
        </p:nvPicPr>
        <p:blipFill>
          <a:blip r:embed="rId3"/>
          <a:stretch/>
        </p:blipFill>
        <p:spPr>
          <a:xfrm>
            <a:off x="6732720" y="5157720"/>
            <a:ext cx="914400" cy="714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6445080" y="2997360"/>
            <a:ext cx="2376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ози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 flipV="1">
            <a:off x="3276720" y="2636640"/>
            <a:ext cx="576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"/>
          <p:cNvSpPr/>
          <p:nvPr/>
        </p:nvSpPr>
        <p:spPr>
          <a:xfrm flipH="1" flipV="1">
            <a:off x="6516720" y="2636640"/>
            <a:ext cx="72072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68360" y="5229360"/>
            <a:ext cx="84232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зиционной системе счисления с основанием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юбое число может быть представлено в ви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=±(a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* q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* q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…+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*q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* q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…+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–m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* q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–m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611280" y="907920"/>
            <a:ext cx="8353440" cy="1313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знаковая система, в которой приняты определённые правила записи чис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ифры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наки, при помощи которых записываются чис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лфавит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окупность цифр системы 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3708360" y="2421000"/>
            <a:ext cx="2952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а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755640" y="3789360"/>
            <a:ext cx="1512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ои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3132000" y="3789360"/>
            <a:ext cx="17290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сяти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755640" y="4437000"/>
            <a:ext cx="20178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сьмерич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32000" y="4437000"/>
            <a:ext cx="28083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естнадцатери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6948360" y="3716280"/>
            <a:ext cx="151308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8"/>
          <p:cNvSpPr/>
          <p:nvPr/>
        </p:nvSpPr>
        <p:spPr>
          <a:xfrm flipV="1">
            <a:off x="1620720" y="3428640"/>
            <a:ext cx="86364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8"/>
          <p:cNvSpPr/>
          <p:nvPr/>
        </p:nvSpPr>
        <p:spPr>
          <a:xfrm flipH="1" flipV="1">
            <a:off x="3276720" y="3428640"/>
            <a:ext cx="50472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8"/>
          <p:cNvSpPr/>
          <p:nvPr/>
        </p:nvSpPr>
        <p:spPr>
          <a:xfrm flipV="1">
            <a:off x="2124000" y="3429000"/>
            <a:ext cx="649440" cy="1008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8"/>
          <p:cNvSpPr/>
          <p:nvPr/>
        </p:nvSpPr>
        <p:spPr>
          <a:xfrm flipH="1" flipV="1">
            <a:off x="2773080" y="3429000"/>
            <a:ext cx="431640" cy="1008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1981080" y="2997360"/>
            <a:ext cx="1943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и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 flipV="1">
            <a:off x="7669080" y="342900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468360" y="765000"/>
            <a:ext cx="849636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chool-collection.edu.ru/catalog/res/caeea6cc-bd1d-4f47-9046-1434ac57e111/?from=a30a9550-6a62-11da-8cd6-0800200c9a66&amp;interface=catalog&amp;class=51&amp;subject=19&amp;rub_guid[]=a30a9550-6a62-11da-8cd6-0800200c9a6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Умножение и деление двоичных чис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-collection.edu.ru/catalog/res/402b749c-240b-4e16-9e4d-bea3fc4fa8fa/?from=a30a9550-6a62-11da-8cd6-0800200c9a66&amp;interface=catalog&amp;class=51&amp;subject=19&amp;rub_guid[]=a30a9550-6a62-11da-8cd6-0800200c9a66 – История развития систем счис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-collection.edu.ru/catalog/res/1a264912-eca9-4b45-8d77-c3655b199113/?from=a30a9550-6a62-11da-8cd6-0800200c9a66&amp;interface=catalog&amp;class=51&amp;subject=19&amp;rub_guid[]=a30a9550-6a62-11da-8cd6-0800200c9a66 – Перевод недесятичных чисел в десятичную систему счис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-collection.edu.ru/catalog/res/78ba290c-0f7c-4067-aaf4-d72f40f49f3b/?from=a30a9550-6a62-11da-8cd6-0800200c9a66&amp;interface=catalog&amp;class=51&amp;subject=19&amp;rub_guid[]=a30a9550-6a62-11da-8cd6-0800200c9a66 - Перевод десятичных чисел в другие системы счис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-collection.edu.ru/catalog/res/67cbf74b-f85a-4e9d-88c5-58f203fb90ce/?from=a30a9550-6a62-11da-8cd6-0800200c9a66&amp;interface=catalog&amp;class=51&amp;subject=19&amp;rub_guid[]=a30a9550-6a62-11da-8cd6-0800200c9a66 - Сложение и вычитание многоразрядных двоичных чис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-collection.edu.ru/catalog/res/8bb7eefa-4ed9-43fe-aebe-4d6ac67bc6ec/?from=a30a9550-6a62-11da-8cd6-0800200c9a66&amp;interface=catalog&amp;class=51&amp;subject=19&amp;rub_guid[]=a30a9550-6a62-11da-8cd6-0800200c9a66 - Сложение и вычитание одноразрядных двоичных чис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-collection.edu.ru/catalog/res/fc77f535-0c00-4871-b67c-fa2ecf567d46/?from=a30a9550-6a62-11da-8cd6-0800200c9a66&amp;interface=catalog&amp;class=51&amp;subject=19&amp;rub_guid[]=a30a9550-6a62-11da-8cd6-0800200c9a66 – Задач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-collection.edu.ru/catalog/res/a96df437-5ae3-4cab-8c5f-8d4cd78c5775/?from=a30a9550-6a62-11da-8cd6-0800200c9a66&amp;interface=catalog&amp;class=51&amp;subject=19&amp;rub_guid[]=a30a9550-6a62-11da-8cd6-0800200c9a66 - Развернутая форма записи чис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-collection.edu.ru/catalog/res/19d0fb95-871d-4063-961d-e7dc5725e555/?from=a30a9550-6a62-11da-8cd6-0800200c9a66&amp;interface=catalog&amp;class=51&amp;subject=19&amp;rub_guid[]=a30a9550-6a62-11da-8cd6-0800200c9a66 – Тренировочный те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9" descr="http://www.discoveringegypt.com/pics/numbers.jpg"/>
          <p:cNvPicPr/>
          <p:nvPr/>
        </p:nvPicPr>
        <p:blipFill>
          <a:blip r:embed="rId2"/>
          <a:stretch/>
        </p:blipFill>
        <p:spPr>
          <a:xfrm>
            <a:off x="1547640" y="2276640"/>
            <a:ext cx="6193080" cy="3474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503280" y="69228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знаковая система, в которой приняты определённые правила записи чисе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Цифр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знаки, при помощи которых записываются числа,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фави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истемы счисления - совокупность циф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Заголовок 2"/>
          <p:cNvSpPr/>
          <p:nvPr/>
        </p:nvSpPr>
        <p:spPr>
          <a:xfrm>
            <a:off x="468360" y="189000"/>
            <a:ext cx="8362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бщие с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785960" y="6021360"/>
            <a:ext cx="585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евнеславянская система счис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Стенд - числа вавилонян"/>
          <p:cNvPicPr/>
          <p:nvPr/>
        </p:nvPicPr>
        <p:blipFill>
          <a:blip r:embed="rId3">
            <a:lum contrast="6000"/>
          </a:blip>
          <a:srcRect l="0" t="0" r="28945" b="50167"/>
          <a:stretch/>
        </p:blipFill>
        <p:spPr>
          <a:xfrm>
            <a:off x="2700360" y="2060640"/>
            <a:ext cx="3597120" cy="3960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2195640" y="5661000"/>
            <a:ext cx="446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вилонская система счис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7"/>
          <p:cNvSpPr/>
          <p:nvPr/>
        </p:nvSpPr>
        <p:spPr>
          <a:xfrm>
            <a:off x="2411280" y="5877000"/>
            <a:ext cx="44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гипетская система счис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68" descr="http://biskvitka.net/uploads/posts/thumbs/1274549939_kirilicacifri.jpg"/>
          <p:cNvPicPr/>
          <p:nvPr/>
        </p:nvPicPr>
        <p:blipFill>
          <a:blip r:embed="rId4"/>
          <a:stretch/>
        </p:blipFill>
        <p:spPr>
          <a:xfrm>
            <a:off x="2786040" y="2071800"/>
            <a:ext cx="2962440" cy="388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468360" y="1197000"/>
            <a:ext cx="824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Узловые числа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значаются цифр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Заголовок 2"/>
          <p:cNvSpPr/>
          <p:nvPr/>
        </p:nvSpPr>
        <p:spPr>
          <a:xfrm>
            <a:off x="46836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Узловые и алгоритмические чис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68360" y="3716280"/>
            <a:ext cx="82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горитмические числа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аются в результате каких-либо операций из узловых чис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5" descr="http://www.sharlar.ru/rus/myfiles/material/foil/7-red-big.jpg"/>
          <p:cNvPicPr/>
          <p:nvPr/>
        </p:nvPicPr>
        <p:blipFill>
          <a:blip r:embed="rId2"/>
          <a:stretch/>
        </p:blipFill>
        <p:spPr>
          <a:xfrm>
            <a:off x="6423120" y="1916280"/>
            <a:ext cx="882720" cy="1252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9" descr="http://cs10393.userapi.com/u52068623/-5/x_ec0f8cc7.jpg"/>
          <p:cNvPicPr/>
          <p:nvPr/>
        </p:nvPicPr>
        <p:blipFill>
          <a:blip r:embed="rId3"/>
          <a:stretch/>
        </p:blipFill>
        <p:spPr>
          <a:xfrm>
            <a:off x="3071880" y="4714920"/>
            <a:ext cx="801720" cy="117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1" descr="https://sites.google.com/site/cantonivictoria/horoskop-numerologiczny/5/pi%C4%85tka.gif"/>
          <p:cNvPicPr/>
          <p:nvPr/>
        </p:nvPicPr>
        <p:blipFill>
          <a:blip r:embed="rId4"/>
          <a:stretch/>
        </p:blipFill>
        <p:spPr>
          <a:xfrm>
            <a:off x="4643280" y="1916280"/>
            <a:ext cx="887400" cy="125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3" descr="http://napelnianiebalonowhelem.eu/static/71.jpg"/>
          <p:cNvPicPr/>
          <p:nvPr/>
        </p:nvPicPr>
        <p:blipFill>
          <a:blip r:embed="rId5"/>
          <a:stretch/>
        </p:blipFill>
        <p:spPr>
          <a:xfrm>
            <a:off x="539640" y="1917720"/>
            <a:ext cx="768600" cy="12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4" descr="http://napelnianiebalonowhelem.eu/static/53.jpg"/>
          <p:cNvPicPr/>
          <p:nvPr/>
        </p:nvPicPr>
        <p:blipFill>
          <a:blip r:embed="rId6"/>
          <a:stretch/>
        </p:blipFill>
        <p:spPr>
          <a:xfrm>
            <a:off x="1476360" y="1916280"/>
            <a:ext cx="590400" cy="117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5" descr=""/>
          <p:cNvPicPr/>
          <p:nvPr/>
        </p:nvPicPr>
        <p:blipFill>
          <a:blip r:embed="rId7"/>
          <a:stretch/>
        </p:blipFill>
        <p:spPr>
          <a:xfrm>
            <a:off x="7286760" y="1916280"/>
            <a:ext cx="823680" cy="125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6" descr=""/>
          <p:cNvPicPr/>
          <p:nvPr/>
        </p:nvPicPr>
        <p:blipFill>
          <a:blip r:embed="rId8"/>
          <a:stretch/>
        </p:blipFill>
        <p:spPr>
          <a:xfrm>
            <a:off x="3132000" y="1916280"/>
            <a:ext cx="792360" cy="118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7" descr=""/>
          <p:cNvPicPr/>
          <p:nvPr/>
        </p:nvPicPr>
        <p:blipFill>
          <a:blip r:embed="rId9"/>
          <a:stretch/>
        </p:blipFill>
        <p:spPr>
          <a:xfrm>
            <a:off x="8196120" y="1916280"/>
            <a:ext cx="801720" cy="1252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8" descr=""/>
          <p:cNvPicPr/>
          <p:nvPr/>
        </p:nvPicPr>
        <p:blipFill>
          <a:blip r:embed="rId10"/>
          <a:stretch/>
        </p:blipFill>
        <p:spPr>
          <a:xfrm>
            <a:off x="5559480" y="1916280"/>
            <a:ext cx="785880" cy="1252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3" descr="http://nn-shar.ru/img/img2/413.jpg"/>
          <p:cNvPicPr/>
          <p:nvPr/>
        </p:nvPicPr>
        <p:blipFill>
          <a:blip r:embed="rId11"/>
          <a:stretch/>
        </p:blipFill>
        <p:spPr>
          <a:xfrm>
            <a:off x="2195640" y="1916280"/>
            <a:ext cx="892080" cy="1195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1" descr="https://sites.google.com/site/cantonivictoria/horoskop-numerologiczny/5/pi%C4%85tka.gif"/>
          <p:cNvPicPr/>
          <p:nvPr/>
        </p:nvPicPr>
        <p:blipFill>
          <a:blip r:embed="rId12"/>
          <a:stretch/>
        </p:blipFill>
        <p:spPr>
          <a:xfrm>
            <a:off x="500040" y="4714920"/>
            <a:ext cx="887400" cy="12524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0"/>
          <p:cNvSpPr/>
          <p:nvPr/>
        </p:nvSpPr>
        <p:spPr>
          <a:xfrm>
            <a:off x="1400040" y="496728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0 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1"/>
          <p:cNvSpPr/>
          <p:nvPr/>
        </p:nvSpPr>
        <p:spPr>
          <a:xfrm>
            <a:off x="3924360" y="501336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5" descr=""/>
          <p:cNvPicPr/>
          <p:nvPr/>
        </p:nvPicPr>
        <p:blipFill>
          <a:blip r:embed="rId13"/>
          <a:stretch/>
        </p:blipFill>
        <p:spPr>
          <a:xfrm>
            <a:off x="5219640" y="4724280"/>
            <a:ext cx="824040" cy="1252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53"/>
          <p:cNvSpPr/>
          <p:nvPr/>
        </p:nvSpPr>
        <p:spPr>
          <a:xfrm>
            <a:off x="6012000" y="5013360"/>
            <a:ext cx="192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9" descr="http://cs10393.userapi.com/u52068623/-5/x_ec0f8cc7.jpg"/>
          <p:cNvPicPr/>
          <p:nvPr/>
        </p:nvPicPr>
        <p:blipFill>
          <a:blip r:embed="rId14"/>
          <a:stretch/>
        </p:blipFill>
        <p:spPr>
          <a:xfrm>
            <a:off x="3929040" y="1928880"/>
            <a:ext cx="801720" cy="1179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1" descr="https://sites.google.com/site/cantonivictoria/horoskop-numerologiczny/5/pi%C4%85tka.gif"/>
          <p:cNvPicPr/>
          <p:nvPr/>
        </p:nvPicPr>
        <p:blipFill>
          <a:blip r:embed="rId15"/>
          <a:stretch/>
        </p:blipFill>
        <p:spPr>
          <a:xfrm>
            <a:off x="6300720" y="4653000"/>
            <a:ext cx="887400" cy="1252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9" descr="http://cs10393.userapi.com/u52068623/-5/x_ec0f8cc7.jpg"/>
          <p:cNvPicPr/>
          <p:nvPr/>
        </p:nvPicPr>
        <p:blipFill>
          <a:blip r:embed="rId16"/>
          <a:stretch/>
        </p:blipFill>
        <p:spPr>
          <a:xfrm>
            <a:off x="7143840" y="4714920"/>
            <a:ext cx="801720" cy="1179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5" descr=""/>
          <p:cNvPicPr/>
          <p:nvPr/>
        </p:nvPicPr>
        <p:blipFill>
          <a:blip r:embed="rId17"/>
          <a:stretch/>
        </p:blipFill>
        <p:spPr>
          <a:xfrm>
            <a:off x="8001000" y="4714920"/>
            <a:ext cx="824040" cy="1252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0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7"/>
          <p:cNvSpPr/>
          <p:nvPr/>
        </p:nvSpPr>
        <p:spPr>
          <a:xfrm>
            <a:off x="468360" y="907920"/>
            <a:ext cx="835344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стейшая и самая древняя система - так называема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нарна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истема счисле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й для записи любых чисел используется всего один символ - палочка, узелок, зарубка, камуше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2"/>
          <p:cNvSpPr/>
          <p:nvPr/>
        </p:nvSpPr>
        <p:spPr>
          <a:xfrm>
            <a:off x="468360" y="189000"/>
            <a:ext cx="8362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Унарная система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643280" y="5373720"/>
            <a:ext cx="38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зелковое письмо «кипу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"/>
          <p:cNvPicPr/>
          <p:nvPr/>
        </p:nvPicPr>
        <p:blipFill>
          <a:blip r:embed="rId2"/>
          <a:stretch/>
        </p:blipFill>
        <p:spPr>
          <a:xfrm>
            <a:off x="4716360" y="2781360"/>
            <a:ext cx="4427640" cy="245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"/>
          <p:cNvPicPr/>
          <p:nvPr/>
        </p:nvPicPr>
        <p:blipFill>
          <a:blip r:embed="rId3"/>
          <a:stretch/>
        </p:blipFill>
        <p:spPr>
          <a:xfrm>
            <a:off x="3203640" y="2637000"/>
            <a:ext cx="3514680" cy="1800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http://www.sg.uu.nl/img/nieuwsblog/2011/Ishango_sciencemuseum_brussel.jpg"/>
          <p:cNvPicPr/>
          <p:nvPr/>
        </p:nvPicPr>
        <p:blipFill>
          <a:blip r:embed="rId4"/>
          <a:stretch/>
        </p:blipFill>
        <p:spPr>
          <a:xfrm>
            <a:off x="971640" y="2637000"/>
            <a:ext cx="7619760" cy="33908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2195640" y="6138720"/>
            <a:ext cx="45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руб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5"/>
          <a:stretch/>
        </p:blipFill>
        <p:spPr>
          <a:xfrm>
            <a:off x="900000" y="2924280"/>
            <a:ext cx="2838600" cy="1942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5"/>
          <p:cNvSpPr/>
          <p:nvPr/>
        </p:nvSpPr>
        <p:spPr>
          <a:xfrm>
            <a:off x="539640" y="5373720"/>
            <a:ext cx="38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ры узлов «кипу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2771640" y="4726080"/>
            <a:ext cx="45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зелки, дощеч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8" descr="http://www.home-edu.ru/user/uatml/00000660/matem/matem1.files/image003.gif"/>
          <p:cNvPicPr/>
          <p:nvPr/>
        </p:nvPicPr>
        <p:blipFill>
          <a:blip r:embed="rId6"/>
          <a:stretch/>
        </p:blipFill>
        <p:spPr>
          <a:xfrm>
            <a:off x="2195640" y="5445000"/>
            <a:ext cx="5333760" cy="3844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9"/>
          <p:cNvSpPr/>
          <p:nvPr/>
        </p:nvSpPr>
        <p:spPr>
          <a:xfrm>
            <a:off x="2843280" y="6165720"/>
            <a:ext cx="45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муш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2411280" y="1773360"/>
            <a:ext cx="439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Римская система счис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258920" y="2276640"/>
          <a:ext cx="4309920" cy="1828800"/>
        </p:xfrm>
        <a:graphic>
          <a:graphicData uri="http://schemas.openxmlformats.org/drawingml/2006/table">
            <a:tbl>
              <a:tblPr/>
              <a:tblGrid>
                <a:gridCol w="925560"/>
                <a:gridCol w="928440"/>
                <a:gridCol w="1229040"/>
                <a:gridCol w="1226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32"/>
          <p:cNvSpPr/>
          <p:nvPr/>
        </p:nvSpPr>
        <p:spPr>
          <a:xfrm>
            <a:off x="2844720" y="49006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Arial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3"/>
          <p:cNvSpPr/>
          <p:nvPr/>
        </p:nvSpPr>
        <p:spPr>
          <a:xfrm>
            <a:off x="3852720" y="4941720"/>
            <a:ext cx="6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7"/>
          <p:cNvSpPr/>
          <p:nvPr/>
        </p:nvSpPr>
        <p:spPr>
          <a:xfrm>
            <a:off x="4573440" y="490068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Verdana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5292720" y="4900680"/>
            <a:ext cx="57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00"/>
                </a:solidFill>
                <a:latin typeface="Verdana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6"/>
          <p:cNvSpPr/>
          <p:nvPr/>
        </p:nvSpPr>
        <p:spPr>
          <a:xfrm>
            <a:off x="2124000" y="4869000"/>
            <a:ext cx="158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Arial"/>
              </a:rPr>
              <a:t>19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7"/>
          <p:cNvSpPr/>
          <p:nvPr/>
        </p:nvSpPr>
        <p:spPr>
          <a:xfrm>
            <a:off x="4573440" y="486900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Verdana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7"/>
          <p:cNvSpPr/>
          <p:nvPr/>
        </p:nvSpPr>
        <p:spPr>
          <a:xfrm>
            <a:off x="5292720" y="486900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cc"/>
                </a:solidFill>
                <a:latin typeface="Verdana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5943600" y="4869000"/>
            <a:ext cx="75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Verdana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6618960" y="48690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Verdana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5"/>
          <p:cNvSpPr/>
          <p:nvPr/>
        </p:nvSpPr>
        <p:spPr>
          <a:xfrm>
            <a:off x="7195320" y="48690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Verdana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7771320" y="48690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Verdana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3"/>
          <p:cNvSpPr/>
          <p:nvPr/>
        </p:nvSpPr>
        <p:spPr>
          <a:xfrm>
            <a:off x="2773440" y="486900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Arial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4643280" y="486900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Verdana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5221440" y="4869000"/>
            <a:ext cx="64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Verdana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5905080" y="4869000"/>
            <a:ext cx="5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cc"/>
                </a:solidFill>
                <a:latin typeface="Verdana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5"/>
          <p:cNvSpPr/>
          <p:nvPr/>
        </p:nvSpPr>
        <p:spPr>
          <a:xfrm>
            <a:off x="6566040" y="486900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cc"/>
                </a:solidFill>
                <a:latin typeface="Verdana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7142400" y="486900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cc"/>
                </a:solidFill>
                <a:latin typeface="Verdana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5"/>
          <p:cNvSpPr/>
          <p:nvPr/>
        </p:nvSpPr>
        <p:spPr>
          <a:xfrm>
            <a:off x="7718760" y="486900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cc"/>
                </a:solidFill>
                <a:latin typeface="Verdana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8280000" y="4869000"/>
            <a:ext cx="5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cc"/>
                </a:solidFill>
                <a:latin typeface="Verdana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Заголовок 2"/>
          <p:cNvSpPr/>
          <p:nvPr/>
        </p:nvSpPr>
        <p:spPr>
          <a:xfrm>
            <a:off x="468360" y="0"/>
            <a:ext cx="86756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Непозиционная система счис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611280" y="907920"/>
            <a:ext cx="828180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стема счисления называется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непозиционно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если количественный эквивалент (количественное значение) цифры в числе не зависит от её положения в записи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0" descr=""/>
          <p:cNvPicPr/>
          <p:nvPr/>
        </p:nvPicPr>
        <p:blipFill>
          <a:blip r:embed="rId2"/>
          <a:stretch/>
        </p:blipFill>
        <p:spPr>
          <a:xfrm>
            <a:off x="5940360" y="2205000"/>
            <a:ext cx="2340000" cy="1922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7"/>
          <p:cNvSpPr/>
          <p:nvPr/>
        </p:nvSpPr>
        <p:spPr>
          <a:xfrm>
            <a:off x="468360" y="4581360"/>
            <a:ext cx="8424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горитмически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исла получаются путём сложения и вычитани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узлов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чисел с учётом следующего прави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ый меньший знак, поставленный справа от большего, прибавляется к его значению, а каждый меньший знак, поставленный слева от большего, вычитается из не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000"/>
                            </p:stCondLst>
                            <p:childTnLst>
                              <p:par>
                                <p:cTn id="3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8"/>
          <p:cNvSpPr/>
          <p:nvPr/>
        </p:nvSpPr>
        <p:spPr>
          <a:xfrm>
            <a:off x="395280" y="1557360"/>
            <a:ext cx="8497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стема счисления называе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озиционно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если количественный эквивалент цифры в числе зависит от её положения в записи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ание позиционной системы счисления равно количеству цифр, составляющих её алфав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95280" y="3645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фавит десятичной системы составляют цифры 0, 1, 2, 3, 4, 5, 6, 7, 8, 9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оловок 2"/>
          <p:cNvSpPr/>
          <p:nvPr/>
        </p:nvSpPr>
        <p:spPr>
          <a:xfrm>
            <a:off x="46836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зиционная система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ind2"/>
          <p:cNvPicPr/>
          <p:nvPr/>
        </p:nvPicPr>
        <p:blipFill>
          <a:blip r:embed="rId2"/>
          <a:stretch/>
        </p:blipFill>
        <p:spPr>
          <a:xfrm>
            <a:off x="7889760" y="3860640"/>
            <a:ext cx="1254240" cy="2598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3780000" y="3284640"/>
            <a:ext cx="4322520" cy="716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Стенд - будда"/>
          <p:cNvPicPr/>
          <p:nvPr/>
        </p:nvPicPr>
        <p:blipFill>
          <a:blip r:embed="rId4"/>
          <a:stretch/>
        </p:blipFill>
        <p:spPr>
          <a:xfrm>
            <a:off x="611280" y="2060640"/>
            <a:ext cx="2168280" cy="439272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8" name="Rectangle 6"/>
          <p:cNvSpPr/>
          <p:nvPr/>
        </p:nvSpPr>
        <p:spPr>
          <a:xfrm>
            <a:off x="539640" y="98100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фры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23456789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ожились в Индии около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00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. н. 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635280" y="2276640"/>
            <a:ext cx="5184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рабы стали пользоваться подобной нумерацией около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00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. н. 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987640" y="4437000"/>
            <a:ext cx="4681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рно в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200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. н. э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у нумерацию начали применять в Европ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Заголовок 2"/>
          <p:cNvSpPr/>
          <p:nvPr/>
        </p:nvSpPr>
        <p:spPr>
          <a:xfrm>
            <a:off x="468360" y="189000"/>
            <a:ext cx="8362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есятичная система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0"/>
          <p:cNvSpPr/>
          <p:nvPr/>
        </p:nvSpPr>
        <p:spPr>
          <a:xfrm>
            <a:off x="468360" y="1484280"/>
            <a:ext cx="867564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озиционной системе счисления с основанием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любое число может быть представлено в вид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q =±(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…+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…+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–m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дес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— числ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основание системы счисл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цифры, принадлежащие алфавиту данной системы счисл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количество целых разрядов чис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количество дробных разрядов чис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«вес»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го разря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ая запись числа называ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вёрнутой формой запис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Заголовок 2"/>
          <p:cNvSpPr/>
          <p:nvPr/>
        </p:nvSpPr>
        <p:spPr>
          <a:xfrm>
            <a:off x="46836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сновная форму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6-21T05:36:48Z</dcterms:modified>
  <cp:revision>75</cp:revision>
  <dc:subject/>
  <dc:title>Презентация PowerPoint</dc:title>
</cp:coreProperties>
</file>