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5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19.png" ContentType="image/png"/>
  <Override PartName="/ppt/media/image22.wmf" ContentType="image/x-wmf"/>
  <Override PartName="/ppt/media/image21.wmf" ContentType="image/x-wmf"/>
  <Override PartName="/ppt/media/image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202-AD7F-4DCE-B0B6-5612F9DE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67C-8938-41CA-886E-D7B4763D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124-8370-4069-A2C9-E2543B54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4A4-33DD-418C-9156-B08481B4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E14-5876-436E-A11C-9F1EF1B6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006-78FA-45F7-8C33-ED150564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D1F-719C-4E87-BA5A-9F540DF5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CAD-8294-4998-BFEA-EF695549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740-8D96-4835-AEA4-76F5818D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E50-FDD9-4FDE-A2DD-1F19B111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4A0-14E9-461A-88DB-B4C9BB3D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9AB-ACD6-4BF5-AB03-E8BEADD5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C42C-263C-41A9-AB92-FA409D51E2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07e215ef-cd48-450d-8cf4-f5777cd832b2/?interface=catalog" TargetMode="External"/><Relationship Id="rId3" Type="http://schemas.openxmlformats.org/officeDocument/2006/relationships/hyperlink" Target="http://magsveta.ru/content/5-payment" TargetMode="External"/><Relationship Id="rId4" Type="http://schemas.openxmlformats.org/officeDocument/2006/relationships/hyperlink" Target="http://luntiki.ru/uploads/images/6/b/4/e/86/bc72e83c37.jpg" TargetMode="External"/><Relationship Id="rId5" Type="http://schemas.openxmlformats.org/officeDocument/2006/relationships/hyperlink" Target="http://dic.academic.ru/pictures/enc_colier/ph08781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Ы  И ИСПОЛН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484360" y="692280"/>
            <a:ext cx="3962520" cy="54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58880" y="909720"/>
            <a:ext cx="172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755640" y="907920"/>
            <a:ext cx="0" cy="460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4859280" y="1413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решения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ён на отдельны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4859280" y="234936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 состои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, входящих в 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4859280" y="328464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по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значн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4859280" y="4221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полу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ого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4859280" y="5157720"/>
            <a:ext cx="4103640" cy="935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 с различными исход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4138560" y="1701720"/>
            <a:ext cx="504720" cy="71640"/>
          </a:xfrm>
          <a:prstGeom prst="rightArrow">
            <a:avLst>
              <a:gd name="adj1" fmla="val 50000"/>
              <a:gd name="adj2" fmla="val 23630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4138560" y="270972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4138560" y="3645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4"/>
          <p:cNvSpPr/>
          <p:nvPr/>
        </p:nvSpPr>
        <p:spPr>
          <a:xfrm>
            <a:off x="4138560" y="4653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5"/>
          <p:cNvSpPr/>
          <p:nvPr/>
        </p:nvSpPr>
        <p:spPr>
          <a:xfrm>
            <a:off x="4138560" y="551808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>
            <a:hlinkClick r:id="rId2" action="ppaction://hlinksldjump"/>
          </p:cNvPr>
          <p:cNvSpPr/>
          <p:nvPr/>
        </p:nvSpPr>
        <p:spPr>
          <a:xfrm>
            <a:off x="1295280" y="1457280"/>
            <a:ext cx="28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>
            <a:hlinkClick r:id="rId3" action="ppaction://hlinksldjump"/>
          </p:cNvPr>
          <p:cNvSpPr/>
          <p:nvPr/>
        </p:nvSpPr>
        <p:spPr>
          <a:xfrm>
            <a:off x="1258920" y="24210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>
            <a:hlinkClick r:id="rId4" action="ppaction://hlinksldjump"/>
          </p:cNvPr>
          <p:cNvSpPr/>
          <p:nvPr/>
        </p:nvSpPr>
        <p:spPr>
          <a:xfrm>
            <a:off x="1258920" y="3284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5" action="ppaction://hlinksldjump"/>
          </p:cNvPr>
          <p:cNvSpPr/>
          <p:nvPr/>
        </p:nvSpPr>
        <p:spPr>
          <a:xfrm>
            <a:off x="1258920" y="4292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>
            <a:hlinkClick r:id="rId6" action="ppaction://hlinksldjump"/>
          </p:cNvPr>
          <p:cNvSpPr/>
          <p:nvPr/>
        </p:nvSpPr>
        <p:spPr>
          <a:xfrm>
            <a:off x="1262160" y="52722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755640" y="17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755640" y="27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755640" y="35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755640" y="45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755640" y="551808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6">
            <a:hlinkClick r:id="rId7" action="ppaction://hlinksldjump"/>
          </p:cNvPr>
          <p:cNvSpPr/>
          <p:nvPr/>
        </p:nvSpPr>
        <p:spPr>
          <a:xfrm>
            <a:off x="7812000" y="630864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3794"/>
                </a:moveTo>
                <a:lnTo>
                  <a:pt x="32978" y="10800"/>
                </a:lnTo>
                <a:lnTo>
                  <a:pt x="1896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9"/>
          <p:cNvSpPr/>
          <p:nvPr/>
        </p:nvSpPr>
        <p:spPr>
          <a:xfrm>
            <a:off x="468360" y="26028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 лат. discretus – разделенный, прерывистый) указывает, что любой алгоритм должен состоять из конкретных действий, следующих в определенном порядке. Образованная структура алгоритма оказывается дискретной: только выполнив одну команду, исполнитель сможет приступить к выполнению следующ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556000" y="364500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5076720" y="357336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>
            <a:off x="2124000" y="4005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3348000" y="2421000"/>
            <a:ext cx="151308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3276720" y="587700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3348000" y="3068640"/>
            <a:ext cx="14367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3348000" y="5300640"/>
            <a:ext cx="1436760" cy="36036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3348000" y="3716280"/>
            <a:ext cx="1440000" cy="57636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40328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536400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4788000" y="4005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212400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608472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4067280" y="2852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4067280" y="35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2"/>
          <p:cNvSpPr/>
          <p:nvPr/>
        </p:nvSpPr>
        <p:spPr>
          <a:xfrm>
            <a:off x="406728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>
            <a:off x="2124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60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5"/>
          <p:cNvSpPr/>
          <p:nvPr/>
        </p:nvSpPr>
        <p:spPr>
          <a:xfrm>
            <a:off x="4067280" y="501336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2124000" y="5013360"/>
            <a:ext cx="19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>
            <a:off x="4067280" y="50133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68360" y="26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я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состоит только из команд, входящих в систему команд исполнителя, т. е. из таких команд, которые исполнитель может воспринять и по которым может выполнить требуемые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4140360" y="17733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ошка «Мяс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067280" y="220500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1.5 л кв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 г картоф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кол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яй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 г ред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6443640" y="220500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огур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ь по вк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95280" y="436572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отварить до гот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удить, почист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басу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йца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ис тонко наре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цы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4716360" y="43657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ать картофель, колбасу, яйца, редис, огурц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лить, попер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ложить в тар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квасом, посыпать зелен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вать со смета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8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3841920" cy="24415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9"/>
          <p:cNvSpPr/>
          <p:nvPr/>
        </p:nvSpPr>
        <p:spPr>
          <a:xfrm>
            <a:off x="2340000" y="3860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цепт при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68360" y="26028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в алгоритме нет команд, смысл которых может быть истолкован исполнителем неоднозначно; недопустимы ситуации, когда после выполнения очередной команды исполнителю неясно, какую команду выполнять на следующем ша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411280" y="2205000"/>
            <a:ext cx="47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ехать до стади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916360" y="2924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68360" y="479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не уточняет, какое расстояние нужно пройти пря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468360" y="5229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ую сторону поверн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468360" y="5661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й автобус с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2916360" y="328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916360" y="357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2916360" y="3860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ь в авто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2916360" y="4221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ехать до остановки «Стади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2349360" cy="2755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http://www.rupark.com/jpg1464976727"/>
          <p:cNvPicPr/>
          <p:nvPr/>
        </p:nvPicPr>
        <p:blipFill>
          <a:blip r:embed="rId4"/>
          <a:stretch/>
        </p:blipFill>
        <p:spPr>
          <a:xfrm>
            <a:off x="4932360" y="5084640"/>
            <a:ext cx="1436760" cy="1544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7" descr=""/>
          <p:cNvPicPr/>
          <p:nvPr/>
        </p:nvPicPr>
        <p:blipFill>
          <a:blip r:embed="rId5"/>
          <a:stretch/>
        </p:blipFill>
        <p:spPr>
          <a:xfrm>
            <a:off x="5435640" y="2565360"/>
            <a:ext cx="3348000" cy="172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7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a09f"/>
                                      </p:to>
                                    </p:animClr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bcbb"/>
                                      </p:to>
                                    </p:animClr>
                                    <p:set>
                                      <p:cBhvr>
                                        <p:cTn id="5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5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8">
            <a:hlinkClick r:id="rId2" action="ppaction://hlinksldjump"/>
          </p:cNvPr>
          <p:cNvSpPr/>
          <p:nvPr/>
        </p:nvSpPr>
        <p:spPr>
          <a:xfrm>
            <a:off x="802800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68360" y="26028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получения результата после конечного, возможно, очень большого, числа шагов. При этом результатом считается не только обусловленный постановкой задачи ответ, но и вывод о невозможности продолжения по какой-либо причине решения данной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ая последовательность команд не соответствует свойству результативности. Что нужно измени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4572000" y="3070080"/>
            <a:ext cx="42480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 кни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не конец книги выполнять следующи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1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2 Перелистнуть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2556000" y="2492280"/>
            <a:ext cx="47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ение 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4572000" y="4869000"/>
            <a:ext cx="42480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3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4 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0" descr="http://img-fotki.yandex.ru/get/4406/cadi-1986.51a/0_802d8_53263e94_XL"/>
          <p:cNvPicPr/>
          <p:nvPr/>
        </p:nvPicPr>
        <p:blipFill>
          <a:blip r:embed="rId3"/>
          <a:stretch/>
        </p:blipFill>
        <p:spPr>
          <a:xfrm>
            <a:off x="395280" y="2492280"/>
            <a:ext cx="4006800" cy="329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8360" y="260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его применения для решения любой задачи из некоторого класса задач с различными исходными дан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1042920" y="148428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оритм вычисления корней квадратного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3564000" y="6165720"/>
            <a:ext cx="1512720" cy="43200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5508720" y="3860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4508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4356000" y="2349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3564000" y="191628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3270240" y="2492280"/>
            <a:ext cx="2165400" cy="43200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3635280" y="314172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6"/>
          <p:cNvSpPr/>
          <p:nvPr/>
        </p:nvSpPr>
        <p:spPr>
          <a:xfrm>
            <a:off x="3348000" y="3716280"/>
            <a:ext cx="2016000" cy="10080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ьше 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3419640" y="4869000"/>
            <a:ext cx="187308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ения кор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8"/>
          <p:cNvSpPr/>
          <p:nvPr/>
        </p:nvSpPr>
        <p:spPr>
          <a:xfrm>
            <a:off x="5940360" y="5516640"/>
            <a:ext cx="18003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орней 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9"/>
          <p:cNvSpPr/>
          <p:nvPr/>
        </p:nvSpPr>
        <p:spPr>
          <a:xfrm>
            <a:off x="3413160" y="5516640"/>
            <a:ext cx="18795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од кор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>
            <a:off x="5364000" y="422100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6877080" y="4221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4356000" y="609300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3"/>
          <p:cNvSpPr/>
          <p:nvPr/>
        </p:nvSpPr>
        <p:spPr>
          <a:xfrm>
            <a:off x="6877080" y="59500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4"/>
          <p:cNvSpPr/>
          <p:nvPr/>
        </p:nvSpPr>
        <p:spPr>
          <a:xfrm>
            <a:off x="4356000" y="29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5"/>
          <p:cNvSpPr/>
          <p:nvPr/>
        </p:nvSpPr>
        <p:spPr>
          <a:xfrm>
            <a:off x="4356000" y="357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6"/>
          <p:cNvSpPr/>
          <p:nvPr/>
        </p:nvSpPr>
        <p:spPr>
          <a:xfrm>
            <a:off x="4356000" y="47242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7"/>
          <p:cNvSpPr/>
          <p:nvPr/>
        </p:nvSpPr>
        <p:spPr>
          <a:xfrm>
            <a:off x="435600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8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3" descr="http://900igr.net/datai/algebra/Koren-uravnenija/0011-016-Naprimer-reshaju-kvadratnoe-uravnenie.png"/>
          <p:cNvPicPr/>
          <p:nvPr/>
        </p:nvPicPr>
        <p:blipFill>
          <a:blip r:embed="rId3"/>
          <a:stretch/>
        </p:blipFill>
        <p:spPr>
          <a:xfrm>
            <a:off x="755640" y="3429000"/>
            <a:ext cx="2087640" cy="292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4" descr=""/>
          <p:cNvPicPr/>
          <p:nvPr/>
        </p:nvPicPr>
        <p:blipFill>
          <a:blip r:embed="rId4"/>
          <a:stretch/>
        </p:blipFill>
        <p:spPr>
          <a:xfrm>
            <a:off x="5651640" y="1773360"/>
            <a:ext cx="3128760" cy="215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7"/>
              <p:cNvSpPr txBox="1"/>
              <p:nvPr/>
            </p:nvSpPr>
            <p:spPr>
              <a:xfrm>
                <a:off x="539640" y="2133720"/>
                <a:ext cx="2448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3" name="Picture 49" descr="signobalanca"/>
          <p:cNvPicPr/>
          <p:nvPr/>
        </p:nvPicPr>
        <p:blipFill>
          <a:blip r:embed="rId5"/>
          <a:stretch/>
        </p:blipFill>
        <p:spPr>
          <a:xfrm>
            <a:off x="5508720" y="4437000"/>
            <a:ext cx="841320" cy="131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0" descr="WHATNOW"/>
          <p:cNvPicPr/>
          <p:nvPr/>
        </p:nvPicPr>
        <p:blipFill>
          <a:blip r:embed="rId6"/>
          <a:stretch/>
        </p:blipFill>
        <p:spPr>
          <a:xfrm>
            <a:off x="7667640" y="3933720"/>
            <a:ext cx="126360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60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70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971640" y="1197000"/>
            <a:ext cx="72007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то Эратосф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611280" y="2060640"/>
            <a:ext cx="82818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енная последовательность действий является алгоритмом, так как она удовлетворяет свойств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оцесс нахождения простых чисел разбит на шаг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понятна ученику 9 класса, выполняющему этот алгорит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трактуется и выполняется исполнителем однозначно; имеются указания об очерёдности выполнения коман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через некоторое число шагов достигается результа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оследовательность действий применима для любого натурально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то Эратосф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60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539640" y="105264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зможности автоматизации деятель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1268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е задачи по готовому алгоритму требует от исполнителя только строгого следования заданным предписан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468360" y="2492280"/>
            <a:ext cx="8424720" cy="76428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го исполнения алгоритма обеспечивает возможность автоматизации деятельности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1908000" y="364500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решения задачи предста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иде последовательности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1908000" y="47242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ся машина, способная выпол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операции в указанной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1908000" y="57340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освобождается от рутинной раб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которой поручается автом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643280" y="328464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716360" y="436572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716360" y="5444280"/>
            <a:ext cx="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4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http://dic.academic.ru/pictures/enc_colier/ph08781.jpg"/>
          <p:cNvPicPr/>
          <p:nvPr/>
        </p:nvPicPr>
        <p:blipFill>
          <a:blip r:embed="rId2"/>
          <a:stretch/>
        </p:blipFill>
        <p:spPr>
          <a:xfrm>
            <a:off x="900000" y="620640"/>
            <a:ext cx="6985080" cy="48895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539640" y="551664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оботизированная линия сборки, управляемая компьютером и запрограммированная на производство сварных швов на корпусе каждого автомоби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Автоматизация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http://un-vrn.ru/images/img/r3.jpg"/>
          <p:cNvPicPr/>
          <p:nvPr/>
        </p:nvPicPr>
        <p:blipFill>
          <a:blip r:embed="rId3"/>
          <a:stretch/>
        </p:blipFill>
        <p:spPr>
          <a:xfrm>
            <a:off x="1403280" y="836640"/>
            <a:ext cx="6553440" cy="4303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9"/>
          <p:cNvSpPr/>
          <p:nvPr/>
        </p:nvSpPr>
        <p:spPr>
          <a:xfrm>
            <a:off x="684360" y="5229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втоматизация гости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фессиональная система «UCS-Shelter». Автоматизированы такие процессы как бронирование, поселение, выселение, работа со счетами г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http://www.chopper-bike.ru/images_for_articles/1/334.jpg"/>
          <p:cNvPicPr/>
          <p:nvPr/>
        </p:nvPicPr>
        <p:blipFill>
          <a:blip r:embed="rId4"/>
          <a:stretch/>
        </p:blipFill>
        <p:spPr>
          <a:xfrm>
            <a:off x="1547640" y="620640"/>
            <a:ext cx="6266160" cy="46990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1"/>
          <p:cNvSpPr/>
          <p:nvPr/>
        </p:nvSpPr>
        <p:spPr>
          <a:xfrm>
            <a:off x="324000" y="5229360"/>
            <a:ext cx="86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торгов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услуг в сфере торговли делает скорость работы персонала значительно выше, поднимает уровень обслуживания покупателей, позволяет вести учет това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http://img12.nnm.ru/2/f/c/9/4/447395d53243cf8c6bf158cac12.jpg"/>
          <p:cNvPicPr/>
          <p:nvPr/>
        </p:nvPicPr>
        <p:blipFill>
          <a:blip r:embed="rId5"/>
          <a:stretch/>
        </p:blipFill>
        <p:spPr>
          <a:xfrm>
            <a:off x="1332000" y="692280"/>
            <a:ext cx="6769080" cy="4884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3"/>
          <p:cNvSpPr/>
          <p:nvPr/>
        </p:nvSpPr>
        <p:spPr>
          <a:xfrm>
            <a:off x="1835280" y="5877000"/>
            <a:ext cx="60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898560"/>
            <a:ext cx="741672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искре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ня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ё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ссов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стики исполни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уг решаемы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р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жим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е исполнение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4"/>
          <p:cNvSpPr/>
          <p:nvPr/>
        </p:nvSpPr>
        <p:spPr>
          <a:xfrm>
            <a:off x="395280" y="907920"/>
            <a:ext cx="8497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ый исполнитель одну и ту же команду всегда выполняет одинаково. Для каждого формального исполнителя можно указать: круг решаемых задач, среду, систему команд и режим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дискретности, понятности, определённости, результативности и массов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исполнителя действовать формально обеспечивает возможность автоматизации деятельности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61"/>
          <p:cNvSpPr/>
          <p:nvPr/>
        </p:nvSpPr>
        <p:spPr>
          <a:xfrm>
            <a:off x="53964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алгоритм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62"/>
          <p:cNvSpPr/>
          <p:nvPr/>
        </p:nvSpPr>
        <p:spPr>
          <a:xfrm>
            <a:off x="395280" y="1484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те синонимы к слову «предписа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63"/>
          <p:cNvSpPr/>
          <p:nvPr/>
        </p:nvSpPr>
        <p:spPr>
          <a:xfrm>
            <a:off x="468360" y="1484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алгоритмов, изучаемых вам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64"/>
          <p:cNvSpPr/>
          <p:nvPr/>
        </p:nvSpPr>
        <p:spPr>
          <a:xfrm>
            <a:off x="468360" y="1268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может быть исполнителем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65"/>
          <p:cNvSpPr/>
          <p:nvPr/>
        </p:nvSpPr>
        <p:spPr>
          <a:xfrm>
            <a:off x="468360" y="1484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, когда человек выступает в роли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66"/>
          <p:cNvSpPr/>
          <p:nvPr/>
        </p:nvSpPr>
        <p:spPr>
          <a:xfrm>
            <a:off x="468360" y="1484280"/>
            <a:ext cx="835344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должны быть у робота, выполняющего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кассира в мага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вор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хран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67"/>
          <p:cNvSpPr/>
          <p:nvPr/>
        </p:nvSpPr>
        <p:spPr>
          <a:xfrm>
            <a:off x="53964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чего зависит круг решаемых задач исполн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мпьютер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68"/>
          <p:cNvSpPr/>
          <p:nvPr/>
        </p:nvSpPr>
        <p:spPr>
          <a:xfrm>
            <a:off x="539640" y="1341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те в качестве исполнителя текстовый процессор, имеющийся на вашем компьютере. Охарактеризуйте круг решаемых этим исполнителем задач и его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69"/>
          <p:cNvSpPr/>
          <p:nvPr/>
        </p:nvSpPr>
        <p:spPr>
          <a:xfrm>
            <a:off x="468360" y="1628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анда, система команд исполн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70"/>
          <p:cNvSpPr/>
          <p:nvPr/>
        </p:nvSpPr>
        <p:spPr>
          <a:xfrm>
            <a:off x="46836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свойства алго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71"/>
          <p:cNvSpPr/>
          <p:nvPr/>
        </p:nvSpPr>
        <p:spPr>
          <a:xfrm>
            <a:off x="539640" y="1341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чему может привести отсутствие какого-либо свойства у алгоритм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72"/>
          <p:cNvSpPr/>
          <p:nvPr/>
        </p:nvSpPr>
        <p:spPr>
          <a:xfrm>
            <a:off x="46836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важность возможности формального ис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3"/>
          <p:cNvSpPr/>
          <p:nvPr/>
        </p:nvSpPr>
        <p:spPr>
          <a:xfrm>
            <a:off x="468360" y="1628640"/>
            <a:ext cx="83534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чисел строится по следующему  алгорит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два числа последовательности принимаются равными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следующее число последовательности принимается равным сумме двух предыдущи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10 первых членов этой 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4"/>
          <p:cNvSpPr/>
          <p:nvPr/>
        </p:nvSpPr>
        <p:spPr>
          <a:xfrm>
            <a:off x="468360" y="836640"/>
            <a:ext cx="83534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оторый алгоритм получает из одной цепочки символов новую цепочку следующим образ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чала записывается исходная цепочка символов, после нее записывается исходная цепочка символов в обратном порядке, затем записывается буква, следующая в русском алфавите за той буквой, которая в исходной цепочке стояла на последнем месте. Если в исходной цепочке на последнем месте стоит буква Я, то в качестве следующ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квы записывается буква 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вшаяся цепочка является результатом работы алгоритма. Например, если исходная цепочка символов была ДОМ, то результатом работы алгоритма будет цепочка ДОММОД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а цепочка символов КОМ. Сколько букв О будет в цепочке символов, которая получится, если применить алгоритм к данной цепочке, а затем ещё раз применить алгоритм к результату его работ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75"/>
          <p:cNvSpPr/>
          <p:nvPr/>
        </p:nvSpPr>
        <p:spPr>
          <a:xfrm>
            <a:off x="395280" y="907920"/>
            <a:ext cx="849780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Черепашка перемещается на экране компьютера, оставляя след в виде ли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Черепашки состоит из двух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ёд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передвижение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гов в направлении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направлении, куда развёрнуты её голова и корп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целое число) - вызывает изменение направления движения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дусов по часовой стр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удет результатом исполнения Черепашкой алгорит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45 Вперёд 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76"/>
          <p:cNvSpPr/>
          <p:nvPr/>
        </p:nvSpPr>
        <p:spPr>
          <a:xfrm>
            <a:off x="468360" y="907920"/>
            <a:ext cx="83516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Вычислитель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вычти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умножь н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из них уменьшает число на 1, втор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 число в 3 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писи алгоритмов для краткости указываются лишь номера кома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для исполнителя Вычислитель, содержащий не более 5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лучения из числа 3 числа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олучения из числа 1 числа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77"/>
          <p:cNvSpPr/>
          <p:nvPr/>
        </p:nvSpPr>
        <p:spPr>
          <a:xfrm>
            <a:off x="539640" y="907920"/>
            <a:ext cx="835344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Конструктор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приписат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разделить н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ервой из них к числу приписывается справа 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торой число делится н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удет преобразовано число 8, если исполнитель выполнит алгоритм 2221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в системе команд этого исполнителя, по которому число 1 будет преобразовано в число 16 (в алгоритме должно быть не более 5 коман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78"/>
          <p:cNvSpPr/>
          <p:nvPr/>
        </p:nvSpPr>
        <p:spPr>
          <a:xfrm>
            <a:off x="468360" y="981000"/>
            <a:ext cx="835164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нитель Робот действует на клетчатом поле, между соседними клетками которого могут стоять стены. Робот передвигается по клеткам поля и может выполнять следующие команды, которым присвоены  номер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 - Ввер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 - Вни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 - Впра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 - Вле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выполнении каждой такой команды Робот перемещается в соседнюю клетку в указанном направлении. Если же в этом направлении между клетками стоит стена, то Робот разруш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какой клетке должен находиться исполнитель Робот, чтобы после выполнения алгоритма 3241 в неё же и вернуться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564000" y="2492280"/>
          <a:ext cx="1944720" cy="15843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5640"/>
                <a:gridCol w="4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825640" y="3495600"/>
            <a:ext cx="288000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 flipH="1" flipV="1">
            <a:off x="2286000" y="371592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789280" y="2637000"/>
            <a:ext cx="352908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2286000" y="299556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789280" y="4124160"/>
            <a:ext cx="2879640" cy="424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2789280" y="46879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789280" y="53467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2789280" y="5959440"/>
            <a:ext cx="287964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 flipV="1">
            <a:off x="2286000" y="2995200"/>
            <a:ext cx="1440" cy="315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2286000" y="4265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 flipH="1" flipV="1">
            <a:off x="2286000" y="48308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 flipH="1" flipV="1">
            <a:off x="2286000" y="5489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H="1" flipV="1">
            <a:off x="2286000" y="614628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539640" y="765000"/>
            <a:ext cx="8353440" cy="16185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скретности, понятности, определённости, результативности   и   массов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.1 (стр. 100 - 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стр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468360" y="1197000"/>
            <a:ext cx="8424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07e215ef-cd48-450d-8cf4-f5777cd832b2/?interface=catalo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решето Эратосф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magsveta.ru/content/5-payme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- оплата через терми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luntiki.ru/uploads/images/6/b/4/e/86/bc72e83c37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апы рисования лош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iles.school-collection.edu.ru/dlrstore/58e9a0c3-11df-4c94-a5eb-b0a7b359ea35/9_32.swf - исполнители алгорит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dic.academic.ru/pictures/enc_colier/ph0878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оботизированная линия сбо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un-vrn.ru/images/img/r3.jpg - автоматизация гостин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chopper-bike.ru/images_for_articles/1/334.jpg - автоматизация торгов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g12.nnm.ru/2/f/c/9/4/447395d53243cf8c6bf158cac12.jpg - автоматизация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g-fotki.yandex.ru/get/4406/cadi-1986.51a/0_802d8_53263e94_XL - чтение кни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sports.ru/images/object_53.1185365463.jpg  - стад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rupark.com/jpg1464976727 - футб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900igr.net/datai/algebra/Koren-uravnenija/0011-016-Naprimer-reshaju-kvadratnoe-uravnenie.png  - решение квадратного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edcommunity.ru/upload/resize_cache/iblock/b15/720_521_1/cwqru%20mfvdus5.jpg – квадратное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2195640" y="69228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лата через термин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611280" y="587700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совершения оплаты, необходимо выбрать нужную опцию на экране терми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6" descr=""/>
          <p:cNvPicPr/>
          <p:nvPr/>
        </p:nvPicPr>
        <p:blipFill>
          <a:blip r:embed="rId2"/>
          <a:stretch/>
        </p:blipFill>
        <p:spPr>
          <a:xfrm>
            <a:off x="539640" y="1119240"/>
            <a:ext cx="842508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8"/>
          <p:cNvSpPr/>
          <p:nvPr/>
        </p:nvSpPr>
        <p:spPr>
          <a:xfrm>
            <a:off x="539640" y="6021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рать пункт «Оплатить услуги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0"/>
          <p:cNvSpPr/>
          <p:nvPr/>
        </p:nvSpPr>
        <p:spPr>
          <a:xfrm>
            <a:off x="468360" y="5877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омер счё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экране появится окно выбора суммы опла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1"/>
          <p:cNvSpPr/>
          <p:nvPr/>
        </p:nvSpPr>
        <p:spPr>
          <a:xfrm>
            <a:off x="468360" y="58770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в окно «сумма оплаты» число, указанное на квитан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сё правильно, то нажать кнопку «дале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2"/>
          <p:cNvSpPr/>
          <p:nvPr/>
        </p:nvSpPr>
        <p:spPr>
          <a:xfrm>
            <a:off x="395280" y="5913360"/>
            <a:ext cx="83534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экране появится окно «сумма оплат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осить купюры с купюроприемник, пока не получится число, равное введенной ранее в окне выбора суммы опл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3"/>
          <p:cNvSpPr/>
          <p:nvPr/>
        </p:nvSpPr>
        <p:spPr>
          <a:xfrm>
            <a:off x="539640" y="6165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жать кнопку «оплатить» и дождаться распечатки ч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8"/>
          <p:cNvSpPr/>
          <p:nvPr/>
        </p:nvSpPr>
        <p:spPr>
          <a:xfrm>
            <a:off x="2843280" y="83664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исовать лоша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1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2047680" cy="1609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"/>
          <p:cNvPicPr/>
          <p:nvPr/>
        </p:nvPicPr>
        <p:blipFill>
          <a:blip r:embed="rId3"/>
          <a:stretch/>
        </p:blipFill>
        <p:spPr>
          <a:xfrm>
            <a:off x="6084720" y="1557360"/>
            <a:ext cx="261972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"/>
          <p:cNvPicPr/>
          <p:nvPr/>
        </p:nvPicPr>
        <p:blipFill>
          <a:blip r:embed="rId4"/>
          <a:stretch/>
        </p:blipFill>
        <p:spPr>
          <a:xfrm>
            <a:off x="1763640" y="3860640"/>
            <a:ext cx="256212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2590560" cy="234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2" descr=""/>
          <p:cNvPicPr/>
          <p:nvPr/>
        </p:nvPicPr>
        <p:blipFill>
          <a:blip r:embed="rId6"/>
          <a:stretch/>
        </p:blipFill>
        <p:spPr>
          <a:xfrm>
            <a:off x="3276720" y="1700280"/>
            <a:ext cx="2619360" cy="176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9"/>
          <p:cNvSpPr/>
          <p:nvPr/>
        </p:nvSpPr>
        <p:spPr>
          <a:xfrm>
            <a:off x="539640" y="5805360"/>
            <a:ext cx="237492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"/>
          <p:cNvSpPr/>
          <p:nvPr/>
        </p:nvSpPr>
        <p:spPr>
          <a:xfrm>
            <a:off x="4067280" y="5877000"/>
            <a:ext cx="1368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1"/>
          <p:cNvSpPr/>
          <p:nvPr/>
        </p:nvSpPr>
        <p:spPr>
          <a:xfrm>
            <a:off x="6516720" y="5877000"/>
            <a:ext cx="237492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2"/>
          <p:cNvSpPr/>
          <p:nvPr/>
        </p:nvSpPr>
        <p:spPr>
          <a:xfrm>
            <a:off x="298764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550872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908000" y="51577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схема работы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403280" y="2708280"/>
            <a:ext cx="7056360" cy="216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ть два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жить задан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делить сумму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1476360" y="907920"/>
            <a:ext cx="676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ельный 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403280" y="1557360"/>
            <a:ext cx="7056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еднее арифметическое дву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68360" y="765000"/>
            <a:ext cx="842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 - это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 flipH="1" flipV="1">
            <a:off x="4893840" y="2393640"/>
            <a:ext cx="86508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80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ормальны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04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форм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V="1">
            <a:off x="4032360" y="2393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564000" y="1844640"/>
            <a:ext cx="280836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нитель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800360" y="340200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 решаем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V="1">
            <a:off x="1476360" y="299700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1476360" y="299736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1476360" y="3645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835280" y="407664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а исполн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835280" y="537372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ы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1476360" y="429264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476360" y="5661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5292720" y="472428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редствен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5292720" y="5372280"/>
            <a:ext cx="3600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5292720" y="392580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, обстановка,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4859280" y="4071960"/>
            <a:ext cx="426960" cy="2937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4859280" y="5013000"/>
            <a:ext cx="43344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859280" y="5661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042920" y="6165720"/>
            <a:ext cx="5184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полнители алгоритм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54"/>
          <p:cNvGraphicFramePr/>
          <p:nvPr/>
        </p:nvGraphicFramePr>
        <p:xfrm>
          <a:off x="5435640" y="6165720"/>
          <a:ext cx="720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5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6165720"/>
                    <a:ext cx="720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6"/>
          <p:cNvSpPr/>
          <p:nvPr/>
        </p:nvSpPr>
        <p:spPr>
          <a:xfrm>
            <a:off x="1835280" y="4724280"/>
            <a:ext cx="2987640" cy="43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476360" y="494172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404200" cy="450720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Ро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951680" cy="496224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Кузне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1258920" y="1844640"/>
            <a:ext cx="338436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объект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азанных в зад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692360" y="12682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120760" y="981000"/>
            <a:ext cx="49723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алгоритм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258920" y="3213000"/>
            <a:ext cx="33843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свой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ктов,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ействий с объек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1258920" y="4797360"/>
            <a:ext cx="3384360" cy="8650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исход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х и результ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64000" y="2708280"/>
            <a:ext cx="3384720" cy="107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5435640" y="4292640"/>
            <a:ext cx="3384360" cy="1511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с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анд С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5003640" y="2205000"/>
            <a:ext cx="2016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V="1">
            <a:off x="5003640" y="2205000"/>
            <a:ext cx="0" cy="388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2916360" y="27075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692360" y="126828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2843280" y="436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2916360" y="5661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916360" y="6093000"/>
            <a:ext cx="20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7020000" y="2205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093080" y="3788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01480" y="6165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– модель деятельности исполнителя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работк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1:56:10Z</dcterms:modified>
  <cp:revision>107</cp:revision>
  <dc:subject/>
  <dc:title>Презентация PowerPoint</dc:title>
</cp:coreProperties>
</file>