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0.wmf" ContentType="image/x-wmf"/>
  <Override PartName="/ppt/media/image25.jpeg" ContentType="image/jpeg"/>
  <Override PartName="/ppt/media/image6.png" ContentType="image/png"/>
  <Override PartName="/ppt/media/image4.png" ContentType="image/png"/>
  <Override PartName="/ppt/media/image26.jpeg" ContentType="image/jpeg"/>
  <Override PartName="/ppt/media/image19.png" ContentType="image/png"/>
  <Override PartName="/ppt/media/image22.wmf" ContentType="image/x-wmf"/>
  <Override PartName="/ppt/media/image21.wmf" ContentType="image/x-wmf"/>
  <Override PartName="/ppt/media/image5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0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272C-1490-4123-A4FB-A01558A0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8D4B-5701-43F9-889E-E12842FD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381-8BEE-4C40-A5D3-5268D57F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2098-C5AA-4218-9DB1-5E08B06F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547A-6857-4243-88ED-1C6319B6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6459-D4A9-4C9F-8AD3-CF4E4C69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9856-2E26-4E3E-8F09-3B28B53F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32B6-4640-4380-8BC7-B9D3DDBC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8EBB-FC5C-4FC0-B539-3DE3214E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9C65-2C69-4A73-867B-3149DBA2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B257-F5AB-4C84-8BA3-3EA1198F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4E4A-FA33-41BB-B1F2-A04CE02B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DA9C-A5E2-444C-8298-1B9AB76D88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0.xml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gi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chool-collection.edu.ru/catalog/res/07e215ef-cd48-450d-8cf4-f5777cd832b2/?interface=catalog" TargetMode="External"/><Relationship Id="rId3" Type="http://schemas.openxmlformats.org/officeDocument/2006/relationships/hyperlink" Target="http://magsveta.ru/content/5-payment" TargetMode="External"/><Relationship Id="rId4" Type="http://schemas.openxmlformats.org/officeDocument/2006/relationships/hyperlink" Target="http://luntiki.ru/uploads/images/6/b/4/e/86/bc72e83c37.jpg" TargetMode="External"/><Relationship Id="rId5" Type="http://schemas.openxmlformats.org/officeDocument/2006/relationships/hyperlink" Target="http://dic.academic.ru/pictures/enc_colier/ph08781.jpg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ЛГОРИТМЫ  И ИСПОЛН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Ы АЛГОРИТМ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Свойства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484360" y="692280"/>
            <a:ext cx="3962520" cy="549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йства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758880" y="909720"/>
            <a:ext cx="172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V="1">
            <a:off x="755640" y="907920"/>
            <a:ext cx="0" cy="4608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4859280" y="1413000"/>
            <a:ext cx="4103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ь решения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ён на отдельные ш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7"/>
          <p:cNvSpPr/>
          <p:nvPr/>
        </p:nvSpPr>
        <p:spPr>
          <a:xfrm>
            <a:off x="4859280" y="2349360"/>
            <a:ext cx="4103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 состоит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, входящих в 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8"/>
          <p:cNvSpPr/>
          <p:nvPr/>
        </p:nvSpPr>
        <p:spPr>
          <a:xfrm>
            <a:off x="4859280" y="3284640"/>
            <a:ext cx="4103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ы поним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значн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9"/>
          <p:cNvSpPr/>
          <p:nvPr/>
        </p:nvSpPr>
        <p:spPr>
          <a:xfrm>
            <a:off x="4859280" y="4221000"/>
            <a:ext cx="4103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ся получ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емого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0"/>
          <p:cNvSpPr/>
          <p:nvPr/>
        </p:nvSpPr>
        <p:spPr>
          <a:xfrm>
            <a:off x="4859280" y="5157720"/>
            <a:ext cx="4103640" cy="9352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ся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 с различными исход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>
            <a:off x="4138560" y="1701720"/>
            <a:ext cx="504720" cy="71640"/>
          </a:xfrm>
          <a:prstGeom prst="rightArrow">
            <a:avLst>
              <a:gd name="adj1" fmla="val 50000"/>
              <a:gd name="adj2" fmla="val 236308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4138560" y="2709720"/>
            <a:ext cx="504720" cy="73080"/>
          </a:xfrm>
          <a:prstGeom prst="rightArrow">
            <a:avLst>
              <a:gd name="adj1" fmla="val 50000"/>
              <a:gd name="adj2" fmla="val 23165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3"/>
          <p:cNvSpPr/>
          <p:nvPr/>
        </p:nvSpPr>
        <p:spPr>
          <a:xfrm>
            <a:off x="4138560" y="3645000"/>
            <a:ext cx="504720" cy="73080"/>
          </a:xfrm>
          <a:prstGeom prst="rightArrow">
            <a:avLst>
              <a:gd name="adj1" fmla="val 50000"/>
              <a:gd name="adj2" fmla="val 23165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4"/>
          <p:cNvSpPr/>
          <p:nvPr/>
        </p:nvSpPr>
        <p:spPr>
          <a:xfrm>
            <a:off x="4138560" y="4653000"/>
            <a:ext cx="504720" cy="73080"/>
          </a:xfrm>
          <a:prstGeom prst="rightArrow">
            <a:avLst>
              <a:gd name="adj1" fmla="val 50000"/>
              <a:gd name="adj2" fmla="val 23165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5"/>
          <p:cNvSpPr/>
          <p:nvPr/>
        </p:nvSpPr>
        <p:spPr>
          <a:xfrm>
            <a:off x="4138560" y="5518080"/>
            <a:ext cx="504720" cy="73080"/>
          </a:xfrm>
          <a:prstGeom prst="rightArrow">
            <a:avLst>
              <a:gd name="adj1" fmla="val 50000"/>
              <a:gd name="adj2" fmla="val 23165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>
            <a:hlinkClick r:id="rId2" action="ppaction://hlinksldjump"/>
          </p:cNvPr>
          <p:cNvSpPr/>
          <p:nvPr/>
        </p:nvSpPr>
        <p:spPr>
          <a:xfrm>
            <a:off x="1295280" y="1457280"/>
            <a:ext cx="288000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искретн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>
            <a:hlinkClick r:id="rId3" action="ppaction://hlinksldjump"/>
          </p:cNvPr>
          <p:cNvSpPr/>
          <p:nvPr/>
        </p:nvSpPr>
        <p:spPr>
          <a:xfrm>
            <a:off x="1258920" y="2421000"/>
            <a:ext cx="2879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нятн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>
            <a:hlinkClick r:id="rId4" action="ppaction://hlinksldjump"/>
          </p:cNvPr>
          <p:cNvSpPr/>
          <p:nvPr/>
        </p:nvSpPr>
        <p:spPr>
          <a:xfrm>
            <a:off x="1258920" y="3284640"/>
            <a:ext cx="2879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ён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>
            <a:hlinkClick r:id="rId5" action="ppaction://hlinksldjump"/>
          </p:cNvPr>
          <p:cNvSpPr/>
          <p:nvPr/>
        </p:nvSpPr>
        <p:spPr>
          <a:xfrm>
            <a:off x="1258920" y="4292640"/>
            <a:ext cx="2879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зультатив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>
            <a:hlinkClick r:id="rId6" action="ppaction://hlinksldjump"/>
          </p:cNvPr>
          <p:cNvSpPr/>
          <p:nvPr/>
        </p:nvSpPr>
        <p:spPr>
          <a:xfrm>
            <a:off x="1262160" y="5272200"/>
            <a:ext cx="287964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ссов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 flipH="1">
            <a:off x="755640" y="177336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 flipH="1">
            <a:off x="755640" y="278136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 flipH="1">
            <a:off x="755640" y="357336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755640" y="458136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755640" y="5518080"/>
            <a:ext cx="503280" cy="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6">
            <a:hlinkClick r:id="rId7" action="ppaction://hlinksldjump"/>
          </p:cNvPr>
          <p:cNvSpPr/>
          <p:nvPr/>
        </p:nvSpPr>
        <p:spPr>
          <a:xfrm>
            <a:off x="7812000" y="630864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3794"/>
                </a:moveTo>
                <a:lnTo>
                  <a:pt x="32978" y="10800"/>
                </a:lnTo>
                <a:lnTo>
                  <a:pt x="1896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9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9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1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9"/>
          <p:cNvSpPr/>
          <p:nvPr/>
        </p:nvSpPr>
        <p:spPr>
          <a:xfrm>
            <a:off x="468360" y="260280"/>
            <a:ext cx="835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искрет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от лат. discretus – разделенный, прерывистый) указывает, что любой алгоритм должен состоять из конкретных действий, следующих в определенном порядке. Образованная структура алгоритма оказывается дискретной: только выполнив одну команду, исполнитель сможет приступить к выполнению следующ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8">
            <a:hlinkClick r:id="rId2" action="ppaction://hlinksldjump"/>
          </p:cNvPr>
          <p:cNvSpPr/>
          <p:nvPr/>
        </p:nvSpPr>
        <p:spPr>
          <a:xfrm>
            <a:off x="7956720" y="6165720"/>
            <a:ext cx="863280" cy="360360"/>
          </a:xfrm>
          <a:custGeom>
            <a:avLst/>
            <a:gdLst>
              <a:gd name="textAreaLeft" fmla="*/ 23040 w 863280"/>
              <a:gd name="textAreaRight" fmla="*/ 840240 w 86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15" h="21600">
                <a:moveTo>
                  <a:pt x="0" y="0"/>
                </a:moveTo>
                <a:lnTo>
                  <a:pt x="51715" y="0"/>
                </a:lnTo>
                <a:lnTo>
                  <a:pt x="51715" y="21600"/>
                </a:lnTo>
                <a:lnTo>
                  <a:pt x="0" y="21600"/>
                </a:lnTo>
                <a:close/>
              </a:path>
              <a:path fill="lightenLess" w="51715" h="21600">
                <a:moveTo>
                  <a:pt x="0" y="0"/>
                </a:moveTo>
                <a:lnTo>
                  <a:pt x="51715" y="0"/>
                </a:lnTo>
                <a:lnTo>
                  <a:pt x="50315" y="1400"/>
                </a:lnTo>
                <a:lnTo>
                  <a:pt x="1400" y="1400"/>
                </a:lnTo>
                <a:close/>
              </a:path>
              <a:path fill="darken" w="51715" h="21600">
                <a:moveTo>
                  <a:pt x="51715" y="0"/>
                </a:moveTo>
                <a:lnTo>
                  <a:pt x="51715" y="21600"/>
                </a:lnTo>
                <a:lnTo>
                  <a:pt x="50315" y="20200"/>
                </a:lnTo>
                <a:lnTo>
                  <a:pt x="50315" y="1400"/>
                </a:lnTo>
                <a:close/>
              </a:path>
              <a:path fill="darkenLess" w="51715" h="21600">
                <a:moveTo>
                  <a:pt x="5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15" y="20200"/>
                </a:lnTo>
                <a:close/>
              </a:path>
              <a:path fill="lighten" w="5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15" h="21600">
                <a:moveTo>
                  <a:pt x="18851" y="10800"/>
                </a:moveTo>
                <a:lnTo>
                  <a:pt x="32864" y="3794"/>
                </a:lnTo>
                <a:lnTo>
                  <a:pt x="3286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2556000" y="364500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5076720" y="357336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9"/>
          <p:cNvSpPr/>
          <p:nvPr/>
        </p:nvSpPr>
        <p:spPr>
          <a:xfrm>
            <a:off x="2124000" y="4005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3348000" y="2421000"/>
            <a:ext cx="1513080" cy="43164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3276720" y="5877000"/>
            <a:ext cx="1512720" cy="43164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3348000" y="3068640"/>
            <a:ext cx="1436760" cy="43164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3348000" y="5300640"/>
            <a:ext cx="1436760" cy="36036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>
            <a:off x="3348000" y="3716280"/>
            <a:ext cx="1440000" cy="57636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403280" y="4437000"/>
            <a:ext cx="1441440" cy="4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5364000" y="4437000"/>
            <a:ext cx="1441440" cy="4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7"/>
          <p:cNvSpPr/>
          <p:nvPr/>
        </p:nvSpPr>
        <p:spPr>
          <a:xfrm>
            <a:off x="4788000" y="4005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8"/>
          <p:cNvSpPr/>
          <p:nvPr/>
        </p:nvSpPr>
        <p:spPr>
          <a:xfrm>
            <a:off x="2124000" y="4005360"/>
            <a:ext cx="0" cy="43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9"/>
          <p:cNvSpPr/>
          <p:nvPr/>
        </p:nvSpPr>
        <p:spPr>
          <a:xfrm>
            <a:off x="6084720" y="4005360"/>
            <a:ext cx="0" cy="43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0"/>
          <p:cNvSpPr/>
          <p:nvPr/>
        </p:nvSpPr>
        <p:spPr>
          <a:xfrm>
            <a:off x="4067280" y="2852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1"/>
          <p:cNvSpPr/>
          <p:nvPr/>
        </p:nvSpPr>
        <p:spPr>
          <a:xfrm>
            <a:off x="4067280" y="3500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2"/>
          <p:cNvSpPr/>
          <p:nvPr/>
        </p:nvSpPr>
        <p:spPr>
          <a:xfrm>
            <a:off x="4067280" y="566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3"/>
          <p:cNvSpPr/>
          <p:nvPr/>
        </p:nvSpPr>
        <p:spPr>
          <a:xfrm>
            <a:off x="212400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4"/>
          <p:cNvSpPr/>
          <p:nvPr/>
        </p:nvSpPr>
        <p:spPr>
          <a:xfrm>
            <a:off x="6084720" y="4869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5"/>
          <p:cNvSpPr/>
          <p:nvPr/>
        </p:nvSpPr>
        <p:spPr>
          <a:xfrm>
            <a:off x="4067280" y="501336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2124000" y="5013360"/>
            <a:ext cx="194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7"/>
          <p:cNvSpPr/>
          <p:nvPr/>
        </p:nvSpPr>
        <p:spPr>
          <a:xfrm>
            <a:off x="4067280" y="501336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6000"/>
                            </p:stCondLst>
                            <p:childTnLst>
                              <p:par>
                                <p:cTn id="4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70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90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1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2000"/>
                            </p:stCondLst>
                            <p:childTnLst>
                              <p:par>
                                <p:cTn id="4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18">
            <a:hlinkClick r:id="rId2" action="ppaction://hlinksldjump"/>
          </p:cNvPr>
          <p:cNvSpPr/>
          <p:nvPr/>
        </p:nvSpPr>
        <p:spPr>
          <a:xfrm>
            <a:off x="7956720" y="6165720"/>
            <a:ext cx="863280" cy="360360"/>
          </a:xfrm>
          <a:custGeom>
            <a:avLst/>
            <a:gdLst>
              <a:gd name="textAreaLeft" fmla="*/ 23040 w 863280"/>
              <a:gd name="textAreaRight" fmla="*/ 840240 w 86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15" h="21600">
                <a:moveTo>
                  <a:pt x="0" y="0"/>
                </a:moveTo>
                <a:lnTo>
                  <a:pt x="51715" y="0"/>
                </a:lnTo>
                <a:lnTo>
                  <a:pt x="51715" y="21600"/>
                </a:lnTo>
                <a:lnTo>
                  <a:pt x="0" y="21600"/>
                </a:lnTo>
                <a:close/>
              </a:path>
              <a:path fill="lightenLess" w="51715" h="21600">
                <a:moveTo>
                  <a:pt x="0" y="0"/>
                </a:moveTo>
                <a:lnTo>
                  <a:pt x="51715" y="0"/>
                </a:lnTo>
                <a:lnTo>
                  <a:pt x="50315" y="1400"/>
                </a:lnTo>
                <a:lnTo>
                  <a:pt x="1400" y="1400"/>
                </a:lnTo>
                <a:close/>
              </a:path>
              <a:path fill="darken" w="51715" h="21600">
                <a:moveTo>
                  <a:pt x="51715" y="0"/>
                </a:moveTo>
                <a:lnTo>
                  <a:pt x="51715" y="21600"/>
                </a:lnTo>
                <a:lnTo>
                  <a:pt x="50315" y="20200"/>
                </a:lnTo>
                <a:lnTo>
                  <a:pt x="50315" y="1400"/>
                </a:lnTo>
                <a:close/>
              </a:path>
              <a:path fill="darkenLess" w="51715" h="21600">
                <a:moveTo>
                  <a:pt x="5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15" y="20200"/>
                </a:lnTo>
                <a:close/>
              </a:path>
              <a:path fill="lighten" w="5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15" h="21600">
                <a:moveTo>
                  <a:pt x="18851" y="10800"/>
                </a:moveTo>
                <a:lnTo>
                  <a:pt x="32864" y="3794"/>
                </a:lnTo>
                <a:lnTo>
                  <a:pt x="3286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468360" y="26028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нят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значает, что алгоритм состоит только из команд, входящих в систему команд исполнителя, т. е. из таких команд, которые исполнитель может воспринять и по которым может выполнить требуемые действ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4140360" y="177336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рошка «Мяс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4067280" y="2205000"/>
            <a:ext cx="230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-1.5 л кв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0 г картоф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0 г колб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яй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 г ред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6443640" y="220500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0 г огур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лень по вку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т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395280" y="4365720"/>
            <a:ext cx="42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офель отварить до гото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удить, почисти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езать куб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басу нарезать куб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йца нарезать куб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ис тонко нарез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урцы нарезать куб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4716360" y="4365720"/>
            <a:ext cx="42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шать картофель, колбасу, яйца, редис, огурц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олить, поперч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ложить в таре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лить квасом, посыпать зелень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вать со смета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8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3841920" cy="24415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9"/>
          <p:cNvSpPr/>
          <p:nvPr/>
        </p:nvSpPr>
        <p:spPr>
          <a:xfrm>
            <a:off x="2340000" y="386064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цепт пригото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70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18">
            <a:hlinkClick r:id="rId2" action="ppaction://hlinksldjump"/>
          </p:cNvPr>
          <p:cNvSpPr/>
          <p:nvPr/>
        </p:nvSpPr>
        <p:spPr>
          <a:xfrm>
            <a:off x="7956720" y="6165720"/>
            <a:ext cx="863280" cy="360360"/>
          </a:xfrm>
          <a:custGeom>
            <a:avLst/>
            <a:gdLst>
              <a:gd name="textAreaLeft" fmla="*/ 23040 w 863280"/>
              <a:gd name="textAreaRight" fmla="*/ 840240 w 86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15" h="21600">
                <a:moveTo>
                  <a:pt x="0" y="0"/>
                </a:moveTo>
                <a:lnTo>
                  <a:pt x="51715" y="0"/>
                </a:lnTo>
                <a:lnTo>
                  <a:pt x="51715" y="21600"/>
                </a:lnTo>
                <a:lnTo>
                  <a:pt x="0" y="21600"/>
                </a:lnTo>
                <a:close/>
              </a:path>
              <a:path fill="lightenLess" w="51715" h="21600">
                <a:moveTo>
                  <a:pt x="0" y="0"/>
                </a:moveTo>
                <a:lnTo>
                  <a:pt x="51715" y="0"/>
                </a:lnTo>
                <a:lnTo>
                  <a:pt x="50315" y="1400"/>
                </a:lnTo>
                <a:lnTo>
                  <a:pt x="1400" y="1400"/>
                </a:lnTo>
                <a:close/>
              </a:path>
              <a:path fill="darken" w="51715" h="21600">
                <a:moveTo>
                  <a:pt x="51715" y="0"/>
                </a:moveTo>
                <a:lnTo>
                  <a:pt x="51715" y="21600"/>
                </a:lnTo>
                <a:lnTo>
                  <a:pt x="50315" y="20200"/>
                </a:lnTo>
                <a:lnTo>
                  <a:pt x="50315" y="1400"/>
                </a:lnTo>
                <a:close/>
              </a:path>
              <a:path fill="darkenLess" w="51715" h="21600">
                <a:moveTo>
                  <a:pt x="5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15" y="20200"/>
                </a:lnTo>
                <a:close/>
              </a:path>
              <a:path fill="lighten" w="5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15" h="21600">
                <a:moveTo>
                  <a:pt x="18851" y="10800"/>
                </a:moveTo>
                <a:lnTo>
                  <a:pt x="32864" y="3794"/>
                </a:lnTo>
                <a:lnTo>
                  <a:pt x="3286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468360" y="260280"/>
            <a:ext cx="8424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пределён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значает, что в алгоритме нет команд, смысл которых может быть истолкован исполнителем неоднозначно; недопустимы ситуации, когда после выполнения очередной команды исполнителю неясно, какую команду выполнять на следующем шаг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411280" y="2205000"/>
            <a:ext cx="47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оехать до стади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2916360" y="2924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ти пря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468360" y="4797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не уточняет, какое расстояние нужно пройти пря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468360" y="5229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ую сторону поверн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468360" y="566100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ой автобус се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2916360" y="3284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2916360" y="3573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ти пря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2916360" y="3860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сть в автоб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2916360" y="4221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ехать до остановки «Стадио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9" descr=""/>
          <p:cNvPicPr/>
          <p:nvPr/>
        </p:nvPicPr>
        <p:blipFill>
          <a:blip r:embed="rId3"/>
          <a:stretch/>
        </p:blipFill>
        <p:spPr>
          <a:xfrm>
            <a:off x="468360" y="2060640"/>
            <a:ext cx="2349360" cy="2755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1" descr="http://www.rupark.com/jpg1464976727"/>
          <p:cNvPicPr/>
          <p:nvPr/>
        </p:nvPicPr>
        <p:blipFill>
          <a:blip r:embed="rId4"/>
          <a:stretch/>
        </p:blipFill>
        <p:spPr>
          <a:xfrm>
            <a:off x="4932360" y="5084640"/>
            <a:ext cx="1436760" cy="1544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7" descr=""/>
          <p:cNvPicPr/>
          <p:nvPr/>
        </p:nvPicPr>
        <p:blipFill>
          <a:blip r:embed="rId5"/>
          <a:stretch/>
        </p:blipFill>
        <p:spPr>
          <a:xfrm>
            <a:off x="5435640" y="2565360"/>
            <a:ext cx="3348000" cy="1725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7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9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da09f"/>
                                      </p:to>
                                    </p:animClr>
                                    <p:set>
                                      <p:cBhvr>
                                        <p:cTn id="56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bcbb"/>
                                      </p:to>
                                    </p:animClr>
                                    <p:set>
                                      <p:cBhvr>
                                        <p:cTn id="5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5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33"/>
                                      </p:to>
                                    </p:animClr>
                                    <p:set>
                                      <p:cBhvr>
                                        <p:cTn id="5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18">
            <a:hlinkClick r:id="rId2" action="ppaction://hlinksldjump"/>
          </p:cNvPr>
          <p:cNvSpPr/>
          <p:nvPr/>
        </p:nvSpPr>
        <p:spPr>
          <a:xfrm>
            <a:off x="802800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468360" y="260280"/>
            <a:ext cx="84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значает, что алгоритм должен обеспечивать возможность получения результата после конечного, возможно, очень большого, числа шагов. При этом результатом считается не только обусловленный постановкой задачи ответ, но и вывод о невозможности продолжения по какой-либо причине решения данной зада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468360" y="5805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ная последовательность команд не соответствует свойству результативности. Что нужно измени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4572000" y="3070080"/>
            <a:ext cx="424800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ть кни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ь первую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 не конец книги выполнять следующие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1 Прочитать 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2 Перелистнуть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2556000" y="2492280"/>
            <a:ext cx="47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тение кни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4572000" y="4869000"/>
            <a:ext cx="424800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3 Прочитать 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4 Открыть первую стра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0" descr="http://img-fotki.yandex.ru/get/4406/cadi-1986.51a/0_802d8_53263e94_XL"/>
          <p:cNvPicPr/>
          <p:nvPr/>
        </p:nvPicPr>
        <p:blipFill>
          <a:blip r:embed="rId3"/>
          <a:stretch/>
        </p:blipFill>
        <p:spPr>
          <a:xfrm>
            <a:off x="395280" y="2492280"/>
            <a:ext cx="4006800" cy="3297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0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4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18">
            <a:hlinkClick r:id="rId2" action="ppaction://hlinksldjump"/>
          </p:cNvPr>
          <p:cNvSpPr/>
          <p:nvPr/>
        </p:nvSpPr>
        <p:spPr>
          <a:xfrm>
            <a:off x="7956720" y="6165720"/>
            <a:ext cx="863280" cy="360360"/>
          </a:xfrm>
          <a:custGeom>
            <a:avLst/>
            <a:gdLst>
              <a:gd name="textAreaLeft" fmla="*/ 23040 w 863280"/>
              <a:gd name="textAreaRight" fmla="*/ 840240 w 86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15" h="21600">
                <a:moveTo>
                  <a:pt x="0" y="0"/>
                </a:moveTo>
                <a:lnTo>
                  <a:pt x="51715" y="0"/>
                </a:lnTo>
                <a:lnTo>
                  <a:pt x="51715" y="21600"/>
                </a:lnTo>
                <a:lnTo>
                  <a:pt x="0" y="21600"/>
                </a:lnTo>
                <a:close/>
              </a:path>
              <a:path fill="lightenLess" w="51715" h="21600">
                <a:moveTo>
                  <a:pt x="0" y="0"/>
                </a:moveTo>
                <a:lnTo>
                  <a:pt x="51715" y="0"/>
                </a:lnTo>
                <a:lnTo>
                  <a:pt x="50315" y="1400"/>
                </a:lnTo>
                <a:lnTo>
                  <a:pt x="1400" y="1400"/>
                </a:lnTo>
                <a:close/>
              </a:path>
              <a:path fill="darken" w="51715" h="21600">
                <a:moveTo>
                  <a:pt x="51715" y="0"/>
                </a:moveTo>
                <a:lnTo>
                  <a:pt x="51715" y="21600"/>
                </a:lnTo>
                <a:lnTo>
                  <a:pt x="50315" y="20200"/>
                </a:lnTo>
                <a:lnTo>
                  <a:pt x="50315" y="1400"/>
                </a:lnTo>
                <a:close/>
              </a:path>
              <a:path fill="darkenLess" w="51715" h="21600">
                <a:moveTo>
                  <a:pt x="5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15" y="20200"/>
                </a:lnTo>
                <a:close/>
              </a:path>
              <a:path fill="lighten" w="5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15" h="21600">
                <a:moveTo>
                  <a:pt x="18851" y="10800"/>
                </a:moveTo>
                <a:lnTo>
                  <a:pt x="32864" y="3794"/>
                </a:lnTo>
                <a:lnTo>
                  <a:pt x="32864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68360" y="2602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ассов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значает, что алгоритм должен обеспечивать возможность его применения для решения любой задачи из некоторого класса задач с различными исходными данны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1042920" y="148428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горитм вычисления корней квадратного урав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4"/>
          <p:cNvSpPr/>
          <p:nvPr/>
        </p:nvSpPr>
        <p:spPr>
          <a:xfrm>
            <a:off x="3564000" y="6165720"/>
            <a:ext cx="1512720" cy="43200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5508720" y="386064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4508640"/>
            <a:ext cx="503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0"/>
          <p:cNvSpPr/>
          <p:nvPr/>
        </p:nvSpPr>
        <p:spPr>
          <a:xfrm>
            <a:off x="4356000" y="2349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2"/>
          <p:cNvSpPr/>
          <p:nvPr/>
        </p:nvSpPr>
        <p:spPr>
          <a:xfrm>
            <a:off x="3564000" y="1916280"/>
            <a:ext cx="1512720" cy="43164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3270240" y="2492280"/>
            <a:ext cx="2165400" cy="43200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эффици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4"/>
          <p:cNvSpPr/>
          <p:nvPr/>
        </p:nvSpPr>
        <p:spPr>
          <a:xfrm>
            <a:off x="3635280" y="3141720"/>
            <a:ext cx="1441440" cy="4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числи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скримин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6"/>
          <p:cNvSpPr/>
          <p:nvPr/>
        </p:nvSpPr>
        <p:spPr>
          <a:xfrm>
            <a:off x="3348000" y="3716280"/>
            <a:ext cx="2016000" cy="100800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скримин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ньше 0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7"/>
          <p:cNvSpPr/>
          <p:nvPr/>
        </p:nvSpPr>
        <p:spPr>
          <a:xfrm>
            <a:off x="3419640" y="4869000"/>
            <a:ext cx="1873080" cy="50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числи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чения корн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8"/>
          <p:cNvSpPr/>
          <p:nvPr/>
        </p:nvSpPr>
        <p:spPr>
          <a:xfrm>
            <a:off x="5940360" y="5516640"/>
            <a:ext cx="1800360" cy="43164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Корней не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9"/>
          <p:cNvSpPr/>
          <p:nvPr/>
        </p:nvSpPr>
        <p:spPr>
          <a:xfrm>
            <a:off x="3413160" y="5516640"/>
            <a:ext cx="1879560" cy="431640"/>
          </a:xfrm>
          <a:prstGeom prst="flowChartInputOutput">
            <a:avLst/>
          </a:prstGeom>
          <a:solidFill>
            <a:srgbClr val="ffffff"/>
          </a:solidFill>
          <a:ln w="38160">
            <a:solidFill>
              <a:srgbClr val="01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вод кор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0"/>
          <p:cNvSpPr/>
          <p:nvPr/>
        </p:nvSpPr>
        <p:spPr>
          <a:xfrm>
            <a:off x="5364000" y="4221000"/>
            <a:ext cx="151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1"/>
          <p:cNvSpPr/>
          <p:nvPr/>
        </p:nvSpPr>
        <p:spPr>
          <a:xfrm>
            <a:off x="6877080" y="4221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2"/>
          <p:cNvSpPr/>
          <p:nvPr/>
        </p:nvSpPr>
        <p:spPr>
          <a:xfrm>
            <a:off x="4356000" y="609300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3"/>
          <p:cNvSpPr/>
          <p:nvPr/>
        </p:nvSpPr>
        <p:spPr>
          <a:xfrm>
            <a:off x="6877080" y="595008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4"/>
          <p:cNvSpPr/>
          <p:nvPr/>
        </p:nvSpPr>
        <p:spPr>
          <a:xfrm>
            <a:off x="4356000" y="2924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5"/>
          <p:cNvSpPr/>
          <p:nvPr/>
        </p:nvSpPr>
        <p:spPr>
          <a:xfrm>
            <a:off x="4356000" y="3573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6"/>
          <p:cNvSpPr/>
          <p:nvPr/>
        </p:nvSpPr>
        <p:spPr>
          <a:xfrm>
            <a:off x="4356000" y="472428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7"/>
          <p:cNvSpPr/>
          <p:nvPr/>
        </p:nvSpPr>
        <p:spPr>
          <a:xfrm>
            <a:off x="4356000" y="5373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8"/>
          <p:cNvSpPr/>
          <p:nvPr/>
        </p:nvSpPr>
        <p:spPr>
          <a:xfrm>
            <a:off x="4356000" y="595008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3" descr="http://900igr.net/datai/algebra/Koren-uravnenija/0011-016-Naprimer-reshaju-kvadratnoe-uravnenie.png"/>
          <p:cNvPicPr/>
          <p:nvPr/>
        </p:nvPicPr>
        <p:blipFill>
          <a:blip r:embed="rId3"/>
          <a:stretch/>
        </p:blipFill>
        <p:spPr>
          <a:xfrm>
            <a:off x="755640" y="3429000"/>
            <a:ext cx="2087640" cy="2924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4" descr=""/>
          <p:cNvPicPr/>
          <p:nvPr/>
        </p:nvPicPr>
        <p:blipFill>
          <a:blip r:embed="rId4"/>
          <a:stretch/>
        </p:blipFill>
        <p:spPr>
          <a:xfrm>
            <a:off x="5651640" y="1773360"/>
            <a:ext cx="3128760" cy="215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2" name="Object 47"/>
              <p:cNvSpPr txBox="1"/>
              <p:nvPr/>
            </p:nvSpPr>
            <p:spPr>
              <a:xfrm>
                <a:off x="539640" y="2133720"/>
                <a:ext cx="24480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23" name="Picture 49" descr="signobalanca"/>
          <p:cNvPicPr/>
          <p:nvPr/>
        </p:nvPicPr>
        <p:blipFill>
          <a:blip r:embed="rId5"/>
          <a:stretch/>
        </p:blipFill>
        <p:spPr>
          <a:xfrm>
            <a:off x="5508720" y="4437000"/>
            <a:ext cx="841320" cy="1316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0" descr="WHATNOW"/>
          <p:cNvPicPr/>
          <p:nvPr/>
        </p:nvPicPr>
        <p:blipFill>
          <a:blip r:embed="rId6"/>
          <a:stretch/>
        </p:blipFill>
        <p:spPr>
          <a:xfrm>
            <a:off x="7667640" y="3933720"/>
            <a:ext cx="1263600" cy="198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00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4000"/>
                            </p:stCondLst>
                            <p:childTnLst>
                              <p:par>
                                <p:cTn id="6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70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80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9000"/>
                            </p:stCondLst>
                            <p:childTnLst>
                              <p:par>
                                <p:cTn id="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8000"/>
                            </p:stCondLst>
                            <p:childTnLst>
                              <p:par>
                                <p:cTn id="6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20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30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4000"/>
                            </p:stCondLst>
                            <p:childTnLst>
                              <p:par>
                                <p:cTn id="7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5000"/>
                            </p:stCondLst>
                            <p:childTnLst>
                              <p:par>
                                <p:cTn id="7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6000"/>
                            </p:stCondLst>
                            <p:childTnLst>
                              <p:par>
                                <p:cTn id="7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7000"/>
                            </p:stCondLst>
                            <p:childTnLst>
                              <p:par>
                                <p:cTn id="7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971640" y="1197000"/>
            <a:ext cx="7200720" cy="549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шето Эратосф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ject 5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914400" cy="7142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611280" y="2060640"/>
            <a:ext cx="82818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190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смотренная последовательность действий является алгоритмом, так как она удовлетворяет свойства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искрет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роцесс нахождения простых чисел разбит на шаг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онят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аждая команда понятна ученику 9 класса, выполняющему этот алгорит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пределён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аждая команда трактуется и выполняется исполнителем однозначно; имеются указания об очерёдности выполнения команд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зультатив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через некоторое число шагов достигается результа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1904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массов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оследовательность действий применима для любого натуральног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ешето Эратосф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3000"/>
                            </p:stCondLst>
                            <p:childTnLst>
                              <p:par>
                                <p:cTn id="7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4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60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70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539640" y="1052640"/>
            <a:ext cx="8353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редназначенное для конкретного исполнителя описание последовательности действий, приводящих от исходных данных к требуемому результату, которое обладает свойства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искре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ня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ё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зульта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ссо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300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40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0"/>
                            </p:stCondLst>
                            <p:childTnLst>
                              <p:par>
                                <p:cTn id="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Заголовок 2"/>
          <p:cNvSpPr/>
          <p:nvPr/>
        </p:nvSpPr>
        <p:spPr>
          <a:xfrm>
            <a:off x="468360" y="189000"/>
            <a:ext cx="8218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озможности автоматизации деятельности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68360" y="12682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шение задачи по готовому алгоритму требует от исполнителя только строгого следования заданным предписания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468360" y="2492280"/>
            <a:ext cx="8424720" cy="764280"/>
          </a:xfrm>
          <a:prstGeom prst="rect">
            <a:avLst/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ального исполнения алгоритма обеспечивает возможность автоматизации деятельности челове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8"/>
          <p:cNvSpPr/>
          <p:nvPr/>
        </p:nvSpPr>
        <p:spPr>
          <a:xfrm>
            <a:off x="1908000" y="3645000"/>
            <a:ext cx="5759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 решения задачи представл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иде последовательности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1908000" y="4724280"/>
            <a:ext cx="5759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ется машина, способная выполн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операции в указанной последова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2"/>
          <p:cNvSpPr/>
          <p:nvPr/>
        </p:nvSpPr>
        <p:spPr>
          <a:xfrm>
            <a:off x="1908000" y="5734080"/>
            <a:ext cx="5759640" cy="720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освобождается от рутинной рабо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е которой поручается автома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4643280" y="3284640"/>
            <a:ext cx="0" cy="288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4716360" y="4365720"/>
            <a:ext cx="0" cy="2887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4716360" y="5444280"/>
            <a:ext cx="0" cy="289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30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4000"/>
                            </p:stCondLst>
                            <p:childTnLst>
                              <p:par>
                                <p:cTn id="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0"/>
                            </p:stCondLst>
                            <p:childTnLst>
                              <p:par>
                                <p:cTn id="8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60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http://dic.academic.ru/pictures/enc_colier/ph08781.jpg"/>
          <p:cNvPicPr/>
          <p:nvPr/>
        </p:nvPicPr>
        <p:blipFill>
          <a:blip r:embed="rId2"/>
          <a:stretch/>
        </p:blipFill>
        <p:spPr>
          <a:xfrm>
            <a:off x="900000" y="620640"/>
            <a:ext cx="6985080" cy="48895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6"/>
          <p:cNvSpPr/>
          <p:nvPr/>
        </p:nvSpPr>
        <p:spPr>
          <a:xfrm>
            <a:off x="539640" y="5516640"/>
            <a:ext cx="792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Роботизированная линия сборки, управляемая компьютером и запрограммированная на производство сварных швов на корпусе каждого автомоби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Заголовок 2"/>
          <p:cNvSpPr/>
          <p:nvPr/>
        </p:nvSpPr>
        <p:spPr>
          <a:xfrm>
            <a:off x="468360" y="18900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Автоматизация деятельност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http://un-vrn.ru/images/img/r3.jpg"/>
          <p:cNvPicPr/>
          <p:nvPr/>
        </p:nvPicPr>
        <p:blipFill>
          <a:blip r:embed="rId3"/>
          <a:stretch/>
        </p:blipFill>
        <p:spPr>
          <a:xfrm>
            <a:off x="1403280" y="836640"/>
            <a:ext cx="6553440" cy="4303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9"/>
          <p:cNvSpPr/>
          <p:nvPr/>
        </p:nvSpPr>
        <p:spPr>
          <a:xfrm>
            <a:off x="684360" y="522936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втоматизация гостини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офессиональная система «UCS-Shelter». Автоматизированы такие процессы как бронирование, поселение, выселение, работа со счетами гос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http://www.chopper-bike.ru/images_for_articles/1/334.jpg"/>
          <p:cNvPicPr/>
          <p:nvPr/>
        </p:nvPicPr>
        <p:blipFill>
          <a:blip r:embed="rId4"/>
          <a:stretch/>
        </p:blipFill>
        <p:spPr>
          <a:xfrm>
            <a:off x="1547640" y="620640"/>
            <a:ext cx="6266160" cy="46990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1"/>
          <p:cNvSpPr/>
          <p:nvPr/>
        </p:nvSpPr>
        <p:spPr>
          <a:xfrm>
            <a:off x="324000" y="5229360"/>
            <a:ext cx="86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матизация торговл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матизация услуг в сфере торговли делает скорость работы персонала значительно выше, поднимает уровень обслуживания покупателей, позволяет вести учет товар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2" descr="http://img12.nnm.ru/2/f/c/9/4/447395d53243cf8c6bf158cac12.jpg"/>
          <p:cNvPicPr/>
          <p:nvPr/>
        </p:nvPicPr>
        <p:blipFill>
          <a:blip r:embed="rId5"/>
          <a:stretch/>
        </p:blipFill>
        <p:spPr>
          <a:xfrm>
            <a:off x="1332000" y="692280"/>
            <a:ext cx="6769080" cy="48844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3"/>
          <p:cNvSpPr/>
          <p:nvPr/>
        </p:nvSpPr>
        <p:spPr>
          <a:xfrm>
            <a:off x="1835280" y="5877000"/>
            <a:ext cx="601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матизация произво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476360" y="898560"/>
            <a:ext cx="741672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ойства алгорит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искрет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нят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ределён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ив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ассов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нит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арактеристики исполните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руг решаемых зад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ре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жим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972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ком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альное исполнение алгорит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24"/>
          <p:cNvSpPr/>
          <p:nvPr/>
        </p:nvSpPr>
        <p:spPr>
          <a:xfrm>
            <a:off x="395280" y="907920"/>
            <a:ext cx="8497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сполнит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некоторый объект (человек, животное, техническое устройство), способный выполнять определённый набор коман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альный исполнитель одну и ту же команду всегда выполняет одинаково. Для каждого формального исполнителя можно указать: круг решаемых задач, среду, систему команд и режим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редназначенное для конкретного исполнителя описание последовательности действий, приводящих от исходных данных к требуемому результату, которое обладает свойствами дискретности, понятности, определённости, результативности и массов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собность исполнителя действовать формально обеспечивает возможность автоматизации деятельности челов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61"/>
          <p:cNvSpPr/>
          <p:nvPr/>
        </p:nvSpPr>
        <p:spPr>
          <a:xfrm>
            <a:off x="539640" y="1413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азывают алгоритм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62"/>
          <p:cNvSpPr/>
          <p:nvPr/>
        </p:nvSpPr>
        <p:spPr>
          <a:xfrm>
            <a:off x="395280" y="1484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ерите синонимы к слову «предписан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63"/>
          <p:cNvSpPr/>
          <p:nvPr/>
        </p:nvSpPr>
        <p:spPr>
          <a:xfrm>
            <a:off x="468360" y="1484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 алгоритмов, изучаемых вами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64"/>
          <p:cNvSpPr/>
          <p:nvPr/>
        </p:nvSpPr>
        <p:spPr>
          <a:xfrm>
            <a:off x="468360" y="1268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может быть исполнителем алгорит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65"/>
          <p:cNvSpPr/>
          <p:nvPr/>
        </p:nvSpPr>
        <p:spPr>
          <a:xfrm>
            <a:off x="468360" y="1484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 формального исполн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, когда человек выступает в роли формального исполн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66"/>
          <p:cNvSpPr/>
          <p:nvPr/>
        </p:nvSpPr>
        <p:spPr>
          <a:xfrm>
            <a:off x="468360" y="1484280"/>
            <a:ext cx="835344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команды должны быть у робота, выполняющего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кассира в магаз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дворн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охран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67"/>
          <p:cNvSpPr/>
          <p:nvPr/>
        </p:nvSpPr>
        <p:spPr>
          <a:xfrm>
            <a:off x="539640" y="1413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чего зависит круг решаемых задач исполн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мпьютер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68"/>
          <p:cNvSpPr/>
          <p:nvPr/>
        </p:nvSpPr>
        <p:spPr>
          <a:xfrm>
            <a:off x="539640" y="134136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те в качестве исполнителя текстовый процессор, имеющийся на вашем компьютере. Охарактеризуйте круг решаемых этим исполнителем задач и его сре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69"/>
          <p:cNvSpPr/>
          <p:nvPr/>
        </p:nvSpPr>
        <p:spPr>
          <a:xfrm>
            <a:off x="468360" y="1628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команда, система команд исполни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70"/>
          <p:cNvSpPr/>
          <p:nvPr/>
        </p:nvSpPr>
        <p:spPr>
          <a:xfrm>
            <a:off x="468360" y="1413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те основные свойства алгорит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71"/>
          <p:cNvSpPr/>
          <p:nvPr/>
        </p:nvSpPr>
        <p:spPr>
          <a:xfrm>
            <a:off x="539640" y="1341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чему может привести отсутствие какого-либо свойства у алгоритм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едите при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72"/>
          <p:cNvSpPr/>
          <p:nvPr/>
        </p:nvSpPr>
        <p:spPr>
          <a:xfrm>
            <a:off x="468360" y="1413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ём важность возможности формального ис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73"/>
          <p:cNvSpPr/>
          <p:nvPr/>
        </p:nvSpPr>
        <p:spPr>
          <a:xfrm>
            <a:off x="468360" y="1628640"/>
            <a:ext cx="835344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чисел строится по следующему  алгорит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е два числа последовательности принимаются равными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следующее число последовательности принимается равным сумме двух предыдущи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10 первых членов этой последова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74"/>
          <p:cNvSpPr/>
          <p:nvPr/>
        </p:nvSpPr>
        <p:spPr>
          <a:xfrm>
            <a:off x="468360" y="836640"/>
            <a:ext cx="835344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который алгоритм получает из одной цепочки символов новую цепочку следующим образ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ачала записывается исходная цепочка символов, после нее записывается исходная цепочка символов в обратном порядке, затем записывается буква, следующая в русском алфавите за той буквой, которая в исходной цепочке стояла на последнем месте. Если в исходной цепочке на последнем месте стоит буква Я, то в качестве следующе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уквы записывается буква 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ившаяся цепочка является результатом работы алгоритма. Например, если исходная цепочка символов была ДОМ, то результатом работы алгоритма будет цепочка ДОММОД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а цепочка символов КОМ. Сколько букв О будет в цепочке символов, которая получится, если применить алгоритм к данной цепочке, а затем ещё раз применить алгоритм к результату его работы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75"/>
          <p:cNvSpPr/>
          <p:nvPr/>
        </p:nvSpPr>
        <p:spPr>
          <a:xfrm>
            <a:off x="395280" y="907920"/>
            <a:ext cx="849780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нитель Черепашка перемещается на экране компьютера, оставляя след в виде ли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команд Черепашки состоит из двух коман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ёд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д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е число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ывает передвижение Черепашки 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шагов в направлении движ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м направлении, куда развёрнуты её голова и корп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ав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д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целое число) - вызывает изменение направления движения Черепашки 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дусов по часовой стрел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будет результатом исполнения Черепашкой алгорит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и 8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о 45 Вперёд 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76"/>
          <p:cNvSpPr/>
          <p:nvPr/>
        </p:nvSpPr>
        <p:spPr>
          <a:xfrm>
            <a:off x="468360" y="907920"/>
            <a:ext cx="835164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команд исполнителя Вычислитель состоит из двух команд, которым присвоены ном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вычти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- умножь на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ая из них уменьшает число на 1, втор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ет число в 3 ра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записи алгоритмов для краткости указываются лишь номера коман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алгоритм для исполнителя Вычислитель, содержащий не более 5 коман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получения из числа 3 числа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получения из числа 1 числа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77"/>
          <p:cNvSpPr/>
          <p:nvPr/>
        </p:nvSpPr>
        <p:spPr>
          <a:xfrm>
            <a:off x="539640" y="907920"/>
            <a:ext cx="835344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команд исполнителя Конструктор состоит из двух команд, которым присвоены ном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приписать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- разделить н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ервой из них к числу приписывается справа 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торой число делится на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удет преобразовано число 8, если исполнитель выполнит алгоритм 2221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те алгоритм в системе команд этого исполнителя, по которому число 1 будет преобразовано в число 16 (в алгоритме должно быть не более 5 коман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78"/>
          <p:cNvSpPr/>
          <p:nvPr/>
        </p:nvSpPr>
        <p:spPr>
          <a:xfrm>
            <a:off x="468360" y="981000"/>
            <a:ext cx="8351640" cy="55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сполнитель Робот действует на клетчатом поле, между соседними клетками которого могут стоять стены. Робот передвигается по клеткам поля и может выполнять следующие команды, которым присвоены  номера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 - Вверх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2 - Вниз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3 - Вправ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4 - Влев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и выполнении каждой такой команды Робот перемещается в соседнюю клетку в указанном направлении. Если же в этом направлении между клетками стоит стена, то Робот разрушается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какой клетке должен находиться исполнитель Робот, чтобы после выполнения алгоритма 3241 в неё же и вернуться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3564000" y="2492280"/>
          <a:ext cx="1944720" cy="1584360"/>
        </p:xfrm>
        <a:graphic>
          <a:graphicData uri="http://schemas.openxmlformats.org/drawingml/2006/table">
            <a:tbl>
              <a:tblPr/>
              <a:tblGrid>
                <a:gridCol w="487440"/>
                <a:gridCol w="485640"/>
                <a:gridCol w="485640"/>
                <a:gridCol w="48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99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2825640" y="3495600"/>
            <a:ext cx="2880000" cy="422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искретн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8"/>
          <p:cNvSpPr/>
          <p:nvPr/>
        </p:nvSpPr>
        <p:spPr>
          <a:xfrm flipH="1" flipV="1">
            <a:off x="2286000" y="3715920"/>
            <a:ext cx="503280" cy="18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789280" y="2637000"/>
            <a:ext cx="3529080" cy="504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йства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>
            <a:off x="2286000" y="2995560"/>
            <a:ext cx="50328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2789280" y="4124160"/>
            <a:ext cx="2879640" cy="4240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нятн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2789280" y="4687920"/>
            <a:ext cx="2879640" cy="423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пределён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2789280" y="5346720"/>
            <a:ext cx="2879640" cy="423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езультативн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2789280" y="5959440"/>
            <a:ext cx="2879640" cy="422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ассовост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8"/>
          <p:cNvSpPr/>
          <p:nvPr/>
        </p:nvSpPr>
        <p:spPr>
          <a:xfrm flipV="1">
            <a:off x="2286000" y="2995200"/>
            <a:ext cx="1440" cy="31510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"/>
          <p:cNvSpPr/>
          <p:nvPr/>
        </p:nvSpPr>
        <p:spPr>
          <a:xfrm flipH="1" flipV="1">
            <a:off x="2286000" y="4265640"/>
            <a:ext cx="503280" cy="1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8"/>
          <p:cNvSpPr/>
          <p:nvPr/>
        </p:nvSpPr>
        <p:spPr>
          <a:xfrm flipH="1" flipV="1">
            <a:off x="2286000" y="4830840"/>
            <a:ext cx="503280" cy="1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8"/>
          <p:cNvSpPr/>
          <p:nvPr/>
        </p:nvSpPr>
        <p:spPr>
          <a:xfrm flipH="1" flipV="1">
            <a:off x="2286000" y="5489640"/>
            <a:ext cx="503280" cy="14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 flipH="1" flipV="1">
            <a:off x="2286000" y="6146280"/>
            <a:ext cx="503280" cy="18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8"/>
          <p:cNvSpPr/>
          <p:nvPr/>
        </p:nvSpPr>
        <p:spPr>
          <a:xfrm>
            <a:off x="539640" y="765000"/>
            <a:ext cx="8353440" cy="161856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предназначенное для конкретного исполнителя описание последовательности действий, приводящих от исходных данных к требуемому результату, которое обладает свойствам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скретности, понятности, определённости, результативности   и   массов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0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692360" y="1628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3.1 (стр. 100 - 1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4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Т 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стр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468360" y="1197000"/>
            <a:ext cx="84247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school-collection.edu.ru/catalog/res/07e215ef-cd48-450d-8cf4-f5777cd832b2/?interface=catalo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решето Эратосф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magsveta.ru/content/5-paymen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- оплата через терми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luntiki.ru/uploads/images/6/b/4/e/86/bc72e83c37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этапы рисования лош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files.school-collection.edu.ru/dlrstore/58e9a0c3-11df-4c94-a5eb-b0a7b359ea35/9_32.swf - исполнители алгорит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dic.academic.ru/pictures/enc_colier/ph08781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роботизированная линия сбо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un-vrn.ru/images/img/r3.jpg - автоматизация гостини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chopper-bike.ru/images_for_articles/1/334.jpg - автоматизация торгов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img12.nnm.ru/2/f/c/9/4/447395d53243cf8c6bf158cac12.jpg - автоматизация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img-fotki.yandex.ru/get/4406/cadi-1986.51a/0_802d8_53263e94_XL - чтение кни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sports.ru/images/object_53.1185365463.jpg  - стади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rupark.com/jpg1464976727 - футб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900igr.net/datai/algebra/Koren-uravnenija/0011-016-Naprimer-reshaju-kvadratnoe-uravnenie.png  - решение квадратного урав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edcommunity.ru/upload/resize_cache/iblock/b15/720_521_1/cwqru%20mfvdus5.jpg – квадратное урав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2"/>
          <p:cNvSpPr/>
          <p:nvPr/>
        </p:nvSpPr>
        <p:spPr>
          <a:xfrm>
            <a:off x="46836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меры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7"/>
          <p:cNvSpPr/>
          <p:nvPr/>
        </p:nvSpPr>
        <p:spPr>
          <a:xfrm>
            <a:off x="2195640" y="692280"/>
            <a:ext cx="45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лата через термина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1"/>
          <p:cNvSpPr/>
          <p:nvPr/>
        </p:nvSpPr>
        <p:spPr>
          <a:xfrm>
            <a:off x="611280" y="5877000"/>
            <a:ext cx="82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совершения оплаты, необходимо выбрать нужную опцию на экране термина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6" descr=""/>
          <p:cNvPicPr/>
          <p:nvPr/>
        </p:nvPicPr>
        <p:blipFill>
          <a:blip r:embed="rId2"/>
          <a:stretch/>
        </p:blipFill>
        <p:spPr>
          <a:xfrm>
            <a:off x="539640" y="1119240"/>
            <a:ext cx="8425080" cy="4824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8"/>
          <p:cNvSpPr/>
          <p:nvPr/>
        </p:nvSpPr>
        <p:spPr>
          <a:xfrm>
            <a:off x="539640" y="602136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брать пункт «Оплатить услуги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0"/>
          <p:cNvSpPr/>
          <p:nvPr/>
        </p:nvSpPr>
        <p:spPr>
          <a:xfrm>
            <a:off x="468360" y="58770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номер счё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экране появится окно выбора суммы опла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1"/>
          <p:cNvSpPr/>
          <p:nvPr/>
        </p:nvSpPr>
        <p:spPr>
          <a:xfrm>
            <a:off x="468360" y="5877000"/>
            <a:ext cx="86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в окно «сумма оплаты» число, указанное на квитан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всё правильно, то нажать кнопку «далее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2"/>
          <p:cNvSpPr/>
          <p:nvPr/>
        </p:nvSpPr>
        <p:spPr>
          <a:xfrm>
            <a:off x="395280" y="5913360"/>
            <a:ext cx="835344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экране появится окно «сумма оплаты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носить купюры с купюроприемник, пока не получится число, равное введенной ранее в окне выбора суммы оплат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3"/>
          <p:cNvSpPr/>
          <p:nvPr/>
        </p:nvSpPr>
        <p:spPr>
          <a:xfrm>
            <a:off x="539640" y="616572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жать кнопку «оплатить» и дождаться распечатки ч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меры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8"/>
          <p:cNvSpPr/>
          <p:nvPr/>
        </p:nvSpPr>
        <p:spPr>
          <a:xfrm>
            <a:off x="2843280" y="836640"/>
            <a:ext cx="302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рисовать лоша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1" descr=""/>
          <p:cNvPicPr/>
          <p:nvPr/>
        </p:nvPicPr>
        <p:blipFill>
          <a:blip r:embed="rId2"/>
          <a:stretch/>
        </p:blipFill>
        <p:spPr>
          <a:xfrm>
            <a:off x="1332000" y="1773360"/>
            <a:ext cx="2047680" cy="1609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3" descr=""/>
          <p:cNvPicPr/>
          <p:nvPr/>
        </p:nvPicPr>
        <p:blipFill>
          <a:blip r:embed="rId3"/>
          <a:stretch/>
        </p:blipFill>
        <p:spPr>
          <a:xfrm>
            <a:off x="6084720" y="1557360"/>
            <a:ext cx="2619720" cy="247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4" descr=""/>
          <p:cNvPicPr/>
          <p:nvPr/>
        </p:nvPicPr>
        <p:blipFill>
          <a:blip r:embed="rId4"/>
          <a:stretch/>
        </p:blipFill>
        <p:spPr>
          <a:xfrm>
            <a:off x="1763640" y="3860640"/>
            <a:ext cx="2562120" cy="2362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5" descr=""/>
          <p:cNvPicPr/>
          <p:nvPr/>
        </p:nvPicPr>
        <p:blipFill>
          <a:blip r:embed="rId5"/>
          <a:stretch/>
        </p:blipFill>
        <p:spPr>
          <a:xfrm>
            <a:off x="5148360" y="3789360"/>
            <a:ext cx="2590560" cy="2343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2" descr=""/>
          <p:cNvPicPr/>
          <p:nvPr/>
        </p:nvPicPr>
        <p:blipFill>
          <a:blip r:embed="rId6"/>
          <a:stretch/>
        </p:blipFill>
        <p:spPr>
          <a:xfrm>
            <a:off x="3276720" y="1700280"/>
            <a:ext cx="2619360" cy="1762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меры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9"/>
          <p:cNvSpPr/>
          <p:nvPr/>
        </p:nvSpPr>
        <p:spPr>
          <a:xfrm>
            <a:off x="539640" y="5805360"/>
            <a:ext cx="2374920" cy="43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0"/>
          <p:cNvSpPr/>
          <p:nvPr/>
        </p:nvSpPr>
        <p:spPr>
          <a:xfrm>
            <a:off x="4067280" y="5877000"/>
            <a:ext cx="1368360" cy="431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1"/>
          <p:cNvSpPr/>
          <p:nvPr/>
        </p:nvSpPr>
        <p:spPr>
          <a:xfrm>
            <a:off x="6516720" y="5877000"/>
            <a:ext cx="2374920" cy="431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2"/>
          <p:cNvSpPr/>
          <p:nvPr/>
        </p:nvSpPr>
        <p:spPr>
          <a:xfrm>
            <a:off x="2987640" y="5950080"/>
            <a:ext cx="934920" cy="215640"/>
          </a:xfrm>
          <a:prstGeom prst="rightArrow">
            <a:avLst>
              <a:gd name="adj1" fmla="val 50000"/>
              <a:gd name="adj2" fmla="val 14542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3"/>
          <p:cNvSpPr/>
          <p:nvPr/>
        </p:nvSpPr>
        <p:spPr>
          <a:xfrm>
            <a:off x="5508720" y="5950080"/>
            <a:ext cx="934920" cy="215640"/>
          </a:xfrm>
          <a:prstGeom prst="rightArrow">
            <a:avLst>
              <a:gd name="adj1" fmla="val 50000"/>
              <a:gd name="adj2" fmla="val 145422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4"/>
          <p:cNvSpPr/>
          <p:nvPr/>
        </p:nvSpPr>
        <p:spPr>
          <a:xfrm>
            <a:off x="1908000" y="515772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я схема работы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1403280" y="2708280"/>
            <a:ext cx="7056360" cy="216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just">
              <a:spcAft>
                <a:spcPts val="104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ть два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ожить заданны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делить сумму н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1476360" y="907920"/>
            <a:ext cx="676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ислительный алгорит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403280" y="1557360"/>
            <a:ext cx="7056360" cy="79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just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реднее арифметическое дву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полнитель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468360" y="765000"/>
            <a:ext cx="84247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нитель - это некоторый объект (человек, животное, техническое устройство), способный выполнять определённый набор коман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 flipH="1" flipV="1">
            <a:off x="4893840" y="2393640"/>
            <a:ext cx="86508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800360" y="2825640"/>
            <a:ext cx="28796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ормальны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040360" y="2825640"/>
            <a:ext cx="287964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еформ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 flipV="1">
            <a:off x="4032360" y="2393640"/>
            <a:ext cx="79200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3564000" y="1844640"/>
            <a:ext cx="2808360" cy="549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нитель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800360" y="3402000"/>
            <a:ext cx="2987640" cy="530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уг решаемы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 flipV="1">
            <a:off x="1476360" y="2997000"/>
            <a:ext cx="0" cy="2663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1476360" y="299736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1476360" y="364500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1835280" y="4076640"/>
            <a:ext cx="2987640" cy="530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а исполн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835280" y="5373720"/>
            <a:ext cx="2987640" cy="530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жимы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>
            <a:off x="1476360" y="429264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476360" y="566100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5292720" y="4724280"/>
            <a:ext cx="3600360" cy="43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осредственное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5"/>
          <p:cNvSpPr/>
          <p:nvPr/>
        </p:nvSpPr>
        <p:spPr>
          <a:xfrm>
            <a:off x="5292720" y="5372280"/>
            <a:ext cx="3600360" cy="431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ное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6"/>
          <p:cNvSpPr/>
          <p:nvPr/>
        </p:nvSpPr>
        <p:spPr>
          <a:xfrm>
            <a:off x="5292720" y="3925800"/>
            <a:ext cx="3600360" cy="4320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, обстановка, усл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 flipV="1">
            <a:off x="4859280" y="4071960"/>
            <a:ext cx="426960" cy="2937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V="1">
            <a:off x="4859280" y="5013000"/>
            <a:ext cx="433440" cy="57636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4859280" y="5661000"/>
            <a:ext cx="36036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042920" y="6165720"/>
            <a:ext cx="5184720" cy="432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сполнители алгоритм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54"/>
          <p:cNvGraphicFramePr/>
          <p:nvPr/>
        </p:nvGraphicFramePr>
        <p:xfrm>
          <a:off x="5435640" y="6165720"/>
          <a:ext cx="720720" cy="52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5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5640" y="6165720"/>
                    <a:ext cx="72072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6"/>
          <p:cNvSpPr/>
          <p:nvPr/>
        </p:nvSpPr>
        <p:spPr>
          <a:xfrm>
            <a:off x="1835280" y="4724280"/>
            <a:ext cx="2987640" cy="4334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1476360" y="4941720"/>
            <a:ext cx="3589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8404200" cy="450720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полнитель Роб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7951680" cy="4962240"/>
          </a:xfrm>
          <a:prstGeom prst="rect">
            <a:avLst/>
          </a:prstGeom>
          <a:ln w="0">
            <a:noFill/>
          </a:ln>
        </p:spPr>
      </p:pic>
      <p:sp>
        <p:nvSpPr>
          <p:cNvPr id="100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полнитель Кузне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4"/>
          <p:cNvSpPr/>
          <p:nvPr/>
        </p:nvSpPr>
        <p:spPr>
          <a:xfrm>
            <a:off x="1258920" y="1844640"/>
            <a:ext cx="3384360" cy="863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е объектов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казанных в задач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692360" y="1268280"/>
            <a:ext cx="43164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120760" y="981000"/>
            <a:ext cx="4972320" cy="5493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аботка алгоритма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1258920" y="3213000"/>
            <a:ext cx="3384360" cy="1152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ление свойст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ъектов, отно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действий с объект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1258920" y="4797360"/>
            <a:ext cx="3384360" cy="8650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е исход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ных и результа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5364000" y="2708280"/>
            <a:ext cx="3384720" cy="1079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дова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1"/>
          <p:cNvSpPr/>
          <p:nvPr/>
        </p:nvSpPr>
        <p:spPr>
          <a:xfrm>
            <a:off x="5435640" y="4292640"/>
            <a:ext cx="3384360" cy="15112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дова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ий с помощь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анд С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5003640" y="2205000"/>
            <a:ext cx="2016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 flipV="1">
            <a:off x="5003640" y="2205000"/>
            <a:ext cx="0" cy="3888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2916360" y="270756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1692360" y="1268280"/>
            <a:ext cx="0" cy="50508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2843280" y="4365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2916360" y="566100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2916360" y="6093000"/>
            <a:ext cx="2087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7020000" y="220500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7093080" y="378864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501480" y="616572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– модель деятельности исполнителя алгорит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Заголовок 2"/>
          <p:cNvSpPr/>
          <p:nvPr/>
        </p:nvSpPr>
        <p:spPr>
          <a:xfrm>
            <a:off x="46836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Разработка алгорит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Босова</cp:lastModifiedBy>
  <dcterms:modified xsi:type="dcterms:W3CDTF">2012-07-07T11:56:10Z</dcterms:modified>
  <cp:revision>107</cp:revision>
  <dc:subject/>
  <dc:title>Презентация PowerPoint</dc:title>
</cp:coreProperties>
</file>