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61F0-6513-4425-86E5-19263784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8964-7276-48BF-BB12-553570E8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E06E-8B70-4F9D-917F-53D06E77A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046D-38BD-4F0E-8732-23111999A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CEC7-AC3A-4497-85A5-1EB90C13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EF9C-A7E6-4896-A7D3-5841B4CE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6BE6-083A-4C28-B180-F97C5726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6F68-EBB2-4683-9F5E-4DEFE286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E963-1E85-4214-9711-43621A60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CF66-E06D-4EA7-BF64-D6C47A3E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1062-BFBE-4524-A9F8-FE2CCD53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EB46-6AC3-4A86-B694-94CD3993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307A-4A53-43A1-B2DF-3F9F99A74C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246040"/>
            <a:ext cx="64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ИЗМЕРЕНИЕ ИНФОРМАЦ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050560" y="4005360"/>
            <a:ext cx="6481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ИНФОРМАЦИЯ И ИНФОРМАЦИОННЫЕ ПРОЦЕС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Заголовок 2"/>
          <p:cNvSpPr/>
          <p:nvPr/>
        </p:nvSpPr>
        <p:spPr>
          <a:xfrm>
            <a:off x="1116000" y="189000"/>
            <a:ext cx="784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Задача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1116000" y="98100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ое сообщение объёмом 4 Кбайта состоит из 4096 символов. Каков информационный вес символа этого сообщения?  Сколько символов содержит алфавит, с помощью которого записано это сообщ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971640" y="2852640"/>
            <a:ext cx="777708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4 Кб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4096;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?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–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1042920" y="5805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информационный вес символа = 8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фавит содержит 256 симво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971640" y="3789360"/>
            <a:ext cx="7777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4 (Кб) = 4  1024   8 (битов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1042920" y="4292640"/>
            <a:ext cx="7777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 K    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 I/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1042920" y="4797360"/>
            <a:ext cx="7777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4   1024   8/4096 = 8 (би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1042920" y="5300640"/>
            <a:ext cx="7777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256 (символ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3"/>
          <p:cNvSpPr/>
          <p:nvPr/>
        </p:nvSpPr>
        <p:spPr>
          <a:xfrm>
            <a:off x="2961360" y="38606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4"/>
          <p:cNvSpPr/>
          <p:nvPr/>
        </p:nvSpPr>
        <p:spPr>
          <a:xfrm>
            <a:off x="3825000" y="38606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2890080" y="436572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6"/>
          <p:cNvSpPr/>
          <p:nvPr/>
        </p:nvSpPr>
        <p:spPr>
          <a:xfrm>
            <a:off x="1881720" y="48690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7"/>
          <p:cNvSpPr/>
          <p:nvPr/>
        </p:nvSpPr>
        <p:spPr>
          <a:xfrm>
            <a:off x="2817000" y="48690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468360" y="1052640"/>
            <a:ext cx="842472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 б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минимальная единица измерения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онный вес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мвола алфавита и мощность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фавита связаны между собой соотношением: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= 2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нформационный объё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общения равен произведению количества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имволов в сообщении на информационный вес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имвола алфавита: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 K*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байт = 8 би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ит, байт, килобайт, мегабайт, гигабайт, терабай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единицы измерения  информации. Каждая следующая единица больше предыдущей в 1024 (2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р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042920" y="15573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нужно знать для определения информационного веса симво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фавита некоторого естественного или формального язы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116000" y="1628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ем суть алфавитного подхода к измерению информ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1042920" y="1628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ринято за минимальную единицу измерения информ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1042920" y="1628640"/>
            <a:ext cx="81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 информационный вес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мвола алфавита мощностью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олняя таблиц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187280" y="2924280"/>
          <a:ext cx="7283520" cy="3475080"/>
        </p:xfrm>
        <a:graphic>
          <a:graphicData uri="http://schemas.openxmlformats.org/drawingml/2006/table">
            <a:tbl>
              <a:tblPr/>
              <a:tblGrid>
                <a:gridCol w="2427480"/>
                <a:gridCol w="2428920"/>
                <a:gridCol w="24271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=2</a:t>
                      </a:r>
                      <a:r>
                        <a:rPr b="1" i="1" lang="en-US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(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тов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31" name="Text Box 44"/>
          <p:cNvSpPr/>
          <p:nvPr/>
        </p:nvSpPr>
        <p:spPr>
          <a:xfrm>
            <a:off x="4427640" y="35002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5"/>
          <p:cNvSpPr/>
          <p:nvPr/>
        </p:nvSpPr>
        <p:spPr>
          <a:xfrm>
            <a:off x="4427640" y="4076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6"/>
          <p:cNvSpPr/>
          <p:nvPr/>
        </p:nvSpPr>
        <p:spPr>
          <a:xfrm>
            <a:off x="4427640" y="46530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7"/>
          <p:cNvSpPr/>
          <p:nvPr/>
        </p:nvSpPr>
        <p:spPr>
          <a:xfrm>
            <a:off x="4427640" y="5229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8"/>
          <p:cNvSpPr/>
          <p:nvPr/>
        </p:nvSpPr>
        <p:spPr>
          <a:xfrm>
            <a:off x="4427640" y="5805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9"/>
          <p:cNvSpPr/>
          <p:nvPr/>
        </p:nvSpPr>
        <p:spPr>
          <a:xfrm>
            <a:off x="6732720" y="35002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0"/>
          <p:cNvSpPr/>
          <p:nvPr/>
        </p:nvSpPr>
        <p:spPr>
          <a:xfrm>
            <a:off x="6732720" y="4076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1"/>
          <p:cNvSpPr/>
          <p:nvPr/>
        </p:nvSpPr>
        <p:spPr>
          <a:xfrm>
            <a:off x="6732720" y="46530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2"/>
          <p:cNvSpPr/>
          <p:nvPr/>
        </p:nvSpPr>
        <p:spPr>
          <a:xfrm>
            <a:off x="6732720" y="5229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3"/>
          <p:cNvSpPr/>
          <p:nvPr/>
        </p:nvSpPr>
        <p:spPr>
          <a:xfrm>
            <a:off x="6732720" y="5805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4"/>
          <p:cNvSpPr/>
          <p:nvPr/>
        </p:nvSpPr>
        <p:spPr>
          <a:xfrm>
            <a:off x="1042920" y="1557360"/>
            <a:ext cx="81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 определить информационный объём сообщения, представленног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волами некоторого естественного или формальног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зы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3"/>
          <p:cNvSpPr/>
          <p:nvPr/>
        </p:nvSpPr>
        <p:spPr>
          <a:xfrm>
            <a:off x="3132000" y="105264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тр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4"/>
          <p:cNvSpPr/>
          <p:nvPr/>
        </p:nvSpPr>
        <p:spPr>
          <a:xfrm>
            <a:off x="1116000" y="112536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 количество информации в сообщении из К символов алфавита мощностью N, заполняя таблиц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258920" y="2421000"/>
          <a:ext cx="7705800" cy="4032360"/>
        </p:xfrm>
        <a:graphic>
          <a:graphicData uri="http://schemas.openxmlformats.org/drawingml/2006/table">
            <a:tbl>
              <a:tblPr/>
              <a:tblGrid>
                <a:gridCol w="1081080"/>
                <a:gridCol w="1440000"/>
                <a:gridCol w="1935000"/>
                <a:gridCol w="944640"/>
                <a:gridCol w="2305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=2</a:t>
                      </a:r>
                      <a:r>
                        <a:rPr b="1" i="1" lang="en-US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(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тов)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=K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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 (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тов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1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1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1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1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45" name="Text Box 23"/>
          <p:cNvSpPr/>
          <p:nvPr/>
        </p:nvSpPr>
        <p:spPr>
          <a:xfrm>
            <a:off x="3203640" y="40464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тр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0"/>
          <p:cNvSpPr/>
          <p:nvPr/>
        </p:nvSpPr>
        <p:spPr>
          <a:xfrm>
            <a:off x="2771640" y="3429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1"/>
          <p:cNvSpPr/>
          <p:nvPr/>
        </p:nvSpPr>
        <p:spPr>
          <a:xfrm>
            <a:off x="2771640" y="40053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2"/>
          <p:cNvSpPr/>
          <p:nvPr/>
        </p:nvSpPr>
        <p:spPr>
          <a:xfrm>
            <a:off x="2771640" y="45813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3"/>
          <p:cNvSpPr/>
          <p:nvPr/>
        </p:nvSpPr>
        <p:spPr>
          <a:xfrm>
            <a:off x="2771640" y="515772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4"/>
          <p:cNvSpPr/>
          <p:nvPr/>
        </p:nvSpPr>
        <p:spPr>
          <a:xfrm>
            <a:off x="2771640" y="573408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5"/>
          <p:cNvSpPr/>
          <p:nvPr/>
        </p:nvSpPr>
        <p:spPr>
          <a:xfrm>
            <a:off x="4356000" y="3429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6"/>
          <p:cNvSpPr/>
          <p:nvPr/>
        </p:nvSpPr>
        <p:spPr>
          <a:xfrm>
            <a:off x="4356000" y="40053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7"/>
          <p:cNvSpPr/>
          <p:nvPr/>
        </p:nvSpPr>
        <p:spPr>
          <a:xfrm>
            <a:off x="4356000" y="45813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8"/>
          <p:cNvSpPr/>
          <p:nvPr/>
        </p:nvSpPr>
        <p:spPr>
          <a:xfrm>
            <a:off x="4356000" y="515772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9"/>
          <p:cNvSpPr/>
          <p:nvPr/>
        </p:nvSpPr>
        <p:spPr>
          <a:xfrm>
            <a:off x="4356000" y="573408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0"/>
          <p:cNvSpPr/>
          <p:nvPr/>
        </p:nvSpPr>
        <p:spPr>
          <a:xfrm>
            <a:off x="7020000" y="3429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1"/>
          <p:cNvSpPr/>
          <p:nvPr/>
        </p:nvSpPr>
        <p:spPr>
          <a:xfrm>
            <a:off x="7020000" y="40053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2"/>
          <p:cNvSpPr/>
          <p:nvPr/>
        </p:nvSpPr>
        <p:spPr>
          <a:xfrm>
            <a:off x="7020000" y="45813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3"/>
          <p:cNvSpPr/>
          <p:nvPr/>
        </p:nvSpPr>
        <p:spPr>
          <a:xfrm>
            <a:off x="7020000" y="515772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74"/>
          <p:cNvSpPr/>
          <p:nvPr/>
        </p:nvSpPr>
        <p:spPr>
          <a:xfrm>
            <a:off x="7020000" y="573408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5"/>
          <p:cNvSpPr/>
          <p:nvPr/>
        </p:nvSpPr>
        <p:spPr>
          <a:xfrm>
            <a:off x="1116000" y="836640"/>
            <a:ext cx="784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емя Мульти пишет письма, пользуясь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имвольным алфавитом.  Племя Пульти пользуется 32-символьным алфави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жди племён обменялись письмами. Письмо племени Муль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ит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 символов, а письмо племени Пуль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равни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ые  объёмы сообщений, содержащихся 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сьм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3"/>
          <p:cNvSpPr/>
          <p:nvPr/>
        </p:nvSpPr>
        <p:spPr>
          <a:xfrm>
            <a:off x="3203640" y="40464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тр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7"/>
          <p:cNvSpPr/>
          <p:nvPr/>
        </p:nvSpPr>
        <p:spPr>
          <a:xfrm>
            <a:off x="1042920" y="3716280"/>
            <a:ext cx="7848720" cy="16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, K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00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4, 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50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5,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8"/>
          <p:cNvSpPr/>
          <p:nvPr/>
        </p:nvSpPr>
        <p:spPr>
          <a:xfrm>
            <a:off x="1042920" y="5157720"/>
            <a:ext cx="7848720" cy="13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ый объём письма племени Пульти больше чем объём письма племени Муль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40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3"/>
          <p:cNvSpPr/>
          <p:nvPr/>
        </p:nvSpPr>
        <p:spPr>
          <a:xfrm>
            <a:off x="3203640" y="40464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тр. 2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1116000" y="83664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записи текста использовался 64-символьный алфавит. Какой объём информации в байтах содержат 10 страниц текста, если на каждой странице расположено 32 строки по 64 символа в стро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1042920" y="2781360"/>
            <a:ext cx="784872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6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0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2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4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480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волов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1042920" y="4508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5360 бай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Object 10" descr=""/>
          <p:cNvPicPr/>
          <p:nvPr/>
        </p:nvPicPr>
        <p:blipFill>
          <a:blip r:embed="rId1"/>
          <a:stretch/>
        </p:blipFill>
        <p:spPr>
          <a:xfrm>
            <a:off x="3059280" y="5805360"/>
            <a:ext cx="3241440" cy="68580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11"/>
          <p:cNvSpPr/>
          <p:nvPr/>
        </p:nvSpPr>
        <p:spPr>
          <a:xfrm>
            <a:off x="1042920" y="37162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/ 8 =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480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 / 8 = 15360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ай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AutoShape 96"/>
          <p:cNvSpPr/>
          <p:nvPr/>
        </p:nvSpPr>
        <p:spPr>
          <a:xfrm>
            <a:off x="1116000" y="5661000"/>
            <a:ext cx="7343640" cy="11970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93"/>
          <p:cNvSpPr/>
          <p:nvPr/>
        </p:nvSpPr>
        <p:spPr>
          <a:xfrm>
            <a:off x="3492360" y="3789360"/>
            <a:ext cx="5507280" cy="17272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91"/>
          <p:cNvSpPr/>
          <p:nvPr/>
        </p:nvSpPr>
        <p:spPr>
          <a:xfrm>
            <a:off x="3564000" y="2060640"/>
            <a:ext cx="5400720" cy="17287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Заголовок 2"/>
          <p:cNvSpPr/>
          <p:nvPr/>
        </p:nvSpPr>
        <p:spPr>
          <a:xfrm>
            <a:off x="1042920" y="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187280" y="692280"/>
            <a:ext cx="7704360" cy="12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ФАВ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вся совокупность символов, используемых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отором языке  для  представления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ЩНОСТЬ  АЛФАВИ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это  число  символов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фав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1258920" y="2349360"/>
            <a:ext cx="1584360" cy="1224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= 2 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3635280" y="2205000"/>
            <a:ext cx="647640" cy="649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3637080" y="2997360"/>
            <a:ext cx="647640" cy="649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74"/>
          <p:cNvSpPr/>
          <p:nvPr/>
        </p:nvSpPr>
        <p:spPr>
          <a:xfrm>
            <a:off x="2843280" y="2781360"/>
            <a:ext cx="720720" cy="216000"/>
          </a:xfrm>
          <a:prstGeom prst="rightArrow">
            <a:avLst>
              <a:gd name="adj1" fmla="val 50000"/>
              <a:gd name="adj2" fmla="val 83417"/>
            </a:avLst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4356000" y="2205000"/>
            <a:ext cx="4464000" cy="649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ЩНОСТЬ АЛФАВИ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4356000" y="2997360"/>
            <a:ext cx="4465800" cy="649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ОРМАЦИОННЫЙ ВЕС СИМВО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ичество информации в одном симво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637080" y="4654440"/>
            <a:ext cx="647640" cy="649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3637080" y="3933720"/>
            <a:ext cx="647640" cy="649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4443480" y="3933720"/>
            <a:ext cx="4464000" cy="649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ИЧЕСТВО  СИМВОЛОВ В СООБЩЕНИИ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4429080" y="4654440"/>
            <a:ext cx="4465800" cy="649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ИЧЕСТВО ИНФОРМ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ООБЩЕН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1187280" y="4006800"/>
            <a:ext cx="1584360" cy="1224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= K</a:t>
            </a:r>
            <a:r>
              <a:rPr b="1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94"/>
          <p:cNvSpPr/>
          <p:nvPr/>
        </p:nvSpPr>
        <p:spPr>
          <a:xfrm>
            <a:off x="2771640" y="4581360"/>
            <a:ext cx="720720" cy="216000"/>
          </a:xfrm>
          <a:prstGeom prst="rightArrow">
            <a:avLst>
              <a:gd name="adj1" fmla="val 50000"/>
              <a:gd name="adj2" fmla="val 83417"/>
            </a:avLst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5"/>
          <p:cNvSpPr/>
          <p:nvPr/>
        </p:nvSpPr>
        <p:spPr>
          <a:xfrm>
            <a:off x="1116000" y="560880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килобайт = 1 Кб = 1024 байта = 2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ай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мегабайт = 1 Мб = 1024 Кб = 2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10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б = 2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ай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гигабайт = 1 Гб = 1024 Мб = 2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Мб = 2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б = 2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3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ай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терабайт = 1 Тб = 1024 Гб = 2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Гб = 2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Мб = 2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3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б = 2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4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ай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5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5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35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45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500"/>
                            </p:stCondLst>
                            <p:childTnLst>
                              <p:par>
                                <p:cTn id="5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6500"/>
                            </p:stCondLst>
                            <p:childTnLst>
                              <p:par>
                                <p:cTn id="5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75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85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9500"/>
                            </p:stCondLst>
                            <p:childTnLst>
                              <p:par>
                                <p:cTn id="5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15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250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35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45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55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3"/>
          <p:cNvSpPr/>
          <p:nvPr/>
        </p:nvSpPr>
        <p:spPr>
          <a:xfrm>
            <a:off x="1692360" y="1628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4 (стр. 25-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 №40, 42-55 (стр.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Ключевые сл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99640" y="1341360"/>
            <a:ext cx="764388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формационный вес симво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формационный объём сообщ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диницы измерения информ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9218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  <a:ea typeface="Arial"/>
              </a:rPr>
              <a:t>Алфавитный подход к измерению информ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971640" y="1341360"/>
            <a:ext cx="7993080" cy="35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символ некоторого сообщения имеет определённый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формационный ве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есё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иксированн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личество информ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символы одного алфавита имеют один и тот же вес, зависящий от мощности алфави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формационный ве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имвола двоичного алфави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ят за минимальную единицу измерения информации и называетс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 би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Содержимое 3" descr=""/>
          <p:cNvPicPr/>
          <p:nvPr/>
        </p:nvPicPr>
        <p:blipFill>
          <a:blip r:embed="rId1"/>
          <a:stretch/>
        </p:blipFill>
        <p:spPr>
          <a:xfrm>
            <a:off x="1305000" y="1450800"/>
            <a:ext cx="7735680" cy="53517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нформационный вес символа произвольного алфави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1116000" y="981000"/>
            <a:ext cx="76327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фавит племени Пульти содержит 8 символов. Каков информационный вес символа этого алфави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Заголовок 2"/>
          <p:cNvSpPr/>
          <p:nvPr/>
        </p:nvSpPr>
        <p:spPr>
          <a:xfrm>
            <a:off x="1116000" y="189000"/>
            <a:ext cx="784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Задача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1258920" y="2421000"/>
            <a:ext cx="7632720" cy="19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Решение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ставим краткую запись условия зада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=8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–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1187280" y="5022720"/>
            <a:ext cx="7777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учетом исходных данных: 8 = 2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тсюда: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1187280" y="4159080"/>
            <a:ext cx="7777440" cy="11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естно соотношение, связывающее величин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:      N = 2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1187280" y="5599080"/>
            <a:ext cx="7777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Ответ</a:t>
            </a: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3 би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Заголовок 2"/>
          <p:cNvSpPr/>
          <p:nvPr/>
        </p:nvSpPr>
        <p:spPr>
          <a:xfrm>
            <a:off x="1150920" y="0"/>
            <a:ext cx="7993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Информационный объем сооб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116000" y="1413000"/>
            <a:ext cx="78487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ый объём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общения равен произведению количеств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мволов в сообщении на информационный вес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вола алфави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7"/>
          <p:cNvSpPr/>
          <p:nvPr/>
        </p:nvSpPr>
        <p:spPr>
          <a:xfrm>
            <a:off x="3708360" y="2997360"/>
            <a:ext cx="5111640" cy="1800000"/>
          </a:xfrm>
          <a:prstGeom prst="roundRect">
            <a:avLst>
              <a:gd name="adj" fmla="val 16667"/>
            </a:avLst>
          </a:prstGeom>
          <a:solidFill>
            <a:srgbClr val="66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4716360" y="3213000"/>
            <a:ext cx="528840" cy="567000"/>
          </a:xfrm>
          <a:prstGeom prst="rect">
            <a:avLst/>
          </a:prstGeom>
          <a:solidFill>
            <a:srgbClr val="008bea"/>
          </a:solidFill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4716360" y="3936960"/>
            <a:ext cx="503280" cy="644400"/>
          </a:xfrm>
          <a:prstGeom prst="rect">
            <a:avLst/>
          </a:prstGeom>
          <a:solidFill>
            <a:srgbClr val="008bea"/>
          </a:solidFill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1763640" y="3429000"/>
            <a:ext cx="270036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4"/>
          <p:cNvSpPr/>
          <p:nvPr/>
        </p:nvSpPr>
        <p:spPr>
          <a:xfrm>
            <a:off x="2557080" y="3575160"/>
            <a:ext cx="11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= K  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5364000" y="3141720"/>
            <a:ext cx="2951280" cy="649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Число симво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 символьном сообщ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5364000" y="4005360"/>
            <a:ext cx="2951280" cy="649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оличество информ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 символьном сообщ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4"/>
          <p:cNvSpPr/>
          <p:nvPr/>
        </p:nvSpPr>
        <p:spPr>
          <a:xfrm>
            <a:off x="3177360" y="36450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Object 1"/>
          <p:cNvGraphicFramePr/>
          <p:nvPr/>
        </p:nvGraphicFramePr>
        <p:xfrm>
          <a:off x="2987640" y="5157720"/>
          <a:ext cx="36990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5157720"/>
                    <a:ext cx="36990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1116000" y="9810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ение, записанное буквами 32-символьного алфавита, содержит 140 символов. Какое количество информации оно несё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Заголовок 2"/>
          <p:cNvSpPr/>
          <p:nvPr/>
        </p:nvSpPr>
        <p:spPr>
          <a:xfrm>
            <a:off x="1116000" y="189000"/>
            <a:ext cx="784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Задача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1116000" y="2205000"/>
            <a:ext cx="201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32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= 140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042920" y="5157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700 би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2987640" y="2565360"/>
            <a:ext cx="50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= 2 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900000" y="4076640"/>
            <a:ext cx="80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32 = 2 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= 5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= 140    5 = 700 (би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3825000" y="26370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4114080" y="414972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ая соединительная линия 10"/>
          <p:cNvSpPr/>
          <p:nvPr/>
        </p:nvSpPr>
        <p:spPr>
          <a:xfrm>
            <a:off x="2484360" y="2708280"/>
            <a:ext cx="0" cy="1125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1116000" y="981000"/>
            <a:ext cx="78487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ое сообщение объёмом 720 битов состоит из 180 символов. Какова мощность алфавита, с помощью которого записано это сообщ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Заголовок 2"/>
          <p:cNvSpPr/>
          <p:nvPr/>
        </p:nvSpPr>
        <p:spPr>
          <a:xfrm>
            <a:off x="1116000" y="189000"/>
            <a:ext cx="784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Задача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1042920" y="2852640"/>
            <a:ext cx="7848720" cy="9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720;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180;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–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1042920" y="5300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6 симво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971640" y="3860640"/>
            <a:ext cx="784836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2 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 K   i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 I/K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1042920" y="4581360"/>
            <a:ext cx="7848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720/180 = 4 (бита);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имвол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2"/>
          <p:cNvSpPr/>
          <p:nvPr/>
        </p:nvSpPr>
        <p:spPr>
          <a:xfrm>
            <a:off x="2961360" y="393372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Заголовок 2"/>
          <p:cNvSpPr/>
          <p:nvPr/>
        </p:nvSpPr>
        <p:spPr>
          <a:xfrm>
            <a:off x="1116000" y="189000"/>
            <a:ext cx="7848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Единицы измерения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3924360" y="1341360"/>
            <a:ext cx="4933800" cy="179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ЬЮТЕРНЫЙ  АЛФАВ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усские (РУС) бу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атинские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AT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) бу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цифры  (1, 2, 3, 4, 5, 6, 7, 8, 9,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атематические знаки (+, -, *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^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=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чие символы («», №, %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, ;, #, &amp;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9"/>
          <p:cNvSpPr/>
          <p:nvPr/>
        </p:nvSpPr>
        <p:spPr>
          <a:xfrm>
            <a:off x="3205080" y="2276640"/>
            <a:ext cx="71928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971640" y="3141720"/>
            <a:ext cx="7777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фавит содержит 256 симво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56 =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=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Object 12" descr=""/>
          <p:cNvPicPr/>
          <p:nvPr/>
        </p:nvPicPr>
        <p:blipFill>
          <a:blip r:embed="rId1"/>
          <a:stretch/>
        </p:blipFill>
        <p:spPr>
          <a:xfrm>
            <a:off x="4572000" y="5734080"/>
            <a:ext cx="3343320" cy="6858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2795400" cy="151776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4"/>
          <p:cNvSpPr/>
          <p:nvPr/>
        </p:nvSpPr>
        <p:spPr>
          <a:xfrm>
            <a:off x="1042920" y="4221000"/>
            <a:ext cx="7777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7920"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 бай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информационный вес символ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фавита мощностью 256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1042920" y="5229360"/>
            <a:ext cx="7777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 байт = 8 би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Владелец</cp:lastModifiedBy>
  <dcterms:modified xsi:type="dcterms:W3CDTF">2011-10-10T10:17:05Z</dcterms:modified>
  <cp:revision>23</cp:revision>
  <dc:subject/>
  <dc:title>Презентация PowerPoint</dc:title>
</cp:coreProperties>
</file>