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ACD-8E4C-46D9-B910-3580D932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2F5-7F52-4B75-83D5-B72625E0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68D-853D-4FE3-BCDA-7EE27B44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0DA-E577-4C02-AA0D-CE0F77BA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B5D-7F76-4C82-917E-2A10EFEE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211-F3EC-4801-BACE-1065CBC2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23D-09EB-4C07-9314-2B222C52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B0F-BD54-4A43-B268-3F4FB048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D0C-FD95-43F3-9141-2BD8BF46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02A-F2F7-4B83-9F8A-A193DDBA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58B-A80A-4C3E-84AF-82138495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861-569E-446D-B6F1-D4E850CA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9784-68E7-4528-A8F7-AE7CF10720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4604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ЗМЕРЕНИЕ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116000" y="981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е сообщение объёмом 4 Кбайта состоит из 4096 символов. Каков информационный вес символа этого сообщения?  Сколько символов содержит алфавит, с помощью которого записано это сообщ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971640" y="2852640"/>
            <a:ext cx="77770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Кб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096;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?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нформационный вес символа = 8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содержит 256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971640" y="378936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 (Кб) = 4  1024   8 (бит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042920" y="4292640"/>
            <a:ext cx="7777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    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I/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042920" y="479736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   1024   8/4096 = 8 (би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1042920" y="530064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56 (симво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2961360" y="3860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3825000" y="3860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2890080" y="4365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1881720" y="486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2817000" y="486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68360" y="1052640"/>
            <a:ext cx="84247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минимальная единица измерения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й вес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а алфавита и мощност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фавита связаны между собой соотношением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формационный объё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общения равен произведению количеств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мволов в сообщении на информационный вес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мвола алфавит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*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байт = 8 б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ит, байт, килобайт, мегабайт, гигабайт, терабай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единицы измерения  информации. Каждая следующая единица больше предыдущей в 1024 (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042920" y="155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ужно знать для определения информационного веса симво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а некоторого естественного или формального язы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116000" y="162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суть алфавитного подхода к измерению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042920" y="162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инято за минимальную единицу измерения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042920" y="162864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информационный ве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мвола алфавита мощностью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яя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87280" y="2924280"/>
          <a:ext cx="7283520" cy="3475080"/>
        </p:xfrm>
        <a:graphic>
          <a:graphicData uri="http://schemas.openxmlformats.org/drawingml/2006/table">
            <a:tbl>
              <a:tblPr/>
              <a:tblGrid>
                <a:gridCol w="2427480"/>
                <a:gridCol w="2428920"/>
                <a:gridCol w="2427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=2</a:t>
                      </a:r>
                      <a:r>
                        <a:rPr b="1" i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(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о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1" name="Text Box 44"/>
          <p:cNvSpPr/>
          <p:nvPr/>
        </p:nvSpPr>
        <p:spPr>
          <a:xfrm>
            <a:off x="4427640" y="3500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5"/>
          <p:cNvSpPr/>
          <p:nvPr/>
        </p:nvSpPr>
        <p:spPr>
          <a:xfrm>
            <a:off x="4427640" y="407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6"/>
          <p:cNvSpPr/>
          <p:nvPr/>
        </p:nvSpPr>
        <p:spPr>
          <a:xfrm>
            <a:off x="4427640" y="4653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7"/>
          <p:cNvSpPr/>
          <p:nvPr/>
        </p:nvSpPr>
        <p:spPr>
          <a:xfrm>
            <a:off x="4427640" y="522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8"/>
          <p:cNvSpPr/>
          <p:nvPr/>
        </p:nvSpPr>
        <p:spPr>
          <a:xfrm>
            <a:off x="4427640" y="580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9"/>
          <p:cNvSpPr/>
          <p:nvPr/>
        </p:nvSpPr>
        <p:spPr>
          <a:xfrm>
            <a:off x="6732720" y="3500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0"/>
          <p:cNvSpPr/>
          <p:nvPr/>
        </p:nvSpPr>
        <p:spPr>
          <a:xfrm>
            <a:off x="6732720" y="407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1"/>
          <p:cNvSpPr/>
          <p:nvPr/>
        </p:nvSpPr>
        <p:spPr>
          <a:xfrm>
            <a:off x="6732720" y="4653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2"/>
          <p:cNvSpPr/>
          <p:nvPr/>
        </p:nvSpPr>
        <p:spPr>
          <a:xfrm>
            <a:off x="6732720" y="522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6732720" y="580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4"/>
          <p:cNvSpPr/>
          <p:nvPr/>
        </p:nvSpPr>
        <p:spPr>
          <a:xfrm>
            <a:off x="1042920" y="1557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 определить информационный объём сообщения, представленн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ами некоторого естественного или формальн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3132000" y="1052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1116000" y="112536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количество информации в сообщении из К символов алфавита мощностью N, заполняя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58920" y="2421000"/>
          <a:ext cx="7705800" cy="4032360"/>
        </p:xfrm>
        <a:graphic>
          <a:graphicData uri="http://schemas.openxmlformats.org/drawingml/2006/table">
            <a:tbl>
              <a:tblPr/>
              <a:tblGrid>
                <a:gridCol w="1081080"/>
                <a:gridCol w="1440000"/>
                <a:gridCol w="1935000"/>
                <a:gridCol w="944640"/>
                <a:gridCol w="2305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=2</a:t>
                      </a:r>
                      <a:r>
                        <a:rPr b="1" i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(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ов)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K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 (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45" name="Text Box 23"/>
          <p:cNvSpPr/>
          <p:nvPr/>
        </p:nvSpPr>
        <p:spPr>
          <a:xfrm>
            <a:off x="3203640" y="404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0"/>
          <p:cNvSpPr/>
          <p:nvPr/>
        </p:nvSpPr>
        <p:spPr>
          <a:xfrm>
            <a:off x="2771640" y="342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1"/>
          <p:cNvSpPr/>
          <p:nvPr/>
        </p:nvSpPr>
        <p:spPr>
          <a:xfrm>
            <a:off x="2771640" y="4005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2"/>
          <p:cNvSpPr/>
          <p:nvPr/>
        </p:nvSpPr>
        <p:spPr>
          <a:xfrm>
            <a:off x="2771640" y="458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3"/>
          <p:cNvSpPr/>
          <p:nvPr/>
        </p:nvSpPr>
        <p:spPr>
          <a:xfrm>
            <a:off x="2771640" y="5157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4"/>
          <p:cNvSpPr/>
          <p:nvPr/>
        </p:nvSpPr>
        <p:spPr>
          <a:xfrm>
            <a:off x="2771640" y="57340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5"/>
          <p:cNvSpPr/>
          <p:nvPr/>
        </p:nvSpPr>
        <p:spPr>
          <a:xfrm>
            <a:off x="4356000" y="342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6"/>
          <p:cNvSpPr/>
          <p:nvPr/>
        </p:nvSpPr>
        <p:spPr>
          <a:xfrm>
            <a:off x="4356000" y="4005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7"/>
          <p:cNvSpPr/>
          <p:nvPr/>
        </p:nvSpPr>
        <p:spPr>
          <a:xfrm>
            <a:off x="4356000" y="458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8"/>
          <p:cNvSpPr/>
          <p:nvPr/>
        </p:nvSpPr>
        <p:spPr>
          <a:xfrm>
            <a:off x="4356000" y="5157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9"/>
          <p:cNvSpPr/>
          <p:nvPr/>
        </p:nvSpPr>
        <p:spPr>
          <a:xfrm>
            <a:off x="4356000" y="57340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0"/>
          <p:cNvSpPr/>
          <p:nvPr/>
        </p:nvSpPr>
        <p:spPr>
          <a:xfrm>
            <a:off x="7020000" y="3429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1"/>
          <p:cNvSpPr/>
          <p:nvPr/>
        </p:nvSpPr>
        <p:spPr>
          <a:xfrm>
            <a:off x="7020000" y="400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2"/>
          <p:cNvSpPr/>
          <p:nvPr/>
        </p:nvSpPr>
        <p:spPr>
          <a:xfrm>
            <a:off x="7020000" y="4581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3"/>
          <p:cNvSpPr/>
          <p:nvPr/>
        </p:nvSpPr>
        <p:spPr>
          <a:xfrm>
            <a:off x="7020000" y="5157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4"/>
          <p:cNvSpPr/>
          <p:nvPr/>
        </p:nvSpPr>
        <p:spPr>
          <a:xfrm>
            <a:off x="7020000" y="57340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5"/>
          <p:cNvSpPr/>
          <p:nvPr/>
        </p:nvSpPr>
        <p:spPr>
          <a:xfrm>
            <a:off x="1116000" y="8366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емя Мульти пишет письма, пользуясь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мвольным алфавитом.  Племя Пульти пользуется 32-символьным алфави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жди племён обменялись письмами. Письмо племени Муль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символов, а письмо племени Пуль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равн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е  объёмы сообщений, содержащихся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3203640" y="404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7"/>
          <p:cNvSpPr/>
          <p:nvPr/>
        </p:nvSpPr>
        <p:spPr>
          <a:xfrm>
            <a:off x="1042920" y="3716280"/>
            <a:ext cx="784872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 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0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, 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0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8"/>
          <p:cNvSpPr/>
          <p:nvPr/>
        </p:nvSpPr>
        <p:spPr>
          <a:xfrm>
            <a:off x="1042920" y="5157720"/>
            <a:ext cx="7848720" cy="13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объём письма племени Пульти больше чем объём письма племени Муль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3"/>
          <p:cNvSpPr/>
          <p:nvPr/>
        </p:nvSpPr>
        <p:spPr>
          <a:xfrm>
            <a:off x="3203640" y="404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116000" y="836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текста использовался 64-символьный алфавит. Какой объём информации в байтах содержат 10 страниц текста, если на каждой странице расположено 32 строки по 64 символа в ст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042920" y="2781360"/>
            <a:ext cx="7848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4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48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ов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1042920" y="4508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360 бай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ject 10" descr=""/>
          <p:cNvPicPr/>
          <p:nvPr/>
        </p:nvPicPr>
        <p:blipFill>
          <a:blip r:embed="rId1"/>
          <a:stretch/>
        </p:blipFill>
        <p:spPr>
          <a:xfrm>
            <a:off x="3059280" y="5805360"/>
            <a:ext cx="324144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1"/>
          <p:cNvSpPr/>
          <p:nvPr/>
        </p:nvSpPr>
        <p:spPr>
          <a:xfrm>
            <a:off x="1042920" y="3716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/ 8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80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/ 8 = 1536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й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96"/>
          <p:cNvSpPr/>
          <p:nvPr/>
        </p:nvSpPr>
        <p:spPr>
          <a:xfrm>
            <a:off x="1116000" y="5661000"/>
            <a:ext cx="7343640" cy="1197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3"/>
          <p:cNvSpPr/>
          <p:nvPr/>
        </p:nvSpPr>
        <p:spPr>
          <a:xfrm>
            <a:off x="3492360" y="3789360"/>
            <a:ext cx="5507280" cy="1727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91"/>
          <p:cNvSpPr/>
          <p:nvPr/>
        </p:nvSpPr>
        <p:spPr>
          <a:xfrm>
            <a:off x="3564000" y="2060640"/>
            <a:ext cx="5400720" cy="1728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Заголовок 2"/>
          <p:cNvSpPr/>
          <p:nvPr/>
        </p:nvSpPr>
        <p:spPr>
          <a:xfrm>
            <a:off x="1042920" y="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187280" y="692280"/>
            <a:ext cx="770436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вся совокупность символов, используемых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ом языке  для  представления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ЩНОСТЬ  АЛФАВ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 число  символов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фав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258920" y="2349360"/>
            <a:ext cx="15843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= 2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3635280" y="2205000"/>
            <a:ext cx="647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37080" y="2997360"/>
            <a:ext cx="64764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4"/>
          <p:cNvSpPr/>
          <p:nvPr/>
        </p:nvSpPr>
        <p:spPr>
          <a:xfrm>
            <a:off x="2843280" y="2781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4356000" y="2205000"/>
            <a:ext cx="44640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ЩНОСТЬ АЛФАВИ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4356000" y="2997360"/>
            <a:ext cx="446580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ЫЙ ВЕС СИМВ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нформации в одном симв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637080" y="4654440"/>
            <a:ext cx="647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637080" y="3933720"/>
            <a:ext cx="647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4443480" y="3933720"/>
            <a:ext cx="44640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 СИМВОЛОВ В СООБЩЕНИ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4429080" y="4654440"/>
            <a:ext cx="44658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НФОРМ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ОБЩ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187280" y="4006800"/>
            <a:ext cx="15843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K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4"/>
          <p:cNvSpPr/>
          <p:nvPr/>
        </p:nvSpPr>
        <p:spPr>
          <a:xfrm>
            <a:off x="2771640" y="4581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5"/>
          <p:cNvSpPr/>
          <p:nvPr/>
        </p:nvSpPr>
        <p:spPr>
          <a:xfrm>
            <a:off x="1116000" y="56088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килобайт = 1 Кб = 1024 байта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мегабайт = 1 Мб = 1024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гигабайт = 1 Гб = 1024 М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рабайт = 1 Тб = 1024 Г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7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4 (стр. 25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40, 42-55 (стр.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99640" y="1341360"/>
            <a:ext cx="764388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ый вес симв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ый объём сооб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диницы измерен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921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Алфавитный подход к измерению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971640" y="1341360"/>
            <a:ext cx="79930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символ некоторого сообщения имеет определённы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формационный в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сё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иксирован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личество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имволы одного алфавита имеют один и тот же вес, зависящий от мощности алфав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формационный в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мвола двоичного алфави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 за минимальную единицу измерения информации и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б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Содержимое 3" descr=""/>
          <p:cNvPicPr/>
          <p:nvPr/>
        </p:nvPicPr>
        <p:blipFill>
          <a:blip r:embed="rId1"/>
          <a:stretch/>
        </p:blipFill>
        <p:spPr>
          <a:xfrm>
            <a:off x="1305000" y="1450800"/>
            <a:ext cx="7735680" cy="5351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ционный вес символа произвольного алфави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116000" y="981000"/>
            <a:ext cx="7632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племени Пульти содержит 8 символов. Каков информационный вес символа этого алфав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258920" y="2421000"/>
            <a:ext cx="763272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авим краткую запись условия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=8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187280" y="5022720"/>
            <a:ext cx="777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четом исходных данных: 8 = 2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тсюда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187280" y="4159080"/>
            <a:ext cx="77774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 соотношение, связывающее величин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:      N = 2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187280" y="5599080"/>
            <a:ext cx="777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 б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2"/>
          <p:cNvSpPr/>
          <p:nvPr/>
        </p:nvSpPr>
        <p:spPr>
          <a:xfrm>
            <a:off x="1150920" y="0"/>
            <a:ext cx="799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нформационный объем со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116000" y="1413000"/>
            <a:ext cx="7848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объё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бщения равен произведению количеств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мволов в сообщении на информационный ве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а алфави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3708360" y="2997360"/>
            <a:ext cx="5111640" cy="180000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716360" y="3213000"/>
            <a:ext cx="528840" cy="567000"/>
          </a:xfrm>
          <a:prstGeom prst="rect">
            <a:avLst/>
          </a:prstGeom>
          <a:solidFill>
            <a:srgbClr val="008bea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716360" y="3936960"/>
            <a:ext cx="503280" cy="644400"/>
          </a:xfrm>
          <a:prstGeom prst="rect">
            <a:avLst/>
          </a:prstGeom>
          <a:solidFill>
            <a:srgbClr val="008bea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763640" y="3429000"/>
            <a:ext cx="2700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2557080" y="357516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K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5364000" y="3141720"/>
            <a:ext cx="2951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исло симво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имвольном сообщ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364000" y="4005360"/>
            <a:ext cx="2951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оличество инфор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имвольном сообщ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3177360" y="3645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1"/>
          <p:cNvGraphicFramePr/>
          <p:nvPr/>
        </p:nvGraphicFramePr>
        <p:xfrm>
          <a:off x="2987640" y="5157720"/>
          <a:ext cx="3699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5157720"/>
                    <a:ext cx="3699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116000" y="981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, записанное буквами 32-символьного алфавита, содержит 140 символов. Какое количество информации оно несё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116000" y="220500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= 14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042920" y="5157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700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987640" y="2565360"/>
            <a:ext cx="50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900000" y="407664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2 = 2 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 5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140    5 = 700 (би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3825000" y="263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4114080" y="4149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0"/>
          <p:cNvSpPr/>
          <p:nvPr/>
        </p:nvSpPr>
        <p:spPr>
          <a:xfrm>
            <a:off x="2484360" y="2708280"/>
            <a:ext cx="0" cy="11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116000" y="981000"/>
            <a:ext cx="784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е сообщение объёмом 720 битов состоит из 180 символов. Какова мощность алфавита, с помощью которого записано это сообщ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042920" y="2852640"/>
            <a:ext cx="784872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20;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80;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042920" y="530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6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971640" y="3860640"/>
            <a:ext cx="78483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   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I/K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042920" y="4581360"/>
            <a:ext cx="7848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720/180 = 4 (бита);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имво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961360" y="3933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Заголовок 2"/>
          <p:cNvSpPr/>
          <p:nvPr/>
        </p:nvSpPr>
        <p:spPr>
          <a:xfrm>
            <a:off x="1116000" y="189000"/>
            <a:ext cx="78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Единицы измерения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924360" y="1341360"/>
            <a:ext cx="4933800" cy="179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ЬЮТЕРНЫЙ  АЛФАВ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усские (РУС)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тинские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фры  (1, 2, 3, 4, 5, 6, 7, 8, 9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ематические знаки (+, -, *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^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чие символы («», №, %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, ;, #, &amp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>
            <a:off x="3205080" y="2276640"/>
            <a:ext cx="7192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971640" y="3141720"/>
            <a:ext cx="7777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содержит 256 сим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 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=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ject 12" descr=""/>
          <p:cNvPicPr/>
          <p:nvPr/>
        </p:nvPicPr>
        <p:blipFill>
          <a:blip r:embed="rId1"/>
          <a:stretch/>
        </p:blipFill>
        <p:spPr>
          <a:xfrm>
            <a:off x="4572000" y="5734080"/>
            <a:ext cx="3343320" cy="68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2795400" cy="15177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4"/>
          <p:cNvSpPr/>
          <p:nvPr/>
        </p:nvSpPr>
        <p:spPr>
          <a:xfrm>
            <a:off x="1042920" y="4221000"/>
            <a:ext cx="7777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792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нформационный вес символ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а мощностью 256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042920" y="522936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байт = 8 б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7:05Z</dcterms:modified>
  <cp:revision>23</cp:revision>
  <dc:subject/>
  <dc:title>Презентация PowerPoint</dc:title>
</cp:coreProperties>
</file>