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8D7-2E63-411E-8DA4-963DC622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FB5-CA8C-4249-BEBF-26E72745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145-F386-4D7D-87F3-42D99163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48C-BEE1-4A60-927B-9AA945F2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4E5-D7EF-4C80-B81A-98D44CDD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B64-C31B-40AF-86BB-8176A292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697-8302-47E1-B482-47857CF9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658-C23F-433D-B766-E6C1398B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FA3-1862-4BF7-B8C3-9B108711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915-3777-4A38-8326-AA99749B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9A4-6119-4B0E-B758-910A64C5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A8F-F8F1-413A-946A-43CD5B8B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B5EC-12AF-4E79-A8FE-5CA025E55B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Ы  АЛГОРИТ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http://s001.radikal.ru/i195/1006/0e/8939ad17926c.jpg"/>
          <p:cNvPicPr/>
          <p:nvPr/>
        </p:nvPicPr>
        <p:blipFill>
          <a:blip r:embed="rId2"/>
          <a:stretch/>
        </p:blipFill>
        <p:spPr>
          <a:xfrm>
            <a:off x="539640" y="2492280"/>
            <a:ext cx="2808360" cy="2730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http://s001.radikal.ru/i195/1006/0e/8939ad17926c.jpg"/>
          <p:cNvPicPr/>
          <p:nvPr/>
        </p:nvPicPr>
        <p:blipFill>
          <a:blip r:embed="rId3"/>
          <a:stretch/>
        </p:blipFill>
        <p:spPr>
          <a:xfrm>
            <a:off x="3419640" y="2421000"/>
            <a:ext cx="2809800" cy="2722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2" descr="http://s001.radikal.ru/i195/1006/0e/8939ad17926c.jpg"/>
          <p:cNvPicPr/>
          <p:nvPr/>
        </p:nvPicPr>
        <p:blipFill>
          <a:blip r:embed="rId4"/>
          <a:stretch/>
        </p:blipFill>
        <p:spPr>
          <a:xfrm>
            <a:off x="6334200" y="2421000"/>
            <a:ext cx="2809800" cy="27226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539640" y="83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 перемещения зайца из клетки 1 в клетку 2, а волка - из клетки 2 -  в клетку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налогия с перемеще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http://www.xrest.ru/images/collection/00953/624/original.jpg"/>
          <p:cNvPicPr/>
          <p:nvPr/>
        </p:nvPicPr>
        <p:blipFill>
          <a:blip r:embed="rId5"/>
          <a:stretch/>
        </p:blipFill>
        <p:spPr>
          <a:xfrm>
            <a:off x="1116000" y="3355920"/>
            <a:ext cx="1222560" cy="1462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http://img-fotki.yandex.ru/get/4704/cadi-1986.51a/0_802f6_31b39c0b_XL"/>
          <p:cNvPicPr/>
          <p:nvPr/>
        </p:nvPicPr>
        <p:blipFill>
          <a:blip r:embed="rId6"/>
          <a:stretch/>
        </p:blipFill>
        <p:spPr>
          <a:xfrm>
            <a:off x="3851280" y="2781360"/>
            <a:ext cx="1660680" cy="199080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28"/>
          <p:cNvSpPr/>
          <p:nvPr/>
        </p:nvSpPr>
        <p:spPr>
          <a:xfrm>
            <a:off x="2916360" y="1916280"/>
            <a:ext cx="720720" cy="215640"/>
          </a:xfrm>
          <a:prstGeom prst="leftRightArrow">
            <a:avLst>
              <a:gd name="adj1" fmla="val 50000"/>
              <a:gd name="adj2" fmla="val 66535"/>
            </a:avLst>
          </a:prstGeom>
          <a:gradFill rotWithShape="0">
            <a:gsLst>
              <a:gs pos="0">
                <a:srgbClr val="2592ff"/>
              </a:gs>
              <a:gs pos="50000">
                <a:srgbClr val="e8fafc"/>
              </a:gs>
              <a:gs pos="100000">
                <a:srgbClr val="2592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0"/>
          <p:cNvSpPr/>
          <p:nvPr/>
        </p:nvSpPr>
        <p:spPr>
          <a:xfrm>
            <a:off x="1403280" y="1844640"/>
            <a:ext cx="647640" cy="647640"/>
          </a:xfrm>
          <a:prstGeom prst="ellipse">
            <a:avLst/>
          </a:prstGeom>
          <a:solidFill>
            <a:srgbClr val="e8fafc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1"/>
          <p:cNvSpPr/>
          <p:nvPr/>
        </p:nvSpPr>
        <p:spPr>
          <a:xfrm>
            <a:off x="4427640" y="1700280"/>
            <a:ext cx="647640" cy="647640"/>
          </a:xfrm>
          <a:prstGeom prst="ellipse">
            <a:avLst/>
          </a:prstGeom>
          <a:solidFill>
            <a:srgbClr val="e8fafc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3"/>
          <p:cNvSpPr/>
          <p:nvPr/>
        </p:nvSpPr>
        <p:spPr>
          <a:xfrm>
            <a:off x="7308720" y="1628640"/>
            <a:ext cx="648000" cy="648000"/>
          </a:xfrm>
          <a:prstGeom prst="ellipse">
            <a:avLst/>
          </a:prstGeom>
          <a:solidFill>
            <a:srgbClr val="e8fafc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859280" y="1197000"/>
            <a:ext cx="27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ужна клетка 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0.65764 -0.00139 E">
                                      <p:cBhvr>
                                        <p:cTn id="49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44444E-006 L -0.27969 0.00186 E">
                                      <p:cBhvr>
                                        <p:cTn id="49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764 -0.00139 L 0.32691 -0.00139 E">
                                      <p:cBhvr>
                                        <p:cTn id="50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абличные вел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68360" y="98100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актической деятельности человека часто используются всевозможные таблиц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580000" y="3213000"/>
            <a:ext cx="25178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ямоуго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58920" y="3213000"/>
            <a:ext cx="26636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ней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 flipV="1">
            <a:off x="3492360" y="2492280"/>
            <a:ext cx="122400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 flipH="1" flipV="1">
            <a:off x="4859280" y="2492280"/>
            <a:ext cx="122544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340000" y="191628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бл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2"/>
          <p:cNvSpPr/>
          <p:nvPr/>
        </p:nvSpPr>
        <p:spPr>
          <a:xfrm>
            <a:off x="1330200" y="4437000"/>
            <a:ext cx="252108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омер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3"/>
          <p:cNvSpPr/>
          <p:nvPr/>
        </p:nvSpPr>
        <p:spPr>
          <a:xfrm>
            <a:off x="5578560" y="4437000"/>
            <a:ext cx="251928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умер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4"/>
          <p:cNvSpPr/>
          <p:nvPr/>
        </p:nvSpPr>
        <p:spPr>
          <a:xfrm flipV="1" rot="5400000">
            <a:off x="2374920" y="403884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5"/>
          <p:cNvSpPr/>
          <p:nvPr/>
        </p:nvSpPr>
        <p:spPr>
          <a:xfrm flipV="1" rot="5400000">
            <a:off x="6622920" y="403884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1258920" y="5734080"/>
            <a:ext cx="2521080" cy="863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ни нед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7"/>
          <p:cNvSpPr/>
          <p:nvPr/>
        </p:nvSpPr>
        <p:spPr>
          <a:xfrm>
            <a:off x="5508720" y="5734080"/>
            <a:ext cx="2519280" cy="863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певае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 flipV="1">
            <a:off x="6877080" y="515772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2627280" y="515772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700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8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9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754200" y="2422440"/>
          <a:ext cx="2735280" cy="2987640"/>
        </p:xfrm>
        <a:graphic>
          <a:graphicData uri="http://schemas.openxmlformats.org/drawingml/2006/table">
            <a:tbl>
              <a:tblPr/>
              <a:tblGrid>
                <a:gridCol w="314280"/>
                <a:gridCol w="2421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едель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ни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ниц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бо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кресень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211640" y="2349360"/>
          <a:ext cx="4273560" cy="878040"/>
        </p:xfrm>
        <a:graphic>
          <a:graphicData uri="http://schemas.openxmlformats.org/drawingml/2006/table">
            <a:tbl>
              <a:tblPr/>
              <a:tblGrid>
                <a:gridCol w="1673280"/>
                <a:gridCol w="519120"/>
                <a:gridCol w="520560"/>
                <a:gridCol w="520920"/>
                <a:gridCol w="519120"/>
                <a:gridCol w="52056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ечки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5ab4"/>
                      </a:solidFill>
                    </a:lnL>
                    <a:lnR w="28080">
                      <a:solidFill>
                        <a:srgbClr val="005ab4"/>
                      </a:solidFill>
                    </a:lnR>
                    <a:lnT w="28080">
                      <a:solidFill>
                        <a:srgbClr val="005ab4"/>
                      </a:solidFill>
                    </a:lnT>
                    <a:lnB w="28080">
                      <a:solidFill>
                        <a:srgbClr val="005ab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154"/>
          <p:cNvSpPr/>
          <p:nvPr/>
        </p:nvSpPr>
        <p:spPr>
          <a:xfrm>
            <a:off x="826920" y="5734080"/>
            <a:ext cx="251964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ни нед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55"/>
          <p:cNvSpPr/>
          <p:nvPr/>
        </p:nvSpPr>
        <p:spPr>
          <a:xfrm>
            <a:off x="3851280" y="3716280"/>
            <a:ext cx="4608360" cy="76428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пропущенных учеником уро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69" descr="MC900295297.WMF"/>
          <p:cNvPicPr/>
          <p:nvPr/>
        </p:nvPicPr>
        <p:blipFill>
          <a:blip r:embed="rId2"/>
          <a:stretch/>
        </p:blipFill>
        <p:spPr>
          <a:xfrm>
            <a:off x="2050920" y="1052640"/>
            <a:ext cx="1457280" cy="10681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70" descr="MM900356784.GIF"/>
          <p:cNvPicPr/>
          <p:nvPr/>
        </p:nvPicPr>
        <p:blipFill>
          <a:blip r:embed="rId3"/>
          <a:stretch/>
        </p:blipFill>
        <p:spPr>
          <a:xfrm>
            <a:off x="5292720" y="4724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95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линейных табл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2050920" y="1844640"/>
          <a:ext cx="5351760" cy="3456000"/>
        </p:xfrm>
        <a:graphic>
          <a:graphicData uri="http://schemas.openxmlformats.org/drawingml/2006/table">
            <a:tbl>
              <a:tblPr/>
              <a:tblGrid>
                <a:gridCol w="574920"/>
                <a:gridCol w="1674720"/>
                <a:gridCol w="620640"/>
                <a:gridCol w="619200"/>
                <a:gridCol w="620640"/>
                <a:gridCol w="620640"/>
                <a:gridCol w="6210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ечки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он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уги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банюк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 Box 102"/>
          <p:cNvSpPr/>
          <p:nvPr/>
        </p:nvSpPr>
        <p:spPr>
          <a:xfrm>
            <a:off x="1187280" y="5661000"/>
            <a:ext cx="7272360" cy="42912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уроков, пропущенных учениками кла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Заголовок 2"/>
          <p:cNvSpPr/>
          <p:nvPr/>
        </p:nvSpPr>
        <p:spPr>
          <a:xfrm>
            <a:off x="684360" y="189000"/>
            <a:ext cx="8002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 прямоугольной 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90" descr="MC900343395.WMF"/>
          <p:cNvPicPr/>
          <p:nvPr/>
        </p:nvPicPr>
        <p:blipFill>
          <a:blip r:embed="rId2"/>
          <a:stretch/>
        </p:blipFill>
        <p:spPr>
          <a:xfrm>
            <a:off x="714240" y="1643040"/>
            <a:ext cx="1436760" cy="177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4"/>
          <p:cNvSpPr/>
          <p:nvPr/>
        </p:nvSpPr>
        <p:spPr>
          <a:xfrm>
            <a:off x="250920" y="907920"/>
            <a:ext cx="86421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личина в информати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отдельный информационный объект (число, символ, строка, таблица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ины делятся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значения указываются в тексте алгоритма и не меняются в процессе его испол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значения меняются в процессе исполнения алгорит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личины: целый, вещественный, логический, символьный и лите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ссылок на величины используют и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е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дентификаторы). Имя величины может состоять из одной или нескольких латинских букв, из латинских букв и циф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блица (массив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абор некоторого числа однотипных элементов, которым присвоено одно имя. Положение элемента в таблице однозначно определяется его индек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39640" y="191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величи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отличаются постоянные и переменные величи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539640" y="191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ы каких типов используются при запи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539640" y="1916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 тип величины, если её значение рав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.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ДА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ALSE, –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142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4 ·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123Е–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пять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39640" y="1916280"/>
            <a:ext cx="828036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типы следующих вели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вес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марка автомоби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год вашего ро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лощадь фиг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название месяца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количество мест в самолё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39640" y="1916280"/>
            <a:ext cx="82803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о одному примеру допустим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пустимых значений для каждой из вели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температура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корость автомаш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лощадь государ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название дня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39640" y="191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его предназначена команда присваи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её основные свой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39640" y="1916280"/>
            <a:ext cx="8280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оманды присваивания составлены 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A: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A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A=B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A+1:=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539640" y="191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умайте свой алгоритм обмена знач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ых переменных А и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539640" y="1916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промежуточных переменных потребуется для того, чтобы переменной А было присвоено значение переменной В, переменной В - значение переменной С, а переменной С - значение переменной 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соответствующий алгоритм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ическ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539640" y="191628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выполнения команды присваиван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:=x+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чение переменно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о 3, а значение переменно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о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у были равны значения переменных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выполнения указанной команды присваи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539640" y="191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зывают выраж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основные правила записи вы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539640" y="1916280"/>
            <a:ext cx="828036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дите из линейной записи в общеприняту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a * b 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a / b *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a + b 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(a + b)/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a + b / c +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(a + b)/(c + 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539640" y="1916280"/>
            <a:ext cx="8280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на алгоритмическом язы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9"/>
              <p:cNvSpPr txBox="1"/>
              <p:nvPr/>
            </p:nvSpPr>
            <p:spPr>
              <a:xfrm>
                <a:off x="1042920" y="2924280"/>
                <a:ext cx="1008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0"/>
              <p:cNvSpPr txBox="1"/>
              <p:nvPr/>
            </p:nvSpPr>
            <p:spPr>
              <a:xfrm>
                <a:off x="1042920" y="3789360"/>
                <a:ext cx="13683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1"/>
              <p:cNvSpPr txBox="1"/>
              <p:nvPr/>
            </p:nvSpPr>
            <p:spPr>
              <a:xfrm>
                <a:off x="1042920" y="4653000"/>
                <a:ext cx="10461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22"/>
              <p:cNvSpPr txBox="1"/>
              <p:nvPr/>
            </p:nvSpPr>
            <p:spPr>
              <a:xfrm>
                <a:off x="971640" y="5373720"/>
                <a:ext cx="1444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0" name="Text Box 23"/>
          <p:cNvSpPr/>
          <p:nvPr/>
        </p:nvSpPr>
        <p:spPr>
          <a:xfrm>
            <a:off x="539640" y="1197000"/>
            <a:ext cx="828036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логическое выражение, истинное при  выполнении указанного условия и ложное в противном  случа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адлежит отрезку [0;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ит вне отрезка [0;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каждое из чис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ож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хотя бы одно из чис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ож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ни одно из чис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является положите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только одно из чис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ож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точка с координатами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лежит в круге радиус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центром в начале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611280" y="1916280"/>
            <a:ext cx="828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зите в декартовой прямоугольной системе координат область, в которой и только в которой истинны следующие лог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(х&gt;=–1) и (x&lt;=1) и (y&gt;=–1) и (y&lt;=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(y&gt;=x) и (y&gt;=–x) и (y&lt;=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539640" y="1773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логическое выражение, принимающее значение TRUE, когда точка с координатами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принадлежит заштрихованн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6"/>
          <p:cNvGrpSpPr/>
          <p:nvPr/>
        </p:nvGrpSpPr>
        <p:grpSpPr>
          <a:xfrm>
            <a:off x="684360" y="3429000"/>
            <a:ext cx="3600360" cy="2341800"/>
            <a:chOff x="684360" y="3429000"/>
            <a:chExt cx="3600360" cy="2341800"/>
          </a:xfrm>
        </p:grpSpPr>
        <p:grpSp>
          <p:nvGrpSpPr>
            <p:cNvPr id="224" name="Group 27"/>
            <p:cNvGrpSpPr/>
            <p:nvPr/>
          </p:nvGrpSpPr>
          <p:grpSpPr>
            <a:xfrm>
              <a:off x="1116000" y="3571920"/>
              <a:ext cx="3168720" cy="2198880"/>
              <a:chOff x="1116000" y="3571920"/>
              <a:chExt cx="3168720" cy="2198880"/>
            </a:xfrm>
          </p:grpSpPr>
          <p:sp>
            <p:nvSpPr>
              <p:cNvPr id="225" name="Rectangle 28"/>
              <p:cNvSpPr/>
              <p:nvPr/>
            </p:nvSpPr>
            <p:spPr>
              <a:xfrm>
                <a:off x="1476360" y="4508280"/>
                <a:ext cx="2087640" cy="792360"/>
              </a:xfrm>
              <a:prstGeom prst="rect">
                <a:avLst/>
              </a:prstGeom>
              <a:solidFill>
                <a:srgbClr val="99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9"/>
              <p:cNvSpPr/>
              <p:nvPr/>
            </p:nvSpPr>
            <p:spPr>
              <a:xfrm>
                <a:off x="1116000" y="5300640"/>
                <a:ext cx="31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30"/>
              <p:cNvSpPr/>
              <p:nvPr/>
            </p:nvSpPr>
            <p:spPr>
              <a:xfrm flipV="1">
                <a:off x="1476360" y="3789000"/>
                <a:ext cx="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31"/>
              <p:cNvSpPr/>
              <p:nvPr/>
            </p:nvSpPr>
            <p:spPr>
              <a:xfrm>
                <a:off x="1116000" y="35719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32"/>
              <p:cNvSpPr/>
              <p:nvPr/>
            </p:nvSpPr>
            <p:spPr>
              <a:xfrm>
                <a:off x="3995640" y="53719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33"/>
              <p:cNvSpPr/>
              <p:nvPr/>
            </p:nvSpPr>
            <p:spPr>
              <a:xfrm>
                <a:off x="1116000" y="42210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34"/>
              <p:cNvSpPr/>
              <p:nvPr/>
            </p:nvSpPr>
            <p:spPr>
              <a:xfrm>
                <a:off x="3348000" y="53719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Text Box 35"/>
            <p:cNvSpPr/>
            <p:nvPr/>
          </p:nvSpPr>
          <p:spPr>
            <a:xfrm>
              <a:off x="684360" y="342900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6"/>
          <p:cNvGrpSpPr/>
          <p:nvPr/>
        </p:nvGrpSpPr>
        <p:grpSpPr>
          <a:xfrm>
            <a:off x="4643280" y="2636640"/>
            <a:ext cx="4105440" cy="3816360"/>
            <a:chOff x="4643280" y="2636640"/>
            <a:chExt cx="4105440" cy="3816360"/>
          </a:xfrm>
        </p:grpSpPr>
        <p:sp>
          <p:nvSpPr>
            <p:cNvPr id="234" name="Oval 37"/>
            <p:cNvSpPr/>
            <p:nvPr/>
          </p:nvSpPr>
          <p:spPr>
            <a:xfrm>
              <a:off x="5645160" y="3463920"/>
              <a:ext cx="2303280" cy="230364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38"/>
            <p:cNvSpPr/>
            <p:nvPr/>
          </p:nvSpPr>
          <p:spPr>
            <a:xfrm>
              <a:off x="6227640" y="4078440"/>
              <a:ext cx="1079640" cy="1079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9"/>
            <p:cNvSpPr/>
            <p:nvPr/>
          </p:nvSpPr>
          <p:spPr>
            <a:xfrm>
              <a:off x="4716360" y="307044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40"/>
            <p:cNvSpPr/>
            <p:nvPr/>
          </p:nvSpPr>
          <p:spPr>
            <a:xfrm>
              <a:off x="4643280" y="462456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1"/>
            <p:cNvSpPr/>
            <p:nvPr/>
          </p:nvSpPr>
          <p:spPr>
            <a:xfrm flipV="1">
              <a:off x="6770520" y="2636640"/>
              <a:ext cx="0" cy="38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42"/>
            <p:cNvSpPr/>
            <p:nvPr/>
          </p:nvSpPr>
          <p:spPr>
            <a:xfrm>
              <a:off x="8388360" y="4797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3"/>
            <p:cNvSpPr/>
            <p:nvPr/>
          </p:nvSpPr>
          <p:spPr>
            <a:xfrm>
              <a:off x="6300720" y="26370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44"/>
            <p:cNvSpPr/>
            <p:nvPr/>
          </p:nvSpPr>
          <p:spPr>
            <a:xfrm>
              <a:off x="6877080" y="29973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5"/>
            <p:cNvSpPr/>
            <p:nvPr/>
          </p:nvSpPr>
          <p:spPr>
            <a:xfrm>
              <a:off x="7956720" y="472608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6"/>
            <p:cNvSpPr/>
            <p:nvPr/>
          </p:nvSpPr>
          <p:spPr>
            <a:xfrm>
              <a:off x="6156360" y="58057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7"/>
            <p:cNvSpPr/>
            <p:nvPr/>
          </p:nvSpPr>
          <p:spPr>
            <a:xfrm>
              <a:off x="5148360" y="46530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48"/>
            <p:cNvSpPr/>
            <p:nvPr/>
          </p:nvSpPr>
          <p:spPr>
            <a:xfrm>
              <a:off x="7308720" y="46530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49"/>
          <p:cNvSpPr/>
          <p:nvPr/>
        </p:nvSpPr>
        <p:spPr>
          <a:xfrm>
            <a:off x="611280" y="1700280"/>
            <a:ext cx="792000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шите команду присваивания, в результате выполнения которой логическая переменная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лучает значение TRUE, если выполняется указанное условие, и значение FALSE в противном случа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ожительное чис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хотя бы одно из чисел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, 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авно ну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числа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, 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авны между соб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уравнение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i="1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x + c = 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меет ровно один коре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1"/>
          <p:cNvSpPr/>
          <p:nvPr/>
        </p:nvSpPr>
        <p:spPr>
          <a:xfrm>
            <a:off x="755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из приведённых ниже величин целесообраз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ть с помощью таблиц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2"/>
          <p:cNvSpPr/>
          <p:nvPr/>
        </p:nvSpPr>
        <p:spPr>
          <a:xfrm>
            <a:off x="241128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учеников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248436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учеников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5"/>
          <p:cNvSpPr/>
          <p:nvPr/>
        </p:nvSpPr>
        <p:spPr>
          <a:xfrm>
            <a:off x="2411280" y="28526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рост учеников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6"/>
          <p:cNvSpPr/>
          <p:nvPr/>
        </p:nvSpPr>
        <p:spPr>
          <a:xfrm>
            <a:off x="2627280" y="2852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ученика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7"/>
          <p:cNvSpPr/>
          <p:nvPr/>
        </p:nvSpPr>
        <p:spPr>
          <a:xfrm>
            <a:off x="2627280" y="2852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балл ученика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8"/>
          <p:cNvSpPr/>
          <p:nvPr/>
        </p:nvSpPr>
        <p:spPr>
          <a:xfrm>
            <a:off x="2627280" y="285264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и учеников за контрольную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инфор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9"/>
          <p:cNvSpPr/>
          <p:nvPr/>
        </p:nvSpPr>
        <p:spPr>
          <a:xfrm>
            <a:off x="2627280" y="2852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ы сторон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0"/>
          <p:cNvSpPr/>
          <p:nvPr/>
        </p:nvSpPr>
        <p:spPr>
          <a:xfrm>
            <a:off x="2627280" y="285264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ы сторон нескольких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1"/>
          <p:cNvSpPr/>
          <p:nvPr/>
        </p:nvSpPr>
        <p:spPr>
          <a:xfrm>
            <a:off x="262728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я дней не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2"/>
          <p:cNvSpPr/>
          <p:nvPr/>
        </p:nvSpPr>
        <p:spPr>
          <a:xfrm>
            <a:off x="284328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я дней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3"/>
          <p:cNvSpPr/>
          <p:nvPr/>
        </p:nvSpPr>
        <p:spPr>
          <a:xfrm>
            <a:off x="305928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4"/>
          <p:cNvSpPr/>
          <p:nvPr/>
        </p:nvSpPr>
        <p:spPr>
          <a:xfrm>
            <a:off x="305928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а дев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5"/>
          <p:cNvSpPr/>
          <p:nvPr/>
        </p:nvSpPr>
        <p:spPr>
          <a:xfrm>
            <a:off x="313200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6"/>
          <p:cNvSpPr/>
          <p:nvPr/>
        </p:nvSpPr>
        <p:spPr>
          <a:xfrm>
            <a:off x="3382920" y="2852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ы нескольких прямо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7"/>
          <p:cNvSpPr/>
          <p:nvPr/>
        </p:nvSpPr>
        <p:spPr>
          <a:xfrm>
            <a:off x="2411280" y="28526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ая холодная температура воздуха в янв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8"/>
          <p:cNvSpPr/>
          <p:nvPr/>
        </p:nvSpPr>
        <p:spPr>
          <a:xfrm>
            <a:off x="3132000" y="2852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девочек в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9"/>
          <p:cNvSpPr/>
          <p:nvPr/>
        </p:nvSpPr>
        <p:spPr>
          <a:xfrm>
            <a:off x="3132000" y="28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жаркие дни л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0"/>
          <p:cNvSpPr/>
          <p:nvPr/>
        </p:nvSpPr>
        <p:spPr>
          <a:xfrm>
            <a:off x="2411280" y="285264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ая дождливая декада ию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468360" y="836640"/>
            <a:ext cx="8497800" cy="73404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личина в информати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отдельный информационный объект (число, символ, строка, таблица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5651640" y="3068640"/>
            <a:ext cx="25174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менная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403280" y="3068640"/>
            <a:ext cx="2664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стоя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8"/>
          <p:cNvSpPr/>
          <p:nvPr/>
        </p:nvSpPr>
        <p:spPr>
          <a:xfrm flipV="1">
            <a:off x="3995640" y="2491920"/>
            <a:ext cx="72072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7"/>
          <p:cNvSpPr/>
          <p:nvPr/>
        </p:nvSpPr>
        <p:spPr>
          <a:xfrm flipH="1" flipV="1">
            <a:off x="4858920" y="2491920"/>
            <a:ext cx="86508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340000" y="191628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ч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39640" y="5950080"/>
            <a:ext cx="12225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ы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2050920" y="5950080"/>
            <a:ext cx="230184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ественны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4932360" y="5950080"/>
            <a:ext cx="19447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мвольны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7164360" y="5950080"/>
            <a:ext cx="17254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терный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8"/>
          <p:cNvSpPr/>
          <p:nvPr/>
        </p:nvSpPr>
        <p:spPr>
          <a:xfrm flipV="1">
            <a:off x="1476360" y="5445000"/>
            <a:ext cx="6494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7"/>
          <p:cNvSpPr/>
          <p:nvPr/>
        </p:nvSpPr>
        <p:spPr>
          <a:xfrm flipH="1" flipV="1">
            <a:off x="2268000" y="5445000"/>
            <a:ext cx="72108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8"/>
          <p:cNvSpPr/>
          <p:nvPr/>
        </p:nvSpPr>
        <p:spPr>
          <a:xfrm flipV="1">
            <a:off x="6012000" y="5445000"/>
            <a:ext cx="64908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7"/>
          <p:cNvSpPr/>
          <p:nvPr/>
        </p:nvSpPr>
        <p:spPr>
          <a:xfrm flipH="1" flipV="1">
            <a:off x="6804000" y="5445000"/>
            <a:ext cx="720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6012000" y="5013360"/>
            <a:ext cx="222876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екстовый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973080" y="5013360"/>
            <a:ext cx="20862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вой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8"/>
          <p:cNvSpPr/>
          <p:nvPr/>
        </p:nvSpPr>
        <p:spPr>
          <a:xfrm flipV="1">
            <a:off x="2987640" y="4510080"/>
            <a:ext cx="165744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 flipH="1" flipV="1">
            <a:off x="4788000" y="4510080"/>
            <a:ext cx="129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51280" y="5013360"/>
            <a:ext cx="17254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гический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7"/>
          <p:cNvSpPr/>
          <p:nvPr/>
        </p:nvSpPr>
        <p:spPr>
          <a:xfrm flipV="1">
            <a:off x="4716360" y="450864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2268360" y="3933720"/>
            <a:ext cx="48261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 велич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6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6516720" y="2997360"/>
            <a:ext cx="208908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755640" y="2997360"/>
            <a:ext cx="2664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рифмет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3851280" y="2997360"/>
            <a:ext cx="19429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оков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8"/>
          <p:cNvSpPr/>
          <p:nvPr/>
        </p:nvSpPr>
        <p:spPr>
          <a:xfrm flipV="1">
            <a:off x="2195640" y="2276640"/>
            <a:ext cx="252072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 flipV="1">
            <a:off x="4859280" y="2276640"/>
            <a:ext cx="2449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 flipH="1" flipV="1">
            <a:off x="4788000" y="2276640"/>
            <a:ext cx="1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2340000" y="1700280"/>
            <a:ext cx="4825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1332000" y="4869000"/>
            <a:ext cx="655308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&lt;имя переменной&gt;:= &lt;выражение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900000" y="4292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а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5580000" y="3213000"/>
            <a:ext cx="25178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ямоуголь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1258920" y="3213000"/>
            <a:ext cx="266364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ней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3492360" y="2492280"/>
            <a:ext cx="122400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H="1" flipV="1">
            <a:off x="4859280" y="2492280"/>
            <a:ext cx="122544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2340000" y="191628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бл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9"/>
          <p:cNvSpPr/>
          <p:nvPr/>
        </p:nvSpPr>
        <p:spPr>
          <a:xfrm>
            <a:off x="1330200" y="4437000"/>
            <a:ext cx="252108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омер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"/>
          <p:cNvSpPr/>
          <p:nvPr/>
        </p:nvSpPr>
        <p:spPr>
          <a:xfrm>
            <a:off x="5578560" y="4437000"/>
            <a:ext cx="251928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умер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1"/>
          <p:cNvSpPr/>
          <p:nvPr/>
        </p:nvSpPr>
        <p:spPr>
          <a:xfrm flipV="1" rot="5400000">
            <a:off x="2374920" y="403884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2"/>
          <p:cNvSpPr/>
          <p:nvPr/>
        </p:nvSpPr>
        <p:spPr>
          <a:xfrm flipV="1" rot="5400000">
            <a:off x="6622920" y="403884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0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981000"/>
            <a:ext cx="83628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сваи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68360" y="907920"/>
            <a:ext cx="8351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xrest.ru/images/collection/00953/624/original.jpg - за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img-fotki.yandex.ru/get/4704/cadi-1986.51a/0_802f6_31b39c0b_XL -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s001.radikal.ru/i195/1006/0e/8939ad17926c.jpg - 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ел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8"/>
          <p:cNvSpPr/>
          <p:nvPr/>
        </p:nvSpPr>
        <p:spPr>
          <a:xfrm flipV="1">
            <a:off x="2092320" y="2973240"/>
            <a:ext cx="2519280" cy="648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 flipH="1" flipV="1">
            <a:off x="4827240" y="2973240"/>
            <a:ext cx="2521080" cy="648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 flipH="1" flipV="1">
            <a:off x="1805040" y="4268520"/>
            <a:ext cx="194472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 flipV="1">
            <a:off x="4829040" y="2971800"/>
            <a:ext cx="64800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500040" y="714240"/>
            <a:ext cx="831852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ы описывают последовательность действий над некоторыми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формационными объект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информатике – это отдельный информационный объек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668680" y="5997600"/>
            <a:ext cx="216036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стоя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 flipV="1">
            <a:off x="4037040" y="5348160"/>
            <a:ext cx="72072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189400" y="5997600"/>
            <a:ext cx="223200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еменная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 flipV="1">
            <a:off x="5045040" y="5348160"/>
            <a:ext cx="72072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749760" y="4916520"/>
            <a:ext cx="22320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ч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 flipH="1" flipV="1">
            <a:off x="3676680" y="4268520"/>
            <a:ext cx="792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4973760" y="4268520"/>
            <a:ext cx="71892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V="1">
            <a:off x="5981760" y="4268520"/>
            <a:ext cx="1800000" cy="647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39960" y="3693960"/>
            <a:ext cx="165564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955960" y="3693960"/>
            <a:ext cx="165564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имво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971960" y="3693960"/>
            <a:ext cx="165600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ок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988320" y="3693960"/>
            <a:ext cx="165564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аблиц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 flipV="1">
            <a:off x="3965400" y="2971800"/>
            <a:ext cx="646200" cy="649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308320" y="239724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й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6516720" y="2421000"/>
            <a:ext cx="208908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755640" y="2421000"/>
            <a:ext cx="266400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рифмет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51280" y="2421000"/>
            <a:ext cx="194292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тно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2195640" y="1700280"/>
            <a:ext cx="252072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H="1" flipV="1">
            <a:off x="4859280" y="1700280"/>
            <a:ext cx="2449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H="1" flipV="1">
            <a:off x="4788000" y="1700280"/>
            <a:ext cx="1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340000" y="1123920"/>
            <a:ext cx="4825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ерации над величи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1"/>
          <p:cNvSpPr/>
          <p:nvPr/>
        </p:nvSpPr>
        <p:spPr>
          <a:xfrm>
            <a:off x="1116000" y="3932280"/>
            <a:ext cx="194472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(сло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чит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(умно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 (де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2"/>
          <p:cNvSpPr/>
          <p:nvPr/>
        </p:nvSpPr>
        <p:spPr>
          <a:xfrm>
            <a:off x="3635280" y="3932280"/>
            <a:ext cx="237816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ьш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больш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не больш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е меньш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рав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3"/>
          <p:cNvSpPr/>
          <p:nvPr/>
        </p:nvSpPr>
        <p:spPr>
          <a:xfrm>
            <a:off x="6300720" y="3932280"/>
            <a:ext cx="251928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 (конъюнк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(дизъюнк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(инвер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 flipV="1" rot="5400000">
            <a:off x="1871640" y="353412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5"/>
          <p:cNvSpPr/>
          <p:nvPr/>
        </p:nvSpPr>
        <p:spPr>
          <a:xfrm flipV="1" rot="5400000">
            <a:off x="4608360" y="353412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6"/>
          <p:cNvSpPr/>
          <p:nvPr/>
        </p:nvSpPr>
        <p:spPr>
          <a:xfrm flipV="1" rot="5400000">
            <a:off x="7345440" y="353412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466560" y="6053040"/>
            <a:ext cx="86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объекты, над которыми выполняют опер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перации над величин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7"/>
          <p:cNvSpPr/>
          <p:nvPr/>
        </p:nvSpPr>
        <p:spPr>
          <a:xfrm flipH="1">
            <a:off x="684000" y="2565360"/>
            <a:ext cx="433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 flipH="1">
            <a:off x="684360" y="1341360"/>
            <a:ext cx="15840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780000" y="1916280"/>
            <a:ext cx="266508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Цел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780000" y="2708280"/>
            <a:ext cx="266508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еществен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 flipV="1">
            <a:off x="3060720" y="2276640"/>
            <a:ext cx="719280" cy="288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2268360" y="981000"/>
            <a:ext cx="482616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 величины в алгорит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708360" y="3789360"/>
            <a:ext cx="273672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имвольн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684360" y="1341360"/>
            <a:ext cx="0" cy="4608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 flipH="1">
            <a:off x="684000" y="4365720"/>
            <a:ext cx="4330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684000" y="595008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3060720" y="2708280"/>
            <a:ext cx="719280" cy="216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116000" y="2276640"/>
            <a:ext cx="201600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в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 flipV="1">
            <a:off x="2987640" y="4076280"/>
            <a:ext cx="719280" cy="289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2987640" y="4508640"/>
            <a:ext cx="719280" cy="215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7"/>
          <p:cNvSpPr/>
          <p:nvPr/>
        </p:nvSpPr>
        <p:spPr>
          <a:xfrm>
            <a:off x="7021440" y="3645000"/>
            <a:ext cx="180036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8"/>
          <p:cNvSpPr/>
          <p:nvPr/>
        </p:nvSpPr>
        <p:spPr>
          <a:xfrm>
            <a:off x="7021440" y="4724280"/>
            <a:ext cx="180036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116000" y="4076640"/>
            <a:ext cx="201600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екстов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6445080" y="4076280"/>
            <a:ext cx="503280" cy="73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6372360" y="4869000"/>
            <a:ext cx="576000" cy="72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1"/>
          <p:cNvSpPr/>
          <p:nvPr/>
        </p:nvSpPr>
        <p:spPr>
          <a:xfrm>
            <a:off x="3708360" y="5445000"/>
            <a:ext cx="302436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 (ИСТИН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2"/>
          <p:cNvSpPr/>
          <p:nvPr/>
        </p:nvSpPr>
        <p:spPr>
          <a:xfrm>
            <a:off x="3708360" y="6165720"/>
            <a:ext cx="302436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(ЛОЖЬ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2916360" y="5660640"/>
            <a:ext cx="718920" cy="289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2916360" y="6093000"/>
            <a:ext cx="718920" cy="215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116000" y="5661000"/>
            <a:ext cx="2016000" cy="5745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гическ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708360" y="4581360"/>
            <a:ext cx="2735280" cy="5749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терн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ипы вели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7"/>
          <p:cNvSpPr/>
          <p:nvPr/>
        </p:nvSpPr>
        <p:spPr>
          <a:xfrm flipH="1">
            <a:off x="803160" y="273204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755280" y="1773360"/>
            <a:ext cx="1584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340000" y="141300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я величины в алгорит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755640" y="1773360"/>
            <a:ext cx="47520" cy="37670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803160" y="4098960"/>
            <a:ext cx="43344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H="1">
            <a:off x="803160" y="5540400"/>
            <a:ext cx="43200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35160" y="2371680"/>
            <a:ext cx="273672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атинск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ук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9"/>
          <p:cNvSpPr/>
          <p:nvPr/>
        </p:nvSpPr>
        <p:spPr>
          <a:xfrm>
            <a:off x="4764240" y="2516040"/>
            <a:ext cx="280800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, M,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235160" y="3666960"/>
            <a:ext cx="273672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атинск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уква и цифр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3971880" y="2803680"/>
            <a:ext cx="792360" cy="1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235160" y="5251320"/>
            <a:ext cx="2736720" cy="936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немоническ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мя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0"/>
          <p:cNvSpPr/>
          <p:nvPr/>
        </p:nvSpPr>
        <p:spPr>
          <a:xfrm>
            <a:off x="4764240" y="3882960"/>
            <a:ext cx="280800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, B4, 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V="1">
            <a:off x="3971880" y="4169880"/>
            <a:ext cx="792360" cy="18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2"/>
          <p:cNvSpPr/>
          <p:nvPr/>
        </p:nvSpPr>
        <p:spPr>
          <a:xfrm>
            <a:off x="4835520" y="5324400"/>
            <a:ext cx="280836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,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3971880" y="5611320"/>
            <a:ext cx="792360" cy="18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Заголовок 2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мя велич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раж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539640" y="83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языковая конструкция для вычисления значения с помощью одного или нескольких операн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516720" y="3213000"/>
            <a:ext cx="208908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55640" y="3213000"/>
            <a:ext cx="266400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рифмет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851280" y="3213000"/>
            <a:ext cx="1942920" cy="863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роков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V="1">
            <a:off x="2195640" y="2492280"/>
            <a:ext cx="252072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 flipV="1">
            <a:off x="4859280" y="2492280"/>
            <a:ext cx="2449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 flipH="1" flipV="1">
            <a:off x="4788000" y="2492280"/>
            <a:ext cx="1440" cy="720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340000" y="191628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1116000" y="4724280"/>
            <a:ext cx="194472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3635280" y="4724280"/>
            <a:ext cx="237816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пления (+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`a`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`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6300720" y="4724280"/>
            <a:ext cx="251928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gt;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lt;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 flipV="1" rot="5400000">
            <a:off x="1871640" y="432648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 flipV="1" rot="5400000">
            <a:off x="4608360" y="432648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6"/>
          <p:cNvSpPr/>
          <p:nvPr/>
        </p:nvSpPr>
        <p:spPr>
          <a:xfrm flipV="1" rot="5400000">
            <a:off x="7345440" y="432648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7"/>
              <p:cNvSpPr txBox="1"/>
              <p:nvPr/>
            </p:nvSpPr>
            <p:spPr>
              <a:xfrm>
                <a:off x="1258920" y="4941720"/>
                <a:ext cx="144144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r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Заголовок 2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оманда присваив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68360" y="1052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имя переменной&gt;:= &lt;выражение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 flipV="1">
            <a:off x="684360" y="2289240"/>
            <a:ext cx="0" cy="345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340000" y="2000160"/>
            <a:ext cx="4825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 присв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1332000" y="2936880"/>
            <a:ext cx="7561080" cy="79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 переменной не присвоено значение,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ётся неопределё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 flipH="1" flipV="1" rot="10800000">
            <a:off x="754560" y="329724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8"/>
          <p:cNvSpPr/>
          <p:nvPr/>
        </p:nvSpPr>
        <p:spPr>
          <a:xfrm flipH="1">
            <a:off x="684000" y="2289240"/>
            <a:ext cx="16556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1332000" y="4160880"/>
            <a:ext cx="7561080" cy="79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, присвоенное переменной, сохран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следующего присваи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 flipH="1" flipV="1" rot="10800000">
            <a:off x="754560" y="452124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1332000" y="5384880"/>
            <a:ext cx="7561080" cy="79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еременной присваивается новое знач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предыдущее её значение тер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 flipH="1" flipV="1" rot="10800000">
            <a:off x="754560" y="574524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39640" y="836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, в результате которого переменные А и В литерного типа обменяются своими значени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651640" y="3068640"/>
            <a:ext cx="25174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ер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1403280" y="3068640"/>
            <a:ext cx="2664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верно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 flipV="1">
            <a:off x="3995640" y="2491920"/>
            <a:ext cx="72072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 flipH="1" flipV="1">
            <a:off x="4858920" y="2491920"/>
            <a:ext cx="865080" cy="576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340000" y="1916280"/>
            <a:ext cx="4825800" cy="576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ни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1332000" y="4149720"/>
            <a:ext cx="2520720" cy="158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=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=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4284720" y="4149720"/>
            <a:ext cx="4533840" cy="2448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значениями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, 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 л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:=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:=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:=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 flipV="1" rot="5400000">
            <a:off x="2448000" y="3751560"/>
            <a:ext cx="430200" cy="71640"/>
          </a:xfrm>
          <a:prstGeom prst="rightArrow">
            <a:avLst>
              <a:gd name="adj1" fmla="val 50000"/>
              <a:gd name="adj2" fmla="val 20141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4"/>
          <p:cNvSpPr/>
          <p:nvPr/>
        </p:nvSpPr>
        <p:spPr>
          <a:xfrm flipV="1" rot="5400000">
            <a:off x="6553080" y="3751560"/>
            <a:ext cx="430200" cy="71280"/>
          </a:xfrm>
          <a:prstGeom prst="rightArrow">
            <a:avLst>
              <a:gd name="adj1" fmla="val 50000"/>
              <a:gd name="adj2" fmla="val 202436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Заголовок 2"/>
          <p:cNvSpPr/>
          <p:nvPr/>
        </p:nvSpPr>
        <p:spPr>
          <a:xfrm>
            <a:off x="468360" y="260280"/>
            <a:ext cx="84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Алгоритм обмена значений п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500040" y="292896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8286840" y="3071880"/>
            <a:ext cx="57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2d05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6T07:49:20Z</dcterms:modified>
  <cp:revision>86</cp:revision>
  <dc:subject/>
  <dc:title>Презентация PowerPoint</dc:title>
</cp:coreProperties>
</file>