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309-DE2A-400D-8490-55E73F24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62A-DE45-4129-AE10-40E2833C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8F1-B9D6-4DEB-AE88-32E9EC69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1B3-443C-4289-A09A-EFB56814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9BA-2F3C-4AA2-A861-9041408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B84-8154-4577-A657-44E4396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1D9-3211-4C0F-A97C-AEE993F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1DC-5AB9-48FA-B5DA-CEAEA990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06C-3E84-42F4-99D2-EEA7692B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E5E-0BCA-4AF1-859B-27248A5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BE4-6390-442F-AFC2-376D274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60A-D925-4B4A-856B-150616B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9861-4D48-4552-8E23-37101ABC7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ЛИНЕЙНЫ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7120" y="785880"/>
            <a:ext cx="842508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ans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ая переменна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ая переме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выполнения оператора присва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ans:=n mod 2=0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an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присвоено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любом чётн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противном случа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76200" y="3141720"/>
            <a:ext cx="8643960" cy="369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 о чётности числ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ое число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n mod 2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Число ', n,' является четным - ',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9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5280" y="126828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м переменным можно присваивать значения логических выражений, построенных с помощью логических функци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and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ил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, не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not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4240" y="2643120"/>
          <a:ext cx="7848720" cy="3206880"/>
        </p:xfrm>
        <a:graphic>
          <a:graphicData uri="http://schemas.openxmlformats.org/drawingml/2006/table">
            <a:tbl>
              <a:tblPr/>
              <a:tblGrid>
                <a:gridCol w="3313080"/>
                <a:gridCol w="45356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опер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аск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умн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сл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 (инверси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500040" y="1428840"/>
            <a:ext cx="8424720" cy="402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, b, c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авнобедренном треугольнике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значения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, b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(a=b) or (a=c) or (b=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Треугольник с длинами сторон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 a, ',', b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,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равнобедренным - ',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4"/>
          <p:cNvSpPr/>
          <p:nvPr/>
        </p:nvSpPr>
        <p:spPr>
          <a:xfrm>
            <a:off x="539640" y="1052640"/>
            <a:ext cx="8280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языке Паска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определены соответствующие операции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8360" y="836640"/>
            <a:ext cx="835344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перацию возведения в степень использовать запрещ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одном операторе присваивания можно использовать не более одной арифметической операции (сложение, умножение, вычит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 программе может быть использовано не более пяти операторов присва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образуйте выражение к следую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у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((x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8360" y="112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аданным координатам точе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длину отрез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349360"/>
          <a:ext cx="8280360" cy="25657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AB | =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6"/>
          <p:cNvSpPr/>
          <p:nvPr/>
        </p:nvSpPr>
        <p:spPr>
          <a:xfrm>
            <a:off x="539640" y="134136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длины сторон треугольника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781360"/>
          <a:ext cx="8280360" cy="235584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8"/>
          <p:cNvSpPr/>
          <p:nvPr/>
        </p:nvSpPr>
        <p:spPr>
          <a:xfrm>
            <a:off x="468360" y="9079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координаты верш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1360"/>
          <a:ext cx="8280360" cy="3443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1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0"/>
          <p:cNvSpPr/>
          <p:nvPr/>
        </p:nvSpPr>
        <p:spPr>
          <a:xfrm>
            <a:off x="468360" y="11253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умма налога исчисляется в рублях и копейках, то налоговая служба округляет её до ближайшего рубля (до 50 копеек - с недостатком, свыше 50 копеек  (включая 50) - с  избыт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компьютер, чтобы ввести точную сумму  налога и вывести, сколько следует упл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611280" y="836640"/>
            <a:ext cx="85327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уйте работу функ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устив многократно на выполнение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program n_8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var x, n: intege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Исследование функции random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andomize (*для генерации различных случайных чисе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каждом запуске программы *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x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n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n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=', random(x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+', n, '=', random(x)+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n; x + n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468360" y="1125360"/>
            <a:ext cx="8209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компания выпустила лотерейные билеты трёх  разрядов: для молодежи, для взрослых и для стар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а билетов каждого разряда лежат в преде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олодёжи - от 1 до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зрослых - от 101 до 2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тариков - от 201 до 2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омпьютера выберите случайным образом лотерейный билет в каждом разря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468360" y="141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для  произвольного двузначного числа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у и произведение его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число, образованное перестановкой цифр исход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997360"/>
          <a:ext cx="8280360" cy="3004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ует сда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0 руб.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0 руб. – 3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 руб. – 0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 руб. – 4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71"/>
          <p:cNvSpPr/>
          <p:nvPr/>
        </p:nvSpPr>
        <p:spPr>
          <a:xfrm>
            <a:off x="900000" y="234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 сумму кодов букв в слове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2"/>
          <p:cNvSpPr/>
          <p:nvPr/>
        </p:nvSpPr>
        <p:spPr>
          <a:xfrm>
            <a:off x="468360" y="21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выводит на экран строку символов, коды которых  равны 66, 69, 71, 73,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3"/>
          <p:cNvSpPr/>
          <p:nvPr/>
        </p:nvSpPr>
        <p:spPr>
          <a:xfrm>
            <a:off x="468360" y="836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запрашивает три строковые величины – взаимосвязанные прилагательное, существительное и глагол, а затем печатает все варианты фраз с использованием введё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4560" y="3789360"/>
          <a:ext cx="8569440" cy="2563920"/>
        </p:xfrm>
        <a:graphic>
          <a:graphicData uri="http://schemas.openxmlformats.org/drawingml/2006/table">
            <a:tbl>
              <a:tblPr/>
              <a:tblGrid>
                <a:gridCol w="3841920"/>
                <a:gridCol w="4727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1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ЛИСТЬЯ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РАСПУСКАЮТСЯ ЛИС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ЗЕЛЁНЫЕ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РАСПУСКАЮТС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ЗЕЛЁНЫЕ ЛИС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ЛИСТЬ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85"/>
          <p:cNvSpPr/>
          <p:nvPr/>
        </p:nvSpPr>
        <p:spPr>
          <a:xfrm>
            <a:off x="395280" y="1628640"/>
            <a:ext cx="84978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значения целочисленных переме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удет равно значение логической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операции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rez:=(a=10) or (b&gt;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rez:=(a&gt;5) and (b&gt;5) and (a&lt;20) and (b&lt;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rez:=( (not(a&lt;15)) or (b&gt;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539640" y="1125360"/>
            <a:ext cx="8282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, вводящу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ысказывание является истинным,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тивном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а цифр трёхзначн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чётным чис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реугольник со сторон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раз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468360" y="836640"/>
            <a:ext cx="8353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ё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я секунда суток. Разработайте программу, которая по введё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секунде суток определяет,  сколько целых часо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целых мину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шло с начала су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13257=3 х 3600 + 40 х 60 + 5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3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д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… hours … 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многоточий программа должна выводить знач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деляя их от слов ровно одним проб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5373720"/>
          <a:ext cx="8280360" cy="10810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3 hours 40 minut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03"/>
          <p:cNvSpPr/>
          <p:nvPr/>
        </p:nvSpPr>
        <p:spPr>
          <a:xfrm>
            <a:off x="468360" y="836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реализующую алгоритм работы кассира, выдающего покупателю сдачу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), 100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) и 10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916360" y="1844640"/>
            <a:ext cx="295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 данных в Паск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39640" y="836640"/>
            <a:ext cx="828036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языке Паскаль: вещественный, целочисленный, символьный, строковый, логиче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132000" y="3284640"/>
            <a:ext cx="15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45000"/>
            <a:ext cx="16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11280" y="2133720"/>
            <a:ext cx="2303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611280" y="213372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1"/>
          <p:cNvSpPr/>
          <p:nvPr/>
        </p:nvSpPr>
        <p:spPr>
          <a:xfrm>
            <a:off x="5940360" y="2565360"/>
            <a:ext cx="29512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abs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t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+, -, *, 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611280" y="3213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611280" y="5661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 flipV="1">
            <a:off x="2843280" y="2997000"/>
            <a:ext cx="21600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2771640" y="3284640"/>
            <a:ext cx="36036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00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5148360" y="2924280"/>
            <a:ext cx="718920" cy="217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4716360" y="3213000"/>
            <a:ext cx="115092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0"/>
          <p:cNvSpPr/>
          <p:nvPr/>
        </p:nvSpPr>
        <p:spPr>
          <a:xfrm>
            <a:off x="3708360" y="4365720"/>
            <a:ext cx="2951280" cy="577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ord,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2843280" y="4724280"/>
            <a:ext cx="865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84160" y="4508640"/>
            <a:ext cx="2032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2"/>
          <p:cNvSpPr/>
          <p:nvPr/>
        </p:nvSpPr>
        <p:spPr>
          <a:xfrm>
            <a:off x="3708360" y="5300640"/>
            <a:ext cx="2951280" cy="649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627280" y="5661000"/>
            <a:ext cx="1081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132000" y="2637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98100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ществ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очисл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ь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ков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и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ислов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19280" y="76500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функции языка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1150920"/>
          <a:ext cx="8388360" cy="5730840"/>
        </p:xfrm>
        <a:graphic>
          <a:graphicData uri="http://schemas.openxmlformats.org/drawingml/2006/table">
            <a:tbl>
              <a:tblPr/>
              <a:tblGrid>
                <a:gridCol w="1584360"/>
                <a:gridCol w="2376720"/>
                <a:gridCol w="2376360"/>
                <a:gridCol w="2050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ab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уль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ый корень из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oui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ближайшего це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fra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i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н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сследование функций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round</a:t>
            </a:r>
            <a:r>
              <a:rPr b="0" lang="ru-RU" sz="3200" spc="-1" strike="noStrike">
                <a:solidFill>
                  <a:srgbClr val="000000"/>
                </a:solidFill>
                <a:latin typeface="FangSong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int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</a:rPr>
              <a:t>f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28760" y="5516640"/>
            <a:ext cx="8464320" cy="11300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ограмму несколько раз д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{10,2; 10,8; –10,2; –10,8}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будет тип результата каждой из этих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11280" y="1071720"/>
            <a:ext cx="817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Исследование функций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ound, int, frac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Округление -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', round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Цел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int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Дробн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frac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8143920" y="5643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елочисленны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19280" y="105264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 над целыми числами в языке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773360"/>
          <a:ext cx="8209080" cy="4340160"/>
        </p:xfrm>
        <a:graphic>
          <a:graphicData uri="http://schemas.openxmlformats.org/drawingml/2006/table">
            <a:tbl>
              <a:tblPr/>
              <a:tblGrid>
                <a:gridCol w="3816360"/>
                <a:gridCol w="2087640"/>
                <a:gridCol w="23050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част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di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остатка де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div</a:t>
            </a:r>
            <a:r>
              <a:rPr b="0" lang="ru-RU" sz="36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mod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249228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n_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x, a, b, c, s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Нахождение суммы цифр трёхзна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Введите исходное числ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:=x div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b:=x mod 100 div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:=x mod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s:=a+b+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 ('s= ',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1125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ёхзначное число можно представить в виде следующей суммы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b, 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ифры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а нахождения суммы цифр вводимого с клавиатуры целого трёхзна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95280" y="2349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букву в её числовой ко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68360" y="126828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все буквы и значки, которые есть на клавиатуре. Для ввода в программу символьных переменных необходимо указать для них символьный тип данных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a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285264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числовой код символа в сам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4508640"/>
            <a:ext cx="84978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ем строковой величины (тип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st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является произвольная последовательность символов, заключенная в апостроф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36400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ch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70036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197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378144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4861080" y="4076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6445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1187280" y="5589720"/>
            <a:ext cx="3961080" cy="1373760"/>
          </a:xfrm>
          <a:prstGeom prst="rect">
            <a:avLst/>
          </a:prstGeom>
          <a:solidFill>
            <a:srgbClr val="bfd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var c: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c:= chr(52)+chr(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7000920" y="5857920"/>
            <a:ext cx="64764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6500880" y="607212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429160" y="585792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268280"/>
            <a:ext cx="72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_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a: char; kod: integer; b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д и строк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ую букву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or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:=chr(kod–1)+a+chr(kod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д буквы ',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'-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659640" y="2492280"/>
            <a:ext cx="2016000" cy="1191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кода буквы введённой с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732720" y="4508640"/>
            <a:ext cx="201600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строки из трё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2987640" y="3141720"/>
            <a:ext cx="3672000" cy="5745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5148360" y="3141720"/>
            <a:ext cx="1511280" cy="1727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 flipV="1">
            <a:off x="5724000" y="4652640"/>
            <a:ext cx="1008360" cy="5763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4067280" y="5229360"/>
            <a:ext cx="2665440" cy="215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8360" y="1052640"/>
            <a:ext cx="8424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ы логического типа принимают всего два значения: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1" lang="ru-RU" sz="2200" spc="-1" strike="noStrike">
                <a:solidFill>
                  <a:srgbClr val="ff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&l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значения получаются в результате выполнения операций сравнения числовых, символьных, строковых и логических выра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скале логической переменной можно присваивать результат операции с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20:18Z</dcterms:modified>
  <cp:revision>106</cp:revision>
  <dc:subject/>
  <dc:title>Презентация PowerPoint</dc:title>
</cp:coreProperties>
</file>