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EEB-2B0A-444D-833E-A577F237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438-9A8B-4148-97C7-81B0CA7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217-637D-4577-962E-51B01337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1DE-CA4C-485E-AADA-B5B9930D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B73-C43D-48F7-A4DC-B2726CA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357-5D84-492B-9F3B-4D4B1D65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32D-0C0A-4BD8-8588-A89916E5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239-F77D-4A12-AB56-96C3FE8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2AC-09AD-4145-BA68-A0CA254A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B7A-E2C6-4CE8-BA61-2F108F7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111-5D84-445E-9385-39716FD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FCE-33B1-4813-B43B-D484C17A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DCCD-5830-4CD8-A378-41E6172B0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387520"/>
            <a:ext cx="640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ВЕДЕНИЕ В КУРС ИНФОРМАТИКИ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14400" y="3425760"/>
            <a:ext cx="8101080" cy="251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. достигали более высокого культурного и экономического уров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8-19T15:19:46Z</dcterms:modified>
  <cp:revision>48</cp:revision>
  <dc:subject/>
  <dc:title>Презентация PowerPoint</dc:title>
</cp:coreProperties>
</file>