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F4A-A455-4CDF-B277-65EAF99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538-C626-4856-B998-293AC2D3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ED0-8BA2-478E-A5C0-4F45773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B6F-CD72-4380-818F-1016BDF7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44C-BBB9-49F9-BD34-D69D159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462-4E01-4AFF-B2D1-4D919A7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798-BB80-43F6-BDD4-311A7F8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47F-5CE6-4879-A525-0C7AD7E2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F1B-F035-4C6B-8A07-AF658C8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06D-B92D-4F64-95DA-70A27FD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901-B596-430E-BAA1-99BDA8C4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96C-F3CB-43AB-90E7-5EE458C4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328-78D6-4183-B3D9-BF989C9FE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387520"/>
            <a:ext cx="640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ВЕДЕНИЕ В КУРС ИНФОРМАТИКИ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14400" y="3425760"/>
            <a:ext cx="8101080" cy="251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. достигали более высокого культурного и экономического уров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8-19T15:19:46Z</dcterms:modified>
  <cp:revision>48</cp:revision>
  <dc:subject/>
  <dc:title>Презентация PowerPoint</dc:title>
</cp:coreProperties>
</file>