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AB0-2ED8-487C-B3BA-F80C2636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94C-55E9-4A68-953E-82B74D9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CDE-1260-45CB-B797-B792438C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56D-4697-4503-91E2-8272FAB8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B62-EFFD-4B9D-A47F-3584D4E6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745-6F5A-4CB3-8526-586BEF0B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411-938D-4230-BF22-9456ABF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D35-BD54-41BF-82CE-775E4AFE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5B3-BB2A-48B0-89B4-FC13C106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407-CC07-4066-A60F-849971D8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3B4-5FB1-46EE-90A8-F61473A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882-C222-4453-8B67-104932C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0A4-E9E4-412F-AC17-9E408B18D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387520"/>
            <a:ext cx="640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ВЕДЕНИЕ В КУРС ИНФОРМАТИКИ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6960" indent="-69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14400" y="3425760"/>
            <a:ext cx="8101080" cy="2511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. достигали более высокого культурного и экономического уров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8-19T15:19:46Z</dcterms:modified>
  <cp:revision>48</cp:revision>
  <dc:subject/>
  <dc:title>Презентация PowerPoint</dc:title>
</cp:coreProperties>
</file>