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26B-8C04-4AC7-8E46-9A557D55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3B6-B701-4B92-B3FB-41A0698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506-FB8E-492A-924B-81AA192A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36E-F542-4DC0-864C-FC0B7C6F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A44-36C1-4F1C-B610-26FD20B2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CA9-E146-40B5-9EC9-3A01B22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FA8-1CC1-447E-8F19-3B81321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1DE-8541-4CC7-B3F0-0F946A7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0EE-DD03-4EC4-850D-3FFE2BF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3C8-9E29-4784-B36A-06655C3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4AC-55B2-4B60-8C6F-92DAF38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2A6-7268-445C-8F48-3DE70BD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BE97-E782-4E35-8028-DBA770C04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МЕНТЫ РАСПОЗНОВАНИЯ ТЕКСТОВ И КОМПЬЮТЕРНОГО ПЕРЕ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 распознавания доку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ые слов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-переводч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граммы оптического распознавания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125360"/>
            <a:ext cx="784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познавания символ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з наиболее известных программ такого типа является ABBYY FineRea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2556000" y="357300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780000" y="400536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мажный нос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щается под крышку ска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80000" y="494028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грамме отдаётся коман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нировать и распо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80000" y="587700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знанный текст пере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кно текстового ред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116000" y="3068640"/>
            <a:ext cx="7777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граммой распознавания 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556000" y="429264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556000" y="522936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556000" y="616572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116000" y="1125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место сканера можно использовать цифровой фотоаппарат или камеру мобильного телефо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1920960" cy="1697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2158920" cy="139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55728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"/>
          <p:cNvPicPr/>
          <p:nvPr/>
        </p:nvPicPr>
        <p:blipFill>
          <a:blip r:embed="rId4"/>
          <a:stretch/>
        </p:blipFill>
        <p:spPr>
          <a:xfrm>
            <a:off x="4500720" y="5013360"/>
            <a:ext cx="1109520" cy="10396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20"/>
          <p:cNvGrpSpPr/>
          <p:nvPr/>
        </p:nvGrpSpPr>
        <p:grpSpPr>
          <a:xfrm>
            <a:off x="6926400" y="3357720"/>
            <a:ext cx="2217600" cy="1652400"/>
            <a:chOff x="6926400" y="3357720"/>
            <a:chExt cx="2217600" cy="1652400"/>
          </a:xfrm>
        </p:grpSpPr>
        <p:grpSp>
          <p:nvGrpSpPr>
            <p:cNvPr id="180" name="Group 21"/>
            <p:cNvGrpSpPr/>
            <p:nvPr/>
          </p:nvGrpSpPr>
          <p:grpSpPr>
            <a:xfrm>
              <a:off x="6926400" y="3357720"/>
              <a:ext cx="2217600" cy="1652400"/>
              <a:chOff x="6926400" y="3357720"/>
              <a:chExt cx="2217600" cy="1652400"/>
            </a:xfrm>
          </p:grpSpPr>
          <p:pic>
            <p:nvPicPr>
              <p:cNvPr id="181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926400" y="3357720"/>
                <a:ext cx="2217600" cy="16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3"/>
              <p:cNvSpPr/>
              <p:nvPr/>
            </p:nvSpPr>
            <p:spPr>
              <a:xfrm>
                <a:off x="7291440" y="3545280"/>
                <a:ext cx="1555200" cy="97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24" descr=""/>
            <p:cNvPicPr/>
            <p:nvPr/>
          </p:nvPicPr>
          <p:blipFill>
            <a:blip r:embed="rId6"/>
            <a:stretch/>
          </p:blipFill>
          <p:spPr>
            <a:xfrm>
              <a:off x="7291440" y="3545280"/>
              <a:ext cx="155520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AutoShape 25"/>
          <p:cNvSpPr/>
          <p:nvPr/>
        </p:nvSpPr>
        <p:spPr>
          <a:xfrm rot="2839800">
            <a:off x="3746160" y="2878200"/>
            <a:ext cx="216000" cy="936720"/>
          </a:xfrm>
          <a:prstGeom prst="upArrow">
            <a:avLst>
              <a:gd name="adj1" fmla="val 50000"/>
              <a:gd name="adj2" fmla="val 108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6"/>
          <p:cNvSpPr/>
          <p:nvPr/>
        </p:nvSpPr>
        <p:spPr>
          <a:xfrm rot="5400000">
            <a:off x="3960720" y="3537000"/>
            <a:ext cx="216000" cy="1009440"/>
          </a:xfrm>
          <a:prstGeom prst="upArrow">
            <a:avLst>
              <a:gd name="adj1" fmla="val 50000"/>
              <a:gd name="adj2" fmla="val 116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7"/>
          <p:cNvSpPr/>
          <p:nvPr/>
        </p:nvSpPr>
        <p:spPr>
          <a:xfrm rot="7909800">
            <a:off x="3897360" y="4223160"/>
            <a:ext cx="225720" cy="1081080"/>
          </a:xfrm>
          <a:prstGeom prst="upArrow">
            <a:avLst>
              <a:gd name="adj1" fmla="val 50000"/>
              <a:gd name="adj2" fmla="val 1197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8"/>
          <p:cNvSpPr/>
          <p:nvPr/>
        </p:nvSpPr>
        <p:spPr>
          <a:xfrm rot="6838800">
            <a:off x="6300360" y="2420640"/>
            <a:ext cx="144360" cy="1297080"/>
          </a:xfrm>
          <a:prstGeom prst="upArrow">
            <a:avLst>
              <a:gd name="adj1" fmla="val 50000"/>
              <a:gd name="adj2" fmla="val 224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9"/>
          <p:cNvSpPr/>
          <p:nvPr/>
        </p:nvSpPr>
        <p:spPr>
          <a:xfrm rot="3951600">
            <a:off x="6139800" y="4452840"/>
            <a:ext cx="247680" cy="1079640"/>
          </a:xfrm>
          <a:prstGeom prst="upArrow">
            <a:avLst>
              <a:gd name="adj1" fmla="val 50000"/>
              <a:gd name="adj2" fmla="val 108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0"/>
          <p:cNvSpPr/>
          <p:nvPr/>
        </p:nvSpPr>
        <p:spPr>
          <a:xfrm rot="5400000">
            <a:off x="6156000" y="3213000"/>
            <a:ext cx="215640" cy="1079640"/>
          </a:xfrm>
          <a:prstGeom prst="upArrow">
            <a:avLst>
              <a:gd name="adj1" fmla="val 50000"/>
              <a:gd name="adj2" fmla="val 125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 rot="1670400">
            <a:off x="5889600" y="2712960"/>
            <a:ext cx="208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канированные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508720" y="4076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тек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195640" y="6165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ческое распознавание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34" descr=""/>
          <p:cNvPicPr/>
          <p:nvPr/>
        </p:nvPicPr>
        <p:blipFill>
          <a:blip r:embed="rId7"/>
          <a:stretch/>
        </p:blipFill>
        <p:spPr>
          <a:xfrm>
            <a:off x="7667640" y="5805360"/>
            <a:ext cx="111924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5" descr=""/>
          <p:cNvPicPr/>
          <p:nvPr/>
        </p:nvPicPr>
        <p:blipFill>
          <a:blip r:embed="rId8"/>
          <a:stretch/>
        </p:blipFill>
        <p:spPr>
          <a:xfrm>
            <a:off x="7380360" y="3141720"/>
            <a:ext cx="1419120" cy="43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омпьютерные словари и программы-перевод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16000" y="1125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еспечивают мгновенный поиск словарных статей. Многие словари предоставляют пользователям возможность прослушивания слов в исполнении носителей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2411280" y="3429000"/>
            <a:ext cx="0" cy="2665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08360" y="3718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на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амостоя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708360" y="4726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оен в текстовы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708360" y="5734080"/>
            <a:ext cx="4753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line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2410920" y="414972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2410920" y="50846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2410920" y="60944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364000" y="5734080"/>
            <a:ext cx="33847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ирование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ребуем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116000" y="1125360"/>
            <a:ext cx="785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Для перевода текстовых документов примен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295280" y="4653000"/>
            <a:ext cx="352764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альное знание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V="1">
            <a:off x="3095640" y="436572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7093080" y="5373360"/>
            <a:ext cx="0" cy="3589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4859280" y="494172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364000" y="4724280"/>
            <a:ext cx="3311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исход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798560" y="3789360"/>
            <a:ext cx="554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V="1">
            <a:off x="291636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630072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979640" y="2637000"/>
            <a:ext cx="1871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64000" y="2637000"/>
            <a:ext cx="1872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и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4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56052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1619280" y="2852640"/>
            <a:ext cx="655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5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638360" cy="42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0920" y="981000"/>
            <a:ext cx="87138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овременных компьютеров по хранению больших массивов информации и осуществлению в них быстрого поиска положены в основу разработки компьютерных словарей и программ-переводч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вода текстовых документов применя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116000" y="191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случаях программы распознавания текста экономят время и силы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16000" y="19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времени потребуется для ввода в память компьютера текста романа А. Дюма «Три мушкетёра» с помощью сканера и программы ABBYY FineReader, если известно, что текст выполнен на 590 страницах, на сканирование одной страницы уходит 3 с, на смену страницы в сканере  - 5 с, на распознавание страницы - 2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, по вашему мнению, основные преимущества компьютерных словарей перед обычными словарями в форме кни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программы-переводчики успешно переводят деловые документы, но не годятся  для  перевода текстов художественных произвед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708360" y="98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0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116000" y="1557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названиями программ и их назначе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16000" y="2565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ord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219640" y="2565360"/>
            <a:ext cx="369576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текстов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291280" y="338472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печ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5292720" y="4292640"/>
            <a:ext cx="3635280" cy="692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текста с од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руг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5291280" y="532764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50920" y="331308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BYY Fine Read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52360" y="404964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T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187280" y="4797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Writ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87280" y="5589720"/>
            <a:ext cx="3203640" cy="458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и соли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1116000" y="98100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ввода текстов с бумажных носителей в память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476360" y="278136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508720" y="263700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отдель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473800" y="321300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слово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4573440" y="281628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537080" y="303228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11280" y="429264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543640" y="414828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ая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508720" y="472428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овая пере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4608360" y="4327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4572000" y="454356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5 (стр. 170 - 1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0 – 191 (стр. 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4:13Z</dcterms:modified>
  <cp:revision>47</cp:revision>
  <dc:subject/>
  <dc:title>Презентация PowerPoint</dc:title>
</cp:coreProperties>
</file>