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4B5-2D31-46DC-9D60-C3652DBD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60E2-7FE6-498B-9FD1-B24271AC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0EC8-62AA-4951-B919-DAB0CCA1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6145-DB0C-4390-A3DA-14CB02AE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62E-9314-4962-BEF5-6D14076B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829-E5EA-4CE4-AB4A-948FF22E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F33D-FEF3-46EE-BA0A-24599FC8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3ABC-3FDC-4FDD-84E3-E69CAA2B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2D35-A294-4C12-8F2B-3E92A7C4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F72-F970-4E69-A6C8-DE32084B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67DF-84AB-4594-8EF2-71951A3E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CB4E-4783-41AF-907F-9B6F9C15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8104-396C-45A3-B770-E319D61CF8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НСТРУМЕНТЫ РАСПОЗНОВАНИЯ ТЕКСТОВ И КОМПЬЮТЕРНОГО ПЕРЕВ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640"/>
            <a:ext cx="7643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ы распознавания докум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ьютерные слова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ы-переводч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7643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Программы оптического распознавания доку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116000" y="1125360"/>
            <a:ext cx="7848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ввода текстов в память компьютера с бумажных носителей использую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канер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спознавания символ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ой из наиболее известных программ такого типа является ABBYY FineRea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 flipV="1">
            <a:off x="2556000" y="3573000"/>
            <a:ext cx="0" cy="2592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780000" y="4005360"/>
            <a:ext cx="4968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мажный носи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мещается под крышку скан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780000" y="4940280"/>
            <a:ext cx="4968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рограмме отдаётся коман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анировать и распозн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780000" y="5877000"/>
            <a:ext cx="4968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познанный текст перенос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кно текстового редак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116000" y="3068640"/>
            <a:ext cx="7777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бота с программой распознавания текс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2556000" y="4292640"/>
            <a:ext cx="12254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2556000" y="5229360"/>
            <a:ext cx="12254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2556000" y="6165720"/>
            <a:ext cx="12254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116000" y="1125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место сканера можно использовать цифровой фотоаппарат или камеру мобильного телефо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1920960" cy="1697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"/>
          <p:cNvPicPr/>
          <p:nvPr/>
        </p:nvPicPr>
        <p:blipFill>
          <a:blip r:embed="rId2"/>
          <a:stretch/>
        </p:blipFill>
        <p:spPr>
          <a:xfrm>
            <a:off x="3924360" y="1989000"/>
            <a:ext cx="2158920" cy="1392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8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557280" cy="108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9" descr=""/>
          <p:cNvPicPr/>
          <p:nvPr/>
        </p:nvPicPr>
        <p:blipFill>
          <a:blip r:embed="rId4"/>
          <a:stretch/>
        </p:blipFill>
        <p:spPr>
          <a:xfrm>
            <a:off x="4500720" y="5013360"/>
            <a:ext cx="1109520" cy="1039680"/>
          </a:xfrm>
          <a:prstGeom prst="rect">
            <a:avLst/>
          </a:prstGeom>
          <a:ln w="0">
            <a:noFill/>
          </a:ln>
        </p:spPr>
      </p:pic>
      <p:grpSp>
        <p:nvGrpSpPr>
          <p:cNvPr id="179" name="Group 20"/>
          <p:cNvGrpSpPr/>
          <p:nvPr/>
        </p:nvGrpSpPr>
        <p:grpSpPr>
          <a:xfrm>
            <a:off x="6926400" y="3357720"/>
            <a:ext cx="2217600" cy="1652400"/>
            <a:chOff x="6926400" y="3357720"/>
            <a:chExt cx="2217600" cy="1652400"/>
          </a:xfrm>
        </p:grpSpPr>
        <p:grpSp>
          <p:nvGrpSpPr>
            <p:cNvPr id="180" name="Group 21"/>
            <p:cNvGrpSpPr/>
            <p:nvPr/>
          </p:nvGrpSpPr>
          <p:grpSpPr>
            <a:xfrm>
              <a:off x="6926400" y="3357720"/>
              <a:ext cx="2217600" cy="1652400"/>
              <a:chOff x="6926400" y="3357720"/>
              <a:chExt cx="2217600" cy="1652400"/>
            </a:xfrm>
          </p:grpSpPr>
          <p:pic>
            <p:nvPicPr>
              <p:cNvPr id="181" name="Picture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6926400" y="3357720"/>
                <a:ext cx="2217600" cy="16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Rectangle 23"/>
              <p:cNvSpPr/>
              <p:nvPr/>
            </p:nvSpPr>
            <p:spPr>
              <a:xfrm>
                <a:off x="7291440" y="3545280"/>
                <a:ext cx="1555200" cy="97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3" name="Picture 24" descr=""/>
            <p:cNvPicPr/>
            <p:nvPr/>
          </p:nvPicPr>
          <p:blipFill>
            <a:blip r:embed="rId6"/>
            <a:stretch/>
          </p:blipFill>
          <p:spPr>
            <a:xfrm>
              <a:off x="7291440" y="3545280"/>
              <a:ext cx="155520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AutoShape 25"/>
          <p:cNvSpPr/>
          <p:nvPr/>
        </p:nvSpPr>
        <p:spPr>
          <a:xfrm rot="2839800">
            <a:off x="3746160" y="2878200"/>
            <a:ext cx="216000" cy="936720"/>
          </a:xfrm>
          <a:prstGeom prst="upArrow">
            <a:avLst>
              <a:gd name="adj1" fmla="val 50000"/>
              <a:gd name="adj2" fmla="val 1084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6"/>
          <p:cNvSpPr/>
          <p:nvPr/>
        </p:nvSpPr>
        <p:spPr>
          <a:xfrm rot="5400000">
            <a:off x="3960720" y="3537000"/>
            <a:ext cx="216000" cy="1009440"/>
          </a:xfrm>
          <a:prstGeom prst="upArrow">
            <a:avLst>
              <a:gd name="adj1" fmla="val 50000"/>
              <a:gd name="adj2" fmla="val 116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7"/>
          <p:cNvSpPr/>
          <p:nvPr/>
        </p:nvSpPr>
        <p:spPr>
          <a:xfrm rot="7909800">
            <a:off x="3897360" y="4223160"/>
            <a:ext cx="225720" cy="1081080"/>
          </a:xfrm>
          <a:prstGeom prst="upArrow">
            <a:avLst>
              <a:gd name="adj1" fmla="val 50000"/>
              <a:gd name="adj2" fmla="val 1197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8"/>
          <p:cNvSpPr/>
          <p:nvPr/>
        </p:nvSpPr>
        <p:spPr>
          <a:xfrm rot="6838800">
            <a:off x="6300360" y="2420640"/>
            <a:ext cx="144360" cy="1297080"/>
          </a:xfrm>
          <a:prstGeom prst="upArrow">
            <a:avLst>
              <a:gd name="adj1" fmla="val 50000"/>
              <a:gd name="adj2" fmla="val 2246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9"/>
          <p:cNvSpPr/>
          <p:nvPr/>
        </p:nvSpPr>
        <p:spPr>
          <a:xfrm rot="3951600">
            <a:off x="6139800" y="4452840"/>
            <a:ext cx="247680" cy="1079640"/>
          </a:xfrm>
          <a:prstGeom prst="upArrow">
            <a:avLst>
              <a:gd name="adj1" fmla="val 50000"/>
              <a:gd name="adj2" fmla="val 1089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0"/>
          <p:cNvSpPr/>
          <p:nvPr/>
        </p:nvSpPr>
        <p:spPr>
          <a:xfrm rot="5400000">
            <a:off x="6156000" y="3213000"/>
            <a:ext cx="215640" cy="1079640"/>
          </a:xfrm>
          <a:prstGeom prst="upArrow">
            <a:avLst>
              <a:gd name="adj1" fmla="val 50000"/>
              <a:gd name="adj2" fmla="val 1251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1"/>
          <p:cNvSpPr/>
          <p:nvPr/>
        </p:nvSpPr>
        <p:spPr>
          <a:xfrm rot="1670400">
            <a:off x="5889600" y="2712960"/>
            <a:ext cx="2089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канированные доку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5508720" y="4076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тографии текс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3"/>
          <p:cNvSpPr/>
          <p:nvPr/>
        </p:nvSpPr>
        <p:spPr>
          <a:xfrm>
            <a:off x="2195640" y="61657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ческое распознавание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ject 34" descr=""/>
          <p:cNvPicPr/>
          <p:nvPr/>
        </p:nvPicPr>
        <p:blipFill>
          <a:blip r:embed="rId7"/>
          <a:stretch/>
        </p:blipFill>
        <p:spPr>
          <a:xfrm>
            <a:off x="7667640" y="5805360"/>
            <a:ext cx="1119240" cy="685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5" descr=""/>
          <p:cNvPicPr/>
          <p:nvPr/>
        </p:nvPicPr>
        <p:blipFill>
          <a:blip r:embed="rId8"/>
          <a:stretch/>
        </p:blipFill>
        <p:spPr>
          <a:xfrm>
            <a:off x="7380360" y="3141720"/>
            <a:ext cx="1419120" cy="436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Заголовок 2"/>
          <p:cNvSpPr/>
          <p:nvPr/>
        </p:nvSpPr>
        <p:spPr>
          <a:xfrm>
            <a:off x="1042920" y="189000"/>
            <a:ext cx="7643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Компьютерные словари и программы-переводч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116000" y="1125360"/>
            <a:ext cx="77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мпьютерные словар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беспечивают мгновенный поиск словарных статей. Многие словари предоставляют пользователям возможность прослушивания слов в исполнении носителей язы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2411280" y="3429000"/>
            <a:ext cx="0" cy="2665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708360" y="3718080"/>
            <a:ext cx="4753080" cy="71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ановлен на компью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самостоятель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708360" y="4726080"/>
            <a:ext cx="4753080" cy="71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роен в текстовый проц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3708360" y="5734080"/>
            <a:ext cx="475308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-line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жиме в сети Инте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 flipH="1">
            <a:off x="2410920" y="4149720"/>
            <a:ext cx="12970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2410920" y="5084640"/>
            <a:ext cx="12970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"/>
          <p:cNvSpPr/>
          <p:nvPr/>
        </p:nvSpPr>
        <p:spPr>
          <a:xfrm flipH="1">
            <a:off x="2410920" y="6094440"/>
            <a:ext cx="12970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5364000" y="5734080"/>
            <a:ext cx="3384720" cy="6462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струирование тек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требуемом я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1116000" y="1125360"/>
            <a:ext cx="785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мпьютерные словар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полняют перевод отдельных слов и словосочетаний. Для перевода текстовых документов применяю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граммы-переводч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295280" y="4653000"/>
            <a:ext cx="352764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альное знание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4"/>
          <p:cNvSpPr/>
          <p:nvPr/>
        </p:nvSpPr>
        <p:spPr>
          <a:xfrm flipV="1">
            <a:off x="3095640" y="436572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 flipV="1">
            <a:off x="7093080" y="5373360"/>
            <a:ext cx="0" cy="3589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4859280" y="4941720"/>
            <a:ext cx="5047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5364000" y="4724280"/>
            <a:ext cx="331164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тек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исходном я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1798560" y="3789360"/>
            <a:ext cx="5545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а-переводч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 flipV="1">
            <a:off x="2916360" y="328464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 flipV="1">
            <a:off x="6300720" y="328464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1979640" y="2637000"/>
            <a:ext cx="1871640" cy="71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хни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кумент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5364000" y="2637000"/>
            <a:ext cx="1872000" cy="71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писк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4" descr=""/>
          <p:cNvPicPr/>
          <p:nvPr/>
        </p:nvPicPr>
        <p:blipFill>
          <a:blip r:embed="rId1"/>
          <a:stretch/>
        </p:blipFill>
        <p:spPr>
          <a:xfrm>
            <a:off x="6588000" y="3789360"/>
            <a:ext cx="560520" cy="576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8"/>
          <p:cNvSpPr/>
          <p:nvPr/>
        </p:nvSpPr>
        <p:spPr>
          <a:xfrm>
            <a:off x="1619280" y="2852640"/>
            <a:ext cx="6553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мпьютерный словар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5" descr=""/>
          <p:cNvPicPr/>
          <p:nvPr/>
        </p:nvPicPr>
        <p:blipFill>
          <a:blip r:embed="rId2"/>
          <a:stretch/>
        </p:blipFill>
        <p:spPr>
          <a:xfrm>
            <a:off x="6443640" y="2924280"/>
            <a:ext cx="1638360" cy="428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50920" y="981000"/>
            <a:ext cx="8713800" cy="3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вода текстов в память компьютера с бумажных носителей использу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кане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граммы распознавания симво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и современных компьютеров по хранению больших массивов информации и осуществлению в них быстрого поиска положены в основу разработки компьютерных словарей и программ-переводч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ьютерные слова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олняют перевод отдельных слов и словосочетани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еревода текстовых документов применяю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граммы-переводч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Заголовок 2"/>
          <p:cNvSpPr/>
          <p:nvPr/>
        </p:nvSpPr>
        <p:spPr>
          <a:xfrm>
            <a:off x="1042920" y="189000"/>
            <a:ext cx="7643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116000" y="1916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случаях программы распознавания текста экономят время и силы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116000" y="1916280"/>
            <a:ext cx="77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времени потребуется для ввода в память компьютера текста романа А. Дюма «Три мушкетёра» с помощью сканера и программы ABBYY FineReader, если известно, что текст выполнен на 590 страницах, на сканирование одной страницы уходит 3 с, на смену страницы в сканере  - 5 с, на распознавание страницы - 2 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116000" y="191628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, по вашему мнению, основные преимущества компьютерных словарей перед обычными словарями в форме кни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1116000" y="191628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программы-переводчики успешно переводят деловые документы, но не годятся  для  перевода текстов художественных произвед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3708360" y="981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90 (стр. 8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1116000" y="155736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те соответствие между названиями программ и их назначени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116000" y="2565360"/>
            <a:ext cx="3203640" cy="459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ord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5219640" y="2565360"/>
            <a:ext cx="3695760" cy="5396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текстовых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5291280" y="3384720"/>
            <a:ext cx="3635280" cy="5396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навыков печа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5292720" y="4292640"/>
            <a:ext cx="3635280" cy="69228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вод текста с одн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руг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5291280" y="5327640"/>
            <a:ext cx="3635280" cy="5396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знавание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150920" y="3313080"/>
            <a:ext cx="3203640" cy="459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BYY Fine Reader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152360" y="4049640"/>
            <a:ext cx="3203640" cy="459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T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187280" y="4797360"/>
            <a:ext cx="3203640" cy="459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Office.org Writer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187280" y="5589720"/>
            <a:ext cx="3203640" cy="458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и солист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9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5"/>
          <p:cNvSpPr/>
          <p:nvPr/>
        </p:nvSpPr>
        <p:spPr>
          <a:xfrm>
            <a:off x="1116000" y="981000"/>
            <a:ext cx="7848720" cy="109944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ане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ы распознавания симво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уют для ввода текстов с бумажных носителей в память компь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476360" y="2781360"/>
            <a:ext cx="302436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ьютерный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5508720" y="2637000"/>
            <a:ext cx="3240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вод отдельных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5473800" y="3213000"/>
            <a:ext cx="3303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вод словосочет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 flipV="1">
            <a:off x="4573440" y="281628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4537080" y="3032280"/>
            <a:ext cx="936720" cy="32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1511280" y="4292640"/>
            <a:ext cx="302436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а-перевод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5543640" y="4148280"/>
            <a:ext cx="3240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ическая докум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5508720" y="4724280"/>
            <a:ext cx="3303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ловая переп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9"/>
          <p:cNvSpPr/>
          <p:nvPr/>
        </p:nvSpPr>
        <p:spPr>
          <a:xfrm flipV="1">
            <a:off x="4608360" y="432756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0"/>
          <p:cNvSpPr/>
          <p:nvPr/>
        </p:nvSpPr>
        <p:spPr>
          <a:xfrm>
            <a:off x="4572000" y="4543560"/>
            <a:ext cx="936720" cy="32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.5 (стр. 170 - 1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90 – 191 (стр. 8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7:44:13Z</dcterms:modified>
  <cp:revision>47</cp:revision>
  <dc:subject/>
  <dc:title>Презентация PowerPoint</dc:title>
</cp:coreProperties>
</file>