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3F8-BCB4-4825-B528-7C574082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982-2DB6-4ABA-9104-44EEF848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3B5-D16F-4FE2-A0D0-35E02802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DD0-3BF7-4292-9542-413EC2A1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B76-ABE2-4781-A351-05740AD0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24E-A92A-4D22-870F-3B037165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FC9-1AD9-4F98-A2FE-0D062628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346-7572-4688-AC19-2C6B7EC6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5F8-D776-45F4-9375-D224CD62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4C5-350B-4D92-81E8-DAF4BD02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8D5-4A77-4DAE-BB31-57567BB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BF8-A398-4048-A316-FFF28AF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3BE3-8BB0-4D40-8825-EBED53793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64072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ОЕ ОБЕСПЕЧЕНИЕ КОМПЬЮТ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МПЬЮТЕР КАК УНИВЕСАЛЬНОЕ УСТРОЙСТВО ДЛЯ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395280" y="969840"/>
            <a:ext cx="842472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окупность всех программ, предназначенных для выполнения на компьютере,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граммным обеспечением (П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функциональному назначению различают: системное ПО, прикладное ПО, системы программ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стемное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ебя операционную систему и сервисные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стема программ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комплекс программных средств, предназначенных для разработки компьютерных программ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зыке программ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, с помощью которых пользователь может решать информационные задачи, не прибегая к программированию, принято называ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кладными программ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ложен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равовому статусу ПО можно разделить на две груп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, являющееся частной собственность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в или правообладат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ое П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116000" y="220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рограммное обеспечение компьютера? Какова его ро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29528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группы программного обеспечения принято выделять по функциональному назначен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11600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функции выполняет операционная сис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258920" y="2349360"/>
            <a:ext cx="76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тличается установка ОС от загрузки О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11600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загрузки компьютера возникло сообщение «Non system disk». С чем это связа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129528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пьютерный вирус? Как уберечь свой компьютер от поражения компьютерными вирус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116000" y="220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предназначены системы программиро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971640" y="2276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разновидности программ прикладного назначения. Кто использует прикладные программы общего назна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129528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иды программ можно выделить по их правовому стату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90000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у разработчиков компьютерных вирусов и компьютерных пират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98 (стр.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1042920" y="1197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известного вам програм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я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403280" y="2276640"/>
          <a:ext cx="6912000" cy="4359240"/>
        </p:xfrm>
        <a:graphic>
          <a:graphicData uri="http://schemas.openxmlformats.org/drawingml/2006/table">
            <a:tbl>
              <a:tblPr/>
              <a:tblGrid>
                <a:gridCol w="3888000"/>
                <a:gridCol w="3024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ное обесп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онная 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вирусная програ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онная програ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рограмм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й реда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реда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тор презент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99 (стр. 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1042920" y="1197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, разновидностью системного или прикладного  ПО является вид программного обесп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48000" y="1916280"/>
            <a:ext cx="32400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ы автоматизирова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ект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 rot="16200000">
            <a:off x="5201280" y="4031280"/>
            <a:ext cx="50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лад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 rot="16200000">
            <a:off x="-414720" y="4031640"/>
            <a:ext cx="507672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348000" y="256536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тивирусные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348000" y="299736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348000" y="342900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ерационные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348000" y="386064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льтимедиа проигрыв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348000" y="4292640"/>
            <a:ext cx="3240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граммы обслуж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с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348000" y="4941720"/>
            <a:ext cx="3240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ы управления б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3348000" y="558972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ухгалтерские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348000" y="602136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лектронный учеб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3348000" y="649764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фисные пак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00 (стр. 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0"/>
          <p:cNvSpPr/>
          <p:nvPr/>
        </p:nvSpPr>
        <p:spPr>
          <a:xfrm>
            <a:off x="1042920" y="119700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й пары объектов укажите связывающее их 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403280" y="1628640"/>
            <a:ext cx="41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ерационная система и программ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403280" y="2278080"/>
            <a:ext cx="417672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дактор презентаций и приклад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граммное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403280" y="2924280"/>
            <a:ext cx="4176720" cy="577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тровый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03280" y="4292640"/>
            <a:ext cx="41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растровый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403280" y="4941720"/>
            <a:ext cx="41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XP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операцион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403280" y="5589720"/>
            <a:ext cx="4176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ctor Web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антивирусная 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1403280" y="6021360"/>
            <a:ext cx="4176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kype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коммуникационная 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403280" y="6497640"/>
            <a:ext cx="4176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crosoft Word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6804000" y="2205000"/>
            <a:ext cx="187164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ходит в сост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6877080" y="5013360"/>
            <a:ext cx="18716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новид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804000" y="3429000"/>
            <a:ext cx="187164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лемен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нож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403280" y="3645000"/>
            <a:ext cx="4176720" cy="577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ный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000"/>
                            </p:stCondLst>
                            <p:childTnLst>
                              <p:par>
                                <p:cTn id="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6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0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9000"/>
                            </p:stCondLst>
                            <p:childTnLst>
                              <p:par>
                                <p:cTn id="8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8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90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8"/>
          <p:cNvSpPr/>
          <p:nvPr/>
        </p:nvSpPr>
        <p:spPr>
          <a:xfrm flipV="1">
            <a:off x="7740720" y="364500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8"/>
          <p:cNvSpPr/>
          <p:nvPr/>
        </p:nvSpPr>
        <p:spPr>
          <a:xfrm flipV="1">
            <a:off x="7020000" y="213372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4572000" y="213372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8"/>
          <p:cNvSpPr/>
          <p:nvPr/>
        </p:nvSpPr>
        <p:spPr>
          <a:xfrm flipV="1">
            <a:off x="2268360" y="213372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 flipV="1">
            <a:off x="6372360" y="2852280"/>
            <a:ext cx="0" cy="5050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116000" y="83664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граммное обеспечение (ПО)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вокупность всех програм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ных для выполнения на компью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692360" y="1773360"/>
            <a:ext cx="676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программного обеспечения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580000" y="2421000"/>
            <a:ext cx="3384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ы програм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1116000" y="3213000"/>
            <a:ext cx="1655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(О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116000" y="4149720"/>
            <a:ext cx="1655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рвис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1116000" y="5013360"/>
            <a:ext cx="1655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1116000" y="5516640"/>
            <a:ext cx="1655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виру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1116000" y="6021360"/>
            <a:ext cx="2232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ммуник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780000" y="3068640"/>
            <a:ext cx="180000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на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780000" y="4005360"/>
            <a:ext cx="180000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пециа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на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6804000" y="2997360"/>
            <a:ext cx="2089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зы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6804000" y="3933720"/>
            <a:ext cx="2089080" cy="273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ссемблер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ОРТР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аскал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 (С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Г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ИСП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ло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Делф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ейс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. . . . . .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8"/>
          <p:cNvSpPr/>
          <p:nvPr/>
        </p:nvSpPr>
        <p:spPr>
          <a:xfrm flipV="1">
            <a:off x="3492360" y="2852280"/>
            <a:ext cx="0" cy="1584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8"/>
          <p:cNvSpPr/>
          <p:nvPr/>
        </p:nvSpPr>
        <p:spPr>
          <a:xfrm>
            <a:off x="3491640" y="3500280"/>
            <a:ext cx="287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8"/>
          <p:cNvSpPr/>
          <p:nvPr/>
        </p:nvSpPr>
        <p:spPr>
          <a:xfrm>
            <a:off x="6371640" y="3357720"/>
            <a:ext cx="431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>
            <a:off x="3491640" y="4437000"/>
            <a:ext cx="287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348000" y="242100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ладное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 flipV="1">
            <a:off x="3132000" y="2852640"/>
            <a:ext cx="0" cy="31687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8"/>
          <p:cNvSpPr/>
          <p:nvPr/>
        </p:nvSpPr>
        <p:spPr>
          <a:xfrm>
            <a:off x="2770920" y="350028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8"/>
          <p:cNvSpPr/>
          <p:nvPr/>
        </p:nvSpPr>
        <p:spPr>
          <a:xfrm>
            <a:off x="2770920" y="443700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8"/>
          <p:cNvSpPr/>
          <p:nvPr/>
        </p:nvSpPr>
        <p:spPr>
          <a:xfrm>
            <a:off x="2770920" y="522936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2770920" y="573408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1116000" y="242100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ное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692360" y="1628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3 (стр. 68 - 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01, 102, 103, 104 (стр. 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ное обеспечение (П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кладное 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ограмм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ерационная сис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рхив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тивирусная програм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е общего назна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е специального назна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659640" y="4941720"/>
            <a:ext cx="1942920" cy="129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лад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332000" y="4870440"/>
            <a:ext cx="1942920" cy="12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564000" y="4941720"/>
            <a:ext cx="2736720" cy="129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Понятие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116000" y="112536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описание на формальном языке, «понятном» компьютеру, последовательности действий, которые необходимо выполнить над данными для решения поставленной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 всех программ, предназначенных для выполнения на компьютере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раммным обеспе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) компью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 flipV="1">
            <a:off x="2987640" y="4581000"/>
            <a:ext cx="2016000" cy="289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8"/>
          <p:cNvSpPr/>
          <p:nvPr/>
        </p:nvSpPr>
        <p:spPr>
          <a:xfrm flipH="1" flipV="1">
            <a:off x="4932000" y="4581000"/>
            <a:ext cx="230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 flipV="1">
            <a:off x="4932360" y="458100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203640" y="3933720"/>
            <a:ext cx="36018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2"/>
          <p:cNvSpPr/>
          <p:nvPr/>
        </p:nvSpPr>
        <p:spPr>
          <a:xfrm>
            <a:off x="97164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истемное программное обесп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116000" y="1052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ет в себя операционную систему и сервисные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116000" y="22766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комплекс программ, обеспечивающих совместное функционирование всех устройств компьютера и предоставляющих пользователю доступ к ресурсам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659640" y="4941720"/>
            <a:ext cx="194292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411280" y="4941720"/>
            <a:ext cx="1943280" cy="790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пара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V="1">
            <a:off x="3348000" y="4581000"/>
            <a:ext cx="1655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8"/>
          <p:cNvSpPr/>
          <p:nvPr/>
        </p:nvSpPr>
        <p:spPr>
          <a:xfrm flipH="1" flipV="1">
            <a:off x="4932000" y="4581000"/>
            <a:ext cx="230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203640" y="3933720"/>
            <a:ext cx="36018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116000" y="6021360"/>
            <a:ext cx="194328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вода и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659640" y="5877000"/>
            <a:ext cx="194292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203640" y="6021360"/>
            <a:ext cx="194292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7524720" y="5589720"/>
            <a:ext cx="0" cy="358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8"/>
          <p:cNvSpPr/>
          <p:nvPr/>
        </p:nvSpPr>
        <p:spPr>
          <a:xfrm flipV="1">
            <a:off x="2556000" y="5734080"/>
            <a:ext cx="72072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 flipH="1" flipV="1">
            <a:off x="3276720" y="5734080"/>
            <a:ext cx="57456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8"/>
          <p:cNvSpPr/>
          <p:nvPr/>
        </p:nvSpPr>
        <p:spPr>
          <a:xfrm flipV="1">
            <a:off x="2195640" y="450972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 flipV="1">
            <a:off x="4859280" y="450972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 flipV="1">
            <a:off x="7885080" y="450972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332000" y="3789360"/>
            <a:ext cx="17272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пара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76720" y="3789360"/>
            <a:ext cx="309564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паратно-програм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659640" y="3789360"/>
            <a:ext cx="2305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ьз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116000" y="1701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, обеспечивающие взаимосвязь между объектами этой системы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1042920" y="98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является частью системы «человек - компьютер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732720" y="4941720"/>
            <a:ext cx="2160360" cy="129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к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635280" y="4941720"/>
            <a:ext cx="2737080" cy="172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паратног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8"/>
          <p:cNvSpPr/>
          <p:nvPr/>
        </p:nvSpPr>
        <p:spPr>
          <a:xfrm flipV="1">
            <a:off x="2700360" y="3428640"/>
            <a:ext cx="223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 flipH="1" flipV="1">
            <a:off x="4860720" y="3428640"/>
            <a:ext cx="2447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132000" y="2781360"/>
            <a:ext cx="36021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терфей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116000" y="4941720"/>
            <a:ext cx="216072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рой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8"/>
          <p:cNvSpPr/>
          <p:nvPr/>
        </p:nvSpPr>
        <p:spPr>
          <a:xfrm flipV="1">
            <a:off x="4788000" y="3428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4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1500120" cy="1319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5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1547640" cy="1596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6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662200" cy="1587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7" descr=""/>
          <p:cNvPicPr/>
          <p:nvPr/>
        </p:nvPicPr>
        <p:blipFill>
          <a:blip r:embed="rId4"/>
          <a:stretch/>
        </p:blipFill>
        <p:spPr>
          <a:xfrm>
            <a:off x="5364000" y="4581360"/>
            <a:ext cx="1781280" cy="1683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8"/>
          <p:cNvSpPr/>
          <p:nvPr/>
        </p:nvSpPr>
        <p:spPr>
          <a:xfrm>
            <a:off x="1116000" y="1197000"/>
            <a:ext cx="78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ционную систе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ходят программы, поддерживающие диалог пользователя с компьютером: желая произвести некоторое действие, человек даёт ОС соответствующую коман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распространённые ОС для персональных компьюте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9"/>
          <p:cNvSpPr/>
          <p:nvPr/>
        </p:nvSpPr>
        <p:spPr>
          <a:xfrm>
            <a:off x="111600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3851280" y="44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7093080" y="4581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5506920" y="6245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716360" y="5805360"/>
            <a:ext cx="190656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головок 2"/>
          <p:cNvSpPr/>
          <p:nvPr/>
        </p:nvSpPr>
        <p:spPr>
          <a:xfrm>
            <a:off x="1116000" y="189000"/>
            <a:ext cx="76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Загрузка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16000" y="8366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грузка 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последовательная загрузка программ операционной системы из долговременной памяти (жёсткого или оптического диска) в оперативную память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187280" y="2565360"/>
            <a:ext cx="2953080" cy="3672000"/>
          </a:xfrm>
          <a:prstGeom prst="rect">
            <a:avLst/>
          </a:prstGeom>
          <a:solidFill>
            <a:srgbClr val="4f81bd"/>
          </a:solidFill>
          <a:ln w="7632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7020000" y="5516640"/>
            <a:ext cx="194292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о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рузч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500720" y="3645000"/>
            <a:ext cx="2230200" cy="15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стировани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тро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пара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476360" y="2708280"/>
            <a:ext cx="2376360" cy="431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332000" y="3213000"/>
            <a:ext cx="2519280" cy="2737080"/>
          </a:xfrm>
          <a:prstGeom prst="rect">
            <a:avLst/>
          </a:prstGeom>
          <a:solidFill>
            <a:srgbClr val="4f81bd"/>
          </a:solidFill>
          <a:ln w="76320">
            <a:solidFill>
              <a:srgbClr val="ffffff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1908000" y="3284640"/>
            <a:ext cx="1295640" cy="431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979640" y="3860640"/>
            <a:ext cx="1152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547640" y="4508640"/>
            <a:ext cx="2016360" cy="1225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с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 flipH="1">
            <a:off x="3708000" y="4437000"/>
            <a:ext cx="79236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 flipH="1">
            <a:off x="6732720" y="4508640"/>
            <a:ext cx="28728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 flipV="1">
            <a:off x="7956720" y="5084640"/>
            <a:ext cx="0" cy="43344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7020000" y="3860640"/>
            <a:ext cx="19065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руз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586560" y="6094440"/>
            <a:ext cx="43344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2"/>
          <p:cNvSpPr/>
          <p:nvPr/>
        </p:nvSpPr>
        <p:spPr>
          <a:xfrm>
            <a:off x="1116000" y="189000"/>
            <a:ext cx="76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Сервис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3"/>
          <p:cNvGrpSpPr/>
          <p:nvPr/>
        </p:nvGrpSpPr>
        <p:grpSpPr>
          <a:xfrm>
            <a:off x="1042920" y="2852640"/>
            <a:ext cx="3105000" cy="1676520"/>
            <a:chOff x="1042920" y="2852640"/>
            <a:chExt cx="3105000" cy="1676520"/>
          </a:xfrm>
        </p:grpSpPr>
        <p:pic>
          <p:nvPicPr>
            <p:cNvPr id="229" name="Picture 5" descr=""/>
            <p:cNvPicPr/>
            <p:nvPr/>
          </p:nvPicPr>
          <p:blipFill>
            <a:blip r:embed="rId1"/>
            <a:stretch/>
          </p:blipFill>
          <p:spPr>
            <a:xfrm>
              <a:off x="1112400" y="2852640"/>
              <a:ext cx="3035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8"/>
            <p:cNvSpPr/>
            <p:nvPr/>
          </p:nvSpPr>
          <p:spPr>
            <a:xfrm>
              <a:off x="1042920" y="2852640"/>
              <a:ext cx="3097440" cy="165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1"/>
          <p:cNvGrpSpPr/>
          <p:nvPr/>
        </p:nvGrpSpPr>
        <p:grpSpPr>
          <a:xfrm>
            <a:off x="1042920" y="4653000"/>
            <a:ext cx="3097080" cy="914400"/>
            <a:chOff x="1042920" y="4653000"/>
            <a:chExt cx="3097080" cy="914400"/>
          </a:xfrm>
        </p:grpSpPr>
        <p:pic>
          <p:nvPicPr>
            <p:cNvPr id="232" name="Picture 6" descr=""/>
            <p:cNvPicPr/>
            <p:nvPr/>
          </p:nvPicPr>
          <p:blipFill>
            <a:blip r:embed="rId2"/>
            <a:stretch/>
          </p:blipFill>
          <p:spPr>
            <a:xfrm>
              <a:off x="1042920" y="4653000"/>
              <a:ext cx="30970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9"/>
            <p:cNvSpPr/>
            <p:nvPr/>
          </p:nvSpPr>
          <p:spPr>
            <a:xfrm>
              <a:off x="1042920" y="4653000"/>
              <a:ext cx="3063240" cy="86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1042920" y="5661000"/>
            <a:ext cx="3095640" cy="939960"/>
            <a:chOff x="1042920" y="5661000"/>
            <a:chExt cx="3095640" cy="939960"/>
          </a:xfrm>
        </p:grpSpPr>
        <p:pic>
          <p:nvPicPr>
            <p:cNvPr id="235" name="Picture 7" descr=""/>
            <p:cNvPicPr/>
            <p:nvPr/>
          </p:nvPicPr>
          <p:blipFill>
            <a:blip r:embed="rId3"/>
            <a:stretch/>
          </p:blipFill>
          <p:spPr>
            <a:xfrm>
              <a:off x="1042920" y="5734080"/>
              <a:ext cx="30384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10"/>
            <p:cNvSpPr/>
            <p:nvPr/>
          </p:nvSpPr>
          <p:spPr>
            <a:xfrm>
              <a:off x="1042920" y="5661000"/>
              <a:ext cx="3095640" cy="93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6"/>
          <p:cNvSpPr/>
          <p:nvPr/>
        </p:nvSpPr>
        <p:spPr>
          <a:xfrm>
            <a:off x="3564000" y="836640"/>
            <a:ext cx="22302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ви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187280" y="1484280"/>
            <a:ext cx="2230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9" descr=""/>
          <p:cNvPicPr/>
          <p:nvPr/>
        </p:nvPicPr>
        <p:blipFill>
          <a:blip r:embed="rId4"/>
          <a:stretch/>
        </p:blipFill>
        <p:spPr>
          <a:xfrm>
            <a:off x="6300720" y="1987560"/>
            <a:ext cx="814320" cy="636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" descr=""/>
          <p:cNvPicPr/>
          <p:nvPr/>
        </p:nvPicPr>
        <p:blipFill>
          <a:blip r:embed="rId5"/>
          <a:stretch/>
        </p:blipFill>
        <p:spPr>
          <a:xfrm>
            <a:off x="7812000" y="1989000"/>
            <a:ext cx="706680" cy="6987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1"/>
          <p:cNvSpPr/>
          <p:nvPr/>
        </p:nvSpPr>
        <p:spPr>
          <a:xfrm>
            <a:off x="6084720" y="270828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7596360" y="2708280"/>
            <a:ext cx="1223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372360" y="1341360"/>
            <a:ext cx="22302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372360" y="3068640"/>
            <a:ext cx="22302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виру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6372360" y="4869000"/>
            <a:ext cx="25192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муник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6084720" y="450864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9" descr=""/>
          <p:cNvPicPr/>
          <p:nvPr/>
        </p:nvPicPr>
        <p:blipFill>
          <a:blip r:embed="rId6"/>
          <a:stretch/>
        </p:blipFill>
        <p:spPr>
          <a:xfrm>
            <a:off x="7093080" y="3789360"/>
            <a:ext cx="938160" cy="91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0" descr=""/>
          <p:cNvPicPr/>
          <p:nvPr/>
        </p:nvPicPr>
        <p:blipFill>
          <a:blip r:embed="rId7"/>
          <a:stretch/>
        </p:blipFill>
        <p:spPr>
          <a:xfrm>
            <a:off x="8244000" y="3789360"/>
            <a:ext cx="662040" cy="638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1"/>
          <p:cNvSpPr/>
          <p:nvPr/>
        </p:nvSpPr>
        <p:spPr>
          <a:xfrm>
            <a:off x="8101080" y="4508640"/>
            <a:ext cx="1042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8"/>
          <a:stretch/>
        </p:blipFill>
        <p:spPr>
          <a:xfrm>
            <a:off x="7524720" y="5662440"/>
            <a:ext cx="652320" cy="649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"/>
          <p:cNvPicPr/>
          <p:nvPr/>
        </p:nvPicPr>
        <p:blipFill>
          <a:blip r:embed="rId9"/>
          <a:stretch/>
        </p:blipFill>
        <p:spPr>
          <a:xfrm>
            <a:off x="6877080" y="5672160"/>
            <a:ext cx="660240" cy="57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"/>
          <p:cNvPicPr/>
          <p:nvPr/>
        </p:nvPicPr>
        <p:blipFill>
          <a:blip r:embed="rId10"/>
          <a:stretch/>
        </p:blipFill>
        <p:spPr>
          <a:xfrm>
            <a:off x="6156360" y="55897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"/>
          <p:cNvPicPr/>
          <p:nvPr/>
        </p:nvPicPr>
        <p:blipFill>
          <a:blip r:embed="rId11"/>
          <a:stretch/>
        </p:blipFill>
        <p:spPr>
          <a:xfrm>
            <a:off x="8317080" y="5735520"/>
            <a:ext cx="576000" cy="560520"/>
          </a:xfrm>
          <a:prstGeom prst="rect">
            <a:avLst/>
          </a:prstGeom>
          <a:ln w="0">
            <a:noFill/>
          </a:ln>
        </p:spPr>
      </p:pic>
      <p:sp>
        <p:nvSpPr>
          <p:cNvPr id="254" name="Line 28"/>
          <p:cNvSpPr/>
          <p:nvPr/>
        </p:nvSpPr>
        <p:spPr>
          <a:xfrm>
            <a:off x="2627280" y="1197000"/>
            <a:ext cx="9381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5796000" y="1197000"/>
            <a:ext cx="216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8"/>
          <p:cNvSpPr/>
          <p:nvPr/>
        </p:nvSpPr>
        <p:spPr>
          <a:xfrm flipV="1">
            <a:off x="6012000" y="1197000"/>
            <a:ext cx="0" cy="3960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8"/>
          <p:cNvSpPr/>
          <p:nvPr/>
        </p:nvSpPr>
        <p:spPr>
          <a:xfrm>
            <a:off x="6011280" y="148428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6011280" y="335772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6011280" y="515772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8"/>
          <p:cNvSpPr/>
          <p:nvPr/>
        </p:nvSpPr>
        <p:spPr>
          <a:xfrm flipV="1">
            <a:off x="4500720" y="1989000"/>
            <a:ext cx="0" cy="4176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4139640" y="364500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4139640" y="501336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8"/>
          <p:cNvSpPr/>
          <p:nvPr/>
        </p:nvSpPr>
        <p:spPr>
          <a:xfrm>
            <a:off x="4139640" y="616572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V="1">
            <a:off x="2627280" y="119700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8"/>
          <p:cNvSpPr/>
          <p:nvPr/>
        </p:nvSpPr>
        <p:spPr>
          <a:xfrm>
            <a:off x="3418920" y="1989000"/>
            <a:ext cx="10810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8" descr=""/>
          <p:cNvPicPr/>
          <p:nvPr/>
        </p:nvPicPr>
        <p:blipFill>
          <a:blip r:embed="rId12"/>
          <a:stretch/>
        </p:blipFill>
        <p:spPr>
          <a:xfrm>
            <a:off x="6227640" y="3789360"/>
            <a:ext cx="7588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6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7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8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10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11"/>
          <p:cNvSpPr/>
          <p:nvPr/>
        </p:nvSpPr>
        <p:spPr>
          <a:xfrm>
            <a:off x="5364000" y="4581360"/>
            <a:ext cx="3600720" cy="208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вод текста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да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л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и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с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бота  с  фай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жим 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8"/>
          <p:cNvSpPr/>
          <p:nvPr/>
        </p:nvSpPr>
        <p:spPr>
          <a:xfrm flipV="1">
            <a:off x="6948360" y="4220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Заголовок 2"/>
          <p:cNvSpPr/>
          <p:nvPr/>
        </p:nvSpPr>
        <p:spPr>
          <a:xfrm>
            <a:off x="971640" y="189000"/>
            <a:ext cx="7632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истемы программ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42920" y="907920"/>
            <a:ext cx="785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процесс создания программ, разработки всех типов программного обеспече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116000" y="1773360"/>
            <a:ext cx="7777080" cy="1008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программных средств, предназначенных для разработки компьютерных программ на языке программирования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ой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5364000" y="3500280"/>
            <a:ext cx="331164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жим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 програм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1116000" y="4581360"/>
            <a:ext cx="4032360" cy="208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, отладка и вы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 с цель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шения вычислитель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и текстов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ия системного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ия прикладного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 flipV="1">
            <a:off x="2484360" y="3141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8"/>
          <p:cNvSpPr/>
          <p:nvPr/>
        </p:nvSpPr>
        <p:spPr>
          <a:xfrm flipV="1">
            <a:off x="6948360" y="3141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 flipV="1">
            <a:off x="2916360" y="4220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258920" y="3500280"/>
            <a:ext cx="2521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начение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0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Заголовок 2"/>
          <p:cNvSpPr/>
          <p:nvPr/>
        </p:nvSpPr>
        <p:spPr>
          <a:xfrm>
            <a:off x="97164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икладное программное обесп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187280" y="1052640"/>
            <a:ext cx="7777440" cy="1008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, с помощью которых пользователь может работать с разными видами информации, принято называ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кладными программ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ложе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5543640" y="3573360"/>
            <a:ext cx="3600360" cy="309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дательски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хгалтерски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ы компьют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тематические па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еоинформ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ие экспе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чебники, тренажё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о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 flipV="1">
            <a:off x="7128000" y="3212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327640" y="2492280"/>
            <a:ext cx="331164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ециального на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1116000" y="3573360"/>
            <a:ext cx="4211640" cy="27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кстовы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дакторы презен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ультимедиа проигрыв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ы управления баз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2664000" y="2133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8"/>
          <p:cNvSpPr/>
          <p:nvPr/>
        </p:nvSpPr>
        <p:spPr>
          <a:xfrm flipV="1">
            <a:off x="6983280" y="2133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8"/>
          <p:cNvSpPr/>
          <p:nvPr/>
        </p:nvSpPr>
        <p:spPr>
          <a:xfrm flipV="1">
            <a:off x="3095640" y="3212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438200" y="2492280"/>
            <a:ext cx="2521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го на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1187280" y="1052640"/>
            <a:ext cx="77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е распространение получили следующие офисные пакет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842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операционных систем Windows и Mac 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842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penOffice.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операционных систем Windows и Lin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5724360" y="3139920"/>
            <a:ext cx="2826000" cy="1895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2"/>
          <a:stretch/>
        </p:blipFill>
        <p:spPr>
          <a:xfrm>
            <a:off x="1763640" y="2995560"/>
            <a:ext cx="2811600" cy="215280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15"/>
          <p:cNvSpPr/>
          <p:nvPr/>
        </p:nvSpPr>
        <p:spPr>
          <a:xfrm>
            <a:off x="5076720" y="3284640"/>
            <a:ext cx="316872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едакторы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6"/>
          <p:cNvSpPr/>
          <p:nvPr/>
        </p:nvSpPr>
        <p:spPr>
          <a:xfrm>
            <a:off x="1116000" y="1773360"/>
            <a:ext cx="331308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екстовые ред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7"/>
          <p:cNvSpPr/>
          <p:nvPr/>
        </p:nvSpPr>
        <p:spPr>
          <a:xfrm>
            <a:off x="4932360" y="1773360"/>
            <a:ext cx="338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лектронны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8"/>
          <p:cNvSpPr/>
          <p:nvPr/>
        </p:nvSpPr>
        <p:spPr>
          <a:xfrm>
            <a:off x="1116000" y="3284640"/>
            <a:ext cx="3313080" cy="50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 ред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9"/>
          <p:cNvSpPr/>
          <p:nvPr/>
        </p:nvSpPr>
        <p:spPr>
          <a:xfrm>
            <a:off x="5435640" y="4941720"/>
            <a:ext cx="2736720" cy="79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истемы 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азами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0"/>
          <p:cNvSpPr/>
          <p:nvPr/>
        </p:nvSpPr>
        <p:spPr>
          <a:xfrm>
            <a:off x="1116000" y="4869000"/>
            <a:ext cx="237636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ультимедий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игрыв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1" descr=""/>
          <p:cNvPicPr/>
          <p:nvPr/>
        </p:nvPicPr>
        <p:blipFill>
          <a:blip r:embed="rId3"/>
          <a:stretch/>
        </p:blipFill>
        <p:spPr>
          <a:xfrm>
            <a:off x="1692360" y="2421000"/>
            <a:ext cx="82224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2" descr=""/>
          <p:cNvPicPr/>
          <p:nvPr/>
        </p:nvPicPr>
        <p:blipFill>
          <a:blip r:embed="rId4"/>
          <a:stretch/>
        </p:blipFill>
        <p:spPr>
          <a:xfrm>
            <a:off x="5796000" y="2349360"/>
            <a:ext cx="828720" cy="781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3" descr=""/>
          <p:cNvPicPr/>
          <p:nvPr/>
        </p:nvPicPr>
        <p:blipFill>
          <a:blip r:embed="rId5"/>
          <a:stretch/>
        </p:blipFill>
        <p:spPr>
          <a:xfrm>
            <a:off x="5508720" y="4005360"/>
            <a:ext cx="890640" cy="83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4" descr=""/>
          <p:cNvPicPr/>
          <p:nvPr/>
        </p:nvPicPr>
        <p:blipFill>
          <a:blip r:embed="rId6"/>
          <a:stretch/>
        </p:blipFill>
        <p:spPr>
          <a:xfrm>
            <a:off x="5580000" y="5877000"/>
            <a:ext cx="787320" cy="749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5" descr=""/>
          <p:cNvPicPr/>
          <p:nvPr/>
        </p:nvPicPr>
        <p:blipFill>
          <a:blip r:embed="rId7"/>
          <a:stretch/>
        </p:blipFill>
        <p:spPr>
          <a:xfrm>
            <a:off x="1547640" y="3789360"/>
            <a:ext cx="862200" cy="107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" descr=""/>
          <p:cNvPicPr/>
          <p:nvPr/>
        </p:nvPicPr>
        <p:blipFill>
          <a:blip r:embed="rId8"/>
          <a:stretch/>
        </p:blipFill>
        <p:spPr>
          <a:xfrm>
            <a:off x="2556000" y="5877000"/>
            <a:ext cx="828720" cy="795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7" descr=""/>
          <p:cNvPicPr/>
          <p:nvPr/>
        </p:nvPicPr>
        <p:blipFill>
          <a:blip r:embed="rId9"/>
          <a:stretch/>
        </p:blipFill>
        <p:spPr>
          <a:xfrm>
            <a:off x="1258920" y="5877000"/>
            <a:ext cx="782640" cy="8254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8"/>
          <p:cNvSpPr/>
          <p:nvPr/>
        </p:nvSpPr>
        <p:spPr>
          <a:xfrm>
            <a:off x="1187280" y="1197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отипы офис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9" descr=""/>
          <p:cNvPicPr/>
          <p:nvPr/>
        </p:nvPicPr>
        <p:blipFill>
          <a:blip r:embed="rId10"/>
          <a:stretch/>
        </p:blipFill>
        <p:spPr>
          <a:xfrm>
            <a:off x="2987640" y="2492280"/>
            <a:ext cx="681120" cy="687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0" descr=""/>
          <p:cNvPicPr/>
          <p:nvPr/>
        </p:nvPicPr>
        <p:blipFill>
          <a:blip r:embed="rId11"/>
          <a:stretch/>
        </p:blipFill>
        <p:spPr>
          <a:xfrm>
            <a:off x="6948360" y="2349360"/>
            <a:ext cx="816120" cy="863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1" descr=""/>
          <p:cNvPicPr/>
          <p:nvPr/>
        </p:nvPicPr>
        <p:blipFill>
          <a:blip r:embed="rId12"/>
          <a:stretch/>
        </p:blipFill>
        <p:spPr>
          <a:xfrm>
            <a:off x="2700360" y="3933720"/>
            <a:ext cx="847800" cy="863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2" descr=""/>
          <p:cNvPicPr/>
          <p:nvPr/>
        </p:nvPicPr>
        <p:blipFill>
          <a:blip r:embed="rId13"/>
          <a:stretch/>
        </p:blipFill>
        <p:spPr>
          <a:xfrm>
            <a:off x="6948360" y="4005360"/>
            <a:ext cx="674640" cy="720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3" descr=""/>
          <p:cNvPicPr/>
          <p:nvPr/>
        </p:nvPicPr>
        <p:blipFill>
          <a:blip r:embed="rId14"/>
          <a:stretch/>
        </p:blipFill>
        <p:spPr>
          <a:xfrm>
            <a:off x="7093080" y="5877000"/>
            <a:ext cx="792000" cy="745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6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0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6443640" y="3789360"/>
            <a:ext cx="2089080" cy="2232000"/>
          </a:xfrm>
          <a:prstGeom prst="rect">
            <a:avLst/>
          </a:prstGeom>
          <a:solidFill>
            <a:srgbClr val="a6bfd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еспеч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ступ 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елаю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исх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8"/>
          <p:cNvSpPr/>
          <p:nvPr/>
        </p:nvSpPr>
        <p:spPr>
          <a:xfrm flipV="1">
            <a:off x="7524720" y="3357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Заголовок 2"/>
          <p:cNvSpPr/>
          <p:nvPr/>
        </p:nvSpPr>
        <p:spPr>
          <a:xfrm>
            <a:off x="971640" y="189000"/>
            <a:ext cx="8172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авовые нормы использования программн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132000" y="1268280"/>
            <a:ext cx="410400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вой статус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619280" y="2276640"/>
            <a:ext cx="2087640" cy="100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– час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6372360" y="2276640"/>
            <a:ext cx="2089080" cy="115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8"/>
          <p:cNvSpPr/>
          <p:nvPr/>
        </p:nvSpPr>
        <p:spPr>
          <a:xfrm flipV="1">
            <a:off x="2627280" y="1988640"/>
            <a:ext cx="50472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8"/>
          <p:cNvSpPr/>
          <p:nvPr/>
        </p:nvSpPr>
        <p:spPr>
          <a:xfrm flipH="1" flipV="1">
            <a:off x="7235640" y="1988640"/>
            <a:ext cx="21564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1908000" y="3645000"/>
            <a:ext cx="19432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908000" y="4508640"/>
            <a:ext cx="1943280" cy="86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спла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908000" y="5589720"/>
            <a:ext cx="273708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остраняе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8"/>
          <p:cNvSpPr/>
          <p:nvPr/>
        </p:nvSpPr>
        <p:spPr>
          <a:xfrm flipH="1">
            <a:off x="1402920" y="2708280"/>
            <a:ext cx="2890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V="1">
            <a:off x="1403280" y="2708280"/>
            <a:ext cx="0" cy="3384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8"/>
          <p:cNvSpPr/>
          <p:nvPr/>
        </p:nvSpPr>
        <p:spPr>
          <a:xfrm>
            <a:off x="1403280" y="386064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8"/>
          <p:cNvSpPr/>
          <p:nvPr/>
        </p:nvSpPr>
        <p:spPr>
          <a:xfrm>
            <a:off x="1403280" y="479736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8"/>
          <p:cNvSpPr/>
          <p:nvPr/>
        </p:nvSpPr>
        <p:spPr>
          <a:xfrm>
            <a:off x="1403280" y="609300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0"/>
                            </p:stCondLst>
                            <p:childTnLst>
                              <p:par>
                                <p:cTn id="6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8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9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5:41:49Z</dcterms:modified>
  <cp:revision>41</cp:revision>
  <dc:subject/>
  <dc:title>Презентация PowerPoint</dc:title>
</cp:coreProperties>
</file>