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C457-9599-40DE-8227-C69649D9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9DD0-498A-4AB8-998C-CF3A968B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E463-7594-4C89-B00E-98E74802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C1F7-3DEA-489D-841B-780BB272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6142-B2A9-4352-9D8E-C609A88B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BC66-78B6-4D91-B147-C7C2E4D9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A8EC-505B-4E04-BF65-A1A1064D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466E-D2B2-4100-B3F0-9D5BD591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5DFA-2F6C-4908-B030-F21D07D0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CF8B-BFA7-4738-A9D9-66E3532A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F5F5-9533-4B37-9AA8-98EBBDD5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21EB-2C98-4863-8007-180E1900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B04F-B5DA-4B7E-AADD-9DF2ACB2C3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276640"/>
            <a:ext cx="64072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ПРОГРАММНОЕ ОБЕСПЕЧЕНИЕ КОМПЬЮТЕ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050560" y="4005360"/>
            <a:ext cx="6481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ОМПЬЮТЕР КАК УНИВЕСАЛЬНОЕ УСТРОЙСТВО ДЛЯ РАБОТЫ С ИНФОРМАЦИ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395280" y="969840"/>
            <a:ext cx="8424720" cy="48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окупность всех программ, предназначенных для выполнения на компьютере, называют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граммным обеспечением (П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функциональному назначению различают: системное ПО, прикладное ПО, системы программ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истемное П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в себя операционную систему и сервисные про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истема программир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комплекс программных средств, предназначенных для разработки компьютерных программ 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зыке программир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ы, с помощью которых пользователь может решать информационные задачи, не прибегая к программированию, принято называть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кладными программ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ложения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правовому статусу ПО можно разделить на две групп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, являющееся частной собственностью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ов или правообладател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бодное П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1116000" y="2205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программное обеспечение компьютера? Какова его ро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1295280" y="2276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основные группы программного обеспечения принято выделять по функциональному назначени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1116000" y="2276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основные функции выполняет операционная сист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1258920" y="2349360"/>
            <a:ext cx="76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отличается установка ОС от загрузки О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1116000" y="2276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цессе загрузки компьютера возникло сообщение «Non system disk». С чем это связа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8"/>
          <p:cNvSpPr/>
          <p:nvPr/>
        </p:nvSpPr>
        <p:spPr>
          <a:xfrm>
            <a:off x="1295280" y="2276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компьютерный вирус? Как уберечь свой компьютер от поражения компьютерными вирус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1116000" y="2205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чего предназначены системы программиро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971640" y="2276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разновидности программ прикладного назначения. Кто использует прикладные программы общего назна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1295280" y="2276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виды программ можно выделить по их правовому статус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4"/>
          <p:cNvSpPr/>
          <p:nvPr/>
        </p:nvSpPr>
        <p:spPr>
          <a:xfrm>
            <a:off x="900000" y="2276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общего у разработчиков компьютерных вирусов и компьютерных пират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3059280" y="83664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98 (стр. 4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6"/>
          <p:cNvSpPr/>
          <p:nvPr/>
        </p:nvSpPr>
        <p:spPr>
          <a:xfrm>
            <a:off x="1042920" y="1197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ы известного вам программ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я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403280" y="2276640"/>
          <a:ext cx="6912000" cy="4359240"/>
        </p:xfrm>
        <a:graphic>
          <a:graphicData uri="http://schemas.openxmlformats.org/drawingml/2006/table">
            <a:tbl>
              <a:tblPr/>
              <a:tblGrid>
                <a:gridCol w="3888000"/>
                <a:gridCol w="3024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раммное обеспе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онная сист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ва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ивирусная програм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уникационная програм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программир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овый редак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ий редак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дактор презента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ая табл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Text Box 23"/>
          <p:cNvSpPr/>
          <p:nvPr/>
        </p:nvSpPr>
        <p:spPr>
          <a:xfrm>
            <a:off x="3059280" y="83664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99 (стр. 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6"/>
          <p:cNvSpPr/>
          <p:nvPr/>
        </p:nvSpPr>
        <p:spPr>
          <a:xfrm>
            <a:off x="1042920" y="11970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, разновидностью системного или прикладного  ПО является вид программного обесп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3348000" y="1916280"/>
            <a:ext cx="32400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стемы автоматизирован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ект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 rot="16200000">
            <a:off x="5201280" y="4031280"/>
            <a:ext cx="5076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кладное программное 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6"/>
          <p:cNvSpPr/>
          <p:nvPr/>
        </p:nvSpPr>
        <p:spPr>
          <a:xfrm rot="16200000">
            <a:off x="-414720" y="4031640"/>
            <a:ext cx="507672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стемное программное 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3348000" y="2565360"/>
            <a:ext cx="324000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нтивирусные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348000" y="2997360"/>
            <a:ext cx="324000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рхива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3348000" y="3429000"/>
            <a:ext cx="324000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перационные систе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3348000" y="3860640"/>
            <a:ext cx="324000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ультимедиа проигрыва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3348000" y="4292640"/>
            <a:ext cx="32400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граммы обслужи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ис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3348000" y="4941720"/>
            <a:ext cx="32400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стемы управления баз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3348000" y="5589720"/>
            <a:ext cx="324000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ухгалтерские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3348000" y="6021360"/>
            <a:ext cx="324000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лектронный учеб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3348000" y="6497640"/>
            <a:ext cx="324000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фисные пак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3"/>
          <p:cNvSpPr/>
          <p:nvPr/>
        </p:nvSpPr>
        <p:spPr>
          <a:xfrm>
            <a:off x="3059280" y="83664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Т № 100 (стр. 4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0"/>
          <p:cNvSpPr/>
          <p:nvPr/>
        </p:nvSpPr>
        <p:spPr>
          <a:xfrm>
            <a:off x="1042920" y="119700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аждой пары объектов укажите связывающее их от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1403280" y="1628640"/>
            <a:ext cx="4176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перационная система и программ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еспечение компьют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1403280" y="2278080"/>
            <a:ext cx="4176720" cy="574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дактор презентаций и приклад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граммное обеспе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1403280" y="2924280"/>
            <a:ext cx="4176720" cy="5778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тровый графический ред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графический ред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1403280" y="4292640"/>
            <a:ext cx="4176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int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и растровый графический ред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1403280" y="4941720"/>
            <a:ext cx="4176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XP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операционная сист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403280" y="5589720"/>
            <a:ext cx="417672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ctor Web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антивирусная програ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1403280" y="6021360"/>
            <a:ext cx="417672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kype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коммуникационная програ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1403280" y="6497640"/>
            <a:ext cx="417672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crosoft Word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oft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6804000" y="2205000"/>
            <a:ext cx="187164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ходит в соста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6877080" y="5013360"/>
            <a:ext cx="187164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новид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6804000" y="3429000"/>
            <a:ext cx="1871640" cy="100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лемен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нож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1403280" y="3645000"/>
            <a:ext cx="4176720" cy="5778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кторный графический ред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графический ред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3000"/>
                            </p:stCondLst>
                            <p:childTnLst>
                              <p:par>
                                <p:cTn id="8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4000"/>
                            </p:stCondLst>
                            <p:childTnLst>
                              <p:par>
                                <p:cTn id="8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0"/>
                            </p:stCondLst>
                            <p:childTnLst>
                              <p:par>
                                <p:cTn id="8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6000"/>
                            </p:stCondLst>
                            <p:childTnLst>
                              <p:par>
                                <p:cTn id="8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7000"/>
                            </p:stCondLst>
                            <p:childTnLst>
                              <p:par>
                                <p:cTn id="8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9000"/>
                            </p:stCondLst>
                            <p:childTnLst>
                              <p:par>
                                <p:cTn id="8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8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0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300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4000"/>
                            </p:stCondLst>
                            <p:childTnLst>
                              <p:par>
                                <p:cTn id="9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70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8000"/>
                            </p:stCondLst>
                            <p:childTnLst>
                              <p:par>
                                <p:cTn id="9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9000"/>
                            </p:stCondLst>
                            <p:childTnLst>
                              <p:par>
                                <p:cTn id="9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9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Line 28"/>
          <p:cNvSpPr/>
          <p:nvPr/>
        </p:nvSpPr>
        <p:spPr>
          <a:xfrm flipV="1">
            <a:off x="7740720" y="3645000"/>
            <a:ext cx="0" cy="28728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8"/>
          <p:cNvSpPr/>
          <p:nvPr/>
        </p:nvSpPr>
        <p:spPr>
          <a:xfrm flipV="1">
            <a:off x="7020000" y="2133720"/>
            <a:ext cx="0" cy="28728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8"/>
          <p:cNvSpPr/>
          <p:nvPr/>
        </p:nvSpPr>
        <p:spPr>
          <a:xfrm flipV="1">
            <a:off x="4572000" y="2133720"/>
            <a:ext cx="0" cy="28728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8"/>
          <p:cNvSpPr/>
          <p:nvPr/>
        </p:nvSpPr>
        <p:spPr>
          <a:xfrm flipV="1">
            <a:off x="2268360" y="2133720"/>
            <a:ext cx="0" cy="28728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8"/>
          <p:cNvSpPr/>
          <p:nvPr/>
        </p:nvSpPr>
        <p:spPr>
          <a:xfrm flipV="1">
            <a:off x="6372360" y="2852280"/>
            <a:ext cx="0" cy="5050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1116000" y="836640"/>
            <a:ext cx="777708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граммное обеспечение (ПО)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вокупность всех програм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назначенных для выполнения на компьют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1692360" y="1773360"/>
            <a:ext cx="67672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уктура программного обеспечения компью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5580000" y="2421000"/>
            <a:ext cx="3384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стемы программ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1116000" y="3213000"/>
            <a:ext cx="16556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перацио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стема (О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116000" y="4149720"/>
            <a:ext cx="16556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рвис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1116000" y="5013360"/>
            <a:ext cx="16556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хива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1116000" y="5516640"/>
            <a:ext cx="16556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виру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1116000" y="6021360"/>
            <a:ext cx="223200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ммуникацио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3780000" y="3068640"/>
            <a:ext cx="180000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щ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зна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780000" y="4005360"/>
            <a:ext cx="180000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пециаль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зна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6804000" y="2997360"/>
            <a:ext cx="208908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Язы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грамм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6804000" y="3933720"/>
            <a:ext cx="2089080" cy="273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3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ссемблеры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3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ФОРТРА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3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аскаль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3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 (Си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3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ЛОГО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3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ЛИСП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3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роло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3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Делф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3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Бейс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3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. . . . . . . 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8"/>
          <p:cNvSpPr/>
          <p:nvPr/>
        </p:nvSpPr>
        <p:spPr>
          <a:xfrm flipV="1">
            <a:off x="3492360" y="2852280"/>
            <a:ext cx="0" cy="1584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8"/>
          <p:cNvSpPr/>
          <p:nvPr/>
        </p:nvSpPr>
        <p:spPr>
          <a:xfrm>
            <a:off x="3491640" y="3500280"/>
            <a:ext cx="28764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8"/>
          <p:cNvSpPr/>
          <p:nvPr/>
        </p:nvSpPr>
        <p:spPr>
          <a:xfrm>
            <a:off x="6371640" y="3357720"/>
            <a:ext cx="43164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8"/>
          <p:cNvSpPr/>
          <p:nvPr/>
        </p:nvSpPr>
        <p:spPr>
          <a:xfrm>
            <a:off x="3491640" y="4437000"/>
            <a:ext cx="28764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3348000" y="2421000"/>
            <a:ext cx="208764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кладное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8"/>
          <p:cNvSpPr/>
          <p:nvPr/>
        </p:nvSpPr>
        <p:spPr>
          <a:xfrm flipV="1">
            <a:off x="3132000" y="2852640"/>
            <a:ext cx="0" cy="316872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8"/>
          <p:cNvSpPr/>
          <p:nvPr/>
        </p:nvSpPr>
        <p:spPr>
          <a:xfrm>
            <a:off x="2770920" y="3500280"/>
            <a:ext cx="35892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28"/>
          <p:cNvSpPr/>
          <p:nvPr/>
        </p:nvSpPr>
        <p:spPr>
          <a:xfrm>
            <a:off x="2770920" y="4437000"/>
            <a:ext cx="35892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8"/>
          <p:cNvSpPr/>
          <p:nvPr/>
        </p:nvSpPr>
        <p:spPr>
          <a:xfrm>
            <a:off x="2770920" y="5229360"/>
            <a:ext cx="35892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8"/>
          <p:cNvSpPr/>
          <p:nvPr/>
        </p:nvSpPr>
        <p:spPr>
          <a:xfrm>
            <a:off x="2770920" y="5734080"/>
            <a:ext cx="35892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1116000" y="2421000"/>
            <a:ext cx="208764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стемное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0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3000"/>
                            </p:stCondLst>
                            <p:childTnLst>
                              <p:par>
                                <p:cTn id="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4000"/>
                            </p:stCondLst>
                            <p:childTnLst>
                              <p:par>
                                <p:cTn id="9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0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7000"/>
                            </p:stCondLst>
                            <p:childTnLst>
                              <p:par>
                                <p:cTn id="9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8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4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1692360" y="16286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3 (стр. 68 - 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101, 102, 103, 104 (стр. 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42560" y="907920"/>
            <a:ext cx="76438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ное обеспечение (П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истемное П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кладное П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программир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перационная систе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рхиват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нтивирусная програм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ложение общего назнач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ложение специального назнач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6659640" y="4941720"/>
            <a:ext cx="1942920" cy="1295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клад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1332000" y="4870440"/>
            <a:ext cx="1942920" cy="1295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564000" y="4941720"/>
            <a:ext cx="2736720" cy="1295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ир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  <a:ea typeface="Arial"/>
              </a:rPr>
              <a:t>Понятие программного обеспе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116000" y="1125360"/>
            <a:ext cx="770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описание на формальном языке, «понятном» компьютеру, последовательности действий, которые необходимо выполнить над данными для решения поставленной зада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окупность  всех программ, предназначенных для выполнения на компьютере,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граммным обеспеч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О) компьют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8"/>
          <p:cNvSpPr/>
          <p:nvPr/>
        </p:nvSpPr>
        <p:spPr>
          <a:xfrm flipV="1">
            <a:off x="2987640" y="4581000"/>
            <a:ext cx="2016000" cy="2890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8"/>
          <p:cNvSpPr/>
          <p:nvPr/>
        </p:nvSpPr>
        <p:spPr>
          <a:xfrm flipH="1" flipV="1">
            <a:off x="4932000" y="4581000"/>
            <a:ext cx="230364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8"/>
          <p:cNvSpPr/>
          <p:nvPr/>
        </p:nvSpPr>
        <p:spPr>
          <a:xfrm flipV="1">
            <a:off x="4932360" y="458100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203640" y="3933720"/>
            <a:ext cx="360180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ьютерные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Заголовок 2"/>
          <p:cNvSpPr/>
          <p:nvPr/>
        </p:nvSpPr>
        <p:spPr>
          <a:xfrm>
            <a:off x="971640" y="189000"/>
            <a:ext cx="763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Системное программное обеспе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1116000" y="10526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истемное программное обеспе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ключает в себя операционную систему и сервисные про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1116000" y="227664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ерационная сист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комплекс программ, обеспечивающих совместное функционирование всех устройств компьютера и предоставляющих пользователю доступ к ресурсам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6659640" y="4941720"/>
            <a:ext cx="1942920" cy="64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ъ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2411280" y="4941720"/>
            <a:ext cx="1943280" cy="790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парат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ъ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8"/>
          <p:cNvSpPr/>
          <p:nvPr/>
        </p:nvSpPr>
        <p:spPr>
          <a:xfrm flipV="1">
            <a:off x="3348000" y="4581000"/>
            <a:ext cx="165564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8"/>
          <p:cNvSpPr/>
          <p:nvPr/>
        </p:nvSpPr>
        <p:spPr>
          <a:xfrm flipH="1" flipV="1">
            <a:off x="4932000" y="4581000"/>
            <a:ext cx="230364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3203640" y="3933720"/>
            <a:ext cx="360180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ью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1116000" y="6021360"/>
            <a:ext cx="1943280" cy="6462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р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вода и 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6659640" y="5877000"/>
            <a:ext cx="1942920" cy="6462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граммы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3203640" y="6021360"/>
            <a:ext cx="1942920" cy="6462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р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або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8"/>
          <p:cNvSpPr/>
          <p:nvPr/>
        </p:nvSpPr>
        <p:spPr>
          <a:xfrm flipV="1">
            <a:off x="7524720" y="5589720"/>
            <a:ext cx="0" cy="3585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8"/>
          <p:cNvSpPr/>
          <p:nvPr/>
        </p:nvSpPr>
        <p:spPr>
          <a:xfrm flipV="1">
            <a:off x="2556000" y="5734080"/>
            <a:ext cx="72072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8"/>
          <p:cNvSpPr/>
          <p:nvPr/>
        </p:nvSpPr>
        <p:spPr>
          <a:xfrm flipH="1" flipV="1">
            <a:off x="3276720" y="5734080"/>
            <a:ext cx="57456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8"/>
          <p:cNvSpPr/>
          <p:nvPr/>
        </p:nvSpPr>
        <p:spPr>
          <a:xfrm flipV="1">
            <a:off x="2195640" y="450972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8"/>
          <p:cNvSpPr/>
          <p:nvPr/>
        </p:nvSpPr>
        <p:spPr>
          <a:xfrm flipV="1">
            <a:off x="4859280" y="450972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8"/>
          <p:cNvSpPr/>
          <p:nvPr/>
        </p:nvSpPr>
        <p:spPr>
          <a:xfrm flipV="1">
            <a:off x="7885080" y="450972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332000" y="3789360"/>
            <a:ext cx="1727280" cy="719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пара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рфей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276720" y="3789360"/>
            <a:ext cx="3095640" cy="719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паратно-программ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рфей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659640" y="3789360"/>
            <a:ext cx="2305080" cy="719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ьзоват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рфей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1116000" y="1701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ства, обеспечивающие взаимосвязь между объектами этой системы, называю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фей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1042920" y="981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 является частью системы «человек - компьютер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6732720" y="4941720"/>
            <a:ext cx="2160360" cy="1295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ка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пью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3635280" y="4941720"/>
            <a:ext cx="2737080" cy="172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паратного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грамм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еспеч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8"/>
          <p:cNvSpPr/>
          <p:nvPr/>
        </p:nvSpPr>
        <p:spPr>
          <a:xfrm flipV="1">
            <a:off x="2700360" y="3428640"/>
            <a:ext cx="223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8"/>
          <p:cNvSpPr/>
          <p:nvPr/>
        </p:nvSpPr>
        <p:spPr>
          <a:xfrm flipH="1" flipV="1">
            <a:off x="4860720" y="3428640"/>
            <a:ext cx="244764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3132000" y="2781360"/>
            <a:ext cx="360216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терфей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1116000" y="4941720"/>
            <a:ext cx="2160720" cy="151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ж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ройств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пью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8"/>
          <p:cNvSpPr/>
          <p:nvPr/>
        </p:nvSpPr>
        <p:spPr>
          <a:xfrm flipV="1">
            <a:off x="4788000" y="3428640"/>
            <a:ext cx="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4" descr=""/>
          <p:cNvPicPr/>
          <p:nvPr/>
        </p:nvPicPr>
        <p:blipFill>
          <a:blip r:embed="rId1"/>
          <a:stretch/>
        </p:blipFill>
        <p:spPr>
          <a:xfrm>
            <a:off x="1332000" y="3284640"/>
            <a:ext cx="1500120" cy="1319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5" descr=""/>
          <p:cNvPicPr/>
          <p:nvPr/>
        </p:nvPicPr>
        <p:blipFill>
          <a:blip r:embed="rId2"/>
          <a:stretch/>
        </p:blipFill>
        <p:spPr>
          <a:xfrm>
            <a:off x="3851280" y="2924280"/>
            <a:ext cx="1547640" cy="1596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6" descr=""/>
          <p:cNvPicPr/>
          <p:nvPr/>
        </p:nvPicPr>
        <p:blipFill>
          <a:blip r:embed="rId3"/>
          <a:stretch/>
        </p:blipFill>
        <p:spPr>
          <a:xfrm>
            <a:off x="6012000" y="2852640"/>
            <a:ext cx="2662200" cy="1587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7" descr=""/>
          <p:cNvPicPr/>
          <p:nvPr/>
        </p:nvPicPr>
        <p:blipFill>
          <a:blip r:embed="rId4"/>
          <a:stretch/>
        </p:blipFill>
        <p:spPr>
          <a:xfrm>
            <a:off x="5364000" y="4581360"/>
            <a:ext cx="1781280" cy="1683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8"/>
          <p:cNvSpPr/>
          <p:nvPr/>
        </p:nvSpPr>
        <p:spPr>
          <a:xfrm>
            <a:off x="1116000" y="1197000"/>
            <a:ext cx="784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ционную систем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ходят программы, поддерживающие диалог пользователя с компьютером: желая произвести некоторое действие, человек даёт ОС соответствующую коман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распространённые ОС для персональных компьюте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9"/>
          <p:cNvSpPr/>
          <p:nvPr/>
        </p:nvSpPr>
        <p:spPr>
          <a:xfrm>
            <a:off x="1116000" y="4797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0"/>
          <p:cNvSpPr/>
          <p:nvPr/>
        </p:nvSpPr>
        <p:spPr>
          <a:xfrm>
            <a:off x="3851280" y="4437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1"/>
          <p:cNvSpPr/>
          <p:nvPr/>
        </p:nvSpPr>
        <p:spPr>
          <a:xfrm>
            <a:off x="7093080" y="4581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2"/>
          <p:cNvSpPr/>
          <p:nvPr/>
        </p:nvSpPr>
        <p:spPr>
          <a:xfrm>
            <a:off x="5506920" y="624528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9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8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9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4716360" y="5805360"/>
            <a:ext cx="1906560" cy="505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Заголовок 2"/>
          <p:cNvSpPr/>
          <p:nvPr/>
        </p:nvSpPr>
        <p:spPr>
          <a:xfrm>
            <a:off x="1116000" y="189000"/>
            <a:ext cx="763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Загрузка компью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116000" y="83664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грузка компьют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последовательная загрузка программ операционной системы из долговременной памяти (жёсткого или оптического диска) в оперативную память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1187280" y="2565360"/>
            <a:ext cx="2953080" cy="3672000"/>
          </a:xfrm>
          <a:prstGeom prst="rect">
            <a:avLst/>
          </a:prstGeom>
          <a:solidFill>
            <a:srgbClr val="4f81bd"/>
          </a:solidFill>
          <a:ln w="76320">
            <a:solidFill>
              <a:srgbClr val="1f497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7020000" y="5516640"/>
            <a:ext cx="1942920" cy="100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ск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ой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грузчи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4500720" y="3645000"/>
            <a:ext cx="2230200" cy="1584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стирование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строй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парат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1476360" y="2708280"/>
            <a:ext cx="2376360" cy="431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ью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1332000" y="3213000"/>
            <a:ext cx="2519280" cy="2737080"/>
          </a:xfrm>
          <a:prstGeom prst="rect">
            <a:avLst/>
          </a:prstGeom>
          <a:solidFill>
            <a:srgbClr val="4f81bd"/>
          </a:solidFill>
          <a:ln w="76320">
            <a:solidFill>
              <a:srgbClr val="ffffff"/>
            </a:solidFill>
            <a:prstDash val="sysDot"/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2"/>
          <p:cNvSpPr/>
          <p:nvPr/>
        </p:nvSpPr>
        <p:spPr>
          <a:xfrm>
            <a:off x="1908000" y="3284640"/>
            <a:ext cx="1295640" cy="431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1979640" y="3860640"/>
            <a:ext cx="115236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547640" y="4508640"/>
            <a:ext cx="2016360" cy="1225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ст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8"/>
          <p:cNvSpPr/>
          <p:nvPr/>
        </p:nvSpPr>
        <p:spPr>
          <a:xfrm flipH="1">
            <a:off x="3708000" y="4437000"/>
            <a:ext cx="79236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8"/>
          <p:cNvSpPr/>
          <p:nvPr/>
        </p:nvSpPr>
        <p:spPr>
          <a:xfrm flipH="1">
            <a:off x="6732720" y="4508640"/>
            <a:ext cx="28728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8"/>
          <p:cNvSpPr/>
          <p:nvPr/>
        </p:nvSpPr>
        <p:spPr>
          <a:xfrm flipV="1">
            <a:off x="7956720" y="5084640"/>
            <a:ext cx="0" cy="43344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7020000" y="3860640"/>
            <a:ext cx="1906560" cy="1224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и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ча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грузч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8"/>
          <p:cNvSpPr/>
          <p:nvPr/>
        </p:nvSpPr>
        <p:spPr>
          <a:xfrm>
            <a:off x="6586560" y="6094440"/>
            <a:ext cx="43344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7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8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9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Заголовок 2"/>
          <p:cNvSpPr/>
          <p:nvPr/>
        </p:nvSpPr>
        <p:spPr>
          <a:xfrm>
            <a:off x="1116000" y="189000"/>
            <a:ext cx="763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Сервисные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3"/>
          <p:cNvGrpSpPr/>
          <p:nvPr/>
        </p:nvGrpSpPr>
        <p:grpSpPr>
          <a:xfrm>
            <a:off x="1042920" y="2852640"/>
            <a:ext cx="3105000" cy="1676520"/>
            <a:chOff x="1042920" y="2852640"/>
            <a:chExt cx="3105000" cy="1676520"/>
          </a:xfrm>
        </p:grpSpPr>
        <p:pic>
          <p:nvPicPr>
            <p:cNvPr id="229" name="Picture 5" descr=""/>
            <p:cNvPicPr/>
            <p:nvPr/>
          </p:nvPicPr>
          <p:blipFill>
            <a:blip r:embed="rId1"/>
            <a:stretch/>
          </p:blipFill>
          <p:spPr>
            <a:xfrm>
              <a:off x="1112400" y="2852640"/>
              <a:ext cx="303552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Rectangle 8"/>
            <p:cNvSpPr/>
            <p:nvPr/>
          </p:nvSpPr>
          <p:spPr>
            <a:xfrm>
              <a:off x="1042920" y="2852640"/>
              <a:ext cx="3097440" cy="165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11"/>
          <p:cNvGrpSpPr/>
          <p:nvPr/>
        </p:nvGrpSpPr>
        <p:grpSpPr>
          <a:xfrm>
            <a:off x="1042920" y="4653000"/>
            <a:ext cx="3097080" cy="914400"/>
            <a:chOff x="1042920" y="4653000"/>
            <a:chExt cx="3097080" cy="914400"/>
          </a:xfrm>
        </p:grpSpPr>
        <p:pic>
          <p:nvPicPr>
            <p:cNvPr id="232" name="Picture 6" descr=""/>
            <p:cNvPicPr/>
            <p:nvPr/>
          </p:nvPicPr>
          <p:blipFill>
            <a:blip r:embed="rId2"/>
            <a:stretch/>
          </p:blipFill>
          <p:spPr>
            <a:xfrm>
              <a:off x="1042920" y="4653000"/>
              <a:ext cx="30970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9"/>
            <p:cNvSpPr/>
            <p:nvPr/>
          </p:nvSpPr>
          <p:spPr>
            <a:xfrm>
              <a:off x="1042920" y="4653000"/>
              <a:ext cx="3063240" cy="86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2"/>
          <p:cNvGrpSpPr/>
          <p:nvPr/>
        </p:nvGrpSpPr>
        <p:grpSpPr>
          <a:xfrm>
            <a:off x="1042920" y="5661000"/>
            <a:ext cx="3095640" cy="939960"/>
            <a:chOff x="1042920" y="5661000"/>
            <a:chExt cx="3095640" cy="939960"/>
          </a:xfrm>
        </p:grpSpPr>
        <p:pic>
          <p:nvPicPr>
            <p:cNvPr id="235" name="Picture 7" descr=""/>
            <p:cNvPicPr/>
            <p:nvPr/>
          </p:nvPicPr>
          <p:blipFill>
            <a:blip r:embed="rId3"/>
            <a:stretch/>
          </p:blipFill>
          <p:spPr>
            <a:xfrm>
              <a:off x="1042920" y="5734080"/>
              <a:ext cx="303840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Rectangle 10"/>
            <p:cNvSpPr/>
            <p:nvPr/>
          </p:nvSpPr>
          <p:spPr>
            <a:xfrm>
              <a:off x="1042920" y="5661000"/>
              <a:ext cx="3095640" cy="93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6"/>
          <p:cNvSpPr/>
          <p:nvPr/>
        </p:nvSpPr>
        <p:spPr>
          <a:xfrm>
            <a:off x="3564000" y="836640"/>
            <a:ext cx="223020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рви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187280" y="1484280"/>
            <a:ext cx="223056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с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9" descr=""/>
          <p:cNvPicPr/>
          <p:nvPr/>
        </p:nvPicPr>
        <p:blipFill>
          <a:blip r:embed="rId4"/>
          <a:stretch/>
        </p:blipFill>
        <p:spPr>
          <a:xfrm>
            <a:off x="6300720" y="1987560"/>
            <a:ext cx="814320" cy="636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0" descr=""/>
          <p:cNvPicPr/>
          <p:nvPr/>
        </p:nvPicPr>
        <p:blipFill>
          <a:blip r:embed="rId5"/>
          <a:stretch/>
        </p:blipFill>
        <p:spPr>
          <a:xfrm>
            <a:off x="7812000" y="1989000"/>
            <a:ext cx="706680" cy="6987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1"/>
          <p:cNvSpPr/>
          <p:nvPr/>
        </p:nvSpPr>
        <p:spPr>
          <a:xfrm>
            <a:off x="6084720" y="2708280"/>
            <a:ext cx="1224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7596360" y="2708280"/>
            <a:ext cx="1223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6372360" y="1341360"/>
            <a:ext cx="223020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хив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372360" y="3068640"/>
            <a:ext cx="22302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вирус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6372360" y="4869000"/>
            <a:ext cx="251928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муника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8"/>
          <p:cNvSpPr/>
          <p:nvPr/>
        </p:nvSpPr>
        <p:spPr>
          <a:xfrm>
            <a:off x="6084720" y="4508640"/>
            <a:ext cx="1224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9" descr=""/>
          <p:cNvPicPr/>
          <p:nvPr/>
        </p:nvPicPr>
        <p:blipFill>
          <a:blip r:embed="rId6"/>
          <a:stretch/>
        </p:blipFill>
        <p:spPr>
          <a:xfrm>
            <a:off x="7093080" y="3789360"/>
            <a:ext cx="938160" cy="917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0" descr=""/>
          <p:cNvPicPr/>
          <p:nvPr/>
        </p:nvPicPr>
        <p:blipFill>
          <a:blip r:embed="rId7"/>
          <a:stretch/>
        </p:blipFill>
        <p:spPr>
          <a:xfrm>
            <a:off x="8244000" y="3789360"/>
            <a:ext cx="662040" cy="6382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1"/>
          <p:cNvSpPr/>
          <p:nvPr/>
        </p:nvSpPr>
        <p:spPr>
          <a:xfrm>
            <a:off x="8101080" y="4508640"/>
            <a:ext cx="1042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1" descr=""/>
          <p:cNvPicPr/>
          <p:nvPr/>
        </p:nvPicPr>
        <p:blipFill>
          <a:blip r:embed="rId8"/>
          <a:stretch/>
        </p:blipFill>
        <p:spPr>
          <a:xfrm>
            <a:off x="7524720" y="5662440"/>
            <a:ext cx="652320" cy="6494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" descr=""/>
          <p:cNvPicPr/>
          <p:nvPr/>
        </p:nvPicPr>
        <p:blipFill>
          <a:blip r:embed="rId9"/>
          <a:stretch/>
        </p:blipFill>
        <p:spPr>
          <a:xfrm>
            <a:off x="6877080" y="5672160"/>
            <a:ext cx="660240" cy="573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"/>
          <p:cNvPicPr/>
          <p:nvPr/>
        </p:nvPicPr>
        <p:blipFill>
          <a:blip r:embed="rId10"/>
          <a:stretch/>
        </p:blipFill>
        <p:spPr>
          <a:xfrm>
            <a:off x="6156360" y="558972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8" descr=""/>
          <p:cNvPicPr/>
          <p:nvPr/>
        </p:nvPicPr>
        <p:blipFill>
          <a:blip r:embed="rId11"/>
          <a:stretch/>
        </p:blipFill>
        <p:spPr>
          <a:xfrm>
            <a:off x="8317080" y="5735520"/>
            <a:ext cx="576000" cy="560520"/>
          </a:xfrm>
          <a:prstGeom prst="rect">
            <a:avLst/>
          </a:prstGeom>
          <a:ln w="0">
            <a:noFill/>
          </a:ln>
        </p:spPr>
      </p:pic>
      <p:sp>
        <p:nvSpPr>
          <p:cNvPr id="254" name="Line 28"/>
          <p:cNvSpPr/>
          <p:nvPr/>
        </p:nvSpPr>
        <p:spPr>
          <a:xfrm>
            <a:off x="2627280" y="1197000"/>
            <a:ext cx="93816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8"/>
          <p:cNvSpPr/>
          <p:nvPr/>
        </p:nvSpPr>
        <p:spPr>
          <a:xfrm>
            <a:off x="5796000" y="1197000"/>
            <a:ext cx="216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8"/>
          <p:cNvSpPr/>
          <p:nvPr/>
        </p:nvSpPr>
        <p:spPr>
          <a:xfrm flipV="1">
            <a:off x="6012000" y="1197000"/>
            <a:ext cx="0" cy="3960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8"/>
          <p:cNvSpPr/>
          <p:nvPr/>
        </p:nvSpPr>
        <p:spPr>
          <a:xfrm>
            <a:off x="6011280" y="1484280"/>
            <a:ext cx="3618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8"/>
          <p:cNvSpPr/>
          <p:nvPr/>
        </p:nvSpPr>
        <p:spPr>
          <a:xfrm>
            <a:off x="6011280" y="3357720"/>
            <a:ext cx="3618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8"/>
          <p:cNvSpPr/>
          <p:nvPr/>
        </p:nvSpPr>
        <p:spPr>
          <a:xfrm>
            <a:off x="6011280" y="5157720"/>
            <a:ext cx="3618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8"/>
          <p:cNvSpPr/>
          <p:nvPr/>
        </p:nvSpPr>
        <p:spPr>
          <a:xfrm flipV="1">
            <a:off x="4500720" y="1989000"/>
            <a:ext cx="0" cy="4176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8"/>
          <p:cNvSpPr/>
          <p:nvPr/>
        </p:nvSpPr>
        <p:spPr>
          <a:xfrm>
            <a:off x="4139640" y="3645000"/>
            <a:ext cx="36180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>
            <a:off x="4139640" y="5013360"/>
            <a:ext cx="36180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8"/>
          <p:cNvSpPr/>
          <p:nvPr/>
        </p:nvSpPr>
        <p:spPr>
          <a:xfrm>
            <a:off x="4139640" y="6165720"/>
            <a:ext cx="36180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8"/>
          <p:cNvSpPr/>
          <p:nvPr/>
        </p:nvSpPr>
        <p:spPr>
          <a:xfrm flipV="1">
            <a:off x="2627280" y="1197000"/>
            <a:ext cx="0" cy="28728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8"/>
          <p:cNvSpPr/>
          <p:nvPr/>
        </p:nvSpPr>
        <p:spPr>
          <a:xfrm>
            <a:off x="3418920" y="1989000"/>
            <a:ext cx="108108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8" descr=""/>
          <p:cNvPicPr/>
          <p:nvPr/>
        </p:nvPicPr>
        <p:blipFill>
          <a:blip r:embed="rId12"/>
          <a:stretch/>
        </p:blipFill>
        <p:spPr>
          <a:xfrm>
            <a:off x="6227640" y="3789360"/>
            <a:ext cx="758880" cy="719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000"/>
                            </p:stCondLst>
                            <p:childTnLst>
                              <p:par>
                                <p:cTn id="3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8000"/>
                            </p:stCondLst>
                            <p:childTnLst>
                              <p:par>
                                <p:cTn id="3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9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9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1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30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400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0"/>
                            </p:stCondLst>
                            <p:childTnLst>
                              <p:par>
                                <p:cTn id="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6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7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80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9000"/>
                            </p:stCondLst>
                            <p:childTnLst>
                              <p:par>
                                <p:cTn id="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0"/>
                            </p:stCondLst>
                            <p:childTnLst>
                              <p:par>
                                <p:cTn id="4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1000"/>
                            </p:stCondLst>
                            <p:childTnLst>
                              <p:par>
                                <p:cTn id="4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11"/>
          <p:cNvSpPr/>
          <p:nvPr/>
        </p:nvSpPr>
        <p:spPr>
          <a:xfrm>
            <a:off x="5364000" y="4581360"/>
            <a:ext cx="3600720" cy="208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вод текста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едак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тла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мпиля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спол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абота  с  фай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ежим 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8"/>
          <p:cNvSpPr/>
          <p:nvPr/>
        </p:nvSpPr>
        <p:spPr>
          <a:xfrm flipV="1">
            <a:off x="6948360" y="4220640"/>
            <a:ext cx="0" cy="35892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Заголовок 2"/>
          <p:cNvSpPr/>
          <p:nvPr/>
        </p:nvSpPr>
        <p:spPr>
          <a:xfrm>
            <a:off x="971640" y="189000"/>
            <a:ext cx="7632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Системы программ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42920" y="907920"/>
            <a:ext cx="7850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граммир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о процесс создания программ, разработки всех типов программного обеспечени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1116000" y="1773360"/>
            <a:ext cx="7777080" cy="1008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 программных средств, предназначенных для разработки компьютерных программ на языке программирования, называ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стемой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5364000" y="3500280"/>
            <a:ext cx="3311640" cy="719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жим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стем программ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1116000" y="4581360"/>
            <a:ext cx="4032360" cy="208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оздание, отладка и выпол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грамм с цель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ешения вычислительных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бработки текстов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оздания системного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оздания прикладного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8"/>
          <p:cNvSpPr/>
          <p:nvPr/>
        </p:nvSpPr>
        <p:spPr>
          <a:xfrm flipV="1">
            <a:off x="2484360" y="3141720"/>
            <a:ext cx="0" cy="35856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8"/>
          <p:cNvSpPr/>
          <p:nvPr/>
        </p:nvSpPr>
        <p:spPr>
          <a:xfrm flipV="1">
            <a:off x="6948360" y="3141720"/>
            <a:ext cx="0" cy="35856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8"/>
          <p:cNvSpPr/>
          <p:nvPr/>
        </p:nvSpPr>
        <p:spPr>
          <a:xfrm flipV="1">
            <a:off x="2916360" y="4220640"/>
            <a:ext cx="0" cy="35892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1258920" y="3500280"/>
            <a:ext cx="2521080" cy="719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начение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граммир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4000"/>
                            </p:stCondLst>
                            <p:childTnLst>
                              <p:par>
                                <p:cTn id="4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60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7000"/>
                            </p:stCondLst>
                            <p:childTnLst>
                              <p:par>
                                <p:cTn id="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0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900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Заголовок 2"/>
          <p:cNvSpPr/>
          <p:nvPr/>
        </p:nvSpPr>
        <p:spPr>
          <a:xfrm>
            <a:off x="971640" y="189000"/>
            <a:ext cx="763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Прикладное программное обеспе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187280" y="1052640"/>
            <a:ext cx="7777440" cy="10087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ы, с помощью которых пользователь может работать с разными видами информации, принято называть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кладными программ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ложения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5543640" y="3573360"/>
            <a:ext cx="3600360" cy="3095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дательски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ухгалтерские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граммы компьютер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оде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тематические пак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геоинформацио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дицинские экспер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чебники, тренажё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ло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8"/>
          <p:cNvSpPr/>
          <p:nvPr/>
        </p:nvSpPr>
        <p:spPr>
          <a:xfrm flipV="1">
            <a:off x="7128000" y="3212640"/>
            <a:ext cx="0" cy="35892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5327640" y="2492280"/>
            <a:ext cx="3311640" cy="719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ециального на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7"/>
          <p:cNvSpPr/>
          <p:nvPr/>
        </p:nvSpPr>
        <p:spPr>
          <a:xfrm>
            <a:off x="1116000" y="3573360"/>
            <a:ext cx="4211640" cy="273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кстовые ред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электронные табл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графические ред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едакторы презент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ультимедиа проигрыв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истемы управления баз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8"/>
          <p:cNvSpPr/>
          <p:nvPr/>
        </p:nvSpPr>
        <p:spPr>
          <a:xfrm flipV="1">
            <a:off x="2664000" y="2133720"/>
            <a:ext cx="0" cy="35856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8"/>
          <p:cNvSpPr/>
          <p:nvPr/>
        </p:nvSpPr>
        <p:spPr>
          <a:xfrm flipV="1">
            <a:off x="6983280" y="2133720"/>
            <a:ext cx="0" cy="35856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8"/>
          <p:cNvSpPr/>
          <p:nvPr/>
        </p:nvSpPr>
        <p:spPr>
          <a:xfrm flipV="1">
            <a:off x="3095640" y="3212640"/>
            <a:ext cx="0" cy="35892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438200" y="2492280"/>
            <a:ext cx="2521080" cy="719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го назна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1187280" y="1052640"/>
            <a:ext cx="770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ьшее распространение получили следующие офисные пакеты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842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Microsoft Offi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операционных систем Windows и Mac 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842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OpenOffice.or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операционных систем Windows и Lin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5724360" y="3139920"/>
            <a:ext cx="2826000" cy="18957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"/>
          <p:cNvPicPr/>
          <p:nvPr/>
        </p:nvPicPr>
        <p:blipFill>
          <a:blip r:embed="rId2"/>
          <a:stretch/>
        </p:blipFill>
        <p:spPr>
          <a:xfrm>
            <a:off x="1763640" y="2995560"/>
            <a:ext cx="2811600" cy="215280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15"/>
          <p:cNvSpPr/>
          <p:nvPr/>
        </p:nvSpPr>
        <p:spPr>
          <a:xfrm>
            <a:off x="5076720" y="3284640"/>
            <a:ext cx="3168720" cy="57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Редакторы презент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6"/>
          <p:cNvSpPr/>
          <p:nvPr/>
        </p:nvSpPr>
        <p:spPr>
          <a:xfrm>
            <a:off x="1116000" y="1773360"/>
            <a:ext cx="3313080" cy="576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Текстовые ред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7"/>
          <p:cNvSpPr/>
          <p:nvPr/>
        </p:nvSpPr>
        <p:spPr>
          <a:xfrm>
            <a:off x="4932360" y="1773360"/>
            <a:ext cx="3384720" cy="431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Электронные табл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8"/>
          <p:cNvSpPr/>
          <p:nvPr/>
        </p:nvSpPr>
        <p:spPr>
          <a:xfrm>
            <a:off x="1116000" y="3284640"/>
            <a:ext cx="3313080" cy="503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рафические ред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9"/>
          <p:cNvSpPr/>
          <p:nvPr/>
        </p:nvSpPr>
        <p:spPr>
          <a:xfrm>
            <a:off x="5435640" y="4941720"/>
            <a:ext cx="2736720" cy="790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истемы упра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базами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0"/>
          <p:cNvSpPr/>
          <p:nvPr/>
        </p:nvSpPr>
        <p:spPr>
          <a:xfrm>
            <a:off x="1116000" y="4869000"/>
            <a:ext cx="2376360" cy="93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92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Мультимедий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оигрыв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1" descr=""/>
          <p:cNvPicPr/>
          <p:nvPr/>
        </p:nvPicPr>
        <p:blipFill>
          <a:blip r:embed="rId3"/>
          <a:stretch/>
        </p:blipFill>
        <p:spPr>
          <a:xfrm>
            <a:off x="1692360" y="2421000"/>
            <a:ext cx="822240" cy="838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2" descr=""/>
          <p:cNvPicPr/>
          <p:nvPr/>
        </p:nvPicPr>
        <p:blipFill>
          <a:blip r:embed="rId4"/>
          <a:stretch/>
        </p:blipFill>
        <p:spPr>
          <a:xfrm>
            <a:off x="5796000" y="2349360"/>
            <a:ext cx="828720" cy="781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3" descr=""/>
          <p:cNvPicPr/>
          <p:nvPr/>
        </p:nvPicPr>
        <p:blipFill>
          <a:blip r:embed="rId5"/>
          <a:stretch/>
        </p:blipFill>
        <p:spPr>
          <a:xfrm>
            <a:off x="5508720" y="4005360"/>
            <a:ext cx="890640" cy="838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4" descr=""/>
          <p:cNvPicPr/>
          <p:nvPr/>
        </p:nvPicPr>
        <p:blipFill>
          <a:blip r:embed="rId6"/>
          <a:stretch/>
        </p:blipFill>
        <p:spPr>
          <a:xfrm>
            <a:off x="5580000" y="5877000"/>
            <a:ext cx="787320" cy="7491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5" descr=""/>
          <p:cNvPicPr/>
          <p:nvPr/>
        </p:nvPicPr>
        <p:blipFill>
          <a:blip r:embed="rId7"/>
          <a:stretch/>
        </p:blipFill>
        <p:spPr>
          <a:xfrm>
            <a:off x="1547640" y="3789360"/>
            <a:ext cx="862200" cy="1079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6" descr=""/>
          <p:cNvPicPr/>
          <p:nvPr/>
        </p:nvPicPr>
        <p:blipFill>
          <a:blip r:embed="rId8"/>
          <a:stretch/>
        </p:blipFill>
        <p:spPr>
          <a:xfrm>
            <a:off x="2556000" y="5877000"/>
            <a:ext cx="828720" cy="7952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7" descr=""/>
          <p:cNvPicPr/>
          <p:nvPr/>
        </p:nvPicPr>
        <p:blipFill>
          <a:blip r:embed="rId9"/>
          <a:stretch/>
        </p:blipFill>
        <p:spPr>
          <a:xfrm>
            <a:off x="1258920" y="5877000"/>
            <a:ext cx="782640" cy="82548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28"/>
          <p:cNvSpPr/>
          <p:nvPr/>
        </p:nvSpPr>
        <p:spPr>
          <a:xfrm>
            <a:off x="1187280" y="1197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отипы офисных пр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9" descr=""/>
          <p:cNvPicPr/>
          <p:nvPr/>
        </p:nvPicPr>
        <p:blipFill>
          <a:blip r:embed="rId10"/>
          <a:stretch/>
        </p:blipFill>
        <p:spPr>
          <a:xfrm>
            <a:off x="2987640" y="2492280"/>
            <a:ext cx="681120" cy="6876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0" descr=""/>
          <p:cNvPicPr/>
          <p:nvPr/>
        </p:nvPicPr>
        <p:blipFill>
          <a:blip r:embed="rId11"/>
          <a:stretch/>
        </p:blipFill>
        <p:spPr>
          <a:xfrm>
            <a:off x="6948360" y="2349360"/>
            <a:ext cx="816120" cy="863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1" descr=""/>
          <p:cNvPicPr/>
          <p:nvPr/>
        </p:nvPicPr>
        <p:blipFill>
          <a:blip r:embed="rId12"/>
          <a:stretch/>
        </p:blipFill>
        <p:spPr>
          <a:xfrm>
            <a:off x="2700360" y="3933720"/>
            <a:ext cx="847800" cy="8636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2" descr=""/>
          <p:cNvPicPr/>
          <p:nvPr/>
        </p:nvPicPr>
        <p:blipFill>
          <a:blip r:embed="rId13"/>
          <a:stretch/>
        </p:blipFill>
        <p:spPr>
          <a:xfrm>
            <a:off x="6948360" y="4005360"/>
            <a:ext cx="674640" cy="7207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3" descr=""/>
          <p:cNvPicPr/>
          <p:nvPr/>
        </p:nvPicPr>
        <p:blipFill>
          <a:blip r:embed="rId14"/>
          <a:stretch/>
        </p:blipFill>
        <p:spPr>
          <a:xfrm>
            <a:off x="7093080" y="5877000"/>
            <a:ext cx="792000" cy="745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000"/>
                            </p:stCondLst>
                            <p:childTnLst>
                              <p:par>
                                <p:cTn id="5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400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600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8000"/>
                            </p:stCondLst>
                            <p:childTnLst>
                              <p:par>
                                <p:cTn id="5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4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60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7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80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900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6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6443640" y="3789360"/>
            <a:ext cx="2089080" cy="2232000"/>
          </a:xfrm>
          <a:prstGeom prst="rect">
            <a:avLst/>
          </a:prstGeom>
          <a:solidFill>
            <a:srgbClr val="a6bfde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беспечив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оступ вс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желающ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 исход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8"/>
          <p:cNvSpPr/>
          <p:nvPr/>
        </p:nvSpPr>
        <p:spPr>
          <a:xfrm flipV="1">
            <a:off x="7524720" y="33573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Заголовок 2"/>
          <p:cNvSpPr/>
          <p:nvPr/>
        </p:nvSpPr>
        <p:spPr>
          <a:xfrm>
            <a:off x="971640" y="189000"/>
            <a:ext cx="8172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Правовые нормы использования программное обеспе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3132000" y="1268280"/>
            <a:ext cx="410400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овой статус пр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1619280" y="2276640"/>
            <a:ext cx="2087640" cy="10062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– част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6372360" y="2276640"/>
            <a:ext cx="2089080" cy="115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8"/>
          <p:cNvSpPr/>
          <p:nvPr/>
        </p:nvSpPr>
        <p:spPr>
          <a:xfrm flipV="1">
            <a:off x="2627280" y="1988640"/>
            <a:ext cx="504720" cy="28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8"/>
          <p:cNvSpPr/>
          <p:nvPr/>
        </p:nvSpPr>
        <p:spPr>
          <a:xfrm flipH="1" flipV="1">
            <a:off x="7235640" y="1988640"/>
            <a:ext cx="215640" cy="28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1908000" y="3645000"/>
            <a:ext cx="194328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мер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1908000" y="4508640"/>
            <a:ext cx="1943280" cy="865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ло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спла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1908000" y="5589720"/>
            <a:ext cx="2737080" cy="100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пространяе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8"/>
          <p:cNvSpPr/>
          <p:nvPr/>
        </p:nvSpPr>
        <p:spPr>
          <a:xfrm flipH="1">
            <a:off x="1402920" y="2708280"/>
            <a:ext cx="28908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8"/>
          <p:cNvSpPr/>
          <p:nvPr/>
        </p:nvSpPr>
        <p:spPr>
          <a:xfrm flipV="1">
            <a:off x="1403280" y="2708280"/>
            <a:ext cx="0" cy="3384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8"/>
          <p:cNvSpPr/>
          <p:nvPr/>
        </p:nvSpPr>
        <p:spPr>
          <a:xfrm>
            <a:off x="1403280" y="3860640"/>
            <a:ext cx="50472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8"/>
          <p:cNvSpPr/>
          <p:nvPr/>
        </p:nvSpPr>
        <p:spPr>
          <a:xfrm>
            <a:off x="1403280" y="4797360"/>
            <a:ext cx="50472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8"/>
          <p:cNvSpPr/>
          <p:nvPr/>
        </p:nvSpPr>
        <p:spPr>
          <a:xfrm>
            <a:off x="1403280" y="6093000"/>
            <a:ext cx="50472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3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40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0"/>
                            </p:stCondLst>
                            <p:childTnLst>
                              <p:par>
                                <p:cTn id="6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6000"/>
                            </p:stCondLst>
                            <p:childTnLst>
                              <p:par>
                                <p:cTn id="6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70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8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90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7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1-11-12T15:41:49Z</dcterms:modified>
  <cp:revision>41</cp:revision>
  <dc:subject/>
  <dc:title>Презентация PowerPoint</dc:title>
</cp:coreProperties>
</file>