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8.png" ContentType="image/png"/>
  <Override PartName="/ppt/media/image5.gif" ContentType="image/gif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FD32-390C-4FEE-82D5-51CDDA2B0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FD1D-884D-4E59-AB5A-F0C082E7F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7F3F-38E0-454C-BB82-6A8B9BFFD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8EA9-6125-45BD-A48B-01AC581F9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417C-FA82-488B-9C78-64A6B2E3F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3280-573D-4710-8F64-553D1BAA1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8817-2D2D-45D2-9168-5F9889C27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21A5-AAD0-41C4-8E86-A726130DB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983F-A584-41D7-AD95-FC78A5363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6219-84DC-4577-B0C2-BD02FDBE2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559E0-4A6D-4C88-A9CC-6E8C094AE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607E-913A-47C4-9004-4F7C802E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721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9272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9DD-D229-4FBE-9EE4-B59B38190C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Номер слайда 4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F2A5-9B72-4103-B896-836EEFB88C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Задача о напитка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0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42" descr="03 copy"/>
          <p:cNvPicPr/>
          <p:nvPr/>
        </p:nvPicPr>
        <p:blipFill>
          <a:blip r:embed="rId2"/>
          <a:stretch/>
        </p:blipFill>
        <p:spPr>
          <a:xfrm>
            <a:off x="1866960" y="1916280"/>
            <a:ext cx="511164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2EA8-78C1-49A4-865A-F76B318A19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9079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4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47" name="Picture 5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 Box 7"/>
          <p:cNvSpPr/>
          <p:nvPr/>
        </p:nvSpPr>
        <p:spPr>
          <a:xfrm>
            <a:off x="250920" y="2492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179280" y="5445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4"/>
          <p:cNvSpPr/>
          <p:nvPr/>
        </p:nvSpPr>
        <p:spPr>
          <a:xfrm>
            <a:off x="7236000" y="1341360"/>
            <a:ext cx="158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5"/>
          <p:cNvSpPr/>
          <p:nvPr/>
        </p:nvSpPr>
        <p:spPr>
          <a:xfrm>
            <a:off x="324000" y="1773360"/>
            <a:ext cx="360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3492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4"/>
          <p:cNvSpPr/>
          <p:nvPr/>
        </p:nvSpPr>
        <p:spPr>
          <a:xfrm>
            <a:off x="647640" y="1628640"/>
            <a:ext cx="7848720" cy="1368720"/>
          </a:xfrm>
          <a:prstGeom prst="wedgeEllipseCallout">
            <a:avLst>
              <a:gd name="adj1" fmla="val -46481"/>
              <a:gd name="adj2" fmla="val 10429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ЧИТ, В БУТЫЛКЕ – МИНЕРАЛЬНАЯ  ВОД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5" descr=""/>
          <p:cNvPicPr/>
          <p:nvPr/>
        </p:nvPicPr>
        <p:blipFill>
          <a:blip r:embed="rId3"/>
          <a:stretch/>
        </p:blipFill>
        <p:spPr>
          <a:xfrm>
            <a:off x="3995640" y="59500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3"/>
          <p:cNvGrpSpPr/>
          <p:nvPr/>
        </p:nvGrpSpPr>
        <p:grpSpPr>
          <a:xfrm>
            <a:off x="324000" y="2587680"/>
            <a:ext cx="8569080" cy="2879640"/>
            <a:chOff x="324000" y="2587680"/>
            <a:chExt cx="8569080" cy="2879640"/>
          </a:xfrm>
        </p:grpSpPr>
        <p:pic>
          <p:nvPicPr>
            <p:cNvPr id="57" name="Picture 57" descr="bytilka"/>
            <p:cNvPicPr/>
            <p:nvPr/>
          </p:nvPicPr>
          <p:blipFill>
            <a:blip r:embed="rId4"/>
            <a:stretch/>
          </p:blipFill>
          <p:spPr>
            <a:xfrm>
              <a:off x="324000" y="2587680"/>
              <a:ext cx="8524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8" descr="4ashka"/>
            <p:cNvPicPr/>
            <p:nvPr/>
          </p:nvPicPr>
          <p:blipFill>
            <a:blip r:embed="rId5"/>
            <a:stretch/>
          </p:blipFill>
          <p:spPr>
            <a:xfrm>
              <a:off x="2124000" y="4500360"/>
              <a:ext cx="10065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9" descr="kofe2"/>
            <p:cNvPicPr/>
            <p:nvPr/>
          </p:nvPicPr>
          <p:blipFill>
            <a:blip r:embed="rId6"/>
            <a:stretch/>
          </p:blipFill>
          <p:spPr>
            <a:xfrm>
              <a:off x="3808440" y="4640040"/>
              <a:ext cx="105084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60" descr="kyvshin"/>
            <p:cNvPicPr/>
            <p:nvPr/>
          </p:nvPicPr>
          <p:blipFill>
            <a:blip r:embed="rId7"/>
            <a:stretch/>
          </p:blipFill>
          <p:spPr>
            <a:xfrm>
              <a:off x="7323120" y="3136680"/>
              <a:ext cx="1569960" cy="23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61" descr="Untitled-1"/>
            <p:cNvPicPr/>
            <p:nvPr/>
          </p:nvPicPr>
          <p:blipFill>
            <a:blip r:embed="rId8"/>
            <a:stretch/>
          </p:blipFill>
          <p:spPr>
            <a:xfrm>
              <a:off x="5857920" y="4098600"/>
              <a:ext cx="8017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9C1-511C-41B5-B706-DE1EFB2A3C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6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7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106200" y="578016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9"/>
          <p:cNvSpPr/>
          <p:nvPr/>
        </p:nvSpPr>
        <p:spPr>
          <a:xfrm>
            <a:off x="684360" y="2781360"/>
            <a:ext cx="7920000" cy="1368360"/>
          </a:xfrm>
          <a:prstGeom prst="wedgeEllipseCallout">
            <a:avLst>
              <a:gd name="adj1" fmla="val 13277"/>
              <a:gd name="adj2" fmla="val 3735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ЧАС СТАКАН НЕ СТОИТ МЕЖДУ ЧАЕМ И МОЛО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1258920" y="3005280"/>
            <a:ext cx="6192720" cy="1224000"/>
          </a:xfrm>
          <a:prstGeom prst="wedgeEllipseCallout">
            <a:avLst>
              <a:gd name="adj1" fmla="val -17574"/>
              <a:gd name="adj2" fmla="val 4416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МОЖНО ПЕРЕСТАВИТЬ СТАКАН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1"/>
          <p:cNvSpPr/>
          <p:nvPr/>
        </p:nvSpPr>
        <p:spPr>
          <a:xfrm>
            <a:off x="0" y="2205000"/>
            <a:ext cx="8136000" cy="1873440"/>
          </a:xfrm>
          <a:prstGeom prst="wedgeEllipseCallout">
            <a:avLst>
              <a:gd name="adj1" fmla="val -33393"/>
              <a:gd name="adj2" fmla="val 72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ЮДА СТАКАН ПОСТАВИТЬ НЕЛЬЗЯ. ЗДЕСЬ ОН БУДЕТ СТОЯТЬ МЕЖДУ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ИНЕРАЛЬНОЙ ВОД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УГИМ НАПИТК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2"/>
          <p:cNvSpPr/>
          <p:nvPr/>
        </p:nvSpPr>
        <p:spPr>
          <a:xfrm>
            <a:off x="1258920" y="3068640"/>
            <a:ext cx="6192720" cy="1008000"/>
          </a:xfrm>
          <a:prstGeom prst="wedgeEllipseCallout">
            <a:avLst>
              <a:gd name="adj1" fmla="val -13624"/>
              <a:gd name="adj2" fmla="val 128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КАН МОЖНО ПОСТАВИТЬ ТОЛЬКО СЮД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3"/>
          <p:cNvSpPr/>
          <p:nvPr/>
        </p:nvSpPr>
        <p:spPr>
          <a:xfrm>
            <a:off x="17928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4"/>
          <p:cNvSpPr/>
          <p:nvPr/>
        </p:nvSpPr>
        <p:spPr>
          <a:xfrm>
            <a:off x="190800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7"/>
          <p:cNvSpPr/>
          <p:nvPr/>
        </p:nvSpPr>
        <p:spPr>
          <a:xfrm>
            <a:off x="730872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8"/>
          <p:cNvSpPr/>
          <p:nvPr/>
        </p:nvSpPr>
        <p:spPr>
          <a:xfrm>
            <a:off x="1332000" y="2781360"/>
            <a:ext cx="5762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9"/>
          <p:cNvSpPr/>
          <p:nvPr/>
        </p:nvSpPr>
        <p:spPr>
          <a:xfrm>
            <a:off x="0" y="3030480"/>
            <a:ext cx="7632720" cy="1079640"/>
          </a:xfrm>
          <a:prstGeom prst="wedgeEllipseCallout">
            <a:avLst>
              <a:gd name="adj1" fmla="val 1643"/>
              <a:gd name="adj2" fmla="val 763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РЕДИНЕ СТОИТ СТАКАН. ЗНАЧИТ, В НЕМ – КОФЕ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3348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1" descr=""/>
          <p:cNvPicPr/>
          <p:nvPr/>
        </p:nvPicPr>
        <p:blipFill>
          <a:blip r:embed="rId1"/>
          <a:stretch/>
        </p:blipFill>
        <p:spPr>
          <a:xfrm>
            <a:off x="4140360" y="602136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9"/>
          <p:cNvGrpSpPr/>
          <p:nvPr/>
        </p:nvGrpSpPr>
        <p:grpSpPr>
          <a:xfrm>
            <a:off x="250920" y="6199200"/>
            <a:ext cx="8640720" cy="436680"/>
            <a:chOff x="250920" y="6199200"/>
            <a:chExt cx="8640720" cy="436680"/>
          </a:xfrm>
        </p:grpSpPr>
        <p:pic>
          <p:nvPicPr>
            <p:cNvPr id="82" name="Picture 69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2800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0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23736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72" descr="bytilka"/>
          <p:cNvPicPr/>
          <p:nvPr/>
        </p:nvPicPr>
        <p:blipFill>
          <a:blip r:embed="rId4"/>
          <a:stretch/>
        </p:blipFill>
        <p:spPr>
          <a:xfrm>
            <a:off x="324000" y="3003480"/>
            <a:ext cx="7236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7"/>
          <p:cNvGrpSpPr/>
          <p:nvPr/>
        </p:nvGrpSpPr>
        <p:grpSpPr>
          <a:xfrm>
            <a:off x="3780000" y="4508640"/>
            <a:ext cx="1439640" cy="1298520"/>
            <a:chOff x="3780000" y="4508640"/>
            <a:chExt cx="1439640" cy="1298520"/>
          </a:xfrm>
        </p:grpSpPr>
        <p:sp>
          <p:nvSpPr>
            <p:cNvPr id="87" name="Text Box 55"/>
            <p:cNvSpPr/>
            <p:nvPr/>
          </p:nvSpPr>
          <p:spPr>
            <a:xfrm>
              <a:off x="3780000" y="54388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ЧАШК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74" descr="kofe2"/>
            <p:cNvPicPr/>
            <p:nvPr/>
          </p:nvPicPr>
          <p:blipFill>
            <a:blip r:embed="rId6"/>
            <a:stretch/>
          </p:blipFill>
          <p:spPr>
            <a:xfrm>
              <a:off x="3780000" y="4508640"/>
              <a:ext cx="1050840" cy="82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78"/>
          <p:cNvGrpSpPr/>
          <p:nvPr/>
        </p:nvGrpSpPr>
        <p:grpSpPr>
          <a:xfrm>
            <a:off x="5651640" y="4005360"/>
            <a:ext cx="1439640" cy="1803600"/>
            <a:chOff x="5651640" y="4005360"/>
            <a:chExt cx="1439640" cy="1803600"/>
          </a:xfrm>
        </p:grpSpPr>
        <p:sp>
          <p:nvSpPr>
            <p:cNvPr id="90" name="Text Box 56"/>
            <p:cNvSpPr/>
            <p:nvPr/>
          </p:nvSpPr>
          <p:spPr>
            <a:xfrm>
              <a:off x="5651640" y="5440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Arial"/>
                </a:rPr>
                <a:t>СТАКАН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5" descr="Untitled-1"/>
            <p:cNvPicPr/>
            <p:nvPr/>
          </p:nvPicPr>
          <p:blipFill>
            <a:blip r:embed="rId7"/>
            <a:stretch/>
          </p:blipFill>
          <p:spPr>
            <a:xfrm>
              <a:off x="5857920" y="4005360"/>
              <a:ext cx="801720" cy="136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76" descr="kyvshin"/>
          <p:cNvPicPr/>
          <p:nvPr/>
        </p:nvPicPr>
        <p:blipFill>
          <a:blip r:embed="rId8"/>
          <a:stretch/>
        </p:blipFill>
        <p:spPr>
          <a:xfrm>
            <a:off x="7308720" y="3068640"/>
            <a:ext cx="15703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8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7 L 0 -0.237 E">
                                      <p:cBhvr>
                                        <p:cTn id="8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9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5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4798E-006 L 0.22031 0.00532 E">
                                      <p:cBhvr>
                                        <p:cTn id="17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0647 L -0.1967 0.00578 E">
                                      <p:cBhvr>
                                        <p:cTn id="17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EEF-9A8B-4E83-A36A-F485147B8A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50920" y="19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47840" y="-33984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771640" y="2421000"/>
            <a:ext cx="5688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24000" y="2852640"/>
            <a:ext cx="900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9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3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5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6"/>
          <p:cNvSpPr/>
          <p:nvPr/>
        </p:nvSpPr>
        <p:spPr>
          <a:xfrm>
            <a:off x="395280" y="2709720"/>
            <a:ext cx="8424720" cy="1224000"/>
          </a:xfrm>
          <a:prstGeom prst="wedgeEllipseCallout">
            <a:avLst>
              <a:gd name="adj1" fmla="val 32361"/>
              <a:gd name="adj2" fmla="val 8035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ОСЕДСТВУ С МОЛОКОМ – КВАС. ЗНАЧИТ, КВАС – В КУВШИН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7"/>
          <p:cNvSpPr/>
          <p:nvPr/>
        </p:nvSpPr>
        <p:spPr>
          <a:xfrm>
            <a:off x="754200" y="2708280"/>
            <a:ext cx="7921440" cy="1368360"/>
          </a:xfrm>
          <a:prstGeom prst="wedgeEllipseCallout">
            <a:avLst>
              <a:gd name="adj1" fmla="val 15749"/>
              <a:gd name="adj2" fmla="val 9976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ИТ, МОЛОКО МОЖЕТ БЫТЬ ТОЛЬКО ЗДЕСЬ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58"/>
          <p:cNvSpPr/>
          <p:nvPr/>
        </p:nvSpPr>
        <p:spPr>
          <a:xfrm>
            <a:off x="214200" y="2781360"/>
            <a:ext cx="8713800" cy="1439640"/>
          </a:xfrm>
          <a:prstGeom prst="wedgeEllipseCallout">
            <a:avLst>
              <a:gd name="adj1" fmla="val -27990"/>
              <a:gd name="adj2" fmla="val 405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! ТОГДА ПО СОСЕДСТВУ                  С МОЛОКОМ БУДЕТ КОФ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МИНЕРАЛЬНАЯ ВОД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9"/>
          <p:cNvSpPr/>
          <p:nvPr/>
        </p:nvSpPr>
        <p:spPr>
          <a:xfrm>
            <a:off x="539640" y="3141720"/>
            <a:ext cx="7345440" cy="792000"/>
          </a:xfrm>
          <a:prstGeom prst="wedgeEllipseCallout">
            <a:avLst>
              <a:gd name="adj1" fmla="val -19851"/>
              <a:gd name="adj2" fmla="val 92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, МОЛОКО ЗДЕСЬ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0" descr=""/>
          <p:cNvPicPr/>
          <p:nvPr/>
        </p:nvPicPr>
        <p:blipFill>
          <a:blip r:embed="rId1"/>
          <a:stretch/>
        </p:blipFill>
        <p:spPr>
          <a:xfrm>
            <a:off x="3780000" y="60418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85160" y="619920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кнопка вперед копия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bytilka"/>
          <p:cNvPicPr/>
          <p:nvPr/>
        </p:nvPicPr>
        <p:blipFill>
          <a:blip r:embed="rId4"/>
          <a:stretch/>
        </p:blipFill>
        <p:spPr>
          <a:xfrm>
            <a:off x="395280" y="2852640"/>
            <a:ext cx="76680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5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6" descr="kofe2"/>
          <p:cNvPicPr/>
          <p:nvPr/>
        </p:nvPicPr>
        <p:blipFill>
          <a:blip r:embed="rId6"/>
          <a:stretch/>
        </p:blipFill>
        <p:spPr>
          <a:xfrm>
            <a:off x="5796000" y="45086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7" descr="kyvshin"/>
          <p:cNvPicPr/>
          <p:nvPr/>
        </p:nvPicPr>
        <p:blipFill>
          <a:blip r:embed="rId7"/>
          <a:stretch/>
        </p:blipFill>
        <p:spPr>
          <a:xfrm>
            <a:off x="7380360" y="3068640"/>
            <a:ext cx="1569960" cy="233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8" descr="Untitled-1"/>
          <p:cNvPicPr/>
          <p:nvPr/>
        </p:nvPicPr>
        <p:blipFill>
          <a:blip r:embed="rId8"/>
          <a:stretch/>
        </p:blipFill>
        <p:spPr>
          <a:xfrm>
            <a:off x="4067280" y="4035600"/>
            <a:ext cx="801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2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61353E-006 L -2.77778E-007 -0.17586 E">
                                      <p:cBhvr>
                                        <p:cTn id="22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642 L 0 -0.24722 E">
                                      <p:cBhvr>
                                        <p:cTn id="22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9055E-006 L -3.61111E-006 -0.25834 E">
                                      <p:cBhvr>
                                        <p:cTn id="23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3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C1F2-F465-4AA6-9D00-E534BD6CE0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50920" y="6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а столе поставлены в ряд бутылка минеральной воды, кружка, чашка, стакан и кувшин, причем точно в таком порядке, в каком они перечислен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250920" y="1916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них находятся различные напитки: кофе, чай, молоко, квас и минеральная вода, но неизвестно, какой напиток в каком сосуде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250920" y="3213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сли стакан поставить между посудой с чаем и молоком, то по соседству с молоком будет квас, а кофе будет точно в середин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0920" y="4508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пределите, в какую посуду что налит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3708360" y="1557360"/>
            <a:ext cx="1943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106200" y="570852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ИНЕРАЛЬНАЯ ВОДА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179280" y="5438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183528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9"/>
          <p:cNvSpPr/>
          <p:nvPr/>
        </p:nvSpPr>
        <p:spPr>
          <a:xfrm>
            <a:off x="3851280" y="5437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3564000" y="5805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2"/>
          <p:cNvSpPr/>
          <p:nvPr/>
        </p:nvSpPr>
        <p:spPr>
          <a:xfrm>
            <a:off x="550872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7308720" y="54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5364000" y="57880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6"/>
          <p:cNvSpPr/>
          <p:nvPr/>
        </p:nvSpPr>
        <p:spPr>
          <a:xfrm>
            <a:off x="7093080" y="57880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7"/>
          <p:cNvSpPr/>
          <p:nvPr/>
        </p:nvSpPr>
        <p:spPr>
          <a:xfrm>
            <a:off x="2050920" y="57340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ЧА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8" descr=""/>
          <p:cNvPicPr/>
          <p:nvPr/>
        </p:nvPicPr>
        <p:blipFill>
          <a:blip r:embed="rId1"/>
          <a:stretch/>
        </p:blipFill>
        <p:spPr>
          <a:xfrm>
            <a:off x="3564000" y="594828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8"/>
          <p:cNvGrpSpPr/>
          <p:nvPr/>
        </p:nvGrpSpPr>
        <p:grpSpPr>
          <a:xfrm>
            <a:off x="250920" y="6194520"/>
            <a:ext cx="8597880" cy="403200"/>
            <a:chOff x="250920" y="6194520"/>
            <a:chExt cx="8597880" cy="403200"/>
          </a:xfrm>
        </p:grpSpPr>
        <p:pic>
          <p:nvPicPr>
            <p:cNvPr id="140" name="Picture 7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85160" y="6199200"/>
              <a:ext cx="86364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1" descr="кнопка вперед копия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6194520"/>
              <a:ext cx="863640" cy="39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72" descr="bytilka"/>
          <p:cNvPicPr/>
          <p:nvPr/>
        </p:nvPicPr>
        <p:blipFill>
          <a:blip r:embed="rId4"/>
          <a:stretch/>
        </p:blipFill>
        <p:spPr>
          <a:xfrm>
            <a:off x="324000" y="2492280"/>
            <a:ext cx="852480" cy="288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4ashka"/>
          <p:cNvPicPr/>
          <p:nvPr/>
        </p:nvPicPr>
        <p:blipFill>
          <a:blip r:embed="rId5"/>
          <a:stretch/>
        </p:blipFill>
        <p:spPr>
          <a:xfrm>
            <a:off x="2124000" y="4405320"/>
            <a:ext cx="1006560" cy="96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4" descr="kofe2"/>
          <p:cNvPicPr/>
          <p:nvPr/>
        </p:nvPicPr>
        <p:blipFill>
          <a:blip r:embed="rId6"/>
          <a:stretch/>
        </p:blipFill>
        <p:spPr>
          <a:xfrm>
            <a:off x="5753160" y="4545000"/>
            <a:ext cx="1050840" cy="82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5" descr="Untitled-1"/>
          <p:cNvPicPr/>
          <p:nvPr/>
        </p:nvPicPr>
        <p:blipFill>
          <a:blip r:embed="rId7"/>
          <a:stretch/>
        </p:blipFill>
        <p:spPr>
          <a:xfrm>
            <a:off x="4067280" y="4003560"/>
            <a:ext cx="801720" cy="13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7" descr="kyvshin"/>
          <p:cNvPicPr/>
          <p:nvPr/>
        </p:nvPicPr>
        <p:blipFill>
          <a:blip r:embed="rId8"/>
          <a:stretch/>
        </p:blipFill>
        <p:spPr>
          <a:xfrm>
            <a:off x="7323120" y="3041640"/>
            <a:ext cx="15699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6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7" dur="indefinite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1551 L 0.01025 -0.11597 E">
                                      <p:cBhvr>
                                        <p:cTn id="35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7847 L 0 -0.12662 E">
                                      <p:cBhvr>
                                        <p:cTn id="3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3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23704 E">
                                      <p:cBhvr>
                                        <p:cTn id="36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2"/>
          <p:cNvSpPr/>
          <p:nvPr/>
        </p:nvSpPr>
        <p:spPr>
          <a:xfrm>
            <a:off x="7093080" y="6597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CD0-0B0F-48E4-90AA-8A5F5E2E928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528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2670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12416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02912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693720" y="4851360"/>
            <a:ext cx="1727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МИНЕРАЛЬ-НАЯ ВОДА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2677320" y="49338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015440" y="4933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О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7"/>
          <p:cNvSpPr/>
          <p:nvPr/>
        </p:nvSpPr>
        <p:spPr>
          <a:xfrm>
            <a:off x="5733720" y="49338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Ф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7309440" y="4933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ВА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619200" y="1987560"/>
            <a:ext cx="1584360" cy="352908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9080"/>
              <a:gd name="textAreaBottom" fmla="*/ 3452040 h 3529080"/>
            </a:gdLst>
            <a:ahLst/>
            <a:rect l="textAreaLeft" t="textAreaTop" r="textAreaRight" b="textAreaBottom"/>
            <a:pathLst>
              <a:path w="21600" h="48107">
                <a:moveTo>
                  <a:pt x="3600" y="0"/>
                </a:moveTo>
                <a:arcTo wR="3600" hR="3600" stAng="16200000" swAng="-5400000"/>
                <a:lnTo>
                  <a:pt x="0" y="44507"/>
                </a:lnTo>
                <a:arcTo wR="3600" hR="3600" stAng="10800000" swAng="-5400000"/>
                <a:lnTo>
                  <a:pt x="18000" y="481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220356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2"/>
          <p:cNvSpPr/>
          <p:nvPr/>
        </p:nvSpPr>
        <p:spPr>
          <a:xfrm>
            <a:off x="378792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3"/>
          <p:cNvSpPr/>
          <p:nvPr/>
        </p:nvSpPr>
        <p:spPr>
          <a:xfrm>
            <a:off x="5372280" y="1989000"/>
            <a:ext cx="1584000" cy="3527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98">
                <a:moveTo>
                  <a:pt x="3600" y="0"/>
                </a:moveTo>
                <a:arcTo wR="3600" hR="3600" stAng="16200000" swAng="-5400000"/>
                <a:lnTo>
                  <a:pt x="0" y="44498"/>
                </a:lnTo>
                <a:arcTo wR="3600" hR="3600" stAng="10800000" swAng="-5400000"/>
                <a:lnTo>
                  <a:pt x="18000" y="480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4"/>
          <p:cNvSpPr/>
          <p:nvPr/>
        </p:nvSpPr>
        <p:spPr>
          <a:xfrm>
            <a:off x="6956280" y="1989000"/>
            <a:ext cx="1584360" cy="352764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3527640"/>
              <a:gd name="textAreaBottom" fmla="*/ 3450600 h 3527640"/>
            </a:gdLst>
            <a:ahLst/>
            <a:rect l="textAreaLeft" t="textAreaTop" r="textAreaRight" b="textAreaBottom"/>
            <a:pathLst>
              <a:path w="21600" h="48087">
                <a:moveTo>
                  <a:pt x="3600" y="0"/>
                </a:moveTo>
                <a:arcTo wR="3600" hR="3600" stAng="16200000" swAng="-5400000"/>
                <a:lnTo>
                  <a:pt x="0" y="44487"/>
                </a:lnTo>
                <a:arcTo wR="3600" hR="3600" stAng="10800000" swAng="-5400000"/>
                <a:lnTo>
                  <a:pt x="18000" y="480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3564000" y="76500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ВЕТ: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9228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УТЫЛ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2276640" y="21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РУЖ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544500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К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3860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А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02936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УВШ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0" descr=""/>
          <p:cNvPicPr/>
          <p:nvPr/>
        </p:nvPicPr>
        <p:blipFill>
          <a:blip r:embed="rId1"/>
          <a:stretch/>
        </p:blipFill>
        <p:spPr>
          <a:xfrm>
            <a:off x="4067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2" descr="кнопка вперед копия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194520"/>
            <a:ext cx="863640" cy="39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4" descr="bytilka"/>
          <p:cNvPicPr/>
          <p:nvPr/>
        </p:nvPicPr>
        <p:blipFill>
          <a:blip r:embed="rId3"/>
          <a:stretch/>
        </p:blipFill>
        <p:spPr>
          <a:xfrm>
            <a:off x="981000" y="2421000"/>
            <a:ext cx="746280" cy="25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5" descr="4ashka"/>
          <p:cNvPicPr/>
          <p:nvPr/>
        </p:nvPicPr>
        <p:blipFill>
          <a:blip r:embed="rId4"/>
          <a:stretch/>
        </p:blipFill>
        <p:spPr>
          <a:xfrm>
            <a:off x="2637000" y="3830760"/>
            <a:ext cx="1006200" cy="96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6" descr="kofe2"/>
          <p:cNvPicPr/>
          <p:nvPr/>
        </p:nvPicPr>
        <p:blipFill>
          <a:blip r:embed="rId5"/>
          <a:stretch/>
        </p:blipFill>
        <p:spPr>
          <a:xfrm>
            <a:off x="4033800" y="3970440"/>
            <a:ext cx="1050840" cy="82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7" descr="kyvshin"/>
          <p:cNvPicPr/>
          <p:nvPr/>
        </p:nvPicPr>
        <p:blipFill>
          <a:blip r:embed="rId6"/>
          <a:stretch/>
        </p:blipFill>
        <p:spPr>
          <a:xfrm>
            <a:off x="7174080" y="2852640"/>
            <a:ext cx="1326960" cy="19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8" descr="Untitled-1"/>
          <p:cNvPicPr/>
          <p:nvPr/>
        </p:nvPicPr>
        <p:blipFill>
          <a:blip r:embed="rId7"/>
          <a:stretch/>
        </p:blipFill>
        <p:spPr>
          <a:xfrm>
            <a:off x="5722920" y="3573360"/>
            <a:ext cx="717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4:15:57Z</dcterms:created>
  <dc:creator>Пользователь</dc:creator>
  <dc:description/>
  <dc:language>en-US</dc:language>
  <cp:lastModifiedBy>Босова</cp:lastModifiedBy>
  <dcterms:modified xsi:type="dcterms:W3CDTF">2013-07-29T17:44:03Z</dcterms:modified>
  <cp:revision>25</cp:revision>
  <dc:subject/>
  <dc:title>Задача о напитках</dc:title>
</cp:coreProperties>
</file>