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49B-6729-465E-9D62-B392C269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600-A024-4236-8E7C-4BBA218A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6C88-0FBC-42A9-BCE0-93DE22C1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7F7-8A3F-4693-BABB-73E1D3E2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AB0-DD79-42B5-BC12-2EEB801E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288-D818-4563-A265-9DBB0A2D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E712-79E3-46A2-8D99-D59CA1DB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A2E-2ACF-42E4-838E-430D141A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3A5-99C3-47E9-9BA3-AB2E57F8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DE7-54EB-4AC4-B465-226DEF3A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A62-FA48-4CDD-A43E-B2DD3E77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CF3-1788-4D66-AD80-93906BE0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EDD4-9322-4519-8E15-41B0730307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hyperlink" Target="http://www.70mb.ru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hyperlink" Target="http://www.1gb.ru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hyperlink" Target="http://guru-host.ru/free_hosting.php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hyperlink" Target="http://www.ascont.ru/constructor-and-hosting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276640"/>
            <a:ext cx="7020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ЗДАНИЕ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Web-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МУНИКАЦИОННЫЕ 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28760" y="10000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Хостинг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услуга по размещению сайта на сервере, постоянно находящемся в сети Интернет; хостинг может быть как платным, так и бесплатны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http://seoart.com.ua/images/Hosting.jpg"/>
          <p:cNvPicPr/>
          <p:nvPr/>
        </p:nvPicPr>
        <p:blipFill>
          <a:blip r:embed="rId2"/>
          <a:stretch/>
        </p:blipFill>
        <p:spPr>
          <a:xfrm>
            <a:off x="2706840" y="2567160"/>
            <a:ext cx="3870000" cy="338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504280" cy="5502600"/>
          </a:xfrm>
          <a:prstGeom prst="rect">
            <a:avLst/>
          </a:prstGeom>
          <a:ln w="0">
            <a:noFill/>
          </a:ln>
        </p:spPr>
      </p:pic>
      <p:sp>
        <p:nvSpPr>
          <p:cNvPr id="144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765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70mb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айт «Бесплатный хостин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4591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611280" y="90792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1gb.ru/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хостинг «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501480" y="2205000"/>
            <a:ext cx="8391600" cy="3959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84360" y="98100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guru-host.ru/free_hosting.ph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ru-host.ru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282160" cy="4689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39640" y="765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ascont.ru/constructor-and-host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айт плат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стинг «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O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мещение сай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то выбр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68360" y="765000"/>
            <a:ext cx="8424720" cy="35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тным хостингом пользуются крупные компании. Они получают удобное для прочтения и запоминания доменное имя второго уровня, которое может совпадать с названием компа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стные лица и небольшие компании пользуются бесплатным хостингом. Ограничения: небольшое дисковое пространство, ограничение размера отдельного файла, доменное имя только третьего уровня и т. д. Главный недостаток -  на страницы вашего сайта без вашего согласия добавляется коммерческая рекл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http://gbook.ru/sites/default/files/imagecache/body/11.jpg"/>
          <p:cNvPicPr/>
          <p:nvPr/>
        </p:nvPicPr>
        <p:blipFill>
          <a:blip r:embed="rId2"/>
          <a:stretch/>
        </p:blipFill>
        <p:spPr>
          <a:xfrm>
            <a:off x="5572080" y="4143240"/>
            <a:ext cx="2857680" cy="23529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500040" y="4429080"/>
            <a:ext cx="4857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серверов, предоставляющих бесплатный хостинг, можно получить поиском по запросу «бесплатный хостинг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4"/>
          <p:cNvSpPr/>
          <p:nvPr/>
        </p:nvSpPr>
        <p:spPr>
          <a:xfrm>
            <a:off x="324000" y="907920"/>
            <a:ext cx="8569080" cy="49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труктура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(план) сайта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- разбиение общего содержания на смысловые разделы и отдельные страницы с указанием связей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едставление структуры сайта в виде графа обеспечивает наглядное представление содержания сайта и помогает организовать 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навигацию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- переходы с одной страницы сайта на друг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Шаблон страницы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- это схема страницы, на которой представлены элементы, имеющиеся на страницах сайта. Использование шаблонов страниц помогает выдержать единый стиль оформления сай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Хостинг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-  услуга по размещению сайта на сервере, постоянно находящемся в сети Интернет; хостинг может быть как платным, так и беспла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каких инструментов можно создавать сай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структура сай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39640" y="1844640"/>
            <a:ext cx="860436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майте и изобразите в виде графа структуру од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ледующих сай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«Наш класс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«Моя семь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«Информат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элементы, размещаемые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ах сай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рекомендации следует учитывать при наполн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 сайта информационными материал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ой целью проводится тестирование сай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основным недостатком беспла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стин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539640" y="184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звестный вам сервер Интерн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ющий пользователям бесплатный хос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68360" y="1700280"/>
            <a:ext cx="3527280" cy="649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особы создания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003640" y="98100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зык разм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пертекст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003640" y="1773360"/>
            <a:ext cx="3673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5003640" y="256536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M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дакт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руктор с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 flipH="1">
            <a:off x="3995640" y="1989000"/>
            <a:ext cx="10080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 flipH="1">
            <a:off x="3995640" y="1341360"/>
            <a:ext cx="93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H="1" flipV="1">
            <a:off x="3995640" y="2133360"/>
            <a:ext cx="100800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539640" y="3284640"/>
            <a:ext cx="82803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оначально следует продумать содержание и структуру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539640" y="5589720"/>
            <a:ext cx="8282160" cy="76428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размещением сайта в сети Интернет следует провести его тестиро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539640" y="4292640"/>
            <a:ext cx="8280360" cy="109944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аполнении страниц сайта информационными материалами следует придерживаться определённых рекоменд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68360" y="836640"/>
            <a:ext cx="8351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.megaobzor.com/real/news/hostingsites.jpg - хос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kokvik.net/p1aa1.html - сайт Видеоуроки по информатике 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70mb.ru/ - сайт бесплатный хостин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guru-host.ru/free_hosting.php - сайт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uru-host.ru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scont.ru/constructor-and-hosting - платный хостинг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ON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1gb.ru/ - сайт платный хостинг «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197000"/>
            <a:ext cx="8362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виг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формление 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блон страницы 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стин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хнология создания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68360" y="2833560"/>
            <a:ext cx="295128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зык разме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текс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Hyper Text Markup Languag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3635280" y="2833560"/>
            <a:ext cx="216216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ов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156360" y="2833560"/>
            <a:ext cx="2736720" cy="115272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з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дактор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труктор сай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6112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 размеча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ьны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ками – тег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3421080" y="4562640"/>
            <a:ext cx="259236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храняют ка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6227640" y="4562640"/>
            <a:ext cx="2737080" cy="1152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Microsoft Front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uCoz, Сайткрафт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 flipH="1">
            <a:off x="2700000" y="2112840"/>
            <a:ext cx="1871640" cy="64944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4716360" y="2112840"/>
            <a:ext cx="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4932360" y="2112840"/>
            <a:ext cx="1800360" cy="72072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1835280" y="398628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9"/>
          <p:cNvSpPr/>
          <p:nvPr/>
        </p:nvSpPr>
        <p:spPr>
          <a:xfrm>
            <a:off x="464328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7451640" y="398628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835280" y="1465200"/>
            <a:ext cx="5689440" cy="64764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ы создания сай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зд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4357800" y="1357200"/>
            <a:ext cx="4317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eb-дизайне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ист, проектирующий структуру Web-сайта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бирающий способы подачи информации и выполняющий художественное оформление Web-про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legonko.ru/wp-content/uploads/2010/08/web-design.jpg"/>
          <p:cNvPicPr/>
          <p:nvPr/>
        </p:nvPicPr>
        <p:blipFill>
          <a:blip r:embed="rId2"/>
          <a:stretch/>
        </p:blipFill>
        <p:spPr>
          <a:xfrm>
            <a:off x="571680" y="9288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928800" y="3714840"/>
            <a:ext cx="792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дим сайт школьного творческого объединения «Компьютерная график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4 правила, которые должен помнить web дизайнер"/>
          <p:cNvPicPr/>
          <p:nvPr/>
        </p:nvPicPr>
        <p:blipFill>
          <a:blip r:embed="rId3"/>
          <a:stretch/>
        </p:blipFill>
        <p:spPr>
          <a:xfrm>
            <a:off x="5286240" y="4162320"/>
            <a:ext cx="3191040" cy="26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держание и структура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39640" y="76500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держание 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лжно отражать творческую жизнь участников объединения, привлекать внимание единомышлен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539640" y="1700280"/>
            <a:ext cx="835344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лан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разбиение общего содержания на смысловые разделы и отдельные страницы с указанием связей между н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54144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ст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262908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ере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718160" y="3862440"/>
            <a:ext cx="180000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6805440" y="3862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сыл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1476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"/>
          <p:cNvSpPr/>
          <p:nvPr/>
        </p:nvSpPr>
        <p:spPr>
          <a:xfrm>
            <a:off x="1476360" y="544680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4"/>
          <p:cNvSpPr/>
          <p:nvPr/>
        </p:nvSpPr>
        <p:spPr>
          <a:xfrm>
            <a:off x="1476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н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5"/>
          <p:cNvSpPr/>
          <p:nvPr/>
        </p:nvSpPr>
        <p:spPr>
          <a:xfrm>
            <a:off x="5724360" y="4654440"/>
            <a:ext cx="1800360" cy="64764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5724360" y="5519880"/>
            <a:ext cx="1800360" cy="50148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7"/>
          <p:cNvSpPr/>
          <p:nvPr/>
        </p:nvSpPr>
        <p:spPr>
          <a:xfrm>
            <a:off x="5724360" y="6238800"/>
            <a:ext cx="1800360" cy="43200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1476360" y="3646440"/>
            <a:ext cx="612144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1476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0"/>
          <p:cNvSpPr/>
          <p:nvPr/>
        </p:nvSpPr>
        <p:spPr>
          <a:xfrm>
            <a:off x="349236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1"/>
          <p:cNvSpPr/>
          <p:nvPr/>
        </p:nvSpPr>
        <p:spPr>
          <a:xfrm>
            <a:off x="565308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2"/>
          <p:cNvSpPr/>
          <p:nvPr/>
        </p:nvSpPr>
        <p:spPr>
          <a:xfrm>
            <a:off x="7597800" y="3646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3"/>
          <p:cNvSpPr/>
          <p:nvPr/>
        </p:nvSpPr>
        <p:spPr>
          <a:xfrm>
            <a:off x="4573440" y="343044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3997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5"/>
          <p:cNvSpPr/>
          <p:nvPr/>
        </p:nvSpPr>
        <p:spPr>
          <a:xfrm>
            <a:off x="5005440" y="4510080"/>
            <a:ext cx="0" cy="201600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3276720" y="3141720"/>
            <a:ext cx="2520720" cy="358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6"/>
          <p:cNvSpPr/>
          <p:nvPr/>
        </p:nvSpPr>
        <p:spPr>
          <a:xfrm flipH="1">
            <a:off x="327672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7"/>
          <p:cNvSpPr/>
          <p:nvPr/>
        </p:nvSpPr>
        <p:spPr>
          <a:xfrm flipH="1">
            <a:off x="327672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8"/>
          <p:cNvSpPr/>
          <p:nvPr/>
        </p:nvSpPr>
        <p:spPr>
          <a:xfrm flipH="1">
            <a:off x="327672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9"/>
          <p:cNvSpPr/>
          <p:nvPr/>
        </p:nvSpPr>
        <p:spPr>
          <a:xfrm flipH="1">
            <a:off x="5005440" y="494172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0"/>
          <p:cNvSpPr/>
          <p:nvPr/>
        </p:nvSpPr>
        <p:spPr>
          <a:xfrm flipH="1">
            <a:off x="5005440" y="566244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1"/>
          <p:cNvSpPr/>
          <p:nvPr/>
        </p:nvSpPr>
        <p:spPr>
          <a:xfrm flipH="1">
            <a:off x="5005440" y="6526080"/>
            <a:ext cx="720720" cy="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2"/>
          <p:cNvSpPr/>
          <p:nvPr/>
        </p:nvSpPr>
        <p:spPr>
          <a:xfrm>
            <a:off x="1547640" y="2637000"/>
            <a:ext cx="59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ab4"/>
                </a:solidFill>
                <a:latin typeface="Arial"/>
              </a:rPr>
              <a:t>Иерархическая структура сай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9640" y="62064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главной странице размещают название сайта, тематическое графическое изображение, короткий текст с описанием содержания сайта, главное меню - ссылки на основные разделы сай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6408720" cy="4397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2050920" y="2143080"/>
            <a:ext cx="5786640" cy="4714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1403280" y="2133720"/>
            <a:ext cx="6962760" cy="45147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39640" y="620640"/>
            <a:ext cx="82090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ая страница сайта, как правило, имеет несколько постоянных элементов, которые всегда находятся на одних и тех же местах. Э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68360" y="1557360"/>
            <a:ext cx="820908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головок сайта, расположенный в самом верх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авное меню, как правило, размещаемое в левой ч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-1904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ниц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771640" y="3068640"/>
            <a:ext cx="5616720" cy="316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2987640" y="3213000"/>
            <a:ext cx="525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4714920" y="3284640"/>
            <a:ext cx="3384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4282920" y="3932280"/>
            <a:ext cx="396108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5435640" y="4005360"/>
            <a:ext cx="26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356000" y="501336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ле ввода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4859280" y="5877000"/>
            <a:ext cx="2879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2843280" y="407664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2843280" y="436392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2843280" y="465300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89856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898560" y="3789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н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898560" y="4581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755640" y="537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ордин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>
            <a:off x="2266920" y="3213000"/>
            <a:ext cx="1081080" cy="28728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"/>
          <p:cNvSpPr/>
          <p:nvPr/>
        </p:nvSpPr>
        <p:spPr>
          <a:xfrm>
            <a:off x="2411280" y="4005360"/>
            <a:ext cx="863640" cy="2156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5"/>
          <p:cNvSpPr/>
          <p:nvPr/>
        </p:nvSpPr>
        <p:spPr>
          <a:xfrm>
            <a:off x="2195640" y="4940280"/>
            <a:ext cx="1079280" cy="43344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2411280" y="5516640"/>
            <a:ext cx="2592360" cy="504720"/>
          </a:xfrm>
          <a:prstGeom prst="line">
            <a:avLst/>
          </a:prstGeom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2843280" y="4940280"/>
            <a:ext cx="1295280" cy="216000"/>
          </a:xfrm>
          <a:prstGeom prst="rect">
            <a:avLst/>
          </a:prstGeom>
          <a:solidFill>
            <a:srgbClr val="e1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2771640" y="646128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ный шаблон страниц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формле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2195640" y="1844640"/>
            <a:ext cx="662292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авьте точку в названиях сайта и страни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ни состоят из одного пред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2195640" y="2637000"/>
            <a:ext cx="662292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я пунктов меню делайте крат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2195640" y="3357720"/>
            <a:ext cx="6622920" cy="502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бирайте для страниц пёстрый ф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2195640" y="4005360"/>
            <a:ext cx="66229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размещайте на странице слишком 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ых и художественных бло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2195640" y="4941720"/>
            <a:ext cx="66229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ишите слишком длинных текс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2195640" y="5661000"/>
            <a:ext cx="6624360" cy="72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м абзаце использ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 и  те же приёмы форматир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1187280" y="2205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1187280" y="292428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>
            <a:off x="1187280" y="3573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>
            <a:off x="1187280" y="436572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1187280" y="522936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1187280" y="6093000"/>
            <a:ext cx="1008360" cy="0"/>
          </a:xfrm>
          <a:prstGeom prst="line">
            <a:avLst/>
          </a:prstGeom>
          <a:ln w="3816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0"/>
          <p:cNvSpPr/>
          <p:nvPr/>
        </p:nvSpPr>
        <p:spPr>
          <a:xfrm>
            <a:off x="900000" y="836640"/>
            <a:ext cx="7848720" cy="792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комендации при наполнении страниц сай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онными материал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>
            <a:off x="1187280" y="1628640"/>
            <a:ext cx="0" cy="4464360"/>
          </a:xfrm>
          <a:prstGeom prst="line">
            <a:avLst/>
          </a:prstGeom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стирование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765000"/>
            <a:ext cx="8424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естирование сайт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верка того, что сайт правильно отображается разными браузерам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ы хорошо читаются на выбранном фон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исунки расположены на своих местах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иперссылки обеспечивают правильные перех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стирование проводят перед размещением сайта в сети Интер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http://developerguru.net/wp-content/uploads/2010/08/browsers2.jpg"/>
          <p:cNvPicPr/>
          <p:nvPr/>
        </p:nvPicPr>
        <p:blipFill>
          <a:blip r:embed="rId2"/>
          <a:stretch/>
        </p:blipFill>
        <p:spPr>
          <a:xfrm>
            <a:off x="4643280" y="3786120"/>
            <a:ext cx="4000680" cy="2714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http://www.ligaprint.ru/resources/images/1%20test.jpg"/>
          <p:cNvPicPr/>
          <p:nvPr/>
        </p:nvPicPr>
        <p:blipFill>
          <a:blip r:embed="rId3"/>
          <a:stretch/>
        </p:blipFill>
        <p:spPr>
          <a:xfrm>
            <a:off x="928800" y="392904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14T16:52:27Z</dcterms:modified>
  <cp:revision>115</cp:revision>
  <dc:subject/>
  <dc:title>Презентация PowerPoint</dc:title>
</cp:coreProperties>
</file>