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C3C-5769-45E3-B0EF-E395961D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64F-1F08-40D9-B33D-55497A0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6A3-6E7D-46BA-B69A-3A111A55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91A-C215-48F3-8466-ECFCCF87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613-4E07-4776-BEC9-B2C5D21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12-B941-4648-8D83-A68EBB4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D6D-4DB1-4ED7-83FD-9359A895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FAB-F843-4CB1-ACDA-9788BA5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06F-63DA-40BD-8B2E-14BC694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134-FE6A-4476-8B4A-0AB2F4E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250-B347-46E2-BC25-0BC4381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294-533E-4BAB-AB27-8696833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4AC-FA3D-429B-9E71-81F648082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ЦЕНКА КОЛИЧЕСТВЕННЫХ ПАРАМЕТРОВ ТЕКСТОВЫХ ДОК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ьмиразрядный двоичный 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 объём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05264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 т.  д.,  которые компьютер различает по и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му код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2924280"/>
            <a:ext cx="272700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11640" y="3789360"/>
            <a:ext cx="460836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 – 3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яющие симв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211640" y="4437000"/>
            <a:ext cx="4608360" cy="109944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3 – 127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тинские буквы, знаки препинания, цифры, знаки арифметиче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211640" y="5661000"/>
            <a:ext cx="4608360" cy="7642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28 – 256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национа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419640" y="3429000"/>
            <a:ext cx="0" cy="26640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3419640" y="400536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3419640" y="4869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419640" y="6093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2928960" y="3643200"/>
            <a:ext cx="6072120" cy="200052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1928880" y="43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1600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рагмент кодовой таблиц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71720" y="1714680"/>
          <a:ext cx="7777080" cy="493704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296720"/>
                <a:gridCol w="1150920"/>
                <a:gridCol w="1441440"/>
                <a:gridCol w="12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310"/>
          <p:cNvSpPr/>
          <p:nvPr/>
        </p:nvSpPr>
        <p:spPr>
          <a:xfrm>
            <a:off x="1116000" y="10526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ы русских букв в разных кодиро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71720" y="1643040"/>
          <a:ext cx="7704000" cy="2773440"/>
        </p:xfrm>
        <a:graphic>
          <a:graphicData uri="http://schemas.openxmlformats.org/drawingml/2006/table">
            <a:tbl>
              <a:tblPr/>
              <a:tblGrid>
                <a:gridCol w="1369800"/>
                <a:gridCol w="1711440"/>
                <a:gridCol w="1541520"/>
                <a:gridCol w="1496880"/>
                <a:gridCol w="1584360"/>
              </a:tblGrid>
              <a:tr h="42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иров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И-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3" name="Text Box 348"/>
          <p:cNvSpPr/>
          <p:nvPr/>
        </p:nvSpPr>
        <p:spPr>
          <a:xfrm>
            <a:off x="1000080" y="4714920"/>
            <a:ext cx="78487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 кодирования символо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ет пользоваться более чем двумя язык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ждый символ кодируется шестнадцатиразрядным двоичным кодом. Такое количество разрядов позволяет закодировать 65 536 различных символов: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5 5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Информационный объём фрагмент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164360" y="141300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58920" y="1052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349360"/>
            <a:ext cx="784872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87280" y="4581360"/>
            <a:ext cx="77774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рагмента текста - это количество битов, байтов (килобайтов, мегабайтов), необходимых для записи фрагмента оговорённым способом код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16000" y="1268280"/>
            <a:ext cx="78487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Жан-Жака Русс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ысячи путей ведут к заблуждению, к истине - только од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тексте 57 символов (с учётом знаков препинания и пробелов). Каждый символ кодируется одним байтом. Следовательно, информационный объём всего текста -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116000" y="1341360"/>
            <a:ext cx="784872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каждый символ отводится два байта. Определите информационный объём слова из 24 символов в этой кодиров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24 х 2 = 48 (бай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8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95280" y="1341360"/>
            <a:ext cx="7848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8-битовом коде, в 16-битовую кодиров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этом информационное сообщение увеличилось на 2048  байтов. Каков был информационный объём сообщения до перекодир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й вес каждого символа в 16-битовой кодировке в два раза больше информационного веса символа в 8-битовой кодировке.  Поэтому при перекодировании исходного блока информации из 8-битовой кодировки в 16-битовую его информационный объём должен был увеличиться вдвое, другими словами, на величину, равную исходному информационному объёму. Следовательно, информационный объём сообщения до перекодировки составлял 2048 байтов = 2 К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К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116000" y="1341360"/>
            <a:ext cx="784872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 в мегабайтах объём текстовой информации в «Современном словаре иностранных слов» из 740 страниц, если на одной странице размещается в среднем 60 строк по 80 символов (включая пробелы). Считайте, что при записи использовал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11600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116000" y="3716280"/>
            <a:ext cx="23036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40 х 80 х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56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42920" y="515772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= 740 х 80 х 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416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= 3 552 000 байтов = = 3 468,75 Кбайт     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3348000" y="3716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1042920" y="4581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492360" y="3789360"/>
            <a:ext cx="14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7"/>
              <p:cNvSpPr txBox="1"/>
              <p:nvPr/>
            </p:nvSpPr>
            <p:spPr>
              <a:xfrm>
                <a:off x="3132000" y="587700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0" name="Text Box 10"/>
          <p:cNvSpPr/>
          <p:nvPr/>
        </p:nvSpPr>
        <p:spPr>
          <a:xfrm>
            <a:off x="1116000" y="3213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50920" y="907920"/>
            <a:ext cx="8713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т. д., которые человек различает по начертанию.  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 фрагмента текста - это количество битов, байтов (килобайтов, мегабайтов), необходимых для записи фрагмента оговорённым способом код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16000" y="205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дировки, в которых каждый символ кодируется цепочкой из восьми нулей и единиц, называются иначе однобай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2050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была введена кодиров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16000" y="2050920"/>
            <a:ext cx="784872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Алексея Толс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 ошибается тот, кто ничего не делает, хотя это и есть его основная ошиб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бит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8 битов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бай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16000" y="2060640"/>
            <a:ext cx="7848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6 битами, оцените информационный объем следующей фразы А. С. Пушкина в кодировке Uni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вычка свыше нам дана: Замена счастию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и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и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ай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116000" y="20509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овом режиме экран монитора компьютера обычно разбивается на 25 строк по 80 символов в строке. Определите объём текста, занимающего весь экран монитора, в кодиров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занимает 6 страниц по 40 строк, в каждой строке записано по 60 символов. Информационный объём всего сообщения равен 28 800 байтам. Сколько двоичных разрядов было использовано на кодирование одного симво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информационный объём которого равен 5 Кбайт, занимает 4 страницы по 32 строки, в каждой из которых записано по 40 символов. Сколько символов в алфавите языка, на котором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4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116000" y="177336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кодир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битами. Определите информационный объём сообщения в этой кодиров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лина данного текста 32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б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6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1116000" y="177336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кодировочной таблице можно закодировать 65 536 различных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2340000" y="3213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8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659640" y="328464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6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40360" y="472428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140000" y="2852640"/>
            <a:ext cx="122364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5292720" y="2852640"/>
            <a:ext cx="1366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987640" y="2205000"/>
            <a:ext cx="46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56000" y="4005360"/>
            <a:ext cx="1511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804000" y="400536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3276720" y="3645000"/>
            <a:ext cx="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>
            <a:off x="7667640" y="37162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2556000" y="5229360"/>
            <a:ext cx="5688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116000" y="400536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284720" y="4005360"/>
            <a:ext cx="1297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H="1">
            <a:off x="2268000" y="3645000"/>
            <a:ext cx="100836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3276720" y="3645000"/>
            <a:ext cx="107928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6 (стр. 174-1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2 - 213 (стр. 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54:34Z</dcterms:modified>
  <cp:revision>49</cp:revision>
  <dc:subject/>
  <dc:title>Презентация PowerPoint</dc:title>
</cp:coreProperties>
</file>