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3.png" ContentType="image/png"/>
  <Override PartName="/ppt/media/image50.png" ContentType="image/png"/>
  <Override PartName="/ppt/media/image40.jpeg" ContentType="image/jpeg"/>
  <Override PartName="/ppt/media/image42.jpeg" ContentType="image/jpeg"/>
  <Override PartName="/ppt/media/image33.png" ContentType="image/png"/>
  <Override PartName="/ppt/media/image45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46.gif" ContentType="image/gif"/>
  <Override PartName="/ppt/media/image39.png" ContentType="image/png"/>
  <Override PartName="/ppt/media/image4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6F5-90DA-4371-A53F-89C672532F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A85-089E-4D56-A86F-FB5E23911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0" y="-6321600"/>
            <a:ext cx="1440" cy="295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956-BFFA-4386-8655-5BCED67B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6ED-138A-4A20-88D1-9AC8F5E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AD9-9133-4AF1-9209-ABFA070B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141-8490-48F6-A056-5D7D09E3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E9D-C953-41D4-B963-93E18755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D8E-D5F6-436A-82D7-A66ACC9B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B91-564C-4EC9-B5CB-E0EE1778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17D-BAF5-480E-8866-32C07C30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152-6874-41FC-A17C-EC9644E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D83-EEDB-4E6E-B43F-FA6D967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81A-490A-4D88-B46C-6038E8C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A85-1638-4C0C-BDBC-4251C78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8896-24F7-401E-884D-273FD3672E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нообразие задач обработки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о заданным правил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утём рассу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работка плана действий и его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Создание движущихся изобра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о заданным правилам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одержимое 5"/>
          <p:cNvSpPr/>
          <p:nvPr/>
        </p:nvSpPr>
        <p:spPr>
          <a:xfrm>
            <a:off x="642960" y="1357200"/>
            <a:ext cx="8215200" cy="1571760"/>
          </a:xfrm>
          <a:prstGeom prst="rect">
            <a:avLst/>
          </a:prstGeom>
          <a:solidFill>
            <a:srgbClr val="b7dee8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преобразования входной информации в выходную может быть представлено в виде формулы или подробного плана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857240" y="342900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3357720"/>
            <a:ext cx="1357200" cy="1347480"/>
          </a:xfrm>
          <a:prstGeom prst="rect">
            <a:avLst/>
          </a:prstGeom>
          <a:ln w="0">
            <a:noFill/>
          </a:ln>
        </p:spPr>
      </p:pic>
      <p:sp>
        <p:nvSpPr>
          <p:cNvPr id="244" name="Багетная рамка 9"/>
          <p:cNvSpPr/>
          <p:nvPr/>
        </p:nvSpPr>
        <p:spPr>
          <a:xfrm>
            <a:off x="928800" y="57862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Группа 38"/>
          <p:cNvGrpSpPr/>
          <p:nvPr/>
        </p:nvGrpSpPr>
        <p:grpSpPr>
          <a:xfrm>
            <a:off x="4929120" y="3740040"/>
            <a:ext cx="4000680" cy="2842200"/>
            <a:chOff x="4929120" y="3740040"/>
            <a:chExt cx="4000680" cy="2842200"/>
          </a:xfrm>
        </p:grpSpPr>
        <p:grpSp>
          <p:nvGrpSpPr>
            <p:cNvPr id="246" name="Группа 33"/>
            <p:cNvGrpSpPr/>
            <p:nvPr/>
          </p:nvGrpSpPr>
          <p:grpSpPr>
            <a:xfrm>
              <a:off x="5429160" y="4324680"/>
              <a:ext cx="2929320" cy="1169640"/>
              <a:chOff x="5429160" y="4324680"/>
              <a:chExt cx="2929320" cy="1169640"/>
            </a:xfrm>
          </p:grpSpPr>
          <p:sp>
            <p:nvSpPr>
              <p:cNvPr id="247" name="Прямая соединительная линия 11"/>
              <p:cNvSpPr/>
              <p:nvPr/>
            </p:nvSpPr>
            <p:spPr>
              <a:xfrm>
                <a:off x="5429160" y="5492880"/>
                <a:ext cx="292932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Прямая соединительная линия 13"/>
              <p:cNvSpPr/>
              <p:nvPr/>
            </p:nvSpPr>
            <p:spPr>
              <a:xfrm flipV="1">
                <a:off x="5441760" y="4349880"/>
                <a:ext cx="2202120" cy="11397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Прямая соединительная линия 15"/>
              <p:cNvSpPr/>
              <p:nvPr/>
            </p:nvSpPr>
            <p:spPr>
              <a:xfrm>
                <a:off x="7646400" y="4324680"/>
                <a:ext cx="687240" cy="11649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0" name="TextBox 34"/>
            <p:cNvSpPr/>
            <p:nvPr/>
          </p:nvSpPr>
          <p:spPr>
            <a:xfrm>
              <a:off x="492912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5"/>
            <p:cNvSpPr/>
            <p:nvPr/>
          </p:nvSpPr>
          <p:spPr>
            <a:xfrm>
              <a:off x="842976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6"/>
            <p:cNvSpPr/>
            <p:nvPr/>
          </p:nvSpPr>
          <p:spPr>
            <a:xfrm>
              <a:off x="7429680" y="37400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7"/>
            <p:cNvSpPr/>
            <p:nvPr/>
          </p:nvSpPr>
          <p:spPr>
            <a:xfrm>
              <a:off x="6500880" y="553896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253f"/>
                  </a:solidFill>
                  <a:latin typeface="Arial"/>
                  <a:ea typeface="Arial"/>
                </a:rPr>
                <a:t>18 с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9"/>
            <p:cNvSpPr/>
            <p:nvPr/>
          </p:nvSpPr>
          <p:spPr>
            <a:xfrm>
              <a:off x="5000400" y="6000840"/>
              <a:ext cx="1214280" cy="58140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Р=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1857240" y="128592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25"/>
          <p:cNvSpPr/>
          <p:nvPr/>
        </p:nvSpPr>
        <p:spPr>
          <a:xfrm>
            <a:off x="5643720" y="2992320"/>
            <a:ext cx="2928960" cy="1800"/>
          </a:xfrm>
          <a:prstGeom prst="line">
            <a:avLst/>
          </a:prstGeom>
          <a:ln w="57240">
            <a:solidFill>
              <a:srgbClr val="4a7ebb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26"/>
          <p:cNvSpPr/>
          <p:nvPr/>
        </p:nvSpPr>
        <p:spPr>
          <a:xfrm flipV="1">
            <a:off x="5656320" y="1848960"/>
            <a:ext cx="2201760" cy="1140120"/>
          </a:xfrm>
          <a:prstGeom prst="line">
            <a:avLst/>
          </a:prstGeom>
          <a:ln w="57240">
            <a:solidFill>
              <a:srgbClr val="4a7eb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7860600" y="1824120"/>
            <a:ext cx="687240" cy="1165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14368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1"/>
          <p:cNvSpPr/>
          <p:nvPr/>
        </p:nvSpPr>
        <p:spPr>
          <a:xfrm>
            <a:off x="864396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2"/>
          <p:cNvSpPr/>
          <p:nvPr/>
        </p:nvSpPr>
        <p:spPr>
          <a:xfrm>
            <a:off x="7643880" y="1239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6715080" y="30384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8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1000080" y="3357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Решение 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1000080" y="38577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Р = АВ + ВС + 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1000080" y="428616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) ВС = АВ – 3 = 18 – 3 = 15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1"/>
          <p:cNvSpPr/>
          <p:nvPr/>
        </p:nvSpPr>
        <p:spPr>
          <a:xfrm>
            <a:off x="1000080" y="4786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2) АС = АВ : 3 = 18 : 3 = 6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100008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3) Р = 18 + 15 + 6 = 39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1000080" y="5929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Ответ: </a:t>
            </a:r>
            <a:r>
              <a:rPr b="0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периметр равен 39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одержимое 5"/>
          <p:cNvSpPr/>
          <p:nvPr/>
        </p:nvSpPr>
        <p:spPr>
          <a:xfrm>
            <a:off x="5715000" y="3571920"/>
            <a:ext cx="3357720" cy="271476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ывод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результате преобразования исходных данных по известным нам правилам мы получили новую информацию о том, чему равен периметр треуг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35"/>
          <p:cNvSpPr/>
          <p:nvPr/>
        </p:nvSpPr>
        <p:spPr>
          <a:xfrm>
            <a:off x="8264520" y="201780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36"/>
          <p:cNvSpPr/>
          <p:nvPr/>
        </p:nvSpPr>
        <p:spPr>
          <a:xfrm>
            <a:off x="6429240" y="18572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37"/>
          <p:cNvSpPr/>
          <p:nvPr/>
        </p:nvSpPr>
        <p:spPr>
          <a:xfrm>
            <a:off x="2333520" y="38466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39"/>
          <p:cNvSpPr/>
          <p:nvPr/>
        </p:nvSpPr>
        <p:spPr>
          <a:xfrm>
            <a:off x="3500280" y="2000160"/>
            <a:ext cx="271476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ая соединительная линия 40"/>
          <p:cNvSpPr/>
          <p:nvPr/>
        </p:nvSpPr>
        <p:spPr>
          <a:xfrm>
            <a:off x="1928880" y="2357280"/>
            <a:ext cx="50004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43"/>
          <p:cNvSpPr/>
          <p:nvPr/>
        </p:nvSpPr>
        <p:spPr>
          <a:xfrm>
            <a:off x="2476440" y="161928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44"/>
          <p:cNvSpPr/>
          <p:nvPr/>
        </p:nvSpPr>
        <p:spPr>
          <a:xfrm>
            <a:off x="2500200" y="2357280"/>
            <a:ext cx="335772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46"/>
          <p:cNvSpPr/>
          <p:nvPr/>
        </p:nvSpPr>
        <p:spPr>
          <a:xfrm>
            <a:off x="4595760" y="42498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47"/>
          <p:cNvSpPr/>
          <p:nvPr/>
        </p:nvSpPr>
        <p:spPr>
          <a:xfrm>
            <a:off x="4309920" y="474984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Овал 48"/>
          <p:cNvSpPr/>
          <p:nvPr/>
        </p:nvSpPr>
        <p:spPr>
          <a:xfrm>
            <a:off x="3071880" y="385776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Управляющая кнопка: домой 4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0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гнутая вниз стрелка 14"/>
          <p:cNvSpPr/>
          <p:nvPr/>
        </p:nvSpPr>
        <p:spPr>
          <a:xfrm flipH="1" rot="13575600">
            <a:off x="6879960" y="3335040"/>
            <a:ext cx="1109520" cy="480960"/>
          </a:xfrm>
          <a:custGeom>
            <a:avLst/>
            <a:gdLst>
              <a:gd name="textAreaLeft" fmla="*/ 232560 w 1109520"/>
              <a:gd name="textAreaRight" fmla="*/ 81756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Выгнутая вниз стрелка 13"/>
          <p:cNvSpPr/>
          <p:nvPr/>
        </p:nvSpPr>
        <p:spPr>
          <a:xfrm rot="18529800">
            <a:off x="4766400" y="4129920"/>
            <a:ext cx="1109520" cy="4791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-3501384"/>
                <a:lnTo>
                  <a:pt x="21313" y="5400"/>
                </a:lnTo>
                <a:lnTo>
                  <a:pt x="19267" y="0"/>
                </a:lnTo>
                <a:lnTo>
                  <a:pt x="16647" y="5400"/>
                </a:lnTo>
                <a:lnTo>
                  <a:pt x="17813" y="5400"/>
                </a:lnTo>
                <a:arcTo wR="9050" hR="21600" stAng="1898616" swAng="3314271"/>
                <a:lnTo>
                  <a:pt x="10217" y="21420"/>
                </a:lnTo>
                <a:arcTo wR="9050" hR="21600" stAng="5587113" swAng="5212887"/>
                <a:close/>
              </a:path>
              <a:path fill="darkenLess"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187113"/>
                <a:lnTo>
                  <a:pt x="10217" y="21420"/>
                </a:lnTo>
                <a:arcTo wR="9050" hR="21600" stAng="5587113" swAng="52128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Выгнутая вниз стрелка 12"/>
          <p:cNvSpPr/>
          <p:nvPr/>
        </p:nvSpPr>
        <p:spPr>
          <a:xfrm rot="3397800">
            <a:off x="1123560" y="3951360"/>
            <a:ext cx="1109520" cy="4809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ё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071720" y="1357200"/>
            <a:ext cx="76435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Решение задач, то есть преобразование входной информации в выходную, может проходить путём логических рассуждений. Для этог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Скругленный прямоугольник 6"/>
          <p:cNvSpPr/>
          <p:nvPr/>
        </p:nvSpPr>
        <p:spPr>
          <a:xfrm>
            <a:off x="642960" y="2786040"/>
            <a:ext cx="17859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ализируем исходную информац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Скругленный прямоугольник 8"/>
          <p:cNvSpPr/>
          <p:nvPr/>
        </p:nvSpPr>
        <p:spPr>
          <a:xfrm>
            <a:off x="2214720" y="4143240"/>
            <a:ext cx="271440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деляем значимые объекты, устанавливаем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9"/>
          <p:cNvSpPr/>
          <p:nvPr/>
        </p:nvSpPr>
        <p:spPr>
          <a:xfrm>
            <a:off x="4714920" y="2786040"/>
            <a:ext cx="235728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матрива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личные варианты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10"/>
          <p:cNvSpPr/>
          <p:nvPr/>
        </p:nvSpPr>
        <p:spPr>
          <a:xfrm>
            <a:off x="6786720" y="4143240"/>
            <a:ext cx="214308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дим вы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1"/>
          <p:cNvSpPr/>
          <p:nvPr/>
        </p:nvSpPr>
        <p:spPr>
          <a:xfrm>
            <a:off x="1143000" y="5742000"/>
            <a:ext cx="785808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При таком подходе к решению задачи используются знания человека и его жизненн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17"/>
          <p:cNvSpPr/>
          <p:nvPr/>
        </p:nvSpPr>
        <p:spPr>
          <a:xfrm>
            <a:off x="228600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18"/>
          <p:cNvSpPr/>
          <p:nvPr/>
        </p:nvSpPr>
        <p:spPr>
          <a:xfrm>
            <a:off x="1714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19"/>
          <p:cNvSpPr/>
          <p:nvPr/>
        </p:nvSpPr>
        <p:spPr>
          <a:xfrm>
            <a:off x="421488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20"/>
          <p:cNvSpPr/>
          <p:nvPr/>
        </p:nvSpPr>
        <p:spPr>
          <a:xfrm>
            <a:off x="6286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Скругленный прямоугольник 3"/>
          <p:cNvGrpSpPr/>
          <p:nvPr/>
        </p:nvGrpSpPr>
        <p:grpSpPr>
          <a:xfrm>
            <a:off x="3382920" y="4425840"/>
            <a:ext cx="3030480" cy="1646280"/>
            <a:chOff x="3382920" y="4425840"/>
            <a:chExt cx="3030480" cy="1646280"/>
          </a:xfrm>
        </p:grpSpPr>
        <p:pic>
          <p:nvPicPr>
            <p:cNvPr id="29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82920" y="4425840"/>
              <a:ext cx="3030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517920" y="4537080"/>
              <a:ext cx="27655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Логически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рассужден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Стрелка вправо 5"/>
          <p:cNvGrpSpPr/>
          <p:nvPr/>
        </p:nvGrpSpPr>
        <p:grpSpPr>
          <a:xfrm>
            <a:off x="6370560" y="4565520"/>
            <a:ext cx="2541600" cy="1328760"/>
            <a:chOff x="6370560" y="4565520"/>
            <a:chExt cx="2541600" cy="1328760"/>
          </a:xfrm>
        </p:grpSpPr>
        <p:pic>
          <p:nvPicPr>
            <p:cNvPr id="301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6370560" y="4565520"/>
              <a:ext cx="25416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9240" y="4792680"/>
              <a:ext cx="20084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ы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е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Стрелка вправо 4"/>
          <p:cNvGrpSpPr/>
          <p:nvPr/>
        </p:nvGrpSpPr>
        <p:grpSpPr>
          <a:xfrm>
            <a:off x="865080" y="4565520"/>
            <a:ext cx="2548080" cy="1328760"/>
            <a:chOff x="865080" y="4565520"/>
            <a:chExt cx="2548080" cy="1328760"/>
          </a:xfrm>
        </p:grpSpPr>
        <p:pic>
          <p:nvPicPr>
            <p:cNvPr id="305" name="Стрелка вправо 4" descr=""/>
            <p:cNvPicPr/>
            <p:nvPr/>
          </p:nvPicPr>
          <p:blipFill>
            <a:blip r:embed="rId3"/>
            <a:stretch/>
          </p:blipFill>
          <p:spPr>
            <a:xfrm>
              <a:off x="865080" y="4565520"/>
              <a:ext cx="254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928800" y="4792680"/>
              <a:ext cx="20080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Содержимое 5"/>
          <p:cNvSpPr/>
          <p:nvPr/>
        </p:nvSpPr>
        <p:spPr>
          <a:xfrm>
            <a:off x="1571760" y="1643040"/>
            <a:ext cx="7286400" cy="15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реобразование информации путём рассуждени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пособ обработки информации, ведущий к получению нового содержания,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7"/>
          <p:cNvSpPr/>
          <p:nvPr/>
        </p:nvSpPr>
        <p:spPr>
          <a:xfrm>
            <a:off x="500040" y="19000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928800" y="3500280"/>
            <a:ext cx="79293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Схема преобраз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856880" y="1285920"/>
            <a:ext cx="6944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зле школы растут шесть деревьев: СОСНА, БЕРЁЗА, ЛИПА, ТОПОЛЬ, ЕЛЬ и КЛЁН. Какое из этих деревьев самое высокое и какое самое низкое, если извест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2214720" y="3214800"/>
            <a:ext cx="400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РЁЗА НИЖЕ ТОПОЛ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15"/>
          <p:cNvSpPr/>
          <p:nvPr/>
        </p:nvSpPr>
        <p:spPr>
          <a:xfrm>
            <a:off x="2214720" y="3786120"/>
            <a:ext cx="3286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ВЫШЕ КЛЁ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6"/>
          <p:cNvSpPr/>
          <p:nvPr/>
        </p:nvSpPr>
        <p:spPr>
          <a:xfrm>
            <a:off x="2214720" y="4357800"/>
            <a:ext cx="3000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НИЖЕ 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17"/>
          <p:cNvSpPr/>
          <p:nvPr/>
        </p:nvSpPr>
        <p:spPr>
          <a:xfrm>
            <a:off x="2214720" y="489600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НИЖЕ БЕРЁЗ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8"/>
          <p:cNvSpPr/>
          <p:nvPr/>
        </p:nvSpPr>
        <p:spPr>
          <a:xfrm>
            <a:off x="2214720" y="5467320"/>
            <a:ext cx="407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ВЫШЕ ТОПО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9"/>
          <p:cNvSpPr/>
          <p:nvPr/>
        </p:nvSpPr>
        <p:spPr>
          <a:xfrm>
            <a:off x="6286680" y="3214800"/>
            <a:ext cx="1071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2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21"/>
          <p:cNvSpPr/>
          <p:nvPr/>
        </p:nvSpPr>
        <p:spPr>
          <a:xfrm>
            <a:off x="6286680" y="43578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22"/>
          <p:cNvSpPr/>
          <p:nvPr/>
        </p:nvSpPr>
        <p:spPr>
          <a:xfrm>
            <a:off x="6286680" y="48960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3"/>
          <p:cNvSpPr/>
          <p:nvPr/>
        </p:nvSpPr>
        <p:spPr>
          <a:xfrm>
            <a:off x="6286680" y="5429160"/>
            <a:ext cx="92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3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 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1"/>
          <p:cNvSpPr/>
          <p:nvPr/>
        </p:nvSpPr>
        <p:spPr>
          <a:xfrm>
            <a:off x="6286680" y="542916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2500200" y="4857840"/>
            <a:ext cx="4786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K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326" name="Багетная рамка 27"/>
          <p:cNvSpPr/>
          <p:nvPr/>
        </p:nvSpPr>
        <p:spPr>
          <a:xfrm>
            <a:off x="278604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2" descr="http://img-fotki.yandex.ru/get/4419/89635038.6e9/0_74bc7_b951c12_L"/>
          <p:cNvPicPr/>
          <p:nvPr/>
        </p:nvPicPr>
        <p:blipFill>
          <a:blip r:embed="rId2"/>
          <a:stretch/>
        </p:blipFill>
        <p:spPr>
          <a:xfrm>
            <a:off x="7186680" y="44719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http://img-fotki.yandex.ru/get/5311/119528728.d9d/0_a50d8_7d6c8fbd_XL"/>
          <p:cNvPicPr/>
          <p:nvPr/>
        </p:nvPicPr>
        <p:blipFill>
          <a:blip r:embed="rId3"/>
          <a:stretch/>
        </p:blipFill>
        <p:spPr>
          <a:xfrm flipH="1" rot="1017000">
            <a:off x="135000" y="4800600"/>
            <a:ext cx="254016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50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782 0.01042 L -0.06163 -0.17338 E">
                                      <p:cBhvr>
                                        <p:cTn id="33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591 0.01017 L 0.0585 -0.25133 E">
                                      <p:cBhvr>
                                        <p:cTn id="33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4.81481E-006 L -0.12466 0.05139 E">
                                      <p:cBhvr>
                                        <p:cTn id="33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1.85185E-006 L 0.11945 -0.03195 E">
                                      <p:cBhvr>
                                        <p:cTn id="33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чи на рассу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Группа 19"/>
          <p:cNvGrpSpPr/>
          <p:nvPr/>
        </p:nvGrpSpPr>
        <p:grpSpPr>
          <a:xfrm>
            <a:off x="1000080" y="3214800"/>
            <a:ext cx="8072640" cy="2279520"/>
            <a:chOff x="1000080" y="3214800"/>
            <a:chExt cx="8072640" cy="2279520"/>
          </a:xfrm>
        </p:grpSpPr>
        <p:pic>
          <p:nvPicPr>
            <p:cNvPr id="331" name="Picture 8" descr="http://ic.pics.livejournal.com/alex_krivtsov/39010648/626/original.jpg"/>
            <p:cNvPicPr/>
            <p:nvPr/>
          </p:nvPicPr>
          <p:blipFill>
            <a:blip r:embed="rId1"/>
            <a:stretch/>
          </p:blipFill>
          <p:spPr>
            <a:xfrm>
              <a:off x="5615640" y="3780000"/>
              <a:ext cx="10281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0" descr="http://www.profitpro.ru/images/73493.jpg"/>
            <p:cNvPicPr/>
            <p:nvPr/>
          </p:nvPicPr>
          <p:blipFill>
            <a:blip r:embed="rId2"/>
            <a:stretch/>
          </p:blipFill>
          <p:spPr>
            <a:xfrm>
              <a:off x="1000080" y="3385080"/>
              <a:ext cx="140256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http://www.complexbar.ru/img/catalog/3140417.gif"/>
            <p:cNvPicPr/>
            <p:nvPr/>
          </p:nvPicPr>
          <p:blipFill>
            <a:blip r:embed="rId3"/>
            <a:stretch/>
          </p:blipFill>
          <p:spPr>
            <a:xfrm>
              <a:off x="4179960" y="3922920"/>
              <a:ext cx="132048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4" descr="http://s07.radikal.ru/i180/1107/32/d8aa339d221a.jpg"/>
            <p:cNvPicPr/>
            <p:nvPr/>
          </p:nvPicPr>
          <p:blipFill>
            <a:blip r:embed="rId4"/>
            <a:stretch/>
          </p:blipFill>
          <p:spPr>
            <a:xfrm>
              <a:off x="6042600" y="3214800"/>
              <a:ext cx="303012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2" descr="http://www.100suvenirov.ru/data/Image/c_objects/16089_b.jpg?1358120590"/>
            <p:cNvPicPr/>
            <p:nvPr/>
          </p:nvPicPr>
          <p:blipFill>
            <a:blip r:embed="rId5"/>
            <a:stretch/>
          </p:blipFill>
          <p:spPr>
            <a:xfrm>
              <a:off x="2643120" y="3922920"/>
              <a:ext cx="136620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TextBox 11"/>
          <p:cNvSpPr/>
          <p:nvPr/>
        </p:nvSpPr>
        <p:spPr>
          <a:xfrm>
            <a:off x="642960" y="1000080"/>
            <a:ext cx="8215200" cy="2228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ример: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На столе поставлены в ряд бутылка минеральной воды, кружка, чашка, стакан и кувшин, причем точно в таком порядке, в каком они перечислены. 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 Определите, в какую посуду что нали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4"/>
          <p:cNvSpPr/>
          <p:nvPr/>
        </p:nvSpPr>
        <p:spPr>
          <a:xfrm>
            <a:off x="793800" y="5313240"/>
            <a:ext cx="1849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alibri"/>
              </a:rPr>
              <a:t>МИНЕРАЛЬНАЯ ВО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2876400" y="504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6"/>
          <p:cNvSpPr/>
          <p:nvPr/>
        </p:nvSpPr>
        <p:spPr>
          <a:xfrm>
            <a:off x="4147200" y="4892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7"/>
          <p:cNvSpPr/>
          <p:nvPr/>
        </p:nvSpPr>
        <p:spPr>
          <a:xfrm>
            <a:off x="5757120" y="5060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КО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8"/>
          <p:cNvSpPr/>
          <p:nvPr/>
        </p:nvSpPr>
        <p:spPr>
          <a:xfrm>
            <a:off x="7139880" y="53244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В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Багетная рамка 17"/>
          <p:cNvSpPr/>
          <p:nvPr/>
        </p:nvSpPr>
        <p:spPr>
          <a:xfrm>
            <a:off x="928800" y="6072120"/>
            <a:ext cx="185724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642960" y="5929200"/>
            <a:ext cx="821520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зентация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Задача о напитках»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 электронного прило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учебнику даёт наглядную информацию о решении дан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Управляющая кнопка: домой 2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работка плана действий и его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43000" y="1500120"/>
            <a:ext cx="77868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Во многих информационных задачах требуется разработать план действий, обеспечивающих нужный результа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1714680" y="2857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Как набрать ровно 7 литров во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я в наличии два вед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– трёхлитровое, второе – пятилитров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278604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17"/>
          <p:cNvGrpSpPr/>
          <p:nvPr/>
        </p:nvGrpSpPr>
        <p:grpSpPr>
          <a:xfrm>
            <a:off x="571680" y="4413240"/>
            <a:ext cx="3225600" cy="1944720"/>
            <a:chOff x="571680" y="4413240"/>
            <a:chExt cx="3225600" cy="1944720"/>
          </a:xfrm>
        </p:grpSpPr>
        <p:pic>
          <p:nvPicPr>
            <p:cNvPr id="350" name="Picture 4" descr="ведро"/>
            <p:cNvPicPr/>
            <p:nvPr/>
          </p:nvPicPr>
          <p:blipFill>
            <a:blip r:embed="rId2"/>
            <a:stretch/>
          </p:blipFill>
          <p:spPr>
            <a:xfrm>
              <a:off x="571680" y="4841640"/>
              <a:ext cx="1314360" cy="13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6"/>
            <p:cNvGrpSpPr/>
            <p:nvPr/>
          </p:nvGrpSpPr>
          <p:grpSpPr>
            <a:xfrm>
              <a:off x="852480" y="4413240"/>
              <a:ext cx="2944800" cy="1944720"/>
              <a:chOff x="852480" y="4413240"/>
              <a:chExt cx="2944800" cy="1944720"/>
            </a:xfrm>
          </p:grpSpPr>
          <p:pic>
            <p:nvPicPr>
              <p:cNvPr id="352" name="Picture 7" descr="ведро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4413240"/>
                <a:ext cx="1868760" cy="19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8"/>
              <p:cNvSpPr/>
              <p:nvPr/>
            </p:nvSpPr>
            <p:spPr>
              <a:xfrm>
                <a:off x="2495520" y="549432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Rectangle 8"/>
              <p:cNvSpPr/>
              <p:nvPr/>
            </p:nvSpPr>
            <p:spPr>
              <a:xfrm>
                <a:off x="857160" y="5556240"/>
                <a:ext cx="718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8"/>
              <p:cNvSpPr/>
              <p:nvPr/>
            </p:nvSpPr>
            <p:spPr>
              <a:xfrm>
                <a:off x="852480" y="548460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3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56" name="Схема 16" descr=""/>
          <p:cNvPicPr/>
          <p:nvPr/>
        </p:nvPicPr>
        <p:blipFill>
          <a:blip r:embed="rId4"/>
          <a:stretch/>
        </p:blipFill>
        <p:spPr>
          <a:xfrm>
            <a:off x="4065480" y="4194000"/>
            <a:ext cx="448812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7"/>
          <p:cNvSpPr/>
          <p:nvPr/>
        </p:nvSpPr>
        <p:spPr>
          <a:xfrm>
            <a:off x="1071720" y="1571760"/>
            <a:ext cx="75722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0 литров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воду из пятилитрового ведра в трёхлитровое (3 литра в первом и 2 литра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Вылить волу из трёхлитрового ведра (0 литров в первом и 2 литра во втором ведр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из пятилитрового ведра в трёхлитровое оставшуюся воду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(2 литра в первом ведре и 0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2 литра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ловес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Группа 22"/>
          <p:cNvGrpSpPr/>
          <p:nvPr/>
        </p:nvGrpSpPr>
        <p:grpSpPr>
          <a:xfrm>
            <a:off x="3571920" y="5311800"/>
            <a:ext cx="3928680" cy="1358640"/>
            <a:chOff x="3571920" y="5311800"/>
            <a:chExt cx="3928680" cy="1358640"/>
          </a:xfrm>
        </p:grpSpPr>
        <p:pic>
          <p:nvPicPr>
            <p:cNvPr id="360" name="Picture 4" descr="ведро"/>
            <p:cNvPicPr/>
            <p:nvPr/>
          </p:nvPicPr>
          <p:blipFill>
            <a:blip r:embed="rId1"/>
            <a:stretch/>
          </p:blipFill>
          <p:spPr>
            <a:xfrm>
              <a:off x="3571920" y="5610600"/>
              <a:ext cx="989640" cy="95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Group 6"/>
            <p:cNvGrpSpPr/>
            <p:nvPr/>
          </p:nvGrpSpPr>
          <p:grpSpPr>
            <a:xfrm>
              <a:off x="3783240" y="5311800"/>
              <a:ext cx="3717360" cy="1358640"/>
              <a:chOff x="3783240" y="5311800"/>
              <a:chExt cx="3717360" cy="1358640"/>
            </a:xfrm>
          </p:grpSpPr>
          <p:pic>
            <p:nvPicPr>
              <p:cNvPr id="362" name="Picture 7" descr="ведро"/>
              <p:cNvPicPr/>
              <p:nvPr/>
            </p:nvPicPr>
            <p:blipFill>
              <a:blip r:embed="rId2"/>
              <a:stretch/>
            </p:blipFill>
            <p:spPr>
              <a:xfrm>
                <a:off x="4593240" y="5311800"/>
                <a:ext cx="1407240" cy="13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Rectangle 8"/>
              <p:cNvSpPr/>
              <p:nvPr/>
            </p:nvSpPr>
            <p:spPr>
              <a:xfrm>
                <a:off x="5020200" y="606600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Rectangle 8"/>
              <p:cNvSpPr/>
              <p:nvPr/>
            </p:nvSpPr>
            <p:spPr>
              <a:xfrm>
                <a:off x="3786480" y="6109200"/>
                <a:ext cx="5410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3783240" y="605916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2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8"/>
              <p:cNvSpPr/>
              <p:nvPr/>
            </p:nvSpPr>
            <p:spPr>
              <a:xfrm>
                <a:off x="4356720" y="5883120"/>
                <a:ext cx="6490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8"/>
              <p:cNvSpPr/>
              <p:nvPr/>
            </p:nvSpPr>
            <p:spPr>
              <a:xfrm>
                <a:off x="5856840" y="5883120"/>
                <a:ext cx="357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1" lang="ru-RU" sz="4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Rectangle 8"/>
              <p:cNvSpPr/>
              <p:nvPr/>
            </p:nvSpPr>
            <p:spPr>
              <a:xfrm>
                <a:off x="6285960" y="6053760"/>
                <a:ext cx="121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7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143000" y="1643040"/>
          <a:ext cx="7715160" cy="4272120"/>
        </p:xfrm>
        <a:graphic>
          <a:graphicData uri="http://schemas.openxmlformats.org/drawingml/2006/table">
            <a:tbl>
              <a:tblPr/>
              <a:tblGrid>
                <a:gridCol w="1544760"/>
                <a:gridCol w="3084480"/>
                <a:gridCol w="3085920"/>
              </a:tblGrid>
              <a:tr h="49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ё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 (3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 (5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33"/>
          <p:cNvSpPr/>
          <p:nvPr/>
        </p:nvSpPr>
        <p:spPr>
          <a:xfrm>
            <a:off x="6278760" y="2708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34"/>
          <p:cNvSpPr/>
          <p:nvPr/>
        </p:nvSpPr>
        <p:spPr>
          <a:xfrm>
            <a:off x="3714840" y="271476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35"/>
          <p:cNvSpPr/>
          <p:nvPr/>
        </p:nvSpPr>
        <p:spPr>
          <a:xfrm>
            <a:off x="3009960" y="3357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3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6291000" y="335772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5 – 3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37"/>
          <p:cNvSpPr/>
          <p:nvPr/>
        </p:nvSpPr>
        <p:spPr>
          <a:xfrm>
            <a:off x="6278760" y="5373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8"/>
          <p:cNvSpPr/>
          <p:nvPr/>
        </p:nvSpPr>
        <p:spPr>
          <a:xfrm>
            <a:off x="6291000" y="47242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 – 2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9"/>
          <p:cNvSpPr/>
          <p:nvPr/>
        </p:nvSpPr>
        <p:spPr>
          <a:xfrm>
            <a:off x="3009960" y="4724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2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3009600" y="40053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3 – 3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6932520" y="4000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таблич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4" descr="http://www.art-saloon.ru/big/item_3476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2959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83" name="Picture 28" descr="http://img0.liveinternet.ru/images/attach/c/4/84/378/84378306_855751386.gif"/>
          <p:cNvPicPr/>
          <p:nvPr/>
        </p:nvPicPr>
        <p:blipFill>
          <a:blip r:embed="rId2"/>
          <a:stretch/>
        </p:blipFill>
        <p:spPr>
          <a:xfrm>
            <a:off x="5715000" y="3571920"/>
            <a:ext cx="2911320" cy="26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84" name="Группа 19"/>
          <p:cNvGrpSpPr/>
          <p:nvPr/>
        </p:nvGrpSpPr>
        <p:grpSpPr>
          <a:xfrm>
            <a:off x="5000760" y="1285920"/>
            <a:ext cx="3929040" cy="2214360"/>
            <a:chOff x="5000760" y="1285920"/>
            <a:chExt cx="3929040" cy="2214360"/>
          </a:xfrm>
        </p:grpSpPr>
        <p:pic>
          <p:nvPicPr>
            <p:cNvPr id="385" name="Picture 11" descr="D:\DOCUMENTS\Ольга\Мастер и Маргарита картинки\плёнка\gallery_23465_2365_14555.jpg"/>
            <p:cNvPicPr/>
            <p:nvPr/>
          </p:nvPicPr>
          <p:blipFill>
            <a:blip r:embed="rId3"/>
            <a:stretch/>
          </p:blipFill>
          <p:spPr>
            <a:xfrm>
              <a:off x="5000760" y="1285920"/>
              <a:ext cx="392904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4" descr="http://alain.granier2.free.fr/sciences/images/oie02.gif"/>
            <p:cNvPicPr/>
            <p:nvPr/>
          </p:nvPicPr>
          <p:blipFill>
            <a:blip r:embed="rId4"/>
            <a:stretch/>
          </p:blipFill>
          <p:spPr>
            <a:xfrm>
              <a:off x="5665680" y="1366920"/>
              <a:ext cx="2613600" cy="20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12" descr="http://dlm5.meta.ua/pic/0/72/40/JaOs_yVn__.gif"/>
          <p:cNvPicPr/>
          <p:nvPr/>
        </p:nvPicPr>
        <p:blipFill>
          <a:blip r:embed="rId5"/>
          <a:stretch/>
        </p:blipFill>
        <p:spPr>
          <a:xfrm>
            <a:off x="714240" y="785880"/>
            <a:ext cx="3765600" cy="25718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0"/>
          <p:cNvSpPr/>
          <p:nvPr/>
        </p:nvSpPr>
        <p:spPr>
          <a:xfrm>
            <a:off x="1214280" y="5699160"/>
            <a:ext cx="7643880" cy="1008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аше время для создания мультфильмов существуют специальные программы, которые существенно облегчают работу художникам -мультипликато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Типы обработки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формы представления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информации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 заданным правила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8" descr="http://moole.ru/uploads/posts/2011-08/1313127170_164f73f2978c.jpg"/>
          <p:cNvPicPr/>
          <p:nvPr/>
        </p:nvPicPr>
        <p:blipFill>
          <a:blip r:embed="rId1"/>
          <a:stretch/>
        </p:blipFill>
        <p:spPr>
          <a:xfrm>
            <a:off x="1014480" y="1500120"/>
            <a:ext cx="4919760" cy="30718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014480" y="4819680"/>
            <a:ext cx="4929120" cy="13136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мультфильма продолжительностью 1 минута необходимо создать около 1500 изоб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6229440" y="1500120"/>
            <a:ext cx="2714400" cy="2533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ан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10-минутного мультфильма художнику требовалось около года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6286680" y="4214880"/>
            <a:ext cx="2714400" cy="19234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В наше врем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удожник способен закончить 10-минутный фильм за 1-2 не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16"/>
          <p:cNvSpPr/>
          <p:nvPr/>
        </p:nvSpPr>
        <p:spPr>
          <a:xfrm>
            <a:off x="714240" y="4500720"/>
            <a:ext cx="785880" cy="7855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50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98" name="Содержимое 2"/>
          <p:cNvSpPr/>
          <p:nvPr/>
        </p:nvSpPr>
        <p:spPr>
          <a:xfrm>
            <a:off x="914400" y="1285920"/>
            <a:ext cx="8229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— это решение информационной задачи, или процесс перехода от исходных данных к результ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бывает двух тип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) обработка, связанная с получением нового содержания, новой информ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) обработка, связанная с изменением формы представления информации, но не изменяющая её содерж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8"/>
          <p:cNvSpPr/>
          <p:nvPr/>
        </p:nvSpPr>
        <p:spPr>
          <a:xfrm>
            <a:off x="928800" y="928800"/>
            <a:ext cx="80722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ботка информации, связанная с изменением её формы, но не изменяющая содержания, происходит при систематизации информации, поиске информации, код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решении математических или логических задач осуществляется обработка информации, ведущая к получению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многих информационных задачах требуется разгадать правило преобразования входных данных в выходные, разработать план действи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вающий нужный результ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 может быть записан по пункта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виде таблицы или сх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214960" y="2000160"/>
            <a:ext cx="285732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000080" y="27147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Задача о напитка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12"/>
          <p:cNvSpPr/>
          <p:nvPr/>
        </p:nvSpPr>
        <p:spPr>
          <a:xfrm>
            <a:off x="1000080" y="464328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Логическая игра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ереливаш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5214960" y="4356000"/>
            <a:ext cx="2857320" cy="20732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71360" y="928800"/>
            <a:ext cx="7615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В первом столбце таблицы перечислены объекты, сгруппированные по классам. Определите основания этих классификац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42960" y="2214720"/>
          <a:ext cx="8215200" cy="375444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0" name="Багетная рамка 10"/>
          <p:cNvSpPr/>
          <p:nvPr/>
        </p:nvSpPr>
        <p:spPr>
          <a:xfrm>
            <a:off x="64296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42960" y="2214720"/>
          <a:ext cx="8215200" cy="374940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еж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уществительные среднего р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иствен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Хвой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071360" y="928800"/>
            <a:ext cx="77864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2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Каждой букве алфавита поставлена в соответствие пара чисел: первое число - номер столбца, второе - номер строки следующей кодовой табли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14240" y="2643120"/>
          <a:ext cx="8215560" cy="2214720"/>
        </p:xfrm>
        <a:graphic>
          <a:graphicData uri="http://schemas.openxmlformats.org/drawingml/2006/table">
            <a:tbl>
              <a:tblPr/>
              <a:tblGrid>
                <a:gridCol w="42876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107172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6" name="Прямоугольник 10"/>
          <p:cNvSpPr/>
          <p:nvPr/>
        </p:nvSpPr>
        <p:spPr>
          <a:xfrm>
            <a:off x="1283400" y="485784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Зашифруйте с помощью таблицы слово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КОМАН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Багетная рамка 11"/>
          <p:cNvSpPr/>
          <p:nvPr/>
        </p:nvSpPr>
        <p:spPr>
          <a:xfrm>
            <a:off x="714240" y="557208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714240" y="5643720"/>
            <a:ext cx="83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КОМАНДА </a:t>
            </a:r>
            <a:r>
              <a:rPr b="1" lang="ru-RU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(1,1) (5,1) (3,1) (1,3) (4,1) (5,3) (1,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999720" y="928440"/>
            <a:ext cx="79297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  <a:ea typeface="Arial"/>
              </a:rPr>
              <a:t>Для школьников важен пятиразовый режим питания: первый завтрак - 20%, второй завтрак - 15%; обед - 40%; полдник - 10%; ужин - 15% дневного рациона. При этом приёмы пищи по времени должны быть организованы ориентировочно в 7.00, 10.00, 13.00, 16.00 и 19.30.  Представьте эту информацию в табличной форм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Овал 4"/>
          <p:cNvSpPr/>
          <p:nvPr/>
        </p:nvSpPr>
        <p:spPr>
          <a:xfrm>
            <a:off x="8001000" y="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3302640" y="2714760"/>
            <a:ext cx="42606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ежим питания шк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4" name="Багетная рамка 8"/>
          <p:cNvSpPr/>
          <p:nvPr/>
        </p:nvSpPr>
        <p:spPr>
          <a:xfrm>
            <a:off x="714240" y="607212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ервы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второ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об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ол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6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уж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9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6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571760" y="1314360"/>
            <a:ext cx="7286400" cy="15433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Обработка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решение некоторой информацио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14"/>
          <p:cNvSpPr/>
          <p:nvPr/>
        </p:nvSpPr>
        <p:spPr>
          <a:xfrm>
            <a:off x="500040" y="15717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1071720" y="5315040"/>
            <a:ext cx="7858080" cy="13287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 результате обработки имеющей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ходной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мы получаем новую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ыходную информацию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3" descr="http://img3.proshkolu.ru/content/media/pic/std/2000000/1210000/1209976-735e6133bb8cc65b.gif"/>
          <p:cNvPicPr/>
          <p:nvPr/>
        </p:nvPicPr>
        <p:blipFill>
          <a:blip r:embed="rId1"/>
          <a:stretch/>
        </p:blipFill>
        <p:spPr>
          <a:xfrm>
            <a:off x="6500880" y="3000240"/>
            <a:ext cx="2000160" cy="222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http://dzeta.ucoz.ru/3a2ab908b856.png"/>
          <p:cNvPicPr/>
          <p:nvPr/>
        </p:nvPicPr>
        <p:blipFill>
          <a:blip r:embed="rId2"/>
          <a:stretch/>
        </p:blipFill>
        <p:spPr>
          <a:xfrm>
            <a:off x="1857240" y="2881440"/>
            <a:ext cx="414360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хема 6" descr=""/>
          <p:cNvPicPr/>
          <p:nvPr/>
        </p:nvPicPr>
        <p:blipFill>
          <a:blip r:embed="rId1"/>
          <a:stretch/>
        </p:blipFill>
        <p:spPr>
          <a:xfrm>
            <a:off x="585720" y="1352520"/>
            <a:ext cx="8350200" cy="515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истематизац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ятиугольник 10"/>
          <p:cNvSpPr/>
          <p:nvPr/>
        </p:nvSpPr>
        <p:spPr>
          <a:xfrm>
            <a:off x="642960" y="1357200"/>
            <a:ext cx="6143760" cy="128592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Систематизирова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информацию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значит расположить  её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ятиугольник 11"/>
          <p:cNvSpPr/>
          <p:nvPr/>
        </p:nvSpPr>
        <p:spPr>
          <a:xfrm>
            <a:off x="1500120" y="2786040"/>
            <a:ext cx="6786720" cy="1643040"/>
          </a:xfrm>
          <a:custGeom>
            <a:avLst/>
            <a:gdLst>
              <a:gd name="textAreaLeft" fmla="*/ 0 w 6786720"/>
              <a:gd name="textAreaRight" fmla="*/ 6787080 w 67867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и систематизации информации используется способ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сортировк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, то есть размещения её в определённом порядке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упорядочивани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ятиугольник 12"/>
          <p:cNvSpPr/>
          <p:nvPr/>
        </p:nvSpPr>
        <p:spPr>
          <a:xfrm>
            <a:off x="2286000" y="4572000"/>
            <a:ext cx="6858000" cy="184464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5" y="0"/>
                </a:lnTo>
                <a:lnTo>
                  <a:pt x="21600" y="10800"/>
                </a:lnTo>
                <a:lnTo>
                  <a:pt x="18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иды сортиров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алфави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номе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 хронологической последов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8"/>
          <p:cNvSpPr/>
          <p:nvPr/>
        </p:nvSpPr>
        <p:spPr>
          <a:xfrm>
            <a:off x="7572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http://nephrodin.ru/instructions/image/aHR0cDovL29kbm93YWJpb2xvZ2ljem5hLnNvc25vd2llYy5wbC9pbWFnZXMvNjc0cHgtSW5mb3JtYXRpb25fbWFnbmlmaWVyX2ljb24ucG5nNTFhNzEucG5n"/>
          <p:cNvPicPr/>
          <p:nvPr/>
        </p:nvPicPr>
        <p:blipFill>
          <a:blip r:embed="rId1"/>
          <a:stretch/>
        </p:blipFill>
        <p:spPr>
          <a:xfrm>
            <a:off x="420840" y="4791240"/>
            <a:ext cx="1798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856880" y="1071720"/>
            <a:ext cx="6944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0000" indent="-1170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истематизируйте г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рафическую информацию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, произведя сортировку 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по основному признаку предмет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8" name="Группа 49"/>
          <p:cNvGrpSpPr/>
          <p:nvPr/>
        </p:nvGrpSpPr>
        <p:grpSpPr>
          <a:xfrm>
            <a:off x="428760" y="1500480"/>
            <a:ext cx="9214920" cy="4941720"/>
            <a:chOff x="428760" y="1500480"/>
            <a:chExt cx="9214920" cy="4941720"/>
          </a:xfrm>
        </p:grpSpPr>
        <p:pic>
          <p:nvPicPr>
            <p:cNvPr id="189" name="Picture 17" descr="http://img.playground.ru/images/8/1/Weltmeister_kn_60_72_II_311.gif"/>
            <p:cNvPicPr/>
            <p:nvPr/>
          </p:nvPicPr>
          <p:blipFill>
            <a:blip r:embed="rId2"/>
            <a:stretch/>
          </p:blipFill>
          <p:spPr>
            <a:xfrm>
              <a:off x="3286080" y="285336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5" descr="http://www.centrlan.net/files/gant_2.jpg"/>
            <p:cNvPicPr/>
            <p:nvPr/>
          </p:nvPicPr>
          <p:blipFill>
            <a:blip r:embed="rId3"/>
            <a:stretch/>
          </p:blipFill>
          <p:spPr>
            <a:xfrm>
              <a:off x="3129480" y="478656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9" descr="http://img-fotki.yandex.ru/get/4423/119528728.12cb/0_b93ee_1d96eca1_XL"/>
            <p:cNvPicPr/>
            <p:nvPr/>
          </p:nvPicPr>
          <p:blipFill>
            <a:blip r:embed="rId4"/>
            <a:stretch/>
          </p:blipFill>
          <p:spPr>
            <a:xfrm>
              <a:off x="5857920" y="235332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1" descr="http://www.knews.kg/files/media/43/43320.jpg"/>
            <p:cNvPicPr/>
            <p:nvPr/>
          </p:nvPicPr>
          <p:blipFill>
            <a:blip r:embed="rId5"/>
            <a:stretch/>
          </p:blipFill>
          <p:spPr>
            <a:xfrm>
              <a:off x="428760" y="4143600"/>
              <a:ext cx="25714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3" descr="http://img-fotki.yandex.ru/get/4808/svetlera.85/0_52086_511dc6ee_L"/>
            <p:cNvPicPr/>
            <p:nvPr/>
          </p:nvPicPr>
          <p:blipFill>
            <a:blip r:embed="rId6"/>
            <a:stretch/>
          </p:blipFill>
          <p:spPr>
            <a:xfrm>
              <a:off x="5791320" y="392904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5" descr="http://jili-bili.ru/files/dynatone/big/arm101873.jpg"/>
            <p:cNvPicPr/>
            <p:nvPr/>
          </p:nvPicPr>
          <p:blipFill>
            <a:blip r:embed="rId7"/>
            <a:stretch/>
          </p:blipFill>
          <p:spPr>
            <a:xfrm flipH="1">
              <a:off x="6781320" y="2925000"/>
              <a:ext cx="286236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http://img0.liveinternet.ru/images/attach/c/2/69/25/69025985_1294622460_24.png"/>
            <p:cNvPicPr/>
            <p:nvPr/>
          </p:nvPicPr>
          <p:blipFill>
            <a:blip r:embed="rId8"/>
            <a:stretch/>
          </p:blipFill>
          <p:spPr>
            <a:xfrm rot="19872600">
              <a:off x="7467480" y="169812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http://img-fotki.yandex.ru/get/5818/4243123.21/0_86e27_f13df4ea_XL"/>
            <p:cNvPicPr/>
            <p:nvPr/>
          </p:nvPicPr>
          <p:blipFill>
            <a:blip r:embed="rId9"/>
            <a:stretch/>
          </p:blipFill>
          <p:spPr>
            <a:xfrm>
              <a:off x="2357280" y="2496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3" descr="http://4put.ru/pictures/max/597/1836243.gif"/>
            <p:cNvPicPr/>
            <p:nvPr/>
          </p:nvPicPr>
          <p:blipFill>
            <a:blip r:embed="rId10"/>
            <a:stretch/>
          </p:blipFill>
          <p:spPr>
            <a:xfrm rot="1519200">
              <a:off x="5105880" y="469044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http://vizitop.com/images/201012/source_img/p-16572.jpg"/>
            <p:cNvPicPr/>
            <p:nvPr/>
          </p:nvPicPr>
          <p:blipFill>
            <a:blip r:embed="rId11"/>
            <a:stretch/>
          </p:blipFill>
          <p:spPr>
            <a:xfrm>
              <a:off x="714240" y="242496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9" descr="http://www.nn.ru/data/forum/files/2012-01/45601273-trumpet-2.gif"/>
            <p:cNvPicPr/>
            <p:nvPr/>
          </p:nvPicPr>
          <p:blipFill>
            <a:blip r:embed="rId12"/>
            <a:stretch/>
          </p:blipFill>
          <p:spPr>
            <a:xfrm>
              <a:off x="3357720" y="1924920"/>
              <a:ext cx="2571480" cy="13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Багетная рамка 31"/>
          <p:cNvSpPr/>
          <p:nvPr/>
        </p:nvSpPr>
        <p:spPr>
          <a:xfrm>
            <a:off x="92880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32"/>
          <p:cNvGrpSpPr/>
          <p:nvPr/>
        </p:nvGrpSpPr>
        <p:grpSpPr>
          <a:xfrm>
            <a:off x="275400" y="1928880"/>
            <a:ext cx="8797320" cy="5241240"/>
            <a:chOff x="275400" y="1928880"/>
            <a:chExt cx="8797320" cy="5241240"/>
          </a:xfrm>
        </p:grpSpPr>
        <p:pic>
          <p:nvPicPr>
            <p:cNvPr id="202" name="Picture 17" descr="http://img.playground.ru/images/8/1/Weltmeister_kn_60_72_II_311.gif"/>
            <p:cNvPicPr/>
            <p:nvPr/>
          </p:nvPicPr>
          <p:blipFill>
            <a:blip r:embed="rId13"/>
            <a:stretch/>
          </p:blipFill>
          <p:spPr>
            <a:xfrm>
              <a:off x="3214800" y="242892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5" descr="http://www.centrlan.net/files/gant_2.jpg"/>
            <p:cNvPicPr/>
            <p:nvPr/>
          </p:nvPicPr>
          <p:blipFill>
            <a:blip r:embed="rId14"/>
            <a:stretch/>
          </p:blipFill>
          <p:spPr>
            <a:xfrm>
              <a:off x="7000920" y="283932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http://img-fotki.yandex.ru/get/4423/119528728.12cb/0_b93ee_1d96eca1_XL"/>
            <p:cNvPicPr/>
            <p:nvPr/>
          </p:nvPicPr>
          <p:blipFill>
            <a:blip r:embed="rId15"/>
            <a:stretch/>
          </p:blipFill>
          <p:spPr>
            <a:xfrm>
              <a:off x="6858360" y="383436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1" descr="http://www.knews.kg/files/media/43/43320.jpg"/>
            <p:cNvPicPr/>
            <p:nvPr/>
          </p:nvPicPr>
          <p:blipFill>
            <a:blip r:embed="rId16"/>
            <a:stretch/>
          </p:blipFill>
          <p:spPr>
            <a:xfrm>
              <a:off x="3214800" y="3929040"/>
              <a:ext cx="257184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3" descr="http://img-fotki.yandex.ru/get/4808/svetlera.85/0_52086_511dc6ee_L"/>
            <p:cNvPicPr/>
            <p:nvPr/>
          </p:nvPicPr>
          <p:blipFill>
            <a:blip r:embed="rId17"/>
            <a:stretch/>
          </p:blipFill>
          <p:spPr>
            <a:xfrm>
              <a:off x="2433600" y="378612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5" descr="http://jili-bili.ru/files/dynatone/big/arm101873.jpg"/>
            <p:cNvPicPr/>
            <p:nvPr/>
          </p:nvPicPr>
          <p:blipFill>
            <a:blip r:embed="rId18"/>
            <a:srcRect l="25133" t="0" r="24961" b="0"/>
            <a:stretch/>
          </p:blipFill>
          <p:spPr>
            <a:xfrm flipH="1">
              <a:off x="5071680" y="2428920"/>
              <a:ext cx="142884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9" descr="http://img-fotki.yandex.ru/get/5818/4243123.21/0_86e27_f13df4ea_XL"/>
            <p:cNvPicPr/>
            <p:nvPr/>
          </p:nvPicPr>
          <p:blipFill>
            <a:blip r:embed="rId19"/>
            <a:stretch/>
          </p:blipFill>
          <p:spPr>
            <a:xfrm>
              <a:off x="500040" y="3000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3" descr="http://4put.ru/pictures/max/597/1836243.gif"/>
            <p:cNvPicPr/>
            <p:nvPr/>
          </p:nvPicPr>
          <p:blipFill>
            <a:blip r:embed="rId20"/>
            <a:stretch/>
          </p:blipFill>
          <p:spPr>
            <a:xfrm rot="1519200">
              <a:off x="1109160" y="376128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7" descr="http://vizitop.com/images/201012/source_img/p-16572.jpg"/>
            <p:cNvPicPr/>
            <p:nvPr/>
          </p:nvPicPr>
          <p:blipFill>
            <a:blip r:embed="rId21"/>
            <a:stretch/>
          </p:blipFill>
          <p:spPr>
            <a:xfrm>
              <a:off x="7086600" y="464328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9" descr="http://www.nn.ru/data/forum/files/2012-01/45601273-trumpet-2.gif"/>
            <p:cNvPicPr/>
            <p:nvPr/>
          </p:nvPicPr>
          <p:blipFill>
            <a:blip r:embed="rId22"/>
            <a:stretch/>
          </p:blipFill>
          <p:spPr>
            <a:xfrm rot="19629000">
              <a:off x="3302640" y="5232960"/>
              <a:ext cx="2571840" cy="13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http://img0.liveinternet.ru/images/attach/c/2/69/25/69025985_1294622460_24.png"/>
            <p:cNvPicPr/>
            <p:nvPr/>
          </p:nvPicPr>
          <p:blipFill>
            <a:blip r:embed="rId23"/>
            <a:stretch/>
          </p:blipFill>
          <p:spPr>
            <a:xfrm rot="19872600">
              <a:off x="680760" y="463068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44"/>
            <p:cNvSpPr/>
            <p:nvPr/>
          </p:nvSpPr>
          <p:spPr>
            <a:xfrm>
              <a:off x="647640" y="2500200"/>
              <a:ext cx="1022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Цве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Прямоугольник 45"/>
            <p:cNvSpPr/>
            <p:nvPr/>
          </p:nvSpPr>
          <p:spPr>
            <a:xfrm>
              <a:off x="3319200" y="2000160"/>
              <a:ext cx="208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Музыкальные</a:t>
              </a:r>
              <a:br>
                <a:rPr sz="2400"/>
              </a:b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струмен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Прямоугольник 46"/>
            <p:cNvSpPr/>
            <p:nvPr/>
          </p:nvSpPr>
          <p:spPr>
            <a:xfrm>
              <a:off x="6940440" y="1928880"/>
              <a:ext cx="182376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Спортивны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вентар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Прямая соединительная линия 47"/>
            <p:cNvSpPr/>
            <p:nvPr/>
          </p:nvSpPr>
          <p:spPr>
            <a:xfrm flipH="1">
              <a:off x="242712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Прямая соединительная линия 48"/>
            <p:cNvSpPr/>
            <p:nvPr/>
          </p:nvSpPr>
          <p:spPr>
            <a:xfrm flipH="1">
              <a:off x="671544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286240" y="2714760"/>
            <a:ext cx="3643560" cy="2073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5c8a"/>
                </a:solidFill>
                <a:latin typeface="Arial"/>
                <a:ea typeface="Arial"/>
              </a:rPr>
              <a:t>Если информация систематизирована, то поиск осуществляется быст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5"/>
          <p:cNvSpPr/>
          <p:nvPr/>
        </p:nvSpPr>
        <p:spPr>
          <a:xfrm>
            <a:off x="1143000" y="1285920"/>
            <a:ext cx="7786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оис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важнейший вид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214280" y="3429000"/>
            <a:ext cx="3643560" cy="207396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c8a"/>
                </a:solidFill>
                <a:latin typeface="Arial"/>
                <a:ea typeface="Arial"/>
              </a:rPr>
              <a:t>Поиск необходимой информации производится в некотором хранилище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Овал 9"/>
          <p:cNvGrpSpPr/>
          <p:nvPr/>
        </p:nvGrpSpPr>
        <p:grpSpPr>
          <a:xfrm>
            <a:off x="493560" y="3103560"/>
            <a:ext cx="884520" cy="878040"/>
            <a:chOff x="493560" y="3103560"/>
            <a:chExt cx="884520" cy="878040"/>
          </a:xfrm>
        </p:grpSpPr>
        <p:pic>
          <p:nvPicPr>
            <p:cNvPr id="223" name="Овал 9" descr=""/>
            <p:cNvPicPr/>
            <p:nvPr/>
          </p:nvPicPr>
          <p:blipFill>
            <a:blip r:embed="rId1"/>
            <a:stretch/>
          </p:blipFill>
          <p:spPr>
            <a:xfrm>
              <a:off x="493560" y="3103560"/>
              <a:ext cx="8845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6200" y="325296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Овал 10"/>
          <p:cNvGrpSpPr/>
          <p:nvPr/>
        </p:nvGrpSpPr>
        <p:grpSpPr>
          <a:xfrm>
            <a:off x="4529160" y="2457360"/>
            <a:ext cx="884160" cy="882720"/>
            <a:chOff x="4529160" y="2457360"/>
            <a:chExt cx="884160" cy="882720"/>
          </a:xfrm>
        </p:grpSpPr>
        <p:pic>
          <p:nvPicPr>
            <p:cNvPr id="226" name="Овал 10" descr=""/>
            <p:cNvPicPr/>
            <p:nvPr/>
          </p:nvPicPr>
          <p:blipFill>
            <a:blip r:embed="rId2"/>
            <a:stretch/>
          </p:blipFill>
          <p:spPr>
            <a:xfrm>
              <a:off x="4529160" y="2457360"/>
              <a:ext cx="8841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81440" y="261000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5" descr="D:\Личные_документы\Елена\КАРТИНКИ\8894533.png"/>
          <p:cNvPicPr/>
          <p:nvPr/>
        </p:nvPicPr>
        <p:blipFill>
          <a:blip r:embed="rId3"/>
          <a:stretch/>
        </p:blipFill>
        <p:spPr>
          <a:xfrm>
            <a:off x="4143240" y="4786200"/>
            <a:ext cx="2024280" cy="20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9" name="Picture 6" descr="D:\Личные_документы\Елена\КАРТИНКИ\портфель и земной шар.png"/>
          <p:cNvPicPr/>
          <p:nvPr/>
        </p:nvPicPr>
        <p:blipFill>
          <a:blip r:embed="rId4"/>
          <a:stretch/>
        </p:blipFill>
        <p:spPr>
          <a:xfrm>
            <a:off x="6643800" y="450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928800" y="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ы поиска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Схема 4" descr=""/>
          <p:cNvPicPr/>
          <p:nvPr/>
        </p:nvPicPr>
        <p:blipFill>
          <a:blip r:embed="rId1"/>
          <a:stretch/>
        </p:blipFill>
        <p:spPr>
          <a:xfrm>
            <a:off x="858960" y="1352520"/>
            <a:ext cx="4913280" cy="504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:\Личные_документы\Елена\КАРТИНКИ\reading_jpg.jpg"/>
          <p:cNvPicPr/>
          <p:nvPr/>
        </p:nvPicPr>
        <p:blipFill>
          <a:blip r:embed="rId2"/>
          <a:stretch/>
        </p:blipFill>
        <p:spPr>
          <a:xfrm>
            <a:off x="5881680" y="3143160"/>
            <a:ext cx="3262320" cy="3170160"/>
          </a:xfrm>
          <a:prstGeom prst="rect">
            <a:avLst/>
          </a:prstGeom>
          <a:ln w="0">
            <a:noFill/>
          </a:ln>
        </p:spPr>
      </p:pic>
      <p:sp>
        <p:nvSpPr>
          <p:cNvPr id="233" name="Овал 10"/>
          <p:cNvSpPr/>
          <p:nvPr/>
        </p:nvSpPr>
        <p:spPr>
          <a:xfrm>
            <a:off x="7072200" y="1857240"/>
            <a:ext cx="1000080" cy="1000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Изменение 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одержимое 5"/>
          <p:cNvSpPr/>
          <p:nvPr/>
        </p:nvSpPr>
        <p:spPr>
          <a:xfrm>
            <a:off x="1571760" y="1457280"/>
            <a:ext cx="7286400" cy="2257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Изменение формы представления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ереход от одной формы представления информаци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к другой, более удобной для восприятия, обработки, хранения или пере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6"/>
          <p:cNvSpPr/>
          <p:nvPr/>
        </p:nvSpPr>
        <p:spPr>
          <a:xfrm>
            <a:off x="500040" y="2000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одержимое 5"/>
          <p:cNvSpPr/>
          <p:nvPr/>
        </p:nvSpPr>
        <p:spPr>
          <a:xfrm>
            <a:off x="5072040" y="3857760"/>
            <a:ext cx="3786120" cy="27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Мы изменяем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форму представления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информации, когда занимаемся её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кодир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6" descr="D:\Личные_документы\Елена\КАРТИНКИ\1314177042_50192485_1.jpg"/>
          <p:cNvPicPr/>
          <p:nvPr/>
        </p:nvPicPr>
        <p:blipFill>
          <a:blip r:embed="rId1"/>
          <a:stretch/>
        </p:blipFill>
        <p:spPr>
          <a:xfrm>
            <a:off x="1571760" y="3857760"/>
            <a:ext cx="3392280" cy="27144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1:27Z</dcterms:modified>
  <cp:revision>18</cp:revision>
  <dc:subject/>
  <dc:title>Презентация PowerPoint</dc:title>
</cp:coreProperties>
</file>