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459-EC4D-4F5C-883F-250B9E7E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879-B98E-4302-BFB3-2ABEE33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C38-0BB7-4F3E-821D-B746BFF5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F61-390A-4930-8854-5E8CBB71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5B1-2593-4748-9BE6-F2470A9F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CD4-00B4-4051-8E5C-5DE3438F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5BD-5275-4740-A9A2-6652A030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1DD-107B-487A-8835-AD287D07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D03-E20C-43F8-B251-91252A3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8A7-D6D3-4EC0-870E-D3678C4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DC5-63D2-49CF-B1B2-598AAEF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DD4-C213-4AC5-92A6-ED25F5D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557-AE90-4D39-B66D-1D171501D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КСТОВЫЕ ДОКУМЕНТЫ И ТЕХНОЛОГИИ ИХ СОЗ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элементы текстового докум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подготовки текстовых док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реда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процесс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кстовый документ и его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112536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информация, представленная на бумажном, электронном или ином материальном носителе в текстовой фор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2843280" y="4508280"/>
            <a:ext cx="205416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116000" y="3068640"/>
            <a:ext cx="1657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059280" y="3068640"/>
            <a:ext cx="1657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932360" y="3068640"/>
            <a:ext cx="1657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877080" y="3068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8728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13056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до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500364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948360" y="494172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3995640" y="4508280"/>
            <a:ext cx="86364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 flipV="1">
            <a:off x="4787640" y="4508280"/>
            <a:ext cx="86364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 flipV="1">
            <a:off x="4858920" y="4508280"/>
            <a:ext cx="230508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771640" y="3573360"/>
            <a:ext cx="2054520" cy="433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3924360" y="3573360"/>
            <a:ext cx="863640" cy="433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4716360" y="3573360"/>
            <a:ext cx="86364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4788000" y="3573360"/>
            <a:ext cx="216036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348000" y="4005360"/>
            <a:ext cx="29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1042920" y="112536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стоит из разделов, подразделов, абзацев, строк, слов, символ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258920" y="1989000"/>
            <a:ext cx="2413080" cy="4535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427640" y="270828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1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403280" y="2637000"/>
            <a:ext cx="2089080" cy="360036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476360" y="3357720"/>
            <a:ext cx="1871640" cy="2663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619280" y="2133720"/>
            <a:ext cx="165744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19280" y="2781360"/>
            <a:ext cx="165744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619280" y="3500280"/>
            <a:ext cx="165744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гра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619280" y="4005360"/>
            <a:ext cx="1584360" cy="1871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835280" y="4221000"/>
            <a:ext cx="122400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н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427640" y="350028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2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4427640" y="414972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3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3276720" y="2924280"/>
            <a:ext cx="10792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276720" y="3716280"/>
            <a:ext cx="1150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3059280" y="4365720"/>
            <a:ext cx="1368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1081080" y="1571760"/>
            <a:ext cx="7848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урса истории вам известно, какую огромную роль в развитии человечества сыграло возникновение письменности, позволившей зафиксировать устное слово с помощью букв-знаков. Надписи на камне, папирусе, бумаге  - не просто сообщения, дошедшие до нас через века. Это документы, позволяющие нам судить о том, как жили люди в ту или иную эпоху, о чём они думали, что их интересов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1042920" y="4221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документ» переводится с латинского как «свидетельство», «доказательство». Первоначально оно означало письменное подтверждение событий или фактов. Например, факт рождения каждого человека документально оформляется в виде свидетельства о рождении; по окончании школы вы получите аттестат - документ, подтверждающий ваше образование,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1116000" y="1989000"/>
            <a:ext cx="7848720" cy="2890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2"/>
          <p:cNvSpPr/>
          <p:nvPr/>
        </p:nvSpPr>
        <p:spPr>
          <a:xfrm>
            <a:off x="4427640" y="1700280"/>
            <a:ext cx="1152360" cy="2160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3"/>
          <p:cNvSpPr/>
          <p:nvPr/>
        </p:nvSpPr>
        <p:spPr>
          <a:xfrm>
            <a:off x="8604360" y="1628640"/>
            <a:ext cx="360360" cy="36036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1116000" y="1125360"/>
            <a:ext cx="100800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5"/>
          <p:cNvSpPr/>
          <p:nvPr/>
        </p:nvSpPr>
        <p:spPr>
          <a:xfrm>
            <a:off x="2124000" y="1270080"/>
            <a:ext cx="360360" cy="790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2771640" y="1052640"/>
            <a:ext cx="100836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7"/>
          <p:cNvSpPr/>
          <p:nvPr/>
        </p:nvSpPr>
        <p:spPr>
          <a:xfrm>
            <a:off x="3780000" y="1197000"/>
            <a:ext cx="863280" cy="503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6659640" y="1052640"/>
            <a:ext cx="115236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9"/>
          <p:cNvSpPr/>
          <p:nvPr/>
        </p:nvSpPr>
        <p:spPr>
          <a:xfrm>
            <a:off x="7812000" y="1197000"/>
            <a:ext cx="863640" cy="503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0"/>
          <p:cNvSpPr/>
          <p:nvPr/>
        </p:nvSpPr>
        <p:spPr>
          <a:xfrm>
            <a:off x="3708360" y="6453360"/>
            <a:ext cx="100800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з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1"/>
          <p:cNvSpPr/>
          <p:nvPr/>
        </p:nvSpPr>
        <p:spPr>
          <a:xfrm flipV="1">
            <a:off x="4716360" y="6093000"/>
            <a:ext cx="719280" cy="5047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2"/>
          <p:cNvSpPr/>
          <p:nvPr/>
        </p:nvSpPr>
        <p:spPr>
          <a:xfrm>
            <a:off x="1042920" y="4149720"/>
            <a:ext cx="7848720" cy="22320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я подготовки текстовых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42920" y="1413000"/>
            <a:ext cx="784872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тысячелетий люди записывают информа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компьютеров коренным образом изменило технологию письма. С помощью специальных компьютерных программ можно создать любой текст, при необходимости внести в него изменения, не переписывая текст заново, записать текст в долговременную память компьютера для длительного хранения, отпечатать на принтере какое угодно количество копий текста без его повторного ввода или отправить текст с помощью электронной почты на другие компьюте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403280" y="2997360"/>
            <a:ext cx="1360440" cy="1511280"/>
            <a:chOff x="1403280" y="2997360"/>
            <a:chExt cx="1360440" cy="1511280"/>
          </a:xfrm>
        </p:grpSpPr>
        <p:sp>
          <p:nvSpPr>
            <p:cNvPr id="215" name="Rectangle 5"/>
            <p:cNvSpPr/>
            <p:nvPr/>
          </p:nvSpPr>
          <p:spPr>
            <a:xfrm>
              <a:off x="1700280" y="2997360"/>
              <a:ext cx="1063440" cy="13255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539720" y="3124080"/>
              <a:ext cx="1062360" cy="127980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1403280" y="3240000"/>
              <a:ext cx="1065240" cy="1268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екс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бумаг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8"/>
          <p:cNvSpPr/>
          <p:nvPr/>
        </p:nvSpPr>
        <p:spPr>
          <a:xfrm flipH="1">
            <a:off x="2916360" y="2276640"/>
            <a:ext cx="2016000" cy="1008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823440" y="1628640"/>
            <a:ext cx="1767240" cy="91692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текс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бум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804000" y="2781360"/>
            <a:ext cx="1871640" cy="91692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пишу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290920" y="1123920"/>
            <a:ext cx="30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маж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5000760" y="4292640"/>
            <a:ext cx="37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 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205800" y="6308640"/>
            <a:ext cx="1550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прин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4" descr=""/>
          <p:cNvPicPr/>
          <p:nvPr/>
        </p:nvPicPr>
        <p:blipFill>
          <a:blip r:embed="rId1"/>
          <a:stretch/>
        </p:blipFill>
        <p:spPr>
          <a:xfrm>
            <a:off x="5075280" y="1700280"/>
            <a:ext cx="1081080" cy="80496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pic>
        <p:nvPicPr>
          <p:cNvPr id="225" name="Picture 15" descr=""/>
          <p:cNvPicPr/>
          <p:nvPr/>
        </p:nvPicPr>
        <p:blipFill>
          <a:blip r:embed="rId2"/>
          <a:stretch/>
        </p:blipFill>
        <p:spPr>
          <a:xfrm>
            <a:off x="5075280" y="2781360"/>
            <a:ext cx="1152360" cy="104292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sp>
        <p:nvSpPr>
          <p:cNvPr id="226" name="Line 16"/>
          <p:cNvSpPr/>
          <p:nvPr/>
        </p:nvSpPr>
        <p:spPr>
          <a:xfrm flipH="1">
            <a:off x="2842920" y="3357720"/>
            <a:ext cx="2160360" cy="287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548000" cy="103320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grpSp>
        <p:nvGrpSpPr>
          <p:cNvPr id="228" name="Group 18"/>
          <p:cNvGrpSpPr/>
          <p:nvPr/>
        </p:nvGrpSpPr>
        <p:grpSpPr>
          <a:xfrm>
            <a:off x="5148360" y="5157720"/>
            <a:ext cx="1728720" cy="1194480"/>
            <a:chOff x="5148360" y="5157720"/>
            <a:chExt cx="1728720" cy="1194480"/>
          </a:xfrm>
        </p:grpSpPr>
        <p:pic>
          <p:nvPicPr>
            <p:cNvPr id="229" name="Picture 19" descr=""/>
            <p:cNvPicPr/>
            <p:nvPr/>
          </p:nvPicPr>
          <p:blipFill>
            <a:blip r:embed="rId4"/>
            <a:stretch/>
          </p:blipFill>
          <p:spPr>
            <a:xfrm>
              <a:off x="5376960" y="5283720"/>
              <a:ext cx="636480" cy="61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0" descr=""/>
            <p:cNvPicPr/>
            <p:nvPr/>
          </p:nvPicPr>
          <p:blipFill>
            <a:blip r:embed="rId5"/>
            <a:stretch/>
          </p:blipFill>
          <p:spPr>
            <a:xfrm>
              <a:off x="6085080" y="5348520"/>
              <a:ext cx="5014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1"/>
            <p:cNvSpPr/>
            <p:nvPr/>
          </p:nvSpPr>
          <p:spPr>
            <a:xfrm>
              <a:off x="5365800" y="598392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2"/>
            <p:cNvSpPr/>
            <p:nvPr/>
          </p:nvSpPr>
          <p:spPr>
            <a:xfrm>
              <a:off x="5148360" y="5157720"/>
              <a:ext cx="1728720" cy="114480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3274920" y="5157720"/>
            <a:ext cx="1368360" cy="1079640"/>
            <a:chOff x="3274920" y="5157720"/>
            <a:chExt cx="1368360" cy="1079640"/>
          </a:xfrm>
        </p:grpSpPr>
        <p:pic>
          <p:nvPicPr>
            <p:cNvPr id="234" name="Picture 24" descr=""/>
            <p:cNvPicPr/>
            <p:nvPr/>
          </p:nvPicPr>
          <p:blipFill>
            <a:blip r:embed="rId6"/>
            <a:stretch/>
          </p:blipFill>
          <p:spPr>
            <a:xfrm>
              <a:off x="3419280" y="5268960"/>
              <a:ext cx="102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25"/>
            <p:cNvSpPr/>
            <p:nvPr/>
          </p:nvSpPr>
          <p:spPr>
            <a:xfrm>
              <a:off x="3274920" y="5157720"/>
              <a:ext cx="1368360" cy="107964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26"/>
          <p:cNvSpPr/>
          <p:nvPr/>
        </p:nvSpPr>
        <p:spPr>
          <a:xfrm flipH="1" flipV="1">
            <a:off x="6875640" y="5732640"/>
            <a:ext cx="50472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7"/>
          <p:cNvSpPr/>
          <p:nvPr/>
        </p:nvSpPr>
        <p:spPr>
          <a:xfrm flipH="1" flipV="1">
            <a:off x="4642920" y="5661000"/>
            <a:ext cx="50508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8"/>
          <p:cNvSpPr/>
          <p:nvPr/>
        </p:nvSpPr>
        <p:spPr>
          <a:xfrm flipH="1" flipV="1">
            <a:off x="2842920" y="4365720"/>
            <a:ext cx="57636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9"/>
          <p:cNvSpPr/>
          <p:nvPr/>
        </p:nvSpPr>
        <p:spPr>
          <a:xfrm flipH="1" flipV="1">
            <a:off x="6227280" y="2060640"/>
            <a:ext cx="50508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0"/>
          <p:cNvSpPr/>
          <p:nvPr/>
        </p:nvSpPr>
        <p:spPr>
          <a:xfrm flipH="1" flipV="1">
            <a:off x="6300720" y="3212640"/>
            <a:ext cx="504720" cy="1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1116000" y="105264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Компьютерная» технология обладает рядом преимуществ по сравнению с технологией «бумажной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87280" y="1700280"/>
          <a:ext cx="7705800" cy="5056200"/>
        </p:xfrm>
        <a:graphic>
          <a:graphicData uri="http://schemas.openxmlformats.org/drawingml/2006/table">
            <a:tbl>
              <a:tblPr/>
              <a:tblGrid>
                <a:gridCol w="648000"/>
                <a:gridCol w="2808000"/>
                <a:gridCol w="792360"/>
                <a:gridCol w="280836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мпьютерная»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мажная»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ство реда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внесения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ость коп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тираж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ость передачи на расстояние по с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передачи на 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ктность хра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ность в дополнительной площади для хра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чистки электронных носителей от ненуж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ёмкость уничтожения и переработки бумажных нос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за счет многократного использования недорогих электронных нос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древесины на производство бум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наличие дорогостоящей компьютерной 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ые материальные затраты на авторучку и бума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43" name="Line 88"/>
          <p:cNvSpPr/>
          <p:nvPr/>
        </p:nvSpPr>
        <p:spPr>
          <a:xfrm>
            <a:off x="4788000" y="2421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9"/>
          <p:cNvSpPr/>
          <p:nvPr/>
        </p:nvSpPr>
        <p:spPr>
          <a:xfrm>
            <a:off x="4788000" y="292428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0"/>
          <p:cNvSpPr/>
          <p:nvPr/>
        </p:nvSpPr>
        <p:spPr>
          <a:xfrm>
            <a:off x="4788000" y="3429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1"/>
          <p:cNvSpPr/>
          <p:nvPr/>
        </p:nvSpPr>
        <p:spPr>
          <a:xfrm>
            <a:off x="4788000" y="407664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2"/>
          <p:cNvSpPr/>
          <p:nvPr/>
        </p:nvSpPr>
        <p:spPr>
          <a:xfrm>
            <a:off x="4788000" y="472428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3"/>
          <p:cNvSpPr/>
          <p:nvPr/>
        </p:nvSpPr>
        <p:spPr>
          <a:xfrm>
            <a:off x="4788000" y="5445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4"/>
          <p:cNvSpPr/>
          <p:nvPr/>
        </p:nvSpPr>
        <p:spPr>
          <a:xfrm>
            <a:off x="4788000" y="630864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5"/>
          <p:cNvSpPr/>
          <p:nvPr/>
        </p:nvSpPr>
        <p:spPr>
          <a:xfrm>
            <a:off x="1403280" y="630864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6"/>
          <p:cNvSpPr/>
          <p:nvPr/>
        </p:nvSpPr>
        <p:spPr>
          <a:xfrm>
            <a:off x="8459640" y="227664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7"/>
          <p:cNvSpPr/>
          <p:nvPr/>
        </p:nvSpPr>
        <p:spPr>
          <a:xfrm>
            <a:off x="8459640" y="278136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8"/>
          <p:cNvSpPr/>
          <p:nvPr/>
        </p:nvSpPr>
        <p:spPr>
          <a:xfrm>
            <a:off x="8459640" y="335772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9"/>
          <p:cNvSpPr/>
          <p:nvPr/>
        </p:nvSpPr>
        <p:spPr>
          <a:xfrm>
            <a:off x="8459640" y="393372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00"/>
          <p:cNvSpPr/>
          <p:nvPr/>
        </p:nvSpPr>
        <p:spPr>
          <a:xfrm>
            <a:off x="8459640" y="537372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1"/>
          <p:cNvSpPr/>
          <p:nvPr/>
        </p:nvSpPr>
        <p:spPr>
          <a:xfrm>
            <a:off x="8459640" y="450864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1116000" y="105264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следнее время широкое распространение получили электронные кни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4" descr=""/>
          <p:cNvPicPr/>
          <p:nvPr/>
        </p:nvPicPr>
        <p:blipFill>
          <a:blip r:embed="rId7"/>
          <a:stretch/>
        </p:blipFill>
        <p:spPr>
          <a:xfrm>
            <a:off x="1403280" y="2133720"/>
            <a:ext cx="2938680" cy="4535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5" descr=""/>
          <p:cNvPicPr/>
          <p:nvPr/>
        </p:nvPicPr>
        <p:blipFill>
          <a:blip r:embed="rId8"/>
          <a:stretch/>
        </p:blipFill>
        <p:spPr>
          <a:xfrm>
            <a:off x="5219640" y="2133720"/>
            <a:ext cx="2930760" cy="44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416720" cy="5119560"/>
          </a:xfrm>
          <a:prstGeom prst="rect">
            <a:avLst/>
          </a:prstGeom>
          <a:ln w="0">
            <a:noFill/>
          </a:ln>
        </p:spPr>
      </p:pic>
      <p:sp>
        <p:nvSpPr>
          <p:cNvPr id="261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Компьютерные инструменты создания текстовых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116000" y="112536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текстов – одна из самых распространенных сфер применения компьюте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50920" y="3105000"/>
            <a:ext cx="3492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кстовы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292720" y="3141720"/>
            <a:ext cx="3564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кстовый 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1547640" y="1916280"/>
            <a:ext cx="6912000" cy="649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граммы создания текстов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059280" y="256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6948360" y="2565360"/>
            <a:ext cx="0" cy="574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5" descr=""/>
          <p:cNvPicPr/>
          <p:nvPr/>
        </p:nvPicPr>
        <p:blipFill>
          <a:blip r:embed="rId2"/>
          <a:stretch/>
        </p:blipFill>
        <p:spPr>
          <a:xfrm>
            <a:off x="1749600" y="3933720"/>
            <a:ext cx="863280" cy="11145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269" name="Picture 16" descr=""/>
          <p:cNvPicPr/>
          <p:nvPr/>
        </p:nvPicPr>
        <p:blipFill>
          <a:blip r:embed="rId3"/>
          <a:stretch/>
        </p:blipFill>
        <p:spPr>
          <a:xfrm>
            <a:off x="5651640" y="400536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"/>
          <p:cNvPicPr/>
          <p:nvPr/>
        </p:nvPicPr>
        <p:blipFill>
          <a:blip r:embed="rId4"/>
          <a:stretch/>
        </p:blipFill>
        <p:spPr>
          <a:xfrm>
            <a:off x="7524720" y="3933720"/>
            <a:ext cx="1003320" cy="1003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8"/>
          <p:cNvSpPr/>
          <p:nvPr/>
        </p:nvSpPr>
        <p:spPr>
          <a:xfrm>
            <a:off x="1332000" y="5229360"/>
            <a:ext cx="136836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н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076720" y="5229360"/>
            <a:ext cx="18003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7093080" y="5229360"/>
            <a:ext cx="187164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Offi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1116000" y="1125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но текстового процессо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Office.or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1258920" y="1557360"/>
            <a:ext cx="273672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1403280" y="1844640"/>
            <a:ext cx="460872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1403280" y="2133720"/>
            <a:ext cx="66978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7"/>
          <p:cNvSpPr/>
          <p:nvPr/>
        </p:nvSpPr>
        <p:spPr>
          <a:xfrm>
            <a:off x="1403280" y="2421000"/>
            <a:ext cx="705636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8"/>
          <p:cNvSpPr/>
          <p:nvPr/>
        </p:nvSpPr>
        <p:spPr>
          <a:xfrm>
            <a:off x="1332000" y="6308640"/>
            <a:ext cx="583236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9"/>
          <p:cNvSpPr/>
          <p:nvPr/>
        </p:nvSpPr>
        <p:spPr>
          <a:xfrm>
            <a:off x="6516720" y="4292640"/>
            <a:ext cx="129528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ч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1763640" y="3429000"/>
            <a:ext cx="136836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3348000" y="3429000"/>
            <a:ext cx="115272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4643280" y="3429000"/>
            <a:ext cx="172908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ндартн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6659640" y="3429000"/>
            <a:ext cx="219528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ель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3492360" y="4292640"/>
            <a:ext cx="1368720" cy="31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ей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5003640" y="5445000"/>
            <a:ext cx="158436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6"/>
          <p:cNvSpPr/>
          <p:nvPr/>
        </p:nvSpPr>
        <p:spPr>
          <a:xfrm flipH="1" flipV="1">
            <a:off x="1476360" y="1699920"/>
            <a:ext cx="503280" cy="1873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7"/>
          <p:cNvSpPr/>
          <p:nvPr/>
        </p:nvSpPr>
        <p:spPr>
          <a:xfrm flipH="1" flipV="1">
            <a:off x="3203640" y="1988640"/>
            <a:ext cx="287280" cy="1584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8"/>
          <p:cNvSpPr/>
          <p:nvPr/>
        </p:nvSpPr>
        <p:spPr>
          <a:xfrm flipH="1" flipV="1">
            <a:off x="5435280" y="2276640"/>
            <a:ext cx="865080" cy="12967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9"/>
          <p:cNvSpPr/>
          <p:nvPr/>
        </p:nvSpPr>
        <p:spPr>
          <a:xfrm flipH="1" flipV="1">
            <a:off x="6516360" y="2491920"/>
            <a:ext cx="647640" cy="1081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0"/>
          <p:cNvSpPr/>
          <p:nvPr/>
        </p:nvSpPr>
        <p:spPr>
          <a:xfrm flipH="1">
            <a:off x="3708360" y="5734080"/>
            <a:ext cx="1440000" cy="7905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4427640" y="2852280"/>
            <a:ext cx="358560" cy="1513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2"/>
          <p:cNvSpPr/>
          <p:nvPr/>
        </p:nvSpPr>
        <p:spPr>
          <a:xfrm flipH="1">
            <a:off x="1476000" y="4508640"/>
            <a:ext cx="2087640" cy="649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9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0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79280" y="836640"/>
            <a:ext cx="8785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ставленная на бумажном, электронном или ином материальном носителе информация в текстовой форме. Основны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ными единицами текстового документа являются раздел, абзац, строка, слово, симв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мпьютерная» технология: документы, созданные с помощью специальных компьютерных программ, выводятся на бумагу посредством подключаемых к компьютеру печатающих устройств или хранятся на устройствах внешней памяти и редактируются с помощью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е инструменты создания текстовых документов можно разделить на прост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кстовые редакторы, текстовые процессо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здательск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структурные единицы текстового док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87280" y="206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основные преимущества «компьютерной» технологии создания текстовых документов перед «бумажной» технологи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разновидности компьютерных инструментов создания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1187280" y="20606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е ли вы опыт работы с текстовым редактором? Если да, то с каким именно? Можно ли этот текстовый редактор считать текстовым процесс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элементы окна текстового процес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11600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общие элементы окна текстового процессора и окна графического ред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3564000" y="9079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67 (стр. 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1116000" y="1413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линиями основные элементы окна текстового процессора и соответствующие им наз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6732720" y="285264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6732720" y="357336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6732720" y="414972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732720" y="4724280"/>
            <a:ext cx="2232000" cy="642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ели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6732720" y="558972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6732720" y="623736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8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4896000" cy="40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08360" y="2205000"/>
            <a:ext cx="20131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ума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673440" y="2781360"/>
            <a:ext cx="2050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 flipV="1">
            <a:off x="2700360" y="2421000"/>
            <a:ext cx="100800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2700360" y="2637000"/>
            <a:ext cx="100800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6589800" y="314172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6589800" y="364500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раз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6589800" y="414972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унк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6589800" y="472428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бза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6589800" y="5229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о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3851280" y="3716280"/>
            <a:ext cx="187308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д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V="1">
            <a:off x="2771640" y="4076640"/>
            <a:ext cx="1079640" cy="82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06560" y="4869000"/>
            <a:ext cx="104472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516720" y="2060640"/>
            <a:ext cx="1981080" cy="90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у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1187280" y="836640"/>
            <a:ext cx="7777440" cy="100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нформация, представленная на бумажном, электронном или ином материальном носителе в текстов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6589800" y="5734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6589800" y="623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7"/>
          <p:cNvSpPr/>
          <p:nvPr/>
        </p:nvSpPr>
        <p:spPr>
          <a:xfrm>
            <a:off x="6012000" y="1916280"/>
            <a:ext cx="2952720" cy="475272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8"/>
          <p:cNvSpPr/>
          <p:nvPr/>
        </p:nvSpPr>
        <p:spPr>
          <a:xfrm>
            <a:off x="6084720" y="3068640"/>
            <a:ext cx="2808360" cy="360036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3851280" y="4869000"/>
            <a:ext cx="1873080" cy="93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187280" y="2205000"/>
            <a:ext cx="158436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258920" y="3933720"/>
            <a:ext cx="1584360" cy="1727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6156360" y="3573360"/>
            <a:ext cx="2663640" cy="309564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6227640" y="4076640"/>
            <a:ext cx="2521080" cy="259236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6300720" y="4653000"/>
            <a:ext cx="2374920" cy="201600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6443640" y="5157720"/>
            <a:ext cx="2160720" cy="151128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6516720" y="5661000"/>
            <a:ext cx="2016000" cy="100800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6588000" y="6165720"/>
            <a:ext cx="1944720" cy="50328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1 (стр. 140-1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6-168 (стр.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18:46Z</dcterms:modified>
  <cp:revision>42</cp:revision>
  <dc:subject/>
  <dc:title>Презентация PowerPoint</dc:title>
</cp:coreProperties>
</file>