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02A-C5AB-497A-94C7-26A06803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821D-92E2-4CFC-8023-B6F73F6D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D479-E76B-4F73-9A0A-8A80B20A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7A7-CD89-43BF-B789-F8BB0D12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DCC-5F41-4D16-A540-5F8F06EC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5DD2-5146-4BB0-8AC6-82B24D11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FC04-12BC-4AD6-8C40-AC5F7A61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84E-B23F-4B49-9210-B6F09F75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0646-C6DF-486F-A9CC-32334D6F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0A01-0C4C-47E2-A352-EC38E856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C6E-E227-424E-BBE3-0EC32D52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33C7-6215-4FEE-9AAB-1DDAC0DC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F915-C3CB-4AB3-B69D-72B640EFA7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8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ТЕКСТОВЫЕ ДОКУМЕНТЫ И ТЕХНОЛОГИИ ИХ СОЗД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куме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овый докуме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 элементы текстового докумен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хнология подготовки текстовых докумен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овый редак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овый процесс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Текстовый документ и его стру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042920" y="1125360"/>
            <a:ext cx="792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кстовый докумен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информация, представленная на бумажном, электронном или ином материальном носителе в текстовой фор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 flipV="1">
            <a:off x="2843280" y="4508280"/>
            <a:ext cx="2054160" cy="433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1116000" y="3068640"/>
            <a:ext cx="16574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ть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059280" y="3068640"/>
            <a:ext cx="1657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кл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932360" y="3068640"/>
            <a:ext cx="16574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к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877080" y="3068640"/>
            <a:ext cx="19429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ихотво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87280" y="4941720"/>
            <a:ext cx="16574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ъя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130560" y="4941720"/>
            <a:ext cx="16574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до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5003640" y="4941720"/>
            <a:ext cx="16574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стру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948360" y="4941720"/>
            <a:ext cx="194328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а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5"/>
          <p:cNvSpPr/>
          <p:nvPr/>
        </p:nvSpPr>
        <p:spPr>
          <a:xfrm flipV="1">
            <a:off x="3995640" y="4508280"/>
            <a:ext cx="863640" cy="433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5"/>
          <p:cNvSpPr/>
          <p:nvPr/>
        </p:nvSpPr>
        <p:spPr>
          <a:xfrm flipH="1" flipV="1">
            <a:off x="4787640" y="4508280"/>
            <a:ext cx="863640" cy="433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 flipH="1" flipV="1">
            <a:off x="4858920" y="4508280"/>
            <a:ext cx="2305080" cy="433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5"/>
          <p:cNvSpPr/>
          <p:nvPr/>
        </p:nvSpPr>
        <p:spPr>
          <a:xfrm>
            <a:off x="2771640" y="3573360"/>
            <a:ext cx="2054520" cy="433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3924360" y="3573360"/>
            <a:ext cx="863640" cy="433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5"/>
          <p:cNvSpPr/>
          <p:nvPr/>
        </p:nvSpPr>
        <p:spPr>
          <a:xfrm flipV="1">
            <a:off x="4716360" y="3573360"/>
            <a:ext cx="863640" cy="433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V="1">
            <a:off x="4788000" y="3573360"/>
            <a:ext cx="216036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3348000" y="4005360"/>
            <a:ext cx="2952720" cy="5047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кстовый док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4"/>
          <p:cNvSpPr/>
          <p:nvPr/>
        </p:nvSpPr>
        <p:spPr>
          <a:xfrm>
            <a:off x="1042920" y="112536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кстовый докумен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остоит из разделов, подразделов, абзацев, строк, слов, символ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1258920" y="1989000"/>
            <a:ext cx="2413080" cy="4535640"/>
          </a:xfrm>
          <a:prstGeom prst="rect">
            <a:avLst/>
          </a:prstGeom>
          <a:solidFill>
            <a:srgbClr val="4f81bd"/>
          </a:solidFill>
          <a:ln cap="rnd" w="57240">
            <a:solidFill>
              <a:srgbClr val="0000ff"/>
            </a:solidFill>
            <a:custDash>
              <a:ds d="100000" sp="1000"/>
            </a:custDash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4427640" y="2708280"/>
            <a:ext cx="360036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головок 1-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403280" y="2637000"/>
            <a:ext cx="2089080" cy="3600360"/>
          </a:xfrm>
          <a:prstGeom prst="rect">
            <a:avLst/>
          </a:prstGeom>
          <a:solidFill>
            <a:srgbClr val="4f81bd"/>
          </a:solidFill>
          <a:ln cap="rnd" w="57240">
            <a:solidFill>
              <a:srgbClr val="0000ff"/>
            </a:solidFill>
            <a:custDash>
              <a:ds d="100000" sp="1000"/>
            </a:custDash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476360" y="3357720"/>
            <a:ext cx="1871640" cy="2663640"/>
          </a:xfrm>
          <a:prstGeom prst="rect">
            <a:avLst/>
          </a:prstGeom>
          <a:solidFill>
            <a:srgbClr val="4f81bd"/>
          </a:solidFill>
          <a:ln cap="rnd" w="57240">
            <a:solidFill>
              <a:srgbClr val="0000ff"/>
            </a:solidFill>
            <a:custDash>
              <a:ds d="100000" sp="1000"/>
            </a:custDash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1619280" y="2133720"/>
            <a:ext cx="1657440" cy="358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у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619280" y="2781360"/>
            <a:ext cx="1657440" cy="358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ав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619280" y="3500280"/>
            <a:ext cx="165744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аграф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1619280" y="4005360"/>
            <a:ext cx="1584360" cy="1871640"/>
          </a:xfrm>
          <a:prstGeom prst="rect">
            <a:avLst/>
          </a:prstGeom>
          <a:solidFill>
            <a:srgbClr val="4f81bd"/>
          </a:solidFill>
          <a:ln cap="rnd" w="57240">
            <a:solidFill>
              <a:srgbClr val="0000ff"/>
            </a:solidFill>
            <a:custDash>
              <a:ds d="100000" sp="1000"/>
            </a:custDash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835280" y="4221000"/>
            <a:ext cx="122400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н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427640" y="3500280"/>
            <a:ext cx="360036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головок 2-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4427640" y="4149720"/>
            <a:ext cx="360036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головок 3-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3276720" y="2924280"/>
            <a:ext cx="107928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3276720" y="3716280"/>
            <a:ext cx="115092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3059280" y="4365720"/>
            <a:ext cx="136836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9"/>
          <p:cNvSpPr/>
          <p:nvPr/>
        </p:nvSpPr>
        <p:spPr>
          <a:xfrm>
            <a:off x="1081080" y="1571760"/>
            <a:ext cx="7848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курса истории вам известно, какую огромную роль в развитии человечества сыграло возникновение письменности, позволившей зафиксировать устное слово с помощью букв-знаков. Надписи на камне, папирусе, бумаге  - не просто сообщения, дошедшие до нас через века. Это документы, позволяющие нам судить о том, как жили люди в ту или иную эпоху, о чём они думали, что их интересов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0"/>
          <p:cNvSpPr/>
          <p:nvPr/>
        </p:nvSpPr>
        <p:spPr>
          <a:xfrm>
            <a:off x="1042920" y="422100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документ» переводится с латинского как «свидетельство», «доказательство». Первоначально оно означало письменное подтверждение событий или фактов. Например, факт рождения каждого человека документально оформляется в виде свидетельства о рождении; по окончании школы вы получите аттестат - документ, подтверждающий ваше образование,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1"/>
          <p:cNvSpPr/>
          <p:nvPr/>
        </p:nvSpPr>
        <p:spPr>
          <a:xfrm>
            <a:off x="1116000" y="1989000"/>
            <a:ext cx="7848720" cy="2890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2"/>
          <p:cNvSpPr/>
          <p:nvPr/>
        </p:nvSpPr>
        <p:spPr>
          <a:xfrm>
            <a:off x="4427640" y="1700280"/>
            <a:ext cx="1152360" cy="2160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43"/>
          <p:cNvSpPr/>
          <p:nvPr/>
        </p:nvSpPr>
        <p:spPr>
          <a:xfrm>
            <a:off x="8604360" y="1628640"/>
            <a:ext cx="360360" cy="360360"/>
          </a:xfrm>
          <a:prstGeom prst="ellips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4"/>
          <p:cNvSpPr/>
          <p:nvPr/>
        </p:nvSpPr>
        <p:spPr>
          <a:xfrm>
            <a:off x="1116000" y="1125360"/>
            <a:ext cx="1008000" cy="36828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5"/>
          <p:cNvSpPr/>
          <p:nvPr/>
        </p:nvSpPr>
        <p:spPr>
          <a:xfrm>
            <a:off x="2124000" y="1270080"/>
            <a:ext cx="360360" cy="79056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6"/>
          <p:cNvSpPr/>
          <p:nvPr/>
        </p:nvSpPr>
        <p:spPr>
          <a:xfrm>
            <a:off x="2771640" y="1052640"/>
            <a:ext cx="1008360" cy="36828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7"/>
          <p:cNvSpPr/>
          <p:nvPr/>
        </p:nvSpPr>
        <p:spPr>
          <a:xfrm>
            <a:off x="3780000" y="1197000"/>
            <a:ext cx="863280" cy="503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8"/>
          <p:cNvSpPr/>
          <p:nvPr/>
        </p:nvSpPr>
        <p:spPr>
          <a:xfrm>
            <a:off x="6659640" y="1052640"/>
            <a:ext cx="1152360" cy="36828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9"/>
          <p:cNvSpPr/>
          <p:nvPr/>
        </p:nvSpPr>
        <p:spPr>
          <a:xfrm>
            <a:off x="7812000" y="1197000"/>
            <a:ext cx="863640" cy="503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0"/>
          <p:cNvSpPr/>
          <p:nvPr/>
        </p:nvSpPr>
        <p:spPr>
          <a:xfrm>
            <a:off x="3708360" y="6453360"/>
            <a:ext cx="1008000" cy="36828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бза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1"/>
          <p:cNvSpPr/>
          <p:nvPr/>
        </p:nvSpPr>
        <p:spPr>
          <a:xfrm flipV="1">
            <a:off x="4716360" y="6093000"/>
            <a:ext cx="719280" cy="5047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2"/>
          <p:cNvSpPr/>
          <p:nvPr/>
        </p:nvSpPr>
        <p:spPr>
          <a:xfrm>
            <a:off x="1042920" y="4149720"/>
            <a:ext cx="7848720" cy="22320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Технология подготовки текстовых доку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042920" y="1413000"/>
            <a:ext cx="7848720" cy="42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протяжении тысячелетий люди записывают информац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явление компьютеров коренным образом изменило технологию письма. С помощью специальных компьютерных программ можно создать любой текст, при необходимости внести в него изменения, не переписывая текст заново, записать текст в долговременную память компьютера для длительного хранения, отпечатать на принтере какое угодно количество копий текста без его повторного ввода или отправить текст с помощью электронной почты на другие компьюте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1403280" y="2997360"/>
            <a:ext cx="1360440" cy="1511280"/>
            <a:chOff x="1403280" y="2997360"/>
            <a:chExt cx="1360440" cy="1511280"/>
          </a:xfrm>
        </p:grpSpPr>
        <p:sp>
          <p:nvSpPr>
            <p:cNvPr id="215" name="Rectangle 5"/>
            <p:cNvSpPr/>
            <p:nvPr/>
          </p:nvSpPr>
          <p:spPr>
            <a:xfrm>
              <a:off x="1700280" y="2997360"/>
              <a:ext cx="1063440" cy="13255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1539720" y="3124080"/>
              <a:ext cx="1062360" cy="127980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>
              <a:off x="1403280" y="3240000"/>
              <a:ext cx="1065240" cy="1268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Текс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бумаг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8"/>
          <p:cNvSpPr/>
          <p:nvPr/>
        </p:nvSpPr>
        <p:spPr>
          <a:xfrm flipH="1">
            <a:off x="2916360" y="2276640"/>
            <a:ext cx="2016000" cy="1008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6823440" y="1628640"/>
            <a:ext cx="1767240" cy="916920"/>
          </a:xfrm>
          <a:prstGeom prst="rect">
            <a:avLst/>
          </a:prstGeom>
          <a:noFill/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чна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текст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 бума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6804000" y="2781360"/>
            <a:ext cx="1871640" cy="916920"/>
          </a:xfrm>
          <a:prstGeom prst="rect">
            <a:avLst/>
          </a:prstGeom>
          <a:noFill/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 пишу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и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5290920" y="1123920"/>
            <a:ext cx="30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маж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5000760" y="4292640"/>
            <a:ext cx="37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ьютерная   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3205800" y="6308640"/>
            <a:ext cx="1550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 принт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4" descr=""/>
          <p:cNvPicPr/>
          <p:nvPr/>
        </p:nvPicPr>
        <p:blipFill>
          <a:blip r:embed="rId1"/>
          <a:stretch/>
        </p:blipFill>
        <p:spPr>
          <a:xfrm>
            <a:off x="5075280" y="1700280"/>
            <a:ext cx="1081080" cy="804960"/>
          </a:xfrm>
          <a:prstGeom prst="rect">
            <a:avLst/>
          </a:prstGeom>
          <a:ln w="28440">
            <a:solidFill>
              <a:srgbClr val="0000cc"/>
            </a:solidFill>
            <a:miter/>
          </a:ln>
        </p:spPr>
      </p:pic>
      <p:pic>
        <p:nvPicPr>
          <p:cNvPr id="225" name="Picture 15" descr=""/>
          <p:cNvPicPr/>
          <p:nvPr/>
        </p:nvPicPr>
        <p:blipFill>
          <a:blip r:embed="rId2"/>
          <a:stretch/>
        </p:blipFill>
        <p:spPr>
          <a:xfrm>
            <a:off x="5075280" y="2781360"/>
            <a:ext cx="1152360" cy="1042920"/>
          </a:xfrm>
          <a:prstGeom prst="rect">
            <a:avLst/>
          </a:prstGeom>
          <a:ln w="28440">
            <a:solidFill>
              <a:srgbClr val="0000cc"/>
            </a:solidFill>
            <a:miter/>
          </a:ln>
        </p:spPr>
      </p:pic>
      <p:sp>
        <p:nvSpPr>
          <p:cNvPr id="226" name="Line 16"/>
          <p:cNvSpPr/>
          <p:nvPr/>
        </p:nvSpPr>
        <p:spPr>
          <a:xfrm flipH="1">
            <a:off x="2842920" y="3357720"/>
            <a:ext cx="2160360" cy="2872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7" descr=""/>
          <p:cNvPicPr/>
          <p:nvPr/>
        </p:nvPicPr>
        <p:blipFill>
          <a:blip r:embed="rId3"/>
          <a:stretch/>
        </p:blipFill>
        <p:spPr>
          <a:xfrm>
            <a:off x="7451640" y="5229360"/>
            <a:ext cx="1548000" cy="1033200"/>
          </a:xfrm>
          <a:prstGeom prst="rect">
            <a:avLst/>
          </a:prstGeom>
          <a:ln w="28440">
            <a:solidFill>
              <a:srgbClr val="0000cc"/>
            </a:solidFill>
            <a:miter/>
          </a:ln>
        </p:spPr>
      </p:pic>
      <p:grpSp>
        <p:nvGrpSpPr>
          <p:cNvPr id="228" name="Group 18"/>
          <p:cNvGrpSpPr/>
          <p:nvPr/>
        </p:nvGrpSpPr>
        <p:grpSpPr>
          <a:xfrm>
            <a:off x="5148360" y="5157720"/>
            <a:ext cx="1728720" cy="1194480"/>
            <a:chOff x="5148360" y="5157720"/>
            <a:chExt cx="1728720" cy="1194480"/>
          </a:xfrm>
        </p:grpSpPr>
        <p:pic>
          <p:nvPicPr>
            <p:cNvPr id="229" name="Picture 19" descr=""/>
            <p:cNvPicPr/>
            <p:nvPr/>
          </p:nvPicPr>
          <p:blipFill>
            <a:blip r:embed="rId4"/>
            <a:stretch/>
          </p:blipFill>
          <p:spPr>
            <a:xfrm>
              <a:off x="5376960" y="5283720"/>
              <a:ext cx="636480" cy="61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20" descr=""/>
            <p:cNvPicPr/>
            <p:nvPr/>
          </p:nvPicPr>
          <p:blipFill>
            <a:blip r:embed="rId5"/>
            <a:stretch/>
          </p:blipFill>
          <p:spPr>
            <a:xfrm>
              <a:off x="6085080" y="5348520"/>
              <a:ext cx="50148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21"/>
            <p:cNvSpPr/>
            <p:nvPr/>
          </p:nvSpPr>
          <p:spPr>
            <a:xfrm>
              <a:off x="5365800" y="598392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ай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2"/>
            <p:cNvSpPr/>
            <p:nvPr/>
          </p:nvSpPr>
          <p:spPr>
            <a:xfrm>
              <a:off x="5148360" y="5157720"/>
              <a:ext cx="1728720" cy="1144800"/>
            </a:xfrm>
            <a:prstGeom prst="rect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3"/>
          <p:cNvGrpSpPr/>
          <p:nvPr/>
        </p:nvGrpSpPr>
        <p:grpSpPr>
          <a:xfrm>
            <a:off x="3274920" y="5157720"/>
            <a:ext cx="1368360" cy="1079640"/>
            <a:chOff x="3274920" y="5157720"/>
            <a:chExt cx="1368360" cy="1079640"/>
          </a:xfrm>
        </p:grpSpPr>
        <p:pic>
          <p:nvPicPr>
            <p:cNvPr id="234" name="Picture 24" descr=""/>
            <p:cNvPicPr/>
            <p:nvPr/>
          </p:nvPicPr>
          <p:blipFill>
            <a:blip r:embed="rId6"/>
            <a:stretch/>
          </p:blipFill>
          <p:spPr>
            <a:xfrm>
              <a:off x="3419280" y="5268960"/>
              <a:ext cx="102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25"/>
            <p:cNvSpPr/>
            <p:nvPr/>
          </p:nvSpPr>
          <p:spPr>
            <a:xfrm>
              <a:off x="3274920" y="5157720"/>
              <a:ext cx="1368360" cy="1079640"/>
            </a:xfrm>
            <a:prstGeom prst="rect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Line 26"/>
          <p:cNvSpPr/>
          <p:nvPr/>
        </p:nvSpPr>
        <p:spPr>
          <a:xfrm flipH="1" flipV="1">
            <a:off x="6875640" y="5732640"/>
            <a:ext cx="504720" cy="14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7"/>
          <p:cNvSpPr/>
          <p:nvPr/>
        </p:nvSpPr>
        <p:spPr>
          <a:xfrm flipH="1" flipV="1">
            <a:off x="4642920" y="5661000"/>
            <a:ext cx="505080" cy="14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8"/>
          <p:cNvSpPr/>
          <p:nvPr/>
        </p:nvSpPr>
        <p:spPr>
          <a:xfrm flipH="1" flipV="1">
            <a:off x="2842920" y="4365720"/>
            <a:ext cx="576360" cy="792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9"/>
          <p:cNvSpPr/>
          <p:nvPr/>
        </p:nvSpPr>
        <p:spPr>
          <a:xfrm flipH="1" flipV="1">
            <a:off x="6227280" y="2060640"/>
            <a:ext cx="505080" cy="14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0"/>
          <p:cNvSpPr/>
          <p:nvPr/>
        </p:nvSpPr>
        <p:spPr>
          <a:xfrm flipH="1" flipV="1">
            <a:off x="6300720" y="3212640"/>
            <a:ext cx="504720" cy="18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1"/>
          <p:cNvSpPr/>
          <p:nvPr/>
        </p:nvSpPr>
        <p:spPr>
          <a:xfrm>
            <a:off x="1116000" y="1052640"/>
            <a:ext cx="78487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Компьютерная» технология обладает рядом преимуществ по сравнению с технологией «бумажной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87280" y="1700280"/>
          <a:ext cx="7705800" cy="5056200"/>
        </p:xfrm>
        <a:graphic>
          <a:graphicData uri="http://schemas.openxmlformats.org/drawingml/2006/table">
            <a:tbl>
              <a:tblPr/>
              <a:tblGrid>
                <a:gridCol w="648000"/>
                <a:gridCol w="2808000"/>
                <a:gridCol w="792360"/>
                <a:gridCol w="2808360"/>
                <a:gridCol w="64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280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омпьютерная» 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280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280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умажная» 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280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280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бство редакт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ности внесения изме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ёгкость коп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ы на тираж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ёгкость передачи на расстояние по се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ности передачи на расстоя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актность хра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ность в дополнительной площади для хра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та очистки электронных носителей от ненужной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ёмкость уничтожения и переработки бумажных нос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я за счет многократного использования недорогих электронных нос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ование древесины на производство бум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280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е наличие дорогостоящей компьютерной тех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280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280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имальные материальные затраты на авторучку и бума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280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280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43" name="Line 88"/>
          <p:cNvSpPr/>
          <p:nvPr/>
        </p:nvSpPr>
        <p:spPr>
          <a:xfrm>
            <a:off x="4788000" y="2421000"/>
            <a:ext cx="5047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9"/>
          <p:cNvSpPr/>
          <p:nvPr/>
        </p:nvSpPr>
        <p:spPr>
          <a:xfrm>
            <a:off x="4788000" y="2924280"/>
            <a:ext cx="5047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90"/>
          <p:cNvSpPr/>
          <p:nvPr/>
        </p:nvSpPr>
        <p:spPr>
          <a:xfrm>
            <a:off x="4788000" y="3429000"/>
            <a:ext cx="5047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1"/>
          <p:cNvSpPr/>
          <p:nvPr/>
        </p:nvSpPr>
        <p:spPr>
          <a:xfrm>
            <a:off x="4788000" y="4076640"/>
            <a:ext cx="5047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92"/>
          <p:cNvSpPr/>
          <p:nvPr/>
        </p:nvSpPr>
        <p:spPr>
          <a:xfrm>
            <a:off x="4788000" y="4724280"/>
            <a:ext cx="5047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3"/>
          <p:cNvSpPr/>
          <p:nvPr/>
        </p:nvSpPr>
        <p:spPr>
          <a:xfrm>
            <a:off x="4788000" y="5445000"/>
            <a:ext cx="5047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4"/>
          <p:cNvSpPr/>
          <p:nvPr/>
        </p:nvSpPr>
        <p:spPr>
          <a:xfrm>
            <a:off x="4788000" y="6308640"/>
            <a:ext cx="5047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95"/>
          <p:cNvSpPr/>
          <p:nvPr/>
        </p:nvSpPr>
        <p:spPr>
          <a:xfrm>
            <a:off x="1403280" y="6308640"/>
            <a:ext cx="216000" cy="216000"/>
          </a:xfrm>
          <a:prstGeom prst="ellipse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96"/>
          <p:cNvSpPr/>
          <p:nvPr/>
        </p:nvSpPr>
        <p:spPr>
          <a:xfrm>
            <a:off x="8459640" y="2276640"/>
            <a:ext cx="216000" cy="215640"/>
          </a:xfrm>
          <a:prstGeom prst="ellipse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97"/>
          <p:cNvSpPr/>
          <p:nvPr/>
        </p:nvSpPr>
        <p:spPr>
          <a:xfrm>
            <a:off x="8459640" y="2781360"/>
            <a:ext cx="216000" cy="216000"/>
          </a:xfrm>
          <a:prstGeom prst="ellipse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98"/>
          <p:cNvSpPr/>
          <p:nvPr/>
        </p:nvSpPr>
        <p:spPr>
          <a:xfrm>
            <a:off x="8459640" y="3357720"/>
            <a:ext cx="216000" cy="215640"/>
          </a:xfrm>
          <a:prstGeom prst="ellipse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99"/>
          <p:cNvSpPr/>
          <p:nvPr/>
        </p:nvSpPr>
        <p:spPr>
          <a:xfrm>
            <a:off x="8459640" y="3933720"/>
            <a:ext cx="216000" cy="216000"/>
          </a:xfrm>
          <a:prstGeom prst="ellipse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00"/>
          <p:cNvSpPr/>
          <p:nvPr/>
        </p:nvSpPr>
        <p:spPr>
          <a:xfrm>
            <a:off x="8459640" y="5373720"/>
            <a:ext cx="216000" cy="216000"/>
          </a:xfrm>
          <a:prstGeom prst="ellipse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01"/>
          <p:cNvSpPr/>
          <p:nvPr/>
        </p:nvSpPr>
        <p:spPr>
          <a:xfrm>
            <a:off x="8459640" y="4508640"/>
            <a:ext cx="216000" cy="215640"/>
          </a:xfrm>
          <a:prstGeom prst="ellipse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2"/>
          <p:cNvSpPr/>
          <p:nvPr/>
        </p:nvSpPr>
        <p:spPr>
          <a:xfrm>
            <a:off x="1116000" y="1052640"/>
            <a:ext cx="78487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оследнее время широкое распространение получили электронные книг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4" descr=""/>
          <p:cNvPicPr/>
          <p:nvPr/>
        </p:nvPicPr>
        <p:blipFill>
          <a:blip r:embed="rId7"/>
          <a:stretch/>
        </p:blipFill>
        <p:spPr>
          <a:xfrm>
            <a:off x="1403280" y="2133720"/>
            <a:ext cx="2938680" cy="4535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5" descr=""/>
          <p:cNvPicPr/>
          <p:nvPr/>
        </p:nvPicPr>
        <p:blipFill>
          <a:blip r:embed="rId8"/>
          <a:stretch/>
        </p:blipFill>
        <p:spPr>
          <a:xfrm>
            <a:off x="5219640" y="2133720"/>
            <a:ext cx="2930760" cy="446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0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2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7416720" cy="5119560"/>
          </a:xfrm>
          <a:prstGeom prst="rect">
            <a:avLst/>
          </a:prstGeom>
          <a:ln w="0">
            <a:noFill/>
          </a:ln>
        </p:spPr>
      </p:pic>
      <p:sp>
        <p:nvSpPr>
          <p:cNvPr id="261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Компьютерные инструменты создания текстовых доку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116000" y="1125360"/>
            <a:ext cx="78487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готовка текстов – одна из самых распространенных сфер применения компьюте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150920" y="3105000"/>
            <a:ext cx="34923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екстовый ред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292720" y="3141720"/>
            <a:ext cx="35640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екстовый процес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1547640" y="1916280"/>
            <a:ext cx="6912000" cy="6490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граммы создания текстовых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5"/>
          <p:cNvSpPr/>
          <p:nvPr/>
        </p:nvSpPr>
        <p:spPr>
          <a:xfrm flipV="1">
            <a:off x="3059280" y="256536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 flipV="1">
            <a:off x="6948360" y="2565360"/>
            <a:ext cx="0" cy="5745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5" descr=""/>
          <p:cNvPicPr/>
          <p:nvPr/>
        </p:nvPicPr>
        <p:blipFill>
          <a:blip r:embed="rId2"/>
          <a:stretch/>
        </p:blipFill>
        <p:spPr>
          <a:xfrm>
            <a:off x="1749600" y="3933720"/>
            <a:ext cx="863280" cy="11145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269" name="Picture 16" descr=""/>
          <p:cNvPicPr/>
          <p:nvPr/>
        </p:nvPicPr>
        <p:blipFill>
          <a:blip r:embed="rId3"/>
          <a:stretch/>
        </p:blipFill>
        <p:spPr>
          <a:xfrm>
            <a:off x="5651640" y="4005360"/>
            <a:ext cx="928440" cy="928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7" descr=""/>
          <p:cNvPicPr/>
          <p:nvPr/>
        </p:nvPicPr>
        <p:blipFill>
          <a:blip r:embed="rId4"/>
          <a:stretch/>
        </p:blipFill>
        <p:spPr>
          <a:xfrm>
            <a:off x="7524720" y="3933720"/>
            <a:ext cx="1003320" cy="10033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8"/>
          <p:cNvSpPr/>
          <p:nvPr/>
        </p:nvSpPr>
        <p:spPr>
          <a:xfrm>
            <a:off x="1332000" y="5229360"/>
            <a:ext cx="136836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окн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5076720" y="5229360"/>
            <a:ext cx="180036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7093080" y="5229360"/>
            <a:ext cx="187164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Offic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1116000" y="112536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но текстового процессор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Office.or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4"/>
          <p:cNvSpPr/>
          <p:nvPr/>
        </p:nvSpPr>
        <p:spPr>
          <a:xfrm>
            <a:off x="1258920" y="1557360"/>
            <a:ext cx="273672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5"/>
          <p:cNvSpPr/>
          <p:nvPr/>
        </p:nvSpPr>
        <p:spPr>
          <a:xfrm>
            <a:off x="1403280" y="1844640"/>
            <a:ext cx="460872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1403280" y="2133720"/>
            <a:ext cx="669780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7"/>
          <p:cNvSpPr/>
          <p:nvPr/>
        </p:nvSpPr>
        <p:spPr>
          <a:xfrm>
            <a:off x="1403280" y="2421000"/>
            <a:ext cx="705636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8"/>
          <p:cNvSpPr/>
          <p:nvPr/>
        </p:nvSpPr>
        <p:spPr>
          <a:xfrm>
            <a:off x="1332000" y="6308640"/>
            <a:ext cx="583236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9"/>
          <p:cNvSpPr/>
          <p:nvPr/>
        </p:nvSpPr>
        <p:spPr>
          <a:xfrm>
            <a:off x="6516720" y="4292640"/>
            <a:ext cx="1295280" cy="865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боч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0"/>
          <p:cNvSpPr/>
          <p:nvPr/>
        </p:nvSpPr>
        <p:spPr>
          <a:xfrm>
            <a:off x="1763640" y="3429000"/>
            <a:ext cx="1368360" cy="532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ока за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1"/>
          <p:cNvSpPr/>
          <p:nvPr/>
        </p:nvSpPr>
        <p:spPr>
          <a:xfrm>
            <a:off x="3348000" y="3429000"/>
            <a:ext cx="1152720" cy="532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ока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2"/>
          <p:cNvSpPr/>
          <p:nvPr/>
        </p:nvSpPr>
        <p:spPr>
          <a:xfrm>
            <a:off x="4643280" y="3429000"/>
            <a:ext cx="1729080" cy="532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ндартная пан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3"/>
          <p:cNvSpPr/>
          <p:nvPr/>
        </p:nvSpPr>
        <p:spPr>
          <a:xfrm>
            <a:off x="6659640" y="3429000"/>
            <a:ext cx="2195280" cy="532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нель форма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4"/>
          <p:cNvSpPr/>
          <p:nvPr/>
        </p:nvSpPr>
        <p:spPr>
          <a:xfrm>
            <a:off x="3492360" y="4292640"/>
            <a:ext cx="1368720" cy="313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ней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5"/>
          <p:cNvSpPr/>
          <p:nvPr/>
        </p:nvSpPr>
        <p:spPr>
          <a:xfrm>
            <a:off x="5003640" y="5445000"/>
            <a:ext cx="1584360" cy="532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ока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6"/>
          <p:cNvSpPr/>
          <p:nvPr/>
        </p:nvSpPr>
        <p:spPr>
          <a:xfrm flipH="1" flipV="1">
            <a:off x="1476360" y="1699920"/>
            <a:ext cx="503280" cy="18730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7"/>
          <p:cNvSpPr/>
          <p:nvPr/>
        </p:nvSpPr>
        <p:spPr>
          <a:xfrm flipH="1" flipV="1">
            <a:off x="3203640" y="1988640"/>
            <a:ext cx="287280" cy="15843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8"/>
          <p:cNvSpPr/>
          <p:nvPr/>
        </p:nvSpPr>
        <p:spPr>
          <a:xfrm flipH="1" flipV="1">
            <a:off x="5435280" y="2276640"/>
            <a:ext cx="865080" cy="129672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9"/>
          <p:cNvSpPr/>
          <p:nvPr/>
        </p:nvSpPr>
        <p:spPr>
          <a:xfrm flipH="1" flipV="1">
            <a:off x="6516360" y="2491920"/>
            <a:ext cx="647640" cy="10810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0"/>
          <p:cNvSpPr/>
          <p:nvPr/>
        </p:nvSpPr>
        <p:spPr>
          <a:xfrm flipH="1">
            <a:off x="3708360" y="5734080"/>
            <a:ext cx="1440000" cy="7905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1"/>
          <p:cNvSpPr/>
          <p:nvPr/>
        </p:nvSpPr>
        <p:spPr>
          <a:xfrm flipV="1">
            <a:off x="4427640" y="2852280"/>
            <a:ext cx="358560" cy="15130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2"/>
          <p:cNvSpPr/>
          <p:nvPr/>
        </p:nvSpPr>
        <p:spPr>
          <a:xfrm flipH="1">
            <a:off x="1476000" y="4508640"/>
            <a:ext cx="2087640" cy="6490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60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9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6000"/>
                            </p:stCondLst>
                            <p:childTnLst>
                              <p:par>
                                <p:cTn id="5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70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8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900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90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179280" y="836640"/>
            <a:ext cx="878544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кстовый докум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редставленная на бумажном, электронном или ином материальном носителе информация в текстовой форме. Основным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уктурными единицами текстового документа являются раздел, абзац, строка, слово, симв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омпьютерная» технология: документы, созданные с помощью специальных компьютерных программ, выводятся на бумагу посредством подключаемых к компьютеру печатающих устройств или хранятся на устройствах внешней памяти и редактируются с помощью компью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ьютерные инструменты создания текстовых документов можно разделить на просты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кстовые редакторы, текстовые процессор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издательские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1187280" y="20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основные структурные единицы текстового доку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187280" y="2060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ём основные преимущества «компьютерной» технологии создания текстовых документов перед «бумажной» технологи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1187280" y="20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основные разновидности компьютерных инструментов создания текстовых доку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1187280" y="206064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е ли вы опыт работы с текстовым редактором? Если да, то с каким именно? Можно ли этот текстовый редактор считать текстовым процессор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1187280" y="20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основные элементы окна текстового процесс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1116000" y="20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 общие элементы окна текстового процессора и окна графического реда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3564000" y="90792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67 (стр. 7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1116000" y="1413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едините линиями основные элементы окна текстового процессора и соответствующие им наз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6732720" y="2852640"/>
            <a:ext cx="22320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за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6732720" y="3573360"/>
            <a:ext cx="22320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6732720" y="4149720"/>
            <a:ext cx="22320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6732720" y="4724280"/>
            <a:ext cx="2232000" cy="6426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нели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6732720" y="5589720"/>
            <a:ext cx="22320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6732720" y="6237360"/>
            <a:ext cx="22320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8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4896000" cy="4010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40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0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8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708360" y="2205000"/>
            <a:ext cx="201312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умаж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3673440" y="2781360"/>
            <a:ext cx="205092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мпьюте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9"/>
          <p:cNvSpPr/>
          <p:nvPr/>
        </p:nvSpPr>
        <p:spPr>
          <a:xfrm flipV="1">
            <a:off x="2700360" y="2421000"/>
            <a:ext cx="100800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2700360" y="2637000"/>
            <a:ext cx="1008000" cy="287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6589800" y="3141720"/>
            <a:ext cx="18730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де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6589800" y="3645000"/>
            <a:ext cx="18730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дразде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3"/>
          <p:cNvSpPr/>
          <p:nvPr/>
        </p:nvSpPr>
        <p:spPr>
          <a:xfrm>
            <a:off x="6589800" y="4149720"/>
            <a:ext cx="19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унк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6589800" y="4724280"/>
            <a:ext cx="19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бзац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6589800" y="522936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трок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6"/>
          <p:cNvSpPr/>
          <p:nvPr/>
        </p:nvSpPr>
        <p:spPr>
          <a:xfrm>
            <a:off x="3851280" y="3716280"/>
            <a:ext cx="187308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едак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8"/>
          <p:cNvSpPr/>
          <p:nvPr/>
        </p:nvSpPr>
        <p:spPr>
          <a:xfrm flipV="1">
            <a:off x="2771640" y="4076640"/>
            <a:ext cx="1079640" cy="827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3"/>
          <p:cNvSpPr/>
          <p:nvPr/>
        </p:nvSpPr>
        <p:spPr>
          <a:xfrm>
            <a:off x="2806560" y="4869000"/>
            <a:ext cx="1044720" cy="504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6516720" y="2060640"/>
            <a:ext cx="1981080" cy="900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трук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о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окумент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1187280" y="836640"/>
            <a:ext cx="7777440" cy="100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кстовый докум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информация, представленная на бумажном, электронном или ином материальном носителе в текстов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6589800" y="573408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лово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6589800" y="623736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мвол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7"/>
          <p:cNvSpPr/>
          <p:nvPr/>
        </p:nvSpPr>
        <p:spPr>
          <a:xfrm>
            <a:off x="6012000" y="1916280"/>
            <a:ext cx="2952720" cy="475272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8"/>
          <p:cNvSpPr/>
          <p:nvPr/>
        </p:nvSpPr>
        <p:spPr>
          <a:xfrm>
            <a:off x="6084720" y="3068640"/>
            <a:ext cx="2808360" cy="360036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6"/>
          <p:cNvSpPr/>
          <p:nvPr/>
        </p:nvSpPr>
        <p:spPr>
          <a:xfrm>
            <a:off x="3851280" y="4869000"/>
            <a:ext cx="1873080" cy="93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оцесс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1187280" y="2205000"/>
            <a:ext cx="158436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хн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д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окум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1258920" y="3933720"/>
            <a:ext cx="1584360" cy="1727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з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0"/>
          <p:cNvSpPr/>
          <p:nvPr/>
        </p:nvSpPr>
        <p:spPr>
          <a:xfrm>
            <a:off x="6156360" y="3573360"/>
            <a:ext cx="2663640" cy="309564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1"/>
          <p:cNvSpPr/>
          <p:nvPr/>
        </p:nvSpPr>
        <p:spPr>
          <a:xfrm>
            <a:off x="6227640" y="4076640"/>
            <a:ext cx="2521080" cy="259236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2"/>
          <p:cNvSpPr/>
          <p:nvPr/>
        </p:nvSpPr>
        <p:spPr>
          <a:xfrm>
            <a:off x="6300720" y="4653000"/>
            <a:ext cx="2374920" cy="201600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3"/>
          <p:cNvSpPr/>
          <p:nvPr/>
        </p:nvSpPr>
        <p:spPr>
          <a:xfrm>
            <a:off x="6443640" y="5157720"/>
            <a:ext cx="2160720" cy="151128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>
            <a:off x="6516720" y="5661000"/>
            <a:ext cx="2016000" cy="100800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5"/>
          <p:cNvSpPr/>
          <p:nvPr/>
        </p:nvSpPr>
        <p:spPr>
          <a:xfrm>
            <a:off x="6588000" y="6165720"/>
            <a:ext cx="1944720" cy="50328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30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00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8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8000"/>
                            </p:stCondLst>
                            <p:childTnLst>
                              <p:par>
                                <p:cTn id="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8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1000"/>
                            </p:stCondLst>
                            <p:childTnLst>
                              <p:par>
                                <p:cTn id="8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2000"/>
                            </p:stCondLst>
                            <p:childTnLst>
                              <p:par>
                                <p:cTn id="8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3000"/>
                            </p:stCondLst>
                            <p:childTnLst>
                              <p:par>
                                <p:cTn id="8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4000"/>
                            </p:stCondLst>
                            <p:childTnLst>
                              <p:par>
                                <p:cTn id="8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5000"/>
                            </p:stCondLst>
                            <p:childTnLst>
                              <p:par>
                                <p:cTn id="8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600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.1 (стр. 140-1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66-168 (стр. 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7:18:46Z</dcterms:modified>
  <cp:revision>42</cp:revision>
  <dc:subject/>
  <dc:title>Презентация PowerPoint</dc:title>
</cp:coreProperties>
</file>