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567-82D7-426E-8AFB-00978EC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04C-AA08-4BCD-9F81-B5A3772A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A1B-DE98-4F1B-94F3-7CA965B7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286-BC53-4E5E-9FEA-F8F14A72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F48-888F-44FF-AC1A-7CB1AF9D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144-2C88-4DB7-8CFD-32CE8D3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E16-93E3-45D1-A4A4-976E49CF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3AE-BE76-4BDA-BD63-C19DB73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257-3F91-42F8-A56A-70A0C40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D7C-9B7E-4437-A230-B75313B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568-0036-4C56-9ED6-C996CAD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A28-A86F-4B05-B8A8-68E2686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C92-5DB3-4DFE-A909-8CA549C48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9e997f40-f285-4369-aa7d-88b892beca45/?interface=catalog&amp;class=51&amp;subject=19" TargetMode="External"/><Relationship Id="rId3" Type="http://schemas.openxmlformats.org/officeDocument/2006/relationships/hyperlink" Target="http://isolde.ucoz.ru/_pu/0/88158062.jpg" TargetMode="External"/><Relationship Id="rId4" Type="http://schemas.openxmlformats.org/officeDocument/2006/relationships/hyperlink" Target="http://www.physics.ru/courses/op25part2/content/scientist/images/aristotel.jp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060640"/>
            <a:ext cx="6407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ЭЛЕМЕНТЫ АЛГЕРЫ ЛОГ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ЧЕСКИЕ ОСНОВЫ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765000"/>
            <a:ext cx="8424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зъюнкц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ым двум высказываниям ставит в соответствие новое высказывание, являющееся ложным тогда и только тогда, когда оба исходных высказывания лож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слож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|,  ИЛИ, +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4360" y="4005360"/>
          <a:ext cx="3240000" cy="2135160"/>
        </p:xfrm>
        <a:graphic>
          <a:graphicData uri="http://schemas.openxmlformats.org/drawingml/2006/table">
            <a:tbl>
              <a:tblPr/>
              <a:tblGrid>
                <a:gridCol w="1081080"/>
                <a:gridCol w="1077840"/>
                <a:gridCol w="10810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3284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27640" y="3284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3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676680" cy="2428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4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622764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4681440" y="3355920"/>
            <a:ext cx="3816360" cy="216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836640"/>
            <a:ext cx="835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которая каждому высказыванию ставит в соответствие новое высказывание, значение которого противоположно исходно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отриц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¯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65080" y="3571920"/>
          <a:ext cx="2656080" cy="1281240"/>
        </p:xfrm>
        <a:graphic>
          <a:graphicData uri="http://schemas.openxmlformats.org/drawingml/2006/table">
            <a:tbl>
              <a:tblPr/>
              <a:tblGrid>
                <a:gridCol w="1328760"/>
                <a:gridCol w="1327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0"/>
          <p:cNvSpPr/>
          <p:nvPr/>
        </p:nvSpPr>
        <p:spPr>
          <a:xfrm>
            <a:off x="468360" y="5734080"/>
            <a:ext cx="84247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 имеют следующий приорит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68360" y="285264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27640" y="285264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6"/>
          <p:cNvSpPr/>
          <p:nvPr/>
        </p:nvSpPr>
        <p:spPr>
          <a:xfrm>
            <a:off x="5761080" y="3571920"/>
            <a:ext cx="1727280" cy="1727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6408720" y="414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4968720" y="44355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11280" y="836640"/>
            <a:ext cx="82818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крейсер"»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«На Web-странице встречается слово "линкор"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котором сегменте сети Интернет 5 000 000 Web-страниц. В нём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тинно для 4800 страниц,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4500 страниц, а высказывани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для 7000 стран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какого количества Web-страниц в этом случае будут истинны следующие выражения и высказыва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 Web-странице встречается слово "крейсер"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стречается слово "линкор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2"/>
          <p:cNvSpPr/>
          <p:nvPr/>
        </p:nvSpPr>
        <p:spPr>
          <a:xfrm>
            <a:off x="71136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аем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395280" y="5300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0000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993 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692360" y="4726080"/>
            <a:ext cx="60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, B = 45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+ 4500 = 9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474920" y="436572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800 – 2300 =  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условие задачи графичес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68360" y="530064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2500 Web-страница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крейсер"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тре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лово "линкор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1042920" y="907920"/>
            <a:ext cx="4032360" cy="4032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835280" y="17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000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114640" cy="157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8"/>
          <p:cNvSpPr/>
          <p:nvPr/>
        </p:nvSpPr>
        <p:spPr>
          <a:xfrm>
            <a:off x="6084720" y="299736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763640" y="3789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258920" y="50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мен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4308480" cy="3200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4"/>
          <p:cNvSpPr/>
          <p:nvPr/>
        </p:nvSpPr>
        <p:spPr>
          <a:xfrm>
            <a:off x="3348000" y="2638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4356000" y="26384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619280" y="580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300 – 7000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ра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8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4319640" cy="3106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2916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3276720" y="256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3635280" y="2565360"/>
            <a:ext cx="362160" cy="459720"/>
            <a:chOff x="3635280" y="2565360"/>
            <a:chExt cx="362160" cy="459720"/>
          </a:xfrm>
        </p:grpSpPr>
        <p:sp>
          <p:nvSpPr>
            <p:cNvPr id="127" name="Line 30"/>
            <p:cNvSpPr/>
            <p:nvPr/>
          </p:nvSpPr>
          <p:spPr>
            <a:xfrm>
              <a:off x="3708360" y="263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3635280" y="256536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9"/>
          <p:cNvSpPr/>
          <p:nvPr/>
        </p:nvSpPr>
        <p:spPr>
          <a:xfrm>
            <a:off x="6086520" y="40784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-0.46076 -0.00185 E">
                                      <p:cBhvr>
                                        <p:cTn id="32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45417 -0.00972 E">
                                      <p:cBhvr>
                                        <p:cTn id="33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3699E-006 L -0.47657 -0.22219 E">
                                      <p:cBhvr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2"/>
          <p:cNvSpPr/>
          <p:nvPr/>
        </p:nvSpPr>
        <p:spPr>
          <a:xfrm>
            <a:off x="395280" y="0"/>
            <a:ext cx="853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остроение таблиц истинности для логических выражен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47640" y="1122480"/>
            <a:ext cx="6337440" cy="361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число переменных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973080" y="1700280"/>
            <a:ext cx="734400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ть общее число логических операций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39640" y="2421000"/>
            <a:ext cx="8353440" cy="358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последовательность выполнения логически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270160" y="3068640"/>
            <a:ext cx="47498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олбцов в таб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41440" y="3716280"/>
            <a:ext cx="82072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ить шапку таблицы, включив в неё переменные и 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333440" y="4363920"/>
            <a:ext cx="6623280" cy="505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число строк в таблице без шапки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2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124000" y="5157720"/>
            <a:ext cx="518184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ть наборы входных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68360" y="5877000"/>
            <a:ext cx="8353440" cy="647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сти заполнение таблицы по столбцам, выполняя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в соответствии с установленной последова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4716360" y="1484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4716360" y="213372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4716360" y="350028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4716360" y="4149720"/>
            <a:ext cx="0" cy="21600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4716360" y="486900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4716360" y="5589720"/>
            <a:ext cx="0" cy="28872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85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9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14280" y="2714760"/>
          <a:ext cx="7000920" cy="500040"/>
        </p:xfrm>
        <a:graphic>
          <a:graphicData uri="http://schemas.openxmlformats.org/drawingml/2006/table">
            <a:tbl>
              <a:tblPr/>
              <a:tblGrid>
                <a:gridCol w="1697040"/>
                <a:gridCol w="1731960"/>
                <a:gridCol w="1805040"/>
                <a:gridCol w="17668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214280" y="3214800"/>
          <a:ext cx="6985080" cy="17064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810080"/>
                <a:gridCol w="174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50"/>
          <p:cNvSpPr/>
          <p:nvPr/>
        </p:nvSpPr>
        <p:spPr>
          <a:xfrm>
            <a:off x="285840" y="1285920"/>
            <a:ext cx="86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= 2, m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ритет операций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,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2"/>
          <p:cNvSpPr/>
          <p:nvPr/>
        </p:nvSpPr>
        <p:spPr>
          <a:xfrm>
            <a:off x="214200" y="0"/>
            <a:ext cx="90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1f497d"/>
                </a:solidFill>
                <a:latin typeface="Calibri"/>
              </a:rPr>
              <a:t>Пример построения таблицы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Заголовок 2"/>
          <p:cNvSpPr/>
          <p:nvPr/>
        </p:nvSpPr>
        <p:spPr>
          <a:xfrm>
            <a:off x="468360" y="260280"/>
            <a:ext cx="838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логических опера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684360" y="1125360"/>
            <a:ext cx="0" cy="4896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684360" y="1125360"/>
            <a:ext cx="2592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76720" y="981000"/>
            <a:ext cx="3671640" cy="360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коны алгебры-лог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684360" y="206064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B = B &amp;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 = B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&amp;(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= (A&amp;B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&amp;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643280" y="50133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&amp;C) = 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&amp;(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 &amp; B) &amp; C = A &amp; ( B &amp;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 V B) V C =A V ( B V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ст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51280" y="6021360"/>
            <a:ext cx="72072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чет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предел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двой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риц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7"/>
          <p:cNvGrpSpPr/>
          <p:nvPr/>
        </p:nvGrpSpPr>
        <p:grpSpPr>
          <a:xfrm>
            <a:off x="4572000" y="5734080"/>
            <a:ext cx="3456000" cy="574560"/>
            <a:chOff x="4572000" y="5734080"/>
            <a:chExt cx="3456000" cy="574560"/>
          </a:xfrm>
        </p:grpSpPr>
        <p:sp>
          <p:nvSpPr>
            <p:cNvPr id="176" name="Rectangle 4"/>
            <p:cNvSpPr/>
            <p:nvPr/>
          </p:nvSpPr>
          <p:spPr>
            <a:xfrm>
              <a:off x="4572000" y="5734080"/>
              <a:ext cx="3456000" cy="57456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Ā =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6013440" y="5805360"/>
              <a:ext cx="7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7"/>
          <p:cNvSpPr/>
          <p:nvPr/>
        </p:nvSpPr>
        <p:spPr>
          <a:xfrm flipH="1">
            <a:off x="684360" y="6021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 flipH="1">
            <a:off x="684360" y="342900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 flipH="1">
            <a:off x="684360" y="4797360"/>
            <a:ext cx="287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3280" y="155592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43280" y="220356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Ā =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643280" y="429264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0=0;   A &amp;1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643280" y="494172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 = A;  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643280" y="2924280"/>
            <a:ext cx="3456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amp; A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643280" y="3500280"/>
            <a:ext cx="345600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 A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"/>
          <p:cNvSpPr/>
          <p:nvPr/>
        </p:nvSpPr>
        <p:spPr>
          <a:xfrm flipH="1">
            <a:off x="3780000" y="177336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3780000" y="206028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71640" y="170028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ть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780000" y="314172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 flipV="1">
            <a:off x="3780000" y="3428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3851280" y="4437000"/>
            <a:ext cx="792000" cy="287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 flipH="1" flipV="1">
            <a:off x="3851280" y="472392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"/>
          <p:cNvSpPr/>
          <p:nvPr/>
        </p:nvSpPr>
        <p:spPr>
          <a:xfrm flipH="1">
            <a:off x="3851280" y="5805360"/>
            <a:ext cx="792000" cy="14472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306864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овт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42920" y="4365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0 и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 flipH="1" flipV="1">
            <a:off x="3780000" y="5949720"/>
            <a:ext cx="86328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42920" y="5589720"/>
            <a:ext cx="287964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об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5"/>
          <p:cNvGrpSpPr/>
          <p:nvPr/>
        </p:nvGrpSpPr>
        <p:grpSpPr>
          <a:xfrm>
            <a:off x="4643280" y="5589720"/>
            <a:ext cx="3456000" cy="431640"/>
            <a:chOff x="4643280" y="5589720"/>
            <a:chExt cx="3456000" cy="431640"/>
          </a:xfrm>
        </p:grpSpPr>
        <p:sp>
          <p:nvSpPr>
            <p:cNvPr id="200" name="Rectangle 4"/>
            <p:cNvSpPr/>
            <p:nvPr/>
          </p:nvSpPr>
          <p:spPr>
            <a:xfrm>
              <a:off x="4643280" y="5589720"/>
              <a:ext cx="3456000" cy="431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&amp; B = Ā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7"/>
            <p:cNvSpPr/>
            <p:nvPr/>
          </p:nvSpPr>
          <p:spPr>
            <a:xfrm>
              <a:off x="5580000" y="566100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8"/>
            <p:cNvSpPr/>
            <p:nvPr/>
          </p:nvSpPr>
          <p:spPr>
            <a:xfrm>
              <a:off x="7020000" y="566100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4643280" y="6165720"/>
            <a:ext cx="3456000" cy="432000"/>
            <a:chOff x="4643280" y="6165720"/>
            <a:chExt cx="3456000" cy="432000"/>
          </a:xfrm>
        </p:grpSpPr>
        <p:sp>
          <p:nvSpPr>
            <p:cNvPr id="204" name="Rectangle 4"/>
            <p:cNvSpPr/>
            <p:nvPr/>
          </p:nvSpPr>
          <p:spPr>
            <a:xfrm>
              <a:off x="4643280" y="6165720"/>
              <a:ext cx="3456000" cy="43200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B  = Ā &amp; 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1"/>
            <p:cNvSpPr/>
            <p:nvPr/>
          </p:nvSpPr>
          <p:spPr>
            <a:xfrm>
              <a:off x="5435640" y="6237360"/>
              <a:ext cx="6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2"/>
            <p:cNvSpPr/>
            <p:nvPr/>
          </p:nvSpPr>
          <p:spPr>
            <a:xfrm>
              <a:off x="7020000" y="6237360"/>
              <a:ext cx="144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8000"/>
                            </p:stCondLst>
                            <p:childTnLst>
                              <p:par>
                                <p:cTn id="5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6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70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80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468360" y="1413000"/>
          <a:ext cx="8351640" cy="3600360"/>
        </p:xfrm>
        <a:graphic>
          <a:graphicData uri="http://schemas.openxmlformats.org/drawingml/2006/table">
            <a:tbl>
              <a:tblPr/>
              <a:tblGrid>
                <a:gridCol w="571320"/>
                <a:gridCol w="641520"/>
                <a:gridCol w="714240"/>
                <a:gridCol w="857520"/>
                <a:gridCol w="1569960"/>
                <a:gridCol w="1000080"/>
                <a:gridCol w="836640"/>
                <a:gridCol w="216036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&amp;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(B &amp;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v B) &amp; (A v 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102"/>
          <p:cNvSpPr/>
          <p:nvPr/>
        </p:nvSpPr>
        <p:spPr>
          <a:xfrm>
            <a:off x="468360" y="7650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ительный закон для логического сложе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B &amp; 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Заголовок 2"/>
          <p:cNvSpPr/>
          <p:nvPr/>
        </p:nvSpPr>
        <p:spPr>
          <a:xfrm>
            <a:off x="539640" y="260280"/>
            <a:ext cx="838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Доказательство зак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9"/>
          <p:cNvSpPr/>
          <p:nvPr/>
        </p:nvSpPr>
        <p:spPr>
          <a:xfrm>
            <a:off x="539640" y="530064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4"/>
          <p:cNvSpPr/>
          <p:nvPr/>
        </p:nvSpPr>
        <p:spPr>
          <a:xfrm>
            <a:off x="2627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5"/>
          <p:cNvSpPr/>
          <p:nvPr/>
        </p:nvSpPr>
        <p:spPr>
          <a:xfrm>
            <a:off x="2627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6"/>
          <p:cNvSpPr/>
          <p:nvPr/>
        </p:nvSpPr>
        <p:spPr>
          <a:xfrm>
            <a:off x="2627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7"/>
          <p:cNvSpPr/>
          <p:nvPr/>
        </p:nvSpPr>
        <p:spPr>
          <a:xfrm>
            <a:off x="2627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8"/>
          <p:cNvSpPr/>
          <p:nvPr/>
        </p:nvSpPr>
        <p:spPr>
          <a:xfrm>
            <a:off x="2627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9"/>
          <p:cNvSpPr/>
          <p:nvPr/>
        </p:nvSpPr>
        <p:spPr>
          <a:xfrm>
            <a:off x="2627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0"/>
          <p:cNvSpPr/>
          <p:nvPr/>
        </p:nvSpPr>
        <p:spPr>
          <a:xfrm>
            <a:off x="2627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1"/>
          <p:cNvSpPr/>
          <p:nvPr/>
        </p:nvSpPr>
        <p:spPr>
          <a:xfrm>
            <a:off x="262728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3"/>
          <p:cNvSpPr/>
          <p:nvPr/>
        </p:nvSpPr>
        <p:spPr>
          <a:xfrm>
            <a:off x="385128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4"/>
          <p:cNvSpPr/>
          <p:nvPr/>
        </p:nvSpPr>
        <p:spPr>
          <a:xfrm>
            <a:off x="385128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6"/>
          <p:cNvSpPr/>
          <p:nvPr/>
        </p:nvSpPr>
        <p:spPr>
          <a:xfrm>
            <a:off x="385128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7"/>
          <p:cNvSpPr/>
          <p:nvPr/>
        </p:nvSpPr>
        <p:spPr>
          <a:xfrm>
            <a:off x="385128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8"/>
          <p:cNvSpPr/>
          <p:nvPr/>
        </p:nvSpPr>
        <p:spPr>
          <a:xfrm>
            <a:off x="385128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9"/>
          <p:cNvSpPr/>
          <p:nvPr/>
        </p:nvSpPr>
        <p:spPr>
          <a:xfrm>
            <a:off x="385128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0"/>
          <p:cNvSpPr/>
          <p:nvPr/>
        </p:nvSpPr>
        <p:spPr>
          <a:xfrm>
            <a:off x="385128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1"/>
          <p:cNvSpPr/>
          <p:nvPr/>
        </p:nvSpPr>
        <p:spPr>
          <a:xfrm>
            <a:off x="3851280" y="465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2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3"/>
          <p:cNvSpPr/>
          <p:nvPr/>
        </p:nvSpPr>
        <p:spPr>
          <a:xfrm>
            <a:off x="507672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4"/>
          <p:cNvSpPr/>
          <p:nvPr/>
        </p:nvSpPr>
        <p:spPr>
          <a:xfrm>
            <a:off x="507672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5"/>
          <p:cNvSpPr/>
          <p:nvPr/>
        </p:nvSpPr>
        <p:spPr>
          <a:xfrm>
            <a:off x="5076720" y="256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6"/>
          <p:cNvSpPr/>
          <p:nvPr/>
        </p:nvSpPr>
        <p:spPr>
          <a:xfrm>
            <a:off x="507672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7"/>
          <p:cNvSpPr/>
          <p:nvPr/>
        </p:nvSpPr>
        <p:spPr>
          <a:xfrm>
            <a:off x="507672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8"/>
          <p:cNvSpPr/>
          <p:nvPr/>
        </p:nvSpPr>
        <p:spPr>
          <a:xfrm>
            <a:off x="507672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9"/>
          <p:cNvSpPr/>
          <p:nvPr/>
        </p:nvSpPr>
        <p:spPr>
          <a:xfrm>
            <a:off x="507672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0"/>
          <p:cNvSpPr/>
          <p:nvPr/>
        </p:nvSpPr>
        <p:spPr>
          <a:xfrm>
            <a:off x="507672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1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ыва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2"/>
          <p:cNvSpPr/>
          <p:nvPr/>
        </p:nvSpPr>
        <p:spPr>
          <a:xfrm>
            <a:off x="615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3"/>
          <p:cNvSpPr/>
          <p:nvPr/>
        </p:nvSpPr>
        <p:spPr>
          <a:xfrm>
            <a:off x="615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4"/>
          <p:cNvSpPr/>
          <p:nvPr/>
        </p:nvSpPr>
        <p:spPr>
          <a:xfrm>
            <a:off x="615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5"/>
          <p:cNvSpPr/>
          <p:nvPr/>
        </p:nvSpPr>
        <p:spPr>
          <a:xfrm>
            <a:off x="615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6"/>
          <p:cNvSpPr/>
          <p:nvPr/>
        </p:nvSpPr>
        <p:spPr>
          <a:xfrm>
            <a:off x="615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7"/>
          <p:cNvSpPr/>
          <p:nvPr/>
        </p:nvSpPr>
        <p:spPr>
          <a:xfrm>
            <a:off x="6156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8"/>
          <p:cNvSpPr/>
          <p:nvPr/>
        </p:nvSpPr>
        <p:spPr>
          <a:xfrm>
            <a:off x="615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9"/>
          <p:cNvSpPr/>
          <p:nvPr/>
        </p:nvSpPr>
        <p:spPr>
          <a:xfrm>
            <a:off x="615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70"/>
          <p:cNvSpPr/>
          <p:nvPr/>
        </p:nvSpPr>
        <p:spPr>
          <a:xfrm>
            <a:off x="468360" y="53006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ножае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выводим результ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3"/>
          <p:cNvSpPr/>
          <p:nvPr/>
        </p:nvSpPr>
        <p:spPr>
          <a:xfrm>
            <a:off x="7596360" y="1773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4"/>
          <p:cNvSpPr/>
          <p:nvPr/>
        </p:nvSpPr>
        <p:spPr>
          <a:xfrm>
            <a:off x="7596360" y="220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5"/>
          <p:cNvSpPr/>
          <p:nvPr/>
        </p:nvSpPr>
        <p:spPr>
          <a:xfrm>
            <a:off x="7596360" y="26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6"/>
          <p:cNvSpPr/>
          <p:nvPr/>
        </p:nvSpPr>
        <p:spPr>
          <a:xfrm>
            <a:off x="7596360" y="2997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77"/>
          <p:cNvSpPr/>
          <p:nvPr/>
        </p:nvSpPr>
        <p:spPr>
          <a:xfrm>
            <a:off x="7596360" y="3429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8"/>
          <p:cNvSpPr/>
          <p:nvPr/>
        </p:nvSpPr>
        <p:spPr>
          <a:xfrm>
            <a:off x="7596360" y="378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9"/>
          <p:cNvSpPr/>
          <p:nvPr/>
        </p:nvSpPr>
        <p:spPr>
          <a:xfrm>
            <a:off x="7596360" y="42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0"/>
          <p:cNvSpPr/>
          <p:nvPr/>
        </p:nvSpPr>
        <p:spPr>
          <a:xfrm>
            <a:off x="7596360" y="458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82"/>
          <p:cNvSpPr/>
          <p:nvPr/>
        </p:nvSpPr>
        <p:spPr>
          <a:xfrm>
            <a:off x="468360" y="5300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венство выделенных столбцов доказывает распределительный зак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4"/>
          <p:cNvSpPr/>
          <p:nvPr/>
        </p:nvSpPr>
        <p:spPr>
          <a:xfrm>
            <a:off x="3203640" y="1413000"/>
            <a:ext cx="165564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5"/>
          <p:cNvSpPr/>
          <p:nvPr/>
        </p:nvSpPr>
        <p:spPr>
          <a:xfrm>
            <a:off x="6659640" y="1413000"/>
            <a:ext cx="2160360" cy="3600360"/>
          </a:xfrm>
          <a:prstGeom prst="rect">
            <a:avLst/>
          </a:prstGeom>
          <a:noFill/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4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6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7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4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6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0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468360" y="692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ля, Вася и Серёжа гостили летом у бабушки. Однажды один из мальчиков нечаянно разбил любимую бабушкину ва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6"/>
          <p:cNvGrpSpPr/>
          <p:nvPr/>
        </p:nvGrpSpPr>
        <p:grpSpPr>
          <a:xfrm>
            <a:off x="5881680" y="3645000"/>
            <a:ext cx="3144960" cy="2705040"/>
            <a:chOff x="5881680" y="3645000"/>
            <a:chExt cx="3144960" cy="2705040"/>
          </a:xfrm>
        </p:grpSpPr>
        <p:pic>
          <p:nvPicPr>
            <p:cNvPr id="261" name="Picture 10" descr=""/>
            <p:cNvPicPr/>
            <p:nvPr/>
          </p:nvPicPr>
          <p:blipFill>
            <a:blip r:embed="rId2"/>
            <a:stretch/>
          </p:blipFill>
          <p:spPr>
            <a:xfrm>
              <a:off x="6515280" y="5229360"/>
              <a:ext cx="2257200" cy="10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http://mdou-teremok.moy.su/kartinki/ab2a40ef409a-1-.png"/>
            <p:cNvPicPr/>
            <p:nvPr/>
          </p:nvPicPr>
          <p:blipFill>
            <a:blip r:embed="rId3"/>
            <a:stretch/>
          </p:blipFill>
          <p:spPr>
            <a:xfrm>
              <a:off x="8078760" y="4292640"/>
              <a:ext cx="94788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4" descr="http://falconsscience.files.wordpress.com/2007/10/cartoon-boys.jpg%3Fw%3D283%26h%3D494"/>
            <p:cNvPicPr/>
            <p:nvPr/>
          </p:nvPicPr>
          <p:blipFill>
            <a:blip r:embed="rId4"/>
            <a:stretch/>
          </p:blipFill>
          <p:spPr>
            <a:xfrm>
              <a:off x="5881680" y="3860640"/>
              <a:ext cx="1265400" cy="22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2" descr="malch55"/>
            <p:cNvPicPr/>
            <p:nvPr/>
          </p:nvPicPr>
          <p:blipFill>
            <a:blip r:embed="rId5"/>
            <a:stretch/>
          </p:blipFill>
          <p:spPr>
            <a:xfrm>
              <a:off x="6767640" y="3645000"/>
              <a:ext cx="161928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Text Box 4"/>
          <p:cNvSpPr/>
          <p:nvPr/>
        </p:nvSpPr>
        <p:spPr>
          <a:xfrm>
            <a:off x="395280" y="1844640"/>
            <a:ext cx="8424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вопрос, кто разбил вазу, они дали такие отве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рёж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1) Я не разбивал. 2) Вася не разбив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3) Серёжа не разбивал. 4) Вазу разбил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л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) Я не разбивал. 6) Вазу разбил Серёж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95280" y="3789360"/>
            <a:ext cx="5472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бушка знала, что один из её внуков (правдивый), оба раза сказал правду; второй (шутник) оба раза сказал неправду; третий (хитрец) один раз сказал правду, а другой раз - неправду. Назовите имена правдивого, шутника и хитре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то из внуков разбил вазу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539640" y="2492280"/>
          <a:ext cx="8280360" cy="2327400"/>
        </p:xfrm>
        <a:graphic>
          <a:graphicData uri="http://schemas.openxmlformats.org/drawingml/2006/table">
            <a:tbl>
              <a:tblPr/>
              <a:tblGrid>
                <a:gridCol w="719280"/>
                <a:gridCol w="792000"/>
                <a:gridCol w="720720"/>
                <a:gridCol w="1449360"/>
                <a:gridCol w="638280"/>
                <a:gridCol w="1200240"/>
                <a:gridCol w="817560"/>
                <a:gridCol w="1022400"/>
                <a:gridCol w="92052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Серёж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В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е Ко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8" name="Group 72"/>
          <p:cNvGrpSpPr/>
          <p:nvPr/>
        </p:nvGrpSpPr>
        <p:grpSpPr>
          <a:xfrm>
            <a:off x="3203640" y="3213000"/>
            <a:ext cx="431640" cy="429120"/>
            <a:chOff x="3203640" y="3213000"/>
            <a:chExt cx="431640" cy="429120"/>
          </a:xfrm>
        </p:grpSpPr>
        <p:sp>
          <p:nvSpPr>
            <p:cNvPr id="269" name="Text Box 73"/>
            <p:cNvSpPr/>
            <p:nvPr/>
          </p:nvSpPr>
          <p:spPr>
            <a:xfrm>
              <a:off x="3203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74"/>
            <p:cNvSpPr/>
            <p:nvPr/>
          </p:nvSpPr>
          <p:spPr>
            <a:xfrm>
              <a:off x="3276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75"/>
          <p:cNvGrpSpPr/>
          <p:nvPr/>
        </p:nvGrpSpPr>
        <p:grpSpPr>
          <a:xfrm>
            <a:off x="4356000" y="3213000"/>
            <a:ext cx="431640" cy="429120"/>
            <a:chOff x="4356000" y="3213000"/>
            <a:chExt cx="431640" cy="429120"/>
          </a:xfrm>
        </p:grpSpPr>
        <p:sp>
          <p:nvSpPr>
            <p:cNvPr id="272" name="Text Box 76"/>
            <p:cNvSpPr/>
            <p:nvPr/>
          </p:nvSpPr>
          <p:spPr>
            <a:xfrm>
              <a:off x="435600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7"/>
            <p:cNvSpPr/>
            <p:nvPr/>
          </p:nvSpPr>
          <p:spPr>
            <a:xfrm>
              <a:off x="442908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8"/>
          <p:cNvGrpSpPr/>
          <p:nvPr/>
        </p:nvGrpSpPr>
        <p:grpSpPr>
          <a:xfrm>
            <a:off x="7164360" y="3213000"/>
            <a:ext cx="431640" cy="429120"/>
            <a:chOff x="7164360" y="3213000"/>
            <a:chExt cx="431640" cy="429120"/>
          </a:xfrm>
        </p:grpSpPr>
        <p:sp>
          <p:nvSpPr>
            <p:cNvPr id="275" name="Text Box 79"/>
            <p:cNvSpPr/>
            <p:nvPr/>
          </p:nvSpPr>
          <p:spPr>
            <a:xfrm>
              <a:off x="716436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>
              <a:off x="723744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1"/>
          <p:cNvGrpSpPr/>
          <p:nvPr/>
        </p:nvGrpSpPr>
        <p:grpSpPr>
          <a:xfrm>
            <a:off x="5219640" y="3213000"/>
            <a:ext cx="431640" cy="429120"/>
            <a:chOff x="5219640" y="3213000"/>
            <a:chExt cx="431640" cy="429120"/>
          </a:xfrm>
        </p:grpSpPr>
        <p:sp>
          <p:nvSpPr>
            <p:cNvPr id="278" name="Text Box 82"/>
            <p:cNvSpPr/>
            <p:nvPr/>
          </p:nvSpPr>
          <p:spPr>
            <a:xfrm>
              <a:off x="5219640" y="3213000"/>
              <a:ext cx="431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83"/>
            <p:cNvSpPr/>
            <p:nvPr/>
          </p:nvSpPr>
          <p:spPr>
            <a:xfrm>
              <a:off x="5292720" y="3286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84"/>
          <p:cNvSpPr/>
          <p:nvPr/>
        </p:nvSpPr>
        <p:spPr>
          <a:xfrm>
            <a:off x="468360" y="189000"/>
            <a:ext cx="84247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усть К =«Коля разбил вазу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=«Вася разбил вазу»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=«Серёжа разбил вазу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м в таблице истинности высказывания каждого мальчика. Так как </a:t>
            </a:r>
            <a:r>
              <a:rPr b="0" lang="ru-RU" sz="2200" spc="-1" strike="noStrike">
                <a:solidFill>
                  <a:srgbClr val="008000"/>
                </a:solidFill>
                <a:latin typeface="Arial"/>
              </a:rPr>
              <a:t>ваза разбита одним внуком, составим не всю таблицу, а только её фрагмент, содержащий наборы входных переменных: 001, 010, 10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5"/>
          <p:cNvSpPr/>
          <p:nvPr/>
        </p:nvSpPr>
        <p:spPr>
          <a:xfrm>
            <a:off x="500040" y="5000760"/>
            <a:ext cx="82803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ходя из того, что знает о внуках бабушка, следует искать в таблице строки, содержащие в каком-либо порядке три комбинации значений: 00, 11, 01 (или 10). Это вторая стро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зу разбил Серёжа, он - хитрец. Шутником оказался Вася. Имя правдивого внука - К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6"/>
          <p:cNvSpPr/>
          <p:nvPr/>
        </p:nvSpPr>
        <p:spPr>
          <a:xfrm>
            <a:off x="2916360" y="4005360"/>
            <a:ext cx="187164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7"/>
          <p:cNvSpPr/>
          <p:nvPr/>
        </p:nvSpPr>
        <p:spPr>
          <a:xfrm>
            <a:off x="5148360" y="400536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0"/>
          <p:cNvSpPr/>
          <p:nvPr/>
        </p:nvSpPr>
        <p:spPr>
          <a:xfrm>
            <a:off x="7020000" y="4005360"/>
            <a:ext cx="1584360" cy="360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1143000" y="857160"/>
            <a:ext cx="71866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ая 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ое вы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блица ист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18252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Группа 132"/>
          <p:cNvGrpSpPr/>
          <p:nvPr/>
        </p:nvGrpSpPr>
        <p:grpSpPr>
          <a:xfrm>
            <a:off x="5781600" y="2643120"/>
            <a:ext cx="2289960" cy="1993320"/>
            <a:chOff x="5781600" y="2643120"/>
            <a:chExt cx="2289960" cy="1993320"/>
          </a:xfrm>
        </p:grpSpPr>
        <p:grpSp>
          <p:nvGrpSpPr>
            <p:cNvPr id="286" name="Group 80"/>
            <p:cNvGrpSpPr/>
            <p:nvPr/>
          </p:nvGrpSpPr>
          <p:grpSpPr>
            <a:xfrm>
              <a:off x="5781600" y="2643120"/>
              <a:ext cx="2289960" cy="1993320"/>
              <a:chOff x="5781600" y="2643120"/>
              <a:chExt cx="2289960" cy="1993320"/>
            </a:xfrm>
          </p:grpSpPr>
          <p:sp>
            <p:nvSpPr>
              <p:cNvPr id="287" name="Oval 81"/>
              <p:cNvSpPr/>
              <p:nvPr/>
            </p:nvSpPr>
            <p:spPr>
              <a:xfrm>
                <a:off x="6762960" y="2643120"/>
                <a:ext cx="16380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82"/>
              <p:cNvSpPr/>
              <p:nvPr/>
            </p:nvSpPr>
            <p:spPr>
              <a:xfrm>
                <a:off x="6927120" y="2721600"/>
                <a:ext cx="89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3"/>
              <p:cNvSpPr/>
              <p:nvPr/>
            </p:nvSpPr>
            <p:spPr>
              <a:xfrm>
                <a:off x="5863320" y="2721600"/>
                <a:ext cx="0" cy="18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84"/>
              <p:cNvSpPr/>
              <p:nvPr/>
            </p:nvSpPr>
            <p:spPr>
              <a:xfrm>
                <a:off x="7826760" y="2721600"/>
                <a:ext cx="0" cy="18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85"/>
              <p:cNvSpPr/>
              <p:nvPr/>
            </p:nvSpPr>
            <p:spPr>
              <a:xfrm>
                <a:off x="5781600" y="2643120"/>
                <a:ext cx="16380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Group 86"/>
              <p:cNvGrpSpPr/>
              <p:nvPr/>
            </p:nvGrpSpPr>
            <p:grpSpPr>
              <a:xfrm>
                <a:off x="7581240" y="2958120"/>
                <a:ext cx="490320" cy="472680"/>
                <a:chOff x="7581240" y="2958120"/>
                <a:chExt cx="490320" cy="472680"/>
              </a:xfrm>
            </p:grpSpPr>
            <p:sp>
              <p:nvSpPr>
                <p:cNvPr id="293" name="Oval 87"/>
                <p:cNvSpPr/>
                <p:nvPr/>
              </p:nvSpPr>
              <p:spPr>
                <a:xfrm>
                  <a:off x="7581240" y="2958120"/>
                  <a:ext cx="490320" cy="4726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8"/>
                <p:cNvSpPr/>
                <p:nvPr/>
              </p:nvSpPr>
              <p:spPr>
                <a:xfrm>
                  <a:off x="7662960" y="303696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9"/>
                <p:cNvSpPr/>
                <p:nvPr/>
              </p:nvSpPr>
              <p:spPr>
                <a:xfrm flipH="1">
                  <a:off x="7662960" y="303696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90"/>
              <p:cNvGrpSpPr/>
              <p:nvPr/>
            </p:nvGrpSpPr>
            <p:grpSpPr>
              <a:xfrm>
                <a:off x="6599520" y="3667680"/>
                <a:ext cx="1226520" cy="945720"/>
                <a:chOff x="6599520" y="3667680"/>
                <a:chExt cx="1226520" cy="945720"/>
              </a:xfrm>
            </p:grpSpPr>
            <p:sp>
              <p:nvSpPr>
                <p:cNvPr id="297" name="Line 91"/>
                <p:cNvSpPr/>
                <p:nvPr/>
              </p:nvSpPr>
              <p:spPr>
                <a:xfrm>
                  <a:off x="6599520" y="3667680"/>
                  <a:ext cx="122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2"/>
                <p:cNvSpPr/>
                <p:nvPr/>
              </p:nvSpPr>
              <p:spPr>
                <a:xfrm>
                  <a:off x="6599520" y="4613400"/>
                  <a:ext cx="122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Oval 93"/>
              <p:cNvSpPr/>
              <p:nvPr/>
            </p:nvSpPr>
            <p:spPr>
              <a:xfrm>
                <a:off x="7744680" y="3589200"/>
                <a:ext cx="163800" cy="157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94"/>
              <p:cNvSpPr/>
              <p:nvPr/>
            </p:nvSpPr>
            <p:spPr>
              <a:xfrm>
                <a:off x="5781600" y="3589200"/>
                <a:ext cx="163800" cy="1573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95"/>
              <p:cNvGrpSpPr/>
              <p:nvPr/>
            </p:nvGrpSpPr>
            <p:grpSpPr>
              <a:xfrm>
                <a:off x="5862960" y="3486960"/>
                <a:ext cx="654120" cy="180000"/>
                <a:chOff x="5862960" y="3486960"/>
                <a:chExt cx="654120" cy="180000"/>
              </a:xfrm>
            </p:grpSpPr>
            <p:sp>
              <p:nvSpPr>
                <p:cNvPr id="302" name="Line 96"/>
                <p:cNvSpPr/>
                <p:nvPr/>
              </p:nvSpPr>
              <p:spPr>
                <a:xfrm flipH="1">
                  <a:off x="5862960" y="3666960"/>
                  <a:ext cx="32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97"/>
                <p:cNvSpPr/>
                <p:nvPr/>
              </p:nvSpPr>
              <p:spPr>
                <a:xfrm flipV="1">
                  <a:off x="6190560" y="3486960"/>
                  <a:ext cx="326520" cy="18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98"/>
              <p:cNvGrpSpPr/>
              <p:nvPr/>
            </p:nvGrpSpPr>
            <p:grpSpPr>
              <a:xfrm>
                <a:off x="5862960" y="4456440"/>
                <a:ext cx="654120" cy="180000"/>
                <a:chOff x="5862960" y="4456440"/>
                <a:chExt cx="654120" cy="180000"/>
              </a:xfrm>
            </p:grpSpPr>
            <p:sp>
              <p:nvSpPr>
                <p:cNvPr id="305" name="Line 99"/>
                <p:cNvSpPr/>
                <p:nvPr/>
              </p:nvSpPr>
              <p:spPr>
                <a:xfrm flipH="1">
                  <a:off x="5862960" y="4636440"/>
                  <a:ext cx="32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00"/>
                <p:cNvSpPr/>
                <p:nvPr/>
              </p:nvSpPr>
              <p:spPr>
                <a:xfrm flipV="1">
                  <a:off x="6190560" y="4456440"/>
                  <a:ext cx="326520" cy="18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Text Box 126"/>
            <p:cNvSpPr/>
            <p:nvPr/>
          </p:nvSpPr>
          <p:spPr>
            <a:xfrm>
              <a:off x="6190560" y="351036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28"/>
            <p:cNvSpPr/>
            <p:nvPr/>
          </p:nvSpPr>
          <p:spPr>
            <a:xfrm>
              <a:off x="6845040" y="295848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133"/>
          <p:cNvGrpSpPr/>
          <p:nvPr/>
        </p:nvGrpSpPr>
        <p:grpSpPr>
          <a:xfrm>
            <a:off x="1285920" y="2651040"/>
            <a:ext cx="2208600" cy="2352600"/>
            <a:chOff x="1285920" y="2651040"/>
            <a:chExt cx="2208600" cy="2352600"/>
          </a:xfrm>
        </p:grpSpPr>
        <p:grpSp>
          <p:nvGrpSpPr>
            <p:cNvPr id="310" name="Group 108"/>
            <p:cNvGrpSpPr/>
            <p:nvPr/>
          </p:nvGrpSpPr>
          <p:grpSpPr>
            <a:xfrm>
              <a:off x="1285920" y="2651040"/>
              <a:ext cx="2208600" cy="1994400"/>
              <a:chOff x="1285920" y="2651040"/>
              <a:chExt cx="2208600" cy="1994400"/>
            </a:xfrm>
          </p:grpSpPr>
          <p:sp>
            <p:nvSpPr>
              <p:cNvPr id="311" name="Oval 109"/>
              <p:cNvSpPr/>
              <p:nvPr/>
            </p:nvSpPr>
            <p:spPr>
              <a:xfrm>
                <a:off x="2186280" y="2651040"/>
                <a:ext cx="16344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10"/>
              <p:cNvSpPr/>
              <p:nvPr/>
            </p:nvSpPr>
            <p:spPr>
              <a:xfrm>
                <a:off x="1285920" y="272952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11"/>
              <p:cNvSpPr/>
              <p:nvPr/>
            </p:nvSpPr>
            <p:spPr>
              <a:xfrm>
                <a:off x="1285920" y="2729520"/>
                <a:ext cx="0" cy="189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12"/>
              <p:cNvSpPr/>
              <p:nvPr/>
            </p:nvSpPr>
            <p:spPr>
              <a:xfrm>
                <a:off x="3249720" y="2729520"/>
                <a:ext cx="0" cy="189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13"/>
              <p:cNvGrpSpPr/>
              <p:nvPr/>
            </p:nvGrpSpPr>
            <p:grpSpPr>
              <a:xfrm>
                <a:off x="3004200" y="2966040"/>
                <a:ext cx="490320" cy="472680"/>
                <a:chOff x="3004200" y="2966040"/>
                <a:chExt cx="490320" cy="472680"/>
              </a:xfrm>
            </p:grpSpPr>
            <p:sp>
              <p:nvSpPr>
                <p:cNvPr id="316" name="Oval 114"/>
                <p:cNvSpPr/>
                <p:nvPr/>
              </p:nvSpPr>
              <p:spPr>
                <a:xfrm>
                  <a:off x="3004200" y="2966040"/>
                  <a:ext cx="490320" cy="4726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15"/>
                <p:cNvSpPr/>
                <p:nvPr/>
              </p:nvSpPr>
              <p:spPr>
                <a:xfrm>
                  <a:off x="3085920" y="304488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16"/>
                <p:cNvSpPr/>
                <p:nvPr/>
              </p:nvSpPr>
              <p:spPr>
                <a:xfrm flipH="1">
                  <a:off x="3085920" y="3044880"/>
                  <a:ext cx="326880" cy="31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117"/>
              <p:cNvGrpSpPr/>
              <p:nvPr/>
            </p:nvGrpSpPr>
            <p:grpSpPr>
              <a:xfrm>
                <a:off x="1285920" y="4464360"/>
                <a:ext cx="654480" cy="180720"/>
                <a:chOff x="1285920" y="4464360"/>
                <a:chExt cx="654480" cy="180720"/>
              </a:xfrm>
            </p:grpSpPr>
            <p:sp>
              <p:nvSpPr>
                <p:cNvPr id="320" name="Line 118"/>
                <p:cNvSpPr/>
                <p:nvPr/>
              </p:nvSpPr>
              <p:spPr>
                <a:xfrm flipH="1">
                  <a:off x="1285920" y="4645080"/>
                  <a:ext cx="32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19"/>
                <p:cNvSpPr/>
                <p:nvPr/>
              </p:nvSpPr>
              <p:spPr>
                <a:xfrm flipV="1">
                  <a:off x="1613520" y="4464360"/>
                  <a:ext cx="326880" cy="180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Line 120"/>
              <p:cNvSpPr/>
              <p:nvPr/>
            </p:nvSpPr>
            <p:spPr>
              <a:xfrm flipH="1">
                <a:off x="2021760" y="4645440"/>
                <a:ext cx="57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21"/>
              <p:cNvSpPr/>
              <p:nvPr/>
            </p:nvSpPr>
            <p:spPr>
              <a:xfrm flipV="1">
                <a:off x="2595240" y="4464720"/>
                <a:ext cx="32724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22"/>
              <p:cNvSpPr/>
              <p:nvPr/>
            </p:nvSpPr>
            <p:spPr>
              <a:xfrm>
                <a:off x="3168360" y="2651040"/>
                <a:ext cx="163440" cy="157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23"/>
              <p:cNvSpPr/>
              <p:nvPr/>
            </p:nvSpPr>
            <p:spPr>
              <a:xfrm flipH="1">
                <a:off x="3003840" y="4622400"/>
                <a:ext cx="24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124"/>
            <p:cNvSpPr/>
            <p:nvPr/>
          </p:nvSpPr>
          <p:spPr>
            <a:xfrm>
              <a:off x="1613160" y="4543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125"/>
            <p:cNvSpPr/>
            <p:nvPr/>
          </p:nvSpPr>
          <p:spPr>
            <a:xfrm>
              <a:off x="2595240" y="4543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29"/>
            <p:cNvSpPr/>
            <p:nvPr/>
          </p:nvSpPr>
          <p:spPr>
            <a:xfrm>
              <a:off x="2595240" y="3202920"/>
              <a:ext cx="4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ереключательные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4"/>
          <p:cNvSpPr/>
          <p:nvPr/>
        </p:nvSpPr>
        <p:spPr>
          <a:xfrm>
            <a:off x="428760" y="5143680"/>
            <a:ext cx="38574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следователь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35"/>
          <p:cNvSpPr/>
          <p:nvPr/>
        </p:nvSpPr>
        <p:spPr>
          <a:xfrm>
            <a:off x="4786200" y="5143680"/>
            <a:ext cx="385776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раллельное со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395280" y="164304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й элемен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устройство, которое после обработки двоичных сигналов выдаёт значение одной из логических опер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655560" y="3000240"/>
            <a:ext cx="2344680" cy="1997640"/>
            <a:chOff x="655560" y="3000240"/>
            <a:chExt cx="2344680" cy="1997640"/>
          </a:xfrm>
        </p:grpSpPr>
        <p:sp>
          <p:nvSpPr>
            <p:cNvPr id="334" name="Line 7"/>
            <p:cNvSpPr/>
            <p:nvPr/>
          </p:nvSpPr>
          <p:spPr>
            <a:xfrm>
              <a:off x="826920" y="40798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1403280" y="3143160"/>
              <a:ext cx="865080" cy="136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>
              <a:off x="826920" y="34322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>
              <a:off x="2268360" y="37926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1"/>
            <p:cNvSpPr/>
            <p:nvPr/>
          </p:nvSpPr>
          <p:spPr>
            <a:xfrm>
              <a:off x="1835280" y="3216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2"/>
            <p:cNvSpPr/>
            <p:nvPr/>
          </p:nvSpPr>
          <p:spPr>
            <a:xfrm>
              <a:off x="755640" y="300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755640" y="3648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4"/>
            <p:cNvSpPr/>
            <p:nvPr/>
          </p:nvSpPr>
          <p:spPr>
            <a:xfrm>
              <a:off x="655560" y="4599000"/>
              <a:ext cx="234468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147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кон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5"/>
          <p:cNvGrpSpPr/>
          <p:nvPr/>
        </p:nvGrpSpPr>
        <p:grpSpPr>
          <a:xfrm>
            <a:off x="3624120" y="3000240"/>
            <a:ext cx="2376720" cy="2002320"/>
            <a:chOff x="3624120" y="3000240"/>
            <a:chExt cx="2376720" cy="2002320"/>
          </a:xfrm>
        </p:grpSpPr>
        <p:sp>
          <p:nvSpPr>
            <p:cNvPr id="343" name="Rectangle 16"/>
            <p:cNvSpPr/>
            <p:nvPr/>
          </p:nvSpPr>
          <p:spPr>
            <a:xfrm>
              <a:off x="4500720" y="3144960"/>
              <a:ext cx="865080" cy="136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924360" y="343368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924360" y="40813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>
              <a:off x="5365800" y="379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4932360" y="321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3925800" y="300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22"/>
            <p:cNvSpPr/>
            <p:nvPr/>
          </p:nvSpPr>
          <p:spPr>
            <a:xfrm>
              <a:off x="3925800" y="3648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23"/>
            <p:cNvSpPr/>
            <p:nvPr/>
          </p:nvSpPr>
          <p:spPr>
            <a:xfrm>
              <a:off x="3624120" y="4603680"/>
              <a:ext cx="237672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ИЛИ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дизъюнк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4"/>
          <p:cNvGrpSpPr/>
          <p:nvPr/>
        </p:nvGrpSpPr>
        <p:grpSpPr>
          <a:xfrm>
            <a:off x="6516720" y="3071880"/>
            <a:ext cx="2087640" cy="1902960"/>
            <a:chOff x="6516720" y="3071880"/>
            <a:chExt cx="2087640" cy="1902960"/>
          </a:xfrm>
        </p:grpSpPr>
        <p:sp>
          <p:nvSpPr>
            <p:cNvPr id="352" name="Rectangle 25"/>
            <p:cNvSpPr/>
            <p:nvPr/>
          </p:nvSpPr>
          <p:spPr>
            <a:xfrm>
              <a:off x="7093080" y="3071880"/>
              <a:ext cx="865080" cy="1429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6516720" y="376200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7"/>
            <p:cNvSpPr/>
            <p:nvPr/>
          </p:nvSpPr>
          <p:spPr>
            <a:xfrm>
              <a:off x="7958160" y="3695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8"/>
            <p:cNvSpPr/>
            <p:nvPr/>
          </p:nvSpPr>
          <p:spPr>
            <a:xfrm>
              <a:off x="7885080" y="3624840"/>
              <a:ext cx="1429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6588000" y="4575960"/>
              <a:ext cx="2016360" cy="3988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Е</a:t>
              </a: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(инвертор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0"/>
            <p:cNvSpPr/>
            <p:nvPr/>
          </p:nvSpPr>
          <p:spPr>
            <a:xfrm>
              <a:off x="6516720" y="3347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Заголовок 2"/>
          <p:cNvSpPr/>
          <p:nvPr/>
        </p:nvSpPr>
        <p:spPr>
          <a:xfrm>
            <a:off x="900000" y="189000"/>
            <a:ext cx="77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85"/>
          <p:cNvSpPr/>
          <p:nvPr/>
        </p:nvSpPr>
        <p:spPr>
          <a:xfrm>
            <a:off x="539640" y="1341360"/>
            <a:ext cx="8280360" cy="76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сигнал должен быть на выходе при каждом возможном наборе сигналов на вход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Анализ электронной сх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39640" y="83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се возможные комбинации сигналов на входа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несём в таблицу истинности. Проследим преобразование каждой пары сигналов при прохождении их через логические элементы и запишем полученный результат в таблицу. Заполненная таблица истинности полностью описывает рассматриваемую электронную схе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395280" y="3284640"/>
            <a:ext cx="5219640" cy="1584000"/>
            <a:chOff x="395280" y="3284640"/>
            <a:chExt cx="5219640" cy="1584000"/>
          </a:xfrm>
        </p:grpSpPr>
        <p:sp>
          <p:nvSpPr>
            <p:cNvPr id="363" name="Line 7"/>
            <p:cNvSpPr/>
            <p:nvPr/>
          </p:nvSpPr>
          <p:spPr>
            <a:xfrm>
              <a:off x="4027320" y="3963960"/>
              <a:ext cx="51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8"/>
            <p:cNvSpPr/>
            <p:nvPr/>
          </p:nvSpPr>
          <p:spPr>
            <a:xfrm>
              <a:off x="2303280" y="32846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395280" y="3932280"/>
              <a:ext cx="11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0"/>
            <p:cNvGrpSpPr/>
            <p:nvPr/>
          </p:nvGrpSpPr>
          <p:grpSpPr>
            <a:xfrm>
              <a:off x="934920" y="3346560"/>
              <a:ext cx="4680000" cy="1522080"/>
              <a:chOff x="934920" y="3346560"/>
              <a:chExt cx="4680000" cy="1522080"/>
            </a:xfrm>
          </p:grpSpPr>
          <p:sp>
            <p:nvSpPr>
              <p:cNvPr id="367" name="Rectangle 11"/>
              <p:cNvSpPr/>
              <p:nvPr/>
            </p:nvSpPr>
            <p:spPr>
              <a:xfrm>
                <a:off x="3252960" y="3346560"/>
                <a:ext cx="774360" cy="1299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2"/>
              <p:cNvSpPr/>
              <p:nvPr/>
            </p:nvSpPr>
            <p:spPr>
              <a:xfrm>
                <a:off x="2736720" y="3620880"/>
                <a:ext cx="516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3"/>
              <p:cNvSpPr/>
              <p:nvPr/>
            </p:nvSpPr>
            <p:spPr>
              <a:xfrm>
                <a:off x="3639960" y="3416400"/>
                <a:ext cx="32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934920" y="430668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5"/>
              <p:cNvSpPr/>
              <p:nvPr/>
            </p:nvSpPr>
            <p:spPr>
              <a:xfrm>
                <a:off x="4284720" y="3486240"/>
                <a:ext cx="133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10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"/>
              <p:cNvSpPr/>
              <p:nvPr/>
            </p:nvSpPr>
            <p:spPr>
              <a:xfrm>
                <a:off x="1449360" y="362088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2224080" y="4238640"/>
                <a:ext cx="96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8"/>
              <p:cNvSpPr/>
              <p:nvPr/>
            </p:nvSpPr>
            <p:spPr>
              <a:xfrm>
                <a:off x="2157480" y="414648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9"/>
              <p:cNvSpPr/>
              <p:nvPr/>
            </p:nvSpPr>
            <p:spPr>
              <a:xfrm>
                <a:off x="2519280" y="3860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76" name=""/>
          <p:cNvGraphicFramePr/>
          <p:nvPr/>
        </p:nvGraphicFramePr>
        <p:xfrm>
          <a:off x="5796000" y="3141720"/>
          <a:ext cx="2616120" cy="2232000"/>
        </p:xfrm>
        <a:graphic>
          <a:graphicData uri="http://schemas.openxmlformats.org/drawingml/2006/table">
            <a:tbl>
              <a:tblPr/>
              <a:tblGrid>
                <a:gridCol w="871560"/>
                <a:gridCol w="873000"/>
                <a:gridCol w="8715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46"/>
          <p:cNvSpPr/>
          <p:nvPr/>
        </p:nvSpPr>
        <p:spPr>
          <a:xfrm>
            <a:off x="684360" y="544500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инвертор поступает сигнал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6"/>
          <p:cNvSpPr/>
          <p:nvPr/>
        </p:nvSpPr>
        <p:spPr>
          <a:xfrm>
            <a:off x="684360" y="5805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ъюнктор поступают сигналы от входа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от  инвертора. Таким образом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92"/>
          <p:cNvSpPr/>
          <p:nvPr/>
        </p:nvSpPr>
        <p:spPr>
          <a:xfrm>
            <a:off x="5508720" y="6165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4"/>
          <p:cNvSpPr/>
          <p:nvPr/>
        </p:nvSpPr>
        <p:spPr>
          <a:xfrm>
            <a:off x="250920" y="907920"/>
            <a:ext cx="864216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это предложение на любом языке, содержание которого можно однозначно определить как истинное или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е опер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определённые над высказываниями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версия, конъюнкция, диз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324000" y="3068640"/>
          <a:ext cx="8351640" cy="2473200"/>
        </p:xfrm>
        <a:graphic>
          <a:graphicData uri="http://schemas.openxmlformats.org/drawingml/2006/table">
            <a:tbl>
              <a:tblPr/>
              <a:tblGrid>
                <a:gridCol w="3382920"/>
                <a:gridCol w="2736720"/>
                <a:gridCol w="223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, «неверно, ч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¬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, «а», «но», «хот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82" name="Text Box 72"/>
          <p:cNvSpPr/>
          <p:nvPr/>
        </p:nvSpPr>
        <p:spPr>
          <a:xfrm>
            <a:off x="324000" y="1052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блицы истинности для основных логических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900000" y="2060640"/>
          <a:ext cx="2832120" cy="1512720"/>
        </p:xfrm>
        <a:graphic>
          <a:graphicData uri="http://schemas.openxmlformats.org/drawingml/2006/table">
            <a:tbl>
              <a:tblPr/>
              <a:tblGrid>
                <a:gridCol w="1416240"/>
                <a:gridCol w="14158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4211640" y="2060640"/>
          <a:ext cx="4272120" cy="242892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67040"/>
                <a:gridCol w="1068480"/>
              </a:tblGrid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</a:tbl>
          </a:graphicData>
        </a:graphic>
      </p:graphicFrame>
      <p:sp>
        <p:nvSpPr>
          <p:cNvPr id="385" name="Text Box 119"/>
          <p:cNvSpPr/>
          <p:nvPr/>
        </p:nvSpPr>
        <p:spPr>
          <a:xfrm>
            <a:off x="611280" y="465300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числении логических выражений сначала выполня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я в скобках. Приоритет выполнения логических операций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3"/>
          <p:cNvSpPr/>
          <p:nvPr/>
        </p:nvSpPr>
        <p:spPr>
          <a:xfrm>
            <a:off x="647640" y="1052640"/>
            <a:ext cx="8496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почему следующие предложения не являются высказыв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Какого цвета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Числ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превосходит еди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смотрите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Пейте томатный 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Эта тема ску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икки Мартин - самый популярный пев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Вы были в теат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5"/>
          <p:cNvSpPr/>
          <p:nvPr/>
        </p:nvSpPr>
        <p:spPr>
          <a:xfrm>
            <a:off x="250920" y="1989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о одному примеру истинных и ложных высказываний из биологии, географии, информатики, истории, математики,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6"/>
          <p:cNvSpPr/>
          <p:nvPr/>
        </p:nvSpPr>
        <p:spPr>
          <a:xfrm>
            <a:off x="395280" y="836640"/>
            <a:ext cx="84963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едующих высказываниях выделите простые высказывания, обозначив каждое из них буквой. Запиш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букв и знаков логических операций каждое составное высказы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Число 376 чётное и трёхзна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имой дети катаются на коньках или на лы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Новый год мы встретим на даче или на Красной площ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еверно, что Солнце движется вокруг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Земля имеет форму шара, который из космоса кажется голу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На уроке математики старшеклассники отвечали на вопросы учителя, а также писали самостоятельну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7"/>
          <p:cNvSpPr/>
          <p:nvPr/>
        </p:nvSpPr>
        <p:spPr>
          <a:xfrm>
            <a:off x="611280" y="1197000"/>
            <a:ext cx="82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отрицания следующих высказы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егодня в театре идёт опера «Евгений Онег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Каждый охотник желает знать, где сидит фаз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Число 1 есть простое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туральные числа, оканчивающиеся цифрой 0, не являются прост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Неверно, что число 3 не является делителем числа 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Коля решил все задания контро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Во всякой школе некоторые ученики интересуются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) Некоторые млекопитающие не живут на су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38"/>
          <p:cNvSpPr/>
          <p:nvPr/>
        </p:nvSpPr>
        <p:spPr>
          <a:xfrm>
            <a:off x="395280" y="17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А = «Ане нравятся уроки математики», а В = «Ане нравятся уроки химии». Выразите следующие формулы на обычном язы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9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609624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40"/>
          <p:cNvSpPr/>
          <p:nvPr/>
        </p:nvSpPr>
        <p:spPr>
          <a:xfrm>
            <a:off x="611280" y="765000"/>
            <a:ext cx="82818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ите представленные на рисунке электрическ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хе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1"/>
          <p:cNvSpPr/>
          <p:nvPr/>
        </p:nvSpPr>
        <p:spPr>
          <a:xfrm>
            <a:off x="684360" y="3357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дите аналогию между элементами электрических схем и объектами и операциями алгебры лог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11280" y="4149720"/>
          <a:ext cx="8280360" cy="2502000"/>
        </p:xfrm>
        <a:graphic>
          <a:graphicData uri="http://schemas.openxmlformats.org/drawingml/2006/table">
            <a:tbl>
              <a:tblPr/>
              <a:tblGrid>
                <a:gridCol w="6048360"/>
                <a:gridCol w="2232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ческая сх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ебра лог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 вклю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лючатель выключ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е соединение переключ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ллельное соединение переключ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7" name="Group 165"/>
          <p:cNvGrpSpPr/>
          <p:nvPr/>
        </p:nvGrpSpPr>
        <p:grpSpPr>
          <a:xfrm>
            <a:off x="1117800" y="1413000"/>
            <a:ext cx="3101040" cy="1873080"/>
            <a:chOff x="1117800" y="1413000"/>
            <a:chExt cx="3101040" cy="1873080"/>
          </a:xfrm>
        </p:grpSpPr>
        <p:grpSp>
          <p:nvGrpSpPr>
            <p:cNvPr id="398" name="Group 186"/>
            <p:cNvGrpSpPr/>
            <p:nvPr/>
          </p:nvGrpSpPr>
          <p:grpSpPr>
            <a:xfrm>
              <a:off x="1392480" y="1413000"/>
              <a:ext cx="1971360" cy="1873080"/>
              <a:chOff x="1392480" y="1413000"/>
              <a:chExt cx="1971360" cy="1873080"/>
            </a:xfrm>
          </p:grpSpPr>
          <p:sp>
            <p:nvSpPr>
              <p:cNvPr id="399" name="AutoShape 187"/>
              <p:cNvSpPr/>
              <p:nvPr/>
            </p:nvSpPr>
            <p:spPr>
              <a:xfrm>
                <a:off x="1392480" y="1413000"/>
                <a:ext cx="1971360" cy="18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0" name="Picture 188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8120" y="1413000"/>
                <a:ext cx="675720" cy="77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18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2480" y="1659240"/>
                <a:ext cx="600480" cy="45684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grpSp>
            <p:nvGrpSpPr>
              <p:cNvPr id="402" name="Group 190"/>
              <p:cNvGrpSpPr/>
              <p:nvPr/>
            </p:nvGrpSpPr>
            <p:grpSpPr>
              <a:xfrm>
                <a:off x="2184480" y="2796120"/>
                <a:ext cx="348120" cy="267120"/>
                <a:chOff x="2184480" y="2796120"/>
                <a:chExt cx="348120" cy="267120"/>
              </a:xfrm>
            </p:grpSpPr>
            <p:sp>
              <p:nvSpPr>
                <p:cNvPr id="403" name="Oval 191"/>
                <p:cNvSpPr/>
                <p:nvPr/>
              </p:nvSpPr>
              <p:spPr>
                <a:xfrm>
                  <a:off x="2184480" y="2796120"/>
                  <a:ext cx="348120" cy="267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Group 192"/>
                <p:cNvGrpSpPr/>
                <p:nvPr/>
              </p:nvGrpSpPr>
              <p:grpSpPr>
                <a:xfrm>
                  <a:off x="2248200" y="2887200"/>
                  <a:ext cx="220680" cy="84600"/>
                  <a:chOff x="2248200" y="2887200"/>
                  <a:chExt cx="220680" cy="84600"/>
                </a:xfrm>
              </p:grpSpPr>
              <p:sp>
                <p:nvSpPr>
                  <p:cNvPr id="405" name="Arc 193"/>
                  <p:cNvSpPr/>
                  <p:nvPr/>
                </p:nvSpPr>
                <p:spPr>
                  <a:xfrm>
                    <a:off x="2248200" y="2887200"/>
                    <a:ext cx="110520" cy="4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rc 194"/>
                  <p:cNvSpPr/>
                  <p:nvPr/>
                </p:nvSpPr>
                <p:spPr>
                  <a:xfrm flipH="1" flipV="1">
                    <a:off x="2358000" y="2929320"/>
                    <a:ext cx="110520" cy="424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7" name="Freeform 195"/>
              <p:cNvSpPr/>
              <p:nvPr/>
            </p:nvSpPr>
            <p:spPr>
              <a:xfrm>
                <a:off x="2542680" y="2167560"/>
                <a:ext cx="474480" cy="75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96"/>
              <p:cNvSpPr/>
              <p:nvPr/>
            </p:nvSpPr>
            <p:spPr>
              <a:xfrm flipH="1">
                <a:off x="1736280" y="2751840"/>
                <a:ext cx="439200" cy="1818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97"/>
              <p:cNvSpPr/>
              <p:nvPr/>
            </p:nvSpPr>
            <p:spPr>
              <a:xfrm>
                <a:off x="1719720" y="1459080"/>
                <a:ext cx="1225080" cy="612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198"/>
              <p:cNvSpPr/>
              <p:nvPr/>
            </p:nvSpPr>
            <p:spPr>
              <a:xfrm>
                <a:off x="1843920" y="3068280"/>
                <a:ext cx="10285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20 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Picture 19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92480" y="2286360"/>
                <a:ext cx="600480" cy="45684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cxnSp>
            <p:nvCxnSpPr>
              <p:cNvPr id="412" name="AutoShape 200"/>
              <p:cNvCxnSpPr/>
              <p:nvPr/>
            </p:nvCxnSpPr>
            <p:spPr>
              <a:xfrm>
                <a:off x="1693080" y="2116440"/>
                <a:ext cx="1440" cy="170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413" name="Прямоугольник 172"/>
            <p:cNvSpPr/>
            <p:nvPr/>
          </p:nvSpPr>
          <p:spPr>
            <a:xfrm>
              <a:off x="3372120" y="15987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173"/>
            <p:cNvSpPr/>
            <p:nvPr/>
          </p:nvSpPr>
          <p:spPr>
            <a:xfrm>
              <a:off x="1117800" y="176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175"/>
            <p:cNvSpPr/>
            <p:nvPr/>
          </p:nvSpPr>
          <p:spPr>
            <a:xfrm>
              <a:off x="1117800" y="23922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84"/>
          <p:cNvGrpSpPr/>
          <p:nvPr/>
        </p:nvGrpSpPr>
        <p:grpSpPr>
          <a:xfrm>
            <a:off x="4644720" y="1484280"/>
            <a:ext cx="3770640" cy="1447920"/>
            <a:chOff x="4644720" y="1484280"/>
            <a:chExt cx="3770640" cy="1447920"/>
          </a:xfrm>
        </p:grpSpPr>
        <p:grpSp>
          <p:nvGrpSpPr>
            <p:cNvPr id="417" name="Group 50"/>
            <p:cNvGrpSpPr/>
            <p:nvPr/>
          </p:nvGrpSpPr>
          <p:grpSpPr>
            <a:xfrm>
              <a:off x="4978440" y="1484280"/>
              <a:ext cx="2271600" cy="1447920"/>
              <a:chOff x="4978440" y="1484280"/>
              <a:chExt cx="2271600" cy="1447920"/>
            </a:xfrm>
          </p:grpSpPr>
          <p:sp>
            <p:nvSpPr>
              <p:cNvPr id="418" name="AutoShape 51"/>
              <p:cNvSpPr/>
              <p:nvPr/>
            </p:nvSpPr>
            <p:spPr>
              <a:xfrm>
                <a:off x="4978440" y="1484280"/>
                <a:ext cx="227160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9" name="Picture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94560" y="1484280"/>
                <a:ext cx="555480" cy="748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53"/>
              <p:cNvGrpSpPr/>
              <p:nvPr/>
            </p:nvGrpSpPr>
            <p:grpSpPr>
              <a:xfrm>
                <a:off x="6280920" y="2455560"/>
                <a:ext cx="285480" cy="260280"/>
                <a:chOff x="6280920" y="2455560"/>
                <a:chExt cx="285480" cy="260280"/>
              </a:xfrm>
            </p:grpSpPr>
            <p:sp>
              <p:nvSpPr>
                <p:cNvPr id="421" name="Oval 54"/>
                <p:cNvSpPr/>
                <p:nvPr/>
              </p:nvSpPr>
              <p:spPr>
                <a:xfrm>
                  <a:off x="6280920" y="2455560"/>
                  <a:ext cx="285480" cy="26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55"/>
                <p:cNvGrpSpPr/>
                <p:nvPr/>
              </p:nvGrpSpPr>
              <p:grpSpPr>
                <a:xfrm>
                  <a:off x="6333120" y="2544480"/>
                  <a:ext cx="181080" cy="82080"/>
                  <a:chOff x="6333120" y="2544480"/>
                  <a:chExt cx="181080" cy="82080"/>
                </a:xfrm>
              </p:grpSpPr>
              <p:sp>
                <p:nvSpPr>
                  <p:cNvPr id="423" name="Arc 56"/>
                  <p:cNvSpPr/>
                  <p:nvPr/>
                </p:nvSpPr>
                <p:spPr>
                  <a:xfrm>
                    <a:off x="6333120" y="2544480"/>
                    <a:ext cx="90720" cy="41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57"/>
                  <p:cNvSpPr/>
                  <p:nvPr/>
                </p:nvSpPr>
                <p:spPr>
                  <a:xfrm flipH="1" flipV="1">
                    <a:off x="6423480" y="2584800"/>
                    <a:ext cx="90720" cy="4140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Freeform 58"/>
              <p:cNvSpPr/>
              <p:nvPr/>
            </p:nvSpPr>
            <p:spPr>
              <a:xfrm>
                <a:off x="6575040" y="2217240"/>
                <a:ext cx="389520" cy="3582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59"/>
              <p:cNvSpPr/>
              <p:nvPr/>
            </p:nvSpPr>
            <p:spPr>
              <a:xfrm flipH="1">
                <a:off x="5912280" y="2403000"/>
                <a:ext cx="360360" cy="176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60"/>
              <p:cNvSpPr/>
              <p:nvPr/>
            </p:nvSpPr>
            <p:spPr>
              <a:xfrm>
                <a:off x="5899320" y="1811160"/>
                <a:ext cx="1005840" cy="312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61"/>
              <p:cNvSpPr/>
              <p:nvPr/>
            </p:nvSpPr>
            <p:spPr>
              <a:xfrm>
                <a:off x="6000840" y="2716920"/>
                <a:ext cx="84528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20 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9" name="Picture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5630040" y="1980000"/>
                <a:ext cx="493200" cy="44316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  <p:sp>
            <p:nvSpPr>
              <p:cNvPr id="430" name="Freeform 63"/>
              <p:cNvSpPr/>
              <p:nvPr/>
            </p:nvSpPr>
            <p:spPr>
              <a:xfrm>
                <a:off x="5219280" y="1810080"/>
                <a:ext cx="693360" cy="770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1" name="Picture 64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8440" y="1980000"/>
                <a:ext cx="493200" cy="443160"/>
              </a:xfrm>
              <a:prstGeom prst="rect">
                <a:avLst/>
              </a:prstGeom>
              <a:ln w="9360">
                <a:solidFill>
                  <a:srgbClr val="5a5a5a"/>
                </a:solidFill>
                <a:miter/>
              </a:ln>
            </p:spPr>
          </p:pic>
        </p:grpSp>
        <p:sp>
          <p:nvSpPr>
            <p:cNvPr id="432" name="Прямоугольник 40"/>
            <p:cNvSpPr/>
            <p:nvPr/>
          </p:nvSpPr>
          <p:spPr>
            <a:xfrm>
              <a:off x="7250040" y="1789200"/>
              <a:ext cx="11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л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оугольник 41"/>
            <p:cNvSpPr/>
            <p:nvPr/>
          </p:nvSpPr>
          <p:spPr>
            <a:xfrm>
              <a:off x="4644720" y="213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оугольник 42"/>
            <p:cNvSpPr/>
            <p:nvPr/>
          </p:nvSpPr>
          <p:spPr>
            <a:xfrm>
              <a:off x="6134040" y="2102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203"/>
          <p:cNvSpPr/>
          <p:nvPr/>
        </p:nvSpPr>
        <p:spPr>
          <a:xfrm>
            <a:off x="539640" y="1125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сните, какой сигнал должен быть на выход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ектронной схемы при каждом возможном набор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ов на входах. Составьте таблицу работы схемы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ким логическим выражением описывается схем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04"/>
          <p:cNvGrpSpPr/>
          <p:nvPr/>
        </p:nvGrpSpPr>
        <p:grpSpPr>
          <a:xfrm>
            <a:off x="2771640" y="2924280"/>
            <a:ext cx="3745080" cy="2760480"/>
            <a:chOff x="2771640" y="2924280"/>
            <a:chExt cx="3745080" cy="2760480"/>
          </a:xfrm>
        </p:grpSpPr>
        <p:grpSp>
          <p:nvGrpSpPr>
            <p:cNvPr id="437" name="Group 205"/>
            <p:cNvGrpSpPr/>
            <p:nvPr/>
          </p:nvGrpSpPr>
          <p:grpSpPr>
            <a:xfrm>
              <a:off x="2771640" y="2924280"/>
              <a:ext cx="3745080" cy="2760480"/>
              <a:chOff x="2771640" y="2924280"/>
              <a:chExt cx="3745080" cy="2760480"/>
            </a:xfrm>
          </p:grpSpPr>
          <p:sp>
            <p:nvSpPr>
              <p:cNvPr id="438" name="Line 206"/>
              <p:cNvSpPr/>
              <p:nvPr/>
            </p:nvSpPr>
            <p:spPr>
              <a:xfrm>
                <a:off x="5756400" y="382104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207"/>
              <p:cNvSpPr/>
              <p:nvPr/>
            </p:nvSpPr>
            <p:spPr>
              <a:xfrm>
                <a:off x="5003640" y="3213000"/>
                <a:ext cx="774720" cy="1300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208"/>
              <p:cNvSpPr/>
              <p:nvPr/>
            </p:nvSpPr>
            <p:spPr>
              <a:xfrm>
                <a:off x="5369040" y="327348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209"/>
              <p:cNvSpPr/>
              <p:nvPr/>
            </p:nvSpPr>
            <p:spPr>
              <a:xfrm>
                <a:off x="6013440" y="334332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Group 210"/>
              <p:cNvGrpSpPr/>
              <p:nvPr/>
            </p:nvGrpSpPr>
            <p:grpSpPr>
              <a:xfrm>
                <a:off x="2771640" y="2924280"/>
                <a:ext cx="2253960" cy="1247760"/>
                <a:chOff x="2771640" y="2924280"/>
                <a:chExt cx="2253960" cy="1247760"/>
              </a:xfrm>
            </p:grpSpPr>
            <p:sp>
              <p:nvSpPr>
                <p:cNvPr id="443" name="Line 211"/>
                <p:cNvSpPr/>
                <p:nvPr/>
              </p:nvSpPr>
              <p:spPr>
                <a:xfrm>
                  <a:off x="2771640" y="3610080"/>
                  <a:ext cx="51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212"/>
                <p:cNvSpPr/>
                <p:nvPr/>
              </p:nvSpPr>
              <p:spPr>
                <a:xfrm>
                  <a:off x="3285720" y="2924280"/>
                  <a:ext cx="774720" cy="12477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13"/>
                <p:cNvSpPr/>
                <p:nvPr/>
              </p:nvSpPr>
              <p:spPr>
                <a:xfrm>
                  <a:off x="4060440" y="3541680"/>
                  <a:ext cx="96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14"/>
                <p:cNvSpPr/>
                <p:nvPr/>
              </p:nvSpPr>
              <p:spPr>
                <a:xfrm>
                  <a:off x="3993840" y="3449520"/>
                  <a:ext cx="128520" cy="13176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Line 215"/>
              <p:cNvSpPr/>
              <p:nvPr/>
            </p:nvSpPr>
            <p:spPr>
              <a:xfrm>
                <a:off x="2843280" y="512280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16"/>
              <p:cNvSpPr/>
              <p:nvPr/>
            </p:nvSpPr>
            <p:spPr>
              <a:xfrm>
                <a:off x="3357720" y="4437000"/>
                <a:ext cx="774720" cy="1247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217"/>
              <p:cNvSpPr/>
              <p:nvPr/>
            </p:nvSpPr>
            <p:spPr>
              <a:xfrm>
                <a:off x="4065480" y="4962600"/>
                <a:ext cx="128520" cy="131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18"/>
              <p:cNvSpPr/>
              <p:nvPr/>
            </p:nvSpPr>
            <p:spPr>
              <a:xfrm>
                <a:off x="4140360" y="501336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19"/>
              <p:cNvSpPr/>
              <p:nvPr/>
            </p:nvSpPr>
            <p:spPr>
              <a:xfrm flipV="1">
                <a:off x="4643280" y="3573360"/>
                <a:ext cx="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Text Box 220"/>
            <p:cNvSpPr/>
            <p:nvPr/>
          </p:nvSpPr>
          <p:spPr>
            <a:xfrm>
              <a:off x="2843280" y="321300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21"/>
            <p:cNvSpPr/>
            <p:nvPr/>
          </p:nvSpPr>
          <p:spPr>
            <a:xfrm>
              <a:off x="2843280" y="4724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11280" y="1052640"/>
            <a:ext cx="820872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рается дело Джона, Брауна и Смита. Известно, что один из них нашёл и утаил клад. На следствии каждый из подозреваемых сделал два зая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ми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Браун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жо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Браун не виновен. Смит сделал э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у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: «Я не делал этого. Джон не делал эт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д установил, что один из них дважды солгал, другой дважды сказал правду, третий один раз солгал, один раз сказал прав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из подозреваемых должен быть оправд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39640" y="836640"/>
            <a:ext cx="82090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ёша, Боря и Гриша нашли в земле старинный сосуд. Рассматривая удивительную находку, каждый высказал по два пред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греческий и изготовлен в 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финикийский и изготовлен в III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ш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сосуд не греческий и изготовлен в IV ве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сказал ребятам, что каждый из них прав только в одном из двух предположений. Где и в каком веке изготовлен сос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0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97164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р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3780000" y="3284640"/>
            <a:ext cx="194292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6443640" y="3284640"/>
            <a:ext cx="194328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ъю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2340000" y="2781360"/>
            <a:ext cx="244800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 flipH="1" flipV="1">
            <a:off x="4788000" y="2781360"/>
            <a:ext cx="273672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9"/>
          <p:cNvSpPr/>
          <p:nvPr/>
        </p:nvSpPr>
        <p:spPr>
          <a:xfrm flipV="1">
            <a:off x="4788000" y="2781360"/>
            <a:ext cx="0" cy="5032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539640" y="907920"/>
            <a:ext cx="842508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это предложение на любом языке, содержание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 однозначно определить как истинное или лож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042920" y="3933720"/>
          <a:ext cx="1728720" cy="136692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708360" y="3933720"/>
          <a:ext cx="2089080" cy="198144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86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6516720" y="3933720"/>
          <a:ext cx="2016000" cy="1981440"/>
        </p:xfrm>
        <a:graphic>
          <a:graphicData uri="http://schemas.openxmlformats.org/drawingml/2006/table">
            <a:tbl>
              <a:tblPr/>
              <a:tblGrid>
                <a:gridCol w="565200"/>
                <a:gridCol w="658800"/>
                <a:gridCol w="79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114"/>
          <p:cNvSpPr/>
          <p:nvPr/>
        </p:nvSpPr>
        <p:spPr>
          <a:xfrm>
            <a:off x="61128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оритет выполнения логических операц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¬, &amp;,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419640" y="2133720"/>
            <a:ext cx="295272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468360" y="1197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9e997f40-f285-4369-aa7d-88b892beca45/?interface=catalog&amp;class=51&amp;subject=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лементарные логические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solde.ucoz.ru/_pu/0/8815806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physics.ru/courses/op25part2/content/scientist/images/aristotel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ристо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athematics.ru/courses/algebra/content/scientist/images/boole.jpg - Джордж Б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trinity.se-ua.net/images/shannonc.jpg - Клод Элвуд Шенн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dou-teremok.moy.su/kartinki/ab2a40ef409a-1-.png -  мальчи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alconsscience.files.wordpress.com/2007/10/cartoon-boys.jpg%3Fw%3D283%26h%3D494 – мальчи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39.radikal.ru/i085/0811/f0/e7c004f3c68a.png - мальчик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2411280" y="4724280"/>
            <a:ext cx="6408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лод Шенно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916-2001). Его исследования позволили применить алгебру логики в вычислительной техн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огик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411280" y="90792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384-322 до н.э.).  Основоположник формальной логики (понятие, суждение, умозаключение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www.physics.ru/courses/op25part2/content/scientist/images/aristotel.jpg"/>
          <p:cNvPicPr/>
          <p:nvPr/>
        </p:nvPicPr>
        <p:blipFill>
          <a:blip r:embed="rId2"/>
          <a:stretch/>
        </p:blipFill>
        <p:spPr>
          <a:xfrm>
            <a:off x="611280" y="260280"/>
            <a:ext cx="1708200" cy="2197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2411280" y="2708280"/>
            <a:ext cx="640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жордж Бул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815-1864). Создал новую область науки - Математическую логику (Булеву алгебру или Алгебру высказывани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http://www.mathematics.ru/courses/algebra/content/scientist/images/boole.jpg"/>
          <p:cNvPicPr/>
          <p:nvPr/>
        </p:nvPicPr>
        <p:blipFill>
          <a:blip r:embed="rId3"/>
          <a:stretch/>
        </p:blipFill>
        <p:spPr>
          <a:xfrm>
            <a:off x="576360" y="2349360"/>
            <a:ext cx="1620720" cy="21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trinity.se-ua.net/images/shannonc.jpg"/>
          <p:cNvPicPr/>
          <p:nvPr/>
        </p:nvPicPr>
        <p:blipFill>
          <a:blip r:embed="rId4"/>
          <a:stretch/>
        </p:blipFill>
        <p:spPr>
          <a:xfrm>
            <a:off x="611280" y="4869000"/>
            <a:ext cx="1447560" cy="16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90792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геб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ука об общих операциях, аналогичных  сложению и умножению, которые могут выполняться над разнообразными математическими объектами – числами, многочленами, векторам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http://zadache.net/uploads/posts/2010-03/1267785481_623374.jpg"/>
          <p:cNvPicPr/>
          <p:nvPr/>
        </p:nvPicPr>
        <p:blipFill>
          <a:blip r:embed="rId2"/>
          <a:stretch/>
        </p:blipFill>
        <p:spPr>
          <a:xfrm>
            <a:off x="500040" y="2571840"/>
            <a:ext cx="264780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3.gstatic.com/images?q=tbn:ANd9GcQEaRhAuqOqi5Ia9XJCcXEAlvymygGjKv5FOiuni_k2SrBCPe-WNy41ODtd"/>
          <p:cNvPicPr/>
          <p:nvPr/>
        </p:nvPicPr>
        <p:blipFill>
          <a:blip r:embed="rId3"/>
          <a:stretch/>
        </p:blipFill>
        <p:spPr>
          <a:xfrm>
            <a:off x="2786040" y="2571840"/>
            <a:ext cx="3389400" cy="271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http://images01.olx.ru/ui/3/38/65/46443365_1.jpg"/>
          <p:cNvPicPr/>
          <p:nvPr/>
        </p:nvPicPr>
        <p:blipFill>
          <a:blip r:embed="rId4"/>
          <a:stretch/>
        </p:blipFill>
        <p:spPr>
          <a:xfrm>
            <a:off x="5857920" y="2928960"/>
            <a:ext cx="28573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90792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ысказы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предложение на любом языке, содержание которого можно однозначно определить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тин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ожно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39640" y="198900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усском языке высказывания выражаются повествовательными предложения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Земля вращается вокруг Солнца</a:t>
            </a:r>
            <a:r>
              <a:rPr b="0" i="1" lang="ru-RU" sz="2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Москва - столиц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4857840"/>
            <a:ext cx="849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будительные и вопросительные предложения высказываниями не являю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Без стука не входи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Откройте учебн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Ты выучил стихотвор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2"/>
          <p:cNvSpPr/>
          <p:nvPr/>
        </p:nvSpPr>
        <p:spPr>
          <a:xfrm>
            <a:off x="900000" y="189000"/>
            <a:ext cx="7786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5280" y="3500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 не всякое повествовательное предложение является высказывани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80"/>
                </a:solidFill>
                <a:latin typeface="Arial"/>
              </a:rPr>
              <a:t>Это высказывание лож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сказывание или 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197000"/>
            <a:ext cx="8140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имой иде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негири живут в Кры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то к нам при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еугольника 5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пройти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ведите число в десятич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360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пишите 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"/>
          <p:cNvSpPr/>
          <p:nvPr/>
        </p:nvSpPr>
        <p:spPr>
          <a:xfrm>
            <a:off x="1116000" y="2765520"/>
            <a:ext cx="32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1116000" y="4024440"/>
            <a:ext cx="4392720" cy="3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V="1">
            <a:off x="1116000" y="4710240"/>
            <a:ext cx="6940440" cy="2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1116000" y="53578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лилиния 11"/>
          <p:cNvSpPr/>
          <p:nvPr/>
        </p:nvSpPr>
        <p:spPr>
          <a:xfrm>
            <a:off x="684360" y="134136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илиния 12"/>
          <p:cNvSpPr/>
          <p:nvPr/>
        </p:nvSpPr>
        <p:spPr>
          <a:xfrm>
            <a:off x="684360" y="197316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илиния 13"/>
          <p:cNvSpPr/>
          <p:nvPr/>
        </p:nvSpPr>
        <p:spPr>
          <a:xfrm>
            <a:off x="684360" y="3267000"/>
            <a:ext cx="282600" cy="27324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42960" y="1428840"/>
            <a:ext cx="820908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ебра лог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ет правила записи, вычисления значений, упрощения и преобразования высказы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алгебре логики высказывания обозначают буквами и называю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переменны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ысказывание истинно, то значение соответствующей ему логической переменной обозначают единицей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а если ложно - нулём (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называю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ими значения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324000" y="189000"/>
            <a:ext cx="8362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Алгебра л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2"/>
          <p:cNvSpPr/>
          <p:nvPr/>
        </p:nvSpPr>
        <p:spPr>
          <a:xfrm>
            <a:off x="395280" y="189000"/>
            <a:ext cx="820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Простые и сложны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95280" y="1557360"/>
            <a:ext cx="8497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я бывают простые и слож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казывание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ст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если никакая его часть сама не является высказыван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лож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оставные) высказывания строятся из простых с помощью логических опер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3860640"/>
          <a:ext cx="8353440" cy="2248200"/>
        </p:xfrm>
        <a:graphic>
          <a:graphicData uri="http://schemas.openxmlformats.org/drawingml/2006/table">
            <a:tbl>
              <a:tblPr/>
              <a:tblGrid>
                <a:gridCol w="5112000"/>
                <a:gridCol w="32414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огической опер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ая связ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»; «а»; «но»; «хотя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ъюнк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ли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верс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»; «неверно, что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39640" y="907920"/>
            <a:ext cx="8425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нъю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высказываниям новое высказывание, являющееся истинным тогда и только тогда, когда оба исходных высказывания истин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ое название: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огическое умнож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&amp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73160" y="4148280"/>
          <a:ext cx="2928960" cy="21351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1465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3429000"/>
            <a:ext cx="359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27640" y="3429000"/>
            <a:ext cx="44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ое пред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66696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7"/>
          <p:cNvSpPr/>
          <p:nvPr/>
        </p:nvSpPr>
        <p:spPr>
          <a:xfrm>
            <a:off x="5364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752472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6084720" y="6308640"/>
            <a:ext cx="13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300720" y="49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6-30T18:14:58Z</dcterms:modified>
  <cp:revision>128</cp:revision>
  <dc:subject/>
  <dc:title>Презентация PowerPoint</dc:title>
</cp:coreProperties>
</file>