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CE2-6446-4FC0-9726-5786E184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8D1-612A-4271-8D9E-19A19DE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A89-C4A5-4CAF-AB29-ADB1795A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953-F58E-4C37-9421-BD0E9F3C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DC4-FE31-4939-88FE-E574031A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6D1-3654-469F-88E4-8758F32E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856-CDAF-49B7-9D76-CD2596DE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2A4-0397-472B-A77A-56DEF04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867-2BC6-4B98-B6DF-257C9F1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7E7-3CCD-429B-BEF4-97A89729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EEB-C40D-4781-A756-62B0A00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88C-FF80-42D8-8022-AAAA04A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F032-923E-4EEA-B60F-3842CEAB7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ОЛЬЗОВАТЕЛЬСКИЙ ИНТЕРФЕЙ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8101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ны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элементы графического интерфей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е информацион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льзовательский интерфей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234936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мпьютерах, оперировавших только числами и символами, был реализован </a:t>
            </a:r>
            <a:r>
              <a:rPr b="0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командны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одавалась с помощью последовательности символов (командной стро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опоставлял поступившую команду с имеющимся в  его памяти набором коман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лось действие, соответствующее поступившей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8028000" cy="3524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2484360" y="61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командн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116000" y="227664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запоминать многочисленные команды отпала с появлением графических интерфейсов. Первые графические интерфейсы обеспечивали возможность с помощью клавиш или манипулятора  «мыш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ить курсор к той или иной части экра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на экране имя файла или команду другим цв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ировать выделенными данными независимо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698920" y="335772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2266920" y="3214800"/>
            <a:ext cx="0" cy="20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 flipH="1">
            <a:off x="2265480" y="530208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698920" y="386244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698920" y="436572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698920" y="508644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 flipH="1">
            <a:off x="2266920" y="4654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H="1">
            <a:off x="2266920" y="4078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H="1">
            <a:off x="226692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050920" y="2565360"/>
            <a:ext cx="3456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омпьютерный объект имеет своё имя и графическое обо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3284640"/>
          <a:ext cx="7634520" cy="3230640"/>
        </p:xfrm>
        <a:graphic>
          <a:graphicData uri="http://schemas.openxmlformats.org/drawingml/2006/table">
            <a:tbl>
              <a:tblPr/>
              <a:tblGrid>
                <a:gridCol w="2160720"/>
                <a:gridCol w="2928960"/>
                <a:gridCol w="254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erox Phaser 3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риум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825480" cy="430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3"/>
          <p:cNvGrpSpPr/>
          <p:nvPr/>
        </p:nvGrpSpPr>
        <p:grpSpPr>
          <a:xfrm>
            <a:off x="7164360" y="5734080"/>
            <a:ext cx="432000" cy="574560"/>
            <a:chOff x="7164360" y="5734080"/>
            <a:chExt cx="432000" cy="574560"/>
          </a:xfrm>
        </p:grpSpPr>
        <p:sp>
          <p:nvSpPr>
            <p:cNvPr id="184" name="AutoShape 44"/>
            <p:cNvSpPr/>
            <p:nvPr/>
          </p:nvSpPr>
          <p:spPr>
            <a:xfrm flipV="1">
              <a:off x="7164360" y="5734080"/>
              <a:ext cx="432000" cy="574560"/>
            </a:xfrm>
            <a:prstGeom prst="foldedCorner">
              <a:avLst>
                <a:gd name="adj" fmla="val 125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45" descr=""/>
            <p:cNvPicPr/>
            <p:nvPr/>
          </p:nvPicPr>
          <p:blipFill>
            <a:blip r:embed="rId3"/>
            <a:stretch/>
          </p:blipFill>
          <p:spPr>
            <a:xfrm>
              <a:off x="7236000" y="5805360"/>
              <a:ext cx="323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46"/>
          <p:cNvSpPr/>
          <p:nvPr/>
        </p:nvSpPr>
        <p:spPr>
          <a:xfrm>
            <a:off x="1116000" y="234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ы обладают определё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3051000"/>
          <a:ext cx="7417080" cy="3473640"/>
        </p:xfrm>
        <a:graphic>
          <a:graphicData uri="http://schemas.openxmlformats.org/drawingml/2006/table">
            <a:tbl>
              <a:tblPr/>
              <a:tblGrid>
                <a:gridCol w="3148200"/>
                <a:gridCol w="42688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печати, цветность печати, доступ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мкость, размер занятого/свободного дискового пространства, тип доступа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, размер, дата создания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8" name="Text Box 64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бъектами можно совершать разнообраз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332000" y="3141720"/>
          <a:ext cx="7237440" cy="3489120"/>
        </p:xfrm>
        <a:graphic>
          <a:graphicData uri="http://schemas.openxmlformats.org/drawingml/2006/table">
            <a:tbl>
              <a:tblPr/>
              <a:tblGrid>
                <a:gridCol w="3071880"/>
                <a:gridCol w="4165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ить печать, приостановить печать, изменить тип доступа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на вирусы, посмотреть содержимое, очист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ить, распечатать, просмотреть, переименовать, копировать, удал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90" name="Picture 82" descr=""/>
          <p:cNvPicPr/>
          <p:nvPr/>
        </p:nvPicPr>
        <p:blipFill>
          <a:blip r:embed="rId4"/>
          <a:stretch/>
        </p:blipFill>
        <p:spPr>
          <a:xfrm>
            <a:off x="1763640" y="2708280"/>
            <a:ext cx="5759640" cy="3936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3"/>
          <p:cNvSpPr/>
          <p:nvPr/>
        </p:nvSpPr>
        <p:spPr>
          <a:xfrm>
            <a:off x="1042920" y="105264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компьютером в пользовательском интерфейсе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ображаемая на экране в ви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еля мы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большого графического объекта, который перемещается по экрану при движени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987640" y="242100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2556000" y="2133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H="1">
            <a:off x="2554200" y="450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987640" y="3068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ойной щел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987640" y="3716280"/>
            <a:ext cx="439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правой кноп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4365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тас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>
            <a:off x="255600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H="1">
            <a:off x="2556000" y="3284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556000" y="2565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40000" y="1484280"/>
            <a:ext cx="3960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риёмы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987640" y="4940280"/>
            <a:ext cx="439272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ведение указателя мыш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 flipH="1">
            <a:off x="2556000" y="5157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6"/>
          <p:cNvSpPr/>
          <p:nvPr/>
        </p:nvSpPr>
        <p:spPr>
          <a:xfrm>
            <a:off x="1042920" y="5445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жественный интерфей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пользователям наиболее удобных способов взаимодействия с программным обеспечением за счет логичности и простоты в расположении элементов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7" descr=""/>
          <p:cNvPicPr/>
          <p:nvPr/>
        </p:nvPicPr>
        <p:blipFill>
          <a:blip r:embed="rId5"/>
          <a:stretch/>
        </p:blipFill>
        <p:spPr>
          <a:xfrm>
            <a:off x="6948360" y="4149720"/>
            <a:ext cx="949320" cy="62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8"/>
          <p:cNvSpPr/>
          <p:nvPr/>
        </p:nvSpPr>
        <p:spPr>
          <a:xfrm flipV="1">
            <a:off x="5219640" y="2707920"/>
            <a:ext cx="0" cy="10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 flipV="1">
            <a:off x="3708360" y="2781000"/>
            <a:ext cx="0" cy="309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763640" y="2276640"/>
            <a:ext cx="20876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3640" y="227664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Заголовок 2"/>
          <p:cNvSpPr/>
          <p:nvPr/>
        </p:nvSpPr>
        <p:spPr>
          <a:xfrm>
            <a:off x="1222200" y="189000"/>
            <a:ext cx="7526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сновные элементы графического интерфей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 flipV="1">
            <a:off x="284328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608472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042920" y="299736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чи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364500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а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042920" y="429264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овое 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042920" y="4941720"/>
            <a:ext cx="2233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ри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42920" y="558972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651640" y="292428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651640" y="3571920"/>
            <a:ext cx="3168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екст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332000" y="1197000"/>
            <a:ext cx="655308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элементы графическ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76720" y="3141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3276720" y="451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3276720" y="587700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5219640" y="32130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ject 23" descr=""/>
          <p:cNvPicPr/>
          <p:nvPr/>
        </p:nvPicPr>
        <p:blipFill>
          <a:blip r:embed="rId1"/>
          <a:stretch/>
        </p:blipFill>
        <p:spPr>
          <a:xfrm>
            <a:off x="7236000" y="213372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24" descr=""/>
          <p:cNvPicPr/>
          <p:nvPr/>
        </p:nvPicPr>
        <p:blipFill>
          <a:blip r:embed="rId2"/>
          <a:stretch/>
        </p:blipFill>
        <p:spPr>
          <a:xfrm>
            <a:off x="7529400" y="2924280"/>
            <a:ext cx="16146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5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237636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26" descr=""/>
          <p:cNvPicPr/>
          <p:nvPr/>
        </p:nvPicPr>
        <p:blipFill>
          <a:blip r:embed="rId4"/>
          <a:stretch/>
        </p:blipFill>
        <p:spPr>
          <a:xfrm>
            <a:off x="2484360" y="2349360"/>
            <a:ext cx="321624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27" descr=""/>
          <p:cNvPicPr/>
          <p:nvPr/>
        </p:nvPicPr>
        <p:blipFill>
          <a:blip r:embed="rId5"/>
          <a:stretch/>
        </p:blipFill>
        <p:spPr>
          <a:xfrm>
            <a:off x="4356000" y="4581360"/>
            <a:ext cx="314028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Line 28"/>
          <p:cNvSpPr/>
          <p:nvPr/>
        </p:nvSpPr>
        <p:spPr>
          <a:xfrm>
            <a:off x="3276720" y="5157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рганизация индивидуального информационного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16000" y="1341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сей информации, накопленной человечеством в процессе развития науки, культуры, образования и практической деятельности людей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и ресур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321300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ные пользователю при работе на компьютере, называются его индивидуаль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V="1">
            <a:off x="2771640" y="220500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276720" y="24922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ановка программного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ерсональны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>
            <a:off x="277164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H="1">
            <a:off x="2771640" y="2852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56000" y="1341360"/>
            <a:ext cx="4608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ндивиду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76720" y="35020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текстовых, графически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ругих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H="1">
            <a:off x="2771640" y="4941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276720" y="4508640"/>
            <a:ext cx="4680000" cy="79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нос (копирование) на сво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тографий, фильмов, текстов,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H="1">
            <a:off x="2771280" y="5877000"/>
            <a:ext cx="505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76720" y="551664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хранение на своём компьютере ссыл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етев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907920"/>
            <a:ext cx="88200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человека и компьютера в наши дни строится на основ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но-ориентированного графического интерфей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бъекты представляются в ви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ирование объектами осуществляется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программного управления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являются различ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нипулят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информационные ресурсы (файлы с программами, документы, Web-сайты, фотографии, видеофрагменты и др.), доступные пользователю при работе на компью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87280" y="17002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ьзовательский интерфей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мандный пользовательский интерфейс не способствовал широкому распространению компьютерной техни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пециалисты до сих пор используют интерфейс командной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возможности реализованы в современных графических интерфей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овременные пользовательские интерфейсы можно считать объектно-ориентирова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ользовательский интерфейс, по вашему мнению, является дружествен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графиче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сновное окно операционной системы - Рабочий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управляющие элементы могут содержаться в диалоговых ок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 окон пап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них присутствуют в окнах известных вам 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налогии с повседневной жизнью реализованы в современном пользовательском интерфей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создании индивидуального информационного простра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2852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 flipV="1">
            <a:off x="2771640" y="2709360"/>
            <a:ext cx="0" cy="2087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H="1">
            <a:off x="2770200" y="4797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человека и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03640" y="3357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203640" y="386064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03640" y="458136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8"/>
          <p:cNvSpPr/>
          <p:nvPr/>
        </p:nvSpPr>
        <p:spPr>
          <a:xfrm flipH="1">
            <a:off x="2771640" y="4149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277164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2771640" y="306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116000" y="544500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формационные ресурсы, доступные пользователю при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56000" y="2060640"/>
            <a:ext cx="34560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5 (стр. 88 -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0, 121 (стр. 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6:33Z</dcterms:modified>
  <cp:revision>30</cp:revision>
  <dc:subject/>
  <dc:title>Презентация PowerPoint</dc:title>
</cp:coreProperties>
</file>