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D72-2042-428D-AB5B-44134BF8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4A2-EF27-4C82-8AC5-B1D878E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64C-E4F6-4CD2-80E6-017DE019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ED5-6ECD-43F8-BC54-09144C6F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F5-ABE0-4B44-9332-E8FEFC0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174-D756-4FD7-A55A-ACC3184E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AD6-2A49-402B-BA32-1DBCA38E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6F5-5FB5-46DE-BB99-6B6F61B9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F5D-9241-42C6-8D07-F493AA5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DD6-1584-4FE2-A711-C21EF66C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CBA-6BE0-407C-8B5B-366FE87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5A9-3F94-4D19-8B05-498E75D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563-358D-4B55-A1DE-B503FF233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ОЛЬЗОВАТЕЛЬСКИЙ ИНТЕРФЕЙ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8101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ны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фический интерфей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элементы графического интерфей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е информационное простран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921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льзовательский интерфей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2349360"/>
            <a:ext cx="79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омпьютерах, оперировавших только числами и символами, был реализован </a:t>
            </a:r>
            <a:r>
              <a:rPr b="0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командный интерфей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одавалась с помощью последовательности символов (командной стро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сопоставлял поступившую команду с имеющимся в  его памяти набором коман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лось действие, соответствующее поступившей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8028000" cy="3524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2484360" y="61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 командн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116000" y="227664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запоминать многочисленные команды отпала с появлением графических интерфейсов. Первые графические интерфейсы обеспечивали возможность с помощью клавиш или манипулятора  «мыш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одить курсор к той или иной части экра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ять на экране имя файла или команду другим цв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ировать выделенными данными независимо от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698920" y="335772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2266920" y="3214800"/>
            <a:ext cx="0" cy="20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 flipH="1">
            <a:off x="2265480" y="530208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698920" y="3862440"/>
            <a:ext cx="439236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698920" y="436572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698920" y="5086440"/>
            <a:ext cx="439236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 flipH="1">
            <a:off x="2266920" y="4654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H="1">
            <a:off x="2266920" y="40784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H="1">
            <a:off x="226692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050920" y="2565360"/>
            <a:ext cx="3456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компьютерный объект имеет своё имя и графическое обо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3284640"/>
          <a:ext cx="7634520" cy="3230640"/>
        </p:xfrm>
        <a:graphic>
          <a:graphicData uri="http://schemas.openxmlformats.org/drawingml/2006/table">
            <a:tbl>
              <a:tblPr/>
              <a:tblGrid>
                <a:gridCol w="2160720"/>
                <a:gridCol w="2928960"/>
                <a:gridCol w="254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erox Phaser 3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вариум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825480" cy="430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43"/>
          <p:cNvGrpSpPr/>
          <p:nvPr/>
        </p:nvGrpSpPr>
        <p:grpSpPr>
          <a:xfrm>
            <a:off x="7164360" y="5734080"/>
            <a:ext cx="432000" cy="574560"/>
            <a:chOff x="7164360" y="5734080"/>
            <a:chExt cx="432000" cy="574560"/>
          </a:xfrm>
        </p:grpSpPr>
        <p:sp>
          <p:nvSpPr>
            <p:cNvPr id="184" name="AutoShape 44"/>
            <p:cNvSpPr/>
            <p:nvPr/>
          </p:nvSpPr>
          <p:spPr>
            <a:xfrm flipV="1">
              <a:off x="7164360" y="5734080"/>
              <a:ext cx="432000" cy="574560"/>
            </a:xfrm>
            <a:prstGeom prst="foldedCorner">
              <a:avLst>
                <a:gd name="adj" fmla="val 12500"/>
              </a:avLst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45" descr=""/>
            <p:cNvPicPr/>
            <p:nvPr/>
          </p:nvPicPr>
          <p:blipFill>
            <a:blip r:embed="rId3"/>
            <a:stretch/>
          </p:blipFill>
          <p:spPr>
            <a:xfrm>
              <a:off x="7236000" y="5805360"/>
              <a:ext cx="323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46"/>
          <p:cNvSpPr/>
          <p:nvPr/>
        </p:nvSpPr>
        <p:spPr>
          <a:xfrm>
            <a:off x="1116000" y="234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ы обладают определё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3051000"/>
          <a:ext cx="7417080" cy="3473640"/>
        </p:xfrm>
        <a:graphic>
          <a:graphicData uri="http://schemas.openxmlformats.org/drawingml/2006/table">
            <a:tbl>
              <a:tblPr/>
              <a:tblGrid>
                <a:gridCol w="3148200"/>
                <a:gridCol w="42688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печати, цветность печати, доступ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мкость, размер занятого/свободного дискового пространства, тип доступа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, размер, дата создания и д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88" name="Text Box 64"/>
          <p:cNvSpPr/>
          <p:nvPr/>
        </p:nvSpPr>
        <p:spPr>
          <a:xfrm>
            <a:off x="1116000" y="2349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бъектами можно совершать разнообраз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332000" y="3141720"/>
          <a:ext cx="7237440" cy="3489120"/>
        </p:xfrm>
        <a:graphic>
          <a:graphicData uri="http://schemas.openxmlformats.org/drawingml/2006/table">
            <a:tbl>
              <a:tblPr/>
              <a:tblGrid>
                <a:gridCol w="3071880"/>
                <a:gridCol w="4165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3816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оить печать, приостановить печать, изменить тип доступа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на вирусы, посмотреть содержимое, очист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ить, распечатать, просмотреть, переименовать, копировать, удалить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190" name="Picture 82" descr=""/>
          <p:cNvPicPr/>
          <p:nvPr/>
        </p:nvPicPr>
        <p:blipFill>
          <a:blip r:embed="rId4"/>
          <a:stretch/>
        </p:blipFill>
        <p:spPr>
          <a:xfrm>
            <a:off x="1763640" y="2708280"/>
            <a:ext cx="5759640" cy="39369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3"/>
          <p:cNvSpPr/>
          <p:nvPr/>
        </p:nvSpPr>
        <p:spPr>
          <a:xfrm>
            <a:off x="1042920" y="105264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компьютером в пользовательском интерфейсе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ображаемая на экране в ви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азателя мыш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большого графического объекта, который перемещается по экрану при движени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987640" y="242100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2556000" y="2133720"/>
            <a:ext cx="0" cy="3024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H="1">
            <a:off x="2554200" y="450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987640" y="3068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ойной щелч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987640" y="3716280"/>
            <a:ext cx="439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Щелчок правой кноп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4365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таск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>
            <a:off x="255600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H="1">
            <a:off x="2556000" y="3284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556000" y="2565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40000" y="1484280"/>
            <a:ext cx="3960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риёмы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987640" y="4940280"/>
            <a:ext cx="439272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ведение указателя мыш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8"/>
          <p:cNvSpPr/>
          <p:nvPr/>
        </p:nvSpPr>
        <p:spPr>
          <a:xfrm flipH="1">
            <a:off x="2556000" y="5157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6"/>
          <p:cNvSpPr/>
          <p:nvPr/>
        </p:nvSpPr>
        <p:spPr>
          <a:xfrm>
            <a:off x="1042920" y="5445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жественный интерфей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оставление пользователям наиболее удобных способов взаимодействия с программным обеспечением за счет логичности и простоты в расположении элементов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7" descr=""/>
          <p:cNvPicPr/>
          <p:nvPr/>
        </p:nvPicPr>
        <p:blipFill>
          <a:blip r:embed="rId5"/>
          <a:stretch/>
        </p:blipFill>
        <p:spPr>
          <a:xfrm>
            <a:off x="6948360" y="4149720"/>
            <a:ext cx="949320" cy="62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8"/>
          <p:cNvSpPr/>
          <p:nvPr/>
        </p:nvSpPr>
        <p:spPr>
          <a:xfrm flipV="1">
            <a:off x="5219640" y="2707920"/>
            <a:ext cx="0" cy="10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8"/>
          <p:cNvSpPr/>
          <p:nvPr/>
        </p:nvSpPr>
        <p:spPr>
          <a:xfrm flipV="1">
            <a:off x="3708360" y="2781000"/>
            <a:ext cx="0" cy="309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1763640" y="2276640"/>
            <a:ext cx="20876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003640" y="227664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Заголовок 2"/>
          <p:cNvSpPr/>
          <p:nvPr/>
        </p:nvSpPr>
        <p:spPr>
          <a:xfrm>
            <a:off x="1222200" y="189000"/>
            <a:ext cx="7526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сновные элементы графического интерфей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 flipV="1">
            <a:off x="284328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8"/>
          <p:cNvSpPr/>
          <p:nvPr/>
        </p:nvSpPr>
        <p:spPr>
          <a:xfrm flipV="1">
            <a:off x="6084720" y="1844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042920" y="299736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чий ст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042920" y="364500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ап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042920" y="429264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логовое ок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042920" y="4941720"/>
            <a:ext cx="2233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при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42920" y="5589720"/>
            <a:ext cx="22338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но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651640" y="292428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651640" y="3571920"/>
            <a:ext cx="3168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текст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332000" y="1197000"/>
            <a:ext cx="655308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элементы графического интерфей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76720" y="3141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3276720" y="386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>
            <a:off x="3276720" y="451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3276720" y="587700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8"/>
          <p:cNvSpPr/>
          <p:nvPr/>
        </p:nvSpPr>
        <p:spPr>
          <a:xfrm>
            <a:off x="5219640" y="32130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5219640" y="378936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ject 23" descr=""/>
          <p:cNvPicPr/>
          <p:nvPr/>
        </p:nvPicPr>
        <p:blipFill>
          <a:blip r:embed="rId1"/>
          <a:stretch/>
        </p:blipFill>
        <p:spPr>
          <a:xfrm>
            <a:off x="7236000" y="213372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24" descr=""/>
          <p:cNvPicPr/>
          <p:nvPr/>
        </p:nvPicPr>
        <p:blipFill>
          <a:blip r:embed="rId2"/>
          <a:stretch/>
        </p:blipFill>
        <p:spPr>
          <a:xfrm>
            <a:off x="7529400" y="2924280"/>
            <a:ext cx="16146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5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237636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26" descr=""/>
          <p:cNvPicPr/>
          <p:nvPr/>
        </p:nvPicPr>
        <p:blipFill>
          <a:blip r:embed="rId4"/>
          <a:stretch/>
        </p:blipFill>
        <p:spPr>
          <a:xfrm>
            <a:off x="2484360" y="2349360"/>
            <a:ext cx="321624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27" descr=""/>
          <p:cNvPicPr/>
          <p:nvPr/>
        </p:nvPicPr>
        <p:blipFill>
          <a:blip r:embed="rId5"/>
          <a:stretch/>
        </p:blipFill>
        <p:spPr>
          <a:xfrm>
            <a:off x="4356000" y="4581360"/>
            <a:ext cx="314028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Line 28"/>
          <p:cNvSpPr/>
          <p:nvPr/>
        </p:nvSpPr>
        <p:spPr>
          <a:xfrm>
            <a:off x="3276720" y="5157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921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Организация индивидуального информационного простра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16000" y="1341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сей информации, накопленной человечеством в процессе развития науки, культуры, образования и практической деятельности людей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и ресур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321300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ные пользователю при работе на компьютере, называются его индивидуаль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V="1">
            <a:off x="2771640" y="2205000"/>
            <a:ext cx="0" cy="367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276720" y="24922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ановка программного обес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ерсональны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>
            <a:off x="2771640" y="3860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 flipH="1">
            <a:off x="2771640" y="2852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56000" y="1341360"/>
            <a:ext cx="460836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ндивиду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76720" y="350208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здание текстовых, графически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ругих док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H="1">
            <a:off x="2771640" y="4941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276720" y="4508640"/>
            <a:ext cx="4680000" cy="79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нос (копирование) на свой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тографий, фильмов, текстов, музы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H="1">
            <a:off x="2771280" y="5877000"/>
            <a:ext cx="505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276720" y="5516640"/>
            <a:ext cx="4680000" cy="793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хранение на своём компьютере ссыл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етевые ресур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907920"/>
            <a:ext cx="882000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взаимодействия человека и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человека и компьютера в наши дни строится на основ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но-ориентированного графического интерфей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бъекты представляются в ви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ч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ирование объектами осуществляется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программного управления явля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аппаратного управления являются различн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нипулят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информационные ресурсы (файлы с программами, документы, Web-сайты, фотографии, видеофрагменты и др.), доступные пользователю при работе на компьют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240" indent="18252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87280" y="17002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ьзовательский интерфей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мандный пользовательский интерфейс не способствовал широкому распространению компьютерной техни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пециалисты до сих пор используют интерфейс командной стро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возможности реализованы в современных графических интерфей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современные пользовательские интерфейсы можно считать объектно-ориентирова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пользовательский интерфейс, по вашему мнению, является дружествен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графиче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сновное окно операционной системы - Рабочий ст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управляющие элементы могут содержаться в диалоговых ок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 окон пап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них присутствуют в окнах известных вам 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1187280" y="1700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налогии с повседневной жизнью реализованы в современном пользовательском интерфей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1187280" y="1700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создании индивидуального информационного простра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203640" y="285264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ъекты представлены в виде зна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 flipV="1">
            <a:off x="2771640" y="2709360"/>
            <a:ext cx="0" cy="2087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H="1">
            <a:off x="2770200" y="4797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вокупность средств и прав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человека и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203640" y="3357720"/>
            <a:ext cx="4392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ирование объектами в ок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203640" y="386064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програм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ен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03640" y="4581360"/>
            <a:ext cx="439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й элемент аппара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я – манип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8"/>
          <p:cNvSpPr/>
          <p:nvPr/>
        </p:nvSpPr>
        <p:spPr>
          <a:xfrm flipH="1">
            <a:off x="2771640" y="414972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2771640" y="35733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2771640" y="30686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116000" y="544500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онное пространство пользов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информационные ресурсы, доступные пользователю при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56000" y="2060640"/>
            <a:ext cx="34560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но-ориент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5 (стр. 88 - 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20, 121 (стр. 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6:33Z</dcterms:modified>
  <cp:revision>30</cp:revision>
  <dc:subject/>
  <dc:title>Презентация PowerPoint</dc:title>
</cp:coreProperties>
</file>