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48C0-4ADD-44AF-B6B3-20A68AD5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1F8-DB97-42EF-A2EB-75C2DB2C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E25-F24A-49C2-A037-F87EE6C1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AAA5-5B74-46DA-A397-C44D6E6E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B70-6308-4BF6-BE48-8CF9748D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8D3-E5FF-4D81-A5D6-B0DE3C72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134C-8F91-4BA9-ADB7-0443C2DD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C53-01C4-4B8A-B3BB-16FFC7D8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5F5E-28EC-4AEC-89D8-20EA3A1F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4D8-163B-4C23-B4A7-A9D6A5A2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9D3-EEC6-45EE-93DB-76E6A212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BE7-3333-4FED-B304-17465EF6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2D69-0CA7-44AA-8706-06EA654087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64072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ОЛЬЗОВАТЕЛЬСКИЙ ИНТЕРФЕЙ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ОМПЬЮТЕР КАК УНИВЕСАЛЬНОЕ УСТРОЙСТВО ДЛЯ РАБОТЫ С ИНФОРМАЦ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640"/>
            <a:ext cx="8101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ьзовательский интерфей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андный интерфей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ческий интерфей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элементы графического интерфей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е информационное простран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92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  <a:ea typeface="Arial"/>
              </a:rPr>
              <a:t>Пользовательский интерфей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42920" y="112536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льзовательский интерфей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овокупность средств и правил взаимодействия человека и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71640" y="2349360"/>
            <a:ext cx="792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омпьютерах, оперировавших только числами и символами, был реализован </a:t>
            </a:r>
            <a:r>
              <a:rPr b="0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командный интерфей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а подавалась с помощью последовательности символов (командной строк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 сопоставлял поступившую команду с имеющимся в  его памяти набором коман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лось действие, соответствующее поступившей коман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8028000" cy="35244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2484360" y="616572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 командного интерфей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116000" y="227664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сть запоминать многочисленные команды отпала с появлением графических интерфейсов. Первые графические интерфейсы обеспечивали возможность с помощью клавиш или манипулятора  «мышь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одить курсор к той или иной части экра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ть на экране имя файла или команду другим цве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ировать выделенными данными независимо от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2698920" y="3357720"/>
            <a:ext cx="439236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ъекты представлены в виде знач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8"/>
          <p:cNvSpPr/>
          <p:nvPr/>
        </p:nvSpPr>
        <p:spPr>
          <a:xfrm flipV="1">
            <a:off x="2266920" y="3214800"/>
            <a:ext cx="0" cy="20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8"/>
          <p:cNvSpPr/>
          <p:nvPr/>
        </p:nvSpPr>
        <p:spPr>
          <a:xfrm flipH="1">
            <a:off x="2265480" y="530208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698920" y="3862440"/>
            <a:ext cx="439236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ерирование объектами в ок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698920" y="4365720"/>
            <a:ext cx="439236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ой элемент программ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правления – мен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2698920" y="5086440"/>
            <a:ext cx="439236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ой элемент аппарат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правления – манипуля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8"/>
          <p:cNvSpPr/>
          <p:nvPr/>
        </p:nvSpPr>
        <p:spPr>
          <a:xfrm flipH="1">
            <a:off x="2266920" y="46544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8"/>
          <p:cNvSpPr/>
          <p:nvPr/>
        </p:nvSpPr>
        <p:spPr>
          <a:xfrm flipH="1">
            <a:off x="2266920" y="40784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 flipH="1">
            <a:off x="2266920" y="357336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050920" y="2565360"/>
            <a:ext cx="345600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но-ориенти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рфей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1116000" y="2349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компьютерный объект имеет своё имя и графическое обо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87280" y="3284640"/>
          <a:ext cx="7634520" cy="3230640"/>
        </p:xfrm>
        <a:graphic>
          <a:graphicData uri="http://schemas.openxmlformats.org/drawingml/2006/table">
            <a:tbl>
              <a:tblPr/>
              <a:tblGrid>
                <a:gridCol w="2160720"/>
                <a:gridCol w="2928960"/>
                <a:gridCol w="2544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 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erox Phaser 3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фай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вариум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182" name="Picture 13" descr=""/>
          <p:cNvPicPr/>
          <p:nvPr/>
        </p:nvPicPr>
        <p:blipFill>
          <a:blip r:embed="rId2"/>
          <a:stretch/>
        </p:blipFill>
        <p:spPr>
          <a:xfrm>
            <a:off x="7020000" y="5013360"/>
            <a:ext cx="825480" cy="4302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43"/>
          <p:cNvGrpSpPr/>
          <p:nvPr/>
        </p:nvGrpSpPr>
        <p:grpSpPr>
          <a:xfrm>
            <a:off x="7164360" y="5734080"/>
            <a:ext cx="432000" cy="574560"/>
            <a:chOff x="7164360" y="5734080"/>
            <a:chExt cx="432000" cy="574560"/>
          </a:xfrm>
        </p:grpSpPr>
        <p:sp>
          <p:nvSpPr>
            <p:cNvPr id="184" name="AutoShape 44"/>
            <p:cNvSpPr/>
            <p:nvPr/>
          </p:nvSpPr>
          <p:spPr>
            <a:xfrm flipV="1">
              <a:off x="7164360" y="5734080"/>
              <a:ext cx="432000" cy="574560"/>
            </a:xfrm>
            <a:prstGeom prst="foldedCorner">
              <a:avLst>
                <a:gd name="adj" fmla="val 125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45" descr=""/>
            <p:cNvPicPr/>
            <p:nvPr/>
          </p:nvPicPr>
          <p:blipFill>
            <a:blip r:embed="rId3"/>
            <a:stretch/>
          </p:blipFill>
          <p:spPr>
            <a:xfrm>
              <a:off x="7236000" y="5805360"/>
              <a:ext cx="32364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Text Box 46"/>
          <p:cNvSpPr/>
          <p:nvPr/>
        </p:nvSpPr>
        <p:spPr>
          <a:xfrm>
            <a:off x="1116000" y="2349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ы обладают определёнными свой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87280" y="3051000"/>
          <a:ext cx="7417080" cy="3473640"/>
        </p:xfrm>
        <a:graphic>
          <a:graphicData uri="http://schemas.openxmlformats.org/drawingml/2006/table">
            <a:tbl>
              <a:tblPr/>
              <a:tblGrid>
                <a:gridCol w="3148200"/>
                <a:gridCol w="426888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рость печати, цветность печати, доступ и д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Ёмкость, размер занятого/свободного дискового пространства, тип доступа и д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фай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, размер, дата создания и д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88" name="Text Box 64"/>
          <p:cNvSpPr/>
          <p:nvPr/>
        </p:nvSpPr>
        <p:spPr>
          <a:xfrm>
            <a:off x="1116000" y="2349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бъектами можно совершать разнообраз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332000" y="3141720"/>
          <a:ext cx="7237440" cy="3489120"/>
        </p:xfrm>
        <a:graphic>
          <a:graphicData uri="http://schemas.openxmlformats.org/drawingml/2006/table">
            <a:tbl>
              <a:tblPr/>
              <a:tblGrid>
                <a:gridCol w="3071880"/>
                <a:gridCol w="4165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2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роить печать, приостановить печать, изменить тип доступа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1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ить на вирусы, посмотреть содержимое, очистить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фай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ить, распечатать, просмотреть, переименовать, копировать, удалить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190" name="Picture 82" descr=""/>
          <p:cNvPicPr/>
          <p:nvPr/>
        </p:nvPicPr>
        <p:blipFill>
          <a:blip r:embed="rId4"/>
          <a:stretch/>
        </p:blipFill>
        <p:spPr>
          <a:xfrm>
            <a:off x="1763640" y="2708280"/>
            <a:ext cx="5759640" cy="39369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83"/>
          <p:cNvSpPr/>
          <p:nvPr/>
        </p:nvSpPr>
        <p:spPr>
          <a:xfrm>
            <a:off x="1042920" y="105264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 элементом аппаратного управления компьютером в пользовательском интерфейсе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ш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тображаемая на экране в вид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азателя мыш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большого графического объекта, который перемещается по экрану при движении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987640" y="2421000"/>
            <a:ext cx="4392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Щелч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 flipV="1">
            <a:off x="2556000" y="2133720"/>
            <a:ext cx="0" cy="3024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H="1">
            <a:off x="2554200" y="45086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987640" y="3068640"/>
            <a:ext cx="4392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войной щелч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987640" y="3716280"/>
            <a:ext cx="4392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Щелчок правой кноп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987640" y="4365720"/>
            <a:ext cx="4392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таск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8"/>
          <p:cNvSpPr/>
          <p:nvPr/>
        </p:nvSpPr>
        <p:spPr>
          <a:xfrm flipH="1">
            <a:off x="2556000" y="38606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8"/>
          <p:cNvSpPr/>
          <p:nvPr/>
        </p:nvSpPr>
        <p:spPr>
          <a:xfrm flipH="1">
            <a:off x="2556000" y="32846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8"/>
          <p:cNvSpPr/>
          <p:nvPr/>
        </p:nvSpPr>
        <p:spPr>
          <a:xfrm flipH="1">
            <a:off x="2556000" y="256536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340000" y="1484280"/>
            <a:ext cx="396072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ные приёмы 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помощью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987640" y="4940280"/>
            <a:ext cx="4392720" cy="433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ведение указателя мыш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8"/>
          <p:cNvSpPr/>
          <p:nvPr/>
        </p:nvSpPr>
        <p:spPr>
          <a:xfrm flipH="1">
            <a:off x="2556000" y="515772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6"/>
          <p:cNvSpPr/>
          <p:nvPr/>
        </p:nvSpPr>
        <p:spPr>
          <a:xfrm>
            <a:off x="1042920" y="544500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ружественный интерфей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редоставление пользователям наиболее удобных способов взаимодействия с программным обеспечением за счет логичности и простоты в расположении элементов 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7" descr=""/>
          <p:cNvPicPr/>
          <p:nvPr/>
        </p:nvPicPr>
        <p:blipFill>
          <a:blip r:embed="rId5"/>
          <a:stretch/>
        </p:blipFill>
        <p:spPr>
          <a:xfrm>
            <a:off x="6948360" y="4149720"/>
            <a:ext cx="949320" cy="628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28"/>
          <p:cNvSpPr/>
          <p:nvPr/>
        </p:nvSpPr>
        <p:spPr>
          <a:xfrm flipV="1">
            <a:off x="5219640" y="2707920"/>
            <a:ext cx="0" cy="10810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8"/>
          <p:cNvSpPr/>
          <p:nvPr/>
        </p:nvSpPr>
        <p:spPr>
          <a:xfrm flipV="1">
            <a:off x="3708360" y="2781000"/>
            <a:ext cx="0" cy="3095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1763640" y="2276640"/>
            <a:ext cx="2087640" cy="50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5003640" y="2276640"/>
            <a:ext cx="20876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Заголовок 2"/>
          <p:cNvSpPr/>
          <p:nvPr/>
        </p:nvSpPr>
        <p:spPr>
          <a:xfrm>
            <a:off x="1222200" y="189000"/>
            <a:ext cx="7526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Основные элементы графического интерфей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 flipV="1">
            <a:off x="2843280" y="184464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8"/>
          <p:cNvSpPr/>
          <p:nvPr/>
        </p:nvSpPr>
        <p:spPr>
          <a:xfrm flipV="1">
            <a:off x="6084720" y="184464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042920" y="2997360"/>
            <a:ext cx="22338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чий ст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042920" y="3645000"/>
            <a:ext cx="22338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но пап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1042920" y="4292640"/>
            <a:ext cx="22338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алоговое ок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042920" y="4941720"/>
            <a:ext cx="22338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но при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042920" y="5589720"/>
            <a:ext cx="22338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но доку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5651640" y="2924280"/>
            <a:ext cx="208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в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651640" y="3571920"/>
            <a:ext cx="31683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текст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332000" y="1197000"/>
            <a:ext cx="655308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элементы графического интерфей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276720" y="314172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8"/>
          <p:cNvSpPr/>
          <p:nvPr/>
        </p:nvSpPr>
        <p:spPr>
          <a:xfrm>
            <a:off x="3276720" y="386064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8"/>
          <p:cNvSpPr/>
          <p:nvPr/>
        </p:nvSpPr>
        <p:spPr>
          <a:xfrm>
            <a:off x="3276720" y="451008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3276720" y="587700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8"/>
          <p:cNvSpPr/>
          <p:nvPr/>
        </p:nvSpPr>
        <p:spPr>
          <a:xfrm>
            <a:off x="5219640" y="3213000"/>
            <a:ext cx="432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5219640" y="3789360"/>
            <a:ext cx="432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Object 23" descr=""/>
          <p:cNvPicPr/>
          <p:nvPr/>
        </p:nvPicPr>
        <p:blipFill>
          <a:blip r:embed="rId1"/>
          <a:stretch/>
        </p:blipFill>
        <p:spPr>
          <a:xfrm>
            <a:off x="7236000" y="2133720"/>
            <a:ext cx="1373040" cy="685800"/>
          </a:xfrm>
          <a:prstGeom prst="rect">
            <a:avLst/>
          </a:prstGeom>
          <a:ln w="0">
            <a:noFill/>
          </a:ln>
        </p:spPr>
      </p:pic>
      <p:pic>
        <p:nvPicPr>
          <p:cNvPr id="228" name="Object 24" descr=""/>
          <p:cNvPicPr/>
          <p:nvPr/>
        </p:nvPicPr>
        <p:blipFill>
          <a:blip r:embed="rId2"/>
          <a:stretch/>
        </p:blipFill>
        <p:spPr>
          <a:xfrm>
            <a:off x="7529400" y="2924280"/>
            <a:ext cx="1614600" cy="685800"/>
          </a:xfrm>
          <a:prstGeom prst="rect">
            <a:avLst/>
          </a:prstGeom>
          <a:ln w="0">
            <a:noFill/>
          </a:ln>
        </p:spPr>
      </p:pic>
      <p:pic>
        <p:nvPicPr>
          <p:cNvPr id="229" name="Object 25" descr=""/>
          <p:cNvPicPr/>
          <p:nvPr/>
        </p:nvPicPr>
        <p:blipFill>
          <a:blip r:embed="rId3"/>
          <a:stretch/>
        </p:blipFill>
        <p:spPr>
          <a:xfrm>
            <a:off x="2556000" y="2997360"/>
            <a:ext cx="2376360" cy="68580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26" descr=""/>
          <p:cNvPicPr/>
          <p:nvPr/>
        </p:nvPicPr>
        <p:blipFill>
          <a:blip r:embed="rId4"/>
          <a:stretch/>
        </p:blipFill>
        <p:spPr>
          <a:xfrm>
            <a:off x="2484360" y="2349360"/>
            <a:ext cx="3216240" cy="68580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27" descr=""/>
          <p:cNvPicPr/>
          <p:nvPr/>
        </p:nvPicPr>
        <p:blipFill>
          <a:blip r:embed="rId5"/>
          <a:stretch/>
        </p:blipFill>
        <p:spPr>
          <a:xfrm>
            <a:off x="4356000" y="4581360"/>
            <a:ext cx="314028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Line 28"/>
          <p:cNvSpPr/>
          <p:nvPr/>
        </p:nvSpPr>
        <p:spPr>
          <a:xfrm>
            <a:off x="3276720" y="515772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9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3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4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2"/>
          <p:cNvSpPr/>
          <p:nvPr/>
        </p:nvSpPr>
        <p:spPr>
          <a:xfrm>
            <a:off x="1042920" y="189000"/>
            <a:ext cx="7921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Организация индивидуального информационного простран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116000" y="134136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всей информации, накопленной человечеством в процессе развития науки, культуры, образования и практической деятельности людей,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онными ресурс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042920" y="3213000"/>
            <a:ext cx="79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оступные пользователю при работе на компьютере, называются его индивидуаль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онным простра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8"/>
          <p:cNvSpPr/>
          <p:nvPr/>
        </p:nvSpPr>
        <p:spPr>
          <a:xfrm flipV="1">
            <a:off x="2771640" y="2205000"/>
            <a:ext cx="0" cy="3672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276720" y="2492280"/>
            <a:ext cx="4680000" cy="7938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становка программного обесп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персональный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8"/>
          <p:cNvSpPr/>
          <p:nvPr/>
        </p:nvSpPr>
        <p:spPr>
          <a:xfrm flipH="1">
            <a:off x="2771640" y="38606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 flipH="1">
            <a:off x="2771640" y="28526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556000" y="1341360"/>
            <a:ext cx="4608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индивиду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ормационного простр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276720" y="3502080"/>
            <a:ext cx="4680000" cy="7938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здание текстовых, графических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ругих док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8"/>
          <p:cNvSpPr/>
          <p:nvPr/>
        </p:nvSpPr>
        <p:spPr>
          <a:xfrm flipH="1">
            <a:off x="2771640" y="494172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276720" y="4508640"/>
            <a:ext cx="4680000" cy="793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нос (копирование) на свой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отографий, фильмов, текстов, муз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8"/>
          <p:cNvSpPr/>
          <p:nvPr/>
        </p:nvSpPr>
        <p:spPr>
          <a:xfrm flipH="1">
            <a:off x="2771280" y="5877000"/>
            <a:ext cx="5050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3276720" y="5516640"/>
            <a:ext cx="4680000" cy="7938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хранение на своём компьютере ссыл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сетевые ресур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8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9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24000" y="907920"/>
            <a:ext cx="882000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18252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ьзовательский интерфей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совокупность средств и правил взаимодействия человека и 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 человека и компьютера в наши дни строится на основ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ъектно-ориентированного графического интерфей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бъекты представляются в вид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нач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ирование объектами осуществляется 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кн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 элементом программного управления явля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н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 элементом аппаратного управления являются различны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нипулято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формационное пространство пользова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информационные ресурсы (файлы с программами, документы, Web-сайты, фотографии, видеофрагменты и др.), доступные пользователю при работе на компьют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87280" y="170028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ользовательский интерфей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187280" y="170028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командный пользовательский интерфейс не способствовал широкому распространению компьютерной техни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специалисты до сих пор используют интерфейс командной стро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основные возможности реализованы в современных графических интерфейс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187280" y="170028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современные пользовательские интерфейсы можно считать объектно-ориентирован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пользовательский интерфейс, по вашему мнению, является дружествен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основные элементы графического интерфей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основное окно операционной системы - Рабочий ст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управляющие элементы могут содержаться в диалоговых окн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1187280" y="170028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элементы окон пап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из них присутствуют в окнах известных вам прило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1187280" y="170028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аналогии с повседневной жизнью реализованы в современном пользовательском интерфейс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х правил следует придерживаться при создании индивидуального информационного простран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203640" y="2852640"/>
            <a:ext cx="4392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ъекты представлены в виде знач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8"/>
          <p:cNvSpPr/>
          <p:nvPr/>
        </p:nvSpPr>
        <p:spPr>
          <a:xfrm flipV="1">
            <a:off x="2771640" y="2709360"/>
            <a:ext cx="0" cy="2087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8"/>
          <p:cNvSpPr/>
          <p:nvPr/>
        </p:nvSpPr>
        <p:spPr>
          <a:xfrm flipH="1">
            <a:off x="2770200" y="479736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116000" y="907920"/>
            <a:ext cx="777708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ьзовательский интерфей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совокупность средств и 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ействия человека и компьют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203640" y="3357720"/>
            <a:ext cx="4392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ерирование объектами в ок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203640" y="3860640"/>
            <a:ext cx="439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ой элемент программ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правления – мен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203640" y="4581360"/>
            <a:ext cx="439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ой элемент аппарат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правления – манипуля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8"/>
          <p:cNvSpPr/>
          <p:nvPr/>
        </p:nvSpPr>
        <p:spPr>
          <a:xfrm flipH="1">
            <a:off x="2771640" y="414972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8"/>
          <p:cNvSpPr/>
          <p:nvPr/>
        </p:nvSpPr>
        <p:spPr>
          <a:xfrm flipH="1">
            <a:off x="2771640" y="357336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8"/>
          <p:cNvSpPr/>
          <p:nvPr/>
        </p:nvSpPr>
        <p:spPr>
          <a:xfrm flipH="1">
            <a:off x="2771640" y="30686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1116000" y="5445000"/>
            <a:ext cx="777708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формационное пространство пользовате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информационные ресурсы, доступные пользователю при рабо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мпьют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556000" y="2060640"/>
            <a:ext cx="345600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но-ориенти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рфей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8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9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.5 (стр. 88 - 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20, 121 (стр. 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6:16:33Z</dcterms:modified>
  <cp:revision>30</cp:revision>
  <dc:subject/>
  <dc:title>Презентация PowerPoint</dc:title>
</cp:coreProperties>
</file>