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B47-EEC9-438F-BF44-AA0CE317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7B9-BBFE-41CF-AB32-AAD151B0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1F6-B2C7-439B-A4D6-C8C6F814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3FF-C27E-406E-8F3B-EFA564BF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82F-FDAA-41FC-A395-663D768F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2C1-48E0-4569-9805-4BDDD388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E4A-39D7-4F85-A9AC-D4C00FDC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D9A-5C02-4142-9CF8-97AC417D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4E9-6FBC-420F-861F-CF5E5861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406-6801-4BA1-99BF-ECFB3229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F70-151E-4DF5-B675-8317540A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81D-C957-4334-A6C5-67A8E8CB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8F2A-41ED-4BD8-AF3C-1FA72EFC7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c7e12acb-61f6-4714-8385-0c892973055b/%5BINF_015%5D_%5BPD_01%5D.swf" TargetMode="External"/><Relationship Id="rId2" Type="http://schemas.openxmlformats.org/officeDocument/2006/relationships/hyperlink" Target="http://files.school-collection.edu.ru/dlrstore/c7e12acb-61f6-4714-8385-0c892973055b/%5BINF_015%5D_%5BPD_01%5D.swf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ФОРМАТ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116000" y="1773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нимается под форматированием тек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116000" y="1773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основная цель формати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но изменять в процессе форматирования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но изменять в процессе форматирования абзац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имущества обеспечивает стилевое форматиро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параметры страницы документа, выводимого на п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наиболее распространённые форматы файлов, в которых сохраняют текстовые доку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3276720" y="765000"/>
            <a:ext cx="2663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82 (стр. 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1116000" y="1125360"/>
            <a:ext cx="770400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те, к какой группе действий относятся следующие дей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843280" y="1844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мена одного символа на другой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843280" y="2276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ставка пропущенного слов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2843280" y="270828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зменение шрифт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843280" y="314172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аление фрагмента текст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843280" y="3573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ыравнивание текста по ширине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2843280" y="4005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верка правописан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843280" y="443700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зменение межстрочного расстоян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2843280" y="486900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зменение размеров полей страницы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2843280" y="5300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аление ошибочного символ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843280" y="5805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иск и замен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843280" y="6237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еремещение фрагмента текст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 rot="16200000">
            <a:off x="-756000" y="4004640"/>
            <a:ext cx="475272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дак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 rot="16200000">
            <a:off x="5579280" y="4004280"/>
            <a:ext cx="47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орма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8"/>
          <p:cNvSpPr/>
          <p:nvPr/>
        </p:nvSpPr>
        <p:spPr>
          <a:xfrm>
            <a:off x="3276720" y="692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84 (стр. 7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9"/>
          <p:cNvSpPr/>
          <p:nvPr/>
        </p:nvSpPr>
        <p:spPr>
          <a:xfrm>
            <a:off x="1187280" y="105264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те, к какой группе относятся следующие св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914560" y="1844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Шрифт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914560" y="2276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ыравнивание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914560" y="270828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тервал посл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2914560" y="314172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первой стро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914560" y="3573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чертание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2914560" y="4005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Цвет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914560" y="443700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еждустрочный интервал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2914560" y="486900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слев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2914560" y="5300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перед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2914560" y="5805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змер (кегль)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2914560" y="6237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справ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 rot="16200000">
            <a:off x="-684720" y="4004280"/>
            <a:ext cx="47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войства  симв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 rot="16200000">
            <a:off x="5650560" y="4004280"/>
            <a:ext cx="47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войства  абзац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3"/>
          <p:cNvSpPr/>
          <p:nvPr/>
        </p:nvSpPr>
        <p:spPr>
          <a:xfrm>
            <a:off x="3276720" y="765000"/>
            <a:ext cx="2663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88 (стр. 8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4"/>
          <p:cNvSpPr/>
          <p:nvPr/>
        </p:nvSpPr>
        <p:spPr>
          <a:xfrm>
            <a:off x="1187280" y="1197000"/>
            <a:ext cx="77043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ерите (отметьте галочкой) параметры, устанавливаемые при задании параметров страниц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908000" y="2060640"/>
          <a:ext cx="6096240" cy="4572000"/>
        </p:xfrm>
        <a:graphic>
          <a:graphicData uri="http://schemas.openxmlformats.org/drawingml/2006/table">
            <a:tbl>
              <a:tblPr/>
              <a:tblGrid>
                <a:gridCol w="1656000"/>
                <a:gridCol w="4440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шриф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а стра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строчные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ту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внивание абзац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ерт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351" name="Text Box 80"/>
          <p:cNvSpPr/>
          <p:nvPr/>
        </p:nvSpPr>
        <p:spPr>
          <a:xfrm>
            <a:off x="3276720" y="765000"/>
            <a:ext cx="2663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89 (стр. 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1"/>
          <p:cNvSpPr/>
          <p:nvPr/>
        </p:nvSpPr>
        <p:spPr>
          <a:xfrm>
            <a:off x="1440000" y="1197000"/>
            <a:ext cx="770400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ерите (отметьте галочкой) форматы текстовых файл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160720" y="2060640"/>
          <a:ext cx="6095880" cy="4572000"/>
        </p:xfrm>
        <a:graphic>
          <a:graphicData uri="http://schemas.openxmlformats.org/drawingml/2006/table">
            <a:tbl>
              <a:tblPr/>
              <a:tblGrid>
                <a:gridCol w="1655640"/>
                <a:gridCol w="4440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0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0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60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7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8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70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8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9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22"/>
          <p:cNvSpPr/>
          <p:nvPr/>
        </p:nvSpPr>
        <p:spPr>
          <a:xfrm>
            <a:off x="6659640" y="2060640"/>
            <a:ext cx="0" cy="2881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2"/>
          <p:cNvSpPr/>
          <p:nvPr/>
        </p:nvSpPr>
        <p:spPr>
          <a:xfrm>
            <a:off x="2771640" y="3141720"/>
            <a:ext cx="0" cy="187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4930920" y="566100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1187280" y="836640"/>
            <a:ext cx="77774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тирование текст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 процесс его оформ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4211640" y="1413000"/>
            <a:ext cx="1152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я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4211640" y="1916280"/>
            <a:ext cx="11746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иле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3240000" y="155736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0"/>
          <p:cNvSpPr/>
          <p:nvPr/>
        </p:nvSpPr>
        <p:spPr>
          <a:xfrm>
            <a:off x="3276720" y="1773360"/>
            <a:ext cx="936360" cy="287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1042920" y="3284640"/>
            <a:ext cx="1441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Шриф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1042920" y="3789360"/>
            <a:ext cx="1441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змер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1042920" y="4292640"/>
            <a:ext cx="1441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чертание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1042920" y="4797360"/>
            <a:ext cx="1441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Цве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059280" y="5229360"/>
            <a:ext cx="352728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ты текстовых фай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116000" y="1557360"/>
            <a:ext cx="216072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332000" y="2492280"/>
            <a:ext cx="194472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Форматир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символ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1330200" y="6237360"/>
            <a:ext cx="10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X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9"/>
          <p:cNvSpPr/>
          <p:nvPr/>
        </p:nvSpPr>
        <p:spPr>
          <a:xfrm>
            <a:off x="255420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OC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2"/>
          <p:cNvSpPr/>
          <p:nvPr/>
        </p:nvSpPr>
        <p:spPr>
          <a:xfrm flipH="1">
            <a:off x="1906200" y="5950080"/>
            <a:ext cx="57610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>
            <a:off x="190656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>
            <a:off x="305928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6"/>
          <p:cNvSpPr/>
          <p:nvPr/>
        </p:nvSpPr>
        <p:spPr>
          <a:xfrm>
            <a:off x="421020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6"/>
          <p:cNvSpPr/>
          <p:nvPr/>
        </p:nvSpPr>
        <p:spPr>
          <a:xfrm>
            <a:off x="536256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>
            <a:off x="651528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6"/>
          <p:cNvSpPr/>
          <p:nvPr/>
        </p:nvSpPr>
        <p:spPr>
          <a:xfrm>
            <a:off x="766764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9"/>
          <p:cNvSpPr/>
          <p:nvPr/>
        </p:nvSpPr>
        <p:spPr>
          <a:xfrm>
            <a:off x="370692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485928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RTF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9"/>
          <p:cNvSpPr/>
          <p:nvPr/>
        </p:nvSpPr>
        <p:spPr>
          <a:xfrm>
            <a:off x="608328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9"/>
          <p:cNvSpPr/>
          <p:nvPr/>
        </p:nvSpPr>
        <p:spPr>
          <a:xfrm>
            <a:off x="730728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PDF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6948360" y="328464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слева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6948360" y="378936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справа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6948360" y="429264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тервал перед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9"/>
          <p:cNvSpPr/>
          <p:nvPr/>
        </p:nvSpPr>
        <p:spPr>
          <a:xfrm>
            <a:off x="6948360" y="479736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тервал после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6"/>
          <p:cNvSpPr/>
          <p:nvPr/>
        </p:nvSpPr>
        <p:spPr>
          <a:xfrm>
            <a:off x="6659640" y="242100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6"/>
          <p:cNvSpPr/>
          <p:nvPr/>
        </p:nvSpPr>
        <p:spPr>
          <a:xfrm flipH="1">
            <a:off x="2484000" y="350028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6"/>
          <p:cNvSpPr/>
          <p:nvPr/>
        </p:nvSpPr>
        <p:spPr>
          <a:xfrm flipH="1">
            <a:off x="2484000" y="400536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6"/>
          <p:cNvSpPr/>
          <p:nvPr/>
        </p:nvSpPr>
        <p:spPr>
          <a:xfrm flipH="1">
            <a:off x="2484000" y="450864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6"/>
          <p:cNvSpPr/>
          <p:nvPr/>
        </p:nvSpPr>
        <p:spPr>
          <a:xfrm flipH="1">
            <a:off x="2484000" y="501336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6948360" y="220500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ыравнивание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6948360" y="2709720"/>
            <a:ext cx="201636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пер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рок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6"/>
          <p:cNvSpPr/>
          <p:nvPr/>
        </p:nvSpPr>
        <p:spPr>
          <a:xfrm>
            <a:off x="6659640" y="292428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6"/>
          <p:cNvSpPr/>
          <p:nvPr/>
        </p:nvSpPr>
        <p:spPr>
          <a:xfrm>
            <a:off x="6659640" y="350028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6"/>
          <p:cNvSpPr/>
          <p:nvPr/>
        </p:nvSpPr>
        <p:spPr>
          <a:xfrm>
            <a:off x="6659640" y="400536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6"/>
          <p:cNvSpPr/>
          <p:nvPr/>
        </p:nvSpPr>
        <p:spPr>
          <a:xfrm>
            <a:off x="6659640" y="443700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6"/>
          <p:cNvSpPr/>
          <p:nvPr/>
        </p:nvSpPr>
        <p:spPr>
          <a:xfrm>
            <a:off x="6659640" y="494172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2"/>
          <p:cNvSpPr/>
          <p:nvPr/>
        </p:nvSpPr>
        <p:spPr>
          <a:xfrm>
            <a:off x="3924360" y="3213000"/>
            <a:ext cx="0" cy="1511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4211640" y="3429000"/>
            <a:ext cx="2016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змер бумаг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8"/>
          <p:cNvSpPr/>
          <p:nvPr/>
        </p:nvSpPr>
        <p:spPr>
          <a:xfrm>
            <a:off x="4211640" y="3932280"/>
            <a:ext cx="2016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ри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раниц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9"/>
          <p:cNvSpPr/>
          <p:nvPr/>
        </p:nvSpPr>
        <p:spPr>
          <a:xfrm>
            <a:off x="4211640" y="4581360"/>
            <a:ext cx="2016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змер полей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>
            <a:off x="3922560" y="3645000"/>
            <a:ext cx="252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6"/>
          <p:cNvSpPr/>
          <p:nvPr/>
        </p:nvSpPr>
        <p:spPr>
          <a:xfrm>
            <a:off x="3924360" y="422100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3924360" y="472428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6300720" y="1484280"/>
            <a:ext cx="1944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Форматир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абзаце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3708360" y="2565360"/>
            <a:ext cx="2303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Параметры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страниц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00"/>
                            </p:stCondLst>
                            <p:childTnLst>
                              <p:par>
                                <p:cTn id="1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3 (стр. 155 - 1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82 - 189 (стр. 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71280" y="90792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а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риф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черт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бза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вн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ступ первой стр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ждустрочный интерв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и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метры стран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Общие сведения о форматир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16000" y="116064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тирование текс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оцесс его оформ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ая цель форматирования - сделать восприятие готового документа простым и приятным для читате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187280" y="3933720"/>
            <a:ext cx="3240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ямое форма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 flipV="1">
            <a:off x="3419640" y="3429000"/>
            <a:ext cx="136836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788000" y="3933720"/>
            <a:ext cx="3456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тилевое форма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 flipH="1" flipV="1">
            <a:off x="4788000" y="3429000"/>
            <a:ext cx="122400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195640" y="2852640"/>
            <a:ext cx="496872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ы форма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87280" y="4724280"/>
            <a:ext cx="2951280" cy="194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изво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мво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рагменты (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имвол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лова, стро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абза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5219640" y="4724280"/>
            <a:ext cx="2951280" cy="194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руктур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головки, основной текс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 flipV="1">
            <a:off x="2700360" y="4508280"/>
            <a:ext cx="0" cy="215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 flipV="1">
            <a:off x="6659640" y="4508280"/>
            <a:ext cx="0" cy="215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1116000" y="3429000"/>
            <a:ext cx="1584360" cy="27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ыполнен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 едином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и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132000" y="3429000"/>
            <a:ext cx="1584360" cy="27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ыс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шриф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от нижне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края сам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низкой букв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до верхне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края сам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ысок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букв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292720" y="3429000"/>
            <a:ext cx="1727280" cy="27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Нормаль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Полужир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ffff"/>
                </a:solidFill>
                <a:latin typeface="Calibri"/>
              </a:rPr>
              <a:t>Курсив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ffffff"/>
                </a:solidFill>
                <a:uFillTx/>
                <a:latin typeface="Calibri"/>
              </a:rPr>
              <a:t>Подчёркнут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baseline="30000">
                <a:solidFill>
                  <a:srgbClr val="ffffff"/>
                </a:solidFill>
                <a:latin typeface="Calibri"/>
              </a:rPr>
              <a:t>Надстрочное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19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baseline="-25000">
                <a:solidFill>
                  <a:srgbClr val="ffffff"/>
                </a:solidFill>
                <a:latin typeface="Calibri"/>
              </a:rPr>
              <a:t>Подстрочное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(x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7308720" y="3429000"/>
            <a:ext cx="1584360" cy="27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Цвет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Calibri"/>
              </a:rPr>
              <a:t>видим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00"/>
                </a:solidFill>
                <a:latin typeface="Calibri"/>
              </a:rPr>
              <a:t>ч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ffcc"/>
                </a:solidFill>
                <a:latin typeface="Calibri"/>
              </a:rPr>
              <a:t>символ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 flipV="1">
            <a:off x="1908000" y="292428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V="1">
            <a:off x="3924360" y="2997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6227640" y="292428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 flipV="1">
            <a:off x="8101080" y="292428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Форматирование симв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42920" y="69228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мво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минимальная графическая единица текс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116000" y="2565360"/>
            <a:ext cx="1584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Шриф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348000" y="1197000"/>
            <a:ext cx="3600360" cy="503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войства симв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1908000" y="198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1908000" y="1989000"/>
            <a:ext cx="61930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843280" y="2565360"/>
            <a:ext cx="2232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азмер шриф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 flipV="1">
            <a:off x="3924360" y="198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219640" y="2565360"/>
            <a:ext cx="2016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ачерт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V="1">
            <a:off x="6227640" y="198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7380360" y="2565360"/>
            <a:ext cx="1512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Цв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8101080" y="198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 flipV="1">
            <a:off x="5148360" y="170028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23" descr=""/>
          <p:cNvPicPr/>
          <p:nvPr/>
        </p:nvPicPr>
        <p:blipFill>
          <a:blip r:embed="rId1"/>
          <a:stretch/>
        </p:blipFill>
        <p:spPr>
          <a:xfrm>
            <a:off x="3995640" y="6172200"/>
            <a:ext cx="203364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Форматирование абза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042920" y="682560"/>
            <a:ext cx="79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бза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часть документа между двумя соседними непечатаемыми управляющими символами конца абзаца. Процесс ввода абзаца заканчивается нажатием клавиш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 flipH="1">
            <a:off x="2914200" y="3213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2627280" y="2276640"/>
            <a:ext cx="3024360" cy="4316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войства абза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914560" y="2708280"/>
            <a:ext cx="1800" cy="3384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>
            <a:hlinkClick r:id="rId1"/>
          </p:cNvPr>
          <p:cNvSpPr/>
          <p:nvPr/>
        </p:nvSpPr>
        <p:spPr>
          <a:xfrm>
            <a:off x="3274920" y="2997360"/>
            <a:ext cx="360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ыравни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>
            <a:hlinkClick r:id="rId2"/>
          </p:cNvPr>
          <p:cNvSpPr/>
          <p:nvPr/>
        </p:nvSpPr>
        <p:spPr>
          <a:xfrm>
            <a:off x="3274920" y="3789360"/>
            <a:ext cx="360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ступ первой 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274920" y="4508640"/>
            <a:ext cx="3672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Междустрочный интерв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274920" y="5157720"/>
            <a:ext cx="3672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ступы слева и спр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274920" y="5877000"/>
            <a:ext cx="3672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тервалы перед и пос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 flipH="1">
            <a:off x="2914200" y="400536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H="1">
            <a:off x="2914200" y="472428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 flipH="1">
            <a:off x="2916360" y="609300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2914200" y="5445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2" descr=""/>
          <p:cNvPicPr/>
          <p:nvPr/>
        </p:nvPicPr>
        <p:blipFill>
          <a:blip r:embed="rId3"/>
          <a:stretch/>
        </p:blipFill>
        <p:spPr>
          <a:xfrm>
            <a:off x="2195640" y="1241280"/>
            <a:ext cx="5472000" cy="5616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3"/>
          <p:cNvSpPr/>
          <p:nvPr/>
        </p:nvSpPr>
        <p:spPr>
          <a:xfrm>
            <a:off x="1042920" y="6825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но установки значений свойств абзаца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crosoft 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7"/>
          <p:cNvSpPr/>
          <p:nvPr/>
        </p:nvSpPr>
        <p:spPr>
          <a:xfrm>
            <a:off x="1042920" y="765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внивание абза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ие абзаца относительно боковых границ стра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2627280" y="1413000"/>
            <a:ext cx="6337440" cy="1067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текст выровнен по левому краю, левая граница абзаца образует прямую линию. При этом все строки имеют одинаковые отступы от левого края страницы. Данный абзац выровнен по левому кр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9"/>
          <p:cNvSpPr/>
          <p:nvPr/>
        </p:nvSpPr>
        <p:spPr>
          <a:xfrm>
            <a:off x="2627280" y="2638440"/>
            <a:ext cx="6337440" cy="1310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овненный по центру, или центрированный текст, располагается так: с обеих сторон каждой строки ширина свободного пространства одинакова. С обеих сторон края абзаца получаются неровными. Данный абзац выровнен по цент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0"/>
          <p:cNvSpPr/>
          <p:nvPr/>
        </p:nvSpPr>
        <p:spPr>
          <a:xfrm>
            <a:off x="2627280" y="4222800"/>
            <a:ext cx="6337440" cy="1098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текст выровнен по правому краю, правая граница абзаца образует прямую линию. Каждая строка абзаца заканчивается на одном и том же расстоянии от правого края страницы. Данный абзац выровнен по правому кра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1"/>
          <p:cNvSpPr/>
          <p:nvPr/>
        </p:nvSpPr>
        <p:spPr>
          <a:xfrm>
            <a:off x="2627280" y="5589720"/>
            <a:ext cx="6337440" cy="1067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текста, выровненного по ширине, левая и правая границы образуют прямые линии. При этом последняя строка абзаца ведёт себя так, как при выравнивании по левому краю. Данный абзац выровнен по шир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2" descr=""/>
          <p:cNvPicPr/>
          <p:nvPr/>
        </p:nvPicPr>
        <p:blipFill>
          <a:blip r:embed="rId4"/>
          <a:stretch/>
        </p:blipFill>
        <p:spPr>
          <a:xfrm>
            <a:off x="1619280" y="1484280"/>
            <a:ext cx="530280" cy="665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3"/>
          <p:cNvSpPr/>
          <p:nvPr/>
        </p:nvSpPr>
        <p:spPr>
          <a:xfrm>
            <a:off x="1042920" y="49417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вому кр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4" descr=""/>
          <p:cNvPicPr/>
          <p:nvPr/>
        </p:nvPicPr>
        <p:blipFill>
          <a:blip r:embed="rId5"/>
          <a:stretch/>
        </p:blipFill>
        <p:spPr>
          <a:xfrm>
            <a:off x="1616040" y="2773440"/>
            <a:ext cx="517680" cy="627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5"/>
          <p:cNvSpPr/>
          <p:nvPr/>
        </p:nvSpPr>
        <p:spPr>
          <a:xfrm>
            <a:off x="1116000" y="3429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цент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6" descr=""/>
          <p:cNvPicPr/>
          <p:nvPr/>
        </p:nvPicPr>
        <p:blipFill>
          <a:blip r:embed="rId6"/>
          <a:stretch/>
        </p:blipFill>
        <p:spPr>
          <a:xfrm>
            <a:off x="1604880" y="4348080"/>
            <a:ext cx="471600" cy="584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7" descr=""/>
          <p:cNvPicPr/>
          <p:nvPr/>
        </p:nvPicPr>
        <p:blipFill>
          <a:blip r:embed="rId7"/>
          <a:stretch/>
        </p:blipFill>
        <p:spPr>
          <a:xfrm>
            <a:off x="1654200" y="5715000"/>
            <a:ext cx="490680" cy="5810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8"/>
          <p:cNvSpPr/>
          <p:nvPr/>
        </p:nvSpPr>
        <p:spPr>
          <a:xfrm>
            <a:off x="1116000" y="21337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левому кр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9"/>
          <p:cNvSpPr/>
          <p:nvPr/>
        </p:nvSpPr>
        <p:spPr>
          <a:xfrm>
            <a:off x="1116000" y="63817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шир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971640" y="1125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тупы слева и спра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ояние от края страницы до левой (и, соответственно, правой) границы абза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116000" y="2347920"/>
          <a:ext cx="7777080" cy="2681280"/>
        </p:xfrm>
        <a:graphic>
          <a:graphicData uri="http://schemas.openxmlformats.org/drawingml/2006/table">
            <a:tbl>
              <a:tblPr/>
              <a:tblGrid>
                <a:gridCol w="2664000"/>
                <a:gridCol w="2520720"/>
                <a:gridCol w="2087640"/>
                <a:gridCol w="50472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отсту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тступом сл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тступом сп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мощью разной величины отступов слева и справа часто различают функциональные абзацы тек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3880"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мощью разной величины отступов слева и справа часто различают функциональные абзацы тек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мощью разной величины отступов слева и справа часто различают функциональные абзацы тек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99ffcc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ffcc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28" name="Text Box 77"/>
          <p:cNvSpPr/>
          <p:nvPr/>
        </p:nvSpPr>
        <p:spPr>
          <a:xfrm>
            <a:off x="1042920" y="5445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отступов тек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8"/>
          <p:cNvSpPr/>
          <p:nvPr/>
        </p:nvSpPr>
        <p:spPr>
          <a:xfrm>
            <a:off x="1042920" y="141300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туп первой стро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туп перед абзацем, красная стр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87280" y="2637000"/>
          <a:ext cx="7777440" cy="1657080"/>
        </p:xfrm>
        <a:graphic>
          <a:graphicData uri="http://schemas.openxmlformats.org/drawingml/2006/table">
            <a:tbl>
              <a:tblPr/>
              <a:tblGrid>
                <a:gridCol w="2664000"/>
                <a:gridCol w="2521080"/>
                <a:gridCol w="25923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отсту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тступ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выступ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без отступ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отступом 1 с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3880" indent="-353880"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выступом 1,25 с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31" name="Text Box 93"/>
          <p:cNvSpPr/>
          <p:nvPr/>
        </p:nvSpPr>
        <p:spPr>
          <a:xfrm>
            <a:off x="1042920" y="4653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отступов первой стро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4"/>
          <p:cNvSpPr/>
          <p:nvPr/>
        </p:nvSpPr>
        <p:spPr>
          <a:xfrm>
            <a:off x="1042920" y="1052640"/>
            <a:ext cx="79218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тервалы перед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посл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ют расстояние между соседними абзацами сверху и сни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ждустрочный интерва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ет расстояние между соседними строками внутри абза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16000" y="3068640"/>
          <a:ext cx="7777080" cy="2935440"/>
        </p:xfrm>
        <a:graphic>
          <a:graphicData uri="http://schemas.openxmlformats.org/drawingml/2006/table">
            <a:tbl>
              <a:tblPr/>
              <a:tblGrid>
                <a:gridCol w="2664000"/>
                <a:gridCol w="2520720"/>
                <a:gridCol w="259236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то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одинарным междустрочным интерва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полуторным междустрочным интерва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двойным междустрочным интерва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34" name="Text Box 109"/>
          <p:cNvSpPr/>
          <p:nvPr/>
        </p:nvSpPr>
        <p:spPr>
          <a:xfrm>
            <a:off x="1042920" y="6093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междустрочных интерв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ject 110" descr=""/>
          <p:cNvPicPr/>
          <p:nvPr/>
        </p:nvPicPr>
        <p:blipFill>
          <a:blip r:embed="rId8"/>
          <a:stretch/>
        </p:blipFill>
        <p:spPr>
          <a:xfrm>
            <a:off x="6516720" y="6172200"/>
            <a:ext cx="245268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тилевое форма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042920" y="692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ют к структурным элементам, несущим одну и ту же функциональную нагруз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начается определённ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иль формат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бор параметров форматирования (шрифт, его начертание и размер, отступ первой строки, междустрочный интерв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116000" y="3402000"/>
            <a:ext cx="2232000" cy="324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номит врем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ль как на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т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и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стре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ответ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аметр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ин за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708360" y="3402000"/>
            <a:ext cx="2664000" cy="324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динообраз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формл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уме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ё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ля вносит строг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форм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732720" y="3402000"/>
            <a:ext cx="2232000" cy="324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во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стро изме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 отд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ментов во вс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умент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статочно вн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я в сти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фор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ет измен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сём докумен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763640" y="2349360"/>
            <a:ext cx="6769080" cy="503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имущества стилевого форма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 flipV="1">
            <a:off x="2195640" y="282528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 flipV="1">
            <a:off x="5148360" y="282528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5"/>
          <p:cNvSpPr/>
          <p:nvPr/>
        </p:nvSpPr>
        <p:spPr>
          <a:xfrm flipV="1">
            <a:off x="7885080" y="282528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619280" y="2637000"/>
            <a:ext cx="3384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тили в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S 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276720" y="4365720"/>
            <a:ext cx="3816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Шаблоны в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S 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ject 16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1944720" cy="6858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17" descr=""/>
          <p:cNvPicPr/>
          <p:nvPr/>
        </p:nvPicPr>
        <p:blipFill>
          <a:blip r:embed="rId2"/>
          <a:stretch/>
        </p:blipFill>
        <p:spPr>
          <a:xfrm>
            <a:off x="5580000" y="4365720"/>
            <a:ext cx="226224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Форматирование страниц доку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16000" y="1125360"/>
            <a:ext cx="7848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формлении текстового документа, предназначенного для печати, особое внимание следует уделить его расположению на листах бумаг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1332000" y="2349360"/>
            <a:ext cx="3529080" cy="505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араметры страниц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 flipV="1">
            <a:off x="1619280" y="2852640"/>
            <a:ext cx="0" cy="2448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4859280" y="306864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ни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859280" y="364500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Альбом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932360" y="450864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ерх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932360" y="5084640"/>
            <a:ext cx="2089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иж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932360" y="5661000"/>
            <a:ext cx="2089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Ле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932360" y="623736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а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1619280" y="364500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1619280" y="530064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 flipH="1">
            <a:off x="4140000" y="3284640"/>
            <a:ext cx="718920" cy="288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 flipH="1" flipV="1">
            <a:off x="4211280" y="3573360"/>
            <a:ext cx="647640" cy="216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124000" y="335772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4140360" y="4653000"/>
            <a:ext cx="79200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 flipH="1">
            <a:off x="4211640" y="5300640"/>
            <a:ext cx="720720" cy="7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H="1" flipV="1">
            <a:off x="4140360" y="5300280"/>
            <a:ext cx="79200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H="1" flipV="1">
            <a:off x="4140360" y="5300640"/>
            <a:ext cx="792000" cy="1152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2124000" y="5084640"/>
            <a:ext cx="2089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7596360" y="4437000"/>
            <a:ext cx="1081080" cy="6116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мера страни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7380360" y="5229360"/>
            <a:ext cx="1512720" cy="288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титу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6"/>
          <p:cNvSpPr/>
          <p:nvPr/>
        </p:nvSpPr>
        <p:spPr>
          <a:xfrm>
            <a:off x="7236000" y="4437000"/>
            <a:ext cx="72720" cy="1152720"/>
          </a:xfrm>
          <a:custGeom>
            <a:avLst/>
            <a:gdLst>
              <a:gd name="textAreaLeft" fmla="*/ 0 w 72720"/>
              <a:gd name="textAreaRight" fmla="*/ 26280 w 727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9" descr=""/>
          <p:cNvPicPr/>
          <p:nvPr/>
        </p:nvPicPr>
        <p:blipFill>
          <a:blip r:embed="rId1"/>
          <a:stretch/>
        </p:blipFill>
        <p:spPr>
          <a:xfrm>
            <a:off x="2592360" y="1052640"/>
            <a:ext cx="4259160" cy="51130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0"/>
          <p:cNvSpPr/>
          <p:nvPr/>
        </p:nvSpPr>
        <p:spPr>
          <a:xfrm>
            <a:off x="1042920" y="6093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но выбора параметров страницы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Заголовок 2"/>
          <p:cNvSpPr/>
          <p:nvPr/>
        </p:nvSpPr>
        <p:spPr>
          <a:xfrm>
            <a:off x="1042920" y="189000"/>
            <a:ext cx="76438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хранение документа в различных текстовых форма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042920" y="1125360"/>
            <a:ext cx="77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сохранении текстового документа в файле 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ешнем носителе сохраняется собственно текст и команды его формат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1332000" y="306864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X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1332000" y="364500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"/>
          <p:cNvSpPr/>
          <p:nvPr/>
        </p:nvSpPr>
        <p:spPr>
          <a:xfrm flipV="1">
            <a:off x="1114560" y="2781000"/>
            <a:ext cx="0" cy="3384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6"/>
          <p:cNvSpPr/>
          <p:nvPr/>
        </p:nvSpPr>
        <p:spPr>
          <a:xfrm>
            <a:off x="1113840" y="328464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1332000" y="422100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1332000" y="479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F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1332000" y="537372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1332000" y="595008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DF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116000" y="2276640"/>
            <a:ext cx="468000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Форматы текстовых файлов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1113840" y="386064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6"/>
          <p:cNvSpPr/>
          <p:nvPr/>
        </p:nvSpPr>
        <p:spPr>
          <a:xfrm>
            <a:off x="1113840" y="443700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6"/>
          <p:cNvSpPr/>
          <p:nvPr/>
        </p:nvSpPr>
        <p:spPr>
          <a:xfrm>
            <a:off x="1113840" y="501336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6"/>
          <p:cNvSpPr/>
          <p:nvPr/>
        </p:nvSpPr>
        <p:spPr>
          <a:xfrm>
            <a:off x="1113840" y="558972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6"/>
          <p:cNvSpPr/>
          <p:nvPr/>
        </p:nvSpPr>
        <p:spPr>
          <a:xfrm>
            <a:off x="1113840" y="616572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2916360" y="306864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яет текст без форма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2916360" y="371628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й формат докумен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2916360" y="429264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й формат докумен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Office.org 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2916360" y="486900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й фор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8"/>
          <p:cNvSpPr/>
          <p:nvPr/>
        </p:nvSpPr>
        <p:spPr>
          <a:xfrm>
            <a:off x="2916360" y="537372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для хран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9"/>
          <p:cNvSpPr/>
          <p:nvPr/>
        </p:nvSpPr>
        <p:spPr>
          <a:xfrm>
            <a:off x="2916360" y="5950080"/>
            <a:ext cx="6048360" cy="57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для представления в электронном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ны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0"/>
          <p:cNvSpPr/>
          <p:nvPr/>
        </p:nvSpPr>
        <p:spPr>
          <a:xfrm>
            <a:off x="2700360" y="328464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1"/>
          <p:cNvSpPr/>
          <p:nvPr/>
        </p:nvSpPr>
        <p:spPr>
          <a:xfrm>
            <a:off x="2700360" y="386064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2"/>
          <p:cNvSpPr/>
          <p:nvPr/>
        </p:nvSpPr>
        <p:spPr>
          <a:xfrm>
            <a:off x="2700360" y="443700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4"/>
          <p:cNvSpPr/>
          <p:nvPr/>
        </p:nvSpPr>
        <p:spPr>
          <a:xfrm>
            <a:off x="2700360" y="558972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5"/>
          <p:cNvSpPr/>
          <p:nvPr/>
        </p:nvSpPr>
        <p:spPr>
          <a:xfrm>
            <a:off x="2700360" y="616572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2"/>
          <p:cNvSpPr/>
          <p:nvPr/>
        </p:nvSpPr>
        <p:spPr>
          <a:xfrm>
            <a:off x="2700360" y="508464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1" descr=""/>
          <p:cNvPicPr/>
          <p:nvPr/>
        </p:nvPicPr>
        <p:blipFill>
          <a:blip r:embed="rId1"/>
          <a:stretch/>
        </p:blipFill>
        <p:spPr>
          <a:xfrm>
            <a:off x="2340000" y="4797360"/>
            <a:ext cx="476280" cy="457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2" descr=""/>
          <p:cNvPicPr/>
          <p:nvPr/>
        </p:nvPicPr>
        <p:blipFill>
          <a:blip r:embed="rId2"/>
          <a:stretch/>
        </p:blipFill>
        <p:spPr>
          <a:xfrm>
            <a:off x="2340000" y="5950080"/>
            <a:ext cx="457200" cy="466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3" descr=""/>
          <p:cNvPicPr/>
          <p:nvPr/>
        </p:nvPicPr>
        <p:blipFill>
          <a:blip r:embed="rId3"/>
          <a:stretch/>
        </p:blipFill>
        <p:spPr>
          <a:xfrm>
            <a:off x="2340000" y="5373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5" descr=""/>
          <p:cNvPicPr/>
          <p:nvPr/>
        </p:nvPicPr>
        <p:blipFill>
          <a:blip r:embed="rId4"/>
          <a:stretch/>
        </p:blipFill>
        <p:spPr>
          <a:xfrm>
            <a:off x="2340000" y="3645000"/>
            <a:ext cx="476280" cy="45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6" descr=""/>
          <p:cNvPicPr/>
          <p:nvPr/>
        </p:nvPicPr>
        <p:blipFill>
          <a:blip r:embed="rId5"/>
          <a:stretch/>
        </p:blipFill>
        <p:spPr>
          <a:xfrm>
            <a:off x="2411280" y="299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8" descr=""/>
          <p:cNvPicPr/>
          <p:nvPr/>
        </p:nvPicPr>
        <p:blipFill>
          <a:blip r:embed="rId6"/>
          <a:stretch/>
        </p:blipFill>
        <p:spPr>
          <a:xfrm>
            <a:off x="2340000" y="4221000"/>
            <a:ext cx="457200" cy="50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8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9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10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7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8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0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4"/>
          <p:cNvSpPr/>
          <p:nvPr/>
        </p:nvSpPr>
        <p:spPr>
          <a:xfrm>
            <a:off x="179280" y="824040"/>
            <a:ext cx="878544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тирование тек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 его оформления; восприятие документа становится более простым за счёт вычленения и одинакового оформления однотипных структурных элементов текста. Различают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ое форматирован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илевое форматирован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тирование симво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зменение значений свойств введенных символов: шрифта, размера, начертания, цвета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тирование абза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зменение таких свойств, как выравнивание, отступ первой строки, междустрочный интервал, отступы слева и справа, интервалы перед и после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раметрами страницы докум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ются размер бумаги, ориентация страницы и размер п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распространены следующие форматы файлов, в которых сохраняют текстовые документы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T, DOC, ODT, RTF, HTML, PD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38:42Z</dcterms:modified>
  <cp:revision>45</cp:revision>
  <dc:subject/>
  <dc:title>Презентация PowerPoint</dc:title>
</cp:coreProperties>
</file>