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812-5635-4C40-B45B-A909891C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182-9613-4343-8E1A-CAD0EE82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12-1D8E-4C47-9769-7E18FF99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5CC-9B54-404C-88BA-3D951139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332-A224-4F7C-84E7-EE3D94A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FC1-A3E1-46BD-93F7-EA7AA4F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516-F00C-40AB-8BDC-DA8F40DD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C85-E3E6-4EDA-8F35-EA0853BB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E33-71B9-4101-A64E-110E30AB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7B5-FF6F-4306-B08E-8CDE578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D0B-CC72-499D-9E84-B679FD0C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C4E-1F5D-42C9-9C02-FEA1EFF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C3AF-1D4B-4EDA-A552-C0EE20251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c7e12acb-61f6-4714-8385-0c892973055b/%5BINF_015%5D_%5BPD_01%5D.swf" TargetMode="External"/><Relationship Id="rId2" Type="http://schemas.openxmlformats.org/officeDocument/2006/relationships/hyperlink" Target="http://files.school-collection.edu.ru/dlrstore/c7e12acb-61f6-4714-8385-0c892973055b/%5BINF_015%5D_%5BPD_01%5D.swf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420640"/>
            <a:ext cx="68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23640" y="4076640"/>
            <a:ext cx="64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нимается под форматированием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1773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основная цель формат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изменять в процессе форматирования абза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ет стилевое форматиро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параметры страницы документа, выводимого на п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11600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наиболее распространённые форматы файлов, в которых сохраняют текстовые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2 (стр. 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116000" y="112536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действий относятся следующи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84328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мена одного символа на другой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84328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ставка пропущенного сло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284328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шриф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84328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84328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 текста по ширин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284328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верка правописа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84328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межстрочного расстоя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84328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зменение размеров полей страницы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284328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аление ошибочного символ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84328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иск и замен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84328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еремещение фрагмента текст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 rot="16200000">
            <a:off x="-756000" y="4004640"/>
            <a:ext cx="4752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дак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 rot="16200000">
            <a:off x="557928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орма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8"/>
          <p:cNvSpPr/>
          <p:nvPr/>
        </p:nvSpPr>
        <p:spPr>
          <a:xfrm>
            <a:off x="3276720" y="692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4 (стр. 7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1187280" y="105264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, к какой группе относятся следующие св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914560" y="1844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914560" y="2276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914560" y="270828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914560" y="314172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914560" y="3573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914560" y="40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914560" y="4437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ждустрочный интервал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2914560" y="486900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2914560" y="530064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ед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2914560" y="5805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(кегль) шриф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2914560" y="6237360"/>
            <a:ext cx="38894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68472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 rot="16200000">
            <a:off x="5650560" y="4004280"/>
            <a:ext cx="47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войства  абза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3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8 (стр. 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1187280" y="1197000"/>
            <a:ext cx="7704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параметры, устанавливаемые при задании параметров стран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8000" y="2060640"/>
          <a:ext cx="6096240" cy="4572000"/>
        </p:xfrm>
        <a:graphic>
          <a:graphicData uri="http://schemas.openxmlformats.org/drawingml/2006/table">
            <a:tbl>
              <a:tblPr/>
              <a:tblGrid>
                <a:gridCol w="165600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шриф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а стра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строчные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внивание абзац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ерт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51" name="Text Box 80"/>
          <p:cNvSpPr/>
          <p:nvPr/>
        </p:nvSpPr>
        <p:spPr>
          <a:xfrm>
            <a:off x="3276720" y="765000"/>
            <a:ext cx="2663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89 (стр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1"/>
          <p:cNvSpPr/>
          <p:nvPr/>
        </p:nvSpPr>
        <p:spPr>
          <a:xfrm>
            <a:off x="1440000" y="1197000"/>
            <a:ext cx="77040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ерите (отметьте галочкой) форматы текстовых файл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160720" y="2060640"/>
          <a:ext cx="6095880" cy="4572000"/>
        </p:xfrm>
        <a:graphic>
          <a:graphicData uri="http://schemas.openxmlformats.org/drawingml/2006/table">
            <a:tbl>
              <a:tblPr/>
              <a:tblGrid>
                <a:gridCol w="1655640"/>
                <a:gridCol w="444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7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8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7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2"/>
          <p:cNvSpPr/>
          <p:nvPr/>
        </p:nvSpPr>
        <p:spPr>
          <a:xfrm>
            <a:off x="6659640" y="2060640"/>
            <a:ext cx="0" cy="288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2771640" y="3141720"/>
            <a:ext cx="0" cy="187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4930920" y="566100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1187280" y="836640"/>
            <a:ext cx="777744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тирование текс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—  процесс его офор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4211640" y="1413000"/>
            <a:ext cx="1152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я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4211640" y="1916280"/>
            <a:ext cx="117468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ил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3240000" y="1557360"/>
            <a:ext cx="97164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3276720" y="1773360"/>
            <a:ext cx="93636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1042920" y="3284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Шриф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7"/>
          <p:cNvSpPr/>
          <p:nvPr/>
        </p:nvSpPr>
        <p:spPr>
          <a:xfrm>
            <a:off x="1042920" y="3789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1042920" y="429264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1042920" y="4797360"/>
            <a:ext cx="144144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Цвет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059280" y="5229360"/>
            <a:ext cx="352728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ы текстовых фай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116000" y="1557360"/>
            <a:ext cx="2160720" cy="4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332000" y="2492280"/>
            <a:ext cx="194472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имвол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1330200" y="6237360"/>
            <a:ext cx="1008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9"/>
          <p:cNvSpPr/>
          <p:nvPr/>
        </p:nvSpPr>
        <p:spPr>
          <a:xfrm>
            <a:off x="255420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2"/>
          <p:cNvSpPr/>
          <p:nvPr/>
        </p:nvSpPr>
        <p:spPr>
          <a:xfrm flipH="1">
            <a:off x="1906200" y="5950080"/>
            <a:ext cx="5761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1906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>
            <a:off x="3059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421020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6"/>
          <p:cNvSpPr/>
          <p:nvPr/>
        </p:nvSpPr>
        <p:spPr>
          <a:xfrm>
            <a:off x="536256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>
            <a:off x="651528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6"/>
          <p:cNvSpPr/>
          <p:nvPr/>
        </p:nvSpPr>
        <p:spPr>
          <a:xfrm>
            <a:off x="7667640" y="5950080"/>
            <a:ext cx="0" cy="252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9"/>
          <p:cNvSpPr/>
          <p:nvPr/>
        </p:nvSpPr>
        <p:spPr>
          <a:xfrm>
            <a:off x="370692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4859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9"/>
          <p:cNvSpPr/>
          <p:nvPr/>
        </p:nvSpPr>
        <p:spPr>
          <a:xfrm>
            <a:off x="6083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7307280" y="623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6948360" y="3284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ле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6948360" y="3789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справа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6948360" y="429264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еред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6948360" y="479736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тервал посл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6"/>
          <p:cNvSpPr/>
          <p:nvPr/>
        </p:nvSpPr>
        <p:spPr>
          <a:xfrm>
            <a:off x="6659640" y="24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6"/>
          <p:cNvSpPr/>
          <p:nvPr/>
        </p:nvSpPr>
        <p:spPr>
          <a:xfrm flipH="1">
            <a:off x="248400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 flipH="1">
            <a:off x="248400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 flipH="1">
            <a:off x="2484000" y="4508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 flipH="1">
            <a:off x="248400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6948360" y="2205000"/>
            <a:ext cx="201636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ыравнивание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6948360" y="2709720"/>
            <a:ext cx="201636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тступ пер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ок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6"/>
          <p:cNvSpPr/>
          <p:nvPr/>
        </p:nvSpPr>
        <p:spPr>
          <a:xfrm>
            <a:off x="6659640" y="29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6"/>
          <p:cNvSpPr/>
          <p:nvPr/>
        </p:nvSpPr>
        <p:spPr>
          <a:xfrm>
            <a:off x="6659640" y="3500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6659640" y="4005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6"/>
          <p:cNvSpPr/>
          <p:nvPr/>
        </p:nvSpPr>
        <p:spPr>
          <a:xfrm>
            <a:off x="66596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6659640" y="4941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3924360" y="3213000"/>
            <a:ext cx="0" cy="1511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7"/>
          <p:cNvSpPr/>
          <p:nvPr/>
        </p:nvSpPr>
        <p:spPr>
          <a:xfrm>
            <a:off x="4211640" y="342900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бумаг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8"/>
          <p:cNvSpPr/>
          <p:nvPr/>
        </p:nvSpPr>
        <p:spPr>
          <a:xfrm>
            <a:off x="4211640" y="3932280"/>
            <a:ext cx="201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ран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4211640" y="4581360"/>
            <a:ext cx="2016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змер полей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3922560" y="3645000"/>
            <a:ext cx="252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6"/>
          <p:cNvSpPr/>
          <p:nvPr/>
        </p:nvSpPr>
        <p:spPr>
          <a:xfrm>
            <a:off x="3924360" y="4221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3924360" y="472428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6300720" y="1484280"/>
            <a:ext cx="1944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Форматиров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абза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708360" y="2565360"/>
            <a:ext cx="2303640" cy="649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араметр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стран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4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6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00"/>
                            </p:stCondLst>
                            <p:childTnLst>
                              <p:par>
                                <p:cTn id="1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10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.3 (стр. 155 -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82 - 189 (стр.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28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а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р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ер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вн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ступ первой ст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ждустрочный интерв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и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метры стран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Общие сведения о форматир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116000" y="116064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его оформ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ая цель форматирования - сделать восприятие готового документа простым и приятным для читате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187280" y="3933720"/>
            <a:ext cx="3240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ям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 flipV="1">
            <a:off x="3419640" y="3429000"/>
            <a:ext cx="136836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88000" y="3933720"/>
            <a:ext cx="3456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тилевое форма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 flipH="1" flipV="1">
            <a:off x="4788000" y="3429000"/>
            <a:ext cx="122400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195640" y="2852640"/>
            <a:ext cx="4968720" cy="649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8728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рагменты (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имвол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лова, стро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абза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219640" y="4724280"/>
            <a:ext cx="2951280" cy="194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руктурны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, основной текс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270036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6659640" y="4508280"/>
            <a:ext cx="0" cy="215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1116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полнен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 едином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13200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шриф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от ниж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изкой 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до верхн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края са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высок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букв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292720" y="3429000"/>
            <a:ext cx="172728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Нормаль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Полужир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ffff"/>
                </a:solidFill>
                <a:latin typeface="Calibri"/>
              </a:rPr>
              <a:t>Курсив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ffffff"/>
                </a:solidFill>
                <a:uFillTx/>
                <a:latin typeface="Calibri"/>
              </a:rPr>
              <a:t>Подчёркнут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30000">
                <a:solidFill>
                  <a:srgbClr val="ffffff"/>
                </a:solidFill>
                <a:latin typeface="Calibri"/>
              </a:rPr>
              <a:t>Надстрочное </a:t>
            </a:r>
            <a:r>
              <a:rPr b="0" lang="ru-RU" sz="19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en-US" sz="19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baseline="-25000">
                <a:solidFill>
                  <a:srgbClr val="ffffff"/>
                </a:solidFill>
                <a:latin typeface="Calibri"/>
              </a:rPr>
              <a:t>Подстрочное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(x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308720" y="3429000"/>
            <a:ext cx="1584360" cy="27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ве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a50021"/>
                </a:solidFill>
                <a:latin typeface="Calibri"/>
              </a:rPr>
              <a:t>видимо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Calibri"/>
              </a:rPr>
              <a:t>ч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ffcc"/>
                </a:solidFill>
                <a:latin typeface="Calibri"/>
              </a:rPr>
              <a:t>симво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1908000" y="292428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V="1">
            <a:off x="3924360" y="2997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622764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V="1">
            <a:off x="8101080" y="292428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имв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69228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минимальная графическая единица тек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116000" y="2565360"/>
            <a:ext cx="1584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риф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348000" y="1197000"/>
            <a:ext cx="360036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симв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190800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1908000" y="1989000"/>
            <a:ext cx="6193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843280" y="2565360"/>
            <a:ext cx="223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азмер шриф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V="1">
            <a:off x="392436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219640" y="2565360"/>
            <a:ext cx="2016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Начерт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622764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380360" y="2565360"/>
            <a:ext cx="151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Цв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8101080" y="198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V="1">
            <a:off x="5148360" y="170028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3" descr=""/>
          <p:cNvPicPr/>
          <p:nvPr/>
        </p:nvPicPr>
        <p:blipFill>
          <a:blip r:embed="rId1"/>
          <a:stretch/>
        </p:blipFill>
        <p:spPr>
          <a:xfrm>
            <a:off x="3995640" y="6172200"/>
            <a:ext cx="20336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абза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42920" y="68256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бза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часть документа между двумя соседними непечатаемыми управляющими символами конца абзаца. Процесс ввода абзаца заканчивается нажатием клавиш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2914200" y="3213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2627280" y="2276640"/>
            <a:ext cx="3024360" cy="4316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войства абз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914560" y="2708280"/>
            <a:ext cx="1800" cy="338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>
            <a:hlinkClick r:id="rId1"/>
          </p:cNvPr>
          <p:cNvSpPr/>
          <p:nvPr/>
        </p:nvSpPr>
        <p:spPr>
          <a:xfrm>
            <a:off x="3274920" y="2997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ыравни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>
            <a:hlinkClick r:id="rId2"/>
          </p:cNvPr>
          <p:cNvSpPr/>
          <p:nvPr/>
        </p:nvSpPr>
        <p:spPr>
          <a:xfrm>
            <a:off x="3274920" y="3789360"/>
            <a:ext cx="3600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 пер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274920" y="450864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Междустрочный интерва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74920" y="5157720"/>
            <a:ext cx="367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ступы слева и сп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74920" y="5877000"/>
            <a:ext cx="3672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тервалы перед и пос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2914200" y="4005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>
            <a:off x="291420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 flipH="1">
            <a:off x="2916360" y="609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2914200" y="54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2" descr=""/>
          <p:cNvPicPr/>
          <p:nvPr/>
        </p:nvPicPr>
        <p:blipFill>
          <a:blip r:embed="rId3"/>
          <a:stretch/>
        </p:blipFill>
        <p:spPr>
          <a:xfrm>
            <a:off x="2195640" y="1241280"/>
            <a:ext cx="5472000" cy="5616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3"/>
          <p:cNvSpPr/>
          <p:nvPr/>
        </p:nvSpPr>
        <p:spPr>
          <a:xfrm>
            <a:off x="1042920" y="6825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установки значений свойств абзаца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7"/>
          <p:cNvSpPr/>
          <p:nvPr/>
        </p:nvSpPr>
        <p:spPr>
          <a:xfrm>
            <a:off x="104292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внивание абза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абзаца относительно боковых границ стран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2627280" y="141300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левому краю, левая граница абзаца образует прямую линию. При этом все строки имеют одинаковые отступы от левого края страницы. Данный абзац выровнен по левому кр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9"/>
          <p:cNvSpPr/>
          <p:nvPr/>
        </p:nvSpPr>
        <p:spPr>
          <a:xfrm>
            <a:off x="2627280" y="2638440"/>
            <a:ext cx="6337440" cy="1310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овненный по центру, или центрированный текст, располагается так: с обеих сторон каждой строки ширина свободного пространства одинакова. С обеих сторон края абзаца получаются неровными. Данный абзац выровнен по цент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0"/>
          <p:cNvSpPr/>
          <p:nvPr/>
        </p:nvSpPr>
        <p:spPr>
          <a:xfrm>
            <a:off x="2627280" y="4222800"/>
            <a:ext cx="6337440" cy="1098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текст выровнен по правому краю, правая граница абзаца образует прямую линию. Каждая строка абзаца заканчивается на одном и том же расстоянии от правого края страницы. Данный абзац выровнен по правому кра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1"/>
          <p:cNvSpPr/>
          <p:nvPr/>
        </p:nvSpPr>
        <p:spPr>
          <a:xfrm>
            <a:off x="2627280" y="5589720"/>
            <a:ext cx="6337440" cy="106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текста, выровненного по ширине, левая и правая границы образуют прямые линии. При этом последняя строка абзаца ведёт себя так, как при выравнивании по левому краю. Данный абзац выровнен по шир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2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530280" cy="665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3"/>
          <p:cNvSpPr/>
          <p:nvPr/>
        </p:nvSpPr>
        <p:spPr>
          <a:xfrm>
            <a:off x="1042920" y="494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4" descr=""/>
          <p:cNvPicPr/>
          <p:nvPr/>
        </p:nvPicPr>
        <p:blipFill>
          <a:blip r:embed="rId5"/>
          <a:stretch/>
        </p:blipFill>
        <p:spPr>
          <a:xfrm>
            <a:off x="1616040" y="2773440"/>
            <a:ext cx="517680" cy="6271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5"/>
          <p:cNvSpPr/>
          <p:nvPr/>
        </p:nvSpPr>
        <p:spPr>
          <a:xfrm>
            <a:off x="1116000" y="3429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цент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6" descr=""/>
          <p:cNvPicPr/>
          <p:nvPr/>
        </p:nvPicPr>
        <p:blipFill>
          <a:blip r:embed="rId6"/>
          <a:stretch/>
        </p:blipFill>
        <p:spPr>
          <a:xfrm>
            <a:off x="1604880" y="4348080"/>
            <a:ext cx="471600" cy="584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7" descr=""/>
          <p:cNvPicPr/>
          <p:nvPr/>
        </p:nvPicPr>
        <p:blipFill>
          <a:blip r:embed="rId7"/>
          <a:stretch/>
        </p:blipFill>
        <p:spPr>
          <a:xfrm>
            <a:off x="1654200" y="5715000"/>
            <a:ext cx="490680" cy="5810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8"/>
          <p:cNvSpPr/>
          <p:nvPr/>
        </p:nvSpPr>
        <p:spPr>
          <a:xfrm>
            <a:off x="1116000" y="2133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левому кр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116000" y="638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шир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971640" y="1125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ы слева и спра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ояние от края страницы до левой (и, соответственно, правой) границы абза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16000" y="2347920"/>
          <a:ext cx="7777080" cy="268128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087640"/>
                <a:gridCol w="50472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л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 с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мощью разной величины отступов слева и справа часто различают функциональные абзацы тек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99ffcc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ffcc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77"/>
          <p:cNvSpPr/>
          <p:nvPr/>
        </p:nvSpPr>
        <p:spPr>
          <a:xfrm>
            <a:off x="1042920" y="5445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тек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8"/>
          <p:cNvSpPr/>
          <p:nvPr/>
        </p:nvSpPr>
        <p:spPr>
          <a:xfrm>
            <a:off x="1042920" y="1413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ступ первой стро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туп перед абзацем, красная стро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87280" y="2637000"/>
          <a:ext cx="7777440" cy="1657080"/>
        </p:xfrm>
        <a:graphic>
          <a:graphicData uri="http://schemas.openxmlformats.org/drawingml/2006/table">
            <a:tbl>
              <a:tblPr/>
              <a:tblGrid>
                <a:gridCol w="2664000"/>
                <a:gridCol w="2521080"/>
                <a:gridCol w="25923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тступ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т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ыст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без отступ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тступом 1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3880" indent="-353880"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выступом 1,25 с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1" name="Text Box 93"/>
          <p:cNvSpPr/>
          <p:nvPr/>
        </p:nvSpPr>
        <p:spPr>
          <a:xfrm>
            <a:off x="1042920" y="465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отступов первой стро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4"/>
          <p:cNvSpPr/>
          <p:nvPr/>
        </p:nvSpPr>
        <p:spPr>
          <a:xfrm>
            <a:off x="1042920" y="1052640"/>
            <a:ext cx="792180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валы пер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посл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ют расстояние между соседними абзацами сверху и сни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ждустрочный интерва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расстояние между соседними строками внутри абза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16000" y="3068640"/>
          <a:ext cx="7777080" cy="2935440"/>
        </p:xfrm>
        <a:graphic>
          <a:graphicData uri="http://schemas.openxmlformats.org/drawingml/2006/table">
            <a:tbl>
              <a:tblPr/>
              <a:tblGrid>
                <a:gridCol w="2664000"/>
                <a:gridCol w="2520720"/>
                <a:gridCol w="259236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то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28080">
                      <a:solidFill>
                        <a:srgbClr val="33ccff"/>
                      </a:solidFill>
                    </a:lnT>
                    <a:lnB w="136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одина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полутор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136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вами пример текста с двойным междустрочным интерва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ccff"/>
                      </a:solidFill>
                    </a:lnL>
                    <a:lnR w="28080">
                      <a:solidFill>
                        <a:srgbClr val="33ccff"/>
                      </a:solidFill>
                    </a:lnR>
                    <a:lnT w="13680">
                      <a:solidFill>
                        <a:srgbClr val="33ccff"/>
                      </a:solidFill>
                    </a:lnT>
                    <a:lnB w="28080">
                      <a:solidFill>
                        <a:srgbClr val="33cc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234" name="Text Box 109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ы междустрочных интерв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110" descr=""/>
          <p:cNvPicPr/>
          <p:nvPr/>
        </p:nvPicPr>
        <p:blipFill>
          <a:blip r:embed="rId8"/>
          <a:stretch/>
        </p:blipFill>
        <p:spPr>
          <a:xfrm>
            <a:off x="6516720" y="6172200"/>
            <a:ext cx="245268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тилевое формат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042920" y="692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ют к структурным элементам, несущим одну и ту же функциональную нагруз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начается определё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формат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параметров форматирования (шрифт, его начертание и размер, отступ первой строки, междустрочный интерв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1600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номит врем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ь как н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ат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е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ответ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аметр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за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708360" y="3402000"/>
            <a:ext cx="2664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динообраз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ё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ля вносит строг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форм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732720" y="3402000"/>
            <a:ext cx="2232000" cy="3240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во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стро изме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ментов во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умент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аточно вн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я в сти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ет измен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сём докумен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763640" y="2349360"/>
            <a:ext cx="6769080" cy="503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имущества стилевого форма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5"/>
          <p:cNvSpPr/>
          <p:nvPr/>
        </p:nvSpPr>
        <p:spPr>
          <a:xfrm flipV="1">
            <a:off x="219564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514836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 flipV="1">
            <a:off x="7885080" y="282528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1619280" y="2637000"/>
            <a:ext cx="33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тили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276720" y="4365720"/>
            <a:ext cx="3816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Шаблоны в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S 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16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94472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7" descr=""/>
          <p:cNvPicPr/>
          <p:nvPr/>
        </p:nvPicPr>
        <p:blipFill>
          <a:blip r:embed="rId2"/>
          <a:stretch/>
        </p:blipFill>
        <p:spPr>
          <a:xfrm>
            <a:off x="5580000" y="4365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Заголовок 2"/>
          <p:cNvSpPr/>
          <p:nvPr/>
        </p:nvSpPr>
        <p:spPr>
          <a:xfrm>
            <a:off x="1042920" y="189000"/>
            <a:ext cx="76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Форматирование страниц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16000" y="1125360"/>
            <a:ext cx="7848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формлении текстового документа, предназначенного для печати, особое внимание следует уделить его расположению на листах бум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332000" y="2349360"/>
            <a:ext cx="3529080" cy="505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араметры страниц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5"/>
          <p:cNvSpPr/>
          <p:nvPr/>
        </p:nvSpPr>
        <p:spPr>
          <a:xfrm flipV="1">
            <a:off x="1619280" y="2852640"/>
            <a:ext cx="0" cy="244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859280" y="306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ни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859280" y="364500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льбом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932360" y="450864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ерх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93236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иж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932360" y="566100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е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932360" y="623736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а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1619280" y="364500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619280" y="5300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 flipH="1">
            <a:off x="4140000" y="3284640"/>
            <a:ext cx="71892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 flipV="1">
            <a:off x="4211280" y="3573360"/>
            <a:ext cx="647640" cy="216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124000" y="3357720"/>
            <a:ext cx="208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4140360" y="4653000"/>
            <a:ext cx="792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 flipH="1">
            <a:off x="4211640" y="5300640"/>
            <a:ext cx="720720" cy="73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H="1" flipV="1">
            <a:off x="4140360" y="5300280"/>
            <a:ext cx="792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 flipV="1">
            <a:off x="4140360" y="5300640"/>
            <a:ext cx="792000" cy="1152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2124000" y="508464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7596360" y="4437000"/>
            <a:ext cx="1081080" cy="611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а страни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380360" y="5229360"/>
            <a:ext cx="1512720" cy="288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6"/>
          <p:cNvSpPr/>
          <p:nvPr/>
        </p:nvSpPr>
        <p:spPr>
          <a:xfrm>
            <a:off x="7236000" y="4437000"/>
            <a:ext cx="72720" cy="1152720"/>
          </a:xfrm>
          <a:custGeom>
            <a:avLst/>
            <a:gdLst>
              <a:gd name="textAreaLeft" fmla="*/ 0 w 72720"/>
              <a:gd name="textAreaRight" fmla="*/ 26280 w 72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9" descr=""/>
          <p:cNvPicPr/>
          <p:nvPr/>
        </p:nvPicPr>
        <p:blipFill>
          <a:blip r:embed="rId1"/>
          <a:stretch/>
        </p:blipFill>
        <p:spPr>
          <a:xfrm>
            <a:off x="2592360" y="1052640"/>
            <a:ext cx="4259160" cy="5113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0"/>
          <p:cNvSpPr/>
          <p:nvPr/>
        </p:nvSpPr>
        <p:spPr>
          <a:xfrm>
            <a:off x="1042920" y="609300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выбора параметров страницы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охранение документа в различных текстовых форма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042920" y="112536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сохранении текстового документа в файле 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шнем носителе сохраняется собственно текст и команды его формат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9"/>
          <p:cNvSpPr/>
          <p:nvPr/>
        </p:nvSpPr>
        <p:spPr>
          <a:xfrm>
            <a:off x="1332000" y="306864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X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1332000" y="3645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"/>
          <p:cNvSpPr/>
          <p:nvPr/>
        </p:nvSpPr>
        <p:spPr>
          <a:xfrm flipV="1">
            <a:off x="1114560" y="2781000"/>
            <a:ext cx="0" cy="3384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6"/>
          <p:cNvSpPr/>
          <p:nvPr/>
        </p:nvSpPr>
        <p:spPr>
          <a:xfrm>
            <a:off x="1113840" y="3284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1332000" y="422100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T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1332000" y="479736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F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332000" y="537372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1332000" y="5950080"/>
            <a:ext cx="1008000" cy="3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F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116000" y="2276640"/>
            <a:ext cx="4680000" cy="466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Форматы текстовых файлов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1113840" y="386064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1113840" y="443700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>
            <a:off x="1113840" y="501336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6"/>
          <p:cNvSpPr/>
          <p:nvPr/>
        </p:nvSpPr>
        <p:spPr>
          <a:xfrm>
            <a:off x="1113840" y="5589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>
            <a:off x="1113840" y="6165720"/>
            <a:ext cx="252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2916360" y="3068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ет текст без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2916360" y="371628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2916360" y="429264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ый формат доку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Office.org 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2916360" y="486900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ый фор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8"/>
          <p:cNvSpPr/>
          <p:nvPr/>
        </p:nvSpPr>
        <p:spPr>
          <a:xfrm>
            <a:off x="2916360" y="5373720"/>
            <a:ext cx="6048360" cy="36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хран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/>
          <p:cNvSpPr/>
          <p:nvPr/>
        </p:nvSpPr>
        <p:spPr>
          <a:xfrm>
            <a:off x="2916360" y="5950080"/>
            <a:ext cx="6048360" cy="57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для представления в электронном ви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ат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0"/>
          <p:cNvSpPr/>
          <p:nvPr/>
        </p:nvSpPr>
        <p:spPr>
          <a:xfrm>
            <a:off x="2700360" y="32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1"/>
          <p:cNvSpPr/>
          <p:nvPr/>
        </p:nvSpPr>
        <p:spPr>
          <a:xfrm>
            <a:off x="2700360" y="3860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2"/>
          <p:cNvSpPr/>
          <p:nvPr/>
        </p:nvSpPr>
        <p:spPr>
          <a:xfrm>
            <a:off x="2700360" y="443700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4"/>
          <p:cNvSpPr/>
          <p:nvPr/>
        </p:nvSpPr>
        <p:spPr>
          <a:xfrm>
            <a:off x="2700360" y="5589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5"/>
          <p:cNvSpPr/>
          <p:nvPr/>
        </p:nvSpPr>
        <p:spPr>
          <a:xfrm>
            <a:off x="2700360" y="616572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2"/>
          <p:cNvSpPr/>
          <p:nvPr/>
        </p:nvSpPr>
        <p:spPr>
          <a:xfrm>
            <a:off x="2700360" y="5084640"/>
            <a:ext cx="216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1" descr=""/>
          <p:cNvPicPr/>
          <p:nvPr/>
        </p:nvPicPr>
        <p:blipFill>
          <a:blip r:embed="rId1"/>
          <a:stretch/>
        </p:blipFill>
        <p:spPr>
          <a:xfrm>
            <a:off x="2340000" y="479736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"/>
          <p:cNvPicPr/>
          <p:nvPr/>
        </p:nvPicPr>
        <p:blipFill>
          <a:blip r:embed="rId2"/>
          <a:stretch/>
        </p:blipFill>
        <p:spPr>
          <a:xfrm>
            <a:off x="2340000" y="5950080"/>
            <a:ext cx="457200" cy="466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3" descr=""/>
          <p:cNvPicPr/>
          <p:nvPr/>
        </p:nvPicPr>
        <p:blipFill>
          <a:blip r:embed="rId3"/>
          <a:stretch/>
        </p:blipFill>
        <p:spPr>
          <a:xfrm>
            <a:off x="2340000" y="5373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5" descr=""/>
          <p:cNvPicPr/>
          <p:nvPr/>
        </p:nvPicPr>
        <p:blipFill>
          <a:blip r:embed="rId4"/>
          <a:stretch/>
        </p:blipFill>
        <p:spPr>
          <a:xfrm>
            <a:off x="2340000" y="3645000"/>
            <a:ext cx="476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6" descr=""/>
          <p:cNvPicPr/>
          <p:nvPr/>
        </p:nvPicPr>
        <p:blipFill>
          <a:blip r:embed="rId5"/>
          <a:stretch/>
        </p:blipFill>
        <p:spPr>
          <a:xfrm>
            <a:off x="2411280" y="2997360"/>
            <a:ext cx="39060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8" descr=""/>
          <p:cNvPicPr/>
          <p:nvPr/>
        </p:nvPicPr>
        <p:blipFill>
          <a:blip r:embed="rId6"/>
          <a:stretch/>
        </p:blipFill>
        <p:spPr>
          <a:xfrm>
            <a:off x="2340000" y="4221000"/>
            <a:ext cx="457200" cy="5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7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179280" y="824040"/>
            <a:ext cx="878544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 его оформления; восприятие документа становится более простым за счёт вычленения и одинакового оформления однотипных структурных элементов текста. Различают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илевое форматирован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значений свойств введенных символов: шрифта, размера, начертания, цвет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орматирование абза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зменение таких свойств, как выравнивание, отступ первой строки, междустрочный интервал, отступы слева и справа, интервалы перед и после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араметрами страницы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размер бумаги, ориентация страницы и размер п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ены следующие форматы файлов, в которых сохраняют текстовые документы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, DOC, ODT, RTF, HTML, PD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7:38:42Z</dcterms:modified>
  <cp:revision>45</cp:revision>
  <dc:subject/>
  <dc:title>Презентация PowerPoint</dc:title>
</cp:coreProperties>
</file>