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36C-931A-4101-93DC-F9D87625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28E-3A26-483E-AF16-1C8836FA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503-B01C-49ED-B425-9728C5EF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165-C4EC-4A5D-81DA-ADC5B863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1E5-FAC3-4DD0-A00D-95449EB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4DC-6EBF-4AA1-9523-0345ACC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F89-B11F-4281-A918-AC25B3F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C8A-8CCE-4F51-994B-FB86669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EBA-A0AF-487A-A7CC-18AB1E8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7AA-D72D-4EC5-A516-6D47C50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A32-A0B8-4F29-AF61-54F7832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D12-8B14-4219-9A17-91D75F4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E34-41AA-4514-86E3-41FA76E29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hyperlink" Target="http://files.school-collection.edu.ru/dlrstore/c7e12acb-61f6-4714-8385-0c892973055b/%5BINF_015%5D_%5BPD_01%5D.sw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нимается под форматированием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ая цель формат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абза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стилевое форматиро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параметры страницы документа, выводимого на п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наиболее распространённые форматы файлов, в которых сохраняют текстов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2 (стр. 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116000" y="112536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действий относятся следующи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84328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мена одного символа на друг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84328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ставка пропущенного сло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284328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шриф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84328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84328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 текста по ширин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84328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верка правописа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84328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межстрочного расстоя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84328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размеров полей страницы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284328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ошибочного символ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4328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иск и заме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84328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емещ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 rot="16200000">
            <a:off x="-756000" y="4004640"/>
            <a:ext cx="4752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 rot="16200000">
            <a:off x="557928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орма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8"/>
          <p:cNvSpPr/>
          <p:nvPr/>
        </p:nvSpPr>
        <p:spPr>
          <a:xfrm>
            <a:off x="3276720" y="6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4 (стр. 7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1187280" y="105264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относятся следующие св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91456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91456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91456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91456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91456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91456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91456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ждустрочный интервал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291456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291456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91456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(кегль)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91456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68472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 rot="16200000">
            <a:off x="565056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абза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8 (стр. 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1187280" y="1197000"/>
            <a:ext cx="7704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параметры, устанавливаемые при задании параметров стран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8000" y="2060640"/>
          <a:ext cx="6096240" cy="4572000"/>
        </p:xfrm>
        <a:graphic>
          <a:graphicData uri="http://schemas.openxmlformats.org/drawingml/2006/table">
            <a:tbl>
              <a:tblPr/>
              <a:tblGrid>
                <a:gridCol w="165600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шриф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стра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строчные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внивание абза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ер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51" name="Text Box 80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9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1"/>
          <p:cNvSpPr/>
          <p:nvPr/>
        </p:nvSpPr>
        <p:spPr>
          <a:xfrm>
            <a:off x="1440000" y="119700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форматы текстовых файл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60720" y="2060640"/>
          <a:ext cx="6095880" cy="4572000"/>
        </p:xfrm>
        <a:graphic>
          <a:graphicData uri="http://schemas.openxmlformats.org/drawingml/2006/table">
            <a:tbl>
              <a:tblPr/>
              <a:tblGrid>
                <a:gridCol w="165564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2"/>
          <p:cNvSpPr/>
          <p:nvPr/>
        </p:nvSpPr>
        <p:spPr>
          <a:xfrm>
            <a:off x="6659640" y="2060640"/>
            <a:ext cx="0" cy="28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2771640" y="3141720"/>
            <a:ext cx="0" cy="187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930920" y="566100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87280" y="836640"/>
            <a:ext cx="7777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ирование текс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 процесс его офор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4211640" y="1413000"/>
            <a:ext cx="1152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я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211640" y="1916280"/>
            <a:ext cx="1174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ил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3240000" y="15573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3276720" y="1773360"/>
            <a:ext cx="93636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1042920" y="3284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1042920" y="3789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1042920" y="4292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1042920" y="4797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059280" y="5229360"/>
            <a:ext cx="352728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ы текстовых фай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116000" y="1557360"/>
            <a:ext cx="216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332000" y="2492280"/>
            <a:ext cx="1944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имвол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330200" y="6237360"/>
            <a:ext cx="10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255420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 flipH="1">
            <a:off x="1906200" y="5950080"/>
            <a:ext cx="5761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1906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3059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421020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6"/>
          <p:cNvSpPr/>
          <p:nvPr/>
        </p:nvSpPr>
        <p:spPr>
          <a:xfrm>
            <a:off x="5362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6515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6"/>
          <p:cNvSpPr/>
          <p:nvPr/>
        </p:nvSpPr>
        <p:spPr>
          <a:xfrm>
            <a:off x="766764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"/>
          <p:cNvSpPr/>
          <p:nvPr/>
        </p:nvSpPr>
        <p:spPr>
          <a:xfrm>
            <a:off x="370692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859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6083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7307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6948360" y="3284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6948360" y="3789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6948360" y="4292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еред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6948360" y="4797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6"/>
          <p:cNvSpPr/>
          <p:nvPr/>
        </p:nvSpPr>
        <p:spPr>
          <a:xfrm>
            <a:off x="6659640" y="24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6"/>
          <p:cNvSpPr/>
          <p:nvPr/>
        </p:nvSpPr>
        <p:spPr>
          <a:xfrm flipH="1">
            <a:off x="248400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H="1">
            <a:off x="248400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2484000" y="4508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8400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6948360" y="220500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948360" y="2709720"/>
            <a:ext cx="201636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о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>
            <a:off x="6659640" y="29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665964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665964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66596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6659640" y="4941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3924360" y="3213000"/>
            <a:ext cx="0" cy="1511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4211640" y="342900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бумаг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8"/>
          <p:cNvSpPr/>
          <p:nvPr/>
        </p:nvSpPr>
        <p:spPr>
          <a:xfrm>
            <a:off x="4211640" y="3932280"/>
            <a:ext cx="201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ан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4211640" y="458136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полей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3922560" y="3645000"/>
            <a:ext cx="252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6"/>
          <p:cNvSpPr/>
          <p:nvPr/>
        </p:nvSpPr>
        <p:spPr>
          <a:xfrm>
            <a:off x="3924360" y="42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3924360" y="47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6300720" y="1484280"/>
            <a:ext cx="1944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абза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708360" y="2565360"/>
            <a:ext cx="2303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араметр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тран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3 (стр. 155 -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82 - 189 (стр.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28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ер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вн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 первой ст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ждустрочный интер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Общие сведения о форма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его оформ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цель форматирования - сделать восприятие готового документа простым и приятным для чит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187280" y="3933720"/>
            <a:ext cx="324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ям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V="1">
            <a:off x="3419640" y="3429000"/>
            <a:ext cx="1368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8000" y="3933720"/>
            <a:ext cx="345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илев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H="1" flipV="1">
            <a:off x="4788000" y="342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195640" y="2852640"/>
            <a:ext cx="496872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рагменты (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имвол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лова, стро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абза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21964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уктур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, основной текс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270036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665964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1116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полнен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 един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132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шриф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т ниж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изкой 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до верх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к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292720" y="3429000"/>
            <a:ext cx="172728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ормаль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олужир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Calibri"/>
              </a:rPr>
              <a:t>Курсив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ffffff"/>
                </a:solidFill>
                <a:uFillTx/>
                <a:latin typeface="Calibri"/>
              </a:rPr>
              <a:t>Подчёркнут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30000">
                <a:solidFill>
                  <a:srgbClr val="ffffff"/>
                </a:solidFill>
                <a:latin typeface="Calibri"/>
              </a:rPr>
              <a:t>Надстрочное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-25000">
                <a:solidFill>
                  <a:srgbClr val="ffffff"/>
                </a:solidFill>
                <a:latin typeface="Calibri"/>
              </a:rPr>
              <a:t>Подстрочное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30872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ве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Calibri"/>
              </a:rPr>
              <a:t>види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Calibri"/>
              </a:rPr>
              <a:t>ч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cc"/>
                </a:solidFill>
                <a:latin typeface="Calibri"/>
              </a:rPr>
              <a:t>симво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1908000" y="292428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3924360" y="2997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622764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810108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имв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692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инимальная графическая единица тек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116000" y="2565360"/>
            <a:ext cx="1584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риф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348000" y="1197000"/>
            <a:ext cx="360036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190800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1908000" y="1989000"/>
            <a:ext cx="6193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843280" y="2565360"/>
            <a:ext cx="223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азмер шриф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392436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219640" y="2565360"/>
            <a:ext cx="2016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622764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380360" y="2565360"/>
            <a:ext cx="151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Ц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810108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V="1">
            <a:off x="5148360" y="170028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3" descr=""/>
          <p:cNvPicPr/>
          <p:nvPr/>
        </p:nvPicPr>
        <p:blipFill>
          <a:blip r:embed="rId1"/>
          <a:stretch/>
        </p:blipFill>
        <p:spPr>
          <a:xfrm>
            <a:off x="3995640" y="6172200"/>
            <a:ext cx="20336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абза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42920" y="6825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бза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часть документа между двумя соседними непечатаемыми управляющими символами конца абзаца. Процесс ввода абзаца заканчивается нажатием клавиш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2914200" y="3213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2627280" y="2276640"/>
            <a:ext cx="302436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абз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914560" y="2708280"/>
            <a:ext cx="1800" cy="338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>
            <a:hlinkClick r:id="rId1"/>
          </p:cNvPr>
          <p:cNvSpPr/>
          <p:nvPr/>
        </p:nvSpPr>
        <p:spPr>
          <a:xfrm>
            <a:off x="3274920" y="2997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равни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>
            <a:hlinkClick r:id="rId2"/>
          </p:cNvPr>
          <p:cNvSpPr/>
          <p:nvPr/>
        </p:nvSpPr>
        <p:spPr>
          <a:xfrm>
            <a:off x="3274920" y="3789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274920" y="450864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еждустрочный интер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74920" y="5157720"/>
            <a:ext cx="367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ы слева и сп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74920" y="587700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тервалы перед и пос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2914200" y="4005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291420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2916360" y="609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2914200" y="54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"/>
          <p:cNvPicPr/>
          <p:nvPr/>
        </p:nvPicPr>
        <p:blipFill>
          <a:blip r:embed="rId3"/>
          <a:stretch/>
        </p:blipFill>
        <p:spPr>
          <a:xfrm>
            <a:off x="2195640" y="1241280"/>
            <a:ext cx="5472000" cy="5616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1042920" y="6825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установки значений свойств абзаца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104292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внивание абза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абзаца относительно боковых границ стра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2627280" y="141300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левому краю, левая граница абзаца образует прямую линию. При этом все строки имеют одинаковые отступы от левого края страницы. Данный абзац выровнен по левому к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9"/>
          <p:cNvSpPr/>
          <p:nvPr/>
        </p:nvSpPr>
        <p:spPr>
          <a:xfrm>
            <a:off x="2627280" y="2638440"/>
            <a:ext cx="6337440" cy="1310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овненный по центру, или центрированный текст, располагается так: с обеих сторон каждой строки ширина свободного пространства одинакова. С обеих сторон края абзаца получаются неровными. Данный абзац выровнен по цент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0"/>
          <p:cNvSpPr/>
          <p:nvPr/>
        </p:nvSpPr>
        <p:spPr>
          <a:xfrm>
            <a:off x="2627280" y="4222800"/>
            <a:ext cx="6337440" cy="1098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правому краю, правая граница абзаца образует прямую линию. Каждая строка абзаца заканчивается на одном и том же расстоянии от правого края страницы. Данный абзац выровнен по правому кра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1"/>
          <p:cNvSpPr/>
          <p:nvPr/>
        </p:nvSpPr>
        <p:spPr>
          <a:xfrm>
            <a:off x="2627280" y="558972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текста, выровненного по ширине, левая и правая границы образуют прямые линии. При этом последняя строка абзаца ведёт себя так, как при выравнивании по левому краю. Данный абзац выровнен по шир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2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530280" cy="66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3"/>
          <p:cNvSpPr/>
          <p:nvPr/>
        </p:nvSpPr>
        <p:spPr>
          <a:xfrm>
            <a:off x="1042920" y="494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4" descr=""/>
          <p:cNvPicPr/>
          <p:nvPr/>
        </p:nvPicPr>
        <p:blipFill>
          <a:blip r:embed="rId5"/>
          <a:stretch/>
        </p:blipFill>
        <p:spPr>
          <a:xfrm>
            <a:off x="1616040" y="2773440"/>
            <a:ext cx="517680" cy="627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5"/>
          <p:cNvSpPr/>
          <p:nvPr/>
        </p:nvSpPr>
        <p:spPr>
          <a:xfrm>
            <a:off x="1116000" y="3429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цент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6" descr=""/>
          <p:cNvPicPr/>
          <p:nvPr/>
        </p:nvPicPr>
        <p:blipFill>
          <a:blip r:embed="rId6"/>
          <a:stretch/>
        </p:blipFill>
        <p:spPr>
          <a:xfrm>
            <a:off x="1604880" y="4348080"/>
            <a:ext cx="47160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7" descr=""/>
          <p:cNvPicPr/>
          <p:nvPr/>
        </p:nvPicPr>
        <p:blipFill>
          <a:blip r:embed="rId7"/>
          <a:stretch/>
        </p:blipFill>
        <p:spPr>
          <a:xfrm>
            <a:off x="1654200" y="5715000"/>
            <a:ext cx="490680" cy="5810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8"/>
          <p:cNvSpPr/>
          <p:nvPr/>
        </p:nvSpPr>
        <p:spPr>
          <a:xfrm>
            <a:off x="1116000" y="2133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ле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116000" y="638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шир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971640" y="1125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ы слева и спра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от края страницы до левой (и, соответственно, правой) границы абза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16000" y="2347920"/>
          <a:ext cx="7777080" cy="268128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087640"/>
                <a:gridCol w="50472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л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99ffcc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ffcc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77"/>
          <p:cNvSpPr/>
          <p:nvPr/>
        </p:nvSpPr>
        <p:spPr>
          <a:xfrm>
            <a:off x="1042920" y="5445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42920" y="1413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 первой стро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туп перед абзацем, красная стр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637000"/>
          <a:ext cx="7777440" cy="1657080"/>
        </p:xfrm>
        <a:graphic>
          <a:graphicData uri="http://schemas.openxmlformats.org/drawingml/2006/table">
            <a:tbl>
              <a:tblPr/>
              <a:tblGrid>
                <a:gridCol w="2664000"/>
                <a:gridCol w="2521080"/>
                <a:gridCol w="25923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ы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без отсту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тступом 1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indent="-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выступом 1,25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93"/>
          <p:cNvSpPr/>
          <p:nvPr/>
        </p:nvSpPr>
        <p:spPr>
          <a:xfrm>
            <a:off x="1042920" y="465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первой стр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4"/>
          <p:cNvSpPr/>
          <p:nvPr/>
        </p:nvSpPr>
        <p:spPr>
          <a:xfrm>
            <a:off x="1042920" y="1052640"/>
            <a:ext cx="79218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валы пер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посл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ют расстояние между соседними абзацами сверху и сни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ждустрочный интерв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расстояние между соседними строками внутри абза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16000" y="3068640"/>
          <a:ext cx="7777080" cy="293544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59236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то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дина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полуто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двой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109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междустрочных интерв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110" descr=""/>
          <p:cNvPicPr/>
          <p:nvPr/>
        </p:nvPicPr>
        <p:blipFill>
          <a:blip r:embed="rId8"/>
          <a:stretch/>
        </p:blipFill>
        <p:spPr>
          <a:xfrm>
            <a:off x="6516720" y="6172200"/>
            <a:ext cx="24526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тилевое форма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042920" y="692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 к структурным элементам, несущим одну и ту же функциональную нагруз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ается определё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формат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параметров форматирования (шрифт, его начертание и размер, отступ первой строки, междустрочный интерв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1600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т врем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ь как н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е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ответ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за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708360" y="3402000"/>
            <a:ext cx="2664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ообраз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ё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я вносит стро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73272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 изме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ментов во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аточно вн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я в сти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ет измен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сём докум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763640" y="2349360"/>
            <a:ext cx="676908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имущества стилевого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V="1">
            <a:off x="219564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514836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 flipV="1">
            <a:off x="788508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619280" y="2637000"/>
            <a:ext cx="33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тили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276720" y="4365720"/>
            <a:ext cx="38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аблоны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16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94472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7" descr=""/>
          <p:cNvPicPr/>
          <p:nvPr/>
        </p:nvPicPr>
        <p:blipFill>
          <a:blip r:embed="rId2"/>
          <a:stretch/>
        </p:blipFill>
        <p:spPr>
          <a:xfrm>
            <a:off x="5580000" y="4365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траниц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16000" y="1125360"/>
            <a:ext cx="7848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формлении текстового документа, предназначенного для печати, особое внимание следует уделить его расположению на листах бум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332000" y="2349360"/>
            <a:ext cx="3529080" cy="505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араметры страниц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V="1">
            <a:off x="1619280" y="2852640"/>
            <a:ext cx="0" cy="244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859280" y="306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ни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59280" y="364500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льбом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932360" y="450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ерх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93236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иж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932360" y="566100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е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932360" y="623736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а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1619280" y="364500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619280" y="5300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 flipH="1">
            <a:off x="4140000" y="3284640"/>
            <a:ext cx="71892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 flipV="1">
            <a:off x="4211280" y="3573360"/>
            <a:ext cx="647640" cy="216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124000" y="335772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4140360" y="4653000"/>
            <a:ext cx="792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 flipH="1">
            <a:off x="4211640" y="5300640"/>
            <a:ext cx="720720" cy="7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H="1" flipV="1">
            <a:off x="4140360" y="5300280"/>
            <a:ext cx="792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 flipV="1">
            <a:off x="4140360" y="5300640"/>
            <a:ext cx="792000" cy="1152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12400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7596360" y="4437000"/>
            <a:ext cx="1081080" cy="611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а стран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380360" y="5229360"/>
            <a:ext cx="1512720" cy="288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6"/>
          <p:cNvSpPr/>
          <p:nvPr/>
        </p:nvSpPr>
        <p:spPr>
          <a:xfrm>
            <a:off x="7236000" y="4437000"/>
            <a:ext cx="72720" cy="1152720"/>
          </a:xfrm>
          <a:custGeom>
            <a:avLst/>
            <a:gdLst>
              <a:gd name="textAreaLeft" fmla="*/ 0 w 72720"/>
              <a:gd name="textAreaRight" fmla="*/ 26280 w 72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9" descr=""/>
          <p:cNvPicPr/>
          <p:nvPr/>
        </p:nvPicPr>
        <p:blipFill>
          <a:blip r:embed="rId1"/>
          <a:stretch/>
        </p:blipFill>
        <p:spPr>
          <a:xfrm>
            <a:off x="2592360" y="1052640"/>
            <a:ext cx="4259160" cy="5113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0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выбора параметров страницы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хранение документа в различных текстовых форма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42920" y="112536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охранении текстового документа в файле 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шнем носителе сохраняется собственно текст и команды его форма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1332000" y="306864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1332000" y="3645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 flipV="1">
            <a:off x="1114560" y="2781000"/>
            <a:ext cx="0" cy="3384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6"/>
          <p:cNvSpPr/>
          <p:nvPr/>
        </p:nvSpPr>
        <p:spPr>
          <a:xfrm>
            <a:off x="1113840" y="3284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1332000" y="4221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1332000" y="479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332000" y="537372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1332000" y="595008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16000" y="2276640"/>
            <a:ext cx="468000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Форматы текстовых файло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1113840" y="3860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1138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111384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1113840" y="5589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>
            <a:off x="1113840" y="6165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2916360" y="3068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ет текст без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2916360" y="371628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2916360" y="4292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 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2916360" y="486900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фор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2916360" y="537372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хран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2916360" y="5950080"/>
            <a:ext cx="6048360" cy="57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представления в электронном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>
            <a:off x="2700360" y="32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>
            <a:off x="2700360" y="3860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2700360" y="443700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2700360" y="5589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2700360" y="6165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2"/>
          <p:cNvSpPr/>
          <p:nvPr/>
        </p:nvSpPr>
        <p:spPr>
          <a:xfrm>
            <a:off x="2700360" y="50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1" descr=""/>
          <p:cNvPicPr/>
          <p:nvPr/>
        </p:nvPicPr>
        <p:blipFill>
          <a:blip r:embed="rId1"/>
          <a:stretch/>
        </p:blipFill>
        <p:spPr>
          <a:xfrm>
            <a:off x="2340000" y="479736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"/>
          <p:cNvPicPr/>
          <p:nvPr/>
        </p:nvPicPr>
        <p:blipFill>
          <a:blip r:embed="rId2"/>
          <a:stretch/>
        </p:blipFill>
        <p:spPr>
          <a:xfrm>
            <a:off x="2340000" y="595008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3" descr=""/>
          <p:cNvPicPr/>
          <p:nvPr/>
        </p:nvPicPr>
        <p:blipFill>
          <a:blip r:embed="rId3"/>
          <a:stretch/>
        </p:blipFill>
        <p:spPr>
          <a:xfrm>
            <a:off x="2340000" y="5373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5" descr=""/>
          <p:cNvPicPr/>
          <p:nvPr/>
        </p:nvPicPr>
        <p:blipFill>
          <a:blip r:embed="rId4"/>
          <a:stretch/>
        </p:blipFill>
        <p:spPr>
          <a:xfrm>
            <a:off x="2340000" y="364500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6" descr=""/>
          <p:cNvPicPr/>
          <p:nvPr/>
        </p:nvPicPr>
        <p:blipFill>
          <a:blip r:embed="rId5"/>
          <a:stretch/>
        </p:blipFill>
        <p:spPr>
          <a:xfrm>
            <a:off x="2411280" y="299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8" descr=""/>
          <p:cNvPicPr/>
          <p:nvPr/>
        </p:nvPicPr>
        <p:blipFill>
          <a:blip r:embed="rId6"/>
          <a:stretch/>
        </p:blipFill>
        <p:spPr>
          <a:xfrm>
            <a:off x="2340000" y="4221000"/>
            <a:ext cx="457200" cy="5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7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79280" y="824040"/>
            <a:ext cx="878544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его оформления; восприятие документа становится более простым за счёт вычленения и одинакового оформления однотипных структурных элементов текста. Различают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ев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значений свойств введенных символов: шрифта, размера, начертания, цвет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абза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таких свойств, как выравнивание, отступ первой строки, междустрочный интервал, отступы слева и справа, интервалы перед и посл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аметрами страницы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размер бумаги, ориентация страницы и размер п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ены следующие форматы файлов, в которых сохраняют текстовые документы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, DOC, ODT, RTF, HTML, PD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8:42Z</dcterms:modified>
  <cp:revision>45</cp:revision>
  <dc:subject/>
  <dc:title>Презентация PowerPoint</dc:title>
</cp:coreProperties>
</file>