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3.jpeg" ContentType="image/jpeg"/>
  <Override PartName="/ppt/media/image30.jpeg" ContentType="image/jpeg"/>
  <Override PartName="/ppt/media/image15.png" ContentType="image/png"/>
  <Override PartName="/ppt/media/image11.png" ContentType="image/png"/>
  <Override PartName="/ppt/media/image4.jpeg" ContentType="image/jpeg"/>
  <Override PartName="/ppt/media/image19.jpeg" ContentType="image/jpeg"/>
  <Override PartName="/ppt/media/image25.png" ContentType="image/png"/>
  <Override PartName="/ppt/media/image31.jpeg" ContentType="image/jpeg"/>
  <Override PartName="/ppt/media/image29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23.jpeg" ContentType="image/jpeg"/>
  <Override PartName="/ppt/media/image1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21.png" ContentType="image/png"/>
  <Override PartName="/ppt/media/image22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DEDD-BD7E-450E-9253-D575E82795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75EA-6648-4473-A7C6-275C376190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A538-3CB5-4B1D-A339-31948FDB9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8CD8-2D02-4305-BA1A-5DA2330D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33ADC-A340-4D3D-ADB9-D5691C71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E84BB-2D95-43A3-8B9D-EB4F40D4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24781-0FAC-4C3E-913A-9E5EB7A6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B6585-1ECB-4B4A-B877-0C8848CA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31ABC-5EDB-4574-BDE8-92CCE587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A2DAE-006A-4224-81C5-88CDD161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F7FDB-7A06-4F73-A5AE-9C9C0C5F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28856-526D-4461-9D29-4D8DAED91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D354D-714F-4FDA-955E-B26C30184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C5C14-23A5-4259-93F4-C946BA57F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3B65-F9AF-424B-AA4C-94CAB64B2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D4825-8115-44C9-851E-EDAC694D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3D2DD-4FDB-4F96-8E2D-5ECECBAF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B0E1D-5CCF-4856-A5E8-0D43890A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502E2-2561-42F0-A5E0-F499E3AF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E5F9F-F0C6-4D02-BBB8-D30782DB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12C67-78B6-4C73-97BD-C1CE545B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57B1E-0333-41F5-A992-48662F71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B2996-D36C-46D5-83E7-621783ED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40731-99D2-4304-AAA3-07986A4A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4C867-063D-489D-970E-61BDB0204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EC9A-0976-4812-BCFE-29629D640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9CB1A-DA60-4444-9CB0-497166392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7758-21EA-4DCE-8D7B-29EE4A7E5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0D85-BF2C-4265-A956-6347272A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4985-C337-4C9C-97B5-67E8F644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B4F3-3D20-464C-AB11-2482118E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C962-3A2B-447D-8DBC-E9800C10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EBC6B-5843-4A20-9D98-DC3E59D3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947DC-E5BD-4E1E-9FCB-FE6AB569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EC0A-C89B-48CB-AE99-F1AC7F05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76F5-5C86-4EBF-AB50-1757D66F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1293-2781-46F2-A53B-303C1F2F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A83F0-3DD6-4AA9-BCA8-248C3482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39F6-2363-474B-A8B4-3551CD00B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47AB-0499-437C-9770-D549A203C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52783-202C-4D3E-BF3C-94567258B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75C5C-7816-4399-95ED-8DEB497D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69F1E-67C1-4F68-A79A-590770AE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3AA26-F636-4B3D-B1E4-6B2FE435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A8CF6-8C77-4A1F-922E-ABDDDAEF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497A-0359-42B8-9C7D-2E73081E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D1BC9-1164-4B6A-A18B-851E138C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39B55-CC60-4E7A-BFDB-54EE1B86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C5C47-AFB3-4047-A125-05A94F21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924CE-004B-4BE2-9D90-2DBA9B7B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F2F9C-07C4-4277-966B-C2BB5C6B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07D77-DCA6-425C-AD4D-0DD4F4186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28C6B-C998-443D-85A0-E8593B072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02047-A7AB-4195-B6FC-B777A4C1D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6BD2F-A34D-49F9-B364-4C5E3AF9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94B45-7A5A-49BC-9CC3-134709D4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34E5-B76B-4C2C-91F4-1D748433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EB081-8658-4F97-97F4-95AE3A45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8A542-BB72-4EED-BDDF-FB34B295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E8FD1-1747-4A36-A2E1-22D587A6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4F3A7-DDC3-4EED-BD08-AA19D823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F37FA-3B67-400B-8896-76FEEE8B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93682-9747-4091-A8B5-3EE969C9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7CE19-00B3-41EB-B440-FABCF280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023CF-C622-480B-9FE4-98B825269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5A5AD-F647-4290-8204-E7DAF88D7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48D45-D275-46D6-A9CF-0E4D1DD9D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D317-F595-43E6-8D5C-9D734272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6FD41-3B51-446A-B7AB-7215D709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316E5-72F7-4596-9C59-6B00EA00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A46C2-22EF-4B3E-9848-A59F93C4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D3CD8-8844-4461-9048-BB00C5B1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29E06-A9DB-4E0A-A8C4-4C0A41AB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702C6-8B17-448A-BAB8-1002FAF6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B8861-F7DE-452D-BDCB-9F7B27B6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3E7F9-D3F6-4466-A701-46FDB8B8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D6EEB-1788-4D6F-B586-84E858AF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607D4-0A13-4400-9F25-35451F8D7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5E27-A349-4AC9-9FFD-D03EBD02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5369F-E341-4900-9B20-829CE639F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523B-621A-4BDD-99D5-E11934D0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88BB-E7EA-4A55-8FC7-28FCA723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17028-0655-4A3D-A606-8E2C22573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25BA7-1C8C-4FE4-8078-A8EABE0F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0D732-22BB-4CDA-910E-157048F2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4E692-5E59-4D98-A10C-B64BE73B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C561D-24AC-4942-B089-1C7374F2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FF37-FFC9-4C30-9FA7-BD902C7C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81EDA-4C0D-449F-BF9D-1B0B4332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7945E-C034-400B-8232-3D76805D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E80C0-F7FC-42C3-8B4D-7512C4DB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E5610-B2C4-479B-A860-93CD7BB3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E4867-FA59-4989-B9CC-D96DBEFD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D8CB8-BAE3-4A9E-96B3-A493C4262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690B4-2F73-4BAB-8FE5-649B94A5B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FE04A-2359-4B79-9E03-3D05F3883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6A4A1-7EC7-4FA9-87CF-CD648CB5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C8DA8-F702-4289-BAA8-CB10F693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FCDC-A1F4-48F3-AA84-37142C7DCDA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AB58-DEF5-43A1-A810-8FEDFA41301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F8E1-A632-498F-B0DA-B3A1D62459A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6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5F97-ADDA-4658-8C26-C514F567004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7AC2-FA5C-4F99-9957-FC833C26066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FCD7-3E31-4C9F-9162-117B3EC64F0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Рисунок 6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6AAE-4957-497A-A80F-7AB7CA87AF6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DC1D-EB9E-44F2-8456-062E825CDB9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Box 2"/>
          <p:cNvSpPr/>
          <p:nvPr/>
        </p:nvSpPr>
        <p:spPr>
          <a:xfrm>
            <a:off x="4214880" y="4143240"/>
            <a:ext cx="4786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Зачем нужны графики и диа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Наглядное представление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роцессов изменения велич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Наглядное представление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о соотношении велич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124000" y="2420640"/>
            <a:ext cx="6734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ГРАФИКИ 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  ДИАГРАМ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13"/>
          <p:cNvSpPr/>
          <p:nvPr/>
        </p:nvSpPr>
        <p:spPr>
          <a:xfrm>
            <a:off x="571680" y="1371600"/>
            <a:ext cx="8286480" cy="11912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Arial"/>
              </a:rPr>
              <a:t>Диаграмма</a:t>
            </a:r>
            <a:r>
              <a:rPr b="0" lang="ru-RU" sz="2400" spc="-1" strike="noStrike">
                <a:solidFill>
                  <a:srgbClr val="17375e"/>
                </a:solidFill>
                <a:latin typeface="Arial"/>
              </a:rPr>
              <a:t> - графическое изображение, дающее наглядное представление о соотношении нескольких величин или нескольких значений одной велич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2"/>
          <p:cNvSpPr/>
          <p:nvPr/>
        </p:nvSpPr>
        <p:spPr>
          <a:xfrm>
            <a:off x="1116000" y="0"/>
            <a:ext cx="7413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7"/>
          <p:cNvSpPr/>
          <p:nvPr/>
        </p:nvSpPr>
        <p:spPr>
          <a:xfrm>
            <a:off x="571680" y="4929120"/>
            <a:ext cx="3857400" cy="15570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Arial"/>
              </a:rPr>
              <a:t>Круговая диаграмма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служит для сравнения нескольких величин в одной точ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8"/>
          <p:cNvSpPr/>
          <p:nvPr/>
        </p:nvSpPr>
        <p:spPr>
          <a:xfrm>
            <a:off x="4714920" y="4929120"/>
            <a:ext cx="4143240" cy="15570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Arial"/>
              </a:rPr>
              <a:t>Столбчатые диаграммы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позволяют сравнивать несколько величин в нескольких точ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7"/>
          <p:cNvSpPr/>
          <p:nvPr/>
        </p:nvSpPr>
        <p:spPr>
          <a:xfrm>
            <a:off x="642960" y="71280"/>
            <a:ext cx="802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Arial"/>
              </a:rPr>
              <a:t>Наглядное представление процессов изменения велич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5" descr="http://abali.ru/wp-content/uploads/2011/10/pie-chart-600x614.png"/>
          <p:cNvPicPr/>
          <p:nvPr/>
        </p:nvPicPr>
        <p:blipFill>
          <a:blip r:embed="rId2"/>
          <a:stretch/>
        </p:blipFill>
        <p:spPr>
          <a:xfrm>
            <a:off x="1500120" y="2643120"/>
            <a:ext cx="2171880" cy="222084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7" descr="http://gis-lab.info/images/screenshots/20100826-8d0-27kb.jpg"/>
          <p:cNvPicPr/>
          <p:nvPr/>
        </p:nvPicPr>
        <p:blipFill>
          <a:blip r:embed="rId3"/>
          <a:stretch/>
        </p:blipFill>
        <p:spPr>
          <a:xfrm>
            <a:off x="4570560" y="2643120"/>
            <a:ext cx="428760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Примеры диаграм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Группа 13"/>
          <p:cNvGrpSpPr/>
          <p:nvPr/>
        </p:nvGrpSpPr>
        <p:grpSpPr>
          <a:xfrm>
            <a:off x="500040" y="928800"/>
            <a:ext cx="5286240" cy="2857320"/>
            <a:chOff x="500040" y="928800"/>
            <a:chExt cx="5286240" cy="2857320"/>
          </a:xfrm>
        </p:grpSpPr>
        <p:pic>
          <p:nvPicPr>
            <p:cNvPr id="482" name="Picture 4" descr=""/>
            <p:cNvPicPr/>
            <p:nvPr/>
          </p:nvPicPr>
          <p:blipFill>
            <a:blip r:embed="rId2"/>
            <a:stretch/>
          </p:blipFill>
          <p:spPr>
            <a:xfrm>
              <a:off x="500040" y="928800"/>
              <a:ext cx="5286240" cy="2857320"/>
            </a:xfrm>
            <a:prstGeom prst="rect">
              <a:avLst/>
            </a:prstGeom>
            <a:ln w="9360">
              <a:solidFill>
                <a:srgbClr val="4f81bd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483" name="TextBox 12"/>
            <p:cNvSpPr/>
            <p:nvPr/>
          </p:nvSpPr>
          <p:spPr>
            <a:xfrm>
              <a:off x="766800" y="1005840"/>
              <a:ext cx="483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7375e"/>
                  </a:solidFill>
                  <a:latin typeface="Arial"/>
                </a:rPr>
                <a:t>Облачность в ма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Группа 16"/>
          <p:cNvGrpSpPr/>
          <p:nvPr/>
        </p:nvGrpSpPr>
        <p:grpSpPr>
          <a:xfrm>
            <a:off x="3286080" y="3571920"/>
            <a:ext cx="5357880" cy="3071880"/>
            <a:chOff x="3286080" y="3571920"/>
            <a:chExt cx="5357880" cy="3071880"/>
          </a:xfrm>
        </p:grpSpPr>
        <p:pic>
          <p:nvPicPr>
            <p:cNvPr id="485" name="Picture 6" descr=""/>
            <p:cNvPicPr/>
            <p:nvPr/>
          </p:nvPicPr>
          <p:blipFill>
            <a:blip r:embed="rId3"/>
            <a:stretch/>
          </p:blipFill>
          <p:spPr>
            <a:xfrm>
              <a:off x="3286080" y="3571920"/>
              <a:ext cx="5357880" cy="3071880"/>
            </a:xfrm>
            <a:prstGeom prst="rect">
              <a:avLst/>
            </a:prstGeom>
            <a:ln w="9360">
              <a:solidFill>
                <a:srgbClr val="4f81bd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486" name="TextBox 11"/>
            <p:cNvSpPr/>
            <p:nvPr/>
          </p:nvSpPr>
          <p:spPr>
            <a:xfrm>
              <a:off x="3821760" y="3637080"/>
              <a:ext cx="443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7375e"/>
                  </a:solidFill>
                  <a:latin typeface="Arial"/>
                </a:rPr>
                <a:t>Облачность в ма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7" name="Picture 14" descr="http://images.all-free-download.com/images/graphiclarge/rain_cloud_clip_art_17461.jpg"/>
          <p:cNvPicPr/>
          <p:nvPr/>
        </p:nvPicPr>
        <p:blipFill>
          <a:blip r:embed="rId4"/>
          <a:stretch/>
        </p:blipFill>
        <p:spPr>
          <a:xfrm>
            <a:off x="6000840" y="1143000"/>
            <a:ext cx="2604960" cy="221292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6" descr="http://static.freepik.com/free-photo/cloud_17-1112151440.jpg"/>
          <p:cNvPicPr/>
          <p:nvPr/>
        </p:nvPicPr>
        <p:blipFill>
          <a:blip r:embed="rId5"/>
          <a:stretch/>
        </p:blipFill>
        <p:spPr>
          <a:xfrm>
            <a:off x="285840" y="4000680"/>
            <a:ext cx="2857320" cy="18493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6" descr="http://static.freepik.com/free-photo/cloud_17-1112151440.jpg"/>
          <p:cNvPicPr/>
          <p:nvPr/>
        </p:nvPicPr>
        <p:blipFill>
          <a:blip r:embed="rId6"/>
          <a:stretch/>
        </p:blipFill>
        <p:spPr>
          <a:xfrm>
            <a:off x="1071720" y="5072040"/>
            <a:ext cx="2357280" cy="15256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14"/>
          <p:cNvSpPr/>
          <p:nvPr/>
        </p:nvSpPr>
        <p:spPr>
          <a:xfrm>
            <a:off x="500040" y="1285920"/>
            <a:ext cx="8286840" cy="8254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Arial"/>
              </a:rPr>
              <a:t>Лепестковая диаграмма </a:t>
            </a:r>
            <a:r>
              <a:rPr b="0" lang="ru-RU" sz="2400" spc="-1" strike="noStrike">
                <a:solidFill>
                  <a:srgbClr val="17375e"/>
                </a:solidFill>
                <a:latin typeface="Arial"/>
              </a:rPr>
              <a:t>- для каждой точки ряда данных предусмотрена своя о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Примеры диаграм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Группа 12"/>
          <p:cNvGrpSpPr/>
          <p:nvPr/>
        </p:nvGrpSpPr>
        <p:grpSpPr>
          <a:xfrm>
            <a:off x="2071800" y="2357280"/>
            <a:ext cx="4357440" cy="4003920"/>
            <a:chOff x="2071800" y="2357280"/>
            <a:chExt cx="4357440" cy="4003920"/>
          </a:xfrm>
        </p:grpSpPr>
        <p:pic>
          <p:nvPicPr>
            <p:cNvPr id="493" name="Picture 3" descr=""/>
            <p:cNvPicPr/>
            <p:nvPr/>
          </p:nvPicPr>
          <p:blipFill>
            <a:blip r:embed="rId2"/>
            <a:stretch/>
          </p:blipFill>
          <p:spPr>
            <a:xfrm>
              <a:off x="2071800" y="2888640"/>
              <a:ext cx="4357440" cy="3472560"/>
            </a:xfrm>
            <a:prstGeom prst="rect">
              <a:avLst/>
            </a:prstGeom>
            <a:ln w="9360">
              <a:solidFill>
                <a:srgbClr val="4f81bd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494" name="TextBox 6"/>
            <p:cNvSpPr/>
            <p:nvPr/>
          </p:nvSpPr>
          <p:spPr>
            <a:xfrm>
              <a:off x="2426040" y="2357280"/>
              <a:ext cx="363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7375e"/>
                  </a:solidFill>
                  <a:latin typeface="Arial"/>
                </a:rPr>
                <a:t>Роза ветр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5" name="Picture 5" descr="http://gooselakeweather.com/wp/wp-content/uploads/2008/12/wind.gif"/>
          <p:cNvPicPr/>
          <p:nvPr/>
        </p:nvPicPr>
        <p:blipFill>
          <a:blip r:embed="rId3"/>
          <a:stretch/>
        </p:blipFill>
        <p:spPr>
          <a:xfrm>
            <a:off x="6089760" y="2214720"/>
            <a:ext cx="2840040" cy="207144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9" descr="http://scuolefuoridise.cervia.com/Tagliata%202004/scienze%202004due/scienze%202004due/SFONDO_VENTO.gif"/>
          <p:cNvPicPr/>
          <p:nvPr/>
        </p:nvPicPr>
        <p:blipFill>
          <a:blip r:embed="rId4"/>
          <a:stretch/>
        </p:blipFill>
        <p:spPr>
          <a:xfrm>
            <a:off x="285840" y="4857840"/>
            <a:ext cx="2392200" cy="18144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28800" y="7092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Визуализация многорядных дан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Группа 5" descr=""/>
          <p:cNvPicPr/>
          <p:nvPr/>
        </p:nvPicPr>
        <p:blipFill>
          <a:blip r:embed="rId2"/>
          <a:stretch/>
        </p:blipFill>
        <p:spPr>
          <a:xfrm>
            <a:off x="914400" y="1596960"/>
            <a:ext cx="7040520" cy="33354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3" descr=""/>
          <p:cNvPicPr/>
          <p:nvPr/>
        </p:nvPicPr>
        <p:blipFill>
          <a:blip r:embed="rId3"/>
          <a:stretch/>
        </p:blipFill>
        <p:spPr>
          <a:xfrm>
            <a:off x="6272280" y="3805200"/>
            <a:ext cx="2871720" cy="29815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амое глав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3"/>
          <p:cNvSpPr/>
          <p:nvPr/>
        </p:nvSpPr>
        <p:spPr>
          <a:xfrm>
            <a:off x="755640" y="981000"/>
            <a:ext cx="777708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бор информационной модели зависит от цели создания этой моде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Диаграмма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графическое изображение, дающее наглядное представление о соотношении нескольких величин или нескольких значениях одной величины, об изменении их значен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График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линия, дающая наглядное представление о характере зависимости одной величины от друг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3"/>
          <p:cNvSpPr/>
          <p:nvPr/>
        </p:nvSpPr>
        <p:spPr>
          <a:xfrm>
            <a:off x="755640" y="981000"/>
            <a:ext cx="777708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аграммы позволяют сравнивать значения величин. Круговая диаграмма полезна, если величины в сумме составляют цел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помощью графиков и диаграмм можно визуализировать большие объёмы однотипной табличной информ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визуализации происходит потеря точности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амое глав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785880" y="1268280"/>
            <a:ext cx="777240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м образом могут быть визуализированы большие объемы однотипной табличной информац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помощью чего можно наглядно представить процесс изменения величин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обеспечивает наглядное представление о соотношении величи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м определяется выбор того или иного типа диаграмм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аких случаях используют круговые диаграмм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может быть потеряно при визуализации данны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Давайте обсуд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Овал 6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1000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10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1000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1000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1571760" y="981000"/>
            <a:ext cx="696096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агра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уговая диагра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олбчатая диагра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пестковая  диаграм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Группа 16"/>
          <p:cNvGrpSpPr/>
          <p:nvPr/>
        </p:nvGrpSpPr>
        <p:grpSpPr>
          <a:xfrm>
            <a:off x="857160" y="1643040"/>
            <a:ext cx="7929720" cy="5072040"/>
            <a:chOff x="857160" y="1643040"/>
            <a:chExt cx="7929720" cy="5072040"/>
          </a:xfrm>
        </p:grpSpPr>
        <p:pic>
          <p:nvPicPr>
            <p:cNvPr id="424" name="Picture 14 серый" descr="http://djangin.dagschool.com/_http_schools/1727/Djangin/admin/ckfinder/core/connector/php/connector.phpfck_user_files/images/map.png"/>
            <p:cNvPicPr/>
            <p:nvPr/>
          </p:nvPicPr>
          <p:blipFill>
            <a:blip r:embed="rId2"/>
            <a:stretch/>
          </p:blipFill>
          <p:spPr>
            <a:xfrm>
              <a:off x="883800" y="1643040"/>
              <a:ext cx="7845840" cy="467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Picture 22" descr="http://www.tolgas.ru/site/upload/iis_abit_people.jpg"/>
            <p:cNvPicPr/>
            <p:nvPr/>
          </p:nvPicPr>
          <p:blipFill>
            <a:blip r:embed="rId3"/>
            <a:stretch/>
          </p:blipFill>
          <p:spPr>
            <a:xfrm>
              <a:off x="2195280" y="2814480"/>
              <a:ext cx="5290920" cy="35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8" descr="http://komandorcamp.ru/assets/images/81266624ef02%281%29.png"/>
            <p:cNvPicPr/>
            <p:nvPr/>
          </p:nvPicPr>
          <p:blipFill>
            <a:blip r:embed="rId4"/>
            <a:stretch/>
          </p:blipFill>
          <p:spPr>
            <a:xfrm>
              <a:off x="857160" y="4547160"/>
              <a:ext cx="2991960" cy="212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Picture 12" descr="http://www.gcdev.fr/photo/art/grande/2642309-3730030.jpg"/>
            <p:cNvPicPr/>
            <p:nvPr/>
          </p:nvPicPr>
          <p:blipFill>
            <a:blip r:embed="rId5"/>
            <a:stretch/>
          </p:blipFill>
          <p:spPr>
            <a:xfrm>
              <a:off x="6178680" y="4114080"/>
              <a:ext cx="2608200" cy="260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64388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Зачем нужны графики 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и диаграм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71600" y="1414440"/>
            <a:ext cx="810108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Предположим, что вы готовитесь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к школьной географической конференции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0" name=""/>
          <p:cNvGraphicFramePr/>
          <p:nvPr/>
        </p:nvGraphicFramePr>
        <p:xfrm>
          <a:off x="357120" y="2001960"/>
          <a:ext cx="8663040" cy="4356000"/>
        </p:xfrm>
        <a:graphic>
          <a:graphicData uri="http://schemas.openxmlformats.org/drawingml/2006/table">
            <a:tbl>
              <a:tblPr/>
              <a:tblGrid>
                <a:gridCol w="798480"/>
                <a:gridCol w="987480"/>
                <a:gridCol w="133560"/>
                <a:gridCol w="1223640"/>
                <a:gridCol w="117720"/>
                <a:gridCol w="954000"/>
                <a:gridCol w="125280"/>
                <a:gridCol w="946440"/>
                <a:gridCol w="134640"/>
                <a:gridCol w="920880"/>
                <a:gridCol w="1122480"/>
                <a:gridCol w="115920"/>
                <a:gridCol w="108252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Темпе-ратура, </a:t>
                      </a: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º</a:t>
                      </a: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Влаж-ность,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Давле-ние, м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Вет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Облач-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Направ-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Граду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Скорость, м/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+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7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Ю-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яс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+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7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С-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яс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+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7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С-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яс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+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7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20-3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+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7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С-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9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+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7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70-8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1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+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7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Ю-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1" name="Text Box 305"/>
          <p:cNvSpPr/>
          <p:nvPr/>
        </p:nvSpPr>
        <p:spPr>
          <a:xfrm>
            <a:off x="5000760" y="1501920"/>
            <a:ext cx="38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Погода в мае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314"/>
          <p:cNvSpPr/>
          <p:nvPr/>
        </p:nvSpPr>
        <p:spPr>
          <a:xfrm>
            <a:off x="1285920" y="0"/>
            <a:ext cx="73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Собрана следующая информац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10" descr="http://www.clker.com/cliparts/5/3/6/7/13175668441887850802stubby_pencil-md.png"/>
          <p:cNvPicPr/>
          <p:nvPr/>
        </p:nvPicPr>
        <p:blipFill>
          <a:blip r:embed="rId2"/>
          <a:stretch/>
        </p:blipFill>
        <p:spPr>
          <a:xfrm>
            <a:off x="7429680" y="5072040"/>
            <a:ext cx="1500120" cy="150012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03280" y="142920"/>
            <a:ext cx="729000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Информаци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собран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857160" y="1285920"/>
            <a:ext cx="514368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426600">
              <a:lnSpc>
                <a:spcPct val="150000"/>
              </a:lnSpc>
              <a:spcBef>
                <a:spcPts val="799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в большом количеств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26600">
              <a:lnSpc>
                <a:spcPct val="150000"/>
              </a:lnSpc>
              <a:spcBef>
                <a:spcPts val="799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точн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26600">
              <a:lnSpc>
                <a:spcPct val="150000"/>
              </a:lnSpc>
              <a:spcBef>
                <a:spcPts val="799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полн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26600">
              <a:lnSpc>
                <a:spcPct val="150000"/>
              </a:lnSpc>
              <a:spcBef>
                <a:spcPts val="799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достове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Прямоугольник 4"/>
          <p:cNvSpPr/>
          <p:nvPr/>
        </p:nvSpPr>
        <p:spPr>
          <a:xfrm>
            <a:off x="4078440" y="4573800"/>
            <a:ext cx="1095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Arial"/>
              </a:rPr>
              <a:t>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рямоугольник 5"/>
          <p:cNvSpPr/>
          <p:nvPr/>
        </p:nvSpPr>
        <p:spPr>
          <a:xfrm>
            <a:off x="500040" y="5429160"/>
            <a:ext cx="84297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5968"/>
                </a:solidFill>
                <a:latin typeface="Arial"/>
              </a:rPr>
              <a:t>в табличном виде она трудно воспринимаетс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Овал 6"/>
          <p:cNvSpPr/>
          <p:nvPr/>
        </p:nvSpPr>
        <p:spPr>
          <a:xfrm>
            <a:off x="500040" y="52862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Группа 15"/>
          <p:cNvGrpSpPr/>
          <p:nvPr/>
        </p:nvGrpSpPr>
        <p:grpSpPr>
          <a:xfrm>
            <a:off x="5429160" y="857160"/>
            <a:ext cx="3548160" cy="4357800"/>
            <a:chOff x="5429160" y="857160"/>
            <a:chExt cx="3548160" cy="4357800"/>
          </a:xfrm>
        </p:grpSpPr>
        <p:pic>
          <p:nvPicPr>
            <p:cNvPr id="440" name="Picture 6" descr="http://trio-studio.ru/wp-content/uploads/2012/07/1228428520667582858sivvus_weather_symbols_4.svg_.hi_.png"/>
            <p:cNvPicPr/>
            <p:nvPr/>
          </p:nvPicPr>
          <p:blipFill>
            <a:blip r:embed="rId3"/>
            <a:stretch/>
          </p:blipFill>
          <p:spPr>
            <a:xfrm>
              <a:off x="5429160" y="2286000"/>
              <a:ext cx="2133720" cy="181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Picture 2" descr="http://img-fotki.yandex.ru/get/6608/121620033.a5/0_7f1ef_e79b2630_XL"/>
            <p:cNvPicPr/>
            <p:nvPr/>
          </p:nvPicPr>
          <p:blipFill>
            <a:blip r:embed="rId4"/>
            <a:stretch/>
          </p:blipFill>
          <p:spPr>
            <a:xfrm>
              <a:off x="6357960" y="857160"/>
              <a:ext cx="2619360" cy="262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Picture 16" descr="http://openclipart.org/image/800px/svg_to_png/4830/mozart_ar_wind_rose_compas.png"/>
            <p:cNvPicPr/>
            <p:nvPr/>
          </p:nvPicPr>
          <p:blipFill>
            <a:blip r:embed="rId5"/>
            <a:stretch/>
          </p:blipFill>
          <p:spPr>
            <a:xfrm>
              <a:off x="6786360" y="3500280"/>
              <a:ext cx="1714680" cy="1714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edg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Freeform 19"/>
          <p:cNvSpPr/>
          <p:nvPr/>
        </p:nvSpPr>
        <p:spPr>
          <a:xfrm>
            <a:off x="2411280" y="3440160"/>
            <a:ext cx="4392720" cy="1560600"/>
          </a:xfrm>
          <a:custGeom>
            <a:avLst/>
            <a:gdLst>
              <a:gd name="textAreaLeft" fmla="*/ 0 w 4392720"/>
              <a:gd name="textAreaRight" fmla="*/ 4393080 w 4392720"/>
              <a:gd name="textAreaTop" fmla="*/ 0 h 1560600"/>
              <a:gd name="textAreaBottom" fmla="*/ 1560960 h 1560600"/>
            </a:gdLst>
            <a:ahLst/>
            <a:rect l="textAreaLeft" t="textAreaTop" r="textAreaRight" b="textAreaBottom"/>
            <a:pathLst>
              <a:path w="2767" h="983">
                <a:moveTo>
                  <a:pt x="0" y="983"/>
                </a:moveTo>
                <a:cubicBezTo>
                  <a:pt x="159" y="782"/>
                  <a:pt x="318" y="582"/>
                  <a:pt x="454" y="529"/>
                </a:cubicBezTo>
                <a:cubicBezTo>
                  <a:pt x="590" y="476"/>
                  <a:pt x="689" y="695"/>
                  <a:pt x="817" y="665"/>
                </a:cubicBezTo>
                <a:cubicBezTo>
                  <a:pt x="945" y="635"/>
                  <a:pt x="1097" y="378"/>
                  <a:pt x="1225" y="348"/>
                </a:cubicBezTo>
                <a:cubicBezTo>
                  <a:pt x="1353" y="318"/>
                  <a:pt x="1437" y="529"/>
                  <a:pt x="1588" y="484"/>
                </a:cubicBezTo>
                <a:cubicBezTo>
                  <a:pt x="1739" y="439"/>
                  <a:pt x="1936" y="152"/>
                  <a:pt x="2132" y="76"/>
                </a:cubicBezTo>
                <a:cubicBezTo>
                  <a:pt x="2328" y="0"/>
                  <a:pt x="2661" y="38"/>
                  <a:pt x="2767" y="30"/>
                </a:cubicBezTo>
              </a:path>
            </a:pathLst>
          </a:custGeom>
          <a:noFill/>
          <a:ln w="5724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42960" y="70920"/>
            <a:ext cx="802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Arial"/>
              </a:rPr>
              <a:t>Наглядное представление процессов изменения велич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500040" y="1357200"/>
            <a:ext cx="8345520" cy="17798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Arial"/>
              </a:rPr>
              <a:t>График</a:t>
            </a: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7375e"/>
                </a:solidFill>
                <a:latin typeface="Arial"/>
              </a:rPr>
              <a:t>- линия, дающая наглядное представление </a:t>
            </a:r>
            <a:br>
              <a:rPr sz="2400"/>
            </a:br>
            <a:r>
              <a:rPr b="0" lang="ru-RU" sz="2400" spc="-1" strike="noStrike">
                <a:solidFill>
                  <a:srgbClr val="17375e"/>
                </a:solidFill>
                <a:latin typeface="Arial"/>
              </a:rPr>
              <a:t>о характере зависимости какой-либо величины </a:t>
            </a:r>
            <a:br>
              <a:rPr sz="2400"/>
            </a:br>
            <a:r>
              <a:rPr b="0" lang="ru-RU" sz="2400" spc="-1" strike="noStrike">
                <a:solidFill>
                  <a:srgbClr val="17375e"/>
                </a:solidFill>
                <a:latin typeface="Arial"/>
              </a:rPr>
              <a:t>от другой. График позволяет отслеживать динамику изменения да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"/>
          <p:cNvSpPr/>
          <p:nvPr/>
        </p:nvSpPr>
        <p:spPr>
          <a:xfrm>
            <a:off x="6948360" y="472608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8"/>
          <p:cNvSpPr/>
          <p:nvPr/>
        </p:nvSpPr>
        <p:spPr>
          <a:xfrm>
            <a:off x="1692360" y="327168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Tahoma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9"/>
          <p:cNvSpPr/>
          <p:nvPr/>
        </p:nvSpPr>
        <p:spPr>
          <a:xfrm>
            <a:off x="1763640" y="465444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0"/>
          <p:cNvSpPr/>
          <p:nvPr/>
        </p:nvSpPr>
        <p:spPr>
          <a:xfrm>
            <a:off x="2771640" y="5432400"/>
            <a:ext cx="43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Значения независимой велич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1"/>
          <p:cNvSpPr/>
          <p:nvPr/>
        </p:nvSpPr>
        <p:spPr>
          <a:xfrm>
            <a:off x="682560" y="41371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Значения зависимой велич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2"/>
          <p:cNvSpPr/>
          <p:nvPr/>
        </p:nvSpPr>
        <p:spPr>
          <a:xfrm flipV="1">
            <a:off x="2411280" y="3344400"/>
            <a:ext cx="0" cy="2087640"/>
          </a:xfrm>
          <a:prstGeom prst="line">
            <a:avLst/>
          </a:prstGeom>
          <a:ln w="38160">
            <a:solidFill>
              <a:srgbClr val="00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3"/>
          <p:cNvSpPr/>
          <p:nvPr/>
        </p:nvSpPr>
        <p:spPr>
          <a:xfrm>
            <a:off x="519120" y="5857920"/>
            <a:ext cx="8339040" cy="8254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Arial"/>
              </a:rPr>
              <a:t>Значения зависимой величины изображаются: в виде кривых; в виде точек; в виде кривых и точ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7"/>
          <p:cNvSpPr/>
          <p:nvPr/>
        </p:nvSpPr>
        <p:spPr>
          <a:xfrm>
            <a:off x="6948360" y="528804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Tahoma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9"/>
          <p:cNvSpPr/>
          <p:nvPr/>
        </p:nvSpPr>
        <p:spPr>
          <a:xfrm>
            <a:off x="1763640" y="521640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Tahoma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6"/>
          <p:cNvSpPr/>
          <p:nvPr/>
        </p:nvSpPr>
        <p:spPr>
          <a:xfrm>
            <a:off x="2417760" y="5410080"/>
            <a:ext cx="460836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700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6"/>
          <p:cNvSpPr/>
          <p:nvPr/>
        </p:nvSpPr>
        <p:spPr>
          <a:xfrm>
            <a:off x="571680" y="1428840"/>
            <a:ext cx="8286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По данным таблицы можно построить следующие графи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42960" y="70920"/>
            <a:ext cx="802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Arial"/>
              </a:rPr>
              <a:t>Наглядное представление процессов изменения велич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2928960" y="2214720"/>
            <a:ext cx="59292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2440">
              <a:lnSpc>
                <a:spcPct val="9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Arial"/>
              </a:rPr>
              <a:t>изменения температуры воздух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52440">
              <a:lnSpc>
                <a:spcPct val="9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Arial"/>
              </a:rPr>
              <a:t>изменения влажности воздух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52440">
              <a:lnSpc>
                <a:spcPct val="9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Arial"/>
              </a:rPr>
              <a:t>изменения атмосферного да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Группа 9" descr=""/>
          <p:cNvPicPr/>
          <p:nvPr/>
        </p:nvPicPr>
        <p:blipFill>
          <a:blip r:embed="rId2"/>
          <a:stretch/>
        </p:blipFill>
        <p:spPr>
          <a:xfrm>
            <a:off x="665280" y="3376440"/>
            <a:ext cx="6778440" cy="34880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Давайте обсуд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36"/>
          <p:cNvSpPr/>
          <p:nvPr/>
        </p:nvSpPr>
        <p:spPr>
          <a:xfrm>
            <a:off x="928800" y="5214960"/>
            <a:ext cx="515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Назовите дни с самой высокой влажн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8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Группа 12"/>
          <p:cNvGrpSpPr/>
          <p:nvPr/>
        </p:nvGrpSpPr>
        <p:grpSpPr>
          <a:xfrm>
            <a:off x="571680" y="1285920"/>
            <a:ext cx="7905600" cy="3591000"/>
            <a:chOff x="571680" y="1285920"/>
            <a:chExt cx="7905600" cy="3591000"/>
          </a:xfrm>
        </p:grpSpPr>
        <p:pic>
          <p:nvPicPr>
            <p:cNvPr id="464" name="Picture 5" descr=""/>
            <p:cNvPicPr/>
            <p:nvPr/>
          </p:nvPicPr>
          <p:blipFill>
            <a:blip r:embed="rId2"/>
            <a:stretch/>
          </p:blipFill>
          <p:spPr>
            <a:xfrm>
              <a:off x="571680" y="1285920"/>
              <a:ext cx="7905600" cy="3591000"/>
            </a:xfrm>
            <a:prstGeom prst="rect">
              <a:avLst/>
            </a:prstGeom>
            <a:ln w="9360">
              <a:solidFill>
                <a:srgbClr val="4f81bd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465" name="TextBox 9"/>
            <p:cNvSpPr/>
            <p:nvPr/>
          </p:nvSpPr>
          <p:spPr>
            <a:xfrm>
              <a:off x="2143080" y="1500120"/>
              <a:ext cx="492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7375e"/>
                  </a:solidFill>
                  <a:latin typeface="Arial"/>
                </a:rPr>
                <a:t>Изменение влажности воздуха в ма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6" name="Picture 7" descr="http://www.lenagold.ru/fon/clipart/z/zont/zont47.jpg"/>
          <p:cNvPicPr/>
          <p:nvPr/>
        </p:nvPicPr>
        <p:blipFill>
          <a:blip r:embed="rId3"/>
          <a:stretch/>
        </p:blipFill>
        <p:spPr>
          <a:xfrm>
            <a:off x="6715080" y="4214880"/>
            <a:ext cx="2428920" cy="25718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6"/>
          <p:cNvSpPr/>
          <p:nvPr/>
        </p:nvSpPr>
        <p:spPr>
          <a:xfrm>
            <a:off x="928800" y="5500800"/>
            <a:ext cx="528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В какой из дней давление было максимальны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Давайте обсуд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Овал 5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Группа 8" descr=""/>
          <p:cNvPicPr/>
          <p:nvPr/>
        </p:nvPicPr>
        <p:blipFill>
          <a:blip r:embed="rId2"/>
          <a:stretch/>
        </p:blipFill>
        <p:spPr>
          <a:xfrm>
            <a:off x="523800" y="1163520"/>
            <a:ext cx="8126640" cy="4110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7" descr="http://darsonvalizdorovie.ru/wp-content/uploads/2012/13/Barometr_Kruzenshtern_Paduja_RST_07060.jpg"/>
          <p:cNvPicPr/>
          <p:nvPr/>
        </p:nvPicPr>
        <p:blipFill>
          <a:blip r:embed="rId3"/>
          <a:stretch/>
        </p:blipFill>
        <p:spPr>
          <a:xfrm>
            <a:off x="6523200" y="4238640"/>
            <a:ext cx="2600280" cy="26002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Sergei</cp:lastModifiedBy>
  <dcterms:modified xsi:type="dcterms:W3CDTF">2013-09-04T09:33:48Z</dcterms:modified>
  <cp:revision>29</cp:revision>
  <dc:subject/>
  <dc:title>Презентация PowerPoint</dc:title>
</cp:coreProperties>
</file>