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3.jpeg" ContentType="image/jpeg"/>
  <Override PartName="/ppt/media/image30.jpeg" ContentType="image/jpeg"/>
  <Override PartName="/ppt/media/image15.png" ContentType="image/png"/>
  <Override PartName="/ppt/media/image11.png" ContentType="image/png"/>
  <Override PartName="/ppt/media/image4.jpeg" ContentType="image/jpeg"/>
  <Override PartName="/ppt/media/image19.jpeg" ContentType="image/jpeg"/>
  <Override PartName="/ppt/media/image25.png" ContentType="image/png"/>
  <Override PartName="/ppt/media/image31.jpeg" ContentType="image/jpeg"/>
  <Override PartName="/ppt/media/image29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23.jpeg" ContentType="image/jpeg"/>
  <Override PartName="/ppt/media/image1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21.png" ContentType="image/png"/>
  <Override PartName="/ppt/media/image22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2042-8EB5-48FD-805B-97BF97CA26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88B9-E577-491A-AA25-74F326E418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76CE-86D2-4144-9B2C-1D2EAEA4B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D0CE-C657-4948-AF12-443D3537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BB62D-CF2C-4558-AF14-1B882AAA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D02BB-EA32-4591-A04E-1B8D47EE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AB6A7-DB22-4DED-BCC6-85C6675F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2349F-F63D-4D0D-AB51-55EBC095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840CA-E46F-4FAC-A18C-100AD7DE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899DB-4E5A-41A3-8CEA-AAF72E90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AB839-899F-4CDB-8164-97354896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85C09-73DD-4E60-B4C0-0F7D76E6A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F677E-6619-417C-9271-54AE1F6DC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A3740-C6A1-4B03-BFBE-6A499CB4E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2050-B9FD-4A50-A420-963099F2B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2BAAB-D280-4C52-8020-EA3F0566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3492A-0342-4DDD-86FC-3320E642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3F738-0710-4F67-A1AE-DF520334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DA684-5742-40B4-AB8C-7C2E68C2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0E44A-5C4F-4BCC-89BC-8692415B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2ABAB-ABD0-44D8-8645-2836D4EE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94E9C-C329-4EEC-9F4D-1C02107E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7464D-FEF6-4DDF-9515-8AE3D823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7872C-975D-4EAE-9A66-01ECA608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8205D-5DC3-4822-B2B0-D8660D88F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2702-E94E-4E09-A4E7-4829DA130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AD8BD-59EE-46D0-BF15-2987CBD28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40BB6-3D68-43E9-89DE-5013734BB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1BED5-90DD-4731-8B2A-EAD0FFD7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2D27-1D31-449C-9CB6-D93F5821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07F3-444F-4E03-8791-08432ACC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2213-4623-4143-86E9-17716469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0216-1334-4A15-870D-69E422F3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B59F-0E4D-446A-ACCD-02734697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9488-68D3-4B99-97D2-3B9D3AD2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6CD0-8DB5-410F-97E2-B178DBAB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43F9-9827-4244-BC36-B4545E75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AAB9-8BDB-418F-BE60-897ECD0C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AD62-7C13-4C40-9F2B-29BA130EC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BD20-89FC-41EB-8898-C3C57996A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26138-D295-4EEE-90D8-CF0F7E229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69842-E4FB-44BD-8EAD-F5CAC14F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CCCA8-071E-4763-BBD8-7A756CE5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0461C-DF2B-4D47-BEB7-67EA6B41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B85A0-BF11-4A17-B3D4-FB11D8DD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E1E5-4C45-469F-93F7-F2FFBC02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87795-96A0-4722-A63F-E2BA54DB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A3E4C-2F4A-42EA-A97D-FD7730DB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3CD48-66CF-4E38-B06E-99F05ACF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7A5FA-2669-4BB2-B488-A32381F2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B2096-98F5-4AE3-AF8B-7F10FCBC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AEF25-CC52-41D5-A932-9B50C16E3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56525-88CD-42D8-BCD0-611F81B45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080BC-9D9A-4AF7-A95A-41F6215BD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12E1C-F255-4698-8B41-86B8F7A5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6007A-9332-41D3-BDBD-2AD324A4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A3A5-4350-4CC0-8DC0-3397C9A2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E99CB-3B16-44CD-A957-3C017DBF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5F27A-8A10-4766-BFF8-5A03DC6E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5EFD2-14D2-4F61-8E4B-835DF3E2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24BE2-D670-4F1E-862F-2258A7D2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C9E15-3CD4-48FA-9EC2-69C67E6B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CF744-7FC3-44C6-A053-58AAAF95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23707-E834-4355-801B-D616B3F4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E47AB-0EE0-4A81-A0B8-3D4D0D8CC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2E0C9-B80B-47AB-81AA-021252028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CADDA-0EAE-4FFB-B1DE-E2BDAA806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4ABC-234C-4A27-88E0-E9C1D34A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9D4E5-1841-4BF7-A03E-5180E365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2E7B5-1D2A-4292-AB15-08FBCF86F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77E0A-2DAF-49EE-A467-88C90842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9D18C-00F4-4632-9A2F-46FF1258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DD54C-1F5E-4A49-9AA8-01DE1A9B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8170A-0C10-4DE0-97AC-F7176FAB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D3CF4-9F95-4040-BCE4-E9E7CF59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0DBDD-2520-4032-A373-8A93A4D4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52257-7C77-4110-9A62-A47BE37C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5F1B3-7657-43BE-A378-1E874F59B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4F63-7B6C-4156-A06A-6142D06E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EA27C-34FB-48B8-96EC-300531F21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DC40-2671-45C5-97EA-172683D6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8F07-9BD6-4CB4-B39F-2E27A7B1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F15BE-17BF-4341-8BAF-60FB82634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7AE93-D2D0-407A-9ABF-F63B053F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E3CCD-71A2-476A-BDA6-BDCD0343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F30A6-ECAF-4A4F-AF03-8A63EBA5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4097B-8F78-4BA8-A1A7-F12F2FC8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A45A-F85C-46A2-90A6-3A168D77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65BD0-ACFA-4D17-B31D-23F71FB9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79731-AC40-41AD-AA1F-7F8B7F92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32B7F-76F6-4EF1-AD15-44A272BA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062DE-5146-4F40-8D80-D99B078D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7AC91-2379-4C52-8C6B-A2882F44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24D7A-537E-444E-9BEF-CDC2F7F9A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F7CB6-0490-4593-99FD-5D74308F5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FC90D-0FE8-4593-963A-912AC2D75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85C8B-9228-4B5A-879B-167D1EE5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D05CB-EE5B-4A8C-A658-688CB18F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F456-CA63-458D-B0D4-1099AF35FBE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8FB0-6AB4-4F0C-BD36-63CC8F669C7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BCD6-9713-4CB9-8BF1-E2E2F16ECA5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6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D279-C788-429E-8491-B0133429B1C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352E-C089-450B-A409-0E0CB351B76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A3DE-DC49-4643-B199-AC593DB6140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Рисунок 6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F212-9BCA-4407-896A-7A474867BB4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E8D4-F4D2-4CB1-955E-E687E14BE1C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Box 2"/>
          <p:cNvSpPr/>
          <p:nvPr/>
        </p:nvSpPr>
        <p:spPr>
          <a:xfrm>
            <a:off x="4214880" y="4143240"/>
            <a:ext cx="4786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Зачем нужны графики и диа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Наглядное представление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роцессов изменения велич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Наглядное представление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о соотношении велич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124000" y="2420640"/>
            <a:ext cx="6734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ГРАФИКИ 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  ДИАГРАМ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13"/>
          <p:cNvSpPr/>
          <p:nvPr/>
        </p:nvSpPr>
        <p:spPr>
          <a:xfrm>
            <a:off x="571680" y="1371600"/>
            <a:ext cx="8286480" cy="11912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Arial"/>
              </a:rPr>
              <a:t>Диаграмма</a:t>
            </a:r>
            <a:r>
              <a:rPr b="0" lang="ru-RU" sz="2400" spc="-1" strike="noStrike">
                <a:solidFill>
                  <a:srgbClr val="17375e"/>
                </a:solidFill>
                <a:latin typeface="Arial"/>
              </a:rPr>
              <a:t> - графическое изображение, дающее наглядное представление о соотношении нескольких величин или нескольких значений одной велич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2"/>
          <p:cNvSpPr/>
          <p:nvPr/>
        </p:nvSpPr>
        <p:spPr>
          <a:xfrm>
            <a:off x="1116000" y="0"/>
            <a:ext cx="7413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7"/>
          <p:cNvSpPr/>
          <p:nvPr/>
        </p:nvSpPr>
        <p:spPr>
          <a:xfrm>
            <a:off x="571680" y="4929120"/>
            <a:ext cx="3857400" cy="15570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Arial"/>
              </a:rPr>
              <a:t>Круговая диаграмма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служит для сравнения нескольких величин в одной точ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8"/>
          <p:cNvSpPr/>
          <p:nvPr/>
        </p:nvSpPr>
        <p:spPr>
          <a:xfrm>
            <a:off x="4714920" y="4929120"/>
            <a:ext cx="4143240" cy="15570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Arial"/>
              </a:rPr>
              <a:t>Столбчатые диаграммы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позволяют сравнивать несколько величин в нескольких точ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7"/>
          <p:cNvSpPr/>
          <p:nvPr/>
        </p:nvSpPr>
        <p:spPr>
          <a:xfrm>
            <a:off x="642960" y="71280"/>
            <a:ext cx="802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Arial"/>
              </a:rPr>
              <a:t>Наглядное представление процессов изменения велич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5" descr="http://abali.ru/wp-content/uploads/2011/10/pie-chart-600x614.png"/>
          <p:cNvPicPr/>
          <p:nvPr/>
        </p:nvPicPr>
        <p:blipFill>
          <a:blip r:embed="rId2"/>
          <a:stretch/>
        </p:blipFill>
        <p:spPr>
          <a:xfrm>
            <a:off x="1500120" y="2643120"/>
            <a:ext cx="2171880" cy="222084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7" descr="http://gis-lab.info/images/screenshots/20100826-8d0-27kb.jpg"/>
          <p:cNvPicPr/>
          <p:nvPr/>
        </p:nvPicPr>
        <p:blipFill>
          <a:blip r:embed="rId3"/>
          <a:stretch/>
        </p:blipFill>
        <p:spPr>
          <a:xfrm>
            <a:off x="4570560" y="2643120"/>
            <a:ext cx="428760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Примеры диаграм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Группа 13"/>
          <p:cNvGrpSpPr/>
          <p:nvPr/>
        </p:nvGrpSpPr>
        <p:grpSpPr>
          <a:xfrm>
            <a:off x="500040" y="928800"/>
            <a:ext cx="5286240" cy="2857320"/>
            <a:chOff x="500040" y="928800"/>
            <a:chExt cx="5286240" cy="2857320"/>
          </a:xfrm>
        </p:grpSpPr>
        <p:pic>
          <p:nvPicPr>
            <p:cNvPr id="482" name="Picture 4" descr=""/>
            <p:cNvPicPr/>
            <p:nvPr/>
          </p:nvPicPr>
          <p:blipFill>
            <a:blip r:embed="rId2"/>
            <a:stretch/>
          </p:blipFill>
          <p:spPr>
            <a:xfrm>
              <a:off x="500040" y="928800"/>
              <a:ext cx="5286240" cy="2857320"/>
            </a:xfrm>
            <a:prstGeom prst="rect">
              <a:avLst/>
            </a:prstGeom>
            <a:ln w="9360">
              <a:solidFill>
                <a:srgbClr val="4f81bd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483" name="TextBox 12"/>
            <p:cNvSpPr/>
            <p:nvPr/>
          </p:nvSpPr>
          <p:spPr>
            <a:xfrm>
              <a:off x="766800" y="1005840"/>
              <a:ext cx="483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7375e"/>
                  </a:solidFill>
                  <a:latin typeface="Arial"/>
                </a:rPr>
                <a:t>Облачность в ма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Группа 16"/>
          <p:cNvGrpSpPr/>
          <p:nvPr/>
        </p:nvGrpSpPr>
        <p:grpSpPr>
          <a:xfrm>
            <a:off x="3286080" y="3571920"/>
            <a:ext cx="5357880" cy="3071880"/>
            <a:chOff x="3286080" y="3571920"/>
            <a:chExt cx="5357880" cy="3071880"/>
          </a:xfrm>
        </p:grpSpPr>
        <p:pic>
          <p:nvPicPr>
            <p:cNvPr id="485" name="Picture 6" descr=""/>
            <p:cNvPicPr/>
            <p:nvPr/>
          </p:nvPicPr>
          <p:blipFill>
            <a:blip r:embed="rId3"/>
            <a:stretch/>
          </p:blipFill>
          <p:spPr>
            <a:xfrm>
              <a:off x="3286080" y="3571920"/>
              <a:ext cx="5357880" cy="3071880"/>
            </a:xfrm>
            <a:prstGeom prst="rect">
              <a:avLst/>
            </a:prstGeom>
            <a:ln w="9360">
              <a:solidFill>
                <a:srgbClr val="4f81bd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486" name="TextBox 11"/>
            <p:cNvSpPr/>
            <p:nvPr/>
          </p:nvSpPr>
          <p:spPr>
            <a:xfrm>
              <a:off x="3821760" y="3637080"/>
              <a:ext cx="443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7375e"/>
                  </a:solidFill>
                  <a:latin typeface="Arial"/>
                </a:rPr>
                <a:t>Облачность в ма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7" name="Picture 14" descr="http://images.all-free-download.com/images/graphiclarge/rain_cloud_clip_art_17461.jpg"/>
          <p:cNvPicPr/>
          <p:nvPr/>
        </p:nvPicPr>
        <p:blipFill>
          <a:blip r:embed="rId4"/>
          <a:stretch/>
        </p:blipFill>
        <p:spPr>
          <a:xfrm>
            <a:off x="6000840" y="1143000"/>
            <a:ext cx="2604960" cy="221292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6" descr="http://static.freepik.com/free-photo/cloud_17-1112151440.jpg"/>
          <p:cNvPicPr/>
          <p:nvPr/>
        </p:nvPicPr>
        <p:blipFill>
          <a:blip r:embed="rId5"/>
          <a:stretch/>
        </p:blipFill>
        <p:spPr>
          <a:xfrm>
            <a:off x="285840" y="4000680"/>
            <a:ext cx="2857320" cy="18493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6" descr="http://static.freepik.com/free-photo/cloud_17-1112151440.jpg"/>
          <p:cNvPicPr/>
          <p:nvPr/>
        </p:nvPicPr>
        <p:blipFill>
          <a:blip r:embed="rId6"/>
          <a:stretch/>
        </p:blipFill>
        <p:spPr>
          <a:xfrm>
            <a:off x="1071720" y="5072040"/>
            <a:ext cx="2357280" cy="15256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14"/>
          <p:cNvSpPr/>
          <p:nvPr/>
        </p:nvSpPr>
        <p:spPr>
          <a:xfrm>
            <a:off x="500040" y="1285920"/>
            <a:ext cx="8286840" cy="8254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Arial"/>
              </a:rPr>
              <a:t>Лепестковая диаграмма </a:t>
            </a:r>
            <a:r>
              <a:rPr b="0" lang="ru-RU" sz="2400" spc="-1" strike="noStrike">
                <a:solidFill>
                  <a:srgbClr val="17375e"/>
                </a:solidFill>
                <a:latin typeface="Arial"/>
              </a:rPr>
              <a:t>- для каждой точки ряда данных предусмотрена своя о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Примеры диаграм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Группа 12"/>
          <p:cNvGrpSpPr/>
          <p:nvPr/>
        </p:nvGrpSpPr>
        <p:grpSpPr>
          <a:xfrm>
            <a:off x="2071800" y="2357280"/>
            <a:ext cx="4357440" cy="4003920"/>
            <a:chOff x="2071800" y="2357280"/>
            <a:chExt cx="4357440" cy="4003920"/>
          </a:xfrm>
        </p:grpSpPr>
        <p:pic>
          <p:nvPicPr>
            <p:cNvPr id="493" name="Picture 3" descr=""/>
            <p:cNvPicPr/>
            <p:nvPr/>
          </p:nvPicPr>
          <p:blipFill>
            <a:blip r:embed="rId2"/>
            <a:stretch/>
          </p:blipFill>
          <p:spPr>
            <a:xfrm>
              <a:off x="2071800" y="2888640"/>
              <a:ext cx="4357440" cy="3472560"/>
            </a:xfrm>
            <a:prstGeom prst="rect">
              <a:avLst/>
            </a:prstGeom>
            <a:ln w="9360">
              <a:solidFill>
                <a:srgbClr val="4f81bd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494" name="TextBox 6"/>
            <p:cNvSpPr/>
            <p:nvPr/>
          </p:nvSpPr>
          <p:spPr>
            <a:xfrm>
              <a:off x="2426040" y="2357280"/>
              <a:ext cx="363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7375e"/>
                  </a:solidFill>
                  <a:latin typeface="Arial"/>
                </a:rPr>
                <a:t>Роза ветр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5" name="Picture 5" descr="http://gooselakeweather.com/wp/wp-content/uploads/2008/12/wind.gif"/>
          <p:cNvPicPr/>
          <p:nvPr/>
        </p:nvPicPr>
        <p:blipFill>
          <a:blip r:embed="rId3"/>
          <a:stretch/>
        </p:blipFill>
        <p:spPr>
          <a:xfrm>
            <a:off x="6089760" y="2214720"/>
            <a:ext cx="2840040" cy="207144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9" descr="http://scuolefuoridise.cervia.com/Tagliata%202004/scienze%202004due/scienze%202004due/SFONDO_VENTO.gif"/>
          <p:cNvPicPr/>
          <p:nvPr/>
        </p:nvPicPr>
        <p:blipFill>
          <a:blip r:embed="rId4"/>
          <a:stretch/>
        </p:blipFill>
        <p:spPr>
          <a:xfrm>
            <a:off x="285840" y="4857840"/>
            <a:ext cx="2392200" cy="18144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28800" y="7092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Визуализация многорядных дан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Группа 5" descr=""/>
          <p:cNvPicPr/>
          <p:nvPr/>
        </p:nvPicPr>
        <p:blipFill>
          <a:blip r:embed="rId2"/>
          <a:stretch/>
        </p:blipFill>
        <p:spPr>
          <a:xfrm>
            <a:off x="914400" y="1596960"/>
            <a:ext cx="7040520" cy="33354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3" descr=""/>
          <p:cNvPicPr/>
          <p:nvPr/>
        </p:nvPicPr>
        <p:blipFill>
          <a:blip r:embed="rId3"/>
          <a:stretch/>
        </p:blipFill>
        <p:spPr>
          <a:xfrm>
            <a:off x="6272280" y="3805200"/>
            <a:ext cx="2871720" cy="29815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амое глав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3"/>
          <p:cNvSpPr/>
          <p:nvPr/>
        </p:nvSpPr>
        <p:spPr>
          <a:xfrm>
            <a:off x="755640" y="981000"/>
            <a:ext cx="777708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бор информационной модели зависит от цели создания этой моде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Диаграмма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графическое изображение, дающее наглядное представление о соотношении нескольких величин или нескольких значениях одной величины, об изменении их значен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График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линия, дающая наглядное представление о характере зависимости одной величины от друг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3"/>
          <p:cNvSpPr/>
          <p:nvPr/>
        </p:nvSpPr>
        <p:spPr>
          <a:xfrm>
            <a:off x="755640" y="981000"/>
            <a:ext cx="777708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аграммы позволяют сравнивать значения величин. Круговая диаграмма полезна, если величины в сумме составляют цел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помощью графиков и диаграмм можно визуализировать большие объёмы однотипной табличной информ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визуализации происходит потеря точности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амое глав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785880" y="1268280"/>
            <a:ext cx="777240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м образом могут быть визуализированы большие объемы однотипной табличной информац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помощью чего можно наглядно представить процесс изменения величин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обеспечивает наглядное представление о соотношении величи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м определяется выбор того или иного типа диаграмм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аких случаях используют круговые диаграмм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может быть потеряно при визуализации данны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Давайте обсуд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Овал 6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1000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10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1000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1000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1571760" y="981000"/>
            <a:ext cx="696096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агра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уговая диагра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олбчатая диагра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пестковая  диаграм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Группа 16"/>
          <p:cNvGrpSpPr/>
          <p:nvPr/>
        </p:nvGrpSpPr>
        <p:grpSpPr>
          <a:xfrm>
            <a:off x="857160" y="1643040"/>
            <a:ext cx="7929720" cy="5072040"/>
            <a:chOff x="857160" y="1643040"/>
            <a:chExt cx="7929720" cy="5072040"/>
          </a:xfrm>
        </p:grpSpPr>
        <p:pic>
          <p:nvPicPr>
            <p:cNvPr id="424" name="Picture 14 серый" descr="http://djangin.dagschool.com/_http_schools/1727/Djangin/admin/ckfinder/core/connector/php/connector.phpfck_user_files/images/map.png"/>
            <p:cNvPicPr/>
            <p:nvPr/>
          </p:nvPicPr>
          <p:blipFill>
            <a:blip r:embed="rId2"/>
            <a:stretch/>
          </p:blipFill>
          <p:spPr>
            <a:xfrm>
              <a:off x="883800" y="1643040"/>
              <a:ext cx="7845840" cy="467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Picture 22" descr="http://www.tolgas.ru/site/upload/iis_abit_people.jpg"/>
            <p:cNvPicPr/>
            <p:nvPr/>
          </p:nvPicPr>
          <p:blipFill>
            <a:blip r:embed="rId3"/>
            <a:stretch/>
          </p:blipFill>
          <p:spPr>
            <a:xfrm>
              <a:off x="2195280" y="2814480"/>
              <a:ext cx="5290920" cy="35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8" descr="http://komandorcamp.ru/assets/images/81266624ef02%281%29.png"/>
            <p:cNvPicPr/>
            <p:nvPr/>
          </p:nvPicPr>
          <p:blipFill>
            <a:blip r:embed="rId4"/>
            <a:stretch/>
          </p:blipFill>
          <p:spPr>
            <a:xfrm>
              <a:off x="857160" y="4547160"/>
              <a:ext cx="2991960" cy="212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Picture 12" descr="http://www.gcdev.fr/photo/art/grande/2642309-3730030.jpg"/>
            <p:cNvPicPr/>
            <p:nvPr/>
          </p:nvPicPr>
          <p:blipFill>
            <a:blip r:embed="rId5"/>
            <a:stretch/>
          </p:blipFill>
          <p:spPr>
            <a:xfrm>
              <a:off x="6178680" y="4114080"/>
              <a:ext cx="2608200" cy="260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64388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Зачем нужны графики 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и диаграм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71600" y="1414440"/>
            <a:ext cx="810108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Предположим, что вы готовитесь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к школьной географической конференции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0" name=""/>
          <p:cNvGraphicFramePr/>
          <p:nvPr/>
        </p:nvGraphicFramePr>
        <p:xfrm>
          <a:off x="357120" y="2001960"/>
          <a:ext cx="8663040" cy="4356000"/>
        </p:xfrm>
        <a:graphic>
          <a:graphicData uri="http://schemas.openxmlformats.org/drawingml/2006/table">
            <a:tbl>
              <a:tblPr/>
              <a:tblGrid>
                <a:gridCol w="798480"/>
                <a:gridCol w="987480"/>
                <a:gridCol w="133560"/>
                <a:gridCol w="1223640"/>
                <a:gridCol w="117720"/>
                <a:gridCol w="954000"/>
                <a:gridCol w="125280"/>
                <a:gridCol w="946440"/>
                <a:gridCol w="134640"/>
                <a:gridCol w="920880"/>
                <a:gridCol w="1122480"/>
                <a:gridCol w="115920"/>
                <a:gridCol w="108252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Темпе-ратура, </a:t>
                      </a: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º</a:t>
                      </a: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Влаж-ность,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Давле-ние, м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Вет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Облач-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Направ-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Граду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Скорость, м/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+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7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Ю-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яс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+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7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С-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яс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+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7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С-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яс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+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7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20-3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+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7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С-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9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+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7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70-8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1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+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7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Ю-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1" name="Text Box 305"/>
          <p:cNvSpPr/>
          <p:nvPr/>
        </p:nvSpPr>
        <p:spPr>
          <a:xfrm>
            <a:off x="5000760" y="1501920"/>
            <a:ext cx="38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Погода в мае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314"/>
          <p:cNvSpPr/>
          <p:nvPr/>
        </p:nvSpPr>
        <p:spPr>
          <a:xfrm>
            <a:off x="1285920" y="0"/>
            <a:ext cx="73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Собрана следующая информац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10" descr="http://www.clker.com/cliparts/5/3/6/7/13175668441887850802stubby_pencil-md.png"/>
          <p:cNvPicPr/>
          <p:nvPr/>
        </p:nvPicPr>
        <p:blipFill>
          <a:blip r:embed="rId2"/>
          <a:stretch/>
        </p:blipFill>
        <p:spPr>
          <a:xfrm>
            <a:off x="7429680" y="5072040"/>
            <a:ext cx="1500120" cy="150012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03280" y="142920"/>
            <a:ext cx="729000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Информаци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собран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857160" y="1285920"/>
            <a:ext cx="514368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426600">
              <a:lnSpc>
                <a:spcPct val="150000"/>
              </a:lnSpc>
              <a:spcBef>
                <a:spcPts val="799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в большом количеств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26600">
              <a:lnSpc>
                <a:spcPct val="150000"/>
              </a:lnSpc>
              <a:spcBef>
                <a:spcPts val="799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точн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26600">
              <a:lnSpc>
                <a:spcPct val="150000"/>
              </a:lnSpc>
              <a:spcBef>
                <a:spcPts val="799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полн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26600">
              <a:lnSpc>
                <a:spcPct val="150000"/>
              </a:lnSpc>
              <a:spcBef>
                <a:spcPts val="799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достове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Прямоугольник 4"/>
          <p:cNvSpPr/>
          <p:nvPr/>
        </p:nvSpPr>
        <p:spPr>
          <a:xfrm>
            <a:off x="4078440" y="4573800"/>
            <a:ext cx="1095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Arial"/>
              </a:rPr>
              <a:t>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рямоугольник 5"/>
          <p:cNvSpPr/>
          <p:nvPr/>
        </p:nvSpPr>
        <p:spPr>
          <a:xfrm>
            <a:off x="500040" y="5429160"/>
            <a:ext cx="84297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5968"/>
                </a:solidFill>
                <a:latin typeface="Arial"/>
              </a:rPr>
              <a:t>в табличном виде она трудно воспринимаетс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Овал 6"/>
          <p:cNvSpPr/>
          <p:nvPr/>
        </p:nvSpPr>
        <p:spPr>
          <a:xfrm>
            <a:off x="500040" y="52862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Группа 15"/>
          <p:cNvGrpSpPr/>
          <p:nvPr/>
        </p:nvGrpSpPr>
        <p:grpSpPr>
          <a:xfrm>
            <a:off x="5429160" y="857160"/>
            <a:ext cx="3548160" cy="4357800"/>
            <a:chOff x="5429160" y="857160"/>
            <a:chExt cx="3548160" cy="4357800"/>
          </a:xfrm>
        </p:grpSpPr>
        <p:pic>
          <p:nvPicPr>
            <p:cNvPr id="440" name="Picture 6" descr="http://trio-studio.ru/wp-content/uploads/2012/07/1228428520667582858sivvus_weather_symbols_4.svg_.hi_.png"/>
            <p:cNvPicPr/>
            <p:nvPr/>
          </p:nvPicPr>
          <p:blipFill>
            <a:blip r:embed="rId3"/>
            <a:stretch/>
          </p:blipFill>
          <p:spPr>
            <a:xfrm>
              <a:off x="5429160" y="2286000"/>
              <a:ext cx="2133720" cy="181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Picture 2" descr="http://img-fotki.yandex.ru/get/6608/121620033.a5/0_7f1ef_e79b2630_XL"/>
            <p:cNvPicPr/>
            <p:nvPr/>
          </p:nvPicPr>
          <p:blipFill>
            <a:blip r:embed="rId4"/>
            <a:stretch/>
          </p:blipFill>
          <p:spPr>
            <a:xfrm>
              <a:off x="6357960" y="857160"/>
              <a:ext cx="2619360" cy="262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Picture 16" descr="http://openclipart.org/image/800px/svg_to_png/4830/mozart_ar_wind_rose_compas.png"/>
            <p:cNvPicPr/>
            <p:nvPr/>
          </p:nvPicPr>
          <p:blipFill>
            <a:blip r:embed="rId5"/>
            <a:stretch/>
          </p:blipFill>
          <p:spPr>
            <a:xfrm>
              <a:off x="6786360" y="3500280"/>
              <a:ext cx="1714680" cy="1714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edg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Freeform 19"/>
          <p:cNvSpPr/>
          <p:nvPr/>
        </p:nvSpPr>
        <p:spPr>
          <a:xfrm>
            <a:off x="2411280" y="3440160"/>
            <a:ext cx="4392720" cy="1560600"/>
          </a:xfrm>
          <a:custGeom>
            <a:avLst/>
            <a:gdLst>
              <a:gd name="textAreaLeft" fmla="*/ 0 w 4392720"/>
              <a:gd name="textAreaRight" fmla="*/ 4393080 w 4392720"/>
              <a:gd name="textAreaTop" fmla="*/ 0 h 1560600"/>
              <a:gd name="textAreaBottom" fmla="*/ 1560960 h 1560600"/>
            </a:gdLst>
            <a:ahLst/>
            <a:rect l="textAreaLeft" t="textAreaTop" r="textAreaRight" b="textAreaBottom"/>
            <a:pathLst>
              <a:path w="2767" h="983">
                <a:moveTo>
                  <a:pt x="0" y="983"/>
                </a:moveTo>
                <a:cubicBezTo>
                  <a:pt x="159" y="782"/>
                  <a:pt x="318" y="582"/>
                  <a:pt x="454" y="529"/>
                </a:cubicBezTo>
                <a:cubicBezTo>
                  <a:pt x="590" y="476"/>
                  <a:pt x="689" y="695"/>
                  <a:pt x="817" y="665"/>
                </a:cubicBezTo>
                <a:cubicBezTo>
                  <a:pt x="945" y="635"/>
                  <a:pt x="1097" y="378"/>
                  <a:pt x="1225" y="348"/>
                </a:cubicBezTo>
                <a:cubicBezTo>
                  <a:pt x="1353" y="318"/>
                  <a:pt x="1437" y="529"/>
                  <a:pt x="1588" y="484"/>
                </a:cubicBezTo>
                <a:cubicBezTo>
                  <a:pt x="1739" y="439"/>
                  <a:pt x="1936" y="152"/>
                  <a:pt x="2132" y="76"/>
                </a:cubicBezTo>
                <a:cubicBezTo>
                  <a:pt x="2328" y="0"/>
                  <a:pt x="2661" y="38"/>
                  <a:pt x="2767" y="30"/>
                </a:cubicBezTo>
              </a:path>
            </a:pathLst>
          </a:custGeom>
          <a:noFill/>
          <a:ln w="5724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42960" y="70920"/>
            <a:ext cx="802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Arial"/>
              </a:rPr>
              <a:t>Наглядное представление процессов изменения велич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500040" y="1357200"/>
            <a:ext cx="8345520" cy="17798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Arial"/>
              </a:rPr>
              <a:t>График</a:t>
            </a:r>
            <a:r>
              <a:rPr b="0" lang="ru-RU" sz="20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7375e"/>
                </a:solidFill>
                <a:latin typeface="Arial"/>
              </a:rPr>
              <a:t>- линия, дающая наглядное представление </a:t>
            </a:r>
            <a:br>
              <a:rPr sz="2400"/>
            </a:br>
            <a:r>
              <a:rPr b="0" lang="ru-RU" sz="2400" spc="-1" strike="noStrike">
                <a:solidFill>
                  <a:srgbClr val="17375e"/>
                </a:solidFill>
                <a:latin typeface="Arial"/>
              </a:rPr>
              <a:t>о характере зависимости какой-либо величины </a:t>
            </a:r>
            <a:br>
              <a:rPr sz="2400"/>
            </a:br>
            <a:r>
              <a:rPr b="0" lang="ru-RU" sz="2400" spc="-1" strike="noStrike">
                <a:solidFill>
                  <a:srgbClr val="17375e"/>
                </a:solidFill>
                <a:latin typeface="Arial"/>
              </a:rPr>
              <a:t>от другой. График позволяет отслеживать динамику изменения да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"/>
          <p:cNvSpPr/>
          <p:nvPr/>
        </p:nvSpPr>
        <p:spPr>
          <a:xfrm>
            <a:off x="6948360" y="472608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8"/>
          <p:cNvSpPr/>
          <p:nvPr/>
        </p:nvSpPr>
        <p:spPr>
          <a:xfrm>
            <a:off x="1692360" y="327168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Tahoma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9"/>
          <p:cNvSpPr/>
          <p:nvPr/>
        </p:nvSpPr>
        <p:spPr>
          <a:xfrm>
            <a:off x="1763640" y="465444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0"/>
          <p:cNvSpPr/>
          <p:nvPr/>
        </p:nvSpPr>
        <p:spPr>
          <a:xfrm>
            <a:off x="2771640" y="5432400"/>
            <a:ext cx="43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Значения независимой велич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1"/>
          <p:cNvSpPr/>
          <p:nvPr/>
        </p:nvSpPr>
        <p:spPr>
          <a:xfrm>
            <a:off x="682560" y="41371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Значения зависимой велич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2"/>
          <p:cNvSpPr/>
          <p:nvPr/>
        </p:nvSpPr>
        <p:spPr>
          <a:xfrm flipV="1">
            <a:off x="2411280" y="3344400"/>
            <a:ext cx="0" cy="2087640"/>
          </a:xfrm>
          <a:prstGeom prst="line">
            <a:avLst/>
          </a:prstGeom>
          <a:ln w="38160">
            <a:solidFill>
              <a:srgbClr val="00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3"/>
          <p:cNvSpPr/>
          <p:nvPr/>
        </p:nvSpPr>
        <p:spPr>
          <a:xfrm>
            <a:off x="519120" y="5857920"/>
            <a:ext cx="8339040" cy="8254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Arial"/>
              </a:rPr>
              <a:t>Значения зависимой величины изображаются: в виде кривых; в виде точек; в виде кривых и точ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7"/>
          <p:cNvSpPr/>
          <p:nvPr/>
        </p:nvSpPr>
        <p:spPr>
          <a:xfrm>
            <a:off x="6948360" y="528804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Tahoma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9"/>
          <p:cNvSpPr/>
          <p:nvPr/>
        </p:nvSpPr>
        <p:spPr>
          <a:xfrm>
            <a:off x="1763640" y="521640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Tahoma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6"/>
          <p:cNvSpPr/>
          <p:nvPr/>
        </p:nvSpPr>
        <p:spPr>
          <a:xfrm>
            <a:off x="2417760" y="5410080"/>
            <a:ext cx="460836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700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6"/>
          <p:cNvSpPr/>
          <p:nvPr/>
        </p:nvSpPr>
        <p:spPr>
          <a:xfrm>
            <a:off x="571680" y="1428840"/>
            <a:ext cx="8286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По данным таблицы можно построить следующие графи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42960" y="70920"/>
            <a:ext cx="802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Arial"/>
              </a:rPr>
              <a:t>Наглядное представление процессов изменения велич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2928960" y="2214720"/>
            <a:ext cx="59292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2440">
              <a:lnSpc>
                <a:spcPct val="9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Arial"/>
              </a:rPr>
              <a:t>изменения температуры воздух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52440">
              <a:lnSpc>
                <a:spcPct val="9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Arial"/>
              </a:rPr>
              <a:t>изменения влажности воздух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52440">
              <a:lnSpc>
                <a:spcPct val="9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Arial"/>
              </a:rPr>
              <a:t>изменения атмосферного да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Группа 9" descr=""/>
          <p:cNvPicPr/>
          <p:nvPr/>
        </p:nvPicPr>
        <p:blipFill>
          <a:blip r:embed="rId2"/>
          <a:stretch/>
        </p:blipFill>
        <p:spPr>
          <a:xfrm>
            <a:off x="665280" y="3376440"/>
            <a:ext cx="6778440" cy="34880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Давайте обсуд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36"/>
          <p:cNvSpPr/>
          <p:nvPr/>
        </p:nvSpPr>
        <p:spPr>
          <a:xfrm>
            <a:off x="928800" y="5214960"/>
            <a:ext cx="515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Назовите дни с самой высокой влажн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8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Группа 12"/>
          <p:cNvGrpSpPr/>
          <p:nvPr/>
        </p:nvGrpSpPr>
        <p:grpSpPr>
          <a:xfrm>
            <a:off x="571680" y="1285920"/>
            <a:ext cx="7905600" cy="3591000"/>
            <a:chOff x="571680" y="1285920"/>
            <a:chExt cx="7905600" cy="3591000"/>
          </a:xfrm>
        </p:grpSpPr>
        <p:pic>
          <p:nvPicPr>
            <p:cNvPr id="464" name="Picture 5" descr=""/>
            <p:cNvPicPr/>
            <p:nvPr/>
          </p:nvPicPr>
          <p:blipFill>
            <a:blip r:embed="rId2"/>
            <a:stretch/>
          </p:blipFill>
          <p:spPr>
            <a:xfrm>
              <a:off x="571680" y="1285920"/>
              <a:ext cx="7905600" cy="3591000"/>
            </a:xfrm>
            <a:prstGeom prst="rect">
              <a:avLst/>
            </a:prstGeom>
            <a:ln w="9360">
              <a:solidFill>
                <a:srgbClr val="4f81bd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465" name="TextBox 9"/>
            <p:cNvSpPr/>
            <p:nvPr/>
          </p:nvSpPr>
          <p:spPr>
            <a:xfrm>
              <a:off x="2143080" y="1500120"/>
              <a:ext cx="492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7375e"/>
                  </a:solidFill>
                  <a:latin typeface="Arial"/>
                </a:rPr>
                <a:t>Изменение влажности воздуха в ма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6" name="Picture 7" descr="http://www.lenagold.ru/fon/clipart/z/zont/zont47.jpg"/>
          <p:cNvPicPr/>
          <p:nvPr/>
        </p:nvPicPr>
        <p:blipFill>
          <a:blip r:embed="rId3"/>
          <a:stretch/>
        </p:blipFill>
        <p:spPr>
          <a:xfrm>
            <a:off x="6715080" y="4214880"/>
            <a:ext cx="2428920" cy="25718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6"/>
          <p:cNvSpPr/>
          <p:nvPr/>
        </p:nvSpPr>
        <p:spPr>
          <a:xfrm>
            <a:off x="928800" y="5500800"/>
            <a:ext cx="528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В какой из дней давление было максимальны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Давайте обсуд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Овал 5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Группа 8" descr=""/>
          <p:cNvPicPr/>
          <p:nvPr/>
        </p:nvPicPr>
        <p:blipFill>
          <a:blip r:embed="rId2"/>
          <a:stretch/>
        </p:blipFill>
        <p:spPr>
          <a:xfrm>
            <a:off x="523800" y="1163520"/>
            <a:ext cx="8126640" cy="4110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7" descr="http://darsonvalizdorovie.ru/wp-content/uploads/2012/13/Barometr_Kruzenshtern_Paduja_RST_07060.jpg"/>
          <p:cNvPicPr/>
          <p:nvPr/>
        </p:nvPicPr>
        <p:blipFill>
          <a:blip r:embed="rId3"/>
          <a:stretch/>
        </p:blipFill>
        <p:spPr>
          <a:xfrm>
            <a:off x="6523200" y="4238640"/>
            <a:ext cx="2600280" cy="26002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Sergei</cp:lastModifiedBy>
  <dcterms:modified xsi:type="dcterms:W3CDTF">2013-09-04T09:33:48Z</dcterms:modified>
  <cp:revision>29</cp:revision>
  <dc:subject/>
  <dc:title>Презентация PowerPoint</dc:title>
</cp:coreProperties>
</file>