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1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3978-19BD-4A70-8367-B974733046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1F0-B5FC-48FB-9558-94E3F487FE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2C0-27F0-4629-A6E4-01F366C4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2EB-712A-4A11-A044-80CC792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C280-71D1-4518-8611-C2C3145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45F8-FA82-479A-8076-6072727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AC45F-5495-44E4-81DB-8C6CC0F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6997-26FE-4C98-9586-780B810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E090-592A-4A72-A552-984F897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39EF-8785-4351-BF40-E9D0679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8D2A-4523-420F-9F39-ABDD586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C2FF-8F85-4222-AD40-539E3816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D1F7-D1E5-4356-9C26-488E0280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331D-FEEE-44D7-A500-4B7265EF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1E2-1EDE-4654-8B14-9D07490F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51018-707E-4B5E-96A9-AF50EFE9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06C4-3EA7-42F1-8B08-3B01728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6482-BFF5-426E-84B4-3A47D56E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3B186-E1F8-4A5B-847E-7B75F90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7D60-4A1E-4872-89BB-8569BDB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E0F4-0571-44F5-B88E-E017122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E1A1-A485-4CB7-8857-35EA347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C42A-CB8C-4F6D-9793-5668A93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5ED17-2A28-42F4-A5ED-7EFD87C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C048-6A0B-48E4-BECE-0F4CE5B9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2BC-29AE-4041-8F1A-5AB2F05C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8522-C227-48F4-A797-653F6864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9504-7068-49EA-8960-1B9F6918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8853-4A0E-48E7-85CA-AAE0680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497F-72C5-4FD9-B5F5-FCC9349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69C8-32CD-47F7-AC20-CC20B556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D1B5-B5FB-4B94-9F81-8E8898A6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E54B-A25F-4145-856F-8063B697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F0AC-8F0A-4921-93AE-6F4A5FF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6EA-BA7F-4FE5-85F9-0E2BB29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724-CADF-452D-84C5-E8CB26D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66B-04F0-419E-825E-5DD4F80E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783-B603-4638-A34E-784EB25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7B57-ABA6-4DEF-9C1A-E9868D5E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48E-232A-4796-8D2D-3A748674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FB93-1A71-4016-ADD3-3510A00C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301C-569A-452A-9B02-27E2DCBC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2F45-7920-4EB6-9960-EE1B1197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552E-FC0F-4BF2-9D17-C3A1D62C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1819-7CF0-4101-B6BD-8DE30AD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999-F91F-4510-9521-B8B7DFF6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2981-63C9-4A73-8179-03865AEB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057E-D17C-40CA-A382-F4CC4F4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5023-1D1F-438D-AF0E-34DFCCA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7D38-F2B2-42C4-B042-DAA552C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66B5-3E98-4020-9106-297D36B7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5AF4-D94D-4E68-9C47-43A6C5F2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D20E-03FA-4CF6-858C-D0F7B287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C9CE-DEBD-4377-B88E-9D94B7DD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1E49-DE3F-4B71-A6CD-1F5F611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372E-9949-4EEA-9D1A-4A484DA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0BD-6C4C-4252-B8D8-D18658D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0913-97AB-45F5-89FE-FCE27E5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DD85-B07B-4A9F-B829-2961F9CF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A075-549A-4BE3-A1C9-82B8E22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EEE5-F55A-42AF-BC29-466541D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23EF-251F-417F-9533-0EC7A23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F9D1-1E69-487F-8F21-FD4F7A3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1348-0935-4219-8821-8B259F4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B19F-DF35-4472-AE14-0F33086D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E393-6DDC-4989-BAFC-1D5C9081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AE6F-788D-4EA7-A796-6B35452E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EA3-A3DE-4BA2-8202-9DA9324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BE64-2190-4F81-96F0-362CD0C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FC4E-94EF-449C-91BF-2B3D80BD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B2CD-4667-4A97-A098-2849F27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3B00A-C29E-46B7-BEA2-2464C40E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5497-914D-4E27-9C70-53573B0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7717-02B1-4A46-B1F4-9616657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3D6B-9E90-4305-9641-10B782C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101D-5847-4607-A844-18FC907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B4C8-63C1-467E-B589-3C784EE7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542F-9510-4F0C-97C5-7103E01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C15-94D1-42F5-9EC6-1771828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00C7-2FBA-409C-AE3D-1046FB56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938-52C4-4370-9F82-BBD9BF5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E6A-7728-41BE-B0DA-958B4B6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7EA3-1208-4A47-9773-7D18D45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835E-8C99-4BE5-856D-6D87182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6294B-7A2B-4FD7-B482-3828173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E43B-CA46-4F9C-B397-DEF3E7DD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72C44-C019-49D7-8FDA-A79C072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296-28B4-4759-9BFD-E6D80F2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52DD-EA2D-4B89-8379-690D470D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56E72-3CA8-4710-8814-9181592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1D56-1AAC-4091-BF39-9E3D22C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A33EA-8811-4478-8169-1BD3A2E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FF55-C96C-4EE8-9543-3C58AD2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1E46-D019-4B5F-94F2-29D11A92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F94D-0FBF-4ABB-B373-91376C93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8D87-DA30-4947-B3D8-FD5B2E65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B288-8793-404C-9A85-E8C424C9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9CB65-8001-4C45-8398-8A055F4E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FF30-8E50-4382-932B-55A056EBAC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58B-89EA-42F1-AF46-0507F9C54F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08F-5521-4C28-A7D0-FB041DB4B7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6224-849F-479C-9655-D16623C6BC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0FC-9F6C-4433-BF7B-94CDE9EC5C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AD3-444E-4126-8BF9-B75B262A1A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AB2-DDF8-406B-B177-EF4E20A88E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611-F3BB-42DC-AC49-6DAE676C72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2"/>
          <p:cNvSpPr/>
          <p:nvPr/>
        </p:nvSpPr>
        <p:spPr>
          <a:xfrm>
            <a:off x="4214880" y="414324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чем нужны графики и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цессов изменения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о соотношении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24000" y="2420640"/>
            <a:ext cx="67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АФИКИ 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3"/>
          <p:cNvSpPr/>
          <p:nvPr/>
        </p:nvSpPr>
        <p:spPr>
          <a:xfrm>
            <a:off x="571680" y="1371600"/>
            <a:ext cx="82864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Диаграмма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 - графическое изображение, дающее наглядное представление о соотношении нескольких величин или нескольких значений од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1116000" y="0"/>
            <a:ext cx="741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71680" y="4929120"/>
            <a:ext cx="385740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Круговая диаграмм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лужит для сравнения нескольких величин в одной т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4714920" y="4929120"/>
            <a:ext cx="41432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Столбчатые диаграммы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зволяют сравнивать несколько величин в нескольких 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642960" y="71280"/>
            <a:ext cx="80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http://abali.ru/wp-content/uploads/2011/10/pie-chart-600x614.png"/>
          <p:cNvPicPr/>
          <p:nvPr/>
        </p:nvPicPr>
        <p:blipFill>
          <a:blip r:embed="rId2"/>
          <a:stretch/>
        </p:blipFill>
        <p:spPr>
          <a:xfrm>
            <a:off x="1500120" y="2643120"/>
            <a:ext cx="2171880" cy="2220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http://gis-lab.info/images/screenshots/20100826-8d0-27kb.jpg"/>
          <p:cNvPicPr/>
          <p:nvPr/>
        </p:nvPicPr>
        <p:blipFill>
          <a:blip r:embed="rId3"/>
          <a:stretch/>
        </p:blipFill>
        <p:spPr>
          <a:xfrm>
            <a:off x="4570560" y="2643120"/>
            <a:ext cx="4287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Группа 13"/>
          <p:cNvGrpSpPr/>
          <p:nvPr/>
        </p:nvGrpSpPr>
        <p:grpSpPr>
          <a:xfrm>
            <a:off x="500040" y="928800"/>
            <a:ext cx="5286240" cy="2857320"/>
            <a:chOff x="500040" y="928800"/>
            <a:chExt cx="5286240" cy="2857320"/>
          </a:xfrm>
        </p:grpSpPr>
        <p:pic>
          <p:nvPicPr>
            <p:cNvPr id="482" name="Picture 4" descr=""/>
            <p:cNvPicPr/>
            <p:nvPr/>
          </p:nvPicPr>
          <p:blipFill>
            <a:blip r:embed="rId2"/>
            <a:stretch/>
          </p:blipFill>
          <p:spPr>
            <a:xfrm>
              <a:off x="500040" y="928800"/>
              <a:ext cx="5286240" cy="285732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3" name="TextBox 12"/>
            <p:cNvSpPr/>
            <p:nvPr/>
          </p:nvSpPr>
          <p:spPr>
            <a:xfrm>
              <a:off x="766800" y="1005840"/>
              <a:ext cx="48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Группа 16"/>
          <p:cNvGrpSpPr/>
          <p:nvPr/>
        </p:nvGrpSpPr>
        <p:grpSpPr>
          <a:xfrm>
            <a:off x="3286080" y="3571920"/>
            <a:ext cx="5357880" cy="3071880"/>
            <a:chOff x="3286080" y="3571920"/>
            <a:chExt cx="5357880" cy="3071880"/>
          </a:xfrm>
        </p:grpSpPr>
        <p:pic>
          <p:nvPicPr>
            <p:cNvPr id="485" name="Picture 6" descr=""/>
            <p:cNvPicPr/>
            <p:nvPr/>
          </p:nvPicPr>
          <p:blipFill>
            <a:blip r:embed="rId3"/>
            <a:stretch/>
          </p:blipFill>
          <p:spPr>
            <a:xfrm>
              <a:off x="3286080" y="3571920"/>
              <a:ext cx="5357880" cy="307188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6" name="TextBox 11"/>
            <p:cNvSpPr/>
            <p:nvPr/>
          </p:nvSpPr>
          <p:spPr>
            <a:xfrm>
              <a:off x="3821760" y="3637080"/>
              <a:ext cx="443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14" descr="http://images.all-free-download.com/images/graphiclarge/rain_cloud_clip_art_1746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604960" cy="2212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http://static.freepik.com/free-photo/cloud_17-1112151440.jpg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1849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6" descr="http://static.freepik.com/free-photo/cloud_17-1112151440.jpg"/>
          <p:cNvPicPr/>
          <p:nvPr/>
        </p:nvPicPr>
        <p:blipFill>
          <a:blip r:embed="rId6"/>
          <a:stretch/>
        </p:blipFill>
        <p:spPr>
          <a:xfrm>
            <a:off x="1071720" y="5072040"/>
            <a:ext cx="235728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4"/>
          <p:cNvSpPr/>
          <p:nvPr/>
        </p:nvSpPr>
        <p:spPr>
          <a:xfrm>
            <a:off x="500040" y="1285920"/>
            <a:ext cx="82868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Лепестковая диаграмма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для каждой точки ряда данных предусмотрена своя 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Группа 12"/>
          <p:cNvGrpSpPr/>
          <p:nvPr/>
        </p:nvGrpSpPr>
        <p:grpSpPr>
          <a:xfrm>
            <a:off x="2071800" y="2357280"/>
            <a:ext cx="4357440" cy="4003920"/>
            <a:chOff x="2071800" y="2357280"/>
            <a:chExt cx="4357440" cy="4003920"/>
          </a:xfrm>
        </p:grpSpPr>
        <p:pic>
          <p:nvPicPr>
            <p:cNvPr id="493" name="Picture 3" descr=""/>
            <p:cNvPicPr/>
            <p:nvPr/>
          </p:nvPicPr>
          <p:blipFill>
            <a:blip r:embed="rId2"/>
            <a:stretch/>
          </p:blipFill>
          <p:spPr>
            <a:xfrm>
              <a:off x="2071800" y="2888640"/>
              <a:ext cx="4357440" cy="347256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94" name="TextBox 6"/>
            <p:cNvSpPr/>
            <p:nvPr/>
          </p:nvSpPr>
          <p:spPr>
            <a:xfrm>
              <a:off x="2426040" y="2357280"/>
              <a:ext cx="36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Роза вет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5" descr="http://gooselakeweather.com/wp/wp-content/uploads/2008/12/wind.gif"/>
          <p:cNvPicPr/>
          <p:nvPr/>
        </p:nvPicPr>
        <p:blipFill>
          <a:blip r:embed="rId3"/>
          <a:stretch/>
        </p:blipFill>
        <p:spPr>
          <a:xfrm>
            <a:off x="6089760" y="2214720"/>
            <a:ext cx="2840040" cy="2071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http://scuolefuoridise.cervia.com/Tagliata%202004/scienze%202004due/scienze%202004due/SFONDO_VENTO.gif"/>
          <p:cNvPicPr/>
          <p:nvPr/>
        </p:nvPicPr>
        <p:blipFill>
          <a:blip r:embed="rId4"/>
          <a:stretch/>
        </p:blipFill>
        <p:spPr>
          <a:xfrm>
            <a:off x="285840" y="4857840"/>
            <a:ext cx="239220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28800" y="70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изуализация многорядных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Группа 5" descr=""/>
          <p:cNvPicPr/>
          <p:nvPr/>
        </p:nvPicPr>
        <p:blipFill>
          <a:blip r:embed="rId2"/>
          <a:stretch/>
        </p:blipFill>
        <p:spPr>
          <a:xfrm>
            <a:off x="914400" y="1596960"/>
            <a:ext cx="7040520" cy="3335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3"/>
          <a:stretch/>
        </p:blipFill>
        <p:spPr>
          <a:xfrm>
            <a:off x="6272280" y="3805200"/>
            <a:ext cx="2871720" cy="298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нформационной модели зависит от цели создания этой мо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графическое изображение, дающее наглядное представление о соотношении нескольких величин или нескольких значениях одной величины, об изменении их зна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иния, дающая наглядное представление о характере зависимости одной величины от друг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озволяют сравнивать значения величин. Круговая диаграмма полезна, если величины в сумме составляют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графиков и диаграмм можно визуализировать большие объёмы однотипной таблич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изуализации происходит потеря точност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785880" y="1268280"/>
            <a:ext cx="77724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могут быть визуализированы большие объемы однотипной табличной информ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чего можно наглядно представить процесс изменения велич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еспечивает наглядное представление о соотношении велич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пределяется выбор того или иного типа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используют круговые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ожет быть потеряно при визуализаци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571760" y="981000"/>
            <a:ext cx="69609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гов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лбчат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пестковая  диаграм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Группа 16"/>
          <p:cNvGrpSpPr/>
          <p:nvPr/>
        </p:nvGrpSpPr>
        <p:grpSpPr>
          <a:xfrm>
            <a:off x="857160" y="1643040"/>
            <a:ext cx="7929720" cy="5072040"/>
            <a:chOff x="857160" y="1643040"/>
            <a:chExt cx="7929720" cy="5072040"/>
          </a:xfrm>
        </p:grpSpPr>
        <p:pic>
          <p:nvPicPr>
            <p:cNvPr id="424" name="Picture 14 серый" descr="http://djangin.dagschool.com/_http_schools/1727/Djangin/admin/ckfinder/core/connector/php/connector.phpfck_user_files/images/map.png"/>
            <p:cNvPicPr/>
            <p:nvPr/>
          </p:nvPicPr>
          <p:blipFill>
            <a:blip r:embed="rId2"/>
            <a:stretch/>
          </p:blipFill>
          <p:spPr>
            <a:xfrm>
              <a:off x="883800" y="1643040"/>
              <a:ext cx="7845840" cy="46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2" descr="http://www.tolgas.ru/site/upload/iis_abit_people.jpg"/>
            <p:cNvPicPr/>
            <p:nvPr/>
          </p:nvPicPr>
          <p:blipFill>
            <a:blip r:embed="rId3"/>
            <a:stretch/>
          </p:blipFill>
          <p:spPr>
            <a:xfrm>
              <a:off x="2195280" y="2814480"/>
              <a:ext cx="5290920" cy="35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8" descr="http://komandorcamp.ru/assets/images/81266624ef02%281%29.png"/>
            <p:cNvPicPr/>
            <p:nvPr/>
          </p:nvPicPr>
          <p:blipFill>
            <a:blip r:embed="rId4"/>
            <a:stretch/>
          </p:blipFill>
          <p:spPr>
            <a:xfrm>
              <a:off x="857160" y="4547160"/>
              <a:ext cx="2991960" cy="21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2" descr="http://www.gcdev.fr/photo/art/grande/2642309-3730030.jpg"/>
            <p:cNvPicPr/>
            <p:nvPr/>
          </p:nvPicPr>
          <p:blipFill>
            <a:blip r:embed="rId5"/>
            <a:stretch/>
          </p:blipFill>
          <p:spPr>
            <a:xfrm>
              <a:off x="6178680" y="4114080"/>
              <a:ext cx="2608200" cy="260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ачем нужны графики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71600" y="1414440"/>
            <a:ext cx="8101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вы готовитесь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 школьной географической конференци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57120" y="2001960"/>
          <a:ext cx="8663040" cy="4356000"/>
        </p:xfrm>
        <a:graphic>
          <a:graphicData uri="http://schemas.openxmlformats.org/drawingml/2006/table">
            <a:tbl>
              <a:tblPr/>
              <a:tblGrid>
                <a:gridCol w="798480"/>
                <a:gridCol w="987480"/>
                <a:gridCol w="133560"/>
                <a:gridCol w="1223640"/>
                <a:gridCol w="117720"/>
                <a:gridCol w="954000"/>
                <a:gridCol w="125280"/>
                <a:gridCol w="946440"/>
                <a:gridCol w="134640"/>
                <a:gridCol w="920880"/>
                <a:gridCol w="1122480"/>
                <a:gridCol w="115920"/>
                <a:gridCol w="1082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емпе-ратура,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º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лаж-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вле-ние,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е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бла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прав-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Град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корость,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0-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1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1" name="Text Box 305"/>
          <p:cNvSpPr/>
          <p:nvPr/>
        </p:nvSpPr>
        <p:spPr>
          <a:xfrm>
            <a:off x="5000760" y="1501920"/>
            <a:ext cx="38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года в ма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14"/>
          <p:cNvSpPr/>
          <p:nvPr/>
        </p:nvSpPr>
        <p:spPr>
          <a:xfrm>
            <a:off x="1285920" y="0"/>
            <a:ext cx="73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 следующая информ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http://www.clker.com/cliparts/5/3/6/7/13175668441887850802stubby_pencil-md.png"/>
          <p:cNvPicPr/>
          <p:nvPr/>
        </p:nvPicPr>
        <p:blipFill>
          <a:blip r:embed="rId2"/>
          <a:stretch/>
        </p:blipFill>
        <p:spPr>
          <a:xfrm>
            <a:off x="7429680" y="507204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142920"/>
            <a:ext cx="7290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57160" y="1285920"/>
            <a:ext cx="5143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в большом колич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точ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пол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достов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078440" y="4573800"/>
            <a:ext cx="1095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500040" y="5429160"/>
            <a:ext cx="84297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в табличном виде она трудно восприним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6"/>
          <p:cNvSpPr/>
          <p:nvPr/>
        </p:nvSpPr>
        <p:spPr>
          <a:xfrm>
            <a:off x="50004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5"/>
          <p:cNvGrpSpPr/>
          <p:nvPr/>
        </p:nvGrpSpPr>
        <p:grpSpPr>
          <a:xfrm>
            <a:off x="5429160" y="857160"/>
            <a:ext cx="3548160" cy="4357800"/>
            <a:chOff x="5429160" y="857160"/>
            <a:chExt cx="3548160" cy="4357800"/>
          </a:xfrm>
        </p:grpSpPr>
        <p:pic>
          <p:nvPicPr>
            <p:cNvPr id="440" name="Picture 6" descr="http://trio-studio.ru/wp-content/uploads/2012/07/1228428520667582858sivvus_weather_symbols_4.svg_.hi_.png"/>
            <p:cNvPicPr/>
            <p:nvPr/>
          </p:nvPicPr>
          <p:blipFill>
            <a:blip r:embed="rId3"/>
            <a:stretch/>
          </p:blipFill>
          <p:spPr>
            <a:xfrm>
              <a:off x="5429160" y="2286000"/>
              <a:ext cx="2133720" cy="18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" descr="http://img-fotki.yandex.ru/get/6608/121620033.a5/0_7f1ef_e79b2630_XL"/>
            <p:cNvPicPr/>
            <p:nvPr/>
          </p:nvPicPr>
          <p:blipFill>
            <a:blip r:embed="rId4"/>
            <a:stretch/>
          </p:blipFill>
          <p:spPr>
            <a:xfrm>
              <a:off x="6357960" y="857160"/>
              <a:ext cx="261936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6" descr="http://openclipart.org/image/800px/svg_to_png/4830/mozart_ar_wind_rose_compas.png"/>
            <p:cNvPicPr/>
            <p:nvPr/>
          </p:nvPicPr>
          <p:blipFill>
            <a:blip r:embed="rId5"/>
            <a:stretch/>
          </p:blipFill>
          <p:spPr>
            <a:xfrm>
              <a:off x="6786360" y="3500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9"/>
          <p:cNvSpPr/>
          <p:nvPr/>
        </p:nvSpPr>
        <p:spPr>
          <a:xfrm>
            <a:off x="2411280" y="3440160"/>
            <a:ext cx="4392720" cy="1560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560600"/>
              <a:gd name="textAreaBottom" fmla="*/ 1560960 h 1560600"/>
            </a:gdLst>
            <a:ahLst/>
            <a:rect l="textAreaLeft" t="textAreaTop" r="textAreaRight" b="textAreaBottom"/>
            <a:pathLst>
              <a:path w="2767" h="983">
                <a:moveTo>
                  <a:pt x="0" y="983"/>
                </a:moveTo>
                <a:cubicBezTo>
                  <a:pt x="159" y="782"/>
                  <a:pt x="318" y="582"/>
                  <a:pt x="454" y="529"/>
                </a:cubicBezTo>
                <a:cubicBezTo>
                  <a:pt x="590" y="476"/>
                  <a:pt x="689" y="695"/>
                  <a:pt x="817" y="665"/>
                </a:cubicBezTo>
                <a:cubicBezTo>
                  <a:pt x="945" y="635"/>
                  <a:pt x="1097" y="378"/>
                  <a:pt x="1225" y="348"/>
                </a:cubicBezTo>
                <a:cubicBezTo>
                  <a:pt x="1353" y="318"/>
                  <a:pt x="1437" y="529"/>
                  <a:pt x="1588" y="484"/>
                </a:cubicBezTo>
                <a:cubicBezTo>
                  <a:pt x="1739" y="439"/>
                  <a:pt x="1936" y="152"/>
                  <a:pt x="2132" y="76"/>
                </a:cubicBezTo>
                <a:cubicBezTo>
                  <a:pt x="2328" y="0"/>
                  <a:pt x="2661" y="38"/>
                  <a:pt x="2767" y="30"/>
                </a:cubicBezTo>
              </a:path>
            </a:pathLst>
          </a:cu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00040" y="1357200"/>
            <a:ext cx="8345520" cy="1779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График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линия, дающая наглядное представлен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 характере зависимости какой-либо величины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т другой. График позволяет отслеживать динамику измене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948360" y="4726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1692360" y="32716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1763640" y="46544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1640" y="54324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не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82560" y="41371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 flipV="1">
            <a:off x="2411280" y="3344400"/>
            <a:ext cx="0" cy="2087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519120" y="5857920"/>
            <a:ext cx="83390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Значения зависимой величины изображаются: в виде кривых; в виде точек; в виде кривых и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948360" y="52880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1763640" y="52164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2417760" y="5410080"/>
            <a:ext cx="4608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6"/>
          <p:cNvSpPr/>
          <p:nvPr/>
        </p:nvSpPr>
        <p:spPr>
          <a:xfrm>
            <a:off x="571680" y="1428840"/>
            <a:ext cx="8286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данным таблицы можно построить следующие 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2928960" y="2214720"/>
            <a:ext cx="5929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температуры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влажности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атмосферн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Группа 9" descr=""/>
          <p:cNvPicPr/>
          <p:nvPr/>
        </p:nvPicPr>
        <p:blipFill>
          <a:blip r:embed="rId2"/>
          <a:stretch/>
        </p:blipFill>
        <p:spPr>
          <a:xfrm>
            <a:off x="665280" y="3376440"/>
            <a:ext cx="6778440" cy="3488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6"/>
          <p:cNvSpPr/>
          <p:nvPr/>
        </p:nvSpPr>
        <p:spPr>
          <a:xfrm>
            <a:off x="928800" y="5214960"/>
            <a:ext cx="515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азовите дни с самой высокой влаж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Группа 12"/>
          <p:cNvGrpSpPr/>
          <p:nvPr/>
        </p:nvGrpSpPr>
        <p:grpSpPr>
          <a:xfrm>
            <a:off x="571680" y="1285920"/>
            <a:ext cx="7905600" cy="3591000"/>
            <a:chOff x="571680" y="1285920"/>
            <a:chExt cx="7905600" cy="359100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571680" y="1285920"/>
              <a:ext cx="7905600" cy="359100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65" name="TextBox 9"/>
            <p:cNvSpPr/>
            <p:nvPr/>
          </p:nvSpPr>
          <p:spPr>
            <a:xfrm>
              <a:off x="2143080" y="1500120"/>
              <a:ext cx="49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зменение влажности воздуха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7" descr="http://www.lenagold.ru/fon/clipart/z/zont/zont47.jpg"/>
          <p:cNvPicPr/>
          <p:nvPr/>
        </p:nvPicPr>
        <p:blipFill>
          <a:blip r:embed="rId3"/>
          <a:stretch/>
        </p:blipFill>
        <p:spPr>
          <a:xfrm>
            <a:off x="6715080" y="421488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"/>
          <p:cNvSpPr/>
          <p:nvPr/>
        </p:nvSpPr>
        <p:spPr>
          <a:xfrm>
            <a:off x="928800" y="550080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 какой из дней давление было максима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Группа 8" descr=""/>
          <p:cNvPicPr/>
          <p:nvPr/>
        </p:nvPicPr>
        <p:blipFill>
          <a:blip r:embed="rId2"/>
          <a:stretch/>
        </p:blipFill>
        <p:spPr>
          <a:xfrm>
            <a:off x="523800" y="1163520"/>
            <a:ext cx="8126640" cy="4110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darsonvalizdorovie.ru/wp-content/uploads/2012/13/Barometr_Kruzenshtern_Paduja_RST_07060.jpg"/>
          <p:cNvPicPr/>
          <p:nvPr/>
        </p:nvPicPr>
        <p:blipFill>
          <a:blip r:embed="rId3"/>
          <a:stretch/>
        </p:blipFill>
        <p:spPr>
          <a:xfrm>
            <a:off x="6523200" y="4238640"/>
            <a:ext cx="26002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3:48Z</dcterms:modified>
  <cp:revision>29</cp:revision>
  <dc:subject/>
  <dc:title>Презентация PowerPoint</dc:title>
</cp:coreProperties>
</file>