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3B4F-2C08-468B-9A24-DB908C0B1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A6C1-1E0E-4DEF-801E-D6F4755C7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1543-4E73-47C9-B4FF-F3B5E857F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6FEB-BC8E-47DC-97D1-2828F8512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79FC-F8BD-4206-A637-B6F48F67B8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1619-7BB0-4640-9CE4-C048DCB68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5B09-8FA7-432A-8511-4774D2FE3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4351-9B5D-4209-9FE8-E6206A927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9280" y="414000"/>
            <a:ext cx="878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BB67-AD22-41DC-BD5E-69F7342CB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D6E6-8D8B-438C-BFA9-AB6F5A1BC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7A62-C3D2-4A7E-8CE9-80E518F29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A5C1-6309-4B93-B793-559B7B938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036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077D-42D1-4EFB-866B-C26248D24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3989-586F-4267-B0D5-BF68F3C8B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ереправа-переправа …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Picture 139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45" descr="j0232520"/>
          <p:cNvPicPr/>
          <p:nvPr/>
        </p:nvPicPr>
        <p:blipFill>
          <a:blip r:embed="rId3"/>
          <a:stretch/>
        </p:blipFill>
        <p:spPr>
          <a:xfrm>
            <a:off x="2771640" y="2781360"/>
            <a:ext cx="30877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533-27DC-48DB-AA1C-436EFF0D4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17002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1876320" y="723960"/>
            <a:ext cx="5656320" cy="5124240"/>
          </a:xfrm>
          <a:prstGeom prst="foldedCorner">
            <a:avLst>
              <a:gd name="adj" fmla="val 125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116000" y="549360"/>
            <a:ext cx="68389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7480" indent="-14400"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Алгорит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Мир» влево-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Обь» и «Восток»  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Мир» влево-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Обь» и «Восток» вле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Енисей»влево-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Обь» и «Восток» 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7480" indent="-14400">
              <a:spcBef>
                <a:spcPts val="174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«Енисей» влево-ввер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4356000" y="5950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299-1B6A-42E3-8CD9-9D22C0112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омашняя работа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узком и очень длинном желобе находятся 8 шариков, четыре синих слева и четыре красных чуть-чуть большего диаметра справа. В средней части желоба в стенке имеется небольшая ниша, в  которой может поместиться   один синий или один красный шарик. Два  любых шарика  могут расположиться рядом поперек желоба только в том месте, где находиться ниша. Левый конец желоба закрыт, а в правом конце есть  отверстие, через которое может пройти синий шарик, но не может пройти красный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ынимать шарики из желоба не разрешается. Как выкатить из желоба все синие шарики?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1116000" y="5373720"/>
            <a:ext cx="6478560" cy="100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/>
          <p:cNvSpPr/>
          <p:nvPr/>
        </p:nvSpPr>
        <p:spPr>
          <a:xfrm>
            <a:off x="7885080" y="5877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26DA-CC11-44CB-A49B-E1A5B7878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560" y="4042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"/>
              </a:rPr>
              <a:t>Задача</a:t>
            </a:r>
            <a:endParaRPr b="1" lang="en-US" sz="4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9240" y="1341360"/>
            <a:ext cx="8497800" cy="3672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 каналу  один  за  другим  идут  теплоходы «Обь»   и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Восток». Навстречу идут один за другим теплоходы «Мир» и «Енисей». Канал такой ширины, что два теплохода  в нём разойтись не могут. Но  с одной стороны канал имеет  расширение, в котором может поместиться один теплоход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 можно теплоходам разойтись и продолжить свой путь?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18640" y="6237360"/>
            <a:ext cx="863280" cy="37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4"/>
          <a:stretch/>
        </p:blipFill>
        <p:spPr>
          <a:xfrm>
            <a:off x="1116000" y="5157720"/>
            <a:ext cx="71294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3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81C8-BE16-4239-A61E-08C025143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дсказка (перемещение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дсказка (алгоритм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шение (перемещение) 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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шение (алгоритм)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66"/>
                </a:solidFill>
                <a:latin typeface="Wingdings"/>
                <a:ea typeface="Wingdings"/>
              </a:rPr>
              <a:t>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6462-A149-49E3-A13D-9D4B50E8F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066160" cy="1873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9" descr="j0287337"/>
          <p:cNvPicPr/>
          <p:nvPr/>
        </p:nvPicPr>
        <p:blipFill>
          <a:blip r:embed="rId3"/>
          <a:stretch/>
        </p:blipFill>
        <p:spPr>
          <a:xfrm>
            <a:off x="6012000" y="69228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j0287337"/>
          <p:cNvPicPr/>
          <p:nvPr/>
        </p:nvPicPr>
        <p:blipFill>
          <a:blip r:embed="rId4"/>
          <a:stretch/>
        </p:blipFill>
        <p:spPr>
          <a:xfrm flipH="1">
            <a:off x="1136520" y="809640"/>
            <a:ext cx="914400" cy="8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9963E-006 C -0.02465 0.0037 -0.04774 0.01109 -0.07153 0.01918 C -0.08212 0.02264 -0.10295 0.0305 -0.10295 0.0305 C -0.12136 0.04274 -0.11024 0.03674 -0.13715 0.04575 C -0.14306 0.0476 -0.15434 0.05337 -0.15434 0.05337 C -0.15799 0.07255 -0.15608 0.07648 -0.16858 0.08757 C -0.17396 0.12223 -0.16892 0.09311 -0.17431 0.11807 C -0.17535 0.12315 -0.17483 0.12916 -0.17726 0.13309 C -0.17917 0.13609 -0.18281 0.13609 -0.18577 0.13701 C -0.19149 0.13863 -0.20295 0.14071 -0.20295 0.14071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84 0.02033 C 0.0743 0.02542 0.08559 0.0305 0.09704 0.03558 C 0.1 0.03697 0.10277 0.03789 0.10572 0.03928 C 0.1085 0.04043 0.11423 0.04321 0.11423 0.04321 C 0.13246 0.03951 0.16059 0.02056 0.17708 0.02033 C 0.25138 0.01895 0.32569 0.01779 0.4 0.0164 C 0.42829 0.00901 0.45711 0.02033 0.48576 0.02033 E">
                                      <p:cBhvr>
                                        <p:cTn id="1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E60-FFBE-4CB7-858E-ED93B08F8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8066160" cy="1873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j0287337"/>
          <p:cNvPicPr/>
          <p:nvPr/>
        </p:nvPicPr>
        <p:blipFill>
          <a:blip r:embed="rId3"/>
          <a:stretch/>
        </p:blipFill>
        <p:spPr>
          <a:xfrm>
            <a:off x="4162320" y="162864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j0287337"/>
          <p:cNvPicPr/>
          <p:nvPr/>
        </p:nvPicPr>
        <p:blipFill>
          <a:blip r:embed="rId4"/>
          <a:stretch/>
        </p:blipFill>
        <p:spPr>
          <a:xfrm flipH="1">
            <a:off x="5602320" y="954000"/>
            <a:ext cx="914400" cy="8193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5"/>
          <p:cNvSpPr/>
          <p:nvPr/>
        </p:nvSpPr>
        <p:spPr>
          <a:xfrm>
            <a:off x="4140360" y="580536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11981" y="3837"/>
                </a:moveTo>
                <a:lnTo>
                  <a:pt x="14558" y="6448"/>
                </a:ln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lnTo>
                  <a:pt x="18944" y="10800"/>
                </a:lnTo>
                <a:lnTo>
                  <a:pt x="17291" y="10800"/>
                </a:lnTo>
                <a:lnTo>
                  <a:pt x="17291" y="17989"/>
                </a:lnTo>
                <a:lnTo>
                  <a:pt x="6672" y="17989"/>
                </a:lnTo>
                <a:lnTo>
                  <a:pt x="6672" y="10800"/>
                </a:lnTo>
                <a:lnTo>
                  <a:pt x="5018" y="10800"/>
                </a:lnTo>
                <a:close/>
              </a:path>
              <a:path fill="darkenLess" w="23963" h="21600">
                <a:moveTo>
                  <a:pt x="14558" y="6448"/>
                </a:moveTo>
                <a:lnTo>
                  <a:pt x="14558" y="4707"/>
                </a:lnTo>
                <a:lnTo>
                  <a:pt x="16333" y="4707"/>
                </a:lnTo>
                <a:lnTo>
                  <a:pt x="16333" y="8224"/>
                </a:lnTo>
                <a:close/>
              </a:path>
              <a:path fill="darkenLess" w="23963" h="21600">
                <a:moveTo>
                  <a:pt x="11059" y="14299"/>
                </a:moveTo>
                <a:lnTo>
                  <a:pt x="12904" y="14299"/>
                </a:lnTo>
                <a:lnTo>
                  <a:pt x="12904" y="17989"/>
                </a:lnTo>
                <a:lnTo>
                  <a:pt x="17291" y="17989"/>
                </a:lnTo>
                <a:lnTo>
                  <a:pt x="17291" y="10800"/>
                </a:lnTo>
                <a:lnTo>
                  <a:pt x="6672" y="10800"/>
                </a:lnTo>
                <a:lnTo>
                  <a:pt x="6672" y="17989"/>
                </a:lnTo>
                <a:lnTo>
                  <a:pt x="11059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59 -0.01248 C -0.06597 -0.02704 -0.06493 -0.02889 -0.07482 -0.03905 C -0.08021 -0.0446 -0.09201 -0.0543 -0.09201 -0.0543 C -0.1066 -0.08388 -0.09687 -0.0744 -0.12048 -0.0848 C -0.12326 -0.08596 -0.12621 -0.08734 -0.12899 -0.0885 C -0.13194 -0.08988 -0.13472 -0.09104 -0.13767 -0.09243 C -0.14045 -0.09358 -0.14618 -0.09612 -0.14618 -0.09612 C -0.16805 -0.09497 -0.1901 -0.09566 -0.21198 -0.09243 C -0.23281 -0.08942 -0.21476 -0.08226 -0.23194 -0.08087 C -0.24618 -0.07972 -0.26059 -0.08087 -0.27482 -0.08087 E">
                                      <p:cBhvr>
                                        <p:cTn id="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0869-EF0D-4F66-934B-16871CB2D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971640" y="1268280"/>
            <a:ext cx="6913080" cy="3817800"/>
            <a:chOff x="971640" y="1268280"/>
            <a:chExt cx="6913080" cy="3817800"/>
          </a:xfrm>
        </p:grpSpPr>
        <p:sp>
          <p:nvSpPr>
            <p:cNvPr id="68" name="AutoShape 8"/>
            <p:cNvSpPr/>
            <p:nvPr/>
          </p:nvSpPr>
          <p:spPr>
            <a:xfrm>
              <a:off x="1947240" y="1268280"/>
              <a:ext cx="5205960" cy="3817800"/>
            </a:xfrm>
            <a:prstGeom prst="foldedCorner">
              <a:avLst>
                <a:gd name="adj" fmla="val 125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971640" y="1469520"/>
              <a:ext cx="691308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4240" indent="441360">
                <a:spcBef>
                  <a:spcPts val="2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4000" spc="-1" strike="noStrike">
                  <a:solidFill>
                    <a:srgbClr val="ccecff"/>
                  </a:solidFill>
                  <a:latin typeface="Times New Roman"/>
                </a:rPr>
                <a:t>Алгорит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54240" indent="441360">
                <a:spcBef>
                  <a:spcPts val="2251"/>
                </a:spcBef>
                <a:buClr>
                  <a:srgbClr val="ccecff"/>
                </a:buClr>
                <a:buFont typeface="Times New Roman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ecff"/>
                  </a:solidFill>
                  <a:latin typeface="Times New Roman"/>
                </a:rPr>
                <a:t>«Мир» влево-вни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54240" indent="441360">
                <a:spcBef>
                  <a:spcPts val="2251"/>
                </a:spcBef>
                <a:buClr>
                  <a:srgbClr val="ccecff"/>
                </a:buClr>
                <a:buFont typeface="Times New Roman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ecff"/>
                  </a:solidFill>
                  <a:latin typeface="Times New Roman"/>
                </a:rPr>
                <a:t>«Обь» вправ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54240" indent="441360">
                <a:spcBef>
                  <a:spcPts val="2251"/>
                </a:spcBef>
                <a:buClr>
                  <a:srgbClr val="ccecff"/>
                </a:buClr>
                <a:buFont typeface="Times New Roman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ecff"/>
                  </a:solidFill>
                  <a:latin typeface="Times New Roman"/>
                </a:rPr>
                <a:t>«Мир» влево-ввер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AutoShape 11"/>
          <p:cNvSpPr/>
          <p:nvPr/>
        </p:nvSpPr>
        <p:spPr>
          <a:xfrm>
            <a:off x="4284720" y="5734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f8b58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6A7A-078F-4029-82EA-8EB7ABD7C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-73080" y="907920"/>
            <a:ext cx="9541080" cy="1873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876240" y="185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j0287337"/>
          <p:cNvPicPr/>
          <p:nvPr/>
        </p:nvPicPr>
        <p:blipFill>
          <a:blip r:embed="rId3"/>
          <a:stretch/>
        </p:blipFill>
        <p:spPr>
          <a:xfrm>
            <a:off x="6012000" y="76500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j0287337"/>
          <p:cNvPicPr/>
          <p:nvPr/>
        </p:nvPicPr>
        <p:blipFill>
          <a:blip r:embed="rId4"/>
          <a:stretch/>
        </p:blipFill>
        <p:spPr>
          <a:xfrm flipH="1">
            <a:off x="611280" y="836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j0287337"/>
          <p:cNvPicPr/>
          <p:nvPr/>
        </p:nvPicPr>
        <p:blipFill>
          <a:blip r:embed="rId5"/>
          <a:stretch/>
        </p:blipFill>
        <p:spPr>
          <a:xfrm flipH="1">
            <a:off x="1979640" y="836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j0287337"/>
          <p:cNvPicPr/>
          <p:nvPr/>
        </p:nvPicPr>
        <p:blipFill>
          <a:blip r:embed="rId6"/>
          <a:stretch/>
        </p:blipFill>
        <p:spPr>
          <a:xfrm>
            <a:off x="7329600" y="765000"/>
            <a:ext cx="91440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2 0.03443 C -0.1033 0.04298 -0.13716 0.03859 -0.17032 0.04575 C -0.17414 0.05083 -0.17761 0.05638 -0.18178 0.061 C -0.18438 0.064 -0.18785 0.06539 -0.19028 0.06862 C -0.19757 0.07833 -0.19653 0.09427 -0.20469 0.10282 C -0.2125 0.11114 -0.24167 0.10721 -0.24167 0.12176 E">
                                      <p:cBhvr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3 0.00208 0.0059 0.00624 0.00938 0.00624 C 0.14583 0.00763 0.28212 0.003 0.41858 0.003 E">
                                      <p:cBhvr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3 0.00208 0.0059 0.00624 0.00938 0.00624 C 0.14583 0.00763 0.28212 0.003 0.41858 0.003 E">
                                      <p:cBhvr>
                                        <p:cTn id="3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6962-02D8-4D94-A744-4E312A655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73080" y="836640"/>
            <a:ext cx="9541080" cy="187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99072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j0287337"/>
          <p:cNvPicPr/>
          <p:nvPr/>
        </p:nvPicPr>
        <p:blipFill>
          <a:blip r:embed="rId3"/>
          <a:stretch/>
        </p:blipFill>
        <p:spPr>
          <a:xfrm>
            <a:off x="3780000" y="148428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287337"/>
          <p:cNvPicPr/>
          <p:nvPr/>
        </p:nvPicPr>
        <p:blipFill>
          <a:blip r:embed="rId4"/>
          <a:stretch/>
        </p:blipFill>
        <p:spPr>
          <a:xfrm flipH="1">
            <a:off x="4594320" y="809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j0287337"/>
          <p:cNvPicPr/>
          <p:nvPr/>
        </p:nvPicPr>
        <p:blipFill>
          <a:blip r:embed="rId5"/>
          <a:stretch/>
        </p:blipFill>
        <p:spPr>
          <a:xfrm flipH="1">
            <a:off x="5745240" y="76500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7337"/>
          <p:cNvPicPr/>
          <p:nvPr/>
        </p:nvPicPr>
        <p:blipFill>
          <a:blip r:embed="rId6"/>
          <a:stretch/>
        </p:blipFill>
        <p:spPr>
          <a:xfrm>
            <a:off x="7329600" y="765000"/>
            <a:ext cx="914400" cy="8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72 -0.02773 C -0.0658 -0.05084 -0.0658 -0.04968 -0.07969 -0.06562 C -0.09323 -0.0811 -0.08246 -0.07463 -0.09687 -0.08087 C -0.10781 -0.09058 -0.11528 -0.09266 -0.1283 -0.09612 C -0.13229 -0.09497 -0.13611 -0.09451 -0.13976 -0.09243 C -0.14479 -0.08942 -0.14878 -0.08341 -0.15399 -0.08087 C -0.15937 -0.07833 -0.16545 -0.07833 -0.17118 -0.07718 C -0.2243 -0.04876 -0.2158 -0.06632 -0.31406 -0.06955 C -0.32882 -0.08295 -0.35278 -0.0885 -0.37118 -0.0885 E">
                                      <p:cBhvr>
                                        <p:cTn id="3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031 0.02473 -0.03159 0.00647 -0.19305 0.00948 C -0.21666 0.01965 -0.22691 0.01549 -0.25816 0.01549 E">
                                      <p:cBhvr>
                                        <p:cTn id="4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031 0.02473 -0.03159 0.00647 -0.19305 0.00948 C -0.21666 0.01965 -0.22691 0.01549 -0.25816 0.01549 E">
                                      <p:cBhvr>
                                        <p:cTn id="4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2126 C -0.11059 0.02288 -0.15208 0.01664 -0.20191 0.03975 C -0.20434 0.04275 -0.20607 0.04691 -0.20903 0.04899 C -0.2118 0.05107 -0.21528 0.05084 -0.21823 0.052 C -0.23055 0.05685 -0.24305 0.06032 -0.25555 0.06448 C -0.26666 0.06818 -0.275 0.07834 -0.28576 0.08297 C -0.29323 0.08921 -0.29791 0.09776 -0.30659 0.10146 C -0.31041 0.11601 -0.31423 0.11948 -0.32517 0.12341 C -0.3276 0.12549 -0.32968 0.1278 -0.33229 0.12942 C -0.33455 0.13081 -0.33732 0.13057 -0.33923 0.13265 C -0.34149 0.13497 -0.34166 0.13959 -0.34392 0.1419 C -0.35156 0.14999 -0.35087 0.14005 -0.35087 0.14791 E">
                                      <p:cBhvr>
                                        <p:cTn id="4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2"/>
          <p:cNvSpPr/>
          <p:nvPr/>
        </p:nvSpPr>
        <p:spPr>
          <a:xfrm>
            <a:off x="6804000" y="6597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F384-91BC-452B-94FF-E53794B7B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-73080" y="835200"/>
            <a:ext cx="9541080" cy="1873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332000" y="17002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76240" y="177336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9966"/>
                </a:solidFill>
                <a:latin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j0287337"/>
          <p:cNvPicPr/>
          <p:nvPr/>
        </p:nvPicPr>
        <p:blipFill>
          <a:blip r:embed="rId3"/>
          <a:stretch/>
        </p:blipFill>
        <p:spPr>
          <a:xfrm>
            <a:off x="417600" y="90792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j0287337"/>
          <p:cNvPicPr/>
          <p:nvPr/>
        </p:nvPicPr>
        <p:blipFill>
          <a:blip r:embed="rId4"/>
          <a:stretch/>
        </p:blipFill>
        <p:spPr>
          <a:xfrm flipH="1">
            <a:off x="2217600" y="907920"/>
            <a:ext cx="914400" cy="81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j0287337"/>
          <p:cNvPicPr/>
          <p:nvPr/>
        </p:nvPicPr>
        <p:blipFill>
          <a:blip r:embed="rId5"/>
          <a:stretch/>
        </p:blipFill>
        <p:spPr>
          <a:xfrm flipH="1">
            <a:off x="3225960" y="836640"/>
            <a:ext cx="91440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j0287337"/>
          <p:cNvPicPr/>
          <p:nvPr/>
        </p:nvPicPr>
        <p:blipFill>
          <a:blip r:embed="rId6"/>
          <a:stretch/>
        </p:blipFill>
        <p:spPr>
          <a:xfrm>
            <a:off x="4067280" y="1746360"/>
            <a:ext cx="914400" cy="819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5"/>
          <p:cNvSpPr/>
          <p:nvPr/>
        </p:nvSpPr>
        <p:spPr>
          <a:xfrm>
            <a:off x="4356000" y="602136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7976" y="3837"/>
                </a:moveTo>
                <a:lnTo>
                  <a:pt x="20552" y="6448"/>
                </a:lnTo>
                <a:lnTo>
                  <a:pt x="20552" y="4707"/>
                </a:lnTo>
                <a:lnTo>
                  <a:pt x="22328" y="4707"/>
                </a:lnTo>
                <a:lnTo>
                  <a:pt x="22328" y="8224"/>
                </a:lnTo>
                <a:lnTo>
                  <a:pt x="24939" y="10800"/>
                </a:lnTo>
                <a:lnTo>
                  <a:pt x="23285" y="10800"/>
                </a:lnTo>
                <a:lnTo>
                  <a:pt x="23285" y="17989"/>
                </a:lnTo>
                <a:lnTo>
                  <a:pt x="12667" y="17989"/>
                </a:lnTo>
                <a:lnTo>
                  <a:pt x="12667" y="10800"/>
                </a:lnTo>
                <a:lnTo>
                  <a:pt x="11013" y="10800"/>
                </a:lnTo>
                <a:close/>
              </a:path>
              <a:path fill="darkenLess" w="35952" h="21600">
                <a:moveTo>
                  <a:pt x="20552" y="6448"/>
                </a:moveTo>
                <a:lnTo>
                  <a:pt x="20552" y="4707"/>
                </a:lnTo>
                <a:lnTo>
                  <a:pt x="22328" y="4707"/>
                </a:lnTo>
                <a:lnTo>
                  <a:pt x="22328" y="8224"/>
                </a:lnTo>
                <a:close/>
              </a:path>
              <a:path fill="darkenLess" w="35952" h="21600">
                <a:moveTo>
                  <a:pt x="17053" y="14299"/>
                </a:moveTo>
                <a:lnTo>
                  <a:pt x="18899" y="14299"/>
                </a:lnTo>
                <a:lnTo>
                  <a:pt x="18899" y="17989"/>
                </a:lnTo>
                <a:lnTo>
                  <a:pt x="23285" y="17989"/>
                </a:lnTo>
                <a:lnTo>
                  <a:pt x="23285" y="10800"/>
                </a:lnTo>
                <a:lnTo>
                  <a:pt x="12667" y="10800"/>
                </a:lnTo>
                <a:lnTo>
                  <a:pt x="12667" y="17989"/>
                </a:lnTo>
                <a:lnTo>
                  <a:pt x="17053" y="17989"/>
                </a:lnTo>
                <a:close/>
              </a:path>
            </a:pathLst>
          </a:custGeom>
          <a:solidFill>
            <a:srgbClr val="f8b58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7 -0.00093 C 0.19323 -0.00208 0.29549 0.00878 0.39635 -0.00717 C 0.4066 -0.00878 0.4158 -0.0171 0.42656 -0.01941 C 0.43941 -0.02797 0.43247 -0.02565 0.44757 -0.02565 E">
                                      <p:cBhvr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85 0.00947 C 0.18541 0.00832 0.28767 0.01918 0.38854 0.00323 C 0.39878 0.00162 0.40798 -0.0067 0.41875 -0.00901 C 0.43159 -0.01757 0.42465 -0.01525 0.43975 -0.01525 E">
                                      <p:cBhvr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9126E-006 C -0.01372 -0.02242 -0.03715 -0.03906 -0.06233 -0.05778 C -0.08976 -0.07834 -0.09844 -0.09383 -0.14306 -0.10145 C -0.24653 -0.09822 -0.20938 -0.09845 -0.25469 -0.09845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i</cp:lastModifiedBy>
  <dcterms:modified xsi:type="dcterms:W3CDTF">2013-08-11T19:17:15Z</dcterms:modified>
  <cp:revision>46</cp:revision>
  <dc:subject/>
  <dc:title>PowerPoint Presentation</dc:title>
</cp:coreProperties>
</file>