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8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527-4522-4E91-BF30-D2152091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F87-C628-4605-AE0F-FCF2B0D6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875-8A92-477D-BEFF-BDFCFA11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813-24C3-4CEA-B553-D9E8AC01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811-3E1D-48D9-BFE4-D83F2FA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192-BFE7-4E94-8E2F-9DBEF885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95A-A94B-478E-9726-3499333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184-E161-44AC-9DE0-A61DC57D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C52-1593-4A2C-BCCB-ECC14E03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457-1388-4D30-99F5-2D3EA09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256-815D-4315-904B-A1DE29E6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287-E435-45CA-AAC6-3A0D61BC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19AA-0AB5-4AAB-AE66-E5668E996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НФОРМАЦИЯ И ЕЁ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50920" y="871560"/>
            <a:ext cx="86040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я  для  челове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 это  содержание  сигналов  (сообщения),  которые  он  получает  из  различных 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ы  могут 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прерывн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они принимают  бесконечное  множество  значений  из  некоторого  диапаз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скретны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принимают  конечное  число  значений,  которые  можно  пронуме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 способу  восприятия  человеком  выделяют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уальную,  аудиальную,  обонятельную,  вкусовую,  тактильну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ктивность,  достоверность,  полноту,  актуальность,  полезность и  понятно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ми  информ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 и та же информация  может обладать  разными свойствами для разных 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1008000" y="1449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973080" y="220500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 такое  информация  для  человека?  Перечислите  источники, из  которых  вы  получаете 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042920" y="2313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 примеры  непрерывных  и  дискретных  сиг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042920" y="2313000"/>
            <a:ext cx="7561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 виды информации по способу её восприятия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58920" y="2313000"/>
            <a:ext cx="7561080" cy="32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) Если  вы  собираетесь провести выходной день на природе, то своевременной информацией для вас буд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ведения о погоде в такой же день прошлого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прогноз погоды на выходно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2349360"/>
            <a:ext cx="756108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олга впадает в Каспийское море —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стоверная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недостоверн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258920" y="220500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лухи, вымыслы, непроверенные гипотезы  — 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стоверная информ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недостоверн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58920" y="2131920"/>
            <a:ext cx="7561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Информация о том, как с помощью подручных средств добыть огонь, будет для  вас наиболее полез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если  вы попадёте на необитаемый ост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в нашей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1258920" y="224172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О правилах дорожного движения каждый водитель автомоби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лжен обладать полной информ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жет иметь непол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1258920" y="2060640"/>
            <a:ext cx="7561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Об устройстве двига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одитель автомоби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лжен обладать полной информ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жет иметь непол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3"/>
          <p:cNvGrpSpPr/>
          <p:nvPr/>
        </p:nvGrpSpPr>
        <p:grpSpPr>
          <a:xfrm>
            <a:off x="1116000" y="2492280"/>
            <a:ext cx="7811640" cy="2585880"/>
            <a:chOff x="1116000" y="2492280"/>
            <a:chExt cx="7811640" cy="2585880"/>
          </a:xfrm>
        </p:grpSpPr>
        <p:sp>
          <p:nvSpPr>
            <p:cNvPr id="240" name="Line 4"/>
            <p:cNvSpPr/>
            <p:nvPr/>
          </p:nvSpPr>
          <p:spPr>
            <a:xfrm flipV="1">
              <a:off x="1532160" y="2526120"/>
              <a:ext cx="0" cy="242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 flipV="1">
              <a:off x="1254960" y="4550760"/>
              <a:ext cx="3401640" cy="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 flipV="1">
              <a:off x="5699160" y="2526120"/>
              <a:ext cx="0" cy="242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5491080" y="4517280"/>
              <a:ext cx="343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8"/>
            <p:cNvSpPr/>
            <p:nvPr/>
          </p:nvSpPr>
          <p:spPr>
            <a:xfrm>
              <a:off x="1116000" y="249228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"/>
            <p:cNvSpPr/>
            <p:nvPr/>
          </p:nvSpPr>
          <p:spPr>
            <a:xfrm>
              <a:off x="5212080" y="249228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4171320" y="4615560"/>
              <a:ext cx="3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8615520" y="4618440"/>
              <a:ext cx="31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>
              <a:off x="5699160" y="3554640"/>
              <a:ext cx="5551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 flipV="1">
              <a:off x="6254640" y="2923920"/>
              <a:ext cx="0" cy="630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6254640" y="2923920"/>
              <a:ext cx="3474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V="1">
              <a:off x="6602400" y="2923560"/>
              <a:ext cx="0" cy="7635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6602400" y="3687840"/>
              <a:ext cx="763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V="1">
              <a:off x="7366320" y="3687480"/>
              <a:ext cx="0" cy="5634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7366320" y="4251240"/>
              <a:ext cx="3823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V="1">
              <a:off x="7747560" y="3156480"/>
              <a:ext cx="0" cy="10944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>
              <a:off x="7747560" y="3156480"/>
              <a:ext cx="59076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1"/>
            <p:cNvSpPr/>
            <p:nvPr/>
          </p:nvSpPr>
          <p:spPr>
            <a:xfrm>
              <a:off x="1567440" y="2742480"/>
              <a:ext cx="2499840" cy="1397160"/>
            </a:xfrm>
            <a:custGeom>
              <a:avLst/>
              <a:gdLst>
                <a:gd name="textAreaLeft" fmla="*/ 0 w 2499840"/>
                <a:gd name="textAreaRight" fmla="*/ 2500200 w 249984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1633" h="955">
                  <a:moveTo>
                    <a:pt x="0" y="737"/>
                  </a:moveTo>
                  <a:cubicBezTo>
                    <a:pt x="125" y="421"/>
                    <a:pt x="250" y="105"/>
                    <a:pt x="363" y="56"/>
                  </a:cubicBezTo>
                  <a:cubicBezTo>
                    <a:pt x="476" y="7"/>
                    <a:pt x="589" y="374"/>
                    <a:pt x="680" y="442"/>
                  </a:cubicBezTo>
                  <a:cubicBezTo>
                    <a:pt x="771" y="510"/>
                    <a:pt x="831" y="389"/>
                    <a:pt x="907" y="464"/>
                  </a:cubicBezTo>
                  <a:cubicBezTo>
                    <a:pt x="983" y="539"/>
                    <a:pt x="1040" y="955"/>
                    <a:pt x="1134" y="895"/>
                  </a:cubicBezTo>
                  <a:cubicBezTo>
                    <a:pt x="1228" y="835"/>
                    <a:pt x="1391" y="204"/>
                    <a:pt x="1474" y="102"/>
                  </a:cubicBezTo>
                  <a:cubicBezTo>
                    <a:pt x="1557" y="0"/>
                    <a:pt x="1607" y="253"/>
                    <a:pt x="1633" y="283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2"/>
          <p:cNvSpPr/>
          <p:nvPr/>
        </p:nvSpPr>
        <p:spPr>
          <a:xfrm>
            <a:off x="1079640" y="1268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тип сигнала (дискретный или непрерывный), соответствующий графическим изображ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2843280" y="5805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3 (стр.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187280" y="238428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ъективност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187280" y="30337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остоверность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187280" y="36799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187280" y="432900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лез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187280" y="4903920"/>
            <a:ext cx="2376720" cy="3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нятность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1187280" y="5553000"/>
            <a:ext cx="2376720" cy="397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лнота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4643280" y="209700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выражена на язы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м для получ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4678200" y="278136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позволяет получа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ть стоящие перед ним за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4678200" y="346536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важна, существен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ий момент време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4678200" y="4184640"/>
            <a:ext cx="4319640" cy="8287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достаточн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я ситу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инятия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4714920" y="5192640"/>
            <a:ext cx="4319640" cy="54000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отражает исти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д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714920" y="5877000"/>
            <a:ext cx="431964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я не зависит от ч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бо м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1042920" y="1089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свойствами информации и их опис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1403280" y="6237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5 (стр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1116000" y="1052640"/>
            <a:ext cx="7704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я  для 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—  это  содержание  сигнал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ообщения),  которые  он  получает  из  различных 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152360" y="2205000"/>
            <a:ext cx="158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г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187280" y="4689360"/>
            <a:ext cx="158436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в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708360" y="206064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искр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673440" y="2637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преры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V="1">
            <a:off x="2773440" y="223992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2736720" y="245592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912000" y="321300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з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6912000" y="3789360"/>
            <a:ext cx="18730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кус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6912000" y="429408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акт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912000" y="4870440"/>
            <a:ext cx="19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уд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6913440" y="5410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онятельная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3743280" y="3429000"/>
            <a:ext cx="1873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ъективност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3708360" y="4005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н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3743280" y="451008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ня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3708360" y="508644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3745080" y="562608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3706920" y="616572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лез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2"/>
          <p:cNvSpPr/>
          <p:nvPr/>
        </p:nvSpPr>
        <p:spPr>
          <a:xfrm>
            <a:off x="6443640" y="2889360"/>
            <a:ext cx="0" cy="2735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3"/>
          <p:cNvSpPr/>
          <p:nvPr/>
        </p:nvSpPr>
        <p:spPr>
          <a:xfrm>
            <a:off x="6443640" y="342900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"/>
          <p:cNvSpPr/>
          <p:nvPr/>
        </p:nvSpPr>
        <p:spPr>
          <a:xfrm>
            <a:off x="6443640" y="4005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5"/>
          <p:cNvSpPr/>
          <p:nvPr/>
        </p:nvSpPr>
        <p:spPr>
          <a:xfrm>
            <a:off x="6443640" y="4508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6443640" y="5084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7"/>
          <p:cNvSpPr/>
          <p:nvPr/>
        </p:nvSpPr>
        <p:spPr>
          <a:xfrm>
            <a:off x="6458040" y="562464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8"/>
          <p:cNvSpPr/>
          <p:nvPr/>
        </p:nvSpPr>
        <p:spPr>
          <a:xfrm flipV="1">
            <a:off x="2771640" y="3644640"/>
            <a:ext cx="971640" cy="1258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9"/>
          <p:cNvSpPr/>
          <p:nvPr/>
        </p:nvSpPr>
        <p:spPr>
          <a:xfrm flipV="1">
            <a:off x="2771640" y="4184280"/>
            <a:ext cx="971640" cy="684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0"/>
          <p:cNvSpPr/>
          <p:nvPr/>
        </p:nvSpPr>
        <p:spPr>
          <a:xfrm flipV="1">
            <a:off x="2808360" y="4689000"/>
            <a:ext cx="934920" cy="179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1"/>
          <p:cNvSpPr/>
          <p:nvPr/>
        </p:nvSpPr>
        <p:spPr>
          <a:xfrm>
            <a:off x="2806560" y="4869000"/>
            <a:ext cx="90036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2"/>
          <p:cNvSpPr/>
          <p:nvPr/>
        </p:nvSpPr>
        <p:spPr>
          <a:xfrm>
            <a:off x="2770200" y="4869000"/>
            <a:ext cx="973080" cy="93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3"/>
          <p:cNvSpPr/>
          <p:nvPr/>
        </p:nvSpPr>
        <p:spPr>
          <a:xfrm>
            <a:off x="2806560" y="4869000"/>
            <a:ext cx="900360" cy="1512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6335640" y="2133720"/>
            <a:ext cx="15843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нформац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 (стр. 7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1, 2, 4, 6 (стр.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рерывный  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ретный сигн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ы 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ойства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я и сиг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836640"/>
            <a:ext cx="766944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для человека  - это содерж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гн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ообщения), воспринимаемых человеком непосредственно или с помощью специальных устройств, расширяющее его знания об окружающем мире и протекающих в нём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обыденной  жизни  под  информацией  понимают  сообщения,  сведения  о  чём-либо,  которые  получают  и  передают 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://fmccgroup.ru/images/sensors/sensors_1.jpg"/>
          <p:cNvPicPr/>
          <p:nvPr/>
        </p:nvPicPr>
        <p:blipFill>
          <a:blip r:embed="rId1"/>
          <a:stretch/>
        </p:blipFill>
        <p:spPr>
          <a:xfrm>
            <a:off x="2700360" y="3357720"/>
            <a:ext cx="4610160" cy="300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Разговор между людьми"/>
          <p:cNvPicPr/>
          <p:nvPr/>
        </p:nvPicPr>
        <p:blipFill>
          <a:blip r:embed="rId1"/>
          <a:stretch/>
        </p:blipFill>
        <p:spPr>
          <a:xfrm>
            <a:off x="2340000" y="195264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Книга"/>
          <p:cNvPicPr/>
          <p:nvPr/>
        </p:nvPicPr>
        <p:blipFill>
          <a:blip r:embed="rId2"/>
          <a:stretch/>
        </p:blipFill>
        <p:spPr>
          <a:xfrm>
            <a:off x="2340000" y="2060640"/>
            <a:ext cx="4802040" cy="4241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Водопад"/>
          <p:cNvPicPr/>
          <p:nvPr/>
        </p:nvPicPr>
        <p:blipFill>
          <a:blip r:embed="rId3"/>
          <a:stretch/>
        </p:blipFill>
        <p:spPr>
          <a:xfrm>
            <a:off x="2556000" y="1989000"/>
            <a:ext cx="4859280" cy="3646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Часы"/>
          <p:cNvPicPr/>
          <p:nvPr/>
        </p:nvPicPr>
        <p:blipFill>
          <a:blip r:embed="rId4"/>
          <a:stretch/>
        </p:blipFill>
        <p:spPr>
          <a:xfrm>
            <a:off x="1476360" y="2349360"/>
            <a:ext cx="2962440" cy="2859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Барометр"/>
          <p:cNvPicPr/>
          <p:nvPr/>
        </p:nvPicPr>
        <p:blipFill>
          <a:blip r:embed="rId5"/>
          <a:stretch/>
        </p:blipFill>
        <p:spPr>
          <a:xfrm>
            <a:off x="5003640" y="1916280"/>
            <a:ext cx="3229200" cy="3779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"/>
          <p:cNvSpPr/>
          <p:nvPr/>
        </p:nvSpPr>
        <p:spPr>
          <a:xfrm>
            <a:off x="792000" y="72864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я  содер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710240" y="722160"/>
            <a:ext cx="46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показаниях часов и други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716360" y="765000"/>
            <a:ext cx="46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звуках  и  видах 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716360" y="728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стах  кн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0000" y="728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речи  люд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187280" y="404640"/>
            <a:ext cx="77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 материальный объект,  с  которым  происходят  изменения,  становится  источником  информации.  Эту информацию мы  получаем в виде  сигн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30200" y="198900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ают   сигн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Маяк"/>
          <p:cNvPicPr/>
          <p:nvPr/>
        </p:nvPicPr>
        <p:blipFill>
          <a:blip r:embed="rId1"/>
          <a:stretch/>
        </p:blipFill>
        <p:spPr>
          <a:xfrm>
            <a:off x="1258920" y="2492280"/>
            <a:ext cx="6840360" cy="3727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Труба"/>
          <p:cNvPicPr/>
          <p:nvPr/>
        </p:nvPicPr>
        <p:blipFill>
          <a:blip r:embed="rId2"/>
          <a:stretch/>
        </p:blipFill>
        <p:spPr>
          <a:xfrm>
            <a:off x="1800360" y="2529000"/>
            <a:ext cx="5867280" cy="3606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4859280" y="198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Камин"/>
          <p:cNvPicPr/>
          <p:nvPr/>
        </p:nvPicPr>
        <p:blipFill>
          <a:blip r:embed="rId3"/>
          <a:stretch/>
        </p:blipFill>
        <p:spPr>
          <a:xfrm>
            <a:off x="1727280" y="2421000"/>
            <a:ext cx="5286240" cy="3965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4932360" y="1989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Водолазы"/>
          <p:cNvPicPr/>
          <p:nvPr/>
        </p:nvPicPr>
        <p:blipFill>
          <a:blip r:embed="rId4"/>
          <a:stretch/>
        </p:blipFill>
        <p:spPr>
          <a:xfrm>
            <a:off x="1476360" y="2421000"/>
            <a:ext cx="5985000" cy="3998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932360" y="1989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6" descr=""/>
          <p:cNvPicPr/>
          <p:nvPr/>
        </p:nvPicPr>
        <p:blipFill>
          <a:blip r:embed="rId5"/>
          <a:stretch/>
        </p:blipFill>
        <p:spPr>
          <a:xfrm>
            <a:off x="1763640" y="2492280"/>
            <a:ext cx="6096240" cy="40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Содержимое 3" descr=""/>
          <p:cNvPicPr/>
          <p:nvPr/>
        </p:nvPicPr>
        <p:blipFill>
          <a:blip r:embed="rId1"/>
          <a:stretch/>
        </p:blipFill>
        <p:spPr>
          <a:xfrm>
            <a:off x="1036800" y="1017720"/>
            <a:ext cx="7656480" cy="437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16000" y="706320"/>
            <a:ext cx="78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Непрерывный  сигнал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ет  бесконечное  множество  значений  из  некоторого  диапазона.  Между  значениями,  которые  он  принимает,  нет  разры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04840" y="836640"/>
            <a:ext cx="80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Дискретный  сигна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ет  конечное число значений.  Все  значения  дискретного сигнала  можно пронумеровать  цел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Речь"/>
          <p:cNvPicPr/>
          <p:nvPr/>
        </p:nvPicPr>
        <p:blipFill>
          <a:blip r:embed="rId1"/>
          <a:stretch/>
        </p:blipFill>
        <p:spPr>
          <a:xfrm>
            <a:off x="2484360" y="2600280"/>
            <a:ext cx="4170600" cy="3352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Светофор"/>
          <p:cNvPicPr/>
          <p:nvPr/>
        </p:nvPicPr>
        <p:blipFill>
          <a:blip r:embed="rId2"/>
          <a:stretch/>
        </p:blipFill>
        <p:spPr>
          <a:xfrm>
            <a:off x="2987640" y="2023920"/>
            <a:ext cx="3429000" cy="42865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1619280" y="598500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116000" y="1197000"/>
            <a:ext cx="784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 способу  восприятия  человеком  информация может быть  разделена  на  следующие  в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Глаза"/>
          <p:cNvPicPr/>
          <p:nvPr/>
        </p:nvPicPr>
        <p:blipFill>
          <a:blip r:embed="rId1"/>
          <a:stretch/>
        </p:blipFill>
        <p:spPr>
          <a:xfrm>
            <a:off x="1395360" y="2414520"/>
            <a:ext cx="1908360" cy="1432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1619280" y="6113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акти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04000" y="4005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удиа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067280" y="5157720"/>
            <a:ext cx="24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боня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948360" y="6113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ку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Язык"/>
          <p:cNvPicPr/>
          <p:nvPr/>
        </p:nvPicPr>
        <p:blipFill>
          <a:blip r:embed="rId2"/>
          <a:stretch/>
        </p:blipFill>
        <p:spPr>
          <a:xfrm>
            <a:off x="6724800" y="4718160"/>
            <a:ext cx="2058840" cy="1377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Руки"/>
          <p:cNvPicPr/>
          <p:nvPr/>
        </p:nvPicPr>
        <p:blipFill>
          <a:blip r:embed="rId3"/>
          <a:stretch/>
        </p:blipFill>
        <p:spPr>
          <a:xfrm>
            <a:off x="1616040" y="4359240"/>
            <a:ext cx="2297160" cy="181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Обоняние"/>
          <p:cNvPicPr/>
          <p:nvPr/>
        </p:nvPicPr>
        <p:blipFill>
          <a:blip r:embed="rId4"/>
          <a:stretch/>
        </p:blipFill>
        <p:spPr>
          <a:xfrm>
            <a:off x="4206960" y="2773440"/>
            <a:ext cx="1785960" cy="2468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Слух"/>
          <p:cNvPicPr/>
          <p:nvPr/>
        </p:nvPicPr>
        <p:blipFill>
          <a:blip r:embed="rId5"/>
          <a:stretch/>
        </p:blipFill>
        <p:spPr>
          <a:xfrm>
            <a:off x="6656400" y="2414520"/>
            <a:ext cx="2152800" cy="16700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1476360" y="37893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изу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10"/>
          <p:cNvSpPr/>
          <p:nvPr/>
        </p:nvSpPr>
        <p:spPr>
          <a:xfrm flipV="1">
            <a:off x="4643280" y="1483920"/>
            <a:ext cx="0" cy="136836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2411280" y="1988640"/>
            <a:ext cx="2268720" cy="86364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4643280" y="2023920"/>
            <a:ext cx="2052720" cy="828720"/>
          </a:xfrm>
          <a:prstGeom prst="line">
            <a:avLst/>
          </a:prstGeom>
          <a:ln w="57240">
            <a:solidFill>
              <a:srgbClr val="769d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 flipH="1" flipV="1">
            <a:off x="4716000" y="3536640"/>
            <a:ext cx="2411640" cy="126036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V="1">
            <a:off x="4716360" y="3537000"/>
            <a:ext cx="0" cy="190800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2916360" y="3536640"/>
            <a:ext cx="1800000" cy="1260360"/>
          </a:xfrm>
          <a:prstGeom prst="line">
            <a:avLst/>
          </a:prstGeom>
          <a:ln w="57240">
            <a:solidFill>
              <a:srgbClr val="769d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ject 16" descr=""/>
          <p:cNvPicPr/>
          <p:nvPr/>
        </p:nvPicPr>
        <p:blipFill>
          <a:blip r:embed="rId1"/>
          <a:stretch/>
        </p:blipFill>
        <p:spPr>
          <a:xfrm>
            <a:off x="1474920" y="981000"/>
            <a:ext cx="1538280" cy="685800"/>
          </a:xfrm>
          <a:prstGeom prst="rect">
            <a:avLst/>
          </a:prstGeom>
          <a:ln w="0">
            <a:noFill/>
          </a:ln>
        </p:spPr>
      </p:pic>
      <p:pic>
        <p:nvPicPr>
          <p:cNvPr id="214" name="Object 17" descr=""/>
          <p:cNvPicPr/>
          <p:nvPr/>
        </p:nvPicPr>
        <p:blipFill>
          <a:blip r:embed="rId2"/>
          <a:stretch/>
        </p:blipFill>
        <p:spPr>
          <a:xfrm>
            <a:off x="3995640" y="549360"/>
            <a:ext cx="1106640" cy="68580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18" descr=""/>
          <p:cNvPicPr/>
          <p:nvPr/>
        </p:nvPicPr>
        <p:blipFill>
          <a:blip r:embed="rId3"/>
          <a:stretch/>
        </p:blipFill>
        <p:spPr>
          <a:xfrm>
            <a:off x="1584360" y="4365720"/>
            <a:ext cx="166536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Object 19" descr=""/>
          <p:cNvPicPr/>
          <p:nvPr/>
        </p:nvPicPr>
        <p:blipFill>
          <a:blip r:embed="rId4"/>
          <a:stretch/>
        </p:blipFill>
        <p:spPr>
          <a:xfrm>
            <a:off x="6732720" y="443700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17" name="Object 20" descr=""/>
          <p:cNvPicPr/>
          <p:nvPr/>
        </p:nvPicPr>
        <p:blipFill>
          <a:blip r:embed="rId5"/>
          <a:stretch/>
        </p:blipFill>
        <p:spPr>
          <a:xfrm>
            <a:off x="6659640" y="1052640"/>
            <a:ext cx="137304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Object 21" descr=""/>
          <p:cNvPicPr/>
          <p:nvPr/>
        </p:nvPicPr>
        <p:blipFill>
          <a:blip r:embed="rId6"/>
          <a:stretch/>
        </p:blipFill>
        <p:spPr>
          <a:xfrm>
            <a:off x="4140360" y="4978440"/>
            <a:ext cx="16650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>
            <a:off x="2124000" y="2852640"/>
            <a:ext cx="496908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войств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13000"/>
            <a:ext cx="241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708360" y="981000"/>
            <a:ext cx="1800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6443640" y="479736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з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084720" y="1413000"/>
            <a:ext cx="241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479736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вер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635280" y="5445000"/>
            <a:ext cx="241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ив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08:55:20Z</dcterms:modified>
  <cp:revision>21</cp:revision>
  <dc:subject/>
  <dc:title>Презентация PowerPoint</dc:title>
</cp:coreProperties>
</file>