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3B5-3C8B-4290-926E-F79AD5E9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EFA-0AB1-4523-AF51-DF59E36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B0B-184A-4CCC-97E4-4BA2019B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49C-DA3C-4F35-B1EA-27F6360A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E46F-5354-449B-977A-F7FC8D73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5E6-A93F-4E75-9934-30C61AD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9C6B-F3C3-4862-B320-D3C518F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DCF-3CE1-40A1-BC47-0D7DFCD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3FB3-86A2-4684-BB0A-4F11DAA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376-E02D-4B39-9136-B9E74D44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EC3-F379-43D7-AB0E-7DCC0B8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BA8-731A-42A6-93C0-9B43FD2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059-577F-4C7F-AF2E-141A6C8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0C8A-D6B1-4C56-962F-1095C06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246-2C0F-4E67-9FD2-1593D20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3ED-C0E3-484A-B277-44BA7990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97C8-B1CB-434C-93D5-976C5A71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2924-60A0-418D-BA32-02C459CA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AD5D-5F2E-4664-BF75-006F02D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1977-247A-483B-8184-D9F0942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723A-50A4-4A96-9FF8-1AE29B72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FA5D-0A51-4746-9199-2DD0A19E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B3C-CA7C-4649-BC92-D3D8B8CA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A24C-4F5F-4819-BDA8-960B2C9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5BC8-4A23-4BE6-8D96-13D6A876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E743-10D7-47E6-9313-5C7AE66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D2A4-C904-4F99-B7B9-C5D042E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3FBE-33E8-4691-B033-7F46F42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7621-36B7-499D-B57F-3FF3741E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60A7-8C22-41E4-BD16-07F0292B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9DDD-DE38-4367-963E-9BA7CF59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8C03-D877-4383-B6B5-9F4D9CE3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D8A6-9A66-4F4F-A740-BEE26CB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1E7-FFEB-4CEF-A57D-2030904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9282-1E25-4160-AEBE-3A936E1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FC92-18C3-4897-A39F-76727C6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591E-1FB9-498F-B368-C32E712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B43-18B5-460B-B3B6-410470F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E63C-2024-4C40-B6C4-BA21B88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6BF3-776A-4773-B557-815190A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C15D-A02F-4CF1-82EE-C7C556B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22AB-0F31-4AF7-8EE4-96240602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C4B5-E3B1-4670-AEC5-B0D0E7B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7CC-3397-49A4-A470-6E683EE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A59-9313-4785-AA79-C3E3214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D8D-7077-4813-939E-25CCA88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55F-F0D9-4A14-8D59-5774D78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E53-3093-456B-A6EA-FDDEAF0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F47D-E4B2-4D08-A3E3-4D71B3593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00C3-6AED-4FF6-A3BA-CB148689D2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20FD-237E-406C-8013-41727EC691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6BCC-90CF-4219-9A45-473D510EC7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249228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ЬНЫЙ  КОМПЬЮТЕР  КАК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71880" y="421488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мпьютер как надсистема и по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льзовательский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642960" y="3822840"/>
            <a:ext cx="821520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(совместимости) программ между собой, а также программного обеспечения и информационных ресурсов; обеспечивается разработчиками программного обеспечения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http://kz.all.biz/img/kz/service_catalog/27120.jpeg"/>
          <p:cNvPicPr/>
          <p:nvPr/>
        </p:nvPicPr>
        <p:blipFill>
          <a:blip r:embed="rId2"/>
          <a:stretch/>
        </p:blipFill>
        <p:spPr>
          <a:xfrm>
            <a:off x="5189400" y="1035000"/>
            <a:ext cx="3597480" cy="2683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3" name="Picture 2" descr="http://uralcons.org/wp-content/uploads/2013/06/%D0%BF%D1%80%D0%BE%D0%B3%D1%80%D0%B0%D0%BC%D0%BC%D0%B8%D1%81%D1%82.jpg"/>
          <p:cNvPicPr/>
          <p:nvPr/>
        </p:nvPicPr>
        <p:blipFill>
          <a:blip r:embed="rId3"/>
          <a:stretch/>
        </p:blipFill>
        <p:spPr>
          <a:xfrm>
            <a:off x="642960" y="1000080"/>
            <a:ext cx="4071960" cy="2718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-программный 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0120" y="3857760"/>
            <a:ext cx="832968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нтерфей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это средства аппаратного и программного обеспечения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 пользовательский интерфейсы обеспечиваются операционной системой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topachka.com/uploads/posts/2012-03/1330797767_dddddddmeni-2.jpg"/>
          <p:cNvPicPr/>
          <p:nvPr/>
        </p:nvPicPr>
        <p:blipFill>
          <a:blip r:embed="rId2"/>
          <a:stretch/>
        </p:blipFill>
        <p:spPr>
          <a:xfrm>
            <a:off x="642960" y="1333440"/>
            <a:ext cx="3922560" cy="245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7" name="Picture 4" descr="http://fs202.jpe.ru/bcce/2164328_841e351b.jpg"/>
          <p:cNvPicPr/>
          <p:nvPr/>
        </p:nvPicPr>
        <p:blipFill>
          <a:blip r:embed="rId3"/>
          <a:stretch/>
        </p:blipFill>
        <p:spPr>
          <a:xfrm>
            <a:off x="4857840" y="1327320"/>
            <a:ext cx="3643200" cy="24904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система, включающая подсистемы аппаратного обеспечения, программного обеспечения и информацион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подсистема системы «человек – компьютер». Средства, обеспечивающие взаимосвязь между объектами этой системы,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фей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 – средства взаимодействия человека и компьютера, обеспечивается 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00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став каких систем входит подсистема «компьютер»? Для каких систем компьютер является надсистемо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зовите надсистему для объекта «принтер». В каком отношении находятся объекты «принтер» и «струйный принтер»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такое интерфей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вы знаете о пользовательском интерфейс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жите входы и выход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истемы «компьюте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D:\Личные_документы\Елена\КАРТИНКИ\пк и человек.png"/>
          <p:cNvPicPr/>
          <p:nvPr/>
        </p:nvPicPr>
        <p:blipFill>
          <a:blip r:embed="rId2"/>
          <a:stretch/>
        </p:blipFill>
        <p:spPr>
          <a:xfrm>
            <a:off x="5715000" y="4600440"/>
            <a:ext cx="3429000" cy="206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5420880"/>
            <a:ext cx="7358040" cy="1079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истема «человек – компью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71720" y="7128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</a:t>
            </a: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Arial"/>
              </a:rPr>
              <a:t>ю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р</a:t>
            </a:r>
            <a:r>
              <a:rPr b="1" lang="ru-RU" sz="44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ак по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bestglobalinfo.ru/netcat_files/121/89/deti.jpg"/>
          <p:cNvPicPr/>
          <p:nvPr/>
        </p:nvPicPr>
        <p:blipFill>
          <a:blip r:embed="rId2"/>
          <a:stretch/>
        </p:blipFill>
        <p:spPr>
          <a:xfrm>
            <a:off x="1719360" y="1127160"/>
            <a:ext cx="6281640" cy="413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360" y="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к на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25"/>
          <p:cNvGrpSpPr/>
          <p:nvPr/>
        </p:nvGrpSpPr>
        <p:grpSpPr>
          <a:xfrm>
            <a:off x="857160" y="1268280"/>
            <a:ext cx="7777080" cy="5329440"/>
            <a:chOff x="857160" y="1268280"/>
            <a:chExt cx="7777080" cy="5329440"/>
          </a:xfrm>
        </p:grpSpPr>
        <p:sp>
          <p:nvSpPr>
            <p:cNvPr id="254" name="Скругленный прямоугольник 3"/>
            <p:cNvSpPr/>
            <p:nvPr/>
          </p:nvSpPr>
          <p:spPr>
            <a:xfrm>
              <a:off x="857160" y="1268280"/>
              <a:ext cx="7777080" cy="532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"/>
            <p:cNvSpPr/>
            <p:nvPr/>
          </p:nvSpPr>
          <p:spPr>
            <a:xfrm>
              <a:off x="1928520" y="1412280"/>
              <a:ext cx="57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Персональный 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5"/>
            <p:cNvSpPr/>
            <p:nvPr/>
          </p:nvSpPr>
          <p:spPr>
            <a:xfrm>
              <a:off x="1142640" y="2060280"/>
              <a:ext cx="1944000" cy="4249080"/>
            </a:xfrm>
            <a:custGeom>
              <a:avLst/>
              <a:gdLst>
                <a:gd name="textAreaLeft" fmla="*/ 94680 w 1944000"/>
                <a:gd name="textAreaRight" fmla="*/ 1849320 w 1944000"/>
                <a:gd name="textAreaTop" fmla="*/ 94680 h 4249080"/>
                <a:gd name="textAreaBottom" fmla="*/ 4154400 h 4249080"/>
              </a:gdLst>
              <a:ahLst/>
              <a:rect l="textAreaLeft" t="textAreaTop" r="textAreaRight" b="textAreaBottom"/>
              <a:pathLst>
                <a:path w="21600" h="47207">
                  <a:moveTo>
                    <a:pt x="3600" y="0"/>
                  </a:moveTo>
                  <a:arcTo wR="3600" hR="3600" stAng="16200000" swAng="-5400000"/>
                  <a:lnTo>
                    <a:pt x="0" y="43607"/>
                  </a:lnTo>
                  <a:arcTo wR="3600" hR="3600" stAng="10800000" swAng="-5400000"/>
                  <a:lnTo>
                    <a:pt x="18000" y="472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1214280" y="214272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Аппарат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7"/>
            <p:cNvSpPr/>
            <p:nvPr/>
          </p:nvSpPr>
          <p:spPr>
            <a:xfrm>
              <a:off x="1214280" y="285264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8"/>
            <p:cNvSpPr/>
            <p:nvPr/>
          </p:nvSpPr>
          <p:spPr>
            <a:xfrm>
              <a:off x="1214280" y="3645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об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9"/>
            <p:cNvSpPr/>
            <p:nvPr/>
          </p:nvSpPr>
          <p:spPr>
            <a:xfrm>
              <a:off x="1214280" y="4437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10"/>
            <p:cNvSpPr/>
            <p:nvPr/>
          </p:nvSpPr>
          <p:spPr>
            <a:xfrm>
              <a:off x="1214280" y="52293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ы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11"/>
            <p:cNvSpPr/>
            <p:nvPr/>
          </p:nvSpPr>
          <p:spPr>
            <a:xfrm>
              <a:off x="3447000" y="2071080"/>
              <a:ext cx="2488680" cy="4249080"/>
            </a:xfrm>
            <a:custGeom>
              <a:avLst/>
              <a:gdLst>
                <a:gd name="textAreaLeft" fmla="*/ 121320 w 2488680"/>
                <a:gd name="textAreaRight" fmla="*/ 2367360 w 2488680"/>
                <a:gd name="textAreaTop" fmla="*/ 121320 h 4249080"/>
                <a:gd name="textAreaBottom" fmla="*/ 4127760 h 4249080"/>
              </a:gdLst>
              <a:ahLst/>
              <a:rect l="textAreaLeft" t="textAreaTop" r="textAreaRight" b="textAreaBottom"/>
              <a:pathLst>
                <a:path w="21600" h="36877">
                  <a:moveTo>
                    <a:pt x="3600" y="0"/>
                  </a:moveTo>
                  <a:arcTo wR="3600" hR="3600" stAng="16200000" swAng="-5400000"/>
                  <a:lnTo>
                    <a:pt x="0" y="33277"/>
                  </a:lnTo>
                  <a:arcTo wR="3600" hR="3600" stAng="10800000" swAng="-5400000"/>
                  <a:lnTo>
                    <a:pt x="18000" y="368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3571920" y="2152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нформационные рес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13"/>
            <p:cNvSpPr/>
            <p:nvPr/>
          </p:nvSpPr>
          <p:spPr>
            <a:xfrm>
              <a:off x="3518640" y="286344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кст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14"/>
            <p:cNvSpPr/>
            <p:nvPr/>
          </p:nvSpPr>
          <p:spPr>
            <a:xfrm>
              <a:off x="3518640" y="365580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чески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15"/>
            <p:cNvSpPr/>
            <p:nvPr/>
          </p:nvSpPr>
          <p:spPr>
            <a:xfrm>
              <a:off x="3518640" y="4448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ук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16"/>
            <p:cNvSpPr/>
            <p:nvPr/>
          </p:nvSpPr>
          <p:spPr>
            <a:xfrm>
              <a:off x="3518640" y="5240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айлы с видеоинформаци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17"/>
            <p:cNvSpPr/>
            <p:nvPr/>
          </p:nvSpPr>
          <p:spPr>
            <a:xfrm>
              <a:off x="6184080" y="2071080"/>
              <a:ext cx="2232360" cy="4249080"/>
            </a:xfrm>
            <a:custGeom>
              <a:avLst/>
              <a:gdLst>
                <a:gd name="textAreaLeft" fmla="*/ 108720 w 2232360"/>
                <a:gd name="textAreaRight" fmla="*/ 2123640 w 2232360"/>
                <a:gd name="textAreaTop" fmla="*/ 108720 h 4249080"/>
                <a:gd name="textAreaBottom" fmla="*/ 4140360 h 4249080"/>
              </a:gdLst>
              <a:ahLst/>
              <a:rect l="textAreaLeft" t="textAreaTop" r="textAreaRight" b="textAreaBottom"/>
              <a:pathLst>
                <a:path w="21600" h="41110">
                  <a:moveTo>
                    <a:pt x="3600" y="0"/>
                  </a:moveTo>
                  <a:arcTo wR="3600" hR="3600" stAng="16200000" swAng="-5400000"/>
                  <a:lnTo>
                    <a:pt x="0" y="37510"/>
                  </a:lnTo>
                  <a:arcTo wR="3600" hR="3600" stAng="10800000" swAng="-5400000"/>
                  <a:lnTo>
                    <a:pt x="18000" y="41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8"/>
            <p:cNvSpPr/>
            <p:nvPr/>
          </p:nvSpPr>
          <p:spPr>
            <a:xfrm>
              <a:off x="6143760" y="2149560"/>
              <a:ext cx="224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Программ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9"/>
            <p:cNvSpPr/>
            <p:nvPr/>
          </p:nvSpPr>
          <p:spPr>
            <a:xfrm>
              <a:off x="6661080" y="2863440"/>
              <a:ext cx="1800000" cy="72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23"/>
            <p:cNvSpPr/>
            <p:nvPr/>
          </p:nvSpPr>
          <p:spPr>
            <a:xfrm>
              <a:off x="6286680" y="2863440"/>
              <a:ext cx="2016360" cy="2448720"/>
            </a:xfrm>
            <a:custGeom>
              <a:avLst/>
              <a:gdLst>
                <a:gd name="textAreaLeft" fmla="*/ 98280 w 2016360"/>
                <a:gd name="textAreaRight" fmla="*/ 1918080 w 2016360"/>
                <a:gd name="textAreaTop" fmla="*/ 98280 h 2448720"/>
                <a:gd name="textAreaBottom" fmla="*/ 2350440 h 2448720"/>
              </a:gdLst>
              <a:ahLst/>
              <a:rect l="textAreaLeft" t="textAreaTop" r="textAreaRight" b="textAreaBottom"/>
              <a:pathLst>
                <a:path w="21600" h="26231">
                  <a:moveTo>
                    <a:pt x="3600" y="0"/>
                  </a:moveTo>
                  <a:arcTo wR="3600" hR="3600" stAng="16200000" swAng="-5400000"/>
                  <a:lnTo>
                    <a:pt x="0" y="22631"/>
                  </a:lnTo>
                  <a:arcTo wR="3600" hR="3600" stAng="10800000" swAng="-5400000"/>
                  <a:lnTo>
                    <a:pt x="18000" y="262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20"/>
            <p:cNvSpPr/>
            <p:nvPr/>
          </p:nvSpPr>
          <p:spPr>
            <a:xfrm>
              <a:off x="6399720" y="36558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истем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21"/>
            <p:cNvSpPr/>
            <p:nvPr/>
          </p:nvSpPr>
          <p:spPr>
            <a:xfrm>
              <a:off x="6399720" y="4448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ужеб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22"/>
            <p:cNvSpPr/>
            <p:nvPr/>
          </p:nvSpPr>
          <p:spPr>
            <a:xfrm>
              <a:off x="6399720" y="5384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кла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328440" y="3007440"/>
              <a:ext cx="188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е обесп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03280" y="1285920"/>
            <a:ext cx="2522520" cy="5000760"/>
          </a:xfrm>
          <a:custGeom>
            <a:avLst/>
            <a:gdLst>
              <a:gd name="textAreaLeft" fmla="*/ 123120 w 2522520"/>
              <a:gd name="textAreaRight" fmla="*/ 2399400 w 2522520"/>
              <a:gd name="textAreaTop" fmla="*/ 123120 h 5000760"/>
              <a:gd name="textAreaBottom" fmla="*/ 4877640 h 5000760"/>
            </a:gdLst>
            <a:ahLst/>
            <a:rect l="textAreaLeft" t="textAreaTop" r="textAreaRight" b="textAreaBottom"/>
            <a:pathLst>
              <a:path w="21600" h="42818">
                <a:moveTo>
                  <a:pt x="3600" y="0"/>
                </a:moveTo>
                <a:arcTo wR="3600" hR="3600" stAng="16200000" swAng="-5400000"/>
                <a:lnTo>
                  <a:pt x="0" y="39218"/>
                </a:lnTo>
                <a:arcTo wR="3600" hR="3600" stAng="10800000" swAng="-5400000"/>
                <a:lnTo>
                  <a:pt x="18000" y="42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643040" y="14288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76360" y="2152800"/>
            <a:ext cx="2333520" cy="847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76360" y="315288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76360" y="415296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476360" y="515304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071960" y="2643120"/>
            <a:ext cx="4786200" cy="3506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аппаратного обеспечения выступает в качестве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ы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для входящих в него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7215120" y="1214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4143240" y="1468440"/>
            <a:ext cx="4721400" cy="399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перационная система –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программного обеспечения и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а,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в состав которой входят системные и служеб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1555920" y="2135160"/>
            <a:ext cx="180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1224000" y="1285920"/>
            <a:ext cx="2562120" cy="3162240"/>
          </a:xfrm>
          <a:custGeom>
            <a:avLst/>
            <a:gdLst>
              <a:gd name="textAreaLeft" fmla="*/ 124920 w 2562120"/>
              <a:gd name="textAreaRight" fmla="*/ 2437200 w 2562120"/>
              <a:gd name="textAreaTop" fmla="*/ 124920 h 3162240"/>
              <a:gd name="textAreaBottom" fmla="*/ 3037320 h 3162240"/>
            </a:gdLst>
            <a:ahLst/>
            <a:rect l="textAreaLeft" t="textAreaTop" r="textAreaRight" b="textAreaBottom"/>
            <a:pathLst>
              <a:path w="21600" h="26659">
                <a:moveTo>
                  <a:pt x="3600" y="0"/>
                </a:moveTo>
                <a:arcTo wR="3600" hR="3600" stAng="16200000" swAng="-5400000"/>
                <a:lnTo>
                  <a:pt x="0" y="23059"/>
                </a:lnTo>
                <a:arcTo wR="3600" hR="3600" stAng="10800000" swAng="-5400000"/>
                <a:lnTo>
                  <a:pt x="18000" y="26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2"/>
          <p:cNvSpPr/>
          <p:nvPr/>
        </p:nvSpPr>
        <p:spPr>
          <a:xfrm>
            <a:off x="1332000" y="214308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1332000" y="321300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1332000" y="1370160"/>
            <a:ext cx="22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1000080" y="4881600"/>
            <a:ext cx="2928960" cy="904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4071960" y="1285920"/>
            <a:ext cx="4786200" cy="496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нформационных ресурсов включает в себя 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ы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текстовых и графических файлов, звуковых файлов, файлов с видеоинформацие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1000080" y="1274760"/>
            <a:ext cx="2714760" cy="50958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5095800"/>
              <a:gd name="textAreaBottom" fmla="*/ 4963320 h 5095800"/>
            </a:gdLst>
            <a:ahLst/>
            <a:rect l="textAreaLeft" t="textAreaTop" r="textAreaRight" b="textAreaBottom"/>
            <a:pathLst>
              <a:path w="21600" h="40542">
                <a:moveTo>
                  <a:pt x="3600" y="0"/>
                </a:moveTo>
                <a:arcTo wR="3600" hR="3600" stAng="16200000" swAng="-5400000"/>
                <a:lnTo>
                  <a:pt x="0" y="36942"/>
                </a:lnTo>
                <a:arcTo wR="3600" hR="3600" stAng="10800000" swAng="-5400000"/>
                <a:lnTo>
                  <a:pt x="18000" y="40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071720" y="1500120"/>
            <a:ext cx="25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Arial"/>
              </a:rPr>
              <a:t>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6"/>
          <p:cNvSpPr/>
          <p:nvPr/>
        </p:nvSpPr>
        <p:spPr>
          <a:xfrm>
            <a:off x="1071720" y="228600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7"/>
          <p:cNvSpPr/>
          <p:nvPr/>
        </p:nvSpPr>
        <p:spPr>
          <a:xfrm>
            <a:off x="1071720" y="328608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8"/>
          <p:cNvSpPr/>
          <p:nvPr/>
        </p:nvSpPr>
        <p:spPr>
          <a:xfrm>
            <a:off x="1071720" y="428616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9"/>
          <p:cNvSpPr/>
          <p:nvPr/>
        </p:nvSpPr>
        <p:spPr>
          <a:xfrm>
            <a:off x="1071720" y="528012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ы с видео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ьзовательски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обеспечивающие взаимосвязь между объектами системы «человек – компьютер»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фейс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о-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 интерфейс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редства взаимодействия человек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14240" y="4549680"/>
            <a:ext cx="8215560" cy="180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между устройствами компьютера; обеспечивается  производителям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notik.ru/img/100429_hp_foxconn_plant_spb.JPG"/>
          <p:cNvPicPr/>
          <p:nvPr/>
        </p:nvPicPr>
        <p:blipFill>
          <a:blip r:embed="rId2"/>
          <a:stretch/>
        </p:blipFill>
        <p:spPr>
          <a:xfrm>
            <a:off x="4203720" y="1285920"/>
            <a:ext cx="4640400" cy="30718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9" name="Picture 4" descr="http://www.bytemag.ru/images/byte_archive/images/No7_2003/Depo/ris5.jpg"/>
          <p:cNvPicPr/>
          <p:nvPr/>
        </p:nvPicPr>
        <p:blipFill>
          <a:blip r:embed="rId3"/>
          <a:stretch/>
        </p:blipFill>
        <p:spPr>
          <a:xfrm>
            <a:off x="763560" y="1285920"/>
            <a:ext cx="3022560" cy="303516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9:30Z</dcterms:modified>
  <cp:revision>27</cp:revision>
  <dc:subject/>
  <dc:title>Презентация PowerPoint</dc:title>
</cp:coreProperties>
</file>