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B8B-8059-4159-86D0-3171B25B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A1C-114C-4CE4-8164-96930969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BE5-9E51-4559-928B-6F7B904C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F4F3-EC95-43DB-8ABC-9C03E47E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44C2-C358-43D0-98A4-5B312032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7035-4558-411E-8C11-2B4AA375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09ED-EE82-44EF-9C62-F51E04D3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98EA-8018-459D-9915-0CA6E9F7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2DB9-49E4-49E2-A0BA-AD194922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72DD-3BBA-43C9-A63B-EC74F941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C0A1-F9DD-4676-B3B9-525101AA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503-C893-4A05-B4B4-E38562F3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0A92-DAC8-41B2-9E0E-50872150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F4E3-5E4D-4E97-A032-41BCDC75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FD79-7852-4F45-A821-D972CAB1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11D2-23D1-420A-AB1C-FE4D38EB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BBD9-35E5-403D-8787-75F4F632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575C-B5B1-494A-B2C6-0039213E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F3083-C119-4E14-960A-8C1ED4A8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938F-8264-4D8C-B7A4-620D4543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CC810-F2D4-4595-AFD2-6AE13A2C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D64F-074A-4CB2-B8DC-9E0131A7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8D3-E54B-4172-8DB8-99E902B5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B2C9-B8CA-4936-91CC-AB85B787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8CFEE-E5D9-4594-8260-6FFB3DEA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6608A-13A4-48CE-B592-7862B239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99BD8-091B-4FDB-AC92-3AF1FE08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C3753-A390-4542-8F0F-207895FC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49FBA-ABBC-4A1E-BE74-7E503443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981BA-2AFC-4A8C-B781-176A26B8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C2DAC-DCF0-4F61-AE4E-3CC70C67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353C0-4F3D-45B2-891F-E3C16522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60498-744A-4098-80BE-66DC34E4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45E-6086-4680-8B9A-62174C08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FA646-925C-4CB5-8FA0-EC4B2C87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7BF03-496D-4CAA-BEA1-EC6D4843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7ECC1-A4CE-4C58-A652-FA7614C1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1BFC1-4912-4685-A343-17A7B2FB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EFD43-C249-4286-91B8-18F4900A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E9F76-2F0C-4ECC-9457-432F01B1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E0C8F-4346-4413-9093-87E5D783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585B-E01C-47AA-8842-D92719A9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3E816-1428-43B9-91BA-8155E3EA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E729-2C98-4ED8-AAF0-9932766E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BF8-51E3-4C59-AE95-BE14DF3F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2FF-D43A-48E5-8C0C-67C30B53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6DD-99DC-4EFE-97B6-A46BE7F8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2D3-C821-4EBE-B132-902FE7D2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7427-D7FD-453E-9A64-C28DEB669A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8726-203C-402C-8BB8-D491F40EA8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FDAE-8117-4E43-B9B8-AA3B9BDF92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E27F-3F0C-44EC-9396-0A3D1280D4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71440" y="2492280"/>
            <a:ext cx="7072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СОНАЛЬНЫЙ  КОМПЬЮТЕР  КАК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3071880" y="421488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омпьютер как надсистема и под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льзовательский интерфей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рограммный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642960" y="3822840"/>
            <a:ext cx="8215200" cy="2653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граммный интерфей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это средства взаимодействия (совместимости) программ между собой, а также программного обеспечения и информационных ресурсов; обеспечивается разработчиками программного обеспечения</a:t>
            </a:r>
            <a:r>
              <a:rPr b="0" i="1" lang="ru-RU" sz="28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http://kz.all.biz/img/kz/service_catalog/27120.jpeg"/>
          <p:cNvPicPr/>
          <p:nvPr/>
        </p:nvPicPr>
        <p:blipFill>
          <a:blip r:embed="rId2"/>
          <a:stretch/>
        </p:blipFill>
        <p:spPr>
          <a:xfrm>
            <a:off x="5189400" y="1035000"/>
            <a:ext cx="3597480" cy="26830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13" name="Picture 2" descr="http://uralcons.org/wp-content/uploads/2013/06/%D0%BF%D1%80%D0%BE%D0%B3%D1%80%D0%B0%D0%BC%D0%BC%D0%B8%D1%81%D1%82.jpg"/>
          <p:cNvPicPr/>
          <p:nvPr/>
        </p:nvPicPr>
        <p:blipFill>
          <a:blip r:embed="rId3"/>
          <a:stretch/>
        </p:blipFill>
        <p:spPr>
          <a:xfrm>
            <a:off x="642960" y="1000080"/>
            <a:ext cx="4071960" cy="27180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ппаратно-программный 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600120" y="3857760"/>
            <a:ext cx="8329680" cy="2653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ппаратно-программный интерфейс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это средства аппаратного и программного обеспечения компью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ппаратно-программный и пользовательский интерфейсы обеспечиваются операционной системой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http://topachka.com/uploads/posts/2012-03/1330797767_dddddddmeni-2.jpg"/>
          <p:cNvPicPr/>
          <p:nvPr/>
        </p:nvPicPr>
        <p:blipFill>
          <a:blip r:embed="rId2"/>
          <a:stretch/>
        </p:blipFill>
        <p:spPr>
          <a:xfrm>
            <a:off x="642960" y="1333440"/>
            <a:ext cx="3922560" cy="24526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17" name="Picture 4" descr="http://fs202.jpe.ru/bcce/2164328_841e351b.jpg"/>
          <p:cNvPicPr/>
          <p:nvPr/>
        </p:nvPicPr>
        <p:blipFill>
          <a:blip r:embed="rId3"/>
          <a:stretch/>
        </p:blipFill>
        <p:spPr>
          <a:xfrm>
            <a:off x="4857840" y="1327320"/>
            <a:ext cx="3643200" cy="24904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821520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К – система, включающая подсистемы аппаратного обеспечения, программного обеспечения и информационных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К – подсистема системы «человек – компьютер». Средства, обеспечивающие взаимосвязь между объектами этой системы, называ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нтерфей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ьский интерфейс – средства взаимодействия человека и компьютера, обеспечивается 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00200" y="147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состав каких систем входит подсистема «компьютер»? Для каких систем компьютер является надсистемой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зовите надсистему для объекта «принтер». В каком отношении находятся объекты «принтер» и «струйный принтер»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 такое интерфейс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 вы знаете о пользовательском интерфейсе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кажите входы и выходы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системы «компьютер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вал 3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" descr="D:\Личные_документы\Елена\КАРТИНКИ\пк и человек.png"/>
          <p:cNvPicPr/>
          <p:nvPr/>
        </p:nvPicPr>
        <p:blipFill>
          <a:blip r:embed="rId2"/>
          <a:stretch/>
        </p:blipFill>
        <p:spPr>
          <a:xfrm>
            <a:off x="5715000" y="4600440"/>
            <a:ext cx="3429000" cy="2062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56800" y="1143000"/>
            <a:ext cx="8001000" cy="26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2640" y="5420880"/>
            <a:ext cx="7358040" cy="1079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Система «человек – компьюте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Заголовок 2"/>
          <p:cNvSpPr/>
          <p:nvPr/>
        </p:nvSpPr>
        <p:spPr>
          <a:xfrm>
            <a:off x="1071720" y="71280"/>
            <a:ext cx="785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Компь</a:t>
            </a:r>
            <a:r>
              <a:rPr b="1" lang="ru-RU" sz="4400" spc="-1" strike="noStrike">
                <a:solidFill>
                  <a:srgbClr val="17375e"/>
                </a:solidFill>
                <a:latin typeface="Arial"/>
                <a:ea typeface="Arial"/>
              </a:rPr>
              <a:t>ю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ер</a:t>
            </a:r>
            <a:r>
              <a:rPr b="1" lang="ru-RU" sz="4400" spc="-1" strike="noStrike">
                <a:solidFill>
                  <a:srgbClr val="4f81bd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как под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http://bestglobalinfo.ru/netcat_files/121/89/deti.jpg"/>
          <p:cNvPicPr/>
          <p:nvPr/>
        </p:nvPicPr>
        <p:blipFill>
          <a:blip r:embed="rId2"/>
          <a:stretch/>
        </p:blipFill>
        <p:spPr>
          <a:xfrm>
            <a:off x="1719360" y="1127160"/>
            <a:ext cx="6281640" cy="41353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8360" y="0"/>
            <a:ext cx="8101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омпьютер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ак над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Группа 25"/>
          <p:cNvGrpSpPr/>
          <p:nvPr/>
        </p:nvGrpSpPr>
        <p:grpSpPr>
          <a:xfrm>
            <a:off x="857160" y="1268280"/>
            <a:ext cx="7777080" cy="5329440"/>
            <a:chOff x="857160" y="1268280"/>
            <a:chExt cx="7777080" cy="5329440"/>
          </a:xfrm>
        </p:grpSpPr>
        <p:sp>
          <p:nvSpPr>
            <p:cNvPr id="254" name="Скругленный прямоугольник 3"/>
            <p:cNvSpPr/>
            <p:nvPr/>
          </p:nvSpPr>
          <p:spPr>
            <a:xfrm>
              <a:off x="857160" y="1268280"/>
              <a:ext cx="7777080" cy="5329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4"/>
            <p:cNvSpPr/>
            <p:nvPr/>
          </p:nvSpPr>
          <p:spPr>
            <a:xfrm>
              <a:off x="1928520" y="1412280"/>
              <a:ext cx="573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Arial"/>
                </a:rPr>
                <a:t>Персональный компьюте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Скругленный прямоугольник 5"/>
            <p:cNvSpPr/>
            <p:nvPr/>
          </p:nvSpPr>
          <p:spPr>
            <a:xfrm>
              <a:off x="1142640" y="2060280"/>
              <a:ext cx="1944000" cy="4249080"/>
            </a:xfrm>
            <a:custGeom>
              <a:avLst/>
              <a:gdLst>
                <a:gd name="textAreaLeft" fmla="*/ 94680 w 1944000"/>
                <a:gd name="textAreaRight" fmla="*/ 1849320 w 1944000"/>
                <a:gd name="textAreaTop" fmla="*/ 94680 h 4249080"/>
                <a:gd name="textAreaBottom" fmla="*/ 4154400 h 4249080"/>
              </a:gdLst>
              <a:ahLst/>
              <a:rect l="textAreaLeft" t="textAreaTop" r="textAreaRight" b="textAreaBottom"/>
              <a:pathLst>
                <a:path w="21600" h="47207">
                  <a:moveTo>
                    <a:pt x="3600" y="0"/>
                  </a:moveTo>
                  <a:arcTo wR="3600" hR="3600" stAng="16200000" swAng="-5400000"/>
                  <a:lnTo>
                    <a:pt x="0" y="43607"/>
                  </a:lnTo>
                  <a:arcTo wR="3600" hR="3600" stAng="10800000" swAng="-5400000"/>
                  <a:lnTo>
                    <a:pt x="18000" y="472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6"/>
            <p:cNvSpPr/>
            <p:nvPr/>
          </p:nvSpPr>
          <p:spPr>
            <a:xfrm>
              <a:off x="1214280" y="2142720"/>
              <a:ext cx="17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Аппаратн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Скругленный прямоугольник 7"/>
            <p:cNvSpPr/>
            <p:nvPr/>
          </p:nvSpPr>
          <p:spPr>
            <a:xfrm>
              <a:off x="1214280" y="285264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в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Скругленный прямоугольник 8"/>
            <p:cNvSpPr/>
            <p:nvPr/>
          </p:nvSpPr>
          <p:spPr>
            <a:xfrm>
              <a:off x="1214280" y="364500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обработ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Скругленный прямоугольник 9"/>
            <p:cNvSpPr/>
            <p:nvPr/>
          </p:nvSpPr>
          <p:spPr>
            <a:xfrm>
              <a:off x="1214280" y="443700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хра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Скругленный прямоугольник 10"/>
            <p:cNvSpPr/>
            <p:nvPr/>
          </p:nvSpPr>
          <p:spPr>
            <a:xfrm>
              <a:off x="1214280" y="522936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вы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Скругленный прямоугольник 11"/>
            <p:cNvSpPr/>
            <p:nvPr/>
          </p:nvSpPr>
          <p:spPr>
            <a:xfrm>
              <a:off x="3447000" y="2071080"/>
              <a:ext cx="2488680" cy="4249080"/>
            </a:xfrm>
            <a:custGeom>
              <a:avLst/>
              <a:gdLst>
                <a:gd name="textAreaLeft" fmla="*/ 121320 w 2488680"/>
                <a:gd name="textAreaRight" fmla="*/ 2367360 w 2488680"/>
                <a:gd name="textAreaTop" fmla="*/ 121320 h 4249080"/>
                <a:gd name="textAreaBottom" fmla="*/ 4127760 h 4249080"/>
              </a:gdLst>
              <a:ahLst/>
              <a:rect l="textAreaLeft" t="textAreaTop" r="textAreaRight" b="textAreaBottom"/>
              <a:pathLst>
                <a:path w="21600" h="36877">
                  <a:moveTo>
                    <a:pt x="3600" y="0"/>
                  </a:moveTo>
                  <a:arcTo wR="3600" hR="3600" stAng="16200000" swAng="-5400000"/>
                  <a:lnTo>
                    <a:pt x="0" y="33277"/>
                  </a:lnTo>
                  <a:arcTo wR="3600" hR="3600" stAng="10800000" swAng="-5400000"/>
                  <a:lnTo>
                    <a:pt x="18000" y="368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2"/>
            <p:cNvSpPr/>
            <p:nvPr/>
          </p:nvSpPr>
          <p:spPr>
            <a:xfrm>
              <a:off x="3571920" y="21528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Информационные ресур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Скругленный прямоугольник 13"/>
            <p:cNvSpPr/>
            <p:nvPr/>
          </p:nvSpPr>
          <p:spPr>
            <a:xfrm>
              <a:off x="3518640" y="286344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екстовые 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Скругленный прямоугольник 14"/>
            <p:cNvSpPr/>
            <p:nvPr/>
          </p:nvSpPr>
          <p:spPr>
            <a:xfrm>
              <a:off x="3518640" y="365580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Графические 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Скругленный прямоугольник 15"/>
            <p:cNvSpPr/>
            <p:nvPr/>
          </p:nvSpPr>
          <p:spPr>
            <a:xfrm>
              <a:off x="3518640" y="444816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вуковые 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Скругленный прямоугольник 16"/>
            <p:cNvSpPr/>
            <p:nvPr/>
          </p:nvSpPr>
          <p:spPr>
            <a:xfrm>
              <a:off x="3518640" y="524016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Файлы с видеоинформаци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Скругленный прямоугольник 17"/>
            <p:cNvSpPr/>
            <p:nvPr/>
          </p:nvSpPr>
          <p:spPr>
            <a:xfrm>
              <a:off x="6184080" y="2071080"/>
              <a:ext cx="2232360" cy="4249080"/>
            </a:xfrm>
            <a:custGeom>
              <a:avLst/>
              <a:gdLst>
                <a:gd name="textAreaLeft" fmla="*/ 108720 w 2232360"/>
                <a:gd name="textAreaRight" fmla="*/ 2123640 w 2232360"/>
                <a:gd name="textAreaTop" fmla="*/ 108720 h 4249080"/>
                <a:gd name="textAreaBottom" fmla="*/ 4140360 h 4249080"/>
              </a:gdLst>
              <a:ahLst/>
              <a:rect l="textAreaLeft" t="textAreaTop" r="textAreaRight" b="textAreaBottom"/>
              <a:pathLst>
                <a:path w="21600" h="41110">
                  <a:moveTo>
                    <a:pt x="3600" y="0"/>
                  </a:moveTo>
                  <a:arcTo wR="3600" hR="3600" stAng="16200000" swAng="-5400000"/>
                  <a:lnTo>
                    <a:pt x="0" y="37510"/>
                  </a:lnTo>
                  <a:arcTo wR="3600" hR="3600" stAng="10800000" swAng="-5400000"/>
                  <a:lnTo>
                    <a:pt x="18000" y="41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8"/>
            <p:cNvSpPr/>
            <p:nvPr/>
          </p:nvSpPr>
          <p:spPr>
            <a:xfrm>
              <a:off x="6143760" y="2149560"/>
              <a:ext cx="224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Программн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Скругленный прямоугольник 19"/>
            <p:cNvSpPr/>
            <p:nvPr/>
          </p:nvSpPr>
          <p:spPr>
            <a:xfrm>
              <a:off x="6661080" y="2863440"/>
              <a:ext cx="1800000" cy="720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перационная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Скругленный прямоугольник 23"/>
            <p:cNvSpPr/>
            <p:nvPr/>
          </p:nvSpPr>
          <p:spPr>
            <a:xfrm>
              <a:off x="6286680" y="2863440"/>
              <a:ext cx="2016360" cy="2448720"/>
            </a:xfrm>
            <a:custGeom>
              <a:avLst/>
              <a:gdLst>
                <a:gd name="textAreaLeft" fmla="*/ 98280 w 2016360"/>
                <a:gd name="textAreaRight" fmla="*/ 1918080 w 2016360"/>
                <a:gd name="textAreaTop" fmla="*/ 98280 h 2448720"/>
                <a:gd name="textAreaBottom" fmla="*/ 2350440 h 2448720"/>
              </a:gdLst>
              <a:ahLst/>
              <a:rect l="textAreaLeft" t="textAreaTop" r="textAreaRight" b="textAreaBottom"/>
              <a:pathLst>
                <a:path w="21600" h="26231">
                  <a:moveTo>
                    <a:pt x="3600" y="0"/>
                  </a:moveTo>
                  <a:arcTo wR="3600" hR="3600" stAng="16200000" swAng="-5400000"/>
                  <a:lnTo>
                    <a:pt x="0" y="22631"/>
                  </a:lnTo>
                  <a:arcTo wR="3600" hR="3600" stAng="10800000" swAng="-5400000"/>
                  <a:lnTo>
                    <a:pt x="18000" y="262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7e4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Скругленный прямоугольник 20"/>
            <p:cNvSpPr/>
            <p:nvPr/>
          </p:nvSpPr>
          <p:spPr>
            <a:xfrm>
              <a:off x="6399720" y="365580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истем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Скругленный прямоугольник 21"/>
            <p:cNvSpPr/>
            <p:nvPr/>
          </p:nvSpPr>
          <p:spPr>
            <a:xfrm>
              <a:off x="6399720" y="444816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лужеб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Скругленный прямоугольник 22"/>
            <p:cNvSpPr/>
            <p:nvPr/>
          </p:nvSpPr>
          <p:spPr>
            <a:xfrm>
              <a:off x="6399720" y="538416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риклад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4"/>
            <p:cNvSpPr/>
            <p:nvPr/>
          </p:nvSpPr>
          <p:spPr>
            <a:xfrm>
              <a:off x="6328440" y="3007440"/>
              <a:ext cx="188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6228"/>
                  </a:solidFill>
                  <a:latin typeface="Arial"/>
                </a:rPr>
                <a:t>Операционная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43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ппаратное обесп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3"/>
          <p:cNvSpPr/>
          <p:nvPr/>
        </p:nvSpPr>
        <p:spPr>
          <a:xfrm>
            <a:off x="1403280" y="1285920"/>
            <a:ext cx="2522520" cy="5000760"/>
          </a:xfrm>
          <a:custGeom>
            <a:avLst/>
            <a:gdLst>
              <a:gd name="textAreaLeft" fmla="*/ 123120 w 2522520"/>
              <a:gd name="textAreaRight" fmla="*/ 2399400 w 2522520"/>
              <a:gd name="textAreaTop" fmla="*/ 123120 h 5000760"/>
              <a:gd name="textAreaBottom" fmla="*/ 4877640 h 5000760"/>
            </a:gdLst>
            <a:ahLst/>
            <a:rect l="textAreaLeft" t="textAreaTop" r="textAreaRight" b="textAreaBottom"/>
            <a:pathLst>
              <a:path w="21600" h="42818">
                <a:moveTo>
                  <a:pt x="3600" y="0"/>
                </a:moveTo>
                <a:arcTo wR="3600" hR="3600" stAng="16200000" swAng="-5400000"/>
                <a:lnTo>
                  <a:pt x="0" y="39218"/>
                </a:lnTo>
                <a:arcTo wR="3600" hR="3600" stAng="10800000" swAng="-5400000"/>
                <a:lnTo>
                  <a:pt x="18000" y="428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1643040" y="142884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Аппарат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5"/>
          <p:cNvSpPr/>
          <p:nvPr/>
        </p:nvSpPr>
        <p:spPr>
          <a:xfrm>
            <a:off x="1476360" y="2152800"/>
            <a:ext cx="2333520" cy="847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6"/>
          <p:cNvSpPr/>
          <p:nvPr/>
        </p:nvSpPr>
        <p:spPr>
          <a:xfrm>
            <a:off x="1476360" y="3152880"/>
            <a:ext cx="2333520" cy="84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об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7"/>
          <p:cNvSpPr/>
          <p:nvPr/>
        </p:nvSpPr>
        <p:spPr>
          <a:xfrm>
            <a:off x="1476360" y="4152960"/>
            <a:ext cx="2333520" cy="84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8"/>
          <p:cNvSpPr/>
          <p:nvPr/>
        </p:nvSpPr>
        <p:spPr>
          <a:xfrm>
            <a:off x="1476360" y="5153040"/>
            <a:ext cx="2333520" cy="84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4071960" y="2643120"/>
            <a:ext cx="4786200" cy="3506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Подсистема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 аппаратного обеспечения выступает в качестве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надсистемы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 для входящих в него устрой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10"/>
          <p:cNvSpPr/>
          <p:nvPr/>
        </p:nvSpPr>
        <p:spPr>
          <a:xfrm>
            <a:off x="7215120" y="121428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eorg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643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перацион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4143240" y="1468440"/>
            <a:ext cx="4721400" cy="3993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перационная система –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подсистема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программного обеспечения и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надсистема,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в состав которой входят системные и служебные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10"/>
          <p:cNvSpPr/>
          <p:nvPr/>
        </p:nvSpPr>
        <p:spPr>
          <a:xfrm>
            <a:off x="1555920" y="2135160"/>
            <a:ext cx="180000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цион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1224000" y="1285920"/>
            <a:ext cx="2562120" cy="3162240"/>
          </a:xfrm>
          <a:custGeom>
            <a:avLst/>
            <a:gdLst>
              <a:gd name="textAreaLeft" fmla="*/ 124920 w 2562120"/>
              <a:gd name="textAreaRight" fmla="*/ 2437200 w 2562120"/>
              <a:gd name="textAreaTop" fmla="*/ 124920 h 3162240"/>
              <a:gd name="textAreaBottom" fmla="*/ 3037320 h 3162240"/>
            </a:gdLst>
            <a:ahLst/>
            <a:rect l="textAreaLeft" t="textAreaTop" r="textAreaRight" b="textAreaBottom"/>
            <a:pathLst>
              <a:path w="21600" h="26659">
                <a:moveTo>
                  <a:pt x="3600" y="0"/>
                </a:moveTo>
                <a:arcTo wR="3600" hR="3600" stAng="16200000" swAng="-5400000"/>
                <a:lnTo>
                  <a:pt x="0" y="23059"/>
                </a:lnTo>
                <a:arcTo wR="3600" hR="3600" stAng="10800000" swAng="-5400000"/>
                <a:lnTo>
                  <a:pt x="18000" y="266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12"/>
          <p:cNvSpPr/>
          <p:nvPr/>
        </p:nvSpPr>
        <p:spPr>
          <a:xfrm>
            <a:off x="1332000" y="2143080"/>
            <a:ext cx="2287440" cy="9302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кругленный прямоугольник 13"/>
          <p:cNvSpPr/>
          <p:nvPr/>
        </p:nvSpPr>
        <p:spPr>
          <a:xfrm>
            <a:off x="1332000" y="3213000"/>
            <a:ext cx="2287440" cy="9302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ужеб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4"/>
          <p:cNvSpPr/>
          <p:nvPr/>
        </p:nvSpPr>
        <p:spPr>
          <a:xfrm>
            <a:off x="1332000" y="1370160"/>
            <a:ext cx="22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</a:rPr>
              <a:t>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" descr=""/>
          <p:cNvPicPr/>
          <p:nvPr/>
        </p:nvPicPr>
        <p:blipFill>
          <a:blip r:embed="rId2"/>
          <a:stretch/>
        </p:blipFill>
        <p:spPr>
          <a:xfrm>
            <a:off x="1000080" y="4881600"/>
            <a:ext cx="2928960" cy="904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50104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>
            <a:off x="4071960" y="1285920"/>
            <a:ext cx="4786200" cy="4968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Система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информационных ресурсов включает в себя 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подсистемы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текстовых и графических файлов, звуковых файлов, файлов с видеоинформацией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8"/>
          <p:cNvSpPr/>
          <p:nvPr/>
        </p:nvSpPr>
        <p:spPr>
          <a:xfrm>
            <a:off x="1000080" y="1274760"/>
            <a:ext cx="2714760" cy="5095800"/>
          </a:xfrm>
          <a:custGeom>
            <a:avLst/>
            <a:gdLst>
              <a:gd name="textAreaLeft" fmla="*/ 132480 w 2714760"/>
              <a:gd name="textAreaRight" fmla="*/ 2582280 w 2714760"/>
              <a:gd name="textAreaTop" fmla="*/ 132480 h 5095800"/>
              <a:gd name="textAreaBottom" fmla="*/ 4963320 h 5095800"/>
            </a:gdLst>
            <a:ahLst/>
            <a:rect l="textAreaLeft" t="textAreaTop" r="textAreaRight" b="textAreaBottom"/>
            <a:pathLst>
              <a:path w="21600" h="40542">
                <a:moveTo>
                  <a:pt x="3600" y="0"/>
                </a:moveTo>
                <a:arcTo wR="3600" hR="3600" stAng="16200000" swAng="-5400000"/>
                <a:lnTo>
                  <a:pt x="0" y="36942"/>
                </a:lnTo>
                <a:arcTo wR="3600" hR="3600" stAng="10800000" swAng="-5400000"/>
                <a:lnTo>
                  <a:pt x="18000" y="405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5"/>
          <p:cNvSpPr/>
          <p:nvPr/>
        </p:nvSpPr>
        <p:spPr>
          <a:xfrm>
            <a:off x="1071720" y="1500120"/>
            <a:ext cx="256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Arial"/>
              </a:rPr>
              <a:t>Информационные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16"/>
          <p:cNvSpPr/>
          <p:nvPr/>
        </p:nvSpPr>
        <p:spPr>
          <a:xfrm>
            <a:off x="1071720" y="228600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кстовые 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17"/>
          <p:cNvSpPr/>
          <p:nvPr/>
        </p:nvSpPr>
        <p:spPr>
          <a:xfrm>
            <a:off x="1071720" y="328608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фические 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18"/>
          <p:cNvSpPr/>
          <p:nvPr/>
        </p:nvSpPr>
        <p:spPr>
          <a:xfrm>
            <a:off x="1071720" y="428616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вуковые 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19"/>
          <p:cNvSpPr/>
          <p:nvPr/>
        </p:nvSpPr>
        <p:spPr>
          <a:xfrm>
            <a:off x="1071720" y="528012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йлы с видеоинформ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ользовательский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, обеспечивающие взаимосвязь между объектами системы «человек – компьютер»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терфейсом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ичают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ппарат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ограмм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ппаратно-программ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ьзовательск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терфей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ьзовательский интерфейс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средства взаимодействия человек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ппаратный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714240" y="4549680"/>
            <a:ext cx="8215560" cy="180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ппаратный интерфей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это средства взаимодействия между устройствами компьютера; обеспечивается  производителями обору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http://www.notik.ru/img/100429_hp_foxconn_plant_spb.JPG"/>
          <p:cNvPicPr/>
          <p:nvPr/>
        </p:nvPicPr>
        <p:blipFill>
          <a:blip r:embed="rId2"/>
          <a:stretch/>
        </p:blipFill>
        <p:spPr>
          <a:xfrm>
            <a:off x="4203720" y="1285920"/>
            <a:ext cx="4640400" cy="30718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09" name="Picture 4" descr="http://www.bytemag.ru/images/byte_archive/images/No7_2003/Depo/ris5.jpg"/>
          <p:cNvPicPr/>
          <p:nvPr/>
        </p:nvPicPr>
        <p:blipFill>
          <a:blip r:embed="rId3"/>
          <a:stretch/>
        </p:blipFill>
        <p:spPr>
          <a:xfrm>
            <a:off x="763560" y="1285920"/>
            <a:ext cx="3022560" cy="303516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29:30Z</dcterms:modified>
  <cp:revision>27</cp:revision>
  <dc:subject/>
  <dc:title>Презентация PowerPoint</dc:title>
</cp:coreProperties>
</file>