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858-0A64-4EC2-8EE1-B4575141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DBC-4EB2-4A16-A13F-17D5023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472-D7EE-4D94-864E-A0E0866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987-8DB0-4F96-AAFD-2A7B13EC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2396-1048-4FFC-B616-0D93AE6E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E97-BDF0-4C60-B326-BA28441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A4C6-9B07-48AE-BDC5-36733E3F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969C-5F4A-4975-A183-3725E0E3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6092-58B7-4A82-AE4E-3A80DF75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E95-D7A9-407C-994C-E0BF4163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62A9-008F-48FB-9F8C-685C5977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00A-3599-400F-8353-59AE30B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551-8DF0-4CD7-96D9-3922228A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9450-6404-41C4-961A-070A1D1B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D2E-2297-4265-837F-C636BAC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2BAB-F999-4BB5-9703-0C5B88C1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ABD-34C8-4461-B03C-F2DB6EAF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8F7B-150C-42AD-9A05-A274A23F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16A3-309D-400F-B4FF-E01FB8C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B3F9-C7B7-49D1-8BD1-15116C13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F5917-6B96-46B9-B922-1B20003B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FE64-54D1-4178-9EB7-2226113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243-C024-4692-93B0-7D04C6F4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2F15-9A9B-4142-A01F-FA9E8FB2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D4CB-6233-4DE2-AE91-61746ED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573D-67B4-4AD1-B942-ECDE1EC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9E45-C325-4F3B-8EAC-C293D52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47BD-839F-4C46-8DB6-18AA2C7D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DE03-5846-4975-987F-51BF2E0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544A-6106-40DA-BAED-7FED180B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E253-C118-4227-B979-B5F5AC5D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7265-5793-41C8-95EE-0150651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5A08-083D-4047-9B76-FC29AEC8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FCA-C8D6-4EDC-9004-C7A67B0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54F6-F7E4-42DD-B090-85B3CCA6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19E57-EDAA-4159-9AB7-9426560A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DA74-9CF9-4DDD-8948-7095A06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F5A6-FE6D-4788-9D11-B0C5080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2912-3A71-4031-9DA3-B65FEE3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41BB-59C3-4ACD-8305-FC9701A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1ED5-546B-4BB6-856C-B1E66227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657B-68DD-408A-A81D-F512FC27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9B50-A0E5-4D95-9EEF-5622820D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750-5943-4795-BEB2-2D109CB8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E4C-8DE2-4CA8-B983-D4BC342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7AB-1C72-4736-9025-777CE8F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2F2-0DA9-482A-B3E9-13DD597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4F0-D319-4D41-BE2C-8F27C47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C8B-A1EC-40FE-B775-87156B0EED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799C-187C-4E78-989A-B57D38AA32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2DE-E75F-4E3A-9A57-3CE1291475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9892-6208-46A4-9761-B1911B20F1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71440" y="249228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СОНАЛЬНЫЙ  КОМПЬЮТЕР  КАК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3071880" y="421488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омпьютер как надсистема и по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льзовательский интерфей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ограмм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642960" y="3822840"/>
            <a:ext cx="821520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грамм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(совместимости) программ между собой, а также программного обеспечения и информационных ресурсов; обеспечивается разработчиками программного обеспечения</a:t>
            </a:r>
            <a:r>
              <a:rPr b="0" i="1" lang="ru-RU" sz="2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http://kz.all.biz/img/kz/service_catalog/27120.jpeg"/>
          <p:cNvPicPr/>
          <p:nvPr/>
        </p:nvPicPr>
        <p:blipFill>
          <a:blip r:embed="rId2"/>
          <a:stretch/>
        </p:blipFill>
        <p:spPr>
          <a:xfrm>
            <a:off x="5189400" y="1035000"/>
            <a:ext cx="3597480" cy="26830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3" name="Picture 2" descr="http://uralcons.org/wp-content/uploads/2013/06/%D0%BF%D1%80%D0%BE%D0%B3%D1%80%D0%B0%D0%BC%D0%BC%D0%B8%D1%81%D1%82.jpg"/>
          <p:cNvPicPr/>
          <p:nvPr/>
        </p:nvPicPr>
        <p:blipFill>
          <a:blip r:embed="rId3"/>
          <a:stretch/>
        </p:blipFill>
        <p:spPr>
          <a:xfrm>
            <a:off x="642960" y="1000080"/>
            <a:ext cx="4071960" cy="2718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-программный 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600120" y="3857760"/>
            <a:ext cx="8329680" cy="2653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нтерфей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это средства аппаратного и программного обеспечения компьют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ппаратно-программный и пользовательский интерфейсы обеспечиваются операционной системой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http://topachka.com/uploads/posts/2012-03/1330797767_dddddddmeni-2.jpg"/>
          <p:cNvPicPr/>
          <p:nvPr/>
        </p:nvPicPr>
        <p:blipFill>
          <a:blip r:embed="rId2"/>
          <a:stretch/>
        </p:blipFill>
        <p:spPr>
          <a:xfrm>
            <a:off x="642960" y="1333440"/>
            <a:ext cx="3922560" cy="245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7" name="Picture 4" descr="http://fs202.jpe.ru/bcce/2164328_841e351b.jpg"/>
          <p:cNvPicPr/>
          <p:nvPr/>
        </p:nvPicPr>
        <p:blipFill>
          <a:blip r:embed="rId3"/>
          <a:stretch/>
        </p:blipFill>
        <p:spPr>
          <a:xfrm>
            <a:off x="4857840" y="1327320"/>
            <a:ext cx="3643200" cy="24904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821520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система, включающая подсистемы аппаратного обеспечения, программного обеспечения и информационны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К – подсистема системы «человек – компьютер». Средства, обеспечивающие взаимосвязь между объектами этой системы,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терфей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ский интерфейс – средства взаимодействия человека и компьютера, обеспечивается 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00200" y="147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остав каких систем входит подсистема «компьютер»? Для каких систем компьютер является надсистемо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зовите надсистему для объекта «принтер». В каком отношении находятся объекты «принтер» и «струйный принтер»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такое интерфейс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 вы знаете о пользовательском интерфейсе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жите входы и выходы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истемы «компьютер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3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" descr="D:\Личные_документы\Елена\КАРТИНКИ\пк и человек.png"/>
          <p:cNvPicPr/>
          <p:nvPr/>
        </p:nvPicPr>
        <p:blipFill>
          <a:blip r:embed="rId2"/>
          <a:stretch/>
        </p:blipFill>
        <p:spPr>
          <a:xfrm>
            <a:off x="5715000" y="4600440"/>
            <a:ext cx="3429000" cy="206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1143000"/>
            <a:ext cx="8001000" cy="26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ьзовательски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5420880"/>
            <a:ext cx="7358040" cy="1079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Система «человек – компьюте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2"/>
          <p:cNvSpPr/>
          <p:nvPr/>
        </p:nvSpPr>
        <p:spPr>
          <a:xfrm>
            <a:off x="1071720" y="71280"/>
            <a:ext cx="785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омпь</a:t>
            </a:r>
            <a:r>
              <a:rPr b="1" lang="ru-RU" sz="4400" spc="-1" strike="noStrike">
                <a:solidFill>
                  <a:srgbClr val="17375e"/>
                </a:solidFill>
                <a:latin typeface="Arial"/>
                <a:ea typeface="Arial"/>
              </a:rPr>
              <a:t>ю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тер</a:t>
            </a:r>
            <a:r>
              <a:rPr b="1" lang="ru-RU" sz="4400" spc="-1" strike="noStrike">
                <a:solidFill>
                  <a:srgbClr val="4f81bd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как по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http://bestglobalinfo.ru/netcat_files/121/89/deti.jpg"/>
          <p:cNvPicPr/>
          <p:nvPr/>
        </p:nvPicPr>
        <p:blipFill>
          <a:blip r:embed="rId2"/>
          <a:stretch/>
        </p:blipFill>
        <p:spPr>
          <a:xfrm>
            <a:off x="1719360" y="1127160"/>
            <a:ext cx="6281640" cy="413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360" y="0"/>
            <a:ext cx="8101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омпьютер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ак над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Группа 25"/>
          <p:cNvGrpSpPr/>
          <p:nvPr/>
        </p:nvGrpSpPr>
        <p:grpSpPr>
          <a:xfrm>
            <a:off x="857160" y="1268280"/>
            <a:ext cx="7777080" cy="5329440"/>
            <a:chOff x="857160" y="1268280"/>
            <a:chExt cx="7777080" cy="5329440"/>
          </a:xfrm>
        </p:grpSpPr>
        <p:sp>
          <p:nvSpPr>
            <p:cNvPr id="254" name="Скругленный прямоугольник 3"/>
            <p:cNvSpPr/>
            <p:nvPr/>
          </p:nvSpPr>
          <p:spPr>
            <a:xfrm>
              <a:off x="857160" y="1268280"/>
              <a:ext cx="7777080" cy="5329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"/>
            <p:cNvSpPr/>
            <p:nvPr/>
          </p:nvSpPr>
          <p:spPr>
            <a:xfrm>
              <a:off x="1928520" y="1412280"/>
              <a:ext cx="57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Персональный 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Скругленный прямоугольник 5"/>
            <p:cNvSpPr/>
            <p:nvPr/>
          </p:nvSpPr>
          <p:spPr>
            <a:xfrm>
              <a:off x="1142640" y="2060280"/>
              <a:ext cx="1944000" cy="4249080"/>
            </a:xfrm>
            <a:custGeom>
              <a:avLst/>
              <a:gdLst>
                <a:gd name="textAreaLeft" fmla="*/ 94680 w 1944000"/>
                <a:gd name="textAreaRight" fmla="*/ 1849320 w 1944000"/>
                <a:gd name="textAreaTop" fmla="*/ 94680 h 4249080"/>
                <a:gd name="textAreaBottom" fmla="*/ 4154400 h 4249080"/>
              </a:gdLst>
              <a:ahLst/>
              <a:rect l="textAreaLeft" t="textAreaTop" r="textAreaRight" b="textAreaBottom"/>
              <a:pathLst>
                <a:path w="21600" h="47207">
                  <a:moveTo>
                    <a:pt x="3600" y="0"/>
                  </a:moveTo>
                  <a:arcTo wR="3600" hR="3600" stAng="16200000" swAng="-5400000"/>
                  <a:lnTo>
                    <a:pt x="0" y="43607"/>
                  </a:lnTo>
                  <a:arcTo wR="3600" hR="3600" stAng="10800000" swAng="-5400000"/>
                  <a:lnTo>
                    <a:pt x="18000" y="472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"/>
            <p:cNvSpPr/>
            <p:nvPr/>
          </p:nvSpPr>
          <p:spPr>
            <a:xfrm>
              <a:off x="1214280" y="2142720"/>
              <a:ext cx="17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Аппарат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Скругленный прямоугольник 7"/>
            <p:cNvSpPr/>
            <p:nvPr/>
          </p:nvSpPr>
          <p:spPr>
            <a:xfrm>
              <a:off x="1214280" y="285264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Скругленный прямоугольник 8"/>
            <p:cNvSpPr/>
            <p:nvPr/>
          </p:nvSpPr>
          <p:spPr>
            <a:xfrm>
              <a:off x="1214280" y="3645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об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Скругленный прямоугольник 9"/>
            <p:cNvSpPr/>
            <p:nvPr/>
          </p:nvSpPr>
          <p:spPr>
            <a:xfrm>
              <a:off x="1214280" y="44370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Скругленный прямоугольник 10"/>
            <p:cNvSpPr/>
            <p:nvPr/>
          </p:nvSpPr>
          <p:spPr>
            <a:xfrm>
              <a:off x="1214280" y="52293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стройства вы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Скругленный прямоугольник 11"/>
            <p:cNvSpPr/>
            <p:nvPr/>
          </p:nvSpPr>
          <p:spPr>
            <a:xfrm>
              <a:off x="3447000" y="2071080"/>
              <a:ext cx="2488680" cy="4249080"/>
            </a:xfrm>
            <a:custGeom>
              <a:avLst/>
              <a:gdLst>
                <a:gd name="textAreaLeft" fmla="*/ 121320 w 2488680"/>
                <a:gd name="textAreaRight" fmla="*/ 2367360 w 2488680"/>
                <a:gd name="textAreaTop" fmla="*/ 121320 h 4249080"/>
                <a:gd name="textAreaBottom" fmla="*/ 4127760 h 4249080"/>
              </a:gdLst>
              <a:ahLst/>
              <a:rect l="textAreaLeft" t="textAreaTop" r="textAreaRight" b="textAreaBottom"/>
              <a:pathLst>
                <a:path w="21600" h="36877">
                  <a:moveTo>
                    <a:pt x="3600" y="0"/>
                  </a:moveTo>
                  <a:arcTo wR="3600" hR="3600" stAng="16200000" swAng="-5400000"/>
                  <a:lnTo>
                    <a:pt x="0" y="33277"/>
                  </a:lnTo>
                  <a:arcTo wR="3600" hR="3600" stAng="10800000" swAng="-5400000"/>
                  <a:lnTo>
                    <a:pt x="18000" y="368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3571920" y="2152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нформационные ресур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Скругленный прямоугольник 13"/>
            <p:cNvSpPr/>
            <p:nvPr/>
          </p:nvSpPr>
          <p:spPr>
            <a:xfrm>
              <a:off x="3518640" y="286344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екст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Скругленный прямоугольник 14"/>
            <p:cNvSpPr/>
            <p:nvPr/>
          </p:nvSpPr>
          <p:spPr>
            <a:xfrm>
              <a:off x="3518640" y="365580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Графически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Скругленный прямоугольник 15"/>
            <p:cNvSpPr/>
            <p:nvPr/>
          </p:nvSpPr>
          <p:spPr>
            <a:xfrm>
              <a:off x="3518640" y="4448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вуковые фай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Скругленный прямоугольник 16"/>
            <p:cNvSpPr/>
            <p:nvPr/>
          </p:nvSpPr>
          <p:spPr>
            <a:xfrm>
              <a:off x="3518640" y="5240160"/>
              <a:ext cx="2304360" cy="72000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Файлы с видеоинформаци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Скругленный прямоугольник 17"/>
            <p:cNvSpPr/>
            <p:nvPr/>
          </p:nvSpPr>
          <p:spPr>
            <a:xfrm>
              <a:off x="6184080" y="2071080"/>
              <a:ext cx="2232360" cy="4249080"/>
            </a:xfrm>
            <a:custGeom>
              <a:avLst/>
              <a:gdLst>
                <a:gd name="textAreaLeft" fmla="*/ 108720 w 2232360"/>
                <a:gd name="textAreaRight" fmla="*/ 2123640 w 2232360"/>
                <a:gd name="textAreaTop" fmla="*/ 108720 h 4249080"/>
                <a:gd name="textAreaBottom" fmla="*/ 4140360 h 4249080"/>
              </a:gdLst>
              <a:ahLst/>
              <a:rect l="textAreaLeft" t="textAreaTop" r="textAreaRight" b="textAreaBottom"/>
              <a:pathLst>
                <a:path w="21600" h="41110">
                  <a:moveTo>
                    <a:pt x="3600" y="0"/>
                  </a:moveTo>
                  <a:arcTo wR="3600" hR="3600" stAng="16200000" swAng="-5400000"/>
                  <a:lnTo>
                    <a:pt x="0" y="37510"/>
                  </a:lnTo>
                  <a:arcTo wR="3600" hR="3600" stAng="10800000" swAng="-5400000"/>
                  <a:lnTo>
                    <a:pt x="18000" y="411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8"/>
            <p:cNvSpPr/>
            <p:nvPr/>
          </p:nvSpPr>
          <p:spPr>
            <a:xfrm>
              <a:off x="6143760" y="2149560"/>
              <a:ext cx="224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Программн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9"/>
            <p:cNvSpPr/>
            <p:nvPr/>
          </p:nvSpPr>
          <p:spPr>
            <a:xfrm>
              <a:off x="6661080" y="2863440"/>
              <a:ext cx="1800000" cy="7200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Скругленный прямоугольник 23"/>
            <p:cNvSpPr/>
            <p:nvPr/>
          </p:nvSpPr>
          <p:spPr>
            <a:xfrm>
              <a:off x="6286680" y="2863440"/>
              <a:ext cx="2016360" cy="2448720"/>
            </a:xfrm>
            <a:custGeom>
              <a:avLst/>
              <a:gdLst>
                <a:gd name="textAreaLeft" fmla="*/ 98280 w 2016360"/>
                <a:gd name="textAreaRight" fmla="*/ 1918080 w 2016360"/>
                <a:gd name="textAreaTop" fmla="*/ 98280 h 2448720"/>
                <a:gd name="textAreaBottom" fmla="*/ 2350440 h 2448720"/>
              </a:gdLst>
              <a:ahLst/>
              <a:rect l="textAreaLeft" t="textAreaTop" r="textAreaRight" b="textAreaBottom"/>
              <a:pathLst>
                <a:path w="21600" h="26231">
                  <a:moveTo>
                    <a:pt x="3600" y="0"/>
                  </a:moveTo>
                  <a:arcTo wR="3600" hR="3600" stAng="16200000" swAng="-5400000"/>
                  <a:lnTo>
                    <a:pt x="0" y="22631"/>
                  </a:lnTo>
                  <a:arcTo wR="3600" hR="3600" stAng="10800000" swAng="-5400000"/>
                  <a:lnTo>
                    <a:pt x="18000" y="262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7e4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Скругленный прямоугольник 20"/>
            <p:cNvSpPr/>
            <p:nvPr/>
          </p:nvSpPr>
          <p:spPr>
            <a:xfrm>
              <a:off x="6399720" y="365580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истем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Скругленный прямоугольник 21"/>
            <p:cNvSpPr/>
            <p:nvPr/>
          </p:nvSpPr>
          <p:spPr>
            <a:xfrm>
              <a:off x="6399720" y="4448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ужеб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Скругленный прямоугольник 22"/>
            <p:cNvSpPr/>
            <p:nvPr/>
          </p:nvSpPr>
          <p:spPr>
            <a:xfrm>
              <a:off x="6399720" y="5384160"/>
              <a:ext cx="1800000" cy="720000"/>
            </a:xfrm>
            <a:prstGeom prst="roundRect">
              <a:avLst>
                <a:gd name="adj" fmla="val 16667"/>
              </a:avLst>
            </a:prstGeom>
            <a:solidFill>
              <a:srgbClr val="4bacc6"/>
            </a:solidFill>
            <a:ln w="25560">
              <a:solidFill>
                <a:srgbClr val="357d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кла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328440" y="3007440"/>
              <a:ext cx="188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6228"/>
                  </a:solidFill>
                  <a:latin typeface="Arial"/>
                </a:rPr>
                <a:t>Опер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ое обесп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3"/>
          <p:cNvSpPr/>
          <p:nvPr/>
        </p:nvSpPr>
        <p:spPr>
          <a:xfrm>
            <a:off x="1403280" y="1285920"/>
            <a:ext cx="2522520" cy="5000760"/>
          </a:xfrm>
          <a:custGeom>
            <a:avLst/>
            <a:gdLst>
              <a:gd name="textAreaLeft" fmla="*/ 123120 w 2522520"/>
              <a:gd name="textAreaRight" fmla="*/ 2399400 w 2522520"/>
              <a:gd name="textAreaTop" fmla="*/ 123120 h 5000760"/>
              <a:gd name="textAreaBottom" fmla="*/ 4877640 h 5000760"/>
            </a:gdLst>
            <a:ahLst/>
            <a:rect l="textAreaLeft" t="textAreaTop" r="textAreaRight" b="textAreaBottom"/>
            <a:pathLst>
              <a:path w="21600" h="42818">
                <a:moveTo>
                  <a:pt x="3600" y="0"/>
                </a:moveTo>
                <a:arcTo wR="3600" hR="3600" stAng="16200000" swAng="-5400000"/>
                <a:lnTo>
                  <a:pt x="0" y="39218"/>
                </a:lnTo>
                <a:arcTo wR="3600" hR="3600" stAng="10800000" swAng="-5400000"/>
                <a:lnTo>
                  <a:pt x="18000" y="428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643040" y="14288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Аппарат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5"/>
          <p:cNvSpPr/>
          <p:nvPr/>
        </p:nvSpPr>
        <p:spPr>
          <a:xfrm>
            <a:off x="1476360" y="2152800"/>
            <a:ext cx="2333520" cy="847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6"/>
          <p:cNvSpPr/>
          <p:nvPr/>
        </p:nvSpPr>
        <p:spPr>
          <a:xfrm>
            <a:off x="1476360" y="315288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7"/>
          <p:cNvSpPr/>
          <p:nvPr/>
        </p:nvSpPr>
        <p:spPr>
          <a:xfrm>
            <a:off x="1476360" y="415296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8"/>
          <p:cNvSpPr/>
          <p:nvPr/>
        </p:nvSpPr>
        <p:spPr>
          <a:xfrm>
            <a:off x="1476360" y="5153040"/>
            <a:ext cx="2333520" cy="84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ройства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071960" y="2643120"/>
            <a:ext cx="4786200" cy="35060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аппаратного обеспечения выступает в качестве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ы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 для входящих в него устрой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0"/>
          <p:cNvSpPr/>
          <p:nvPr/>
        </p:nvSpPr>
        <p:spPr>
          <a:xfrm>
            <a:off x="7215120" y="1214280"/>
            <a:ext cx="1285920" cy="12859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пер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4143240" y="1468440"/>
            <a:ext cx="4721400" cy="399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перационная система –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программного обеспечения и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надсистема,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в состав которой входят системные и служеб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1555920" y="2135160"/>
            <a:ext cx="180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1224000" y="1285920"/>
            <a:ext cx="2562120" cy="3162240"/>
          </a:xfrm>
          <a:custGeom>
            <a:avLst/>
            <a:gdLst>
              <a:gd name="textAreaLeft" fmla="*/ 124920 w 2562120"/>
              <a:gd name="textAreaRight" fmla="*/ 2437200 w 2562120"/>
              <a:gd name="textAreaTop" fmla="*/ 124920 h 3162240"/>
              <a:gd name="textAreaBottom" fmla="*/ 3037320 h 3162240"/>
            </a:gdLst>
            <a:ahLst/>
            <a:rect l="textAreaLeft" t="textAreaTop" r="textAreaRight" b="textAreaBottom"/>
            <a:pathLst>
              <a:path w="21600" h="26659">
                <a:moveTo>
                  <a:pt x="3600" y="0"/>
                </a:moveTo>
                <a:arcTo wR="3600" hR="3600" stAng="16200000" swAng="-5400000"/>
                <a:lnTo>
                  <a:pt x="0" y="23059"/>
                </a:lnTo>
                <a:arcTo wR="3600" hR="3600" stAng="10800000" swAng="-5400000"/>
                <a:lnTo>
                  <a:pt x="18000" y="266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2"/>
          <p:cNvSpPr/>
          <p:nvPr/>
        </p:nvSpPr>
        <p:spPr>
          <a:xfrm>
            <a:off x="1332000" y="214308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3"/>
          <p:cNvSpPr/>
          <p:nvPr/>
        </p:nvSpPr>
        <p:spPr>
          <a:xfrm>
            <a:off x="1332000" y="3213000"/>
            <a:ext cx="2287440" cy="93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1332000" y="1370160"/>
            <a:ext cx="22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Arial"/>
              </a:rPr>
              <a:t>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" descr=""/>
          <p:cNvPicPr/>
          <p:nvPr/>
        </p:nvPicPr>
        <p:blipFill>
          <a:blip r:embed="rId2"/>
          <a:stretch/>
        </p:blipFill>
        <p:spPr>
          <a:xfrm>
            <a:off x="1000080" y="4881600"/>
            <a:ext cx="2928960" cy="904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5010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4071960" y="1285920"/>
            <a:ext cx="4786200" cy="496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Система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нформационных ресурсов включает в себя  </a:t>
            </a:r>
            <a:r>
              <a:rPr b="1" i="1" lang="ru-RU" sz="3200" spc="-1" strike="noStrike">
                <a:solidFill>
                  <a:srgbClr val="17375e"/>
                </a:solidFill>
                <a:latin typeface="Arial"/>
              </a:rPr>
              <a:t>подсистемы </a:t>
            </a: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текстовых и графических файлов, звуковых файлов, файлов с видеоинформацией 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1000080" y="1274760"/>
            <a:ext cx="2714760" cy="50958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5095800"/>
              <a:gd name="textAreaBottom" fmla="*/ 4963320 h 5095800"/>
            </a:gdLst>
            <a:ahLst/>
            <a:rect l="textAreaLeft" t="textAreaTop" r="textAreaRight" b="textAreaBottom"/>
            <a:pathLst>
              <a:path w="21600" h="40542">
                <a:moveTo>
                  <a:pt x="3600" y="0"/>
                </a:moveTo>
                <a:arcTo wR="3600" hR="3600" stAng="16200000" swAng="-5400000"/>
                <a:lnTo>
                  <a:pt x="0" y="36942"/>
                </a:lnTo>
                <a:arcTo wR="3600" hR="3600" stAng="10800000" swAng="-5400000"/>
                <a:lnTo>
                  <a:pt x="18000" y="405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071720" y="1500120"/>
            <a:ext cx="256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3152"/>
                </a:solidFill>
                <a:latin typeface="Arial"/>
              </a:rPr>
              <a:t>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16"/>
          <p:cNvSpPr/>
          <p:nvPr/>
        </p:nvSpPr>
        <p:spPr>
          <a:xfrm>
            <a:off x="1071720" y="228600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кст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17"/>
          <p:cNvSpPr/>
          <p:nvPr/>
        </p:nvSpPr>
        <p:spPr>
          <a:xfrm>
            <a:off x="1071720" y="328608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кругленный прямоугольник 18"/>
          <p:cNvSpPr/>
          <p:nvPr/>
        </p:nvSpPr>
        <p:spPr>
          <a:xfrm>
            <a:off x="1071720" y="428616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вуковые фай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9"/>
          <p:cNvSpPr/>
          <p:nvPr/>
        </p:nvSpPr>
        <p:spPr>
          <a:xfrm>
            <a:off x="1071720" y="5280120"/>
            <a:ext cx="2563560" cy="86364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ы с видео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715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льзовательски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, обеспечивающие взаимосвязь между объектами системы «человек – компьютер»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терфейс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ают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паратно-програм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льзовательский интерфейс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средства взаимодействия человек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ппаратный интерфей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14240" y="4549680"/>
            <a:ext cx="8215560" cy="180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ппаратный интерфей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это средства взаимодействия между устройствами компьютера; обеспечивается  производителями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http://www.notik.ru/img/100429_hp_foxconn_plant_spb.JPG"/>
          <p:cNvPicPr/>
          <p:nvPr/>
        </p:nvPicPr>
        <p:blipFill>
          <a:blip r:embed="rId2"/>
          <a:stretch/>
        </p:blipFill>
        <p:spPr>
          <a:xfrm>
            <a:off x="4203720" y="1285920"/>
            <a:ext cx="4640400" cy="30718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09" name="Picture 4" descr="http://www.bytemag.ru/images/byte_archive/images/No7_2003/Depo/ris5.jpg"/>
          <p:cNvPicPr/>
          <p:nvPr/>
        </p:nvPicPr>
        <p:blipFill>
          <a:blip r:embed="rId3"/>
          <a:stretch/>
        </p:blipFill>
        <p:spPr>
          <a:xfrm>
            <a:off x="763560" y="1285920"/>
            <a:ext cx="3022560" cy="303516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9:30Z</dcterms:modified>
  <cp:revision>27</cp:revision>
  <dc:subject/>
  <dc:title>Презентация PowerPoint</dc:title>
</cp:coreProperties>
</file>