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E6C-6215-46A5-8353-B28271EB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ECA-5FE8-4AA4-BA90-E209E0AD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350-94F7-449B-BF55-CF9DE616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086-77B6-4226-B836-41E0AB09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2739-09A0-44C1-AE87-CD8FE6BD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DDE-AE35-4A05-B922-3A505CEC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791-9B04-4B81-BF1E-8F4091AE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40D-A6B4-43AA-8E91-BEA87E06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A2D-E20C-4563-B7A6-7013291D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925-B8A0-4D03-AA01-E67980CD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C687-1263-4D80-B49F-AC4F9540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B38-8BED-4146-9D09-BA11D0E3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83BD-4022-47BD-B12C-CCEEBC945F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ОСОБЫ ЗАПИСИ АЛГОРИТ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9"/>
          <p:cNvGrpSpPr/>
          <p:nvPr/>
        </p:nvGrpSpPr>
        <p:grpSpPr>
          <a:xfrm>
            <a:off x="468360" y="1125360"/>
            <a:ext cx="8353440" cy="5256360"/>
            <a:chOff x="468360" y="1125360"/>
            <a:chExt cx="8353440" cy="5256360"/>
          </a:xfrm>
        </p:grpSpPr>
        <p:sp>
          <p:nvSpPr>
            <p:cNvPr id="109" name="Text Box 10"/>
            <p:cNvSpPr/>
            <p:nvPr/>
          </p:nvSpPr>
          <p:spPr>
            <a:xfrm>
              <a:off x="5724360" y="1701720"/>
              <a:ext cx="302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вод значений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5724360" y="2349360"/>
              <a:ext cx="302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оверка равенства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5724360" y="2925720"/>
              <a:ext cx="30243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 больше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из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5724360" y="3646440"/>
              <a:ext cx="3097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меньшение большего числа на величину меньше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5724360" y="4581360"/>
              <a:ext cx="30243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 НО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5797440" y="5373720"/>
              <a:ext cx="30243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ывод НО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16"/>
            <p:cNvGrpSpPr/>
            <p:nvPr/>
          </p:nvGrpSpPr>
          <p:grpSpPr>
            <a:xfrm>
              <a:off x="468360" y="1125360"/>
              <a:ext cx="5545080" cy="5256360"/>
              <a:chOff x="468360" y="1125360"/>
              <a:chExt cx="5545080" cy="5256360"/>
            </a:xfrm>
          </p:grpSpPr>
          <p:grpSp>
            <p:nvGrpSpPr>
              <p:cNvPr id="116" name="Group 17"/>
              <p:cNvGrpSpPr/>
              <p:nvPr/>
            </p:nvGrpSpPr>
            <p:grpSpPr>
              <a:xfrm>
                <a:off x="2197080" y="1701720"/>
                <a:ext cx="3816360" cy="360360"/>
                <a:chOff x="2197080" y="1701720"/>
                <a:chExt cx="3816360" cy="360360"/>
              </a:xfrm>
            </p:grpSpPr>
            <p:sp>
              <p:nvSpPr>
                <p:cNvPr id="117" name="Line 18"/>
                <p:cNvSpPr/>
                <p:nvPr/>
              </p:nvSpPr>
              <p:spPr>
                <a:xfrm>
                  <a:off x="2197080" y="1881720"/>
                  <a:ext cx="352908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9"/>
                <p:cNvSpPr/>
                <p:nvPr/>
              </p:nvSpPr>
              <p:spPr>
                <a:xfrm>
                  <a:off x="5726160" y="1701720"/>
                  <a:ext cx="0" cy="36036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20"/>
                <p:cNvSpPr/>
                <p:nvPr/>
              </p:nvSpPr>
              <p:spPr>
                <a:xfrm>
                  <a:off x="5726160" y="1701720"/>
                  <a:ext cx="28728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21"/>
                <p:cNvSpPr/>
                <p:nvPr/>
              </p:nvSpPr>
              <p:spPr>
                <a:xfrm>
                  <a:off x="5726160" y="2062080"/>
                  <a:ext cx="28728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Group 22"/>
              <p:cNvGrpSpPr/>
              <p:nvPr/>
            </p:nvGrpSpPr>
            <p:grpSpPr>
              <a:xfrm>
                <a:off x="468360" y="1125360"/>
                <a:ext cx="4968720" cy="5256360"/>
                <a:chOff x="468360" y="1125360"/>
                <a:chExt cx="4968720" cy="5256360"/>
              </a:xfrm>
            </p:grpSpPr>
            <p:sp>
              <p:nvSpPr>
                <p:cNvPr id="122" name="Text Box 23"/>
                <p:cNvSpPr/>
                <p:nvPr/>
              </p:nvSpPr>
              <p:spPr>
                <a:xfrm>
                  <a:off x="1836720" y="2854440"/>
                  <a:ext cx="5763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Д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Text Box 24"/>
                <p:cNvSpPr/>
                <p:nvPr/>
              </p:nvSpPr>
              <p:spPr>
                <a:xfrm>
                  <a:off x="3852720" y="2854440"/>
                  <a:ext cx="5763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25"/>
                <p:cNvGrpSpPr/>
                <p:nvPr/>
              </p:nvGrpSpPr>
              <p:grpSpPr>
                <a:xfrm>
                  <a:off x="541080" y="1125360"/>
                  <a:ext cx="4896000" cy="5256360"/>
                  <a:chOff x="541080" y="1125360"/>
                  <a:chExt cx="4896000" cy="5256360"/>
                </a:xfrm>
              </p:grpSpPr>
              <p:sp>
                <p:nvSpPr>
                  <p:cNvPr id="125" name="Line 26"/>
                  <p:cNvSpPr/>
                  <p:nvPr/>
                </p:nvSpPr>
                <p:spPr>
                  <a:xfrm flipV="1">
                    <a:off x="1620720" y="4006440"/>
                    <a:ext cx="0" cy="214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Line 27"/>
                  <p:cNvSpPr/>
                  <p:nvPr/>
                </p:nvSpPr>
                <p:spPr>
                  <a:xfrm flipV="1">
                    <a:off x="3060720" y="4222800"/>
                    <a:ext cx="0" cy="287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Group 28"/>
                  <p:cNvGrpSpPr/>
                  <p:nvPr/>
                </p:nvGrpSpPr>
                <p:grpSpPr>
                  <a:xfrm>
                    <a:off x="541080" y="1125360"/>
                    <a:ext cx="4896000" cy="5256360"/>
                    <a:chOff x="541080" y="1125360"/>
                    <a:chExt cx="4896000" cy="5256360"/>
                  </a:xfrm>
                </p:grpSpPr>
                <p:sp>
                  <p:nvSpPr>
                    <p:cNvPr id="128" name="Line 29"/>
                    <p:cNvSpPr/>
                    <p:nvPr/>
                  </p:nvSpPr>
                  <p:spPr>
                    <a:xfrm>
                      <a:off x="1620720" y="1557360"/>
                      <a:ext cx="0" cy="8650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9" name="Group 30"/>
                    <p:cNvGrpSpPr/>
                    <p:nvPr/>
                  </p:nvGrpSpPr>
                  <p:grpSpPr>
                    <a:xfrm>
                      <a:off x="541080" y="1125360"/>
                      <a:ext cx="4896000" cy="5256360"/>
                      <a:chOff x="541080" y="1125360"/>
                      <a:chExt cx="4896000" cy="5256360"/>
                    </a:xfrm>
                  </p:grpSpPr>
                  <p:sp>
                    <p:nvSpPr>
                      <p:cNvPr id="130" name="Line 31"/>
                      <p:cNvSpPr/>
                      <p:nvPr/>
                    </p:nvSpPr>
                    <p:spPr>
                      <a:xfrm>
                        <a:off x="1620720" y="4365720"/>
                        <a:ext cx="0" cy="15843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" name="AutoShape 32"/>
                      <p:cNvSpPr/>
                      <p:nvPr/>
                    </p:nvSpPr>
                    <p:spPr>
                      <a:xfrm>
                        <a:off x="900000" y="1125360"/>
                        <a:ext cx="1584360" cy="432000"/>
                      </a:xfrm>
                      <a:prstGeom prst="flowChartTerminator">
                        <a:avLst/>
                      </a:prstGeom>
                      <a:noFill/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Начало 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AutoShape 33"/>
                      <p:cNvSpPr/>
                      <p:nvPr/>
                    </p:nvSpPr>
                    <p:spPr>
                      <a:xfrm>
                        <a:off x="2484360" y="2854440"/>
                        <a:ext cx="1295280" cy="576000"/>
                      </a:xfrm>
                      <a:prstGeom prst="flowChartDecision">
                        <a:avLst/>
                      </a:prstGeom>
                      <a:noFill/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&lt;Y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" name="AutoShape 34"/>
                      <p:cNvSpPr/>
                      <p:nvPr/>
                    </p:nvSpPr>
                    <p:spPr>
                      <a:xfrm>
                        <a:off x="828720" y="5950080"/>
                        <a:ext cx="1584360" cy="431640"/>
                      </a:xfrm>
                      <a:prstGeom prst="flowChartTerminator">
                        <a:avLst/>
                      </a:prstGeom>
                      <a:noFill/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Конец 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" name="AutoShape 35"/>
                      <p:cNvSpPr/>
                      <p:nvPr/>
                    </p:nvSpPr>
                    <p:spPr>
                      <a:xfrm>
                        <a:off x="757080" y="1701720"/>
                        <a:ext cx="1584360" cy="432000"/>
                      </a:xfrm>
                      <a:prstGeom prst="flowChartInputOutput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,Y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" name="AutoShape 36"/>
                      <p:cNvSpPr/>
                      <p:nvPr/>
                    </p:nvSpPr>
                    <p:spPr>
                      <a:xfrm>
                        <a:off x="973080" y="2349360"/>
                        <a:ext cx="1295280" cy="577800"/>
                      </a:xfrm>
                      <a:prstGeom prst="flowChartDecision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: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=Y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" name="Rectangle 37"/>
                      <p:cNvSpPr/>
                      <p:nvPr/>
                    </p:nvSpPr>
                    <p:spPr>
                      <a:xfrm>
                        <a:off x="900000" y="4581360"/>
                        <a:ext cx="1441440" cy="4334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НОД:=Х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" name="AutoShape 38"/>
                      <p:cNvSpPr/>
                      <p:nvPr/>
                    </p:nvSpPr>
                    <p:spPr>
                      <a:xfrm>
                        <a:off x="828720" y="5302080"/>
                        <a:ext cx="1584360" cy="432000"/>
                      </a:xfrm>
                      <a:prstGeom prst="flowChartInputOutput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НОД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" name="Line 39"/>
                      <p:cNvSpPr/>
                      <p:nvPr/>
                    </p:nvSpPr>
                    <p:spPr>
                      <a:xfrm flipH="1">
                        <a:off x="541080" y="2638440"/>
                        <a:ext cx="4316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" name="Line 40"/>
                      <p:cNvSpPr/>
                      <p:nvPr/>
                    </p:nvSpPr>
                    <p:spPr>
                      <a:xfrm>
                        <a:off x="5437080" y="2278080"/>
                        <a:ext cx="0" cy="22320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  <a:head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0" name="Line 41"/>
                      <p:cNvSpPr/>
                      <p:nvPr/>
                    </p:nvSpPr>
                    <p:spPr>
                      <a:xfrm>
                        <a:off x="541440" y="2638440"/>
                        <a:ext cx="0" cy="1727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Line 42"/>
                      <p:cNvSpPr/>
                      <p:nvPr/>
                    </p:nvSpPr>
                    <p:spPr>
                      <a:xfrm flipH="1">
                        <a:off x="541440" y="4365720"/>
                        <a:ext cx="107928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2" name="Line 43"/>
                      <p:cNvSpPr/>
                      <p:nvPr/>
                    </p:nvSpPr>
                    <p:spPr>
                      <a:xfrm flipH="1">
                        <a:off x="1549080" y="3141720"/>
                        <a:ext cx="9349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" name="Line 44"/>
                      <p:cNvSpPr/>
                      <p:nvPr/>
                    </p:nvSpPr>
                    <p:spPr>
                      <a:xfrm flipV="1">
                        <a:off x="1549440" y="3141720"/>
                        <a:ext cx="0" cy="503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" name="Line 45"/>
                      <p:cNvSpPr/>
                      <p:nvPr/>
                    </p:nvSpPr>
                    <p:spPr>
                      <a:xfrm flipV="1">
                        <a:off x="3133800" y="2638080"/>
                        <a:ext cx="0" cy="2142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5" name="Line 46"/>
                      <p:cNvSpPr/>
                      <p:nvPr/>
                    </p:nvSpPr>
                    <p:spPr>
                      <a:xfrm flipH="1">
                        <a:off x="2268360" y="2638440"/>
                        <a:ext cx="86544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6" name="Line 47"/>
                      <p:cNvSpPr/>
                      <p:nvPr/>
                    </p:nvSpPr>
                    <p:spPr>
                      <a:xfrm flipH="1">
                        <a:off x="1620360" y="2278080"/>
                        <a:ext cx="3816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" name="Line 48"/>
                      <p:cNvSpPr/>
                      <p:nvPr/>
                    </p:nvSpPr>
                    <p:spPr>
                      <a:xfrm flipH="1">
                        <a:off x="3133800" y="4222800"/>
                        <a:ext cx="13665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" name="Line 49"/>
                      <p:cNvSpPr/>
                      <p:nvPr/>
                    </p:nvSpPr>
                    <p:spPr>
                      <a:xfrm flipH="1">
                        <a:off x="1620720" y="4222800"/>
                        <a:ext cx="16560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" name="Line 50"/>
                      <p:cNvSpPr/>
                      <p:nvPr/>
                    </p:nvSpPr>
                    <p:spPr>
                      <a:xfrm flipV="1">
                        <a:off x="4500360" y="3141360"/>
                        <a:ext cx="0" cy="10810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" name="Rectangle 51"/>
                      <p:cNvSpPr/>
                      <p:nvPr/>
                    </p:nvSpPr>
                    <p:spPr>
                      <a:xfrm>
                        <a:off x="900000" y="3646440"/>
                        <a:ext cx="1441440" cy="4334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X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: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=X-Y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" name="Line 52"/>
                      <p:cNvSpPr/>
                      <p:nvPr/>
                    </p:nvSpPr>
                    <p:spPr>
                      <a:xfrm flipH="1">
                        <a:off x="3781080" y="3141720"/>
                        <a:ext cx="7189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" name="Rectangle 53"/>
                      <p:cNvSpPr/>
                      <p:nvPr/>
                    </p:nvSpPr>
                    <p:spPr>
                      <a:xfrm>
                        <a:off x="3781440" y="3573360"/>
                        <a:ext cx="1441440" cy="4334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8160">
                        <a:solidFill>
                          <a:srgbClr val="018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Y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: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=Y-X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" name="Line 54"/>
                      <p:cNvSpPr/>
                      <p:nvPr/>
                    </p:nvSpPr>
                    <p:spPr>
                      <a:xfrm flipH="1">
                        <a:off x="3060360" y="4510080"/>
                        <a:ext cx="237636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54" name="Text Box 55"/>
                <p:cNvSpPr/>
                <p:nvPr/>
              </p:nvSpPr>
              <p:spPr>
                <a:xfrm>
                  <a:off x="468360" y="2278080"/>
                  <a:ext cx="57600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Д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Text Box 56"/>
                <p:cNvSpPr/>
                <p:nvPr/>
              </p:nvSpPr>
              <p:spPr>
                <a:xfrm>
                  <a:off x="2197080" y="2349360"/>
                  <a:ext cx="5763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57"/>
              <p:cNvGrpSpPr/>
              <p:nvPr/>
            </p:nvGrpSpPr>
            <p:grpSpPr>
              <a:xfrm>
                <a:off x="2197080" y="2349360"/>
                <a:ext cx="3816360" cy="360360"/>
                <a:chOff x="2197080" y="2349360"/>
                <a:chExt cx="3816360" cy="360360"/>
              </a:xfrm>
            </p:grpSpPr>
            <p:sp>
              <p:nvSpPr>
                <p:cNvPr id="157" name="Line 58"/>
                <p:cNvSpPr/>
                <p:nvPr/>
              </p:nvSpPr>
              <p:spPr>
                <a:xfrm>
                  <a:off x="2197080" y="2529360"/>
                  <a:ext cx="352908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59"/>
                <p:cNvSpPr/>
                <p:nvPr/>
              </p:nvSpPr>
              <p:spPr>
                <a:xfrm>
                  <a:off x="5726160" y="2349360"/>
                  <a:ext cx="0" cy="36036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60"/>
                <p:cNvSpPr/>
                <p:nvPr/>
              </p:nvSpPr>
              <p:spPr>
                <a:xfrm>
                  <a:off x="5726160" y="2349360"/>
                  <a:ext cx="28728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61"/>
                <p:cNvSpPr/>
                <p:nvPr/>
              </p:nvSpPr>
              <p:spPr>
                <a:xfrm>
                  <a:off x="5726160" y="2709720"/>
                  <a:ext cx="28728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62"/>
              <p:cNvGrpSpPr/>
              <p:nvPr/>
            </p:nvGrpSpPr>
            <p:grpSpPr>
              <a:xfrm>
                <a:off x="2341440" y="4581360"/>
                <a:ext cx="3671640" cy="360360"/>
                <a:chOff x="2341440" y="4581360"/>
                <a:chExt cx="3671640" cy="360360"/>
              </a:xfrm>
            </p:grpSpPr>
            <p:sp>
              <p:nvSpPr>
                <p:cNvPr id="162" name="Line 63"/>
                <p:cNvSpPr/>
                <p:nvPr/>
              </p:nvSpPr>
              <p:spPr>
                <a:xfrm>
                  <a:off x="2341440" y="4761360"/>
                  <a:ext cx="339552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64"/>
                <p:cNvSpPr/>
                <p:nvPr/>
              </p:nvSpPr>
              <p:spPr>
                <a:xfrm>
                  <a:off x="5736960" y="4581360"/>
                  <a:ext cx="0" cy="36036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5"/>
                <p:cNvSpPr/>
                <p:nvPr/>
              </p:nvSpPr>
              <p:spPr>
                <a:xfrm>
                  <a:off x="5736960" y="4581360"/>
                  <a:ext cx="27612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6"/>
                <p:cNvSpPr/>
                <p:nvPr/>
              </p:nvSpPr>
              <p:spPr>
                <a:xfrm>
                  <a:off x="5736960" y="4941720"/>
                  <a:ext cx="27612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67"/>
              <p:cNvGrpSpPr/>
              <p:nvPr/>
            </p:nvGrpSpPr>
            <p:grpSpPr>
              <a:xfrm>
                <a:off x="2341440" y="5302080"/>
                <a:ext cx="3671640" cy="360360"/>
                <a:chOff x="2341440" y="5302080"/>
                <a:chExt cx="3671640" cy="360360"/>
              </a:xfrm>
            </p:grpSpPr>
            <p:sp>
              <p:nvSpPr>
                <p:cNvPr id="167" name="Line 68"/>
                <p:cNvSpPr/>
                <p:nvPr/>
              </p:nvSpPr>
              <p:spPr>
                <a:xfrm>
                  <a:off x="2341440" y="5482080"/>
                  <a:ext cx="339552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69"/>
                <p:cNvSpPr/>
                <p:nvPr/>
              </p:nvSpPr>
              <p:spPr>
                <a:xfrm>
                  <a:off x="5736960" y="5302080"/>
                  <a:ext cx="0" cy="36036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70"/>
                <p:cNvSpPr/>
                <p:nvPr/>
              </p:nvSpPr>
              <p:spPr>
                <a:xfrm>
                  <a:off x="5736960" y="5302080"/>
                  <a:ext cx="27612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71"/>
                <p:cNvSpPr/>
                <p:nvPr/>
              </p:nvSpPr>
              <p:spPr>
                <a:xfrm>
                  <a:off x="5736960" y="5662440"/>
                  <a:ext cx="276120" cy="0"/>
                </a:xfrm>
                <a:prstGeom prst="line">
                  <a:avLst/>
                </a:prstGeom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Line 72"/>
              <p:cNvSpPr/>
              <p:nvPr/>
            </p:nvSpPr>
            <p:spPr>
              <a:xfrm>
                <a:off x="3637080" y="3070080"/>
                <a:ext cx="2087280" cy="0"/>
              </a:xfrm>
              <a:prstGeom prst="line">
                <a:avLst/>
              </a:prstGeom>
              <a:ln w="38160">
                <a:solidFill>
                  <a:srgbClr val="018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73"/>
              <p:cNvSpPr/>
              <p:nvPr/>
            </p:nvSpPr>
            <p:spPr>
              <a:xfrm flipH="1">
                <a:off x="5724000" y="2854440"/>
                <a:ext cx="1800" cy="576000"/>
              </a:xfrm>
              <a:prstGeom prst="line">
                <a:avLst/>
              </a:prstGeom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74"/>
              <p:cNvSpPr/>
              <p:nvPr/>
            </p:nvSpPr>
            <p:spPr>
              <a:xfrm>
                <a:off x="5726160" y="2854440"/>
                <a:ext cx="287280" cy="0"/>
              </a:xfrm>
              <a:prstGeom prst="line">
                <a:avLst/>
              </a:prstGeom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75"/>
              <p:cNvSpPr/>
              <p:nvPr/>
            </p:nvSpPr>
            <p:spPr>
              <a:xfrm>
                <a:off x="5724360" y="3430440"/>
                <a:ext cx="287280" cy="0"/>
              </a:xfrm>
              <a:prstGeom prst="line">
                <a:avLst/>
              </a:prstGeom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76"/>
              <p:cNvSpPr/>
              <p:nvPr/>
            </p:nvSpPr>
            <p:spPr>
              <a:xfrm>
                <a:off x="5221080" y="3790800"/>
                <a:ext cx="503280" cy="0"/>
              </a:xfrm>
              <a:prstGeom prst="line">
                <a:avLst/>
              </a:prstGeom>
              <a:ln w="28440">
                <a:solidFill>
                  <a:srgbClr val="018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77"/>
              <p:cNvSpPr/>
              <p:nvPr/>
            </p:nvSpPr>
            <p:spPr>
              <a:xfrm>
                <a:off x="5724360" y="3573360"/>
                <a:ext cx="0" cy="576360"/>
              </a:xfrm>
              <a:prstGeom prst="line">
                <a:avLst/>
              </a:prstGeom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78"/>
              <p:cNvSpPr/>
              <p:nvPr/>
            </p:nvSpPr>
            <p:spPr>
              <a:xfrm>
                <a:off x="5724360" y="3573360"/>
                <a:ext cx="287280" cy="0"/>
              </a:xfrm>
              <a:prstGeom prst="line">
                <a:avLst/>
              </a:prstGeom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79"/>
              <p:cNvSpPr/>
              <p:nvPr/>
            </p:nvSpPr>
            <p:spPr>
              <a:xfrm>
                <a:off x="5724360" y="4149720"/>
                <a:ext cx="287280" cy="0"/>
              </a:xfrm>
              <a:prstGeom prst="line">
                <a:avLst/>
              </a:prstGeom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Заголовок 2"/>
          <p:cNvSpPr/>
          <p:nvPr/>
        </p:nvSpPr>
        <p:spPr>
          <a:xfrm>
            <a:off x="468360" y="189000"/>
            <a:ext cx="842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Запись алгоритма Евклида с помощью блок-схемы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Заголовок 2"/>
          <p:cNvSpPr/>
          <p:nvPr/>
        </p:nvSpPr>
        <p:spPr>
          <a:xfrm>
            <a:off x="468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лгоритмические язы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68360" y="836640"/>
            <a:ext cx="84247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лгоритмические язы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формальные языки, предназначенные для записи алгоритм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268360" y="1773360"/>
            <a:ext cx="6551640" cy="549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арактеристики алгоритмиче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542880" y="1990800"/>
            <a:ext cx="172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 flipV="1">
            <a:off x="539640" y="1990800"/>
            <a:ext cx="3240" cy="28065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H="1">
            <a:off x="542880" y="393372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4646520" y="270972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ор используемых симв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4646520" y="364644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правил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ций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4646520" y="4581360"/>
            <a:ext cx="4103640" cy="1008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правил, определя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ысл и способ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ций язы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3998880" y="299880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0"/>
          <p:cNvSpPr/>
          <p:nvPr/>
        </p:nvSpPr>
        <p:spPr>
          <a:xfrm>
            <a:off x="3925800" y="3933720"/>
            <a:ext cx="505080" cy="73080"/>
          </a:xfrm>
          <a:prstGeom prst="rightArrow">
            <a:avLst>
              <a:gd name="adj1" fmla="val 50000"/>
              <a:gd name="adj2" fmla="val 2318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1"/>
          <p:cNvSpPr/>
          <p:nvPr/>
        </p:nvSpPr>
        <p:spPr>
          <a:xfrm>
            <a:off x="3925800" y="4941720"/>
            <a:ext cx="505080" cy="73080"/>
          </a:xfrm>
          <a:prstGeom prst="rightArrow">
            <a:avLst>
              <a:gd name="adj1" fmla="val 50000"/>
              <a:gd name="adj2" fmla="val 2318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046160" y="371808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интакси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1046160" y="4581360"/>
            <a:ext cx="287964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еман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 flipH="1">
            <a:off x="542880" y="47991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082520" y="2754360"/>
            <a:ext cx="28800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лфави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8"/>
          <p:cNvSpPr/>
          <p:nvPr/>
        </p:nvSpPr>
        <p:spPr>
          <a:xfrm flipH="1">
            <a:off x="542880" y="292572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7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468360" y="404640"/>
            <a:ext cx="8424720" cy="17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ий вид программы на школьном алгоритмическом язык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л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lt;название алгоритма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последовательность команд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2"/>
          <a:stretch/>
        </p:blipFill>
        <p:spPr>
          <a:xfrm>
            <a:off x="1071720" y="2286000"/>
            <a:ext cx="7132320" cy="4076640"/>
          </a:xfrm>
          <a:prstGeom prst="rect">
            <a:avLst/>
          </a:prstGeom>
          <a:ln w="38160">
            <a:solidFill>
              <a:srgbClr val="0180ff"/>
            </a:solidFill>
            <a:miter/>
          </a:ln>
        </p:spPr>
      </p:pic>
    </p:spTree>
  </p:cSld>
  <p:transition>
    <p:wedg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95280" y="836640"/>
            <a:ext cx="874872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наполнить сосуд ёмкостью 8 л из сосуда ёмкостью 12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наполнить сосуд ёмкостью 5 л из сосуда ёмкостью 8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вылить всё из сосуда ёмкостью 5 л в сосуд ёмкостью 12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вылить всё из сосуда ёмкостью 8 л в сосуд ёмкостью 5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наполнить сосуд ёмкостью 8 л из сосуда ёмкостью 12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долить из сосуда ёмкостью 8 л сосуд ёмкостью 5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Arial Unicode MS"/>
              </a:rPr>
              <a:t>вылить всё из сосуда ёмкостью 5 л в сосуд ёмкостью 12 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Заголовок 2"/>
          <p:cNvSpPr/>
          <p:nvPr/>
        </p:nvSpPr>
        <p:spPr>
          <a:xfrm>
            <a:off x="500040" y="0"/>
            <a:ext cx="84247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Алгоритм для исполнителя Водо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6" descr=""/>
          <p:cNvPicPr/>
          <p:nvPr/>
        </p:nvPicPr>
        <p:blipFill>
          <a:blip r:embed="rId2"/>
          <a:srcRect l="0" t="0" r="1367" b="0"/>
          <a:stretch/>
        </p:blipFill>
        <p:spPr>
          <a:xfrm>
            <a:off x="3929040" y="4071960"/>
            <a:ext cx="3429000" cy="2657520"/>
          </a:xfrm>
          <a:prstGeom prst="rect">
            <a:avLst/>
          </a:prstGeom>
          <a:ln w="28440">
            <a:solidFill>
              <a:srgbClr val="005ab4"/>
            </a:solidFill>
            <a:miter/>
          </a:ln>
        </p:spPr>
      </p:pic>
      <p:pic>
        <p:nvPicPr>
          <p:cNvPr id="202" name="Picture 17" descr=""/>
          <p:cNvPicPr/>
          <p:nvPr/>
        </p:nvPicPr>
        <p:blipFill>
          <a:blip r:embed="rId3"/>
          <a:stretch/>
        </p:blipFill>
        <p:spPr>
          <a:xfrm>
            <a:off x="2000160" y="4071960"/>
            <a:ext cx="1482840" cy="264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7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8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9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4"/>
          <p:cNvSpPr/>
          <p:nvPr/>
        </p:nvSpPr>
        <p:spPr>
          <a:xfrm>
            <a:off x="539640" y="981000"/>
            <a:ext cx="8209080" cy="37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различные способы записи алгоритм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овесное опис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трочная за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ок-сх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кольный алгоритмический язы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из этих способов обладает своими достоинствами и недоста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62"/>
          <p:cNvSpPr/>
          <p:nvPr/>
        </p:nvSpPr>
        <p:spPr>
          <a:xfrm>
            <a:off x="611280" y="19162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основные способы записи алгорит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63"/>
          <p:cNvSpPr/>
          <p:nvPr/>
        </p:nvSpPr>
        <p:spPr>
          <a:xfrm>
            <a:off x="611280" y="198900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вызвано существование многих способов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64"/>
          <p:cNvSpPr/>
          <p:nvPr/>
        </p:nvSpPr>
        <p:spPr>
          <a:xfrm>
            <a:off x="539640" y="198900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словесное описание алгоритма сложения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кновенных дробей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a/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c/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65"/>
          <p:cNvSpPr/>
          <p:nvPr/>
        </p:nvSpPr>
        <p:spPr>
          <a:xfrm>
            <a:off x="611280" y="184464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те в виде построчной записи алгоритм решения следующей 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меются четыре арбуза различной массы. Как, пользуясь чашечными весами без гирь, путём не более пяти взвешиваний расположить их по возрастанию веса?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6"/>
          <p:cNvSpPr/>
          <p:nvPr/>
        </p:nvSpPr>
        <p:spPr>
          <a:xfrm>
            <a:off x="539640" y="191628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те с помощью блок-схемы алгоритм решения следующей 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з трёх монет одинакового достоинства одна фальшивая (более лёгкая). Как её найти с помощью одного взвешивания на чашечных весах без гирь?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67"/>
          <p:cNvSpPr/>
          <p:nvPr/>
        </p:nvSpPr>
        <p:spPr>
          <a:xfrm>
            <a:off x="611280" y="1844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на алгоритмическом языке алгоритм построения окружности заданного радиус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оходящей через заданные точк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5580000" y="2565360"/>
            <a:ext cx="266400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лгоритмическ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язы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755640" y="2565360"/>
            <a:ext cx="194328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ловес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276720" y="2565360"/>
            <a:ext cx="194292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лок-сх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 flipV="1">
            <a:off x="1835280" y="1844640"/>
            <a:ext cx="2449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7"/>
          <p:cNvSpPr/>
          <p:nvPr/>
        </p:nvSpPr>
        <p:spPr>
          <a:xfrm flipH="1" flipV="1">
            <a:off x="4284360" y="1844640"/>
            <a:ext cx="26636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 flipH="1" flipV="1">
            <a:off x="4282560" y="1844640"/>
            <a:ext cx="180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1906560" y="1268280"/>
            <a:ext cx="48261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собы записи алгорит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755640" y="4076640"/>
            <a:ext cx="1944720" cy="1152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ы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гово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4"/>
          <p:cNvSpPr/>
          <p:nvPr/>
        </p:nvSpPr>
        <p:spPr>
          <a:xfrm>
            <a:off x="3060720" y="4076640"/>
            <a:ext cx="2378160" cy="1152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метр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г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5"/>
          <p:cNvSpPr/>
          <p:nvPr/>
        </p:nvSpPr>
        <p:spPr>
          <a:xfrm>
            <a:off x="5724360" y="4076640"/>
            <a:ext cx="2378160" cy="1152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 им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ный смысл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запис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9"/>
          <p:cNvSpPr/>
          <p:nvPr/>
        </p:nvSpPr>
        <p:spPr>
          <a:xfrm flipV="1" rot="5400000">
            <a:off x="1439640" y="367848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0"/>
          <p:cNvSpPr/>
          <p:nvPr/>
        </p:nvSpPr>
        <p:spPr>
          <a:xfrm flipV="1" rot="5400000">
            <a:off x="4032000" y="367848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1"/>
          <p:cNvSpPr/>
          <p:nvPr/>
        </p:nvSpPr>
        <p:spPr>
          <a:xfrm flipV="1" rot="5400000">
            <a:off x="6697440" y="367848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9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ое опис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рочная за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-сх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кольный алгоритмиче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797040" y="549360"/>
            <a:ext cx="1811160" cy="244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2786040" y="1571760"/>
            <a:ext cx="605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рков А.А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1903—1979) установил, что алгоритмы должны содержать предписания двух вид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11280" y="3141720"/>
            <a:ext cx="828036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функциональные операторы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исания, направленные на непосредственное преобразование информ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е операторы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исания, определяющие дальнейшее направление действ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нно эти операторы положены в основу большинства способов записи алгорит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15"/>
          <p:cNvSpPr/>
          <p:nvPr/>
        </p:nvSpPr>
        <p:spPr>
          <a:xfrm>
            <a:off x="6000840" y="1428840"/>
            <a:ext cx="2714400" cy="4429080"/>
          </a:xfrm>
          <a:custGeom>
            <a:avLst/>
            <a:gdLst>
              <a:gd name="textAreaLeft" fmla="*/ 132480 w 2714400"/>
              <a:gd name="textAreaRight" fmla="*/ 2581920 w 2714400"/>
              <a:gd name="textAreaTop" fmla="*/ 132480 h 4429080"/>
              <a:gd name="textAreaBottom" fmla="*/ 4296600 h 4429080"/>
            </a:gdLst>
            <a:ahLst/>
            <a:rect l="textAreaLeft" t="textAreaTop" r="textAreaRight" b="textAreaBottom"/>
            <a:pathLst>
              <a:path w="21600" h="35243">
                <a:moveTo>
                  <a:pt x="3600" y="0"/>
                </a:moveTo>
                <a:arcTo wR="3600" hR="3600" stAng="16200000" swAng="-5400000"/>
                <a:lnTo>
                  <a:pt x="0" y="31643"/>
                </a:lnTo>
                <a:arcTo wR="3600" hR="3600" stAng="10800000" swAng="-5400000"/>
                <a:lnTo>
                  <a:pt x="18000" y="352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14"/>
          <p:cNvSpPr/>
          <p:nvPr/>
        </p:nvSpPr>
        <p:spPr>
          <a:xfrm>
            <a:off x="3143160" y="1428840"/>
            <a:ext cx="2786040" cy="4714920"/>
          </a:xfrm>
          <a:custGeom>
            <a:avLst/>
            <a:gdLst>
              <a:gd name="textAreaLeft" fmla="*/ 135720 w 2786040"/>
              <a:gd name="textAreaRight" fmla="*/ 2650320 w 2786040"/>
              <a:gd name="textAreaTop" fmla="*/ 135720 h 4714920"/>
              <a:gd name="textAreaBottom" fmla="*/ 4579200 h 4714920"/>
            </a:gdLst>
            <a:ahLst/>
            <a:rect l="textAreaLeft" t="textAreaTop" r="textAreaRight" b="textAreaBottom"/>
            <a:pathLst>
              <a:path w="21600" h="36553">
                <a:moveTo>
                  <a:pt x="3600" y="0"/>
                </a:moveTo>
                <a:arcTo wR="3600" hR="3600" stAng="16200000" swAng="-5400000"/>
                <a:lnTo>
                  <a:pt x="0" y="32953"/>
                </a:lnTo>
                <a:arcTo wR="3600" hR="3600" stAng="10800000" swAng="-5400000"/>
                <a:lnTo>
                  <a:pt x="18000" y="36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13"/>
          <p:cNvSpPr/>
          <p:nvPr/>
        </p:nvSpPr>
        <p:spPr>
          <a:xfrm>
            <a:off x="399960" y="1467000"/>
            <a:ext cx="2714760" cy="4357440"/>
          </a:xfrm>
          <a:custGeom>
            <a:avLst/>
            <a:gdLst>
              <a:gd name="textAreaLeft" fmla="*/ 132480 w 2714760"/>
              <a:gd name="textAreaRight" fmla="*/ 2582280 w 2714760"/>
              <a:gd name="textAreaTop" fmla="*/ 132480 h 4357440"/>
              <a:gd name="textAreaBottom" fmla="*/ 4224960 h 4357440"/>
            </a:gdLst>
            <a:ahLst/>
            <a:rect l="textAreaLeft" t="textAreaTop" r="textAreaRight" b="textAreaBottom"/>
            <a:pathLst>
              <a:path w="21600" h="34668">
                <a:moveTo>
                  <a:pt x="3600" y="0"/>
                </a:moveTo>
                <a:arcTo wR="3600" hR="3600" stAng="16200000" swAng="-5400000"/>
                <a:lnTo>
                  <a:pt x="0" y="31068"/>
                </a:lnTo>
                <a:arcTo wR="3600" hR="3600" stAng="10800000" swAng="-5400000"/>
                <a:lnTo>
                  <a:pt x="18000" y="346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2"/>
          <p:cNvSpPr/>
          <p:nvPr/>
        </p:nvSpPr>
        <p:spPr>
          <a:xfrm>
            <a:off x="755640" y="189000"/>
            <a:ext cx="7931160" cy="1152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сновные способы записи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2"/>
          <p:cNvSpPr/>
          <p:nvPr/>
        </p:nvSpPr>
        <p:spPr>
          <a:xfrm>
            <a:off x="468360" y="1714680"/>
            <a:ext cx="2531880" cy="1000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Словес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2"/>
          <p:cNvSpPr/>
          <p:nvPr/>
        </p:nvSpPr>
        <p:spPr>
          <a:xfrm>
            <a:off x="3241800" y="1700280"/>
            <a:ext cx="2571480" cy="1000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Граф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Заголовок 2"/>
          <p:cNvSpPr/>
          <p:nvPr/>
        </p:nvSpPr>
        <p:spPr>
          <a:xfrm>
            <a:off x="6064200" y="1714680"/>
            <a:ext cx="2579760" cy="1000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На алгоритмических язы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2"/>
          <p:cNvSpPr/>
          <p:nvPr/>
        </p:nvSpPr>
        <p:spPr>
          <a:xfrm>
            <a:off x="539640" y="3141720"/>
            <a:ext cx="242892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Словесное опис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2"/>
          <p:cNvSpPr/>
          <p:nvPr/>
        </p:nvSpPr>
        <p:spPr>
          <a:xfrm>
            <a:off x="539640" y="4149720"/>
            <a:ext cx="242892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Построчная запи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2"/>
          <p:cNvSpPr/>
          <p:nvPr/>
        </p:nvSpPr>
        <p:spPr>
          <a:xfrm>
            <a:off x="3203640" y="2997360"/>
            <a:ext cx="2652480" cy="933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Последователь-ность рисун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Заголовок 2"/>
          <p:cNvSpPr/>
          <p:nvPr/>
        </p:nvSpPr>
        <p:spPr>
          <a:xfrm>
            <a:off x="3203640" y="4149720"/>
            <a:ext cx="26636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Структурограм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2"/>
          <p:cNvSpPr/>
          <p:nvPr/>
        </p:nvSpPr>
        <p:spPr>
          <a:xfrm>
            <a:off x="6143760" y="3000240"/>
            <a:ext cx="242892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Школьный алгоритм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2"/>
          <p:cNvSpPr/>
          <p:nvPr/>
        </p:nvSpPr>
        <p:spPr>
          <a:xfrm>
            <a:off x="6143760" y="4143240"/>
            <a:ext cx="24289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Язык программирова-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2"/>
          <p:cNvSpPr/>
          <p:nvPr/>
        </p:nvSpPr>
        <p:spPr>
          <a:xfrm>
            <a:off x="3203640" y="5084640"/>
            <a:ext cx="26636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Блок-сх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ловесное опис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76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овесное опис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мая простая запись алгоритма в виде набора высказываний на обычном разговорном язы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7" descr="http://school.xvatit.com/images/8/84/Euclid_2.jpg"/>
          <p:cNvPicPr/>
          <p:nvPr/>
        </p:nvPicPr>
        <p:blipFill>
          <a:blip r:embed="rId2"/>
          <a:stretch/>
        </p:blipFill>
        <p:spPr>
          <a:xfrm>
            <a:off x="6443640" y="1989000"/>
            <a:ext cx="2298600" cy="38577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5"/>
          <p:cNvSpPr/>
          <p:nvPr/>
        </p:nvSpPr>
        <p:spPr>
          <a:xfrm>
            <a:off x="468360" y="1628640"/>
            <a:ext cx="583236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Словесное описание алгоритма нахождения наибольшего общего делителя (НОД) пары целых чисел (алгоритм Евклида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468360" y="2852640"/>
            <a:ext cx="5832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тобы найти НОД двух чисел, составьте таблицу из двух столбцов и назовите столбцы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Запишите первое из заданных чисел в столбец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а второе - в столбец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Если данные числа не равны, замените большее из них на результат вычитания из большего числа меньшег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вторяйте такие замены до тех пор, пока числа не окажутся равными, после чего число из столбц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читайте искомым результат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2"/>
          <p:cNvSpPr/>
          <p:nvPr/>
        </p:nvSpPr>
        <p:spPr>
          <a:xfrm>
            <a:off x="755640" y="189000"/>
            <a:ext cx="7931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строчная зап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11280" y="544500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оме слов естественного языка предписания могут содержать математические выражения и форму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1763640" y="2060640"/>
            <a:ext cx="6985080" cy="6048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ое предписание записывается с новой ст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124000" y="1197000"/>
            <a:ext cx="655344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ила построчной записи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900000" y="1512720"/>
            <a:ext cx="0" cy="288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1763640" y="2954160"/>
            <a:ext cx="6985080" cy="605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исание (шаги) алгоритма нумерую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8"/>
          <p:cNvSpPr/>
          <p:nvPr/>
        </p:nvSpPr>
        <p:spPr>
          <a:xfrm>
            <a:off x="1763640" y="3817800"/>
            <a:ext cx="6985080" cy="1079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нение алгоритма происходит в порядк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растания номеров шагов, начиная с первог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нет особых указ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900000" y="1512720"/>
            <a:ext cx="12258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900000" y="2305080"/>
            <a:ext cx="863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>
            <a:off x="900000" y="3241800"/>
            <a:ext cx="863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900000" y="4394160"/>
            <a:ext cx="8636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95280" y="1484280"/>
            <a:ext cx="8280360" cy="46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Заголовок 2"/>
          <p:cNvSpPr/>
          <p:nvPr/>
        </p:nvSpPr>
        <p:spPr>
          <a:xfrm>
            <a:off x="539640" y="189000"/>
            <a:ext cx="8353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строчная запись алгоритма Евкли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468360" y="1197000"/>
            <a:ext cx="78231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9532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чная запись алгоритма Евкл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Нача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Обозначить первое из заданных чисел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Есл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Y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 перейти к п. 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Есл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то перейти к п. 5, иначе перейти к п. 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Заменит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Перейти к п.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. Заменить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-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. Перейти к п.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. Счита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скомым результат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95320" indent="-609480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. Коне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Заголовок 2"/>
          <p:cNvSpPr/>
          <p:nvPr/>
        </p:nvSpPr>
        <p:spPr>
          <a:xfrm>
            <a:off x="468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Графические спосо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5" descr="http://inf.1september.ru/2009/04/5-0.gif"/>
          <p:cNvPicPr/>
          <p:nvPr/>
        </p:nvPicPr>
        <p:blipFill>
          <a:blip r:embed="rId2"/>
          <a:stretch/>
        </p:blipFill>
        <p:spPr>
          <a:xfrm>
            <a:off x="5072040" y="1928880"/>
            <a:ext cx="3514680" cy="2876400"/>
          </a:xfrm>
          <a:prstGeom prst="rect">
            <a:avLst/>
          </a:prstGeom>
          <a:ln w="25560">
            <a:solidFill>
              <a:srgbClr val="385d8a"/>
            </a:solidFill>
            <a:miter/>
          </a:ln>
        </p:spPr>
      </p:pic>
      <p:sp>
        <p:nvSpPr>
          <p:cNvPr id="86" name="TextBox 5"/>
          <p:cNvSpPr/>
          <p:nvPr/>
        </p:nvSpPr>
        <p:spPr>
          <a:xfrm>
            <a:off x="1071720" y="621504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ледовательные 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5000760" y="4929120"/>
            <a:ext cx="37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рукту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1042920" y="1268280"/>
            <a:ext cx="1505160" cy="2076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4"/>
          <a:stretch/>
        </p:blipFill>
        <p:spPr>
          <a:xfrm>
            <a:off x="2843280" y="1268280"/>
            <a:ext cx="1495440" cy="2114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5"/>
          <a:stretch/>
        </p:blipFill>
        <p:spPr>
          <a:xfrm>
            <a:off x="1042920" y="3645000"/>
            <a:ext cx="1505160" cy="2085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6"/>
          <a:stretch/>
        </p:blipFill>
        <p:spPr>
          <a:xfrm>
            <a:off x="2700360" y="3645000"/>
            <a:ext cx="1552680" cy="206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Заголовок 2"/>
          <p:cNvSpPr/>
          <p:nvPr/>
        </p:nvSpPr>
        <p:spPr>
          <a:xfrm>
            <a:off x="468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Блок-схе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68360" y="765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блок-схем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исания изображаются с помощью различных геометрических фигур, а последовательность выполнения шагов указывается с помощью ли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826920" y="2205000"/>
            <a:ext cx="1513080" cy="432000"/>
          </a:xfrm>
          <a:prstGeom prst="flowChartTerminator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826920" y="2997360"/>
            <a:ext cx="1436760" cy="431640"/>
          </a:xfrm>
          <a:prstGeom prst="flowChartInputOutpu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826920" y="3789360"/>
            <a:ext cx="1441440" cy="433440"/>
          </a:xfrm>
          <a:prstGeom prst="rec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826920" y="4508640"/>
            <a:ext cx="1513080" cy="504720"/>
          </a:xfrm>
          <a:prstGeom prst="flowChartDecision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987640" y="2276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начала или конца алгорит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2987640" y="3068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ввода или вывода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059280" y="3860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обработки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059280" y="4653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проверки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0"/>
          <p:cNvGrpSpPr/>
          <p:nvPr/>
        </p:nvGrpSpPr>
        <p:grpSpPr>
          <a:xfrm>
            <a:off x="971640" y="5445000"/>
            <a:ext cx="1150920" cy="720720"/>
            <a:chOff x="971640" y="5445000"/>
            <a:chExt cx="1150920" cy="720720"/>
          </a:xfrm>
        </p:grpSpPr>
        <p:sp>
          <p:nvSpPr>
            <p:cNvPr id="103" name="Line 16"/>
            <p:cNvSpPr/>
            <p:nvPr/>
          </p:nvSpPr>
          <p:spPr>
            <a:xfrm>
              <a:off x="971640" y="5805360"/>
              <a:ext cx="863640" cy="0"/>
            </a:xfrm>
            <a:prstGeom prst="line">
              <a:avLst/>
            </a:prstGeom>
            <a:ln w="38160">
              <a:solidFill>
                <a:srgbClr val="018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7"/>
            <p:cNvSpPr/>
            <p:nvPr/>
          </p:nvSpPr>
          <p:spPr>
            <a:xfrm>
              <a:off x="1835280" y="5445000"/>
              <a:ext cx="0" cy="720720"/>
            </a:xfrm>
            <a:prstGeom prst="line">
              <a:avLst/>
            </a:prstGeom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8"/>
            <p:cNvSpPr/>
            <p:nvPr/>
          </p:nvSpPr>
          <p:spPr>
            <a:xfrm>
              <a:off x="1835280" y="5445000"/>
              <a:ext cx="287280" cy="0"/>
            </a:xfrm>
            <a:prstGeom prst="line">
              <a:avLst/>
            </a:prstGeom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9"/>
            <p:cNvSpPr/>
            <p:nvPr/>
          </p:nvSpPr>
          <p:spPr>
            <a:xfrm>
              <a:off x="1835280" y="6165720"/>
              <a:ext cx="287280" cy="0"/>
            </a:xfrm>
            <a:prstGeom prst="line">
              <a:avLst/>
            </a:prstGeom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2987640" y="5516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ок пояснительных запис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7T12:04:56Z</dcterms:modified>
  <cp:revision>101</cp:revision>
  <dc:subject/>
  <dc:title>Презентация PowerPoint</dc:title>
</cp:coreProperties>
</file>