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AA2-7F02-4CB8-8879-2B81CF6A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684-3361-4A15-8E6B-CFF001C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B06-445F-4177-BFF6-ADF0FEC3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985-1728-409A-B9C3-3A6C3429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95D-0B78-47A0-BB39-0A1099C8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0D9-D3D8-4D5E-BFB8-9D5938B3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6C5-9BEA-476E-9817-5D170FF4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FDC-26CE-44BA-A3AA-68D12741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0E3-6262-4D45-A28F-00E713B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9D2-04AC-4BBF-BE1F-F1444AEF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AB8-7984-4109-9833-BDD6B59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DA7-A6B0-4DE9-B6E8-65A9EEC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2647-B06C-406E-B060-79BFD184E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ОСОБЫ ЗАПИСИ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468360" y="1125360"/>
            <a:ext cx="8353440" cy="5256360"/>
            <a:chOff x="468360" y="1125360"/>
            <a:chExt cx="8353440" cy="5256360"/>
          </a:xfrm>
        </p:grpSpPr>
        <p:sp>
          <p:nvSpPr>
            <p:cNvPr id="109" name="Text Box 10"/>
            <p:cNvSpPr/>
            <p:nvPr/>
          </p:nvSpPr>
          <p:spPr>
            <a:xfrm>
              <a:off x="5724360" y="170172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од значений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5724360" y="234936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верка равенства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24360" y="2925720"/>
              <a:ext cx="30243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 больше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5724360" y="3646440"/>
              <a:ext cx="3097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меньшение большего числа на величину меньше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5724360" y="4581360"/>
              <a:ext cx="3024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 Н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5797440" y="5373720"/>
              <a:ext cx="3024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вод Н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6"/>
            <p:cNvGrpSpPr/>
            <p:nvPr/>
          </p:nvGrpSpPr>
          <p:grpSpPr>
            <a:xfrm>
              <a:off x="468360" y="1125360"/>
              <a:ext cx="5545080" cy="5256360"/>
              <a:chOff x="468360" y="1125360"/>
              <a:chExt cx="5545080" cy="525636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2197080" y="1701720"/>
                <a:ext cx="3816360" cy="360360"/>
                <a:chOff x="2197080" y="1701720"/>
                <a:chExt cx="3816360" cy="360360"/>
              </a:xfrm>
            </p:grpSpPr>
            <p:sp>
              <p:nvSpPr>
                <p:cNvPr id="117" name="Line 18"/>
                <p:cNvSpPr/>
                <p:nvPr/>
              </p:nvSpPr>
              <p:spPr>
                <a:xfrm>
                  <a:off x="2197080" y="1881720"/>
                  <a:ext cx="35290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726160" y="170172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5726160" y="170172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21"/>
                <p:cNvSpPr/>
                <p:nvPr/>
              </p:nvSpPr>
              <p:spPr>
                <a:xfrm>
                  <a:off x="5726160" y="2062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22"/>
              <p:cNvGrpSpPr/>
              <p:nvPr/>
            </p:nvGrpSpPr>
            <p:grpSpPr>
              <a:xfrm>
                <a:off x="468360" y="1125360"/>
                <a:ext cx="4968720" cy="5256360"/>
                <a:chOff x="468360" y="1125360"/>
                <a:chExt cx="4968720" cy="5256360"/>
              </a:xfrm>
            </p:grpSpPr>
            <p:sp>
              <p:nvSpPr>
                <p:cNvPr id="122" name="Text Box 23"/>
                <p:cNvSpPr/>
                <p:nvPr/>
              </p:nvSpPr>
              <p:spPr>
                <a:xfrm>
                  <a:off x="1836720" y="285444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24"/>
                <p:cNvSpPr/>
                <p:nvPr/>
              </p:nvSpPr>
              <p:spPr>
                <a:xfrm>
                  <a:off x="3852720" y="285444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25"/>
                <p:cNvGrpSpPr/>
                <p:nvPr/>
              </p:nvGrpSpPr>
              <p:grpSpPr>
                <a:xfrm>
                  <a:off x="541080" y="1125360"/>
                  <a:ext cx="4896000" cy="5256360"/>
                  <a:chOff x="541080" y="1125360"/>
                  <a:chExt cx="4896000" cy="5256360"/>
                </a:xfrm>
              </p:grpSpPr>
              <p:sp>
                <p:nvSpPr>
                  <p:cNvPr id="125" name="Line 26"/>
                  <p:cNvSpPr/>
                  <p:nvPr/>
                </p:nvSpPr>
                <p:spPr>
                  <a:xfrm flipV="1">
                    <a:off x="1620720" y="4006440"/>
                    <a:ext cx="0" cy="21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Line 27"/>
                  <p:cNvSpPr/>
                  <p:nvPr/>
                </p:nvSpPr>
                <p:spPr>
                  <a:xfrm flipV="1">
                    <a:off x="3060720" y="422280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28"/>
                  <p:cNvGrpSpPr/>
                  <p:nvPr/>
                </p:nvGrpSpPr>
                <p:grpSpPr>
                  <a:xfrm>
                    <a:off x="541080" y="1125360"/>
                    <a:ext cx="4896000" cy="5256360"/>
                    <a:chOff x="541080" y="1125360"/>
                    <a:chExt cx="4896000" cy="5256360"/>
                  </a:xfrm>
                </p:grpSpPr>
                <p:sp>
                  <p:nvSpPr>
                    <p:cNvPr id="128" name="Line 29"/>
                    <p:cNvSpPr/>
                    <p:nvPr/>
                  </p:nvSpPr>
                  <p:spPr>
                    <a:xfrm>
                      <a:off x="1620720" y="1557360"/>
                      <a:ext cx="0" cy="8650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9" name="Group 30"/>
                    <p:cNvGrpSpPr/>
                    <p:nvPr/>
                  </p:nvGrpSpPr>
                  <p:grpSpPr>
                    <a:xfrm>
                      <a:off x="541080" y="1125360"/>
                      <a:ext cx="4896000" cy="5256360"/>
                      <a:chOff x="541080" y="1125360"/>
                      <a:chExt cx="4896000" cy="5256360"/>
                    </a:xfrm>
                  </p:grpSpPr>
                  <p:sp>
                    <p:nvSpPr>
                      <p:cNvPr id="130" name="Line 31"/>
                      <p:cNvSpPr/>
                      <p:nvPr/>
                    </p:nvSpPr>
                    <p:spPr>
                      <a:xfrm>
                        <a:off x="1620720" y="4365720"/>
                        <a:ext cx="0" cy="1584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AutoShape 32"/>
                      <p:cNvSpPr/>
                      <p:nvPr/>
                    </p:nvSpPr>
                    <p:spPr>
                      <a:xfrm>
                        <a:off x="900000" y="1125360"/>
                        <a:ext cx="1584360" cy="432000"/>
                      </a:xfrm>
                      <a:prstGeom prst="flowChartTerminator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ачало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AutoShape 33"/>
                      <p:cNvSpPr/>
                      <p:nvPr/>
                    </p:nvSpPr>
                    <p:spPr>
                      <a:xfrm>
                        <a:off x="2484360" y="2854440"/>
                        <a:ext cx="1295280" cy="576000"/>
                      </a:xfrm>
                      <a:prstGeom prst="flowChartDecision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&lt;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AutoShape 34"/>
                      <p:cNvSpPr/>
                      <p:nvPr/>
                    </p:nvSpPr>
                    <p:spPr>
                      <a:xfrm>
                        <a:off x="828720" y="5950080"/>
                        <a:ext cx="1584360" cy="431640"/>
                      </a:xfrm>
                      <a:prstGeom prst="flowChartTerminator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Конец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AutoShape 35"/>
                      <p:cNvSpPr/>
                      <p:nvPr/>
                    </p:nvSpPr>
                    <p:spPr>
                      <a:xfrm>
                        <a:off x="757080" y="1701720"/>
                        <a:ext cx="1584360" cy="432000"/>
                      </a:xfrm>
                      <a:prstGeom prst="flowChartInputOutpu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,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AutoShape 36"/>
                      <p:cNvSpPr/>
                      <p:nvPr/>
                    </p:nvSpPr>
                    <p:spPr>
                      <a:xfrm>
                        <a:off x="973080" y="2349360"/>
                        <a:ext cx="1295280" cy="577800"/>
                      </a:xfrm>
                      <a:prstGeom prst="flowChartDecision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Rectangle 37"/>
                      <p:cNvSpPr/>
                      <p:nvPr/>
                    </p:nvSpPr>
                    <p:spPr>
                      <a:xfrm>
                        <a:off x="900000" y="458136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ОД:=Х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AutoShape 38"/>
                      <p:cNvSpPr/>
                      <p:nvPr/>
                    </p:nvSpPr>
                    <p:spPr>
                      <a:xfrm>
                        <a:off x="828720" y="5302080"/>
                        <a:ext cx="1584360" cy="432000"/>
                      </a:xfrm>
                      <a:prstGeom prst="flowChartInputOutpu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ОД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Line 39"/>
                      <p:cNvSpPr/>
                      <p:nvPr/>
                    </p:nvSpPr>
                    <p:spPr>
                      <a:xfrm flipH="1">
                        <a:off x="541080" y="2638440"/>
                        <a:ext cx="4316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Line 40"/>
                      <p:cNvSpPr/>
                      <p:nvPr/>
                    </p:nvSpPr>
                    <p:spPr>
                      <a:xfrm>
                        <a:off x="5437080" y="2278080"/>
                        <a:ext cx="0" cy="2232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Line 41"/>
                      <p:cNvSpPr/>
                      <p:nvPr/>
                    </p:nvSpPr>
                    <p:spPr>
                      <a:xfrm>
                        <a:off x="541440" y="2638440"/>
                        <a:ext cx="0" cy="1727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Line 42"/>
                      <p:cNvSpPr/>
                      <p:nvPr/>
                    </p:nvSpPr>
                    <p:spPr>
                      <a:xfrm flipH="1">
                        <a:off x="541440" y="4365720"/>
                        <a:ext cx="10792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Line 43"/>
                      <p:cNvSpPr/>
                      <p:nvPr/>
                    </p:nvSpPr>
                    <p:spPr>
                      <a:xfrm flipH="1">
                        <a:off x="1549080" y="3141720"/>
                        <a:ext cx="9349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Line 44"/>
                      <p:cNvSpPr/>
                      <p:nvPr/>
                    </p:nvSpPr>
                    <p:spPr>
                      <a:xfrm flipV="1">
                        <a:off x="1549440" y="3141720"/>
                        <a:ext cx="0" cy="503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" name="Line 45"/>
                      <p:cNvSpPr/>
                      <p:nvPr/>
                    </p:nvSpPr>
                    <p:spPr>
                      <a:xfrm flipV="1">
                        <a:off x="3133800" y="2638080"/>
                        <a:ext cx="0" cy="2142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" name="Line 46"/>
                      <p:cNvSpPr/>
                      <p:nvPr/>
                    </p:nvSpPr>
                    <p:spPr>
                      <a:xfrm flipH="1">
                        <a:off x="2268360" y="2638440"/>
                        <a:ext cx="8654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" name="Line 47"/>
                      <p:cNvSpPr/>
                      <p:nvPr/>
                    </p:nvSpPr>
                    <p:spPr>
                      <a:xfrm flipH="1">
                        <a:off x="1620360" y="2278080"/>
                        <a:ext cx="3816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Line 48"/>
                      <p:cNvSpPr/>
                      <p:nvPr/>
                    </p:nvSpPr>
                    <p:spPr>
                      <a:xfrm flipH="1">
                        <a:off x="3133800" y="4222800"/>
                        <a:ext cx="13665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Line 49"/>
                      <p:cNvSpPr/>
                      <p:nvPr/>
                    </p:nvSpPr>
                    <p:spPr>
                      <a:xfrm flipH="1">
                        <a:off x="1620720" y="4222800"/>
                        <a:ext cx="16560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Line 50"/>
                      <p:cNvSpPr/>
                      <p:nvPr/>
                    </p:nvSpPr>
                    <p:spPr>
                      <a:xfrm flipV="1">
                        <a:off x="4500360" y="3141360"/>
                        <a:ext cx="0" cy="10810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Rectangle 51"/>
                      <p:cNvSpPr/>
                      <p:nvPr/>
                    </p:nvSpPr>
                    <p:spPr>
                      <a:xfrm>
                        <a:off x="900000" y="364644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X-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Line 52"/>
                      <p:cNvSpPr/>
                      <p:nvPr/>
                    </p:nvSpPr>
                    <p:spPr>
                      <a:xfrm flipH="1">
                        <a:off x="3781080" y="3141720"/>
                        <a:ext cx="7189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Rectangle 53"/>
                      <p:cNvSpPr/>
                      <p:nvPr/>
                    </p:nvSpPr>
                    <p:spPr>
                      <a:xfrm>
                        <a:off x="3781440" y="357336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Y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Y-X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Line 54"/>
                      <p:cNvSpPr/>
                      <p:nvPr/>
                    </p:nvSpPr>
                    <p:spPr>
                      <a:xfrm flipH="1">
                        <a:off x="3060360" y="4510080"/>
                        <a:ext cx="2376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54" name="Text Box 55"/>
                <p:cNvSpPr/>
                <p:nvPr/>
              </p:nvSpPr>
              <p:spPr>
                <a:xfrm>
                  <a:off x="468360" y="2278080"/>
                  <a:ext cx="5760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56"/>
                <p:cNvSpPr/>
                <p:nvPr/>
              </p:nvSpPr>
              <p:spPr>
                <a:xfrm>
                  <a:off x="2197080" y="234936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57"/>
              <p:cNvGrpSpPr/>
              <p:nvPr/>
            </p:nvGrpSpPr>
            <p:grpSpPr>
              <a:xfrm>
                <a:off x="2197080" y="2349360"/>
                <a:ext cx="3816360" cy="360360"/>
                <a:chOff x="2197080" y="2349360"/>
                <a:chExt cx="3816360" cy="360360"/>
              </a:xfrm>
            </p:grpSpPr>
            <p:sp>
              <p:nvSpPr>
                <p:cNvPr id="157" name="Line 58"/>
                <p:cNvSpPr/>
                <p:nvPr/>
              </p:nvSpPr>
              <p:spPr>
                <a:xfrm>
                  <a:off x="2197080" y="2529360"/>
                  <a:ext cx="35290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9"/>
                <p:cNvSpPr/>
                <p:nvPr/>
              </p:nvSpPr>
              <p:spPr>
                <a:xfrm>
                  <a:off x="5726160" y="234936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60"/>
                <p:cNvSpPr/>
                <p:nvPr/>
              </p:nvSpPr>
              <p:spPr>
                <a:xfrm>
                  <a:off x="5726160" y="2349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1"/>
                <p:cNvSpPr/>
                <p:nvPr/>
              </p:nvSpPr>
              <p:spPr>
                <a:xfrm>
                  <a:off x="5726160" y="270972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62"/>
              <p:cNvGrpSpPr/>
              <p:nvPr/>
            </p:nvGrpSpPr>
            <p:grpSpPr>
              <a:xfrm>
                <a:off x="2341440" y="4581360"/>
                <a:ext cx="3671640" cy="360360"/>
                <a:chOff x="2341440" y="4581360"/>
                <a:chExt cx="3671640" cy="360360"/>
              </a:xfrm>
            </p:grpSpPr>
            <p:sp>
              <p:nvSpPr>
                <p:cNvPr id="162" name="Line 63"/>
                <p:cNvSpPr/>
                <p:nvPr/>
              </p:nvSpPr>
              <p:spPr>
                <a:xfrm>
                  <a:off x="2341440" y="4761360"/>
                  <a:ext cx="33955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64"/>
                <p:cNvSpPr/>
                <p:nvPr/>
              </p:nvSpPr>
              <p:spPr>
                <a:xfrm>
                  <a:off x="5736960" y="458136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5"/>
                <p:cNvSpPr/>
                <p:nvPr/>
              </p:nvSpPr>
              <p:spPr>
                <a:xfrm>
                  <a:off x="5736960" y="458136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6"/>
                <p:cNvSpPr/>
                <p:nvPr/>
              </p:nvSpPr>
              <p:spPr>
                <a:xfrm>
                  <a:off x="5736960" y="494172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67"/>
              <p:cNvGrpSpPr/>
              <p:nvPr/>
            </p:nvGrpSpPr>
            <p:grpSpPr>
              <a:xfrm>
                <a:off x="2341440" y="5302080"/>
                <a:ext cx="3671640" cy="360360"/>
                <a:chOff x="2341440" y="5302080"/>
                <a:chExt cx="3671640" cy="360360"/>
              </a:xfrm>
            </p:grpSpPr>
            <p:sp>
              <p:nvSpPr>
                <p:cNvPr id="167" name="Line 68"/>
                <p:cNvSpPr/>
                <p:nvPr/>
              </p:nvSpPr>
              <p:spPr>
                <a:xfrm>
                  <a:off x="2341440" y="5482080"/>
                  <a:ext cx="33955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69"/>
                <p:cNvSpPr/>
                <p:nvPr/>
              </p:nvSpPr>
              <p:spPr>
                <a:xfrm>
                  <a:off x="5736960" y="530208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70"/>
                <p:cNvSpPr/>
                <p:nvPr/>
              </p:nvSpPr>
              <p:spPr>
                <a:xfrm>
                  <a:off x="5736960" y="530208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71"/>
                <p:cNvSpPr/>
                <p:nvPr/>
              </p:nvSpPr>
              <p:spPr>
                <a:xfrm>
                  <a:off x="5736960" y="566244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Line 72"/>
              <p:cNvSpPr/>
              <p:nvPr/>
            </p:nvSpPr>
            <p:spPr>
              <a:xfrm>
                <a:off x="3637080" y="3070080"/>
                <a:ext cx="20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73"/>
              <p:cNvSpPr/>
              <p:nvPr/>
            </p:nvSpPr>
            <p:spPr>
              <a:xfrm flipH="1">
                <a:off x="5724000" y="2854440"/>
                <a:ext cx="1800" cy="57600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4"/>
              <p:cNvSpPr/>
              <p:nvPr/>
            </p:nvSpPr>
            <p:spPr>
              <a:xfrm>
                <a:off x="5726160" y="285444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75"/>
              <p:cNvSpPr/>
              <p:nvPr/>
            </p:nvSpPr>
            <p:spPr>
              <a:xfrm>
                <a:off x="5724360" y="343044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76"/>
              <p:cNvSpPr/>
              <p:nvPr/>
            </p:nvSpPr>
            <p:spPr>
              <a:xfrm>
                <a:off x="5221080" y="3790800"/>
                <a:ext cx="503280" cy="0"/>
              </a:xfrm>
              <a:prstGeom prst="line">
                <a:avLst/>
              </a:prstGeom>
              <a:ln w="28440">
                <a:solidFill>
                  <a:srgbClr val="018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77"/>
              <p:cNvSpPr/>
              <p:nvPr/>
            </p:nvSpPr>
            <p:spPr>
              <a:xfrm>
                <a:off x="5724360" y="3573360"/>
                <a:ext cx="0" cy="57636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78"/>
              <p:cNvSpPr/>
              <p:nvPr/>
            </p:nvSpPr>
            <p:spPr>
              <a:xfrm>
                <a:off x="5724360" y="357336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79"/>
              <p:cNvSpPr/>
              <p:nvPr/>
            </p:nvSpPr>
            <p:spPr>
              <a:xfrm>
                <a:off x="5724360" y="414972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Заголовок 2"/>
          <p:cNvSpPr/>
          <p:nvPr/>
        </p:nvSpPr>
        <p:spPr>
          <a:xfrm>
            <a:off x="468360" y="18900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пись алгоритма Евклида с помощью блок-схемы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оритмические я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68360" y="836640"/>
            <a:ext cx="8424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оритмические язы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формальные языки, предназначенные для записи алгорит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268360" y="1773360"/>
            <a:ext cx="6551640" cy="54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истики алгоритмиче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542880" y="1990800"/>
            <a:ext cx="172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539640" y="1990800"/>
            <a:ext cx="3240" cy="2806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542880" y="393372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4646520" y="270972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используемых 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4646520" y="364644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авил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й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4646520" y="4581360"/>
            <a:ext cx="4103640" cy="1008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авил, определя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сл и способ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й язы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998880" y="299880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3925800" y="3933720"/>
            <a:ext cx="505080" cy="73080"/>
          </a:xfrm>
          <a:prstGeom prst="rightArrow">
            <a:avLst>
              <a:gd name="adj1" fmla="val 50000"/>
              <a:gd name="adj2" fmla="val 2318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3925800" y="4941720"/>
            <a:ext cx="505080" cy="73080"/>
          </a:xfrm>
          <a:prstGeom prst="rightArrow">
            <a:avLst>
              <a:gd name="adj1" fmla="val 50000"/>
              <a:gd name="adj2" fmla="val 2318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046160" y="371808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нтакси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046160" y="4581360"/>
            <a:ext cx="2879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еман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542880" y="47991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082520" y="2754360"/>
            <a:ext cx="28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542880" y="292572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468360" y="404640"/>
            <a:ext cx="842472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программы на школьном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название алгоритма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последовательность команд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1071720" y="2286000"/>
            <a:ext cx="7132320" cy="4076640"/>
          </a:xfrm>
          <a:prstGeom prst="rect">
            <a:avLst/>
          </a:prstGeom>
          <a:ln w="38160">
            <a:solidFill>
              <a:srgbClr val="0180ff"/>
            </a:solidFill>
            <a:miter/>
          </a:ln>
        </p:spPr>
      </p:pic>
    </p:spTree>
  </p:cSld>
  <p:transition>
    <p:wedg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95280" y="836640"/>
            <a:ext cx="87487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8 л из сосуда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5 л из сосуда ёмкостью 8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5 л в сосуд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8 л в сосуд ёмкостью 5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8 л из сосуда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долить из сосуда ёмкостью 8 л сосуд ёмкостью 5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5 л в сосуд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Заголовок 2"/>
          <p:cNvSpPr/>
          <p:nvPr/>
        </p:nvSpPr>
        <p:spPr>
          <a:xfrm>
            <a:off x="500040" y="0"/>
            <a:ext cx="842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Алгоритм для исполнителя Вод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2"/>
          <a:srcRect l="0" t="0" r="1367" b="0"/>
          <a:stretch/>
        </p:blipFill>
        <p:spPr>
          <a:xfrm>
            <a:off x="3929040" y="4071960"/>
            <a:ext cx="3429000" cy="2657520"/>
          </a:xfrm>
          <a:prstGeom prst="rect">
            <a:avLst/>
          </a:prstGeom>
          <a:ln w="28440">
            <a:solidFill>
              <a:srgbClr val="005ab4"/>
            </a:solidFill>
            <a:miter/>
          </a:ln>
        </p:spPr>
      </p:pic>
      <p:pic>
        <p:nvPicPr>
          <p:cNvPr id="202" name="Picture 17" descr=""/>
          <p:cNvPicPr/>
          <p:nvPr/>
        </p:nvPicPr>
        <p:blipFill>
          <a:blip r:embed="rId3"/>
          <a:stretch/>
        </p:blipFill>
        <p:spPr>
          <a:xfrm>
            <a:off x="2000160" y="4071960"/>
            <a:ext cx="1482840" cy="264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4"/>
          <p:cNvSpPr/>
          <p:nvPr/>
        </p:nvSpPr>
        <p:spPr>
          <a:xfrm>
            <a:off x="539640" y="981000"/>
            <a:ext cx="820908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личные способы записи алгоритм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трочная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ьный алгоритмический яз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из этих способов обладает своими достоинствами и недоста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2"/>
          <p:cNvSpPr/>
          <p:nvPr/>
        </p:nvSpPr>
        <p:spPr>
          <a:xfrm>
            <a:off x="611280" y="1916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способы записи 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63"/>
          <p:cNvSpPr/>
          <p:nvPr/>
        </p:nvSpPr>
        <p:spPr>
          <a:xfrm>
            <a:off x="611280" y="1989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звано существование многих способов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4"/>
          <p:cNvSpPr/>
          <p:nvPr/>
        </p:nvSpPr>
        <p:spPr>
          <a:xfrm>
            <a:off x="539640" y="1989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словесное описание алгоритма сложения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кновенных дробе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/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c/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65"/>
          <p:cNvSpPr/>
          <p:nvPr/>
        </p:nvSpPr>
        <p:spPr>
          <a:xfrm>
            <a:off x="611280" y="1844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в виде построчной записи алгоритм решения следующей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меются четыре арбуза различной массы. Как, пользуясь чашечными весами без гирь, путём не более пяти взвешиваний расположить их по возрастанию веса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6"/>
          <p:cNvSpPr/>
          <p:nvPr/>
        </p:nvSpPr>
        <p:spPr>
          <a:xfrm>
            <a:off x="539640" y="19162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с помощью блок-схемы алгоритм решения следующей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 трёх монет одинакового достоинства одна фальшивая (более лёгкая). Как её найти с помощью одного взвешивания на чашечных весах без гир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67"/>
          <p:cNvSpPr/>
          <p:nvPr/>
        </p:nvSpPr>
        <p:spPr>
          <a:xfrm>
            <a:off x="611280" y="184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алгоритмическом языке алгоритм построения окружности заданного радиу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ходящей через заданные точ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580000" y="256536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горитмическ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зы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55640" y="2565360"/>
            <a:ext cx="19432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ловес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276720" y="256536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лок-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 flipV="1">
            <a:off x="1835280" y="184464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H="1" flipV="1">
            <a:off x="4284360" y="1844640"/>
            <a:ext cx="26636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H="1" flipV="1">
            <a:off x="4282560" y="1844640"/>
            <a:ext cx="18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906560" y="126828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ы записи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755640" y="4076640"/>
            <a:ext cx="194472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3060720" y="4076640"/>
            <a:ext cx="23781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5724360" y="4076640"/>
            <a:ext cx="23781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им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ный смысл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запи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9"/>
          <p:cNvSpPr/>
          <p:nvPr/>
        </p:nvSpPr>
        <p:spPr>
          <a:xfrm flipV="1" rot="5400000">
            <a:off x="143964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0"/>
          <p:cNvSpPr/>
          <p:nvPr/>
        </p:nvSpPr>
        <p:spPr>
          <a:xfrm flipV="1" rot="5400000">
            <a:off x="403200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1"/>
          <p:cNvSpPr/>
          <p:nvPr/>
        </p:nvSpPr>
        <p:spPr>
          <a:xfrm flipV="1" rot="5400000">
            <a:off x="669744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чная за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ольный алгоритмиче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797040" y="549360"/>
            <a:ext cx="1811160" cy="244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786040" y="1571760"/>
            <a:ext cx="605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рков А.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903—1979) установил, что алгоритмы должны содержать предписания двух ви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11280" y="3141720"/>
            <a:ext cx="82803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функциональные операторы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, направленные на непосредственное преобразование информ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е операторы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, определяющие дальнейшее направление действ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но эти операторы положены в основу большинства способов записи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15"/>
          <p:cNvSpPr/>
          <p:nvPr/>
        </p:nvSpPr>
        <p:spPr>
          <a:xfrm>
            <a:off x="6000840" y="1428840"/>
            <a:ext cx="2714400" cy="4429080"/>
          </a:xfrm>
          <a:custGeom>
            <a:avLst/>
            <a:gdLst>
              <a:gd name="textAreaLeft" fmla="*/ 132480 w 2714400"/>
              <a:gd name="textAreaRight" fmla="*/ 2581920 w 2714400"/>
              <a:gd name="textAreaTop" fmla="*/ 132480 h 4429080"/>
              <a:gd name="textAreaBottom" fmla="*/ 4296600 h 4429080"/>
            </a:gdLst>
            <a:ahLst/>
            <a:rect l="textAreaLeft" t="textAreaTop" r="textAreaRight" b="textAreaBottom"/>
            <a:pathLst>
              <a:path w="21600" h="35243">
                <a:moveTo>
                  <a:pt x="3600" y="0"/>
                </a:moveTo>
                <a:arcTo wR="3600" hR="3600" stAng="16200000" swAng="-5400000"/>
                <a:lnTo>
                  <a:pt x="0" y="31643"/>
                </a:lnTo>
                <a:arcTo wR="3600" hR="3600" stAng="10800000" swAng="-5400000"/>
                <a:lnTo>
                  <a:pt x="18000" y="352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4"/>
          <p:cNvSpPr/>
          <p:nvPr/>
        </p:nvSpPr>
        <p:spPr>
          <a:xfrm>
            <a:off x="3143160" y="1428840"/>
            <a:ext cx="2786040" cy="471492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4714920"/>
              <a:gd name="textAreaBottom" fmla="*/ 4579200 h 4714920"/>
            </a:gdLst>
            <a:ahLst/>
            <a:rect l="textAreaLeft" t="textAreaTop" r="textAreaRight" b="textAreaBottom"/>
            <a:pathLst>
              <a:path w="21600" h="36553">
                <a:moveTo>
                  <a:pt x="3600" y="0"/>
                </a:moveTo>
                <a:arcTo wR="3600" hR="3600" stAng="16200000" swAng="-5400000"/>
                <a:lnTo>
                  <a:pt x="0" y="32953"/>
                </a:lnTo>
                <a:arcTo wR="3600" hR="3600" stAng="10800000" swAng="-5400000"/>
                <a:lnTo>
                  <a:pt x="18000" y="36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3"/>
          <p:cNvSpPr/>
          <p:nvPr/>
        </p:nvSpPr>
        <p:spPr>
          <a:xfrm>
            <a:off x="399960" y="1467000"/>
            <a:ext cx="2714760" cy="435744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4357440"/>
              <a:gd name="textAreaBottom" fmla="*/ 4224960 h 4357440"/>
            </a:gdLst>
            <a:ahLst/>
            <a:rect l="textAreaLeft" t="textAreaTop" r="textAreaRight" b="textAreaBottom"/>
            <a:pathLst>
              <a:path w="21600" h="34668">
                <a:moveTo>
                  <a:pt x="3600" y="0"/>
                </a:moveTo>
                <a:arcTo wR="3600" hR="3600" stAng="16200000" swAng="-5400000"/>
                <a:lnTo>
                  <a:pt x="0" y="31068"/>
                </a:lnTo>
                <a:arcTo wR="3600" hR="3600" stAng="10800000" swAng="-5400000"/>
                <a:lnTo>
                  <a:pt x="18000" y="34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2"/>
          <p:cNvSpPr/>
          <p:nvPr/>
        </p:nvSpPr>
        <p:spPr>
          <a:xfrm>
            <a:off x="755640" y="189000"/>
            <a:ext cx="7931160" cy="115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сновные способы записи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2"/>
          <p:cNvSpPr/>
          <p:nvPr/>
        </p:nvSpPr>
        <p:spPr>
          <a:xfrm>
            <a:off x="468360" y="1714680"/>
            <a:ext cx="253188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лове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3241800" y="1700280"/>
            <a:ext cx="257148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2"/>
          <p:cNvSpPr/>
          <p:nvPr/>
        </p:nvSpPr>
        <p:spPr>
          <a:xfrm>
            <a:off x="6064200" y="1714680"/>
            <a:ext cx="257976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 алгоритмических язы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2"/>
          <p:cNvSpPr/>
          <p:nvPr/>
        </p:nvSpPr>
        <p:spPr>
          <a:xfrm>
            <a:off x="539640" y="314172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ловесное опис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2"/>
          <p:cNvSpPr/>
          <p:nvPr/>
        </p:nvSpPr>
        <p:spPr>
          <a:xfrm>
            <a:off x="539640" y="414972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острочная запи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2"/>
          <p:cNvSpPr/>
          <p:nvPr/>
        </p:nvSpPr>
        <p:spPr>
          <a:xfrm>
            <a:off x="3203640" y="2997360"/>
            <a:ext cx="2652480" cy="93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оследователь-ность рису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2"/>
          <p:cNvSpPr/>
          <p:nvPr/>
        </p:nvSpPr>
        <p:spPr>
          <a:xfrm>
            <a:off x="3203640" y="4149720"/>
            <a:ext cx="26636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труктурограм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2"/>
          <p:cNvSpPr/>
          <p:nvPr/>
        </p:nvSpPr>
        <p:spPr>
          <a:xfrm>
            <a:off x="6143760" y="3000240"/>
            <a:ext cx="24289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кольный алгоритм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2"/>
          <p:cNvSpPr/>
          <p:nvPr/>
        </p:nvSpPr>
        <p:spPr>
          <a:xfrm>
            <a:off x="6143760" y="4143240"/>
            <a:ext cx="24289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Язык программирова-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2"/>
          <p:cNvSpPr/>
          <p:nvPr/>
        </p:nvSpPr>
        <p:spPr>
          <a:xfrm>
            <a:off x="3203640" y="5084640"/>
            <a:ext cx="26636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Блок-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овесное 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мая простая запись алгоритма в виде набора высказываний на обычном разговорном язы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7" descr="http://school.xvatit.com/images/8/84/Euclid_2.jpg"/>
          <p:cNvPicPr/>
          <p:nvPr/>
        </p:nvPicPr>
        <p:blipFill>
          <a:blip r:embed="rId2"/>
          <a:stretch/>
        </p:blipFill>
        <p:spPr>
          <a:xfrm>
            <a:off x="6443640" y="1989000"/>
            <a:ext cx="2298600" cy="3857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5"/>
          <p:cNvSpPr/>
          <p:nvPr/>
        </p:nvSpPr>
        <p:spPr>
          <a:xfrm>
            <a:off x="468360" y="1628640"/>
            <a:ext cx="5832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Словесное описание алгоритма нахождения наибольшего общего делителя (НОД) пары целых чисел (алгоритм Евклид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468360" y="2852640"/>
            <a:ext cx="5832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обы найти НОД двух чисел, составьте таблицу из двух столбцов и назовите столбц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Запишите первое из заданных чисел в столбец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 второе - в столбец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Если данные числа не равны, замените большее из них на результат вычитания из большего числа меньше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торяйте такие замены до тех пор, пока числа не окажутся равными, после чего число из столбц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читайте искомым результат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2"/>
          <p:cNvSpPr/>
          <p:nvPr/>
        </p:nvSpPr>
        <p:spPr>
          <a:xfrm>
            <a:off x="755640" y="189000"/>
            <a:ext cx="7931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строчная за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54450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оме слов естественного языка предписания могут содержать математические выражения и форму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1763640" y="2060640"/>
            <a:ext cx="6985080" cy="604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ое предписание записывается с новой 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124000" y="1197000"/>
            <a:ext cx="655344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а построчной записи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900000" y="1512720"/>
            <a:ext cx="0" cy="288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1763640" y="2954160"/>
            <a:ext cx="6985080" cy="605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е (шаги) алгоритма нумерую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1763640" y="3817800"/>
            <a:ext cx="6985080" cy="107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ение алгоритма происходит в порядк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ания номеров шагов, начиная с перв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нет особых указ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900000" y="1512720"/>
            <a:ext cx="12258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900000" y="230508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900000" y="324180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900000" y="439416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1484280"/>
            <a:ext cx="8280360" cy="46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2"/>
          <p:cNvSpPr/>
          <p:nvPr/>
        </p:nvSpPr>
        <p:spPr>
          <a:xfrm>
            <a:off x="539640" y="18900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строчная запись алгоритма Евкл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468360" y="1197000"/>
            <a:ext cx="7823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9532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чная запись алгоритма Евкл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ча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бозначить первое из заданных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Ес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 перейти к п. 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о перейти к п. 5, иначе перейти к п. 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Замени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Перейти к п.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Заменить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Перейти к п.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 Счит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комым результ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. Коне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рафические спосо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5" descr="http://inf.1september.ru/2009/04/5-0.gif"/>
          <p:cNvPicPr/>
          <p:nvPr/>
        </p:nvPicPr>
        <p:blipFill>
          <a:blip r:embed="rId2"/>
          <a:stretch/>
        </p:blipFill>
        <p:spPr>
          <a:xfrm>
            <a:off x="5072040" y="1928880"/>
            <a:ext cx="3514680" cy="287640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  <p:sp>
        <p:nvSpPr>
          <p:cNvPr id="86" name="TextBox 5"/>
          <p:cNvSpPr/>
          <p:nvPr/>
        </p:nvSpPr>
        <p:spPr>
          <a:xfrm>
            <a:off x="1071720" y="621504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довательные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000760" y="492912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рукту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1042920" y="1268280"/>
            <a:ext cx="1505160" cy="2076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843280" y="1268280"/>
            <a:ext cx="14954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1042920" y="3645000"/>
            <a:ext cx="1505160" cy="2085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2700360" y="3645000"/>
            <a:ext cx="155268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Блок-сх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68360" y="765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блок-схем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 изображаются с помощью различных геометрических фигур, а последовательность выполнения шагов указывается с помощью ли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26920" y="2205000"/>
            <a:ext cx="1513080" cy="43200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26920" y="2997360"/>
            <a:ext cx="1436760" cy="43164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826920" y="378936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826920" y="4508640"/>
            <a:ext cx="1513080" cy="504720"/>
          </a:xfrm>
          <a:prstGeom prst="flowChartDecision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987640" y="227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начала или конца алго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987640" y="306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ввода или вывода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059280" y="3860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59280" y="4653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проверки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971640" y="5445000"/>
            <a:ext cx="1150920" cy="720720"/>
            <a:chOff x="971640" y="5445000"/>
            <a:chExt cx="1150920" cy="720720"/>
          </a:xfrm>
        </p:grpSpPr>
        <p:sp>
          <p:nvSpPr>
            <p:cNvPr id="103" name="Line 16"/>
            <p:cNvSpPr/>
            <p:nvPr/>
          </p:nvSpPr>
          <p:spPr>
            <a:xfrm>
              <a:off x="971640" y="5805360"/>
              <a:ext cx="863640" cy="0"/>
            </a:xfrm>
            <a:prstGeom prst="line">
              <a:avLst/>
            </a:prstGeom>
            <a:ln w="38160">
              <a:solidFill>
                <a:srgbClr val="018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>
              <a:off x="1835280" y="5445000"/>
              <a:ext cx="0" cy="72072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>
              <a:off x="1835280" y="5445000"/>
              <a:ext cx="287280" cy="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>
              <a:off x="1835280" y="6165720"/>
              <a:ext cx="287280" cy="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2987640" y="551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пояснительных запис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04:56Z</dcterms:modified>
  <cp:revision>101</cp:revision>
  <dc:subject/>
  <dc:title>Презентация PowerPoint</dc:title>
</cp:coreProperties>
</file>