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0.jpeg" ContentType="image/jpe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9.jpeg" ContentType="image/jpeg"/>
  <Override PartName="/ppt/media/image40.png" ContentType="image/png"/>
  <Override PartName="/ppt/media/image31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13.png" ContentType="image/png"/>
  <Override PartName="/ppt/media/image6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5.wmf" ContentType="image/x-wmf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7372-B6BC-4565-A944-B2A52CEBAA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31A0-03A3-42AA-8153-293613A7A1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20E-C24E-4106-A8DA-304A98E5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60DE-650C-4ED5-BBD4-2BE3B4F9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1E6-EB16-4B37-AEFB-A38119BB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C1B-C35D-461D-824D-EB132AA1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BE73-13BF-4565-874D-70BD601D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339-F298-43C8-B45A-01C21039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D13-72D1-455D-AD85-07931EB2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AFB-B696-424D-9F7B-0D1E7B4E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1E1-CCEA-4AAA-A7FF-F21C6059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8FF-550A-4AFC-B55F-0E6F2E81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048-DFAA-43A5-A9EE-C4929E12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14B-3CD1-439F-9C6F-16B739DA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4B20-5B0A-49C2-81A0-31F49538F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560" y="2276280"/>
            <a:ext cx="70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ВСЕМИРНАЯ ПАУТИ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ФОРМАЦИЯ И ИНФОРМАЦИОННЫЕ 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187280" y="1197000"/>
          <a:ext cx="7634520" cy="4221000"/>
        </p:xfrm>
        <a:graphic>
          <a:graphicData uri="http://schemas.openxmlformats.org/drawingml/2006/table">
            <a:tbl>
              <a:tblPr/>
              <a:tblGrid>
                <a:gridCol w="2521080"/>
                <a:gridCol w="2448000"/>
                <a:gridCol w="26654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гическая свя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 поисков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мента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– логическое «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рейки &amp; щег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по всем слов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– логическое «ИЛ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рейки | щег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по любому из с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31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– логическое «Н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 канарейки &amp; щег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ут отобраны все страницы, где упоминаются щеглы, но не упоминаются канарей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(канарейки | щегл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ут отобраны все страницы, где нет упоминаний ни о щеглах, ни о канарейк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Логические связ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1" descr=""/>
          <p:cNvPicPr/>
          <p:nvPr/>
        </p:nvPicPr>
        <p:blipFill>
          <a:blip r:embed="rId1"/>
          <a:stretch/>
        </p:blipFill>
        <p:spPr>
          <a:xfrm>
            <a:off x="1619280" y="3860640"/>
            <a:ext cx="2068560" cy="2081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2"/>
          <a:stretch/>
        </p:blipFill>
        <p:spPr>
          <a:xfrm>
            <a:off x="1547640" y="1197000"/>
            <a:ext cx="2124360" cy="2124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3"/>
          <a:stretch/>
        </p:blipFill>
        <p:spPr>
          <a:xfrm>
            <a:off x="5580000" y="1125360"/>
            <a:ext cx="2089080" cy="2141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212920" cy="21924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5"/>
          <p:cNvSpPr/>
          <p:nvPr/>
        </p:nvSpPr>
        <p:spPr>
          <a:xfrm>
            <a:off x="125892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арейки &amp; ще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148360" y="3284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арейки | ще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219640" y="6165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~ (канарейки | щег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258920" y="6165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~  канарейки &amp; ще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руги Эйл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Заголовок 2"/>
          <p:cNvSpPr/>
          <p:nvPr/>
        </p:nvSpPr>
        <p:spPr>
          <a:xfrm>
            <a:off x="1042920" y="189000"/>
            <a:ext cx="7643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Полезные адреса Всемирной паут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187280" y="162864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уем вам посетить эти сайты, предназначенные для школьников Российской Федер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116000" y="2997360"/>
          <a:ext cx="7848720" cy="2838240"/>
        </p:xfrm>
        <a:graphic>
          <a:graphicData uri="http://schemas.openxmlformats.org/drawingml/2006/table">
            <a:tbl>
              <a:tblPr/>
              <a:tblGrid>
                <a:gridCol w="3600360"/>
                <a:gridCol w="424836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uznay-prezidenta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идент России – школьник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erudites.ru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рудиты плане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school-collection.edu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ая коллекция цифров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ых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амое главн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24000" y="1125360"/>
            <a:ext cx="85690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WWW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семирное информационное хранилище, существующее на технической базе сети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раузе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ьная программа, которая помогает перемещаться пользователю по «паутин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нужного документа в WWW может происходи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ём указания адреса доку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ём перемещения по паутине гиперсвяз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ём использования поисковых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и основных типа поиска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любому из слов; по всем словам; точно по фр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3"/>
          <p:cNvSpPr/>
          <p:nvPr/>
        </p:nvSpPr>
        <p:spPr>
          <a:xfrm>
            <a:off x="1008000" y="1449360"/>
            <a:ext cx="864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1116000" y="19162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еспечивают гиперссылки в плане навигации по информационным ресурсам Всемирной паутин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элементы нелинейной навигации вы встречали в книгах, справочниках, словар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1187280" y="148428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) В таблице приведены запросы к поисковой системе. Представьте результаты выполнения этих запросов графически с помощью кругов Эйлера. Укажите обозначения запросов в порядке возрастания количества документов, которые найдёт поисковая система по каждому запр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1116000" y="191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оисковые системы вам извест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1116000" y="191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типы поисковых за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32000" y="3357720"/>
          <a:ext cx="7499160" cy="2192040"/>
        </p:xfrm>
        <a:graphic>
          <a:graphicData uri="http://schemas.openxmlformats.org/drawingml/2006/table">
            <a:tbl>
              <a:tblPr/>
              <a:tblGrid>
                <a:gridCol w="504720"/>
                <a:gridCol w="699444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пионы | (бег &amp; плавание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пионы &amp; пла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пионы | бег | пла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пионы &amp; Европа &amp; бег &amp; пла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pic>
        <p:nvPicPr>
          <p:cNvPr id="255" name="Picture 34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2428920" cy="2476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5" descr=""/>
          <p:cNvPicPr/>
          <p:nvPr/>
        </p:nvPicPr>
        <p:blipFill>
          <a:blip r:embed="rId2"/>
          <a:stretch/>
        </p:blipFill>
        <p:spPr>
          <a:xfrm>
            <a:off x="1763640" y="3716280"/>
            <a:ext cx="2514600" cy="2352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6" descr=""/>
          <p:cNvPicPr/>
          <p:nvPr/>
        </p:nvPicPr>
        <p:blipFill>
          <a:blip r:embed="rId3"/>
          <a:stretch/>
        </p:blipFill>
        <p:spPr>
          <a:xfrm>
            <a:off x="5435640" y="3716280"/>
            <a:ext cx="2590920" cy="22478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7"/>
          <p:cNvSpPr/>
          <p:nvPr/>
        </p:nvSpPr>
        <p:spPr>
          <a:xfrm>
            <a:off x="1187280" y="3429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емпионы | (бег &amp; пла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8"/>
          <p:cNvSpPr/>
          <p:nvPr/>
        </p:nvSpPr>
        <p:spPr>
          <a:xfrm>
            <a:off x="5003640" y="342900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чемпионы &amp; пл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9"/>
          <p:cNvSpPr/>
          <p:nvPr/>
        </p:nvSpPr>
        <p:spPr>
          <a:xfrm>
            <a:off x="1116000" y="59500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чемпионы | бег | пл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0"/>
          <p:cNvSpPr/>
          <p:nvPr/>
        </p:nvSpPr>
        <p:spPr>
          <a:xfrm>
            <a:off x="4716360" y="595008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чемпионы &amp; Европа &amp; бег &amp; пл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1" descr=""/>
          <p:cNvPicPr/>
          <p:nvPr/>
        </p:nvPicPr>
        <p:blipFill>
          <a:blip r:embed="rId4"/>
          <a:stretch/>
        </p:blipFill>
        <p:spPr>
          <a:xfrm>
            <a:off x="1763640" y="1197000"/>
            <a:ext cx="2552760" cy="22096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2"/>
          <p:cNvSpPr/>
          <p:nvPr/>
        </p:nvSpPr>
        <p:spPr>
          <a:xfrm>
            <a:off x="3564000" y="6308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 б 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187280" y="1989000"/>
          <a:ext cx="7643880" cy="1905120"/>
        </p:xfrm>
        <a:graphic>
          <a:graphicData uri="http://schemas.openxmlformats.org/drawingml/2006/table">
            <a:tbl>
              <a:tblPr/>
              <a:tblGrid>
                <a:gridCol w="514440"/>
                <a:gridCol w="712944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льдог | доберман | у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льдог | доберман | уход | питом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ерман | бульдо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оберман | бульдог) &amp; у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65" name="Text Box 23"/>
          <p:cNvSpPr/>
          <p:nvPr/>
        </p:nvSpPr>
        <p:spPr>
          <a:xfrm>
            <a:off x="3059280" y="836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68 (стр. 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9"/>
          <p:cNvSpPr/>
          <p:nvPr/>
        </p:nvSpPr>
        <p:spPr>
          <a:xfrm>
            <a:off x="1116000" y="422100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ьте результаты запросов графически с помощью кругов Эйлера. Укажите номера запросов в порядке возрастания количества документов, которые найдёт поисковая система по каждому запро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0"/>
          <p:cNvSpPr/>
          <p:nvPr/>
        </p:nvSpPr>
        <p:spPr>
          <a:xfrm>
            <a:off x="1116000" y="1268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ены запросы к поисковой системе: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2476440" cy="2333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3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2552760" cy="2257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4" descr=""/>
          <p:cNvPicPr/>
          <p:nvPr/>
        </p:nvPicPr>
        <p:blipFill>
          <a:blip r:embed="rId3"/>
          <a:stretch/>
        </p:blipFill>
        <p:spPr>
          <a:xfrm>
            <a:off x="1403280" y="3789360"/>
            <a:ext cx="2809800" cy="22003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5" descr=""/>
          <p:cNvPicPr/>
          <p:nvPr/>
        </p:nvPicPr>
        <p:blipFill>
          <a:blip r:embed="rId4"/>
          <a:stretch/>
        </p:blipFill>
        <p:spPr>
          <a:xfrm>
            <a:off x="5364000" y="3789360"/>
            <a:ext cx="2619360" cy="22384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86"/>
          <p:cNvSpPr/>
          <p:nvPr/>
        </p:nvSpPr>
        <p:spPr>
          <a:xfrm>
            <a:off x="5076720" y="59500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(доберман | бульдог) &amp; у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7"/>
          <p:cNvSpPr/>
          <p:nvPr/>
        </p:nvSpPr>
        <p:spPr>
          <a:xfrm>
            <a:off x="4500720" y="342900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бульдог | доберман | уход | питом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8"/>
          <p:cNvSpPr/>
          <p:nvPr/>
        </p:nvSpPr>
        <p:spPr>
          <a:xfrm>
            <a:off x="1403280" y="59500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оберман | бульд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9"/>
          <p:cNvSpPr/>
          <p:nvPr/>
        </p:nvSpPr>
        <p:spPr>
          <a:xfrm>
            <a:off x="1042920" y="342900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бульдог | доберман | у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0"/>
          <p:cNvSpPr/>
          <p:nvPr/>
        </p:nvSpPr>
        <p:spPr>
          <a:xfrm>
            <a:off x="3564000" y="6308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2, 1, 4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1"/>
          <p:cNvSpPr/>
          <p:nvPr/>
        </p:nvSpPr>
        <p:spPr>
          <a:xfrm>
            <a:off x="3276720" y="83664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/>
          <p:cNvSpPr/>
          <p:nvPr/>
        </p:nvSpPr>
        <p:spPr>
          <a:xfrm>
            <a:off x="1116000" y="907920"/>
            <a:ext cx="777708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World Wide Web (WWW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eb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мирная паут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всемир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ое хранилище, существующее на технической ба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ти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Группа 37"/>
          <p:cNvGrpSpPr/>
          <p:nvPr/>
        </p:nvGrpSpPr>
        <p:grpSpPr>
          <a:xfrm>
            <a:off x="1979640" y="3429000"/>
            <a:ext cx="6337440" cy="1368360"/>
            <a:chOff x="1979640" y="3429000"/>
            <a:chExt cx="6337440" cy="1368360"/>
          </a:xfrm>
        </p:grpSpPr>
        <p:sp>
          <p:nvSpPr>
            <p:cNvPr id="282" name="Rectangle 6"/>
            <p:cNvSpPr/>
            <p:nvPr/>
          </p:nvSpPr>
          <p:spPr>
            <a:xfrm>
              <a:off x="3851280" y="3429000"/>
              <a:ext cx="2953080" cy="576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оисковые систе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6"/>
            <p:cNvSpPr/>
            <p:nvPr/>
          </p:nvSpPr>
          <p:spPr>
            <a:xfrm>
              <a:off x="1979640" y="4221000"/>
              <a:ext cx="1297080" cy="576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oog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"/>
            <p:cNvSpPr/>
            <p:nvPr/>
          </p:nvSpPr>
          <p:spPr>
            <a:xfrm>
              <a:off x="3635280" y="4221000"/>
              <a:ext cx="1297080" cy="576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Яндек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7020000" y="4220640"/>
              <a:ext cx="1297080" cy="576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mb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8"/>
            <p:cNvSpPr/>
            <p:nvPr/>
          </p:nvSpPr>
          <p:spPr>
            <a:xfrm flipV="1">
              <a:off x="2916360" y="4005000"/>
              <a:ext cx="2376720" cy="215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8"/>
            <p:cNvSpPr/>
            <p:nvPr/>
          </p:nvSpPr>
          <p:spPr>
            <a:xfrm flipH="1" flipV="1">
              <a:off x="5291640" y="4004280"/>
              <a:ext cx="2448000" cy="215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8"/>
            <p:cNvSpPr/>
            <p:nvPr/>
          </p:nvSpPr>
          <p:spPr>
            <a:xfrm flipH="1" flipV="1">
              <a:off x="5220000" y="4005000"/>
              <a:ext cx="576000" cy="215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8"/>
            <p:cNvSpPr/>
            <p:nvPr/>
          </p:nvSpPr>
          <p:spPr>
            <a:xfrm flipV="1">
              <a:off x="4643640" y="4005000"/>
              <a:ext cx="576000" cy="215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"/>
            <p:cNvSpPr/>
            <p:nvPr/>
          </p:nvSpPr>
          <p:spPr>
            <a:xfrm>
              <a:off x="5651640" y="4220640"/>
              <a:ext cx="1152360" cy="57600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36"/>
          <p:cNvGrpSpPr/>
          <p:nvPr/>
        </p:nvGrpSpPr>
        <p:grpSpPr>
          <a:xfrm>
            <a:off x="1332000" y="2133720"/>
            <a:ext cx="7632720" cy="1152360"/>
            <a:chOff x="1332000" y="2133720"/>
            <a:chExt cx="7632720" cy="1152360"/>
          </a:xfrm>
        </p:grpSpPr>
        <p:sp>
          <p:nvSpPr>
            <p:cNvPr id="292" name="Rectangle 6"/>
            <p:cNvSpPr/>
            <p:nvPr/>
          </p:nvSpPr>
          <p:spPr>
            <a:xfrm>
              <a:off x="3852720" y="2133720"/>
              <a:ext cx="2952720" cy="431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-сай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1332000" y="2854440"/>
              <a:ext cx="1942920" cy="431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-страниц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"/>
            <p:cNvSpPr/>
            <p:nvPr/>
          </p:nvSpPr>
          <p:spPr>
            <a:xfrm>
              <a:off x="3492360" y="2854440"/>
              <a:ext cx="1942920" cy="431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-страниц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7021800" y="2854440"/>
              <a:ext cx="1942920" cy="431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-страниц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8"/>
            <p:cNvSpPr/>
            <p:nvPr/>
          </p:nvSpPr>
          <p:spPr>
            <a:xfrm flipV="1">
              <a:off x="2987640" y="2565360"/>
              <a:ext cx="237636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8"/>
            <p:cNvSpPr/>
            <p:nvPr/>
          </p:nvSpPr>
          <p:spPr>
            <a:xfrm flipH="1" flipV="1">
              <a:off x="5364360" y="2565360"/>
              <a:ext cx="244800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8"/>
            <p:cNvSpPr/>
            <p:nvPr/>
          </p:nvSpPr>
          <p:spPr>
            <a:xfrm flipH="1" flipV="1">
              <a:off x="5290920" y="2565360"/>
              <a:ext cx="57780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8"/>
            <p:cNvSpPr/>
            <p:nvPr/>
          </p:nvSpPr>
          <p:spPr>
            <a:xfrm flipV="1">
              <a:off x="4716360" y="2565360"/>
              <a:ext cx="57456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Группа 38"/>
          <p:cNvGrpSpPr/>
          <p:nvPr/>
        </p:nvGrpSpPr>
        <p:grpSpPr>
          <a:xfrm>
            <a:off x="1403280" y="5002200"/>
            <a:ext cx="7416720" cy="1595520"/>
            <a:chOff x="1403280" y="5002200"/>
            <a:chExt cx="7416720" cy="1595520"/>
          </a:xfrm>
        </p:grpSpPr>
        <p:sp>
          <p:nvSpPr>
            <p:cNvPr id="301" name="Rectangle 6"/>
            <p:cNvSpPr/>
            <p:nvPr/>
          </p:nvSpPr>
          <p:spPr>
            <a:xfrm>
              <a:off x="1403280" y="5877360"/>
              <a:ext cx="2305080" cy="720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иск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любому из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>
              <a:off x="7164360" y="5877360"/>
              <a:ext cx="1655640" cy="720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иск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сем слов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6"/>
            <p:cNvSpPr/>
            <p:nvPr/>
          </p:nvSpPr>
          <p:spPr>
            <a:xfrm>
              <a:off x="4498920" y="5877360"/>
              <a:ext cx="1944720" cy="720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иск точ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 фраз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8"/>
            <p:cNvSpPr/>
            <p:nvPr/>
          </p:nvSpPr>
          <p:spPr>
            <a:xfrm flipV="1">
              <a:off x="3058920" y="5588280"/>
              <a:ext cx="230508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8"/>
            <p:cNvSpPr/>
            <p:nvPr/>
          </p:nvSpPr>
          <p:spPr>
            <a:xfrm flipH="1" flipV="1">
              <a:off x="5364000" y="5588280"/>
              <a:ext cx="244800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8"/>
            <p:cNvSpPr/>
            <p:nvPr/>
          </p:nvSpPr>
          <p:spPr>
            <a:xfrm flipV="1">
              <a:off x="5364000" y="5632560"/>
              <a:ext cx="0" cy="244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6"/>
            <p:cNvSpPr/>
            <p:nvPr/>
          </p:nvSpPr>
          <p:spPr>
            <a:xfrm>
              <a:off x="3779280" y="5002200"/>
              <a:ext cx="3096000" cy="576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оисковый запро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Rectangle 6"/>
          <p:cNvSpPr/>
          <p:nvPr/>
        </p:nvSpPr>
        <p:spPr>
          <a:xfrm>
            <a:off x="5653080" y="2862360"/>
            <a:ext cx="1150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6 (стр. 42 - 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67, 69, 70 (стр. 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йдите от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187280" y="1661760"/>
            <a:ext cx="75931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 такой Норберт Винер и какова его роль в исследовании информационных процесс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 такой Клод Шеннон и чем он знамени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ем и когда был введен термин «гипертекст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о считают изобретателе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когда это произошл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 такой Эйлер, в честь кого названа графическая схема, обозначающая отношения между множеств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1332000" y="5661000"/>
            <a:ext cx="75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Запишите ответы в рабочие тетра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WWW - Всемирная пау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Web-страница, Web-сай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рауз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исковая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исковый за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  <a:ea typeface="Arial"/>
              </a:rPr>
              <a:t>Что такое 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  <a:ea typeface="Arial"/>
              </a:rPr>
              <a:t>WW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116000" y="1484280"/>
            <a:ext cx="770400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WWW, Web) - всемирное хранилище информации, существующее на технической базе сети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  – единое целое множества информационн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 – объединение многочисленных ресурсов, распределённых по всему ми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 – нелинейная организация  информационных ресурсов, снабжённых гиперссы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8" descr="C:\Documents and Settings\Босова Людмила\Local Settings\Temporary Internet Files\Content.IE5\50MCD640\j0433176[1].jpg"/>
          <p:cNvPicPr/>
          <p:nvPr/>
        </p:nvPicPr>
        <p:blipFill>
          <a:blip r:embed="rId4"/>
          <a:stretch/>
        </p:blipFill>
        <p:spPr>
          <a:xfrm>
            <a:off x="1122480" y="2633760"/>
            <a:ext cx="1730160" cy="4052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116000" y="189000"/>
            <a:ext cx="78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 содержит информацию самого разного характера. Там можно най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692360" y="1197000"/>
            <a:ext cx="352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свежие нов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219640" y="1197000"/>
            <a:ext cx="237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2556000" y="2708280"/>
            <a:ext cx="4876560" cy="32479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5148360" y="1197000"/>
            <a:ext cx="237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5219640" y="1197000"/>
            <a:ext cx="1943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219640" y="1197000"/>
            <a:ext cx="208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р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2"/>
          <a:stretch/>
        </p:blipFill>
        <p:spPr>
          <a:xfrm>
            <a:off x="2556000" y="2708280"/>
            <a:ext cx="4895640" cy="3565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3"/>
          <a:stretch/>
        </p:blipFill>
        <p:spPr>
          <a:xfrm>
            <a:off x="2556000" y="2708280"/>
            <a:ext cx="4919400" cy="368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"/>
          <p:cNvPicPr/>
          <p:nvPr/>
        </p:nvPicPr>
        <p:blipFill>
          <a:blip r:embed="rId4"/>
          <a:stretch/>
        </p:blipFill>
        <p:spPr>
          <a:xfrm>
            <a:off x="2484360" y="2708280"/>
            <a:ext cx="5543640" cy="3691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" descr=""/>
          <p:cNvPicPr/>
          <p:nvPr/>
        </p:nvPicPr>
        <p:blipFill>
          <a:blip r:embed="rId5"/>
          <a:stretch/>
        </p:blipFill>
        <p:spPr>
          <a:xfrm>
            <a:off x="2050920" y="2421000"/>
            <a:ext cx="6299280" cy="4120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"/>
          <p:cNvPicPr/>
          <p:nvPr/>
        </p:nvPicPr>
        <p:blipFill>
          <a:blip r:embed="rId6"/>
          <a:stretch/>
        </p:blipFill>
        <p:spPr>
          <a:xfrm>
            <a:off x="2124000" y="2349360"/>
            <a:ext cx="6096240" cy="4229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"/>
          <p:cNvPicPr/>
          <p:nvPr/>
        </p:nvPicPr>
        <p:blipFill>
          <a:blip r:embed="rId7"/>
          <a:stretch/>
        </p:blipFill>
        <p:spPr>
          <a:xfrm>
            <a:off x="1619280" y="2637000"/>
            <a:ext cx="6624720" cy="3581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"/>
          <p:cNvPicPr/>
          <p:nvPr/>
        </p:nvPicPr>
        <p:blipFill>
          <a:blip r:embed="rId8"/>
          <a:stretch/>
        </p:blipFill>
        <p:spPr>
          <a:xfrm>
            <a:off x="1908000" y="2349360"/>
            <a:ext cx="6180480" cy="4256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1"/>
          <p:cNvSpPr/>
          <p:nvPr/>
        </p:nvSpPr>
        <p:spPr>
          <a:xfrm>
            <a:off x="1547640" y="1341360"/>
            <a:ext cx="6050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ламу разнообразных товаров и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"/>
          <p:cNvPicPr/>
          <p:nvPr/>
        </p:nvPicPr>
        <p:blipFill>
          <a:blip r:embed="rId9"/>
          <a:stretch/>
        </p:blipFill>
        <p:spPr>
          <a:xfrm>
            <a:off x="2411280" y="2205000"/>
            <a:ext cx="5543640" cy="4435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3"/>
          <p:cNvSpPr/>
          <p:nvPr/>
        </p:nvSpPr>
        <p:spPr>
          <a:xfrm>
            <a:off x="1295280" y="1268280"/>
            <a:ext cx="78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урсы для досуга и развлечений - книги, музыку, фильмы,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5" descr=""/>
          <p:cNvPicPr/>
          <p:nvPr/>
        </p:nvPicPr>
        <p:blipFill>
          <a:blip r:embed="rId10"/>
          <a:stretch/>
        </p:blipFill>
        <p:spPr>
          <a:xfrm>
            <a:off x="1258920" y="2205000"/>
            <a:ext cx="3203640" cy="2193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"/>
          <p:cNvPicPr/>
          <p:nvPr/>
        </p:nvPicPr>
        <p:blipFill>
          <a:blip r:embed="rId11"/>
          <a:stretch/>
        </p:blipFill>
        <p:spPr>
          <a:xfrm>
            <a:off x="5003640" y="2276640"/>
            <a:ext cx="3119760" cy="1949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"/>
          <p:cNvPicPr/>
          <p:nvPr/>
        </p:nvPicPr>
        <p:blipFill>
          <a:blip r:embed="rId12"/>
          <a:stretch/>
        </p:blipFill>
        <p:spPr>
          <a:xfrm>
            <a:off x="1547640" y="4454640"/>
            <a:ext cx="2975040" cy="2230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8" descr=""/>
          <p:cNvPicPr/>
          <p:nvPr/>
        </p:nvPicPr>
        <p:blipFill>
          <a:blip r:embed="rId13"/>
          <a:stretch/>
        </p:blipFill>
        <p:spPr>
          <a:xfrm>
            <a:off x="5435640" y="436572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3"/>
          <p:cNvSpPr/>
          <p:nvPr/>
        </p:nvSpPr>
        <p:spPr>
          <a:xfrm>
            <a:off x="3851280" y="1341360"/>
            <a:ext cx="352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н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4"/>
          <p:cNvSpPr/>
          <p:nvPr/>
        </p:nvSpPr>
        <p:spPr>
          <a:xfrm>
            <a:off x="3203640" y="1268280"/>
            <a:ext cx="403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2771640" y="1341360"/>
            <a:ext cx="511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тельн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6"/>
          <p:cNvSpPr/>
          <p:nvPr/>
        </p:nvSpPr>
        <p:spPr>
          <a:xfrm>
            <a:off x="2987640" y="1268280"/>
            <a:ext cx="388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авочн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я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ована в виде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Web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-страниц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Web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-сай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это нескольк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ниц, связанных между собой по содержа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иперссыл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ключевые слова или изображения от которых идут гиперсвязи. Они выделяются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цвет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дчёркива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Web-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тра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http://www.trinks.net/hypertext/thema_hypertext.gif"/>
          <p:cNvPicPr/>
          <p:nvPr/>
        </p:nvPicPr>
        <p:blipFill>
          <a:blip r:embed="rId1"/>
          <a:stretch/>
        </p:blipFill>
        <p:spPr>
          <a:xfrm>
            <a:off x="2843280" y="4191120"/>
            <a:ext cx="410508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Адрес сай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6920" y="119664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сайт, и каждая страница имеют свой адрес, по которому к ним можно обрати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3" descr=""/>
          <p:cNvPicPr/>
          <p:nvPr/>
        </p:nvPicPr>
        <p:blipFill>
          <a:blip r:embed="rId1"/>
          <a:srcRect l="0" t="0" r="0" b="22029"/>
          <a:stretch/>
        </p:blipFill>
        <p:spPr>
          <a:xfrm>
            <a:off x="1547640" y="3068640"/>
            <a:ext cx="7237440" cy="21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5" name="Овал 4"/>
          <p:cNvSpPr/>
          <p:nvPr/>
        </p:nvSpPr>
        <p:spPr>
          <a:xfrm>
            <a:off x="1979640" y="3573360"/>
            <a:ext cx="2566800" cy="35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8"/>
          <p:cNvSpPr/>
          <p:nvPr/>
        </p:nvSpPr>
        <p:spPr>
          <a:xfrm>
            <a:off x="1763640" y="3213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Firefo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508720" y="3213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1" descr=""/>
          <p:cNvPicPr/>
          <p:nvPr/>
        </p:nvPicPr>
        <p:blipFill>
          <a:blip r:embed="rId1"/>
          <a:stretch/>
        </p:blipFill>
        <p:spPr>
          <a:xfrm>
            <a:off x="5867280" y="1484280"/>
            <a:ext cx="1552680" cy="1542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1381320" cy="120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"/>
          <p:cNvPicPr/>
          <p:nvPr/>
        </p:nvPicPr>
        <p:blipFill>
          <a:blip r:embed="rId3"/>
          <a:stretch/>
        </p:blipFill>
        <p:spPr>
          <a:xfrm>
            <a:off x="2195640" y="3860640"/>
            <a:ext cx="1533240" cy="15336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4"/>
          <p:cNvSpPr/>
          <p:nvPr/>
        </p:nvSpPr>
        <p:spPr>
          <a:xfrm>
            <a:off x="241128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796000" y="5516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8" descr=""/>
          <p:cNvPicPr/>
          <p:nvPr/>
        </p:nvPicPr>
        <p:blipFill>
          <a:blip r:embed="rId4"/>
          <a:stretch/>
        </p:blipFill>
        <p:spPr>
          <a:xfrm>
            <a:off x="5867280" y="3933720"/>
            <a:ext cx="1516320" cy="1474920"/>
          </a:xfrm>
          <a:prstGeom prst="rect">
            <a:avLst/>
          </a:prstGeom>
          <a:ln w="0">
            <a:noFill/>
          </a:ln>
        </p:spPr>
      </p:pic>
      <p:pic>
        <p:nvPicPr>
          <p:cNvPr id="214" name="Object 19" descr=""/>
          <p:cNvPicPr/>
          <p:nvPr/>
        </p:nvPicPr>
        <p:blipFill>
          <a:blip r:embed="rId5"/>
          <a:stretch/>
        </p:blipFill>
        <p:spPr>
          <a:xfrm>
            <a:off x="6080040" y="2492280"/>
            <a:ext cx="306396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20"/>
          <p:cNvSpPr/>
          <p:nvPr/>
        </p:nvSpPr>
        <p:spPr>
          <a:xfrm>
            <a:off x="6156360" y="2924280"/>
            <a:ext cx="280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Web-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брауз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оисковые сист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116000" y="836640"/>
            <a:ext cx="785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системы поиска информации во Всемирной паутине располагаются на специально выделенных компьютерах с мощными каналами связ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е поисковых систем основано на постоянном, последовательном изучении всех страниц всех сайтов Всемирной паутин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2521080" cy="9414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7"/>
          <p:cNvSpPr/>
          <p:nvPr/>
        </p:nvSpPr>
        <p:spPr>
          <a:xfrm>
            <a:off x="3995640" y="328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ww.goog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2"/>
          <a:stretch/>
        </p:blipFill>
        <p:spPr>
          <a:xfrm>
            <a:off x="1116000" y="4292640"/>
            <a:ext cx="1982880" cy="9828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3851280" y="47242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ww.yandex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"/>
          <p:cNvPicPr/>
          <p:nvPr/>
        </p:nvPicPr>
        <p:blipFill>
          <a:blip r:embed="rId3"/>
          <a:stretch/>
        </p:blipFill>
        <p:spPr>
          <a:xfrm>
            <a:off x="1116000" y="5589720"/>
            <a:ext cx="2533680" cy="7221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2"/>
          <p:cNvSpPr/>
          <p:nvPr/>
        </p:nvSpPr>
        <p:spPr>
          <a:xfrm>
            <a:off x="3851280" y="580536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rambler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1187280" y="2924280"/>
            <a:ext cx="3097440" cy="1081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иск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юбому из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5651640" y="2924280"/>
            <a:ext cx="3097080" cy="1081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иск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м слов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564000" y="4581360"/>
            <a:ext cx="3097080" cy="1081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иск 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фр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 flipV="1">
            <a:off x="2987640" y="2060280"/>
            <a:ext cx="2160720" cy="863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8"/>
          <p:cNvSpPr/>
          <p:nvPr/>
        </p:nvSpPr>
        <p:spPr>
          <a:xfrm flipH="1" flipV="1">
            <a:off x="5219280" y="2060280"/>
            <a:ext cx="2089080" cy="863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 flipV="1">
            <a:off x="5148360" y="2060640"/>
            <a:ext cx="0" cy="25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3236760" y="1144440"/>
            <a:ext cx="381636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исковые за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Владелец</cp:lastModifiedBy>
  <dcterms:modified xsi:type="dcterms:W3CDTF">2011-10-10T10:18:19Z</dcterms:modified>
  <cp:revision>28</cp:revision>
  <dc:subject/>
  <dc:title>Презентация PowerPoint</dc:title>
</cp:coreProperties>
</file>