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807-ADAA-4EF0-927B-01C000C8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FE7-F738-4AE4-AB43-B39382E4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365-42A2-4DA0-93F4-D0F85069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9F4-64D3-4807-8B8E-3C9F3714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553-98F3-402D-8AD6-0ED51623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C7A-C550-407F-9693-44CB42DF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56B-004A-4706-A8A8-75E1A85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AEA-F545-4079-95E5-0F73339E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2B6-92CF-448D-B14A-902B6A08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FC5-2CA4-4C59-92DF-23D627C8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534-129D-41AE-AA3A-F9EEF467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FF6-E9DD-4819-B85F-CA8F04A7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A608-D7E6-4F9B-9904-85434F169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s.utexas.edu/~EWD/EWDwww.jpg" TargetMode="External"/><Relationship Id="rId3" Type="http://schemas.openxmlformats.org/officeDocument/2006/relationships/hyperlink" Target="http://www.forchel.ru/uploads/posts/2011-01/1295413504_parovoz2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ГОРИТМИЧЕСКАЯ КОНСТРУКЦИЯ 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4"/>
          <p:cNvSpPr/>
          <p:nvPr/>
        </p:nvSpPr>
        <p:spPr>
          <a:xfrm>
            <a:off x="611280" y="907920"/>
            <a:ext cx="828180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трёх основных алгоритмических конструкций (структур)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едования, ветвления, повт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отображающая естественный, последовательный порядок дей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ы, в которых используется только структура «следование», 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ней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1557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алгоритмы называются линей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11280" y="1557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линейного алгоритм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11280" y="1557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линейный алгоритм, исполняя который 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ует на клетчатом поле следующий узо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ётся в исходное по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43280" y="2997360"/>
          <a:ext cx="4056120" cy="3060720"/>
        </p:xfrm>
        <a:graphic>
          <a:graphicData uri="http://schemas.openxmlformats.org/drawingml/2006/table">
            <a:tbl>
              <a:tblPr/>
              <a:tblGrid>
                <a:gridCol w="811080"/>
                <a:gridCol w="811440"/>
                <a:gridCol w="811080"/>
                <a:gridCol w="811080"/>
                <a:gridCol w="811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44"/>
          <p:cNvSpPr/>
          <p:nvPr/>
        </p:nvSpPr>
        <p:spPr>
          <a:xfrm>
            <a:off x="611280" y="1557360"/>
            <a:ext cx="82087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алгоритму восстановите форму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:=1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:=a1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:=a2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4:=a3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=a1+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=y+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=y+a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611280" y="1557360"/>
            <a:ext cx="8208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я фрагмента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: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2*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у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у*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у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y*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y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ите формулу вычисл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произвольного знач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611280" y="1557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данного количества суток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оличество часов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минут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секунд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7"/>
          <p:cNvSpPr/>
          <p:nvPr/>
        </p:nvSpPr>
        <p:spPr>
          <a:xfrm>
            <a:off x="611280" y="1557360"/>
            <a:ext cx="820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1 миля = 7 вёрст, 1 верста = 500 саже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ажень = 3 аршина, 1 аршин = 28 дюйм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дюйм = 25,4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этой информацией, составьте 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перевода расстоя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ль в кил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8"/>
          <p:cNvSpPr/>
          <p:nvPr/>
        </p:nvSpPr>
        <p:spPr>
          <a:xfrm>
            <a:off x="611280" y="1557360"/>
            <a:ext cx="8208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ое данное - целое трёхзначн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дл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5 следующий алгори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a:=x div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b:=x mod 100 div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c:=x mod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s:=a+b+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является результ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го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611280" y="1557360"/>
            <a:ext cx="82087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значение целочисленных переменных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фрагмента алго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:=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:=x div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х mod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V="1">
            <a:off x="4427640" y="335772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11280" y="907920"/>
            <a:ext cx="8281800" cy="217440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отображающая естественный, последовательный порядок действ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, в которых используется только структура «следование»,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нейны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4427640" y="4508640"/>
            <a:ext cx="0" cy="57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987640" y="3860640"/>
            <a:ext cx="295272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 flipV="1">
            <a:off x="4427640" y="5660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916360" y="5084640"/>
            <a:ext cx="295272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6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7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1268280"/>
            <a:ext cx="84247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.utexas.edu/~EWD/EWDwww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фото Эдсгер Вибе Дейк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chool-collection.edu.ru/catalog/res/0df0356b-6cff-4f5b-a74e-08122a0ebdf8/? – демонстрация линейного алгоритма «Деление дроб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forchel.ru/uploads/posts/2011-01/1295413504_parovoz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s9448.vkontakte.ru/u14338764/109925135/y_79d1b2d1.jpg - поезд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.allday.ru/uploads/posts/thumbs/1206872135_028_202.jpg - шип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ovosibirsk.i-mne.com/img/p/641-789-thickbox.jpg - отвар шипов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gazeta.ru/files3/579/3418579/nornikell.jpg - кассир мага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-p.com.ua/-/uploads/articles/022/555/original-8ea90590c78112df3329a77d01428acf.jpg - деньги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ейные алгорит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285840" y="189000"/>
            <a:ext cx="885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сновные алгоритмические ко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11280" y="1052640"/>
            <a:ext cx="82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трёх основных алгоритмических конструк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ова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твле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Э. Дейкст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419640" y="3789360"/>
            <a:ext cx="525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дсгер Вибе Дейкстра (1930–2002). Выдающийся нидерландский учёный, идеи которого оказали огромное влияние на развитие компьютерной индуст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2517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лед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539640" y="765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отображающая естественный, последовательный порядок действ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, в которых используется только структура «следование», 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нейными алгоритм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6"/>
          <p:cNvSpPr/>
          <p:nvPr/>
        </p:nvSpPr>
        <p:spPr>
          <a:xfrm>
            <a:off x="4500720" y="49417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3419640" y="3141720"/>
            <a:ext cx="2304720" cy="649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3419640" y="4292640"/>
            <a:ext cx="2304720" cy="649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539640" y="573408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лгоритмическая структура «следовани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8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9"/>
          <p:cNvSpPr/>
          <p:nvPr/>
        </p:nvSpPr>
        <p:spPr>
          <a:xfrm>
            <a:off x="4500720" y="3789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2"/>
          <a:stretch/>
        </p:blipFill>
        <p:spPr>
          <a:xfrm>
            <a:off x="6948360" y="2852640"/>
            <a:ext cx="484200" cy="69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6948360" y="3716280"/>
            <a:ext cx="484200" cy="69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4"/>
          <a:stretch/>
        </p:blipFill>
        <p:spPr>
          <a:xfrm>
            <a:off x="6948360" y="4508640"/>
            <a:ext cx="48420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>
            <a:off x="442764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708360" y="1557360"/>
            <a:ext cx="1513080" cy="431640"/>
          </a:xfrm>
          <a:prstGeom prst="flowChartTerminator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340000" y="2276640"/>
            <a:ext cx="4175280" cy="6476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овую ложку сушёных пл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повника измельчить в ступ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341440" y="3213000"/>
            <a:ext cx="4175280" cy="432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стаканом кипячёной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341440" y="3860640"/>
            <a:ext cx="4175280" cy="432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пятить 10 минут на слабом ог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341440" y="4581360"/>
            <a:ext cx="4175280" cy="432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ла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341440" y="5229360"/>
            <a:ext cx="4175280" cy="4316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3635280" y="5877000"/>
            <a:ext cx="1513080" cy="431640"/>
          </a:xfrm>
          <a:prstGeom prst="flowChartTerminator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42764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427640" y="2924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4427640" y="4292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442764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1800360" cy="1541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2016000" cy="208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http://img1.liveinternet.ru/images/attach/c/0/46/926/46926763_1248958755_7.jpg"/>
          <p:cNvPicPr/>
          <p:nvPr/>
        </p:nvPicPr>
        <p:blipFill>
          <a:blip r:embed="rId4"/>
          <a:stretch/>
        </p:blipFill>
        <p:spPr>
          <a:xfrm>
            <a:off x="6762600" y="1844640"/>
            <a:ext cx="213048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60280"/>
            <a:ext cx="8424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нейный алгоритм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иготовления отвара шипов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11280" y="2997360"/>
          <a:ext cx="3024000" cy="2736720"/>
        </p:xfrm>
        <a:graphic>
          <a:graphicData uri="http://schemas.openxmlformats.org/drawingml/2006/table">
            <a:tbl>
              <a:tblPr/>
              <a:tblGrid>
                <a:gridCol w="1009440"/>
                <a:gridCol w="1005120"/>
                <a:gridCol w="100944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21"/>
          <p:cNvSpPr/>
          <p:nvPr/>
        </p:nvSpPr>
        <p:spPr>
          <a:xfrm>
            <a:off x="5076720" y="2013120"/>
            <a:ext cx="324180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алг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уз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684360" y="2997360"/>
            <a:ext cx="863280" cy="863280"/>
          </a:xfrm>
          <a:prstGeom prst="rect">
            <a:avLst/>
          </a:prstGeom>
          <a:solidFill>
            <a:srgbClr val="99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2700360" y="3068640"/>
            <a:ext cx="863640" cy="863640"/>
          </a:xfrm>
          <a:prstGeom prst="rect">
            <a:avLst/>
          </a:prstGeom>
          <a:solidFill>
            <a:srgbClr val="99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1692360" y="3933720"/>
            <a:ext cx="863640" cy="863640"/>
          </a:xfrm>
          <a:prstGeom prst="rect">
            <a:avLst/>
          </a:prstGeom>
          <a:solidFill>
            <a:srgbClr val="99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684360" y="2708280"/>
            <a:ext cx="826920" cy="1224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468360" y="1268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полнителя Робот: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верх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низ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260280"/>
            <a:ext cx="8675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нейный алгоритм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для исполнителя Ро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1 0.00532 L 0.11996 0.00509 E">
                                      <p:cBhvr>
                                        <p:cTn id="15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96 0.00509 L 0.23038 0.00532 E">
                                      <p:cBhvr>
                                        <p:cTn id="16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038 0.00532 L 0.23038 0.14189 E">
                                      <p:cBhvr>
                                        <p:cTn id="17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038 0.14189 L 0.11232 0.14189 E">
                                      <p:cBhvr>
                                        <p:cTn id="18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33 0.1419 L 0.11198 -0.00579 E">
                                      <p:cBhvr>
                                        <p:cTn id="19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97 0.00509 L 0.00174 0.00509 E">
                                      <p:cBhvr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2276640"/>
            <a:ext cx="151308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: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:=х*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:=у*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:=у*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=x+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64000" y="2133720"/>
          <a:ext cx="5280120" cy="3230280"/>
        </p:xfrm>
        <a:graphic>
          <a:graphicData uri="http://schemas.openxmlformats.org/drawingml/2006/table">
            <a:tbl>
              <a:tblPr/>
              <a:tblGrid>
                <a:gridCol w="1511280"/>
                <a:gridCol w="1255680"/>
                <a:gridCol w="1257120"/>
                <a:gridCol w="125604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2"/>
          <p:cNvSpPr/>
          <p:nvPr/>
        </p:nvSpPr>
        <p:spPr>
          <a:xfrm>
            <a:off x="5148360" y="3213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5148360" y="3645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6516720" y="3645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5148360" y="40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5075280" y="4508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5075280" y="494028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6443640" y="494028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6443640" y="4508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7812000" y="494028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6443640" y="40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2"/>
          <p:cNvSpPr/>
          <p:nvPr/>
        </p:nvSpPr>
        <p:spPr>
          <a:xfrm>
            <a:off x="6443640" y="3213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7812000" y="321300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4"/>
          <p:cNvSpPr/>
          <p:nvPr/>
        </p:nvSpPr>
        <p:spPr>
          <a:xfrm>
            <a:off x="7812000" y="364500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5"/>
          <p:cNvSpPr/>
          <p:nvPr/>
        </p:nvSpPr>
        <p:spPr>
          <a:xfrm>
            <a:off x="7812000" y="400536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7812000" y="450864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260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ычисления по алгорит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2"/>
          <p:cNvSpPr/>
          <p:nvPr/>
        </p:nvSpPr>
        <p:spPr>
          <a:xfrm>
            <a:off x="539640" y="141300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4"/>
          <p:cNvSpPr/>
          <p:nvPr/>
        </p:nvSpPr>
        <p:spPr>
          <a:xfrm>
            <a:off x="3419640" y="5661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9"/>
          <p:cNvSpPr/>
          <p:nvPr/>
        </p:nvSpPr>
        <p:spPr>
          <a:xfrm>
            <a:off x="468360" y="1052640"/>
            <a:ext cx="86756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помощью опер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числяется целое частное, с помощью опер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оста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260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Целочисленная арифм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3"/>
          <p:cNvSpPr/>
          <p:nvPr/>
        </p:nvSpPr>
        <p:spPr>
          <a:xfrm>
            <a:off x="574560" y="4363920"/>
            <a:ext cx="2971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3 : 4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2"/>
          <p:cNvSpPr/>
          <p:nvPr/>
        </p:nvSpPr>
        <p:spPr>
          <a:xfrm>
            <a:off x="574560" y="2852640"/>
            <a:ext cx="2971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9"/>
          <p:cNvSpPr/>
          <p:nvPr/>
        </p:nvSpPr>
        <p:spPr>
          <a:xfrm>
            <a:off x="574560" y="2060640"/>
            <a:ext cx="2971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5"/>
          <p:cNvSpPr/>
          <p:nvPr/>
        </p:nvSpPr>
        <p:spPr>
          <a:xfrm>
            <a:off x="574560" y="5803920"/>
            <a:ext cx="2971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0"/>
          <p:cNvSpPr/>
          <p:nvPr/>
        </p:nvSpPr>
        <p:spPr>
          <a:xfrm>
            <a:off x="574560" y="5084640"/>
            <a:ext cx="2971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1 : 4 = 2 (ост.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1"/>
          <p:cNvSpPr/>
          <p:nvPr/>
        </p:nvSpPr>
        <p:spPr>
          <a:xfrm>
            <a:off x="574560" y="3645000"/>
            <a:ext cx="2971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3"/>
          <p:cNvSpPr/>
          <p:nvPr/>
        </p:nvSpPr>
        <p:spPr>
          <a:xfrm>
            <a:off x="3816360" y="4363920"/>
            <a:ext cx="22320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2"/>
          <p:cNvSpPr/>
          <p:nvPr/>
        </p:nvSpPr>
        <p:spPr>
          <a:xfrm>
            <a:off x="3816360" y="2852640"/>
            <a:ext cx="22320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9"/>
          <p:cNvSpPr/>
          <p:nvPr/>
        </p:nvSpPr>
        <p:spPr>
          <a:xfrm>
            <a:off x="3816360" y="2060640"/>
            <a:ext cx="22320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5"/>
          <p:cNvSpPr/>
          <p:nvPr/>
        </p:nvSpPr>
        <p:spPr>
          <a:xfrm>
            <a:off x="3816360" y="5803920"/>
            <a:ext cx="22320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0"/>
          <p:cNvSpPr/>
          <p:nvPr/>
        </p:nvSpPr>
        <p:spPr>
          <a:xfrm>
            <a:off x="3816360" y="5084640"/>
            <a:ext cx="22320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1"/>
          <p:cNvSpPr/>
          <p:nvPr/>
        </p:nvSpPr>
        <p:spPr>
          <a:xfrm>
            <a:off x="3816360" y="3645000"/>
            <a:ext cx="22320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3 =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3"/>
          <p:cNvSpPr/>
          <p:nvPr/>
        </p:nvSpPr>
        <p:spPr>
          <a:xfrm>
            <a:off x="6443640" y="4363920"/>
            <a:ext cx="24480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2"/>
          <p:cNvSpPr/>
          <p:nvPr/>
        </p:nvSpPr>
        <p:spPr>
          <a:xfrm>
            <a:off x="6443640" y="2852640"/>
            <a:ext cx="24480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6443640" y="2060640"/>
            <a:ext cx="24480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5"/>
          <p:cNvSpPr/>
          <p:nvPr/>
        </p:nvSpPr>
        <p:spPr>
          <a:xfrm>
            <a:off x="6443640" y="5803920"/>
            <a:ext cx="24480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0"/>
          <p:cNvSpPr/>
          <p:nvPr/>
        </p:nvSpPr>
        <p:spPr>
          <a:xfrm>
            <a:off x="6443640" y="5084640"/>
            <a:ext cx="24480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1"/>
          <p:cNvSpPr/>
          <p:nvPr/>
        </p:nvSpPr>
        <p:spPr>
          <a:xfrm>
            <a:off x="6443640" y="3645000"/>
            <a:ext cx="24480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3059280" y="5851440"/>
            <a:ext cx="4249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нейный 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3" descr=""/>
          <p:cNvPicPr/>
          <p:nvPr/>
        </p:nvPicPr>
        <p:blipFill>
          <a:blip r:embed="rId2"/>
          <a:stretch/>
        </p:blipFill>
        <p:spPr>
          <a:xfrm>
            <a:off x="6443640" y="5778360"/>
            <a:ext cx="914400" cy="1079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68360" y="907920"/>
            <a:ext cx="8353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 работы кассира, выдающего покупателю сдачу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наименьшим количеством банкнот по 500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00), 100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0), 50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0) и 10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рублей.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55640" y="2349360"/>
            <a:ext cx="28796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500:=s div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s mod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00:=s div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s mod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50:=s div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s mod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0:=s div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http://img.gazeta.ru/files3/579/3418579/nornikell.jpg"/>
          <p:cNvPicPr/>
          <p:nvPr/>
        </p:nvPicPr>
        <p:blipFill>
          <a:blip r:embed="rId3"/>
          <a:stretch/>
        </p:blipFill>
        <p:spPr>
          <a:xfrm>
            <a:off x="3708360" y="2349360"/>
            <a:ext cx="293364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://p-p.com.ua/-/uploads/articles/022/555/original-8ea90590c78112df3329a77d01428acf.jpg"/>
          <p:cNvPicPr/>
          <p:nvPr/>
        </p:nvPicPr>
        <p:blipFill>
          <a:blip r:embed="rId4"/>
          <a:stretch/>
        </p:blipFill>
        <p:spPr>
          <a:xfrm>
            <a:off x="6732720" y="4149720"/>
            <a:ext cx="1871640" cy="1406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68360" y="260280"/>
            <a:ext cx="8424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Алгоритм работы касс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16:07Z</dcterms:modified>
  <cp:revision>93</cp:revision>
  <dc:subject/>
  <dc:title>Презентация PowerPoint</dc:title>
</cp:coreProperties>
</file>