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AA5-678C-49A6-B5F6-85A750E0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0D4-C9EE-4C66-B5B2-01DF4A3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556-93A0-4D5B-94CE-9C8FB407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FF5-719A-484F-AB2B-24CB9ED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3DF-A98E-42F4-8132-D05E9488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071-9B38-4FCD-A227-656DD46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FB7-585E-4061-9DFD-62408D2B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9BD-9C95-47B4-91F8-DEE56C72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4D7-6B88-470B-958C-F0A78DE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D0F-C8D5-4CC6-A1A6-1646926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9C5-5BB6-4096-8EE3-80B12DC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6B-862C-47D7-9078-CB19D4AE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07D-0124-4622-A2D5-D24E2008D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s.utexas.edu/~EWD/EWDwww.jpg" TargetMode="External"/><Relationship Id="rId3" Type="http://schemas.openxmlformats.org/officeDocument/2006/relationships/hyperlink" Target="http://www.forchel.ru/uploads/posts/2011-01/1295413504_parovoz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4"/>
          <p:cNvSpPr/>
          <p:nvPr/>
        </p:nvSpPr>
        <p:spPr>
          <a:xfrm>
            <a:off x="611280" y="907920"/>
            <a:ext cx="828180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 (структур)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155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ся линей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11280" y="1557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линейного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1280" y="1557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инейный алгоритм, исполняя который 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ует на клетчатом поле следующий узо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ётся в исходное по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3280" y="2997360"/>
          <a:ext cx="4056120" cy="3060720"/>
        </p:xfrm>
        <a:graphic>
          <a:graphicData uri="http://schemas.openxmlformats.org/drawingml/2006/table">
            <a:tbl>
              <a:tblPr/>
              <a:tblGrid>
                <a:gridCol w="811080"/>
                <a:gridCol w="811440"/>
                <a:gridCol w="811080"/>
                <a:gridCol w="811080"/>
                <a:gridCol w="811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4"/>
          <p:cNvSpPr/>
          <p:nvPr/>
        </p:nvSpPr>
        <p:spPr>
          <a:xfrm>
            <a:off x="611280" y="1557360"/>
            <a:ext cx="8208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алгоритму восстановите форм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:=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:=a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:=a2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4:=a3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a1+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611280" y="1557360"/>
            <a:ext cx="8208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2*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у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формулу вычисл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роизвольного знач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611280" y="1557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количества суток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оличество часов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минут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секунд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611280" y="1557360"/>
            <a:ext cx="82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1 миля = 7 вёрст, 1 верста = 500 саже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ажень = 3 аршина, 1 аршин = 28 дюйм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дюйм = 25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этой информацией, составьте 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расстоя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ль в кил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611280" y="1557360"/>
            <a:ext cx="820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е данное - целое трёхзначн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дл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5 следующий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a:=x div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b:=x mod 100 div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c:=x mod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s:=a+b+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является результ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го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611280" y="1557360"/>
            <a:ext cx="8208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е целочисленных перемен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фрагмент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x div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х mod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4427640" y="335772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1280" y="907920"/>
            <a:ext cx="8281800" cy="21744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427640" y="4508640"/>
            <a:ext cx="0" cy="57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87640" y="3860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 flipV="1">
            <a:off x="4427640" y="5660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916360" y="5084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7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1268280"/>
            <a:ext cx="8424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.utexas.edu/~EWD/EWDwww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фото Эдсгер Вибе Дейк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0df0356b-6cff-4f5b-a74e-08122a0ebdf8/? – демонстрация линейного алгоритма «Деление дроб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forchel.ru/uploads/posts/2011-01/1295413504_parovoz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9448.vkontakte.ru/u14338764/109925135/y_79d1b2d1.jpg - поезд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.allday.ru/uploads/posts/thumbs/1206872135_028_202.jpg - шип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ovosibirsk.i-mne.com/img/p/641-789-thickbox.jpg - отвар шипов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gazeta.ru/files3/579/3418579/nornikell.jpg - кассир мага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-p.com.ua/-/uploads/articles/022/555/original-8ea90590c78112df3329a77d01428acf.jpg - деньг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ейны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85840" y="189000"/>
            <a:ext cx="885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сновные алгоритмические ко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11280" y="1052640"/>
            <a:ext cx="82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твл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. Дейкст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419640" y="3789360"/>
            <a:ext cx="525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дсгер Вибе Дейкстра (1930–2002). Выдающийся нидерландский учёный, идеи которого оказали огромное влияние на развитие компьютерной индуст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ед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9640" y="765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нейными алгорит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6"/>
          <p:cNvSpPr/>
          <p:nvPr/>
        </p:nvSpPr>
        <p:spPr>
          <a:xfrm>
            <a:off x="450072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419640" y="314172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3419640" y="429264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39640" y="57340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лгоритмическая структура «следовани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9"/>
          <p:cNvSpPr/>
          <p:nvPr/>
        </p:nvSpPr>
        <p:spPr>
          <a:xfrm>
            <a:off x="4500720" y="3789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4"/>
          <a:stretch/>
        </p:blipFill>
        <p:spPr>
          <a:xfrm>
            <a:off x="6948360" y="4508640"/>
            <a:ext cx="4842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>
            <a:off x="442764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708360" y="155736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340000" y="2276640"/>
            <a:ext cx="4175280" cy="647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овую ложку сушёных пл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повника измельчить в сту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341440" y="321300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стаканом кипячё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341440" y="386064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пятить 10 минут на слабом ог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341440" y="458136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ла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341440" y="5229360"/>
            <a:ext cx="4175280" cy="431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3635280" y="587700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42764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427640" y="2924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442764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1800360" cy="154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2016000" cy="208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http://img1.liveinternet.ru/images/attach/c/0/46/926/46926763_1248958755_7.jpg"/>
          <p:cNvPicPr/>
          <p:nvPr/>
        </p:nvPicPr>
        <p:blipFill>
          <a:blip r:embed="rId4"/>
          <a:stretch/>
        </p:blipFill>
        <p:spPr>
          <a:xfrm>
            <a:off x="6762600" y="1844640"/>
            <a:ext cx="213048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60280"/>
            <a:ext cx="842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иготовления отвара шипо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11280" y="2997360"/>
          <a:ext cx="3024000" cy="2736720"/>
        </p:xfrm>
        <a:graphic>
          <a:graphicData uri="http://schemas.openxmlformats.org/drawingml/2006/table">
            <a:tbl>
              <a:tblPr/>
              <a:tblGrid>
                <a:gridCol w="1009440"/>
                <a:gridCol w="1005120"/>
                <a:gridCol w="10094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21"/>
          <p:cNvSpPr/>
          <p:nvPr/>
        </p:nvSpPr>
        <p:spPr>
          <a:xfrm>
            <a:off x="5076720" y="2013120"/>
            <a:ext cx="324180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уз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684360" y="2997360"/>
            <a:ext cx="863280" cy="86328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2700360" y="306864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1692360" y="393372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4360" y="270828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68360" y="126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нителя Робот: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260280"/>
            <a:ext cx="8675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для исполнителя Ро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1 0.00532 L 0.11996 0.00509 E">
                                      <p:cBhvr>
                                        <p:cTn id="1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6 0.00509 L 0.23038 0.00532 E">
                                      <p:cBhvr>
                                        <p:cTn id="16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00532 L 0.23038 0.14189 E">
                                      <p:cBhvr>
                                        <p:cTn id="17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14189 L 0.11232 0.14189 E">
                                      <p:cBhvr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33 0.1419 L 0.11198 -0.00579 E">
                                      <p:cBhvr>
                                        <p:cTn id="19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7 0.00509 L 0.00174 0.00509 E">
                                      <p:cBhvr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2276640"/>
            <a:ext cx="15130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х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у*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у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=x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64000" y="2133720"/>
          <a:ext cx="5280120" cy="3230280"/>
        </p:xfrm>
        <a:graphic>
          <a:graphicData uri="http://schemas.openxmlformats.org/drawingml/2006/table">
            <a:tbl>
              <a:tblPr/>
              <a:tblGrid>
                <a:gridCol w="1511280"/>
                <a:gridCol w="1255680"/>
                <a:gridCol w="1257120"/>
                <a:gridCol w="125604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2"/>
          <p:cNvSpPr/>
          <p:nvPr/>
        </p:nvSpPr>
        <p:spPr>
          <a:xfrm>
            <a:off x="514836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14836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51672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514836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07528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507528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644364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644364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7812000" y="494028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644364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644364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7812000" y="3213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7812000" y="3645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7812000" y="400536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812000" y="450864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ычисления по алгорит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539640" y="14130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3419640" y="566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468360" y="1052640"/>
            <a:ext cx="8675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числяется целое частное, 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ста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Целочислен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3"/>
          <p:cNvSpPr/>
          <p:nvPr/>
        </p:nvSpPr>
        <p:spPr>
          <a:xfrm>
            <a:off x="574560" y="4363920"/>
            <a:ext cx="2971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: 4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2"/>
          <p:cNvSpPr/>
          <p:nvPr/>
        </p:nvSpPr>
        <p:spPr>
          <a:xfrm>
            <a:off x="574560" y="2852640"/>
            <a:ext cx="2971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9"/>
          <p:cNvSpPr/>
          <p:nvPr/>
        </p:nvSpPr>
        <p:spPr>
          <a:xfrm>
            <a:off x="574560" y="2060640"/>
            <a:ext cx="2971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5"/>
          <p:cNvSpPr/>
          <p:nvPr/>
        </p:nvSpPr>
        <p:spPr>
          <a:xfrm>
            <a:off x="574560" y="5803920"/>
            <a:ext cx="2971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0"/>
          <p:cNvSpPr/>
          <p:nvPr/>
        </p:nvSpPr>
        <p:spPr>
          <a:xfrm>
            <a:off x="574560" y="5084640"/>
            <a:ext cx="2971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: 4 = 2 (ост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1"/>
          <p:cNvSpPr/>
          <p:nvPr/>
        </p:nvSpPr>
        <p:spPr>
          <a:xfrm>
            <a:off x="574560" y="3645000"/>
            <a:ext cx="2971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3"/>
          <p:cNvSpPr/>
          <p:nvPr/>
        </p:nvSpPr>
        <p:spPr>
          <a:xfrm>
            <a:off x="3816360" y="4363920"/>
            <a:ext cx="22320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2"/>
          <p:cNvSpPr/>
          <p:nvPr/>
        </p:nvSpPr>
        <p:spPr>
          <a:xfrm>
            <a:off x="3816360" y="2852640"/>
            <a:ext cx="22320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9"/>
          <p:cNvSpPr/>
          <p:nvPr/>
        </p:nvSpPr>
        <p:spPr>
          <a:xfrm>
            <a:off x="3816360" y="2060640"/>
            <a:ext cx="22320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5"/>
          <p:cNvSpPr/>
          <p:nvPr/>
        </p:nvSpPr>
        <p:spPr>
          <a:xfrm>
            <a:off x="3816360" y="5803920"/>
            <a:ext cx="22320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0"/>
          <p:cNvSpPr/>
          <p:nvPr/>
        </p:nvSpPr>
        <p:spPr>
          <a:xfrm>
            <a:off x="3816360" y="5084640"/>
            <a:ext cx="22320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1"/>
          <p:cNvSpPr/>
          <p:nvPr/>
        </p:nvSpPr>
        <p:spPr>
          <a:xfrm>
            <a:off x="3816360" y="3645000"/>
            <a:ext cx="22320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3 =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3"/>
          <p:cNvSpPr/>
          <p:nvPr/>
        </p:nvSpPr>
        <p:spPr>
          <a:xfrm>
            <a:off x="6443640" y="4363920"/>
            <a:ext cx="24480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2"/>
          <p:cNvSpPr/>
          <p:nvPr/>
        </p:nvSpPr>
        <p:spPr>
          <a:xfrm>
            <a:off x="6443640" y="2852640"/>
            <a:ext cx="24480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6443640" y="2060640"/>
            <a:ext cx="24480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5"/>
          <p:cNvSpPr/>
          <p:nvPr/>
        </p:nvSpPr>
        <p:spPr>
          <a:xfrm>
            <a:off x="6443640" y="5803920"/>
            <a:ext cx="24480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0"/>
          <p:cNvSpPr/>
          <p:nvPr/>
        </p:nvSpPr>
        <p:spPr>
          <a:xfrm>
            <a:off x="6443640" y="5084640"/>
            <a:ext cx="24480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1"/>
          <p:cNvSpPr/>
          <p:nvPr/>
        </p:nvSpPr>
        <p:spPr>
          <a:xfrm>
            <a:off x="6443640" y="3645000"/>
            <a:ext cx="24480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3059280" y="5851440"/>
            <a:ext cx="4249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2"/>
          <a:stretch/>
        </p:blipFill>
        <p:spPr>
          <a:xfrm>
            <a:off x="6443640" y="5778360"/>
            <a:ext cx="91440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8360" y="90792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работы кассира, выдающего покупателю сдачу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0), 10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) и 1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рублей.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2349360"/>
            <a:ext cx="28796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0:=s div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0:=s div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:=s div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:=s div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img.gazeta.ru/files3/579/3418579/nornikell.jpg"/>
          <p:cNvPicPr/>
          <p:nvPr/>
        </p:nvPicPr>
        <p:blipFill>
          <a:blip r:embed="rId3"/>
          <a:stretch/>
        </p:blipFill>
        <p:spPr>
          <a:xfrm>
            <a:off x="3708360" y="2349360"/>
            <a:ext cx="293364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p-p.com.ua/-/uploads/articles/022/555/original-8ea90590c78112df3329a77d01428acf.jpg"/>
          <p:cNvPicPr/>
          <p:nvPr/>
        </p:nvPicPr>
        <p:blipFill>
          <a:blip r:embed="rId4"/>
          <a:stretch/>
        </p:blipFill>
        <p:spPr>
          <a:xfrm>
            <a:off x="6732720" y="4149720"/>
            <a:ext cx="1871640" cy="1406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260280"/>
            <a:ext cx="842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лгоритм работы касс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16:07Z</dcterms:modified>
  <cp:revision>93</cp:revision>
  <dc:subject/>
  <dc:title>Презентация PowerPoint</dc:title>
</cp:coreProperties>
</file>