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4.jpeg" ContentType="image/jpeg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24.jpeg" ContentType="image/jpeg"/>
  <Override PartName="/ppt/media/image1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4812-A479-4AA7-A3B9-474C2113B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3E69-DC7A-4B5F-903F-739F93549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D910-ADF7-4041-BE6B-E71C741A9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A3E3-7996-4F79-AB78-4087B167A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14DE-3AA4-4350-B4A6-1D5D6D0BE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524D-71FE-422D-9FB8-7A27CBBE4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A242-3FF9-4F3A-9F4C-70E7426F7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BF5C-103F-4A80-98FD-050FFC0A4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7E7A-D4F3-4202-BE72-B1E2EC044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99B3-D15B-4898-A5DD-74E2F3B8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9961-041D-40C8-B0B2-99C5EE3F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30B2-48FC-4395-9600-97283A529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CF7A1-8A79-42FD-A811-2BE7D54FBA4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5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2"/>
          <p:cNvSpPr/>
          <p:nvPr/>
        </p:nvSpPr>
        <p:spPr>
          <a:xfrm>
            <a:off x="3714840" y="421488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Фигуры (блоки) блок-сх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24000" y="2349360"/>
            <a:ext cx="70200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ФОРМЫ ЗАПИСИ АЛГОРИТМОВ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1042560" y="1695600"/>
            <a:ext cx="7643880" cy="38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ечислите известные вам формы записи алгорит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е геометрические фигуры используются в блок-схем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м образом в блок-схеме задаётся порядок выполнения отдельных действи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Давайте обсудим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271" name="Овал 5"/>
          <p:cNvSpPr/>
          <p:nvPr/>
        </p:nvSpPr>
        <p:spPr>
          <a:xfrm>
            <a:off x="8001000" y="7128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eorg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10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10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лючевые слова</a:t>
            </a:r>
            <a:endParaRPr b="1" lang="en-US" sz="40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286000" y="1499760"/>
            <a:ext cx="4100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лок-сх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грам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10" descr="http://www.bestreferat.ru/images/paper/40/74/5797440.png"/>
          <p:cNvPicPr/>
          <p:nvPr/>
        </p:nvPicPr>
        <p:blipFill>
          <a:blip r:embed="rId2"/>
          <a:stretch/>
        </p:blipFill>
        <p:spPr>
          <a:xfrm>
            <a:off x="1798560" y="3797280"/>
            <a:ext cx="5973840" cy="37926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http://900igr.net/datas/informatika/Formy-predstavlenija-algoritma/0019-019-Slovesnaja-forma-predstavlenija-algoritma-zapis-algoritma-v-vide.jpg"/>
          <p:cNvPicPr/>
          <p:nvPr/>
        </p:nvPicPr>
        <p:blipFill>
          <a:blip r:embed="rId3"/>
          <a:stretch/>
        </p:blipFill>
        <p:spPr>
          <a:xfrm>
            <a:off x="5261040" y="1639800"/>
            <a:ext cx="3889440" cy="3780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http://zasovetom.org/wp-content/uploads/2010/05/kubik-rubik-2.jpg"/>
          <p:cNvPicPr/>
          <p:nvPr/>
        </p:nvPicPr>
        <p:blipFill>
          <a:blip r:embed="rId4"/>
          <a:stretch/>
        </p:blipFill>
        <p:spPr>
          <a:xfrm>
            <a:off x="457200" y="1090440"/>
            <a:ext cx="5267160" cy="448812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5816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Формы записи алгоритмов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grpSp>
        <p:nvGrpSpPr>
          <p:cNvPr id="166" name="Rectangle 6"/>
          <p:cNvGrpSpPr/>
          <p:nvPr/>
        </p:nvGrpSpPr>
        <p:grpSpPr>
          <a:xfrm>
            <a:off x="2938320" y="1225440"/>
            <a:ext cx="3718080" cy="1011240"/>
            <a:chOff x="2938320" y="1225440"/>
            <a:chExt cx="3718080" cy="1011240"/>
          </a:xfrm>
        </p:grpSpPr>
        <p:pic>
          <p:nvPicPr>
            <p:cNvPr id="167" name="Rectangle 6" descr=""/>
            <p:cNvPicPr/>
            <p:nvPr/>
          </p:nvPicPr>
          <p:blipFill>
            <a:blip r:embed="rId5"/>
            <a:stretch/>
          </p:blipFill>
          <p:spPr>
            <a:xfrm>
              <a:off x="2938320" y="1225440"/>
              <a:ext cx="3718080" cy="101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3043080" y="1328760"/>
              <a:ext cx="351504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Словесная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Rectangle 8"/>
          <p:cNvGrpSpPr/>
          <p:nvPr/>
        </p:nvGrpSpPr>
        <p:grpSpPr>
          <a:xfrm>
            <a:off x="2803680" y="2664000"/>
            <a:ext cx="4041720" cy="1017360"/>
            <a:chOff x="2803680" y="2664000"/>
            <a:chExt cx="4041720" cy="1017360"/>
          </a:xfrm>
        </p:grpSpPr>
        <p:pic>
          <p:nvPicPr>
            <p:cNvPr id="170" name="Rectangle 8" descr=""/>
            <p:cNvPicPr/>
            <p:nvPr/>
          </p:nvPicPr>
          <p:blipFill>
            <a:blip r:embed="rId6"/>
            <a:stretch/>
          </p:blipFill>
          <p:spPr>
            <a:xfrm>
              <a:off x="2803680" y="2664000"/>
              <a:ext cx="4041720" cy="101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3059280" y="2757600"/>
              <a:ext cx="3512880" cy="80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Графическая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Rectangle 10"/>
          <p:cNvGrpSpPr/>
          <p:nvPr/>
        </p:nvGrpSpPr>
        <p:grpSpPr>
          <a:xfrm>
            <a:off x="2981160" y="4091040"/>
            <a:ext cx="3718080" cy="1011240"/>
            <a:chOff x="2981160" y="4091040"/>
            <a:chExt cx="3718080" cy="1011240"/>
          </a:xfrm>
        </p:grpSpPr>
        <p:pic>
          <p:nvPicPr>
            <p:cNvPr id="173" name="Rectangle 10" descr=""/>
            <p:cNvPicPr/>
            <p:nvPr/>
          </p:nvPicPr>
          <p:blipFill>
            <a:blip r:embed="rId7"/>
            <a:stretch/>
          </p:blipFill>
          <p:spPr>
            <a:xfrm>
              <a:off x="2981160" y="4091040"/>
              <a:ext cx="3718080" cy="101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3087720" y="4186080"/>
              <a:ext cx="3513240" cy="80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Блок-схема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Словесная форма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14240" y="1213920"/>
            <a:ext cx="8143920" cy="15843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Arial"/>
              </a:rPr>
              <a:t>Словесная форма</a:t>
            </a:r>
            <a:r>
              <a:rPr b="0" lang="ru-RU" sz="2800" spc="-1" strike="noStrike">
                <a:solidFill>
                  <a:srgbClr val="17375e"/>
                </a:solidFill>
                <a:latin typeface="Arial"/>
              </a:rPr>
              <a:t> - последовательность шагов, которые выполняются исполнителем, записывается в форме нумерованного спис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785880" y="350028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Arial"/>
              </a:rPr>
              <a:t>Приме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4357800" y="2928960"/>
            <a:ext cx="4500360" cy="3533760"/>
          </a:xfrm>
          <a:prstGeom prst="rect">
            <a:avLst/>
          </a:prstGeom>
          <a:solidFill>
            <a:srgbClr val="dce6f2"/>
          </a:solidFill>
          <a:ln w="9360">
            <a:solidFill>
              <a:srgbClr val="00009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7375e"/>
                </a:solidFill>
                <a:latin typeface="Arial"/>
              </a:rPr>
              <a:t>Переход улиц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17375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Arial"/>
              </a:rPr>
              <a:t>Остановись на тротуа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17375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Arial"/>
              </a:rPr>
              <a:t>Посмотри нале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17375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Arial"/>
              </a:rPr>
              <a:t>Если транспорта нет, то иди до середины улицы и остановись, иначе выполняй п. 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17375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Arial"/>
              </a:rPr>
              <a:t>Посмотри напра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17375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Arial"/>
              </a:rPr>
              <a:t>Если нет транспорта, то иди до противоположного тротуара, иначе выполняй п. 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"/>
          <p:cNvPicPr/>
          <p:nvPr/>
        </p:nvPicPr>
        <p:blipFill>
          <a:blip r:embed="rId2"/>
          <a:srcRect l="2271" t="0" r="0" b="3599"/>
          <a:stretch/>
        </p:blipFill>
        <p:spPr>
          <a:xfrm>
            <a:off x="785880" y="4221000"/>
            <a:ext cx="3336840" cy="227988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slow">
    <p:wedg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56720" y="7092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Графическая запись алгоритма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grpSp>
        <p:nvGrpSpPr>
          <p:cNvPr id="181" name="Group 43"/>
          <p:cNvGrpSpPr/>
          <p:nvPr/>
        </p:nvGrpSpPr>
        <p:grpSpPr>
          <a:xfrm>
            <a:off x="857160" y="1571760"/>
            <a:ext cx="7786440" cy="4819680"/>
            <a:chOff x="857160" y="1571760"/>
            <a:chExt cx="7786440" cy="4819680"/>
          </a:xfrm>
        </p:grpSpPr>
        <p:sp>
          <p:nvSpPr>
            <p:cNvPr id="182" name="Rectangle 2"/>
            <p:cNvSpPr/>
            <p:nvPr/>
          </p:nvSpPr>
          <p:spPr>
            <a:xfrm>
              <a:off x="873720" y="1571760"/>
              <a:ext cx="7738920" cy="4216320"/>
            </a:xfrm>
            <a:prstGeom prst="rect">
              <a:avLst/>
            </a:prstGeom>
            <a:gradFill rotWithShape="0">
              <a:gsLst>
                <a:gs pos="0">
                  <a:srgbClr val="2f7676"/>
                </a:gs>
                <a:gs pos="50000">
                  <a:srgbClr val="66ffff"/>
                </a:gs>
                <a:gs pos="100000">
                  <a:srgbClr val="2f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4"/>
            <p:cNvSpPr/>
            <p:nvPr/>
          </p:nvSpPr>
          <p:spPr>
            <a:xfrm>
              <a:off x="857160" y="4316040"/>
              <a:ext cx="1265760" cy="1307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5"/>
            <p:cNvSpPr/>
            <p:nvPr/>
          </p:nvSpPr>
          <p:spPr>
            <a:xfrm>
              <a:off x="2196000" y="4352760"/>
              <a:ext cx="1266120" cy="1305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6"/>
            <p:cNvSpPr/>
            <p:nvPr/>
          </p:nvSpPr>
          <p:spPr>
            <a:xfrm>
              <a:off x="2248920" y="3380400"/>
              <a:ext cx="1158120" cy="1195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Group 7"/>
            <p:cNvGrpSpPr/>
            <p:nvPr/>
          </p:nvGrpSpPr>
          <p:grpSpPr>
            <a:xfrm>
              <a:off x="3462120" y="3344760"/>
              <a:ext cx="1265760" cy="2277720"/>
              <a:chOff x="3462120" y="3344760"/>
              <a:chExt cx="1265760" cy="2277720"/>
            </a:xfrm>
          </p:grpSpPr>
          <p:sp>
            <p:nvSpPr>
              <p:cNvPr id="187" name="Oval 8"/>
              <p:cNvSpPr/>
              <p:nvPr/>
            </p:nvSpPr>
            <p:spPr>
              <a:xfrm>
                <a:off x="3462120" y="4315680"/>
                <a:ext cx="1265760" cy="1306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Oval 9"/>
              <p:cNvSpPr/>
              <p:nvPr/>
            </p:nvSpPr>
            <p:spPr>
              <a:xfrm>
                <a:off x="3513960" y="3344760"/>
                <a:ext cx="1158480" cy="1195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Group 10"/>
            <p:cNvGrpSpPr/>
            <p:nvPr/>
          </p:nvGrpSpPr>
          <p:grpSpPr>
            <a:xfrm>
              <a:off x="6096960" y="3344760"/>
              <a:ext cx="1266120" cy="2277720"/>
              <a:chOff x="6096960" y="3344760"/>
              <a:chExt cx="1266120" cy="2277720"/>
            </a:xfrm>
          </p:grpSpPr>
          <p:sp>
            <p:nvSpPr>
              <p:cNvPr id="190" name="Oval 11"/>
              <p:cNvSpPr/>
              <p:nvPr/>
            </p:nvSpPr>
            <p:spPr>
              <a:xfrm>
                <a:off x="6096960" y="4315680"/>
                <a:ext cx="1266120" cy="1306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Oval 12"/>
              <p:cNvSpPr/>
              <p:nvPr/>
            </p:nvSpPr>
            <p:spPr>
              <a:xfrm>
                <a:off x="6148800" y="3344760"/>
                <a:ext cx="1158840" cy="1195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Group 13"/>
            <p:cNvGrpSpPr/>
            <p:nvPr/>
          </p:nvGrpSpPr>
          <p:grpSpPr>
            <a:xfrm>
              <a:off x="4757760" y="3344760"/>
              <a:ext cx="1265760" cy="2277720"/>
              <a:chOff x="4757760" y="3344760"/>
              <a:chExt cx="1265760" cy="2277720"/>
            </a:xfrm>
          </p:grpSpPr>
          <p:sp>
            <p:nvSpPr>
              <p:cNvPr id="193" name="Oval 14"/>
              <p:cNvSpPr/>
              <p:nvPr/>
            </p:nvSpPr>
            <p:spPr>
              <a:xfrm>
                <a:off x="4757760" y="4315680"/>
                <a:ext cx="1265760" cy="1306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Oval 15"/>
              <p:cNvSpPr/>
              <p:nvPr/>
            </p:nvSpPr>
            <p:spPr>
              <a:xfrm>
                <a:off x="4809600" y="3344760"/>
                <a:ext cx="1158480" cy="1195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" name="Group 16"/>
            <p:cNvGrpSpPr/>
            <p:nvPr/>
          </p:nvGrpSpPr>
          <p:grpSpPr>
            <a:xfrm>
              <a:off x="7377840" y="3344760"/>
              <a:ext cx="1265760" cy="2277720"/>
              <a:chOff x="7377840" y="3344760"/>
              <a:chExt cx="1265760" cy="2277720"/>
            </a:xfrm>
          </p:grpSpPr>
          <p:sp>
            <p:nvSpPr>
              <p:cNvPr id="196" name="Oval 17"/>
              <p:cNvSpPr/>
              <p:nvPr/>
            </p:nvSpPr>
            <p:spPr>
              <a:xfrm>
                <a:off x="7377840" y="4315680"/>
                <a:ext cx="1265760" cy="1306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Oval 18"/>
              <p:cNvSpPr/>
              <p:nvPr/>
            </p:nvSpPr>
            <p:spPr>
              <a:xfrm>
                <a:off x="7429680" y="3344760"/>
                <a:ext cx="1158480" cy="1195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" name="Oval 19"/>
            <p:cNvSpPr/>
            <p:nvPr/>
          </p:nvSpPr>
          <p:spPr>
            <a:xfrm>
              <a:off x="3585240" y="2374200"/>
              <a:ext cx="1091160" cy="1128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20"/>
            <p:cNvSpPr/>
            <p:nvPr/>
          </p:nvSpPr>
          <p:spPr>
            <a:xfrm>
              <a:off x="4869360" y="2374200"/>
              <a:ext cx="1092960" cy="1128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AutoShape 21"/>
            <p:cNvSpPr/>
            <p:nvPr/>
          </p:nvSpPr>
          <p:spPr>
            <a:xfrm flipV="1" rot="20994600">
              <a:off x="4802760" y="1754280"/>
              <a:ext cx="976680" cy="871200"/>
            </a:xfrm>
            <a:custGeom>
              <a:avLst/>
              <a:gdLst>
                <a:gd name="textAreaLeft" fmla="*/ 204120 w 976680"/>
                <a:gd name="textAreaRight" fmla="*/ 774000 w 976680"/>
                <a:gd name="textAreaTop" fmla="*/ 181440 h 871200"/>
                <a:gd name="textAreaBottom" fmla="*/ 689760 h 871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22"/>
            <p:cNvSpPr/>
            <p:nvPr/>
          </p:nvSpPr>
          <p:spPr>
            <a:xfrm>
              <a:off x="6210000" y="2365560"/>
              <a:ext cx="1093320" cy="1127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AutoShape 23"/>
            <p:cNvSpPr/>
            <p:nvPr/>
          </p:nvSpPr>
          <p:spPr>
            <a:xfrm flipV="1" rot="20994600">
              <a:off x="6144840" y="1744200"/>
              <a:ext cx="975240" cy="870840"/>
            </a:xfrm>
            <a:custGeom>
              <a:avLst/>
              <a:gdLst>
                <a:gd name="textAreaLeft" fmla="*/ 202680 w 975240"/>
                <a:gd name="textAreaRight" fmla="*/ 772560 w 975240"/>
                <a:gd name="textAreaTop" fmla="*/ 181440 h 870840"/>
                <a:gd name="textAreaBottom" fmla="*/ 689400 h 870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24"/>
            <p:cNvSpPr/>
            <p:nvPr/>
          </p:nvSpPr>
          <p:spPr>
            <a:xfrm>
              <a:off x="6379560" y="2784600"/>
              <a:ext cx="212400" cy="14652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146520"/>
                <a:gd name="textAreaBottom" fmla="*/ 146880 h 146520"/>
              </a:gdLst>
              <a:ahLst/>
              <a:rect l="textAreaLeft" t="textAreaTop" r="textAreaRight" b="textAreaBottom"/>
              <a:pathLst>
                <a:path w="158" h="106">
                  <a:moveTo>
                    <a:pt x="7" y="15"/>
                  </a:moveTo>
                  <a:cubicBezTo>
                    <a:pt x="14" y="0"/>
                    <a:pt x="128" y="0"/>
                    <a:pt x="143" y="15"/>
                  </a:cubicBezTo>
                  <a:cubicBezTo>
                    <a:pt x="158" y="30"/>
                    <a:pt x="121" y="106"/>
                    <a:pt x="98" y="106"/>
                  </a:cubicBezTo>
                  <a:cubicBezTo>
                    <a:pt x="75" y="106"/>
                    <a:pt x="0" y="30"/>
                    <a:pt x="7" y="15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5"/>
            <p:cNvSpPr/>
            <p:nvPr/>
          </p:nvSpPr>
          <p:spPr>
            <a:xfrm flipH="1">
              <a:off x="6848280" y="2784600"/>
              <a:ext cx="210960" cy="146520"/>
            </a:xfrm>
            <a:custGeom>
              <a:avLst/>
              <a:gdLst>
                <a:gd name="textAreaLeft" fmla="*/ 360 w 210960"/>
                <a:gd name="textAreaRight" fmla="*/ 211680 w 210960"/>
                <a:gd name="textAreaTop" fmla="*/ 0 h 146520"/>
                <a:gd name="textAreaBottom" fmla="*/ 146880 h 146520"/>
              </a:gdLst>
              <a:ahLst/>
              <a:rect l="textAreaLeft" t="textAreaTop" r="textAreaRight" b="textAreaBottom"/>
              <a:pathLst>
                <a:path w="158" h="106">
                  <a:moveTo>
                    <a:pt x="7" y="15"/>
                  </a:moveTo>
                  <a:cubicBezTo>
                    <a:pt x="14" y="0"/>
                    <a:pt x="128" y="0"/>
                    <a:pt x="143" y="15"/>
                  </a:cubicBezTo>
                  <a:cubicBezTo>
                    <a:pt x="158" y="30"/>
                    <a:pt x="121" y="106"/>
                    <a:pt x="98" y="106"/>
                  </a:cubicBezTo>
                  <a:cubicBezTo>
                    <a:pt x="75" y="106"/>
                    <a:pt x="0" y="30"/>
                    <a:pt x="7" y="15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26"/>
            <p:cNvSpPr/>
            <p:nvPr/>
          </p:nvSpPr>
          <p:spPr>
            <a:xfrm>
              <a:off x="4869360" y="2374200"/>
              <a:ext cx="1092960" cy="1128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utoShape 27"/>
            <p:cNvSpPr/>
            <p:nvPr/>
          </p:nvSpPr>
          <p:spPr>
            <a:xfrm flipV="1" rot="20994600">
              <a:off x="4802760" y="1754280"/>
              <a:ext cx="976680" cy="871200"/>
            </a:xfrm>
            <a:custGeom>
              <a:avLst/>
              <a:gdLst>
                <a:gd name="textAreaLeft" fmla="*/ 204120 w 976680"/>
                <a:gd name="textAreaRight" fmla="*/ 774000 w 976680"/>
                <a:gd name="textAreaTop" fmla="*/ 181440 h 871200"/>
                <a:gd name="textAreaBottom" fmla="*/ 689760 h 871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28"/>
            <p:cNvSpPr/>
            <p:nvPr/>
          </p:nvSpPr>
          <p:spPr>
            <a:xfrm>
              <a:off x="7429320" y="2316960"/>
              <a:ext cx="1091160" cy="1127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AutoShape 29"/>
            <p:cNvSpPr/>
            <p:nvPr/>
          </p:nvSpPr>
          <p:spPr>
            <a:xfrm flipV="1" rot="20994600">
              <a:off x="7363080" y="1695240"/>
              <a:ext cx="974880" cy="871200"/>
            </a:xfrm>
            <a:custGeom>
              <a:avLst/>
              <a:gdLst>
                <a:gd name="textAreaLeft" fmla="*/ 202320 w 974880"/>
                <a:gd name="textAreaRight" fmla="*/ 772560 w 974880"/>
                <a:gd name="textAreaTop" fmla="*/ 181440 h 871200"/>
                <a:gd name="textAreaBottom" fmla="*/ 689760 h 871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30"/>
            <p:cNvSpPr/>
            <p:nvPr/>
          </p:nvSpPr>
          <p:spPr>
            <a:xfrm>
              <a:off x="7598880" y="2735640"/>
              <a:ext cx="212400" cy="14652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146520"/>
                <a:gd name="textAreaBottom" fmla="*/ 146880 h 146520"/>
              </a:gdLst>
              <a:ahLst/>
              <a:rect l="textAreaLeft" t="textAreaTop" r="textAreaRight" b="textAreaBottom"/>
              <a:pathLst>
                <a:path w="158" h="106">
                  <a:moveTo>
                    <a:pt x="7" y="15"/>
                  </a:moveTo>
                  <a:cubicBezTo>
                    <a:pt x="14" y="0"/>
                    <a:pt x="128" y="0"/>
                    <a:pt x="143" y="15"/>
                  </a:cubicBezTo>
                  <a:cubicBezTo>
                    <a:pt x="158" y="30"/>
                    <a:pt x="121" y="106"/>
                    <a:pt x="98" y="106"/>
                  </a:cubicBezTo>
                  <a:cubicBezTo>
                    <a:pt x="75" y="106"/>
                    <a:pt x="0" y="30"/>
                    <a:pt x="7" y="15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31"/>
            <p:cNvSpPr/>
            <p:nvPr/>
          </p:nvSpPr>
          <p:spPr>
            <a:xfrm flipH="1">
              <a:off x="8065800" y="2735640"/>
              <a:ext cx="212400" cy="146520"/>
            </a:xfrm>
            <a:custGeom>
              <a:avLst/>
              <a:gdLst>
                <a:gd name="textAreaLeft" fmla="*/ 360 w 212400"/>
                <a:gd name="textAreaRight" fmla="*/ 213120 w 212400"/>
                <a:gd name="textAreaTop" fmla="*/ 0 h 146520"/>
                <a:gd name="textAreaBottom" fmla="*/ 146880 h 146520"/>
              </a:gdLst>
              <a:ahLst/>
              <a:rect l="textAreaLeft" t="textAreaTop" r="textAreaRight" b="textAreaBottom"/>
              <a:pathLst>
                <a:path w="158" h="106">
                  <a:moveTo>
                    <a:pt x="7" y="15"/>
                  </a:moveTo>
                  <a:cubicBezTo>
                    <a:pt x="14" y="0"/>
                    <a:pt x="128" y="0"/>
                    <a:pt x="143" y="15"/>
                  </a:cubicBezTo>
                  <a:cubicBezTo>
                    <a:pt x="158" y="30"/>
                    <a:pt x="121" y="106"/>
                    <a:pt x="98" y="106"/>
                  </a:cubicBezTo>
                  <a:cubicBezTo>
                    <a:pt x="75" y="106"/>
                    <a:pt x="0" y="30"/>
                    <a:pt x="7" y="15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AutoShape 32"/>
            <p:cNvSpPr/>
            <p:nvPr/>
          </p:nvSpPr>
          <p:spPr>
            <a:xfrm flipV="1" rot="1507800">
              <a:off x="7728480" y="2891520"/>
              <a:ext cx="182520" cy="376920"/>
            </a:xfrm>
            <a:prstGeom prst="rtTriangl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33"/>
            <p:cNvSpPr/>
            <p:nvPr/>
          </p:nvSpPr>
          <p:spPr>
            <a:xfrm>
              <a:off x="1209240" y="5769720"/>
              <a:ext cx="425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17375e"/>
                  </a:solidFill>
                  <a:latin typeface="Times New Roman"/>
                  <a:ea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34"/>
            <p:cNvSpPr/>
            <p:nvPr/>
          </p:nvSpPr>
          <p:spPr>
            <a:xfrm>
              <a:off x="2609640" y="5788080"/>
              <a:ext cx="426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17375e"/>
                  </a:solidFill>
                  <a:latin typeface="Times New Roman"/>
                  <a:ea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35"/>
            <p:cNvSpPr/>
            <p:nvPr/>
          </p:nvSpPr>
          <p:spPr>
            <a:xfrm>
              <a:off x="3889080" y="5810040"/>
              <a:ext cx="426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17375e"/>
                  </a:solidFill>
                  <a:latin typeface="Times New Roman"/>
                  <a:ea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36"/>
            <p:cNvSpPr/>
            <p:nvPr/>
          </p:nvSpPr>
          <p:spPr>
            <a:xfrm>
              <a:off x="5168160" y="5788080"/>
              <a:ext cx="428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17375e"/>
                  </a:solidFill>
                  <a:latin typeface="Times New Roman"/>
                  <a:ea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37"/>
            <p:cNvSpPr/>
            <p:nvPr/>
          </p:nvSpPr>
          <p:spPr>
            <a:xfrm>
              <a:off x="7853040" y="5774760"/>
              <a:ext cx="425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17375e"/>
                  </a:solidFill>
                  <a:latin typeface="Times New Roman"/>
                  <a:ea typeface="Times New Roman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38"/>
            <p:cNvSpPr/>
            <p:nvPr/>
          </p:nvSpPr>
          <p:spPr>
            <a:xfrm>
              <a:off x="6572520" y="5788080"/>
              <a:ext cx="424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17375e"/>
                  </a:solidFill>
                  <a:latin typeface="Times New Roman"/>
                  <a:ea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Блок-схема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714240" y="1071720"/>
            <a:ext cx="7674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обозначения шагов алгоритма используются геометрические фигур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23"/>
          <p:cNvGrpSpPr/>
          <p:nvPr/>
        </p:nvGrpSpPr>
        <p:grpSpPr>
          <a:xfrm>
            <a:off x="1666800" y="2392200"/>
            <a:ext cx="7343640" cy="752760"/>
            <a:chOff x="1666800" y="2392200"/>
            <a:chExt cx="7343640" cy="752760"/>
          </a:xfrm>
        </p:grpSpPr>
        <p:grpSp>
          <p:nvGrpSpPr>
            <p:cNvPr id="221" name="AutoShape 5"/>
            <p:cNvGrpSpPr/>
            <p:nvPr/>
          </p:nvGrpSpPr>
          <p:grpSpPr>
            <a:xfrm>
              <a:off x="1666800" y="2392200"/>
              <a:ext cx="2365200" cy="752760"/>
              <a:chOff x="1666800" y="2392200"/>
              <a:chExt cx="2365200" cy="752760"/>
            </a:xfrm>
          </p:grpSpPr>
          <p:pic>
            <p:nvPicPr>
              <p:cNvPr id="222" name="AutoShap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1666800" y="2392200"/>
                <a:ext cx="2365200" cy="752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3" name=""/>
              <p:cNvSpPr/>
              <p:nvPr/>
            </p:nvSpPr>
            <p:spPr>
              <a:xfrm>
                <a:off x="1830600" y="2521440"/>
                <a:ext cx="2040120" cy="46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Arial"/>
                  </a:rPr>
                  <a:t>овал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" name="Text Box 6"/>
            <p:cNvSpPr/>
            <p:nvPr/>
          </p:nvSpPr>
          <p:spPr>
            <a:xfrm>
              <a:off x="4587120" y="2457000"/>
              <a:ext cx="442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17375e"/>
                  </a:solidFill>
                  <a:latin typeface="Arial"/>
                </a:rPr>
                <a:t>Начало или коне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Group 24"/>
          <p:cNvGrpSpPr/>
          <p:nvPr/>
        </p:nvGrpSpPr>
        <p:grpSpPr>
          <a:xfrm>
            <a:off x="1000080" y="3281400"/>
            <a:ext cx="8143560" cy="888840"/>
            <a:chOff x="1000080" y="3281400"/>
            <a:chExt cx="8143560" cy="888840"/>
          </a:xfrm>
        </p:grpSpPr>
        <p:grpSp>
          <p:nvGrpSpPr>
            <p:cNvPr id="226" name="AutoShape 8"/>
            <p:cNvGrpSpPr/>
            <p:nvPr/>
          </p:nvGrpSpPr>
          <p:grpSpPr>
            <a:xfrm>
              <a:off x="1000080" y="3281400"/>
              <a:ext cx="3757320" cy="888840"/>
              <a:chOff x="1000080" y="3281400"/>
              <a:chExt cx="3757320" cy="888840"/>
            </a:xfrm>
          </p:grpSpPr>
          <p:pic>
            <p:nvPicPr>
              <p:cNvPr id="227" name="AutoShap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1000080" y="3281400"/>
                <a:ext cx="3757320" cy="888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8" name=""/>
              <p:cNvSpPr/>
              <p:nvPr/>
            </p:nvSpPr>
            <p:spPr>
              <a:xfrm>
                <a:off x="1789200" y="3315240"/>
                <a:ext cx="2185560" cy="79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Arial"/>
                  </a:rPr>
                  <a:t>параллелограмм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9" name="Text Box 9"/>
            <p:cNvSpPr/>
            <p:nvPr/>
          </p:nvSpPr>
          <p:spPr>
            <a:xfrm>
              <a:off x="4560120" y="3530160"/>
              <a:ext cx="458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17375e"/>
                  </a:solidFill>
                  <a:latin typeface="Arial"/>
                </a:rPr>
                <a:t>Ввод или выво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25"/>
          <p:cNvGrpSpPr/>
          <p:nvPr/>
        </p:nvGrpSpPr>
        <p:grpSpPr>
          <a:xfrm>
            <a:off x="1600200" y="4313160"/>
            <a:ext cx="7094160" cy="1157400"/>
            <a:chOff x="1600200" y="4313160"/>
            <a:chExt cx="7094160" cy="1157400"/>
          </a:xfrm>
        </p:grpSpPr>
        <p:grpSp>
          <p:nvGrpSpPr>
            <p:cNvPr id="231" name="AutoShape 11"/>
            <p:cNvGrpSpPr/>
            <p:nvPr/>
          </p:nvGrpSpPr>
          <p:grpSpPr>
            <a:xfrm>
              <a:off x="1600200" y="4313160"/>
              <a:ext cx="2490840" cy="1157400"/>
              <a:chOff x="1600200" y="4313160"/>
              <a:chExt cx="2490840" cy="1157400"/>
            </a:xfrm>
          </p:grpSpPr>
          <p:pic>
            <p:nvPicPr>
              <p:cNvPr id="232" name="AutoShape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1600200" y="4313160"/>
                <a:ext cx="2490840" cy="115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3" name=""/>
              <p:cNvSpPr/>
              <p:nvPr/>
            </p:nvSpPr>
            <p:spPr>
              <a:xfrm>
                <a:off x="2253240" y="4608720"/>
                <a:ext cx="119016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Arial"/>
                  </a:rPr>
                  <a:t>ромб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4" name="Text Box 12"/>
            <p:cNvSpPr/>
            <p:nvPr/>
          </p:nvSpPr>
          <p:spPr>
            <a:xfrm>
              <a:off x="4597200" y="4660200"/>
              <a:ext cx="409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17375e"/>
                  </a:solidFill>
                  <a:latin typeface="Arial"/>
                </a:rPr>
                <a:t>Принятие реш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Group 26"/>
          <p:cNvGrpSpPr/>
          <p:nvPr/>
        </p:nvGrpSpPr>
        <p:grpSpPr>
          <a:xfrm>
            <a:off x="1200240" y="5540400"/>
            <a:ext cx="7308360" cy="888840"/>
            <a:chOff x="1200240" y="5540400"/>
            <a:chExt cx="7308360" cy="888840"/>
          </a:xfrm>
        </p:grpSpPr>
        <p:grpSp>
          <p:nvGrpSpPr>
            <p:cNvPr id="236" name="Rectangle 14"/>
            <p:cNvGrpSpPr/>
            <p:nvPr/>
          </p:nvGrpSpPr>
          <p:grpSpPr>
            <a:xfrm>
              <a:off x="1200240" y="5540400"/>
              <a:ext cx="3161160" cy="888840"/>
              <a:chOff x="1200240" y="5540400"/>
              <a:chExt cx="3161160" cy="888840"/>
            </a:xfrm>
          </p:grpSpPr>
          <p:pic>
            <p:nvPicPr>
              <p:cNvPr id="237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200240" y="5540400"/>
                <a:ext cx="3161160" cy="888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8" name=""/>
              <p:cNvSpPr/>
              <p:nvPr/>
            </p:nvSpPr>
            <p:spPr>
              <a:xfrm>
                <a:off x="1260000" y="5571360"/>
                <a:ext cx="3044880" cy="79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Arial"/>
                  </a:rPr>
                  <a:t>прямоугольни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Text Box 15"/>
            <p:cNvSpPr/>
            <p:nvPr/>
          </p:nvSpPr>
          <p:spPr>
            <a:xfrm>
              <a:off x="4570200" y="5753880"/>
              <a:ext cx="3938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17375e"/>
                  </a:solidFill>
                  <a:latin typeface="Arial"/>
                </a:rPr>
                <a:t>Выполнение действ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edg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5" descr="http://www.320-8080.ru/img/jan2012/5.png"/>
          <p:cNvPicPr/>
          <p:nvPr/>
        </p:nvPicPr>
        <p:blipFill>
          <a:blip r:embed="rId2"/>
          <a:stretch/>
        </p:blipFill>
        <p:spPr>
          <a:xfrm>
            <a:off x="500040" y="1143000"/>
            <a:ext cx="4843440" cy="371484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Переход улицы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grpSp>
        <p:nvGrpSpPr>
          <p:cNvPr id="242" name="Group 28"/>
          <p:cNvGrpSpPr/>
          <p:nvPr/>
        </p:nvGrpSpPr>
        <p:grpSpPr>
          <a:xfrm>
            <a:off x="2405160" y="1357200"/>
            <a:ext cx="4238640" cy="4920840"/>
            <a:chOff x="2405160" y="1357200"/>
            <a:chExt cx="4238640" cy="4920840"/>
          </a:xfrm>
        </p:grpSpPr>
        <p:grpSp>
          <p:nvGrpSpPr>
            <p:cNvPr id="243" name="AutoShape 4"/>
            <p:cNvGrpSpPr/>
            <p:nvPr/>
          </p:nvGrpSpPr>
          <p:grpSpPr>
            <a:xfrm>
              <a:off x="3073320" y="1357200"/>
              <a:ext cx="2772360" cy="631440"/>
              <a:chOff x="3073320" y="1357200"/>
              <a:chExt cx="2772360" cy="631440"/>
            </a:xfrm>
          </p:grpSpPr>
          <p:pic>
            <p:nvPicPr>
              <p:cNvPr id="244" name="AutoShape 4" descr=""/>
              <p:cNvPicPr/>
              <p:nvPr/>
            </p:nvPicPr>
            <p:blipFill>
              <a:blip r:embed="rId3"/>
              <a:stretch/>
            </p:blipFill>
            <p:spPr>
              <a:xfrm>
                <a:off x="3073320" y="1357200"/>
                <a:ext cx="2772360" cy="63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5" name=""/>
              <p:cNvSpPr/>
              <p:nvPr/>
            </p:nvSpPr>
            <p:spPr>
              <a:xfrm>
                <a:off x="3255480" y="1478160"/>
                <a:ext cx="241128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Arial"/>
                  </a:rPr>
                  <a:t>Начал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" name="AutoShape 5"/>
            <p:cNvGrpSpPr/>
            <p:nvPr/>
          </p:nvGrpSpPr>
          <p:grpSpPr>
            <a:xfrm>
              <a:off x="2856600" y="2304000"/>
              <a:ext cx="3326040" cy="832680"/>
              <a:chOff x="2856600" y="2304000"/>
              <a:chExt cx="3326040" cy="832680"/>
            </a:xfrm>
          </p:grpSpPr>
          <p:pic>
            <p:nvPicPr>
              <p:cNvPr id="247" name="AutoShape 5" descr=""/>
              <p:cNvPicPr/>
              <p:nvPr/>
            </p:nvPicPr>
            <p:blipFill>
              <a:blip r:embed="rId4"/>
              <a:stretch/>
            </p:blipFill>
            <p:spPr>
              <a:xfrm>
                <a:off x="2856600" y="2304000"/>
                <a:ext cx="3326040" cy="83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8" name=""/>
              <p:cNvSpPr/>
              <p:nvPr/>
            </p:nvSpPr>
            <p:spPr>
              <a:xfrm>
                <a:off x="3064680" y="2338920"/>
                <a:ext cx="2892600" cy="72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Arial"/>
                  </a:rPr>
                  <a:t>Подойти к переходу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" name="AutoShape 6"/>
            <p:cNvGrpSpPr/>
            <p:nvPr/>
          </p:nvGrpSpPr>
          <p:grpSpPr>
            <a:xfrm>
              <a:off x="2405160" y="3404520"/>
              <a:ext cx="4238640" cy="832680"/>
              <a:chOff x="2405160" y="3404520"/>
              <a:chExt cx="4238640" cy="832680"/>
            </a:xfrm>
          </p:grpSpPr>
          <p:pic>
            <p:nvPicPr>
              <p:cNvPr id="250" name="AutoShape 6" descr=""/>
              <p:cNvPicPr/>
              <p:nvPr/>
            </p:nvPicPr>
            <p:blipFill>
              <a:blip r:embed="rId5"/>
              <a:stretch/>
            </p:blipFill>
            <p:spPr>
              <a:xfrm>
                <a:off x="2405160" y="3404520"/>
                <a:ext cx="4238640" cy="83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1" name=""/>
              <p:cNvSpPr/>
              <p:nvPr/>
            </p:nvSpPr>
            <p:spPr>
              <a:xfrm>
                <a:off x="2533680" y="3439080"/>
                <a:ext cx="3966840" cy="72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Arial"/>
                  </a:rPr>
                  <a:t>Дождаться зелёного свет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" name="AutoShape 7"/>
            <p:cNvGrpSpPr/>
            <p:nvPr/>
          </p:nvGrpSpPr>
          <p:grpSpPr>
            <a:xfrm>
              <a:off x="3192480" y="4516920"/>
              <a:ext cx="2619000" cy="832680"/>
              <a:chOff x="3192480" y="4516920"/>
              <a:chExt cx="2619000" cy="832680"/>
            </a:xfrm>
          </p:grpSpPr>
          <p:pic>
            <p:nvPicPr>
              <p:cNvPr id="253" name="AutoShape 7" descr=""/>
              <p:cNvPicPr/>
              <p:nvPr/>
            </p:nvPicPr>
            <p:blipFill>
              <a:blip r:embed="rId6"/>
              <a:stretch/>
            </p:blipFill>
            <p:spPr>
              <a:xfrm>
                <a:off x="3192480" y="4516920"/>
                <a:ext cx="2619000" cy="83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4" name=""/>
              <p:cNvSpPr/>
              <p:nvPr/>
            </p:nvSpPr>
            <p:spPr>
              <a:xfrm>
                <a:off x="3249720" y="4554720"/>
                <a:ext cx="2512800" cy="72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Arial"/>
                  </a:rPr>
                  <a:t>Перейти улицу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" name="AutoShape 8"/>
            <p:cNvGrpSpPr/>
            <p:nvPr/>
          </p:nvGrpSpPr>
          <p:grpSpPr>
            <a:xfrm>
              <a:off x="3141720" y="5642280"/>
              <a:ext cx="2772360" cy="635760"/>
              <a:chOff x="3141720" y="5642280"/>
              <a:chExt cx="2772360" cy="635760"/>
            </a:xfrm>
          </p:grpSpPr>
          <p:pic>
            <p:nvPicPr>
              <p:cNvPr id="256" name="AutoShape 8" descr=""/>
              <p:cNvPicPr/>
              <p:nvPr/>
            </p:nvPicPr>
            <p:blipFill>
              <a:blip r:embed="rId7"/>
              <a:stretch/>
            </p:blipFill>
            <p:spPr>
              <a:xfrm>
                <a:off x="3141720" y="5642280"/>
                <a:ext cx="2772360" cy="63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7" name=""/>
              <p:cNvSpPr/>
              <p:nvPr/>
            </p:nvSpPr>
            <p:spPr>
              <a:xfrm>
                <a:off x="3323880" y="5753520"/>
                <a:ext cx="2411280" cy="37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Arial"/>
                  </a:rPr>
                  <a:t>Коне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8" name="Line 15"/>
            <p:cNvSpPr/>
            <p:nvPr/>
          </p:nvSpPr>
          <p:spPr>
            <a:xfrm>
              <a:off x="4514760" y="3061080"/>
              <a:ext cx="0" cy="364680"/>
            </a:xfrm>
            <a:prstGeom prst="line">
              <a:avLst/>
            </a:prstGeom>
            <a:ln w="34920">
              <a:solidFill>
                <a:srgbClr val="000099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16"/>
            <p:cNvSpPr/>
            <p:nvPr/>
          </p:nvSpPr>
          <p:spPr>
            <a:xfrm>
              <a:off x="4525200" y="4174920"/>
              <a:ext cx="0" cy="411120"/>
            </a:xfrm>
            <a:prstGeom prst="line">
              <a:avLst/>
            </a:prstGeom>
            <a:ln w="34920">
              <a:solidFill>
                <a:srgbClr val="000099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17"/>
            <p:cNvSpPr/>
            <p:nvPr/>
          </p:nvSpPr>
          <p:spPr>
            <a:xfrm>
              <a:off x="4537080" y="5293440"/>
              <a:ext cx="0" cy="365040"/>
            </a:xfrm>
            <a:prstGeom prst="line">
              <a:avLst/>
            </a:prstGeom>
            <a:ln w="34920">
              <a:solidFill>
                <a:srgbClr val="000099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26"/>
            <p:cNvSpPr/>
            <p:nvPr/>
          </p:nvSpPr>
          <p:spPr>
            <a:xfrm>
              <a:off x="4511520" y="1928880"/>
              <a:ext cx="0" cy="411120"/>
            </a:xfrm>
            <a:prstGeom prst="line">
              <a:avLst/>
            </a:prstGeom>
            <a:ln w="34920">
              <a:solidFill>
                <a:srgbClr val="000099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2" name="Picture 3" descr=""/>
          <p:cNvPicPr/>
          <p:nvPr/>
        </p:nvPicPr>
        <p:blipFill>
          <a:blip r:embed="rId8"/>
          <a:stretch/>
        </p:blipFill>
        <p:spPr>
          <a:xfrm>
            <a:off x="6119640" y="4500720"/>
            <a:ext cx="3024360" cy="23572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Прямоугольник 3"/>
          <p:cNvSpPr/>
          <p:nvPr/>
        </p:nvSpPr>
        <p:spPr>
          <a:xfrm>
            <a:off x="1758960" y="1071720"/>
            <a:ext cx="7099200" cy="1357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лгоритм, записанный на языке,  понятном исполнителю, называется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рограмм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642600" y="2500200"/>
            <a:ext cx="8286840" cy="42148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Arial"/>
              </a:rPr>
              <a:t>Алгоритм  разрабатывается для решения некоторого класса задач. При это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199"/>
              </a:spcAft>
              <a:buClr>
                <a:srgbClr val="17375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Arial"/>
              </a:rPr>
              <a:t>выделяются объекты, устанавливаются их свойства, отношения между ними, возможные действия с объект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17375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Arial"/>
              </a:rPr>
              <a:t>определяются исходные данные и результа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17375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Arial"/>
              </a:rPr>
              <a:t>определяется точная последовательность действий исполнителя для перехода от исходных данных к результат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17375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Arial"/>
              </a:rPr>
              <a:t>действия описываются командами, понятными исполнител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85520" y="0"/>
            <a:ext cx="7643880" cy="116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Программа 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266" name="Овал 4"/>
          <p:cNvSpPr/>
          <p:nvPr/>
        </p:nvSpPr>
        <p:spPr>
          <a:xfrm>
            <a:off x="571680" y="1143000"/>
            <a:ext cx="961920" cy="100008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42560" y="188640"/>
            <a:ext cx="85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амое главное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671040" y="928440"/>
            <a:ext cx="818676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лгоритмы, исполнителем которых является человек, удобно записывать в словесной форме, в табличной форме, в виде блок-схе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ля обозначения шагов в блок-схеме используются фигуры (овал, параллелограмм, ромб, прямоугольник и другие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лгоритм, записанный на языке, понятном исполнителю, называется программо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Sergei</cp:lastModifiedBy>
  <dcterms:modified xsi:type="dcterms:W3CDTF">2013-09-04T09:36:11Z</dcterms:modified>
  <cp:revision>20</cp:revision>
  <dc:subject/>
  <dc:title>Презентация PowerPoint</dc:title>
</cp:coreProperties>
</file>