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62B-0DB1-433E-AEDC-D52A630F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1EE-976B-4F70-8327-7D82946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277-596B-4C6F-90DD-1854BF27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940-BCB8-413A-AEF7-2512A078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BF6-406F-4742-90C5-B00FE59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3E8-EEF8-4F42-8AF9-8ECEE09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AC5-94BE-43BC-ADD5-C361D1F5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6EB-A78A-4396-9844-543B264B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366-5F3C-4513-A336-5DF9E4CC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68B-4E01-47EA-B833-352342C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9FD-8336-4BAA-A954-85B6C15A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94A-EE21-4C51-B4EB-64DC097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B573-E6E4-425E-AFB0-6AF16A9BA8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714840" y="42148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игуры (блоки) блок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4000" y="2349360"/>
            <a:ext cx="7020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Ы ЗАПИСИ АЛГОРИТМ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42560" y="1695600"/>
            <a:ext cx="7643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геометрические фигуры используются в блок-схе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в блок-схеме задаётся порядок выполнения отдельных действ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0" y="1499760"/>
            <a:ext cx="4100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http://www.bestreferat.ru/images/paper/40/74/5797440.png"/>
          <p:cNvPicPr/>
          <p:nvPr/>
        </p:nvPicPr>
        <p:blipFill>
          <a:blip r:embed="rId2"/>
          <a:stretch/>
        </p:blipFill>
        <p:spPr>
          <a:xfrm>
            <a:off x="1798560" y="3797280"/>
            <a:ext cx="5973840" cy="379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900igr.net/datas/informatika/Formy-predstavlenija-algoritma/0019-019-Slovesnaja-forma-predstavlenija-algoritma-zapis-algoritma-v-vide.jpg"/>
          <p:cNvPicPr/>
          <p:nvPr/>
        </p:nvPicPr>
        <p:blipFill>
          <a:blip r:embed="rId3"/>
          <a:stretch/>
        </p:blipFill>
        <p:spPr>
          <a:xfrm>
            <a:off x="5261040" y="1639800"/>
            <a:ext cx="3889440" cy="378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zasovetom.org/wp-content/uploads/2010/05/kubik-rubik-2.jpg"/>
          <p:cNvPicPr/>
          <p:nvPr/>
        </p:nvPicPr>
        <p:blipFill>
          <a:blip r:embed="rId4"/>
          <a:stretch/>
        </p:blipFill>
        <p:spPr>
          <a:xfrm>
            <a:off x="457200" y="1090440"/>
            <a:ext cx="5267160" cy="4488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58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ормы записи алгоритм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66" name="Rectangle 6"/>
          <p:cNvGrpSpPr/>
          <p:nvPr/>
        </p:nvGrpSpPr>
        <p:grpSpPr>
          <a:xfrm>
            <a:off x="2938320" y="1225440"/>
            <a:ext cx="3718080" cy="1011240"/>
            <a:chOff x="2938320" y="1225440"/>
            <a:chExt cx="3718080" cy="1011240"/>
          </a:xfrm>
        </p:grpSpPr>
        <p:pic>
          <p:nvPicPr>
            <p:cNvPr id="167" name="Rectangle 6" descr=""/>
            <p:cNvPicPr/>
            <p:nvPr/>
          </p:nvPicPr>
          <p:blipFill>
            <a:blip r:embed="rId5"/>
            <a:stretch/>
          </p:blipFill>
          <p:spPr>
            <a:xfrm>
              <a:off x="2938320" y="1225440"/>
              <a:ext cx="37180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043080" y="1328760"/>
              <a:ext cx="35150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Словесна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Rectangle 8"/>
          <p:cNvGrpSpPr/>
          <p:nvPr/>
        </p:nvGrpSpPr>
        <p:grpSpPr>
          <a:xfrm>
            <a:off x="2803680" y="2664000"/>
            <a:ext cx="4041720" cy="1017360"/>
            <a:chOff x="2803680" y="2664000"/>
            <a:chExt cx="4041720" cy="1017360"/>
          </a:xfrm>
        </p:grpSpPr>
        <p:pic>
          <p:nvPicPr>
            <p:cNvPr id="170" name="Rectangle 8" descr=""/>
            <p:cNvPicPr/>
            <p:nvPr/>
          </p:nvPicPr>
          <p:blipFill>
            <a:blip r:embed="rId6"/>
            <a:stretch/>
          </p:blipFill>
          <p:spPr>
            <a:xfrm>
              <a:off x="2803680" y="2664000"/>
              <a:ext cx="40417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059280" y="2757600"/>
              <a:ext cx="35128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Графическа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Rectangle 10"/>
          <p:cNvGrpSpPr/>
          <p:nvPr/>
        </p:nvGrpSpPr>
        <p:grpSpPr>
          <a:xfrm>
            <a:off x="2981160" y="4091040"/>
            <a:ext cx="3718080" cy="1011240"/>
            <a:chOff x="2981160" y="4091040"/>
            <a:chExt cx="3718080" cy="1011240"/>
          </a:xfrm>
        </p:grpSpPr>
        <p:pic>
          <p:nvPicPr>
            <p:cNvPr id="173" name="Rectangle 10" descr=""/>
            <p:cNvPicPr/>
            <p:nvPr/>
          </p:nvPicPr>
          <p:blipFill>
            <a:blip r:embed="rId7"/>
            <a:stretch/>
          </p:blipFill>
          <p:spPr>
            <a:xfrm>
              <a:off x="2981160" y="4091040"/>
              <a:ext cx="371808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087720" y="4186080"/>
              <a:ext cx="351324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rial"/>
                </a:rPr>
                <a:t>Блок-схе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ловесная фор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4240" y="1213920"/>
            <a:ext cx="8143920" cy="1584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ловесная форма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- 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85880" y="3500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357800" y="2928960"/>
            <a:ext cx="4500360" cy="353376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Остановись на троту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осмотри на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Если транспорта нет, то иди до середины улицы и остановись, иначе выполняй п.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Посмотри напра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Если нет транспорта, то иди до противоположного тротуара, иначе выполняй п.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271" t="0" r="0" b="3599"/>
          <a:stretch/>
        </p:blipFill>
        <p:spPr>
          <a:xfrm>
            <a:off x="785880" y="4221000"/>
            <a:ext cx="3336840" cy="227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709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Графическая запись алгорит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857160" y="1571760"/>
            <a:ext cx="7786440" cy="4819680"/>
            <a:chOff x="857160" y="1571760"/>
            <a:chExt cx="7786440" cy="4819680"/>
          </a:xfrm>
        </p:grpSpPr>
        <p:sp>
          <p:nvSpPr>
            <p:cNvPr id="182" name="Rectangle 2"/>
            <p:cNvSpPr/>
            <p:nvPr/>
          </p:nvSpPr>
          <p:spPr>
            <a:xfrm>
              <a:off x="873720" y="1571760"/>
              <a:ext cx="7738920" cy="4216320"/>
            </a:xfrm>
            <a:prstGeom prst="rect">
              <a:avLst/>
            </a:prstGeom>
            <a:gradFill rotWithShape="0">
              <a:gsLst>
                <a:gs pos="0">
                  <a:srgbClr val="2f7676"/>
                </a:gs>
                <a:gs pos="5000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"/>
            <p:cNvSpPr/>
            <p:nvPr/>
          </p:nvSpPr>
          <p:spPr>
            <a:xfrm>
              <a:off x="857160" y="4316040"/>
              <a:ext cx="1265760" cy="130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2196000" y="4352760"/>
              <a:ext cx="1266120" cy="130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"/>
            <p:cNvSpPr/>
            <p:nvPr/>
          </p:nvSpPr>
          <p:spPr>
            <a:xfrm>
              <a:off x="2248920" y="3380400"/>
              <a:ext cx="1158120" cy="119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7"/>
            <p:cNvGrpSpPr/>
            <p:nvPr/>
          </p:nvGrpSpPr>
          <p:grpSpPr>
            <a:xfrm>
              <a:off x="3462120" y="3344760"/>
              <a:ext cx="1265760" cy="2277720"/>
              <a:chOff x="3462120" y="3344760"/>
              <a:chExt cx="1265760" cy="2277720"/>
            </a:xfrm>
          </p:grpSpPr>
          <p:sp>
            <p:nvSpPr>
              <p:cNvPr id="187" name="Oval 8"/>
              <p:cNvSpPr/>
              <p:nvPr/>
            </p:nvSpPr>
            <p:spPr>
              <a:xfrm>
                <a:off x="346212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51396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0"/>
            <p:cNvGrpSpPr/>
            <p:nvPr/>
          </p:nvGrpSpPr>
          <p:grpSpPr>
            <a:xfrm>
              <a:off x="6096960" y="3344760"/>
              <a:ext cx="1266120" cy="2277720"/>
              <a:chOff x="6096960" y="3344760"/>
              <a:chExt cx="1266120" cy="2277720"/>
            </a:xfrm>
          </p:grpSpPr>
          <p:sp>
            <p:nvSpPr>
              <p:cNvPr id="190" name="Oval 11"/>
              <p:cNvSpPr/>
              <p:nvPr/>
            </p:nvSpPr>
            <p:spPr>
              <a:xfrm>
                <a:off x="6096960" y="4315680"/>
                <a:ext cx="126612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148800" y="3344760"/>
                <a:ext cx="115884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3"/>
            <p:cNvGrpSpPr/>
            <p:nvPr/>
          </p:nvGrpSpPr>
          <p:grpSpPr>
            <a:xfrm>
              <a:off x="4757760" y="3344760"/>
              <a:ext cx="1265760" cy="2277720"/>
              <a:chOff x="4757760" y="3344760"/>
              <a:chExt cx="1265760" cy="2277720"/>
            </a:xfrm>
          </p:grpSpPr>
          <p:sp>
            <p:nvSpPr>
              <p:cNvPr id="193" name="Oval 14"/>
              <p:cNvSpPr/>
              <p:nvPr/>
            </p:nvSpPr>
            <p:spPr>
              <a:xfrm>
                <a:off x="475776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5"/>
              <p:cNvSpPr/>
              <p:nvPr/>
            </p:nvSpPr>
            <p:spPr>
              <a:xfrm>
                <a:off x="480960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6"/>
            <p:cNvGrpSpPr/>
            <p:nvPr/>
          </p:nvGrpSpPr>
          <p:grpSpPr>
            <a:xfrm>
              <a:off x="7377840" y="3344760"/>
              <a:ext cx="1265760" cy="2277720"/>
              <a:chOff x="7377840" y="3344760"/>
              <a:chExt cx="1265760" cy="2277720"/>
            </a:xfrm>
          </p:grpSpPr>
          <p:sp>
            <p:nvSpPr>
              <p:cNvPr id="196" name="Oval 17"/>
              <p:cNvSpPr/>
              <p:nvPr/>
            </p:nvSpPr>
            <p:spPr>
              <a:xfrm>
                <a:off x="7377840" y="4315680"/>
                <a:ext cx="1265760" cy="130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8"/>
              <p:cNvSpPr/>
              <p:nvPr/>
            </p:nvSpPr>
            <p:spPr>
              <a:xfrm>
                <a:off x="7429680" y="3344760"/>
                <a:ext cx="1158480" cy="119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Oval 19"/>
            <p:cNvSpPr/>
            <p:nvPr/>
          </p:nvSpPr>
          <p:spPr>
            <a:xfrm>
              <a:off x="3585240" y="2374200"/>
              <a:ext cx="1091160" cy="112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"/>
            <p:cNvSpPr/>
            <p:nvPr/>
          </p:nvSpPr>
          <p:spPr>
            <a:xfrm>
              <a:off x="4869360" y="2374200"/>
              <a:ext cx="1092960" cy="112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 flipV="1" rot="20994600">
              <a:off x="4802760" y="1754280"/>
              <a:ext cx="976680" cy="871200"/>
            </a:xfrm>
            <a:custGeom>
              <a:avLst/>
              <a:gdLst>
                <a:gd name="textAreaLeft" fmla="*/ 204120 w 976680"/>
                <a:gd name="textAreaRight" fmla="*/ 774000 w 9766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2"/>
            <p:cNvSpPr/>
            <p:nvPr/>
          </p:nvSpPr>
          <p:spPr>
            <a:xfrm>
              <a:off x="6210000" y="2365560"/>
              <a:ext cx="1093320" cy="11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3"/>
            <p:cNvSpPr/>
            <p:nvPr/>
          </p:nvSpPr>
          <p:spPr>
            <a:xfrm flipV="1" rot="20994600">
              <a:off x="6144840" y="1744200"/>
              <a:ext cx="975240" cy="870840"/>
            </a:xfrm>
            <a:custGeom>
              <a:avLst/>
              <a:gdLst>
                <a:gd name="textAreaLeft" fmla="*/ 202680 w 975240"/>
                <a:gd name="textAreaRight" fmla="*/ 772560 w 975240"/>
                <a:gd name="textAreaTop" fmla="*/ 181440 h 870840"/>
                <a:gd name="textAreaBottom" fmla="*/ 689400 h 87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>
              <a:off x="6379560" y="2784600"/>
              <a:ext cx="212400" cy="146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 flipH="1">
              <a:off x="6848280" y="2784600"/>
              <a:ext cx="210960" cy="146520"/>
            </a:xfrm>
            <a:custGeom>
              <a:avLst/>
              <a:gdLst>
                <a:gd name="textAreaLeft" fmla="*/ 360 w 210960"/>
                <a:gd name="textAreaRight" fmla="*/ 211680 w 21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6"/>
            <p:cNvSpPr/>
            <p:nvPr/>
          </p:nvSpPr>
          <p:spPr>
            <a:xfrm>
              <a:off x="4869360" y="2374200"/>
              <a:ext cx="1092960" cy="112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7"/>
            <p:cNvSpPr/>
            <p:nvPr/>
          </p:nvSpPr>
          <p:spPr>
            <a:xfrm flipV="1" rot="20994600">
              <a:off x="4802760" y="1754280"/>
              <a:ext cx="976680" cy="871200"/>
            </a:xfrm>
            <a:custGeom>
              <a:avLst/>
              <a:gdLst>
                <a:gd name="textAreaLeft" fmla="*/ 204120 w 976680"/>
                <a:gd name="textAreaRight" fmla="*/ 774000 w 9766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8"/>
            <p:cNvSpPr/>
            <p:nvPr/>
          </p:nvSpPr>
          <p:spPr>
            <a:xfrm>
              <a:off x="7429320" y="2316960"/>
              <a:ext cx="1091160" cy="1127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 flipV="1" rot="20994600">
              <a:off x="7363080" y="1695240"/>
              <a:ext cx="974880" cy="871200"/>
            </a:xfrm>
            <a:custGeom>
              <a:avLst/>
              <a:gdLst>
                <a:gd name="textAreaLeft" fmla="*/ 202320 w 974880"/>
                <a:gd name="textAreaRight" fmla="*/ 772560 w 974880"/>
                <a:gd name="textAreaTop" fmla="*/ 181440 h 871200"/>
                <a:gd name="textAreaBottom" fmla="*/ 689760 h 8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0"/>
            <p:cNvSpPr/>
            <p:nvPr/>
          </p:nvSpPr>
          <p:spPr>
            <a:xfrm>
              <a:off x="7598880" y="2735640"/>
              <a:ext cx="212400" cy="1465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1"/>
            <p:cNvSpPr/>
            <p:nvPr/>
          </p:nvSpPr>
          <p:spPr>
            <a:xfrm flipH="1">
              <a:off x="8065800" y="2735640"/>
              <a:ext cx="212400" cy="146520"/>
            </a:xfrm>
            <a:custGeom>
              <a:avLst/>
              <a:gdLst>
                <a:gd name="textAreaLeft" fmla="*/ 360 w 212400"/>
                <a:gd name="textAreaRight" fmla="*/ 213120 w 212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2"/>
            <p:cNvSpPr/>
            <p:nvPr/>
          </p:nvSpPr>
          <p:spPr>
            <a:xfrm flipV="1" rot="1507800">
              <a:off x="7728480" y="2891520"/>
              <a:ext cx="182520" cy="3769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3"/>
            <p:cNvSpPr/>
            <p:nvPr/>
          </p:nvSpPr>
          <p:spPr>
            <a:xfrm>
              <a:off x="1209240" y="576972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4"/>
            <p:cNvSpPr/>
            <p:nvPr/>
          </p:nvSpPr>
          <p:spPr>
            <a:xfrm>
              <a:off x="2609640" y="5788080"/>
              <a:ext cx="42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5"/>
            <p:cNvSpPr/>
            <p:nvPr/>
          </p:nvSpPr>
          <p:spPr>
            <a:xfrm>
              <a:off x="3889080" y="5810040"/>
              <a:ext cx="42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6"/>
            <p:cNvSpPr/>
            <p:nvPr/>
          </p:nvSpPr>
          <p:spPr>
            <a:xfrm>
              <a:off x="5168160" y="5788080"/>
              <a:ext cx="42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7"/>
            <p:cNvSpPr/>
            <p:nvPr/>
          </p:nvSpPr>
          <p:spPr>
            <a:xfrm>
              <a:off x="7853040" y="5774760"/>
              <a:ext cx="42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8"/>
            <p:cNvSpPr/>
            <p:nvPr/>
          </p:nvSpPr>
          <p:spPr>
            <a:xfrm>
              <a:off x="6572520" y="5788080"/>
              <a:ext cx="42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Блок-схе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14240" y="1071720"/>
            <a:ext cx="767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3"/>
          <p:cNvGrpSpPr/>
          <p:nvPr/>
        </p:nvGrpSpPr>
        <p:grpSpPr>
          <a:xfrm>
            <a:off x="1666800" y="2392200"/>
            <a:ext cx="7343640" cy="752760"/>
            <a:chOff x="1666800" y="2392200"/>
            <a:chExt cx="7343640" cy="752760"/>
          </a:xfrm>
        </p:grpSpPr>
        <p:grpSp>
          <p:nvGrpSpPr>
            <p:cNvPr id="221" name="AutoShape 5"/>
            <p:cNvGrpSpPr/>
            <p:nvPr/>
          </p:nvGrpSpPr>
          <p:grpSpPr>
            <a:xfrm>
              <a:off x="1666800" y="2392200"/>
              <a:ext cx="2365200" cy="752760"/>
              <a:chOff x="1666800" y="2392200"/>
              <a:chExt cx="2365200" cy="752760"/>
            </a:xfrm>
          </p:grpSpPr>
          <p:pic>
            <p:nvPicPr>
              <p:cNvPr id="222" name="AutoShap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0" y="2392200"/>
                <a:ext cx="2365200" cy="7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1830600" y="2521440"/>
                <a:ext cx="2040120" cy="46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ова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6"/>
            <p:cNvSpPr/>
            <p:nvPr/>
          </p:nvSpPr>
          <p:spPr>
            <a:xfrm>
              <a:off x="4587120" y="2457000"/>
              <a:ext cx="442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1000080" y="3281400"/>
            <a:ext cx="8143560" cy="888840"/>
            <a:chOff x="1000080" y="3281400"/>
            <a:chExt cx="8143560" cy="888840"/>
          </a:xfrm>
        </p:grpSpPr>
        <p:grpSp>
          <p:nvGrpSpPr>
            <p:cNvPr id="226" name="AutoShape 8"/>
            <p:cNvGrpSpPr/>
            <p:nvPr/>
          </p:nvGrpSpPr>
          <p:grpSpPr>
            <a:xfrm>
              <a:off x="1000080" y="3281400"/>
              <a:ext cx="3757320" cy="888840"/>
              <a:chOff x="1000080" y="3281400"/>
              <a:chExt cx="3757320" cy="888840"/>
            </a:xfrm>
          </p:grpSpPr>
          <p:pic>
            <p:nvPicPr>
              <p:cNvPr id="227" name="AutoShap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3281400"/>
                <a:ext cx="375732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789200" y="3315240"/>
                <a:ext cx="218556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араллелограм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Text Box 9"/>
            <p:cNvSpPr/>
            <p:nvPr/>
          </p:nvSpPr>
          <p:spPr>
            <a:xfrm>
              <a:off x="4560120" y="3530160"/>
              <a:ext cx="458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1600200" y="4313160"/>
            <a:ext cx="7094160" cy="1157400"/>
            <a:chOff x="1600200" y="4313160"/>
            <a:chExt cx="7094160" cy="1157400"/>
          </a:xfrm>
        </p:grpSpPr>
        <p:grpSp>
          <p:nvGrpSpPr>
            <p:cNvPr id="231" name="AutoShape 11"/>
            <p:cNvGrpSpPr/>
            <p:nvPr/>
          </p:nvGrpSpPr>
          <p:grpSpPr>
            <a:xfrm>
              <a:off x="1600200" y="4313160"/>
              <a:ext cx="2490840" cy="1157400"/>
              <a:chOff x="1600200" y="4313160"/>
              <a:chExt cx="2490840" cy="1157400"/>
            </a:xfrm>
          </p:grpSpPr>
          <p:pic>
            <p:nvPicPr>
              <p:cNvPr id="232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0200" y="4313160"/>
                <a:ext cx="2490840" cy="11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2253240" y="4608720"/>
                <a:ext cx="119016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ром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2"/>
            <p:cNvSpPr/>
            <p:nvPr/>
          </p:nvSpPr>
          <p:spPr>
            <a:xfrm>
              <a:off x="4597200" y="4660200"/>
              <a:ext cx="409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1200240" y="5540400"/>
            <a:ext cx="7308360" cy="888840"/>
            <a:chOff x="1200240" y="5540400"/>
            <a:chExt cx="7308360" cy="888840"/>
          </a:xfrm>
        </p:grpSpPr>
        <p:grpSp>
          <p:nvGrpSpPr>
            <p:cNvPr id="236" name="Rectangle 14"/>
            <p:cNvGrpSpPr/>
            <p:nvPr/>
          </p:nvGrpSpPr>
          <p:grpSpPr>
            <a:xfrm>
              <a:off x="1200240" y="5540400"/>
              <a:ext cx="3161160" cy="888840"/>
              <a:chOff x="1200240" y="5540400"/>
              <a:chExt cx="3161160" cy="888840"/>
            </a:xfrm>
          </p:grpSpPr>
          <p:pic>
            <p:nvPicPr>
              <p:cNvPr id="23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200240" y="5540400"/>
                <a:ext cx="3161160" cy="8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260000" y="5571360"/>
                <a:ext cx="3044880" cy="7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рямоугольни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15"/>
            <p:cNvSpPr/>
            <p:nvPr/>
          </p:nvSpPr>
          <p:spPr>
            <a:xfrm>
              <a:off x="4570200" y="5753880"/>
              <a:ext cx="39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7375e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http://www.320-8080.ru/img/jan2012/5.png"/>
          <p:cNvPicPr/>
          <p:nvPr/>
        </p:nvPicPr>
        <p:blipFill>
          <a:blip r:embed="rId2"/>
          <a:stretch/>
        </p:blipFill>
        <p:spPr>
          <a:xfrm>
            <a:off x="500040" y="1143000"/>
            <a:ext cx="4843440" cy="3714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ереход улицы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42" name="Group 28"/>
          <p:cNvGrpSpPr/>
          <p:nvPr/>
        </p:nvGrpSpPr>
        <p:grpSpPr>
          <a:xfrm>
            <a:off x="2405160" y="1357200"/>
            <a:ext cx="4238640" cy="4920840"/>
            <a:chOff x="2405160" y="1357200"/>
            <a:chExt cx="4238640" cy="4920840"/>
          </a:xfrm>
        </p:grpSpPr>
        <p:grpSp>
          <p:nvGrpSpPr>
            <p:cNvPr id="243" name="AutoShape 4"/>
            <p:cNvGrpSpPr/>
            <p:nvPr/>
          </p:nvGrpSpPr>
          <p:grpSpPr>
            <a:xfrm>
              <a:off x="3073320" y="1357200"/>
              <a:ext cx="2772360" cy="631440"/>
              <a:chOff x="3073320" y="1357200"/>
              <a:chExt cx="2772360" cy="631440"/>
            </a:xfrm>
          </p:grpSpPr>
          <p:pic>
            <p:nvPicPr>
              <p:cNvPr id="244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073320" y="1357200"/>
                <a:ext cx="2772360" cy="63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255480" y="1478160"/>
                <a:ext cx="24112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AutoShape 5"/>
            <p:cNvGrpSpPr/>
            <p:nvPr/>
          </p:nvGrpSpPr>
          <p:grpSpPr>
            <a:xfrm>
              <a:off x="2856600" y="2304000"/>
              <a:ext cx="3326040" cy="832680"/>
              <a:chOff x="2856600" y="2304000"/>
              <a:chExt cx="3326040" cy="832680"/>
            </a:xfrm>
          </p:grpSpPr>
          <p:pic>
            <p:nvPicPr>
              <p:cNvPr id="247" name="AutoShap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2856600" y="2304000"/>
                <a:ext cx="332604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3064680" y="2338920"/>
                <a:ext cx="28926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одойти к переход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AutoShape 6"/>
            <p:cNvGrpSpPr/>
            <p:nvPr/>
          </p:nvGrpSpPr>
          <p:grpSpPr>
            <a:xfrm>
              <a:off x="2405160" y="3404520"/>
              <a:ext cx="4238640" cy="832680"/>
              <a:chOff x="2405160" y="3404520"/>
              <a:chExt cx="4238640" cy="832680"/>
            </a:xfrm>
          </p:grpSpPr>
          <p:pic>
            <p:nvPicPr>
              <p:cNvPr id="250" name="AutoShap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05160" y="3404520"/>
                <a:ext cx="423864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533680" y="3439080"/>
                <a:ext cx="396684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Дождаться зелёного свет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AutoShape 7"/>
            <p:cNvGrpSpPr/>
            <p:nvPr/>
          </p:nvGrpSpPr>
          <p:grpSpPr>
            <a:xfrm>
              <a:off x="3192480" y="4516920"/>
              <a:ext cx="2619000" cy="832680"/>
              <a:chOff x="3192480" y="4516920"/>
              <a:chExt cx="2619000" cy="832680"/>
            </a:xfrm>
          </p:grpSpPr>
          <p:pic>
            <p:nvPicPr>
              <p:cNvPr id="253" name="AutoShap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3192480" y="4516920"/>
                <a:ext cx="2619000" cy="83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3249720" y="4554720"/>
                <a:ext cx="251280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ерейти улиц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AutoShape 8"/>
            <p:cNvGrpSpPr/>
            <p:nvPr/>
          </p:nvGrpSpPr>
          <p:grpSpPr>
            <a:xfrm>
              <a:off x="3141720" y="5642280"/>
              <a:ext cx="2772360" cy="635760"/>
              <a:chOff x="3141720" y="5642280"/>
              <a:chExt cx="2772360" cy="635760"/>
            </a:xfrm>
          </p:grpSpPr>
          <p:pic>
            <p:nvPicPr>
              <p:cNvPr id="256" name="AutoShap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3141720" y="5642280"/>
                <a:ext cx="2772360" cy="63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3323880" y="5753520"/>
                <a:ext cx="241128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Line 15"/>
            <p:cNvSpPr/>
            <p:nvPr/>
          </p:nvSpPr>
          <p:spPr>
            <a:xfrm>
              <a:off x="4514760" y="3061080"/>
              <a:ext cx="0" cy="36468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4525200" y="4174920"/>
              <a:ext cx="0" cy="41112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4537080" y="5293440"/>
              <a:ext cx="0" cy="36504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4511520" y="1928880"/>
              <a:ext cx="0" cy="411120"/>
            </a:xfrm>
            <a:prstGeom prst="line">
              <a:avLst/>
            </a:prstGeom>
            <a:ln w="3492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3" descr=""/>
          <p:cNvPicPr/>
          <p:nvPr/>
        </p:nvPicPr>
        <p:blipFill>
          <a:blip r:embed="rId8"/>
          <a:stretch/>
        </p:blipFill>
        <p:spPr>
          <a:xfrm>
            <a:off x="6119640" y="4500720"/>
            <a:ext cx="302436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3"/>
          <p:cNvSpPr/>
          <p:nvPr/>
        </p:nvSpPr>
        <p:spPr>
          <a:xfrm>
            <a:off x="1758960" y="1071720"/>
            <a:ext cx="7099200" cy="13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, записанный на языке,  понятном исполнителю,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грам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42600" y="2500200"/>
            <a:ext cx="8286840" cy="4214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Алгоритм  разрабатывается для решения некоторого класса задач. 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выделяются объекты, устанавливаются их свойства, отношения между ними, возможные действия с объек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пределяются исходные данные и 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пределяется точная последовательность действий исполнителя для перехода от исходных данных к результ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17375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действия описываются командами, понятными исполнит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а 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6" name="Овал 4"/>
          <p:cNvSpPr/>
          <p:nvPr/>
        </p:nvSpPr>
        <p:spPr>
          <a:xfrm>
            <a:off x="571680" y="1143000"/>
            <a:ext cx="96192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85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1040" y="928440"/>
            <a:ext cx="81867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ы, исполнителем которых является человек, удобно записывать в словесной форме, в табличной форме, в виде блок-сх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бозначения шагов в блок-схеме используются фигуры (овал, параллелограмм, ромб, прямоугольник и други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, записанный на языке, понятном исполнителю, называется програм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6:11Z</dcterms:modified>
  <cp:revision>20</cp:revision>
  <dc:subject/>
  <dc:title>Презентация PowerPoint</dc:title>
</cp:coreProperties>
</file>