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0.png" ContentType="image/pn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6FC-5857-4CB4-8A60-5F1E2F4F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475-805C-49BC-A3E6-EA46DD96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3EC-4560-4355-8E23-B0C1AFC9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BC7-F1EB-479B-B386-AC29FB18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B14-8FA9-4D29-89A8-A66A342F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ACC-C11E-4717-A47A-CB490BB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0A0-CF0E-4FE5-97A1-FAF00998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F16-ADE6-4BFF-AE3E-AD5B58EF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677-BA6B-4F43-AB1E-93270EE6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77F-249F-4CC6-A60D-98D55BFA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08E-CA69-4B30-80FA-CAC5FCEC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0F4-3F71-4987-B969-0228AF6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10FA-43D9-40F0-B2AC-EEDC599366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4572000" y="42148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ловес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уч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удожественные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атематические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3640" y="2492280"/>
            <a:ext cx="640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НАКОВЫЕ  ИНФОРМАЦИОННЫЕ  МОДЕЛИ</a:t>
            </a:r>
            <a:endParaRPr b="1" lang="en-US" sz="38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овесных описаниях ситуации, события, процессы приводятся на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тествен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 языком информационного моделирования в науке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зык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матически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ите 2-3 собственных примера словесных моделей, рассматриваемых на уро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р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басни. Какие черты характера людей и отношения между людьми смоделированы в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2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42560" y="1052280"/>
            <a:ext cx="764388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 контракту работнику причитает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8 евро за каждый отработанный день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 каждый неотработанный день с него взыскивается 12 евро. Через 30 дней работник узнал, что ему ничего не причитается и он ничего не долж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дней он работ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5929200" y="3641760"/>
            <a:ext cx="3000600" cy="30240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11"/>
          <p:cNvSpPr/>
          <p:nvPr/>
        </p:nvSpPr>
        <p:spPr>
          <a:xfrm>
            <a:off x="1000080" y="4357800"/>
            <a:ext cx="48578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17" name="Овал 10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1000080" y="4714920"/>
            <a:ext cx="4133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48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– 12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+ </a:t>
            </a:r>
            <a:r>
              <a:rPr b="1" i="1" lang="ru-RU" sz="4000" spc="-1" strike="noStrike">
                <a:solidFill>
                  <a:srgbClr val="215968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215968"/>
                </a:solidFill>
                <a:latin typeface="Arial"/>
              </a:rPr>
              <a:t> =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57240" y="1832040"/>
            <a:ext cx="6243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ес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дожествен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е о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ческая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ловес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ловесных описаниях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ситуации, события, процессы приводятся на естественн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Схема 5" descr=""/>
          <p:cNvPicPr/>
          <p:nvPr/>
        </p:nvPicPr>
        <p:blipFill>
          <a:blip r:embed="rId2"/>
          <a:stretch/>
        </p:blipFill>
        <p:spPr>
          <a:xfrm>
            <a:off x="585720" y="781200"/>
            <a:ext cx="8350200" cy="4808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Научный сти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6" name="Схема 5" descr=""/>
          <p:cNvPicPr/>
          <p:nvPr/>
        </p:nvPicPr>
        <p:blipFill>
          <a:blip r:embed="rId2"/>
          <a:stretch/>
        </p:blipFill>
        <p:spPr>
          <a:xfrm>
            <a:off x="1517760" y="1176480"/>
            <a:ext cx="6675480" cy="4395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42960" y="5572080"/>
            <a:ext cx="8242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учный стиль </a:t>
            </a: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используется для передачи точной науч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9800" y="188640"/>
            <a:ext cx="79009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Художественные описан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69" name="Picture 2" descr="http://fs132.www.ex.ua/show/44226674/44226674.jpg?800"/>
          <p:cNvPicPr/>
          <p:nvPr/>
        </p:nvPicPr>
        <p:blipFill>
          <a:blip r:embed="rId2"/>
          <a:stretch/>
        </p:blipFill>
        <p:spPr>
          <a:xfrm>
            <a:off x="5681520" y="892080"/>
            <a:ext cx="3105360" cy="428004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8" descr="http://freelance.ru/img/portfolio/pics/00/08/88/559188.jpg"/>
          <p:cNvPicPr/>
          <p:nvPr/>
        </p:nvPicPr>
        <p:blipFill>
          <a:blip r:embed="rId3"/>
          <a:stretch/>
        </p:blipFill>
        <p:spPr>
          <a:xfrm>
            <a:off x="642960" y="932040"/>
            <a:ext cx="3429000" cy="424008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1" name="Picture 4" descr="http://img0.liveinternet.ru/images/attach/c/2/68/831/68831977_1294300370_08.png"/>
          <p:cNvPicPr/>
          <p:nvPr/>
        </p:nvPicPr>
        <p:blipFill>
          <a:blip r:embed="rId4"/>
          <a:stretch/>
        </p:blipFill>
        <p:spPr>
          <a:xfrm>
            <a:off x="3786120" y="2035080"/>
            <a:ext cx="2214720" cy="332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2" name="TextBox 3"/>
          <p:cNvSpPr/>
          <p:nvPr/>
        </p:nvSpPr>
        <p:spPr>
          <a:xfrm>
            <a:off x="571680" y="5286240"/>
            <a:ext cx="828648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Arial"/>
              </a:rPr>
              <a:t>Перенос отношений между людьми на отношения между вымышленными персонаж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3"/>
          <p:cNvSpPr/>
          <p:nvPr/>
        </p:nvSpPr>
        <p:spPr>
          <a:xfrm>
            <a:off x="1714680" y="1143000"/>
            <a:ext cx="691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й язы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ог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ование слов в прямом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переносном смы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ин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м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2"/>
          <p:cNvSpPr/>
          <p:nvPr/>
        </p:nvSpPr>
        <p:spPr>
          <a:xfrm>
            <a:off x="1100160" y="189000"/>
            <a:ext cx="79009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Художественные 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4500720" cy="3094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6" name="Picture 2" descr="D:\Личные_документы\Елена\КАРТИНКИ\книга_перо.jpg"/>
          <p:cNvPicPr/>
          <p:nvPr/>
        </p:nvPicPr>
        <p:blipFill>
          <a:blip r:embed="rId3"/>
          <a:stretch/>
        </p:blipFill>
        <p:spPr>
          <a:xfrm>
            <a:off x="2571840" y="4568760"/>
            <a:ext cx="2905200" cy="228924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9" descr=""/>
          <p:cNvPicPr/>
          <p:nvPr/>
        </p:nvPicPr>
        <p:blipFill>
          <a:blip r:embed="rId4"/>
          <a:stretch/>
        </p:blipFill>
        <p:spPr>
          <a:xfrm>
            <a:off x="165240" y="3809880"/>
            <a:ext cx="3114360" cy="14274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0" descr=""/>
          <p:cNvPicPr/>
          <p:nvPr/>
        </p:nvPicPr>
        <p:blipFill>
          <a:blip r:embed="rId5"/>
          <a:stretch/>
        </p:blipFill>
        <p:spPr>
          <a:xfrm>
            <a:off x="285840" y="4133880"/>
            <a:ext cx="3627360" cy="169380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1" descr=""/>
          <p:cNvPicPr/>
          <p:nvPr/>
        </p:nvPicPr>
        <p:blipFill>
          <a:blip r:embed="rId6"/>
          <a:stretch/>
        </p:blipFill>
        <p:spPr>
          <a:xfrm>
            <a:off x="463680" y="4950000"/>
            <a:ext cx="2895480" cy="1517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42560" y="999720"/>
            <a:ext cx="638676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Шип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Жу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ор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тру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рут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л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ви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ув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ды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елькая, шур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Резвясь и спеш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кользя, обним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елясь и встреч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Ласкаясь, бунтуя, ле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Играя, дробясь, шелест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листая, взлетая, ш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Сплетаясь, звеня, клок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виваясь, вертясь, грохоча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Морщинясь, волнуясь, катаясь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Бросаясь, меняясь, воркуя, шу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зметаясь и пенясь, ликуя, грем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Дрожа, разливаясь, смеясь и бол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Катясь, извиваясь, стремясь, вырастая,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Вперёд и вперёд убегая в свободолюбивом задоре, - </a:t>
            </a:r>
            <a:br>
              <a:rPr sz="1600"/>
            </a:br>
            <a:r>
              <a:rPr b="0" i="1" lang="ru-RU" sz="1600" spc="-1" strike="noStrike">
                <a:solidFill>
                  <a:srgbClr val="17375e"/>
                </a:solidFill>
                <a:latin typeface="Arial"/>
              </a:rPr>
              <a:t>Так падают бурные воды в сверкающем, быстром Лодор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cc"/>
                </a:solidFill>
                <a:latin typeface="Arial"/>
              </a:rPr>
              <a:t>Р. Саути, перевод с английского А. Шмульяна</a:t>
            </a: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388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2" name="Picture 4" descr="http://www.100roads.com/images/australia/nsw/blue_mountains/wentworth_falls/wentworth_falls_03_lodore_falls.jpg"/>
          <p:cNvPicPr/>
          <p:nvPr/>
        </p:nvPicPr>
        <p:blipFill>
          <a:blip r:embed="rId2"/>
          <a:srcRect l="12249" t="0" r="8161" b="0"/>
          <a:stretch/>
        </p:blipFill>
        <p:spPr>
          <a:xfrm>
            <a:off x="6283440" y="785880"/>
            <a:ext cx="257472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3" name="Прямоугольник 4" descr=""/>
          <p:cNvPicPr/>
          <p:nvPr/>
        </p:nvPicPr>
        <p:blipFill>
          <a:blip r:embed="rId3"/>
          <a:stretch/>
        </p:blipFill>
        <p:spPr>
          <a:xfrm>
            <a:off x="2077920" y="781200"/>
            <a:ext cx="4213440" cy="2315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4"/>
          <p:cNvSpPr/>
          <p:nvPr/>
        </p:nvSpPr>
        <p:spPr>
          <a:xfrm>
            <a:off x="5143680" y="85716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Льюис Кэррол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Стихотворение в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мышиного хвос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(«Алиса в Стране Чуде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Фигурные стихи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5224320" y="2152800"/>
            <a:ext cx="3456000" cy="4613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File:Calligramme.jpg"/>
          <p:cNvPicPr/>
          <p:nvPr/>
        </p:nvPicPr>
        <p:blipFill>
          <a:blip r:embed="rId3"/>
          <a:stretch/>
        </p:blipFill>
        <p:spPr>
          <a:xfrm>
            <a:off x="1000080" y="2214720"/>
            <a:ext cx="3525840" cy="4441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8" name="TextBox 8"/>
          <p:cNvSpPr/>
          <p:nvPr/>
        </p:nvSpPr>
        <p:spPr>
          <a:xfrm>
            <a:off x="1143000" y="1149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Гийом Аполлинер</a:t>
            </a:r>
            <a:br>
              <a:rPr sz="2000"/>
            </a:br>
            <a:r>
              <a:rPr b="0" i="1" lang="ru-RU" sz="2000" spc="-1" strike="noStrike">
                <a:solidFill>
                  <a:srgbClr val="1f497d"/>
                </a:solidFill>
                <a:latin typeface="Arial"/>
              </a:rPr>
              <a:t>«Стих для Л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55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атематическая модель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14240" y="4973760"/>
            <a:ext cx="8143920" cy="1373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Модели, построенные с использованием математических понятий и формул, называются </a:t>
            </a: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математическими мод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21"/>
          <p:cNvGrpSpPr/>
          <p:nvPr/>
        </p:nvGrpSpPr>
        <p:grpSpPr>
          <a:xfrm>
            <a:off x="1692360" y="1285920"/>
            <a:ext cx="6264360" cy="2476080"/>
            <a:chOff x="1692360" y="1285920"/>
            <a:chExt cx="6264360" cy="2476080"/>
          </a:xfrm>
        </p:grpSpPr>
        <p:sp>
          <p:nvSpPr>
            <p:cNvPr id="192" name="Прямая соединительная линия 5"/>
            <p:cNvSpPr/>
            <p:nvPr/>
          </p:nvSpPr>
          <p:spPr>
            <a:xfrm>
              <a:off x="1692360" y="2077920"/>
              <a:ext cx="626436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Овал 6"/>
            <p:cNvSpPr/>
            <p:nvPr/>
          </p:nvSpPr>
          <p:spPr>
            <a:xfrm>
              <a:off x="2412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Овал 8"/>
            <p:cNvSpPr/>
            <p:nvPr/>
          </p:nvSpPr>
          <p:spPr>
            <a:xfrm>
              <a:off x="4284360" y="2005920"/>
              <a:ext cx="144000" cy="14400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12"/>
            <p:cNvSpPr/>
            <p:nvPr/>
          </p:nvSpPr>
          <p:spPr>
            <a:xfrm>
              <a:off x="2484360" y="2149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3"/>
            <p:cNvSpPr/>
            <p:nvPr/>
          </p:nvSpPr>
          <p:spPr>
            <a:xfrm>
              <a:off x="7668720" y="2077920"/>
              <a:ext cx="0" cy="1512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14"/>
            <p:cNvSpPr/>
            <p:nvPr/>
          </p:nvSpPr>
          <p:spPr>
            <a:xfrm>
              <a:off x="4356360" y="2149920"/>
              <a:ext cx="0" cy="86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Прямая со стрелкой 18"/>
            <p:cNvCxnSpPr/>
            <p:nvPr/>
          </p:nvCxnSpPr>
          <p:spPr>
            <a:xfrm>
              <a:off x="2484360" y="2653560"/>
              <a:ext cx="187272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199" name="Прямая со стрелкой 20"/>
            <p:cNvCxnSpPr/>
            <p:nvPr/>
          </p:nvCxnSpPr>
          <p:spPr>
            <a:xfrm>
              <a:off x="2484000" y="3301920"/>
              <a:ext cx="518508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200" name="Прямая со стрелкой 23"/>
            <p:cNvCxnSpPr/>
            <p:nvPr/>
          </p:nvCxnSpPr>
          <p:spPr>
            <a:xfrm>
              <a:off x="4352760" y="1743840"/>
              <a:ext cx="1296360" cy="108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stealth" w="med"/>
            </a:ln>
          </p:spPr>
        </p:cxnSp>
        <p:sp>
          <p:nvSpPr>
            <p:cNvPr id="201" name="Прямая соединительная линия 25"/>
            <p:cNvSpPr/>
            <p:nvPr/>
          </p:nvSpPr>
          <p:spPr>
            <a:xfrm>
              <a:off x="4356360" y="1717920"/>
              <a:ext cx="0" cy="288000"/>
            </a:xfrm>
            <a:prstGeom prst="line">
              <a:avLst/>
            </a:prstGeom>
            <a:ln w="5724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6"/>
            <p:cNvSpPr/>
            <p:nvPr/>
          </p:nvSpPr>
          <p:spPr>
            <a:xfrm>
              <a:off x="2916360" y="265392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2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7"/>
            <p:cNvSpPr/>
            <p:nvPr/>
          </p:nvSpPr>
          <p:spPr>
            <a:xfrm>
              <a:off x="4428360" y="1285920"/>
              <a:ext cx="207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50 км/ч,  </a:t>
              </a:r>
              <a:r>
                <a:rPr b="1" lang="en-US" sz="2400" spc="-1" strike="noStrike">
                  <a:solidFill>
                    <a:srgbClr val="1f497d"/>
                  </a:solidFill>
                  <a:latin typeface="Arial"/>
                </a:rPr>
                <a:t>t</a:t>
              </a: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8"/>
            <p:cNvSpPr/>
            <p:nvPr/>
          </p:nvSpPr>
          <p:spPr>
            <a:xfrm>
              <a:off x="4716360" y="3302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Arial"/>
                </a:rPr>
                <a:t>?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9"/>
            <p:cNvSpPr/>
            <p:nvPr/>
          </p:nvSpPr>
          <p:spPr>
            <a:xfrm>
              <a:off x="2340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0"/>
            <p:cNvSpPr/>
            <p:nvPr/>
          </p:nvSpPr>
          <p:spPr>
            <a:xfrm>
              <a:off x="3996360" y="164592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Прямоугольник 19" descr=""/>
          <p:cNvPicPr/>
          <p:nvPr/>
        </p:nvPicPr>
        <p:blipFill>
          <a:blip r:embed="rId2"/>
          <a:stretch/>
        </p:blipFill>
        <p:spPr>
          <a:xfrm>
            <a:off x="2335320" y="3541680"/>
            <a:ext cx="4614840" cy="1103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32:31Z</dcterms:modified>
  <cp:revision>26</cp:revision>
  <dc:subject/>
  <dc:title>Презентация PowerPoint</dc:title>
</cp:coreProperties>
</file>