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6B4-E520-4659-B663-7E8E21BE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85F-AE86-4B03-917B-0544354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2F2-5AE5-4EF6-8409-098AFA28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62A-1D78-4F4A-A529-194BE1B8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25F-A49B-43B4-8835-2A7F26F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E0C-8AEE-4DB5-B113-8EA57B31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211-C4AE-42C7-821A-6CF129D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719-163A-4B81-ABAF-7C688477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B13-E888-4C9B-8264-F08B6B74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FA8-0E0C-40D3-9C89-32CBA54E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634-3C88-472B-98EE-855160E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877-25C9-4B31-B90E-9E3AA48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EAB-E200-451F-A55B-552864A009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4572000" y="42148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ловес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уч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удожествен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атематические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3640" y="2492280"/>
            <a:ext cx="640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НАКОВЫЕ  ИНФОРМАЦИОННЫЕ  МОДЕЛИ</a:t>
            </a:r>
            <a:endParaRPr b="1" lang="en-US" sz="38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овесных описаниях ситуации, события, процессы приводятся н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тествен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 языком информационного моделирования в науке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ык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матическ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ите 2-3 собственных примера словесных моделей, рассматриваемых на уро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басни. Какие черты характера людей и отношения между людьми смоделированы в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42560" y="1052280"/>
            <a:ext cx="76438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 контракту работнику причитает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8 евро за каждый отработанный ден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 каждый неотработанный день с него взыскивается 12 евро. Через 30 дней работник узнал, что ему ничего не причитается и он ничего не долж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дней он рабо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929200" y="3641760"/>
            <a:ext cx="3000600" cy="3024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11"/>
          <p:cNvSpPr/>
          <p:nvPr/>
        </p:nvSpPr>
        <p:spPr>
          <a:xfrm>
            <a:off x="1000080" y="4357800"/>
            <a:ext cx="48578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1000080" y="4714920"/>
            <a:ext cx="4133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48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– 12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+ 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57240" y="1832040"/>
            <a:ext cx="6243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ествен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ых описаниях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итуации, события, процессы приводятся на естественн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хема 5" descr=""/>
          <p:cNvPicPr/>
          <p:nvPr/>
        </p:nvPicPr>
        <p:blipFill>
          <a:blip r:embed="rId2"/>
          <a:stretch/>
        </p:blipFill>
        <p:spPr>
          <a:xfrm>
            <a:off x="585720" y="781200"/>
            <a:ext cx="8350200" cy="4808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учный сти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6" name="Схема 5" descr=""/>
          <p:cNvPicPr/>
          <p:nvPr/>
        </p:nvPicPr>
        <p:blipFill>
          <a:blip r:embed="rId2"/>
          <a:stretch/>
        </p:blipFill>
        <p:spPr>
          <a:xfrm>
            <a:off x="1517760" y="1176480"/>
            <a:ext cx="66754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учный стиль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используется для передачи точной науч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9800" y="188640"/>
            <a:ext cx="79009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Художествен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9" name="Picture 2" descr="http://fs132.www.ex.ua/show/44226674/44226674.jpg?800"/>
          <p:cNvPicPr/>
          <p:nvPr/>
        </p:nvPicPr>
        <p:blipFill>
          <a:blip r:embed="rId2"/>
          <a:stretch/>
        </p:blipFill>
        <p:spPr>
          <a:xfrm>
            <a:off x="5681520" y="892080"/>
            <a:ext cx="3105360" cy="428004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8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642960" y="932040"/>
            <a:ext cx="3429000" cy="424008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1" name="Picture 4" descr="http://img0.liveinternet.ru/images/attach/c/2/68/831/68831977_1294300370_08.png"/>
          <p:cNvPicPr/>
          <p:nvPr/>
        </p:nvPicPr>
        <p:blipFill>
          <a:blip r:embed="rId4"/>
          <a:stretch/>
        </p:blipFill>
        <p:spPr>
          <a:xfrm>
            <a:off x="3786120" y="2035080"/>
            <a:ext cx="2214720" cy="332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TextBox 3"/>
          <p:cNvSpPr/>
          <p:nvPr/>
        </p:nvSpPr>
        <p:spPr>
          <a:xfrm>
            <a:off x="571680" y="5286240"/>
            <a:ext cx="828648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еренос отношений между людьми на отношения между вымышленными персонаж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1714680" y="1143000"/>
            <a:ext cx="691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ование слов в прямом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переносном смы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2"/>
          <p:cNvSpPr/>
          <p:nvPr/>
        </p:nvSpPr>
        <p:spPr>
          <a:xfrm>
            <a:off x="1100160" y="189000"/>
            <a:ext cx="7900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Художественные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4500720" cy="3094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6" name="Picture 2" descr="D:\Личные_документы\Елена\КАРТИНКИ\книга_перо.jpg"/>
          <p:cNvPicPr/>
          <p:nvPr/>
        </p:nvPicPr>
        <p:blipFill>
          <a:blip r:embed="rId3"/>
          <a:stretch/>
        </p:blipFill>
        <p:spPr>
          <a:xfrm>
            <a:off x="2571840" y="4568760"/>
            <a:ext cx="2905200" cy="228924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9" descr=""/>
          <p:cNvPicPr/>
          <p:nvPr/>
        </p:nvPicPr>
        <p:blipFill>
          <a:blip r:embed="rId4"/>
          <a:stretch/>
        </p:blipFill>
        <p:spPr>
          <a:xfrm>
            <a:off x="165240" y="3809880"/>
            <a:ext cx="3114360" cy="14274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0" descr=""/>
          <p:cNvPicPr/>
          <p:nvPr/>
        </p:nvPicPr>
        <p:blipFill>
          <a:blip r:embed="rId5"/>
          <a:stretch/>
        </p:blipFill>
        <p:spPr>
          <a:xfrm>
            <a:off x="285840" y="4133880"/>
            <a:ext cx="3627360" cy="16938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1" descr=""/>
          <p:cNvPicPr/>
          <p:nvPr/>
        </p:nvPicPr>
        <p:blipFill>
          <a:blip r:embed="rId6"/>
          <a:stretch/>
        </p:blipFill>
        <p:spPr>
          <a:xfrm>
            <a:off x="463680" y="4950000"/>
            <a:ext cx="289548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2560" y="999720"/>
            <a:ext cx="638676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Ш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Жу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о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тру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рут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л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в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у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ы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елькая, шур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Резвясь и спе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кользя, обни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елясь и встреч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Ласкаясь, бунтуя, ле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Играя, дробясь, шелес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листая, взлетая, ш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плетаясь, звеня, клок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виваясь, вертясь, грох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орщинясь, волнуясь, к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росаясь, меняясь, воркуя, шу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метаясь и пенясь, ликуя, гре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рожа, разливаясь, смеясь и бол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атясь, извиваясь, стремясь, вырас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перёд и вперёд убегая в свободолюбивом задоре, - 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Так падают бурные воды в сверкающем, быстром Лодор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Р. Саути, перевод с английского А. Шмульяна</a:t>
            </a: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388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2" name="Picture 4" descr="http://www.100roads.com/images/australia/nsw/blue_mountains/wentworth_falls/wentworth_falls_03_lodore_falls.jpg"/>
          <p:cNvPicPr/>
          <p:nvPr/>
        </p:nvPicPr>
        <p:blipFill>
          <a:blip r:embed="rId2"/>
          <a:srcRect l="12249" t="0" r="8161" b="0"/>
          <a:stretch/>
        </p:blipFill>
        <p:spPr>
          <a:xfrm>
            <a:off x="6283440" y="785880"/>
            <a:ext cx="257472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" name="Прямоугольник 4" descr=""/>
          <p:cNvPicPr/>
          <p:nvPr/>
        </p:nvPicPr>
        <p:blipFill>
          <a:blip r:embed="rId3"/>
          <a:stretch/>
        </p:blipFill>
        <p:spPr>
          <a:xfrm>
            <a:off x="2077920" y="781200"/>
            <a:ext cx="4213440" cy="2315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4"/>
          <p:cNvSpPr/>
          <p:nvPr/>
        </p:nvSpPr>
        <p:spPr>
          <a:xfrm>
            <a:off x="5143680" y="85716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Льюис Кэррол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Стихотворение в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мышиного хво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(«Алиса в Стране Чуде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5224320" y="2152800"/>
            <a:ext cx="3456000" cy="461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File:Calligramme.jpg"/>
          <p:cNvPicPr/>
          <p:nvPr/>
        </p:nvPicPr>
        <p:blipFill>
          <a:blip r:embed="rId3"/>
          <a:stretch/>
        </p:blipFill>
        <p:spPr>
          <a:xfrm>
            <a:off x="1000080" y="2214720"/>
            <a:ext cx="3525840" cy="4441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8" name="TextBox 8"/>
          <p:cNvSpPr/>
          <p:nvPr/>
        </p:nvSpPr>
        <p:spPr>
          <a:xfrm>
            <a:off x="1143000" y="1149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Гийом Аполлинер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«Стих для Л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14240" y="49737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математическими мод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21"/>
          <p:cNvGrpSpPr/>
          <p:nvPr/>
        </p:nvGrpSpPr>
        <p:grpSpPr>
          <a:xfrm>
            <a:off x="1692360" y="1285920"/>
            <a:ext cx="6264360" cy="2476080"/>
            <a:chOff x="1692360" y="1285920"/>
            <a:chExt cx="6264360" cy="2476080"/>
          </a:xfrm>
        </p:grpSpPr>
        <p:sp>
          <p:nvSpPr>
            <p:cNvPr id="192" name="Прямая соединительная линия 5"/>
            <p:cNvSpPr/>
            <p:nvPr/>
          </p:nvSpPr>
          <p:spPr>
            <a:xfrm>
              <a:off x="1692360" y="2077920"/>
              <a:ext cx="626436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Овал 6"/>
            <p:cNvSpPr/>
            <p:nvPr/>
          </p:nvSpPr>
          <p:spPr>
            <a:xfrm>
              <a:off x="2412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Овал 8"/>
            <p:cNvSpPr/>
            <p:nvPr/>
          </p:nvSpPr>
          <p:spPr>
            <a:xfrm>
              <a:off x="4284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2"/>
            <p:cNvSpPr/>
            <p:nvPr/>
          </p:nvSpPr>
          <p:spPr>
            <a:xfrm>
              <a:off x="2484360" y="2149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3"/>
            <p:cNvSpPr/>
            <p:nvPr/>
          </p:nvSpPr>
          <p:spPr>
            <a:xfrm>
              <a:off x="7668720" y="2077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14"/>
            <p:cNvSpPr/>
            <p:nvPr/>
          </p:nvSpPr>
          <p:spPr>
            <a:xfrm>
              <a:off x="4356360" y="2149920"/>
              <a:ext cx="0" cy="86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Прямая со стрелкой 18"/>
            <p:cNvCxnSpPr/>
            <p:nvPr/>
          </p:nvCxnSpPr>
          <p:spPr>
            <a:xfrm>
              <a:off x="2484360" y="2653560"/>
              <a:ext cx="187272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199" name="Прямая со стрелкой 20"/>
            <p:cNvCxnSpPr/>
            <p:nvPr/>
          </p:nvCxnSpPr>
          <p:spPr>
            <a:xfrm>
              <a:off x="2484000" y="3301920"/>
              <a:ext cx="518508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200" name="Прямая со стрелкой 23"/>
            <p:cNvCxnSpPr/>
            <p:nvPr/>
          </p:nvCxnSpPr>
          <p:spPr>
            <a:xfrm>
              <a:off x="4352760" y="1743840"/>
              <a:ext cx="1296360" cy="108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stealth" w="med"/>
            </a:ln>
          </p:spPr>
        </p:cxnSp>
        <p:sp>
          <p:nvSpPr>
            <p:cNvPr id="201" name="Прямая соединительная линия 25"/>
            <p:cNvSpPr/>
            <p:nvPr/>
          </p:nvSpPr>
          <p:spPr>
            <a:xfrm>
              <a:off x="4356360" y="1717920"/>
              <a:ext cx="0" cy="288000"/>
            </a:xfrm>
            <a:prstGeom prst="line">
              <a:avLst/>
            </a:prstGeom>
            <a:ln w="572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6"/>
            <p:cNvSpPr/>
            <p:nvPr/>
          </p:nvSpPr>
          <p:spPr>
            <a:xfrm>
              <a:off x="2916360" y="2653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2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7"/>
            <p:cNvSpPr/>
            <p:nvPr/>
          </p:nvSpPr>
          <p:spPr>
            <a:xfrm>
              <a:off x="4428360" y="1285920"/>
              <a:ext cx="20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50 км/ч,  </a:t>
              </a: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t</a:t>
              </a: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8"/>
            <p:cNvSpPr/>
            <p:nvPr/>
          </p:nvSpPr>
          <p:spPr>
            <a:xfrm>
              <a:off x="4716360" y="3302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?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9"/>
            <p:cNvSpPr/>
            <p:nvPr/>
          </p:nvSpPr>
          <p:spPr>
            <a:xfrm>
              <a:off x="2340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0"/>
            <p:cNvSpPr/>
            <p:nvPr/>
          </p:nvSpPr>
          <p:spPr>
            <a:xfrm>
              <a:off x="3996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Прямоугольник 19" descr=""/>
          <p:cNvPicPr/>
          <p:nvPr/>
        </p:nvPicPr>
        <p:blipFill>
          <a:blip r:embed="rId2"/>
          <a:stretch/>
        </p:blipFill>
        <p:spPr>
          <a:xfrm>
            <a:off x="2335320" y="3541680"/>
            <a:ext cx="46148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2:31Z</dcterms:modified>
  <cp:revision>26</cp:revision>
  <dc:subject/>
  <dc:title>Презентация PowerPoint</dc:title>
</cp:coreProperties>
</file>