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CEE-120D-45C6-B5AF-885BF264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563-6303-46E5-8BB2-8999695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BEA-55E6-4D94-A52A-94967089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363-7890-4C0D-8419-AADF5FE5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5AB-1900-45A1-B855-7D2C6C6D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CED-4AA9-45E5-A177-93CD1CE4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B6B-3D43-497C-BAD4-D02E96D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D11-23C1-44A2-B095-5C336037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163-0A9E-40E2-9157-F14A19A5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1C-FBCE-42AE-B9E9-741529A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CAE-C7E5-4F5C-A35D-8B6175B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AA9-2754-4AF9-AA92-8894880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8678-8360-4B60-925C-738A25BE4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ФАЙЛЫ И ФАЙЛОВЫЕ СТРУКТ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Работа с файл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116000" y="765000"/>
            <a:ext cx="7777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ются файлы с помощью систем программирования и приклад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операции с фай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здаётся копия файла в другом каталоге или на другом носите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нос файла в другой каталог или на другой носитель, исходный файл уничтож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именование собственно имени фай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исходном каталоге объект уничтож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Object 4" descr=""/>
          <p:cNvPicPr/>
          <p:nvPr/>
        </p:nvPicPr>
        <p:blipFill>
          <a:blip r:embed="rId1"/>
          <a:stretch/>
        </p:blipFill>
        <p:spPr>
          <a:xfrm>
            <a:off x="2411280" y="5950080"/>
            <a:ext cx="3203640" cy="685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143000" y="825480"/>
            <a:ext cx="7848720" cy="39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иске файла можно использовать маску имени файла - последовательность букв, цифр и прочих допустимых в именах файлов символов, в том числ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(вопросительный знак) - означает ровно один произвольный симво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вездочка) - означает любую (в том числе и пустую) последовательность символов произвольной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по маск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?.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будут найдены файлы с произвольными расширениями и двухбуквенными именами, начинающимися с буквы «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50920" y="836640"/>
            <a:ext cx="871380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ит из двух частей, разделённых точкой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ственно имени фай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совокупность файлов и подкаталогов (вложенных каталогов). Каталог самого верхнего уровн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ая структура д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файлов на диске и взаимосвязей между ними. Файловые структуры б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ми (иерархическ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мена всех каталогов от корневого до того, в котором непосредственно находится файл. Последовательно записанные путь к файлу и имя файла состав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ное имя файла уник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именования файлов в операционной системе, установленной на компьютерах в вашем клас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ена известных вам программ, открывающих файлы со следующими расширениями: txt, doc, bmp, rtf, ar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огические имена устройств внешней памяти на компьютере, к которому вы имеете до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тало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каталог называют корневы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гут быть организованы файлы во внешней пам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графическое изображение иерархической файлов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уть к файлу на дис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ное имя фай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операции, совершаемые с фай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6 (стр. 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116000" y="1341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ушкин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do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ранится на жёстком диске в каталоге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ОЭ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подкаталогом каталог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таблице приведены фрагменты полного имени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111600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полное имя файла и закодируйте его буквами (запишите последовательность букв без пробелов и запят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8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1116000" y="1341360"/>
            <a:ext cx="777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РОКИ\ИНФОРМАТИКА\ПРАКТИЧЕСКИЕ РАБОТЫ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ся на два уровня вверх, затем спустился в под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оздал в нём 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Квур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t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создал Саш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0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116000" y="1413000"/>
            <a:ext cx="777708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2011\ВЕСНА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он поднялся на три уровня вверх, потом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сле этого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кажите полный путь для того каталога, в котором оказался пользо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ИНФОРМАТИКА\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ФОТО\2011\ВЕСНА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5 (стр. 5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5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.*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79640" y="220500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9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Н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979640" y="227664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3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1042920" y="1341360"/>
            <a:ext cx="7777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указанных ниже имён файлов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ie.t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nie.tt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ie.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nie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87280" y="2852640"/>
          <a:ext cx="7777440" cy="1311480"/>
        </p:xfrm>
        <a:graphic>
          <a:graphicData uri="http://schemas.openxmlformats.org/drawingml/2006/table">
            <a:tbl>
              <a:tblPr/>
              <a:tblGrid>
                <a:gridCol w="2232360"/>
                <a:gridCol w="647640"/>
                <a:gridCol w="1439640"/>
                <a:gridCol w="649440"/>
                <a:gridCol w="1008000"/>
                <a:gridCol w="180036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050920" y="1700280"/>
            <a:ext cx="59058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именованная область внешней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116000" y="836640"/>
            <a:ext cx="784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 B: C: D: E: F: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116000" y="2421000"/>
            <a:ext cx="122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771640" y="2421000"/>
            <a:ext cx="5545440" cy="28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е имя фай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84472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558000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284472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ск:\пу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558000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.расшир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340000" y="285264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116000" y="5229360"/>
            <a:ext cx="1511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1403280" y="602136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1908000" y="494136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 flipV="1">
            <a:off x="2916360" y="494136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332000" y="3933720"/>
            <a:ext cx="2087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067280" y="3860640"/>
          <a:ext cx="4608360" cy="245916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258920" y="162864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4 (стр. 79 -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5, 107, 109, 111, 112, 113, 114, 118, 119 (стр.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836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ческое имя устройства внешне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именования фай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643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Логические имена устройств внешней памя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1600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781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Windows приняты логические имена устройств внешней памяти, состоящие из одной латинской буквы и знака двоето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42920" y="43657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исководов гибких дисков (дискет) - А: и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2556000" y="494172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2"/>
          <a:stretch/>
        </p:blipFill>
        <p:spPr>
          <a:xfrm>
            <a:off x="5003640" y="5084640"/>
            <a:ext cx="1551240" cy="102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1042920" y="4365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жёстких дисков и их логических раздел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:,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3"/>
          <a:stretch/>
        </p:blipFill>
        <p:spPr>
          <a:xfrm>
            <a:off x="5364000" y="5229360"/>
            <a:ext cx="1401840" cy="730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2124000" y="609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(C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4"/>
          <a:stretch/>
        </p:blipFill>
        <p:spPr>
          <a:xfrm>
            <a:off x="2195640" y="5229360"/>
            <a:ext cx="1411200" cy="831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5364000" y="6093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042920" y="436572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тических дисководов - имена, следующие по алфавиту после имени последнего имеющегося на компьютере жёсткого диска или раздела жёсткого д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003640" y="6093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VD RW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"/>
          <p:cNvPicPr/>
          <p:nvPr/>
        </p:nvPicPr>
        <p:blipFill>
          <a:blip r:embed="rId5"/>
          <a:stretch/>
        </p:blipFill>
        <p:spPr>
          <a:xfrm>
            <a:off x="3492360" y="5546880"/>
            <a:ext cx="1284480" cy="1311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4932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222200" y="4437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дключаемой к компьютеру флэш-памяти - имя, следующее за последним именем оптического дисковода (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3" descr=""/>
          <p:cNvPicPr/>
          <p:nvPr/>
        </p:nvPicPr>
        <p:blipFill>
          <a:blip r:embed="rId6"/>
          <a:stretch/>
        </p:blipFill>
        <p:spPr>
          <a:xfrm>
            <a:off x="5148360" y="5229360"/>
            <a:ext cx="1503360" cy="826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4"/>
          <p:cNvSpPr/>
          <p:nvPr/>
        </p:nvSpPr>
        <p:spPr>
          <a:xfrm>
            <a:off x="45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ъемный дис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143000" y="2781360"/>
            <a:ext cx="79218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Linux приняты другие правила именования дисков и их разделов.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перв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втор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8"/>
          <p:cNvSpPr/>
          <p:nvPr/>
        </p:nvSpPr>
        <p:spPr>
          <a:xfrm flipV="1">
            <a:off x="673272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313200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42920" y="1428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06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часть ОС, определяющая способ организации, хранения и именования файлов на носителях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042920" y="6021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ы-документы создаются и обрабатываются с помощью файлов-при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195640" y="422100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724360" y="422100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8"/>
          <p:cNvSpPr/>
          <p:nvPr/>
        </p:nvSpPr>
        <p:spPr>
          <a:xfrm flipV="1">
            <a:off x="3203640" y="3860280"/>
            <a:ext cx="1800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5003280" y="3860280"/>
            <a:ext cx="158436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979640" y="5084640"/>
            <a:ext cx="223200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581800" y="5072040"/>
            <a:ext cx="2347920" cy="806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492360" y="3429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143000" y="64296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двух частей, разделённых точкой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бственно им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айла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Собственно имя файлу даёт пользователь. Расширение имени обычно задаётся программой автоматически при создании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000160" y="272268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(текст)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, 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11600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талог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71720" y="150012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поименованная совокупность файлов и подкаталогов (вложенных каталог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самого верхнего уровня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невые каталоги обозначаются  добавлением к логическому имени соответствующего устройства внешней памяти знака «\» (А:\, C:\, D:\, E:\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Linu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талоги жёстких дисков не являются корневыми каталогами. Они «монтируются» в каталог mnt. Другие устройства внешней памяти (гибкие, оптические и флэш-диски) «монтируются» в каталог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и mnt и media, в свою очередь, «монтируются» в единый корневой каталог, который обозначается знаком «/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116000" y="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овая структура дис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1600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а - это совокупность файлов на диске и взаимо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использоваться для дисков с небольшим (до нескольких десятков) количеством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flipV="1">
            <a:off x="111600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 flipV="1">
            <a:off x="205092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 flipV="1">
            <a:off x="305928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 flipV="1">
            <a:off x="4140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 flipV="1">
            <a:off x="5148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300720" y="2852640"/>
            <a:ext cx="26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\                 d1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7236000" y="306864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732720" y="306864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7236000" y="3500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7236000" y="3860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7236000" y="429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7236000" y="472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2340000" y="3789360"/>
            <a:ext cx="5032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1476360" y="3789360"/>
            <a:ext cx="1224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3059280" y="3789360"/>
            <a:ext cx="288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3419640" y="3789360"/>
            <a:ext cx="100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3419640" y="3645000"/>
            <a:ext cx="1944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1003320" cy="10522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7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ерархически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ся для хранения большого (сотни и тысячи) количества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1116000" y="6021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ое изображение иерархической файловой структуры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е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9"/>
          <p:cNvGrpSpPr/>
          <p:nvPr/>
        </p:nvGrpSpPr>
        <p:grpSpPr>
          <a:xfrm>
            <a:off x="1116000" y="2781360"/>
            <a:ext cx="3960360" cy="2810880"/>
            <a:chOff x="1116000" y="2781360"/>
            <a:chExt cx="3960360" cy="2810880"/>
          </a:xfrm>
        </p:grpSpPr>
        <p:pic>
          <p:nvPicPr>
            <p:cNvPr id="224" name="Picture 70" descr=""/>
            <p:cNvPicPr/>
            <p:nvPr/>
          </p:nvPicPr>
          <p:blipFill>
            <a:blip r:embed="rId2"/>
            <a:stretch/>
          </p:blipFill>
          <p:spPr>
            <a:xfrm flipH="1">
              <a:off x="2055600" y="2781360"/>
              <a:ext cx="1013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71"/>
            <p:cNvSpPr/>
            <p:nvPr/>
          </p:nvSpPr>
          <p:spPr>
            <a:xfrm flipV="1">
              <a:off x="1116000" y="3630600"/>
              <a:ext cx="40248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2"/>
            <p:cNvSpPr/>
            <p:nvPr/>
          </p:nvSpPr>
          <p:spPr>
            <a:xfrm flipV="1">
              <a:off x="1720080" y="363060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73"/>
            <p:cNvSpPr/>
            <p:nvPr/>
          </p:nvSpPr>
          <p:spPr>
            <a:xfrm flipV="1">
              <a:off x="2055960" y="43509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74"/>
            <p:cNvSpPr/>
            <p:nvPr/>
          </p:nvSpPr>
          <p:spPr>
            <a:xfrm flipV="1">
              <a:off x="2593080" y="434952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5"/>
            <p:cNvSpPr/>
            <p:nvPr/>
          </p:nvSpPr>
          <p:spPr>
            <a:xfrm flipV="1">
              <a:off x="3264840" y="506808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76"/>
            <p:cNvSpPr/>
            <p:nvPr/>
          </p:nvSpPr>
          <p:spPr>
            <a:xfrm flipV="1">
              <a:off x="3868920" y="50680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7"/>
            <p:cNvSpPr/>
            <p:nvPr/>
          </p:nvSpPr>
          <p:spPr>
            <a:xfrm flipV="1">
              <a:off x="4136760" y="35661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78"/>
            <p:cNvSpPr/>
            <p:nvPr/>
          </p:nvSpPr>
          <p:spPr>
            <a:xfrm flipV="1">
              <a:off x="4673880" y="3563640"/>
              <a:ext cx="402480" cy="5245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79"/>
            <p:cNvSpPr/>
            <p:nvPr/>
          </p:nvSpPr>
          <p:spPr>
            <a:xfrm flipV="1">
              <a:off x="4136760" y="42832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0"/>
            <p:cNvSpPr/>
            <p:nvPr/>
          </p:nvSpPr>
          <p:spPr>
            <a:xfrm flipH="1">
              <a:off x="1385280" y="3303720"/>
              <a:ext cx="67032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1"/>
            <p:cNvSpPr/>
            <p:nvPr/>
          </p:nvSpPr>
          <p:spPr>
            <a:xfrm flipH="1">
              <a:off x="1854000" y="3435120"/>
              <a:ext cx="2689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2"/>
            <p:cNvSpPr/>
            <p:nvPr/>
          </p:nvSpPr>
          <p:spPr>
            <a:xfrm>
              <a:off x="2458440" y="3368880"/>
              <a:ext cx="6804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3"/>
            <p:cNvSpPr/>
            <p:nvPr/>
          </p:nvSpPr>
          <p:spPr>
            <a:xfrm>
              <a:off x="2659680" y="3303720"/>
              <a:ext cx="8064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4"/>
            <p:cNvSpPr/>
            <p:nvPr/>
          </p:nvSpPr>
          <p:spPr>
            <a:xfrm>
              <a:off x="2794320" y="3239280"/>
              <a:ext cx="1410480" cy="3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5"/>
            <p:cNvSpPr/>
            <p:nvPr/>
          </p:nvSpPr>
          <p:spPr>
            <a:xfrm>
              <a:off x="3063960" y="3108240"/>
              <a:ext cx="17449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2727720" y="4087440"/>
              <a:ext cx="680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 flipH="1">
              <a:off x="225864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ile"/>
            <p:cNvSpPr/>
            <p:nvPr/>
          </p:nvSpPr>
          <p:spPr>
            <a:xfrm flipH="1">
              <a:off x="2256120" y="3695760"/>
              <a:ext cx="80676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9"/>
            <p:cNvSpPr/>
            <p:nvPr/>
          </p:nvSpPr>
          <p:spPr>
            <a:xfrm>
              <a:off x="3935520" y="4087440"/>
              <a:ext cx="269280" cy="1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0"/>
            <p:cNvSpPr/>
            <p:nvPr/>
          </p:nvSpPr>
          <p:spPr>
            <a:xfrm flipH="1">
              <a:off x="346608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ile"/>
            <p:cNvSpPr/>
            <p:nvPr/>
          </p:nvSpPr>
          <p:spPr>
            <a:xfrm flipH="1">
              <a:off x="3197160" y="369576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2"/>
            <p:cNvSpPr/>
            <p:nvPr/>
          </p:nvSpPr>
          <p:spPr>
            <a:xfrm>
              <a:off x="3733920" y="4674960"/>
              <a:ext cx="26928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 flipH="1">
              <a:off x="3466080" y="4674960"/>
              <a:ext cx="13320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ile"/>
            <p:cNvSpPr/>
            <p:nvPr/>
          </p:nvSpPr>
          <p:spPr>
            <a:xfrm flipH="1">
              <a:off x="3197160" y="428328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5"/>
          <p:cNvSpPr/>
          <p:nvPr/>
        </p:nvSpPr>
        <p:spPr>
          <a:xfrm>
            <a:off x="4859280" y="2781360"/>
            <a:ext cx="428472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:\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еозапис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x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вариум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p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ун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ы        бук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егин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од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6"/>
          <p:cNvSpPr/>
          <p:nvPr/>
        </p:nvSpPr>
        <p:spPr>
          <a:xfrm>
            <a:off x="5435640" y="299736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7"/>
          <p:cNvSpPr/>
          <p:nvPr/>
        </p:nvSpPr>
        <p:spPr>
          <a:xfrm>
            <a:off x="5292720" y="29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8"/>
          <p:cNvSpPr/>
          <p:nvPr/>
        </p:nvSpPr>
        <p:spPr>
          <a:xfrm>
            <a:off x="5435640" y="33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9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0"/>
          <p:cNvSpPr/>
          <p:nvPr/>
        </p:nvSpPr>
        <p:spPr>
          <a:xfrm>
            <a:off x="543564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1"/>
          <p:cNvSpPr/>
          <p:nvPr/>
        </p:nvSpPr>
        <p:spPr>
          <a:xfrm>
            <a:off x="5435640" y="5516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2"/>
          <p:cNvSpPr/>
          <p:nvPr/>
        </p:nvSpPr>
        <p:spPr>
          <a:xfrm>
            <a:off x="702000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3"/>
          <p:cNvSpPr/>
          <p:nvPr/>
        </p:nvSpPr>
        <p:spPr>
          <a:xfrm>
            <a:off x="7667640" y="4076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4"/>
          <p:cNvSpPr/>
          <p:nvPr/>
        </p:nvSpPr>
        <p:spPr>
          <a:xfrm>
            <a:off x="6443640" y="47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5"/>
          <p:cNvSpPr/>
          <p:nvPr/>
        </p:nvSpPr>
        <p:spPr>
          <a:xfrm>
            <a:off x="7020000" y="371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6"/>
          <p:cNvSpPr/>
          <p:nvPr/>
        </p:nvSpPr>
        <p:spPr>
          <a:xfrm>
            <a:off x="7020000" y="407664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7"/>
          <p:cNvSpPr/>
          <p:nvPr/>
        </p:nvSpPr>
        <p:spPr>
          <a:xfrm>
            <a:off x="766764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8"/>
          <p:cNvSpPr/>
          <p:nvPr/>
        </p:nvSpPr>
        <p:spPr>
          <a:xfrm>
            <a:off x="651672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9"/>
          <p:cNvSpPr/>
          <p:nvPr/>
        </p:nvSpPr>
        <p:spPr>
          <a:xfrm>
            <a:off x="7667640" y="44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0"/>
          <p:cNvSpPr/>
          <p:nvPr/>
        </p:nvSpPr>
        <p:spPr>
          <a:xfrm>
            <a:off x="6516720" y="51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1"/>
          <p:cNvSpPr/>
          <p:nvPr/>
        </p:nvSpPr>
        <p:spPr>
          <a:xfrm>
            <a:off x="1042920" y="162864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Windows каталоги на разных дисках могу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ывать несколько отдельных деревь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Linux каталоги объединяются в 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ево, общее для всех дисков. Древовидные иерархические структуры можно изображать вертикально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изонта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2"/>
          <p:cNvSpPr/>
          <p:nvPr/>
        </p:nvSpPr>
        <p:spPr>
          <a:xfrm>
            <a:off x="1187280" y="39337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         home                                               usr                   var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"/>
          <p:cNvSpPr/>
          <p:nvPr/>
        </p:nvSpPr>
        <p:spPr>
          <a:xfrm>
            <a:off x="1403280" y="3718080"/>
            <a:ext cx="70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4"/>
          <p:cNvSpPr/>
          <p:nvPr/>
        </p:nvSpPr>
        <p:spPr>
          <a:xfrm>
            <a:off x="140328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5"/>
          <p:cNvSpPr/>
          <p:nvPr/>
        </p:nvSpPr>
        <p:spPr>
          <a:xfrm>
            <a:off x="2484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6"/>
          <p:cNvSpPr/>
          <p:nvPr/>
        </p:nvSpPr>
        <p:spPr>
          <a:xfrm>
            <a:off x="435600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7"/>
          <p:cNvSpPr/>
          <p:nvPr/>
        </p:nvSpPr>
        <p:spPr>
          <a:xfrm>
            <a:off x="5940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7451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19"/>
          <p:cNvSpPr/>
          <p:nvPr/>
        </p:nvSpPr>
        <p:spPr>
          <a:xfrm>
            <a:off x="8459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0"/>
          <p:cNvSpPr/>
          <p:nvPr/>
        </p:nvSpPr>
        <p:spPr>
          <a:xfrm>
            <a:off x="4932360" y="4581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1"/>
          <p:cNvSpPr/>
          <p:nvPr/>
        </p:nvSpPr>
        <p:spPr>
          <a:xfrm>
            <a:off x="1908000" y="4581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2"/>
          <p:cNvSpPr/>
          <p:nvPr/>
        </p:nvSpPr>
        <p:spPr>
          <a:xfrm>
            <a:off x="2484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5940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1908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327672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493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558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637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702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0"/>
          <p:cNvSpPr/>
          <p:nvPr/>
        </p:nvSpPr>
        <p:spPr>
          <a:xfrm>
            <a:off x="2340000" y="54450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1"/>
          <p:cNvSpPr/>
          <p:nvPr/>
        </p:nvSpPr>
        <p:spPr>
          <a:xfrm>
            <a:off x="3276720" y="51577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2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3"/>
          <p:cNvSpPr/>
          <p:nvPr/>
        </p:nvSpPr>
        <p:spPr>
          <a:xfrm>
            <a:off x="406872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1440000" y="486900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       metohody                 bin      etc       doc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1547640" y="5734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ilename-with-             tex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6"/>
          <p:cNvSpPr/>
          <p:nvPr/>
        </p:nvSpPr>
        <p:spPr>
          <a:xfrm>
            <a:off x="5435640" y="59500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5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ное имя фай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981000"/>
            <a:ext cx="785016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а всех каталогов от корневого до того, в котором непосредственно находится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Windows путь к файлу начинается с логического имени устройства внешней памяти; после имени кажд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каталога ставится обратны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Е:\изображения\фото\Катунь.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Linux путь к файлу начинается с имени единого корневого каталога; пос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и каждого подкаталога ставится прямо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/home/methody/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 записанные путь к файлу и имя файла со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е может быть двух файлов, имеющих одинаковые полные и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1116000" y="9079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Задачи\ Кинема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Сначала он поднялся на один уровень вверх, затем ещё раз поднялся на один уровень вверх и после этого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котором находится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Информатика.do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Каков путь к этому файл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042920" y="2997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7"/>
          <p:cNvSpPr/>
          <p:nvPr/>
        </p:nvSpPr>
        <p:spPr>
          <a:xfrm>
            <a:off x="428472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8"/>
          <p:cNvGrpSpPr/>
          <p:nvPr/>
        </p:nvGrpSpPr>
        <p:grpSpPr>
          <a:xfrm>
            <a:off x="3492360" y="4653000"/>
            <a:ext cx="792360" cy="515880"/>
            <a:chOff x="3492360" y="4653000"/>
            <a:chExt cx="792360" cy="515880"/>
          </a:xfrm>
        </p:grpSpPr>
        <p:pic>
          <p:nvPicPr>
            <p:cNvPr id="298" name="Picture 59" descr=""/>
            <p:cNvPicPr/>
            <p:nvPr/>
          </p:nvPicPr>
          <p:blipFill>
            <a:blip r:embed="rId1"/>
            <a:stretch/>
          </p:blipFill>
          <p:spPr>
            <a:xfrm>
              <a:off x="3662280" y="4653000"/>
              <a:ext cx="62244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60"/>
            <p:cNvSpPr/>
            <p:nvPr/>
          </p:nvSpPr>
          <p:spPr>
            <a:xfrm flipH="1">
              <a:off x="3492360" y="5013360"/>
              <a:ext cx="14616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1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01" name="Picture 62" descr=""/>
            <p:cNvPicPr/>
            <p:nvPr/>
          </p:nvPicPr>
          <p:blipFill>
            <a:blip r:embed="rId2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AutoShape 63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64"/>
          <p:cNvSpPr/>
          <p:nvPr/>
        </p:nvSpPr>
        <p:spPr>
          <a:xfrm>
            <a:off x="4284720" y="4797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5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6"/>
          <p:cNvGrpSpPr/>
          <p:nvPr/>
        </p:nvGrpSpPr>
        <p:grpSpPr>
          <a:xfrm>
            <a:off x="3132000" y="4076640"/>
            <a:ext cx="1073160" cy="581040"/>
            <a:chOff x="3132000" y="4076640"/>
            <a:chExt cx="1073160" cy="581040"/>
          </a:xfrm>
        </p:grpSpPr>
        <p:sp>
          <p:nvSpPr>
            <p:cNvPr id="306" name="AutoShape 67"/>
            <p:cNvSpPr/>
            <p:nvPr/>
          </p:nvSpPr>
          <p:spPr>
            <a:xfrm flipH="1">
              <a:off x="3132000" y="4364280"/>
              <a:ext cx="146160" cy="1458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68" descr=""/>
            <p:cNvPicPr/>
            <p:nvPr/>
          </p:nvPicPr>
          <p:blipFill>
            <a:blip r:embed="rId3"/>
            <a:stretch/>
          </p:blipFill>
          <p:spPr>
            <a:xfrm>
              <a:off x="3348000" y="4076640"/>
              <a:ext cx="85716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6"/>
          <p:cNvSpPr/>
          <p:nvPr/>
        </p:nvSpPr>
        <p:spPr>
          <a:xfrm>
            <a:off x="111600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0" descr=""/>
          <p:cNvPicPr/>
          <p:nvPr/>
        </p:nvPicPr>
        <p:blipFill>
          <a:blip r:embed="rId4"/>
          <a:stretch/>
        </p:blipFill>
        <p:spPr>
          <a:xfrm>
            <a:off x="4140360" y="5878440"/>
            <a:ext cx="620640" cy="459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1"/>
          <p:cNvSpPr/>
          <p:nvPr/>
        </p:nvSpPr>
        <p:spPr>
          <a:xfrm>
            <a:off x="4788000" y="602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ещё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04292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зтого он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6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15" name="Picture 77" descr=""/>
            <p:cNvPicPr/>
            <p:nvPr/>
          </p:nvPicPr>
          <p:blipFill>
            <a:blip r:embed="rId5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78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79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04292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ый путь к файлу имеет вид: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Экзамен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042920" y="7650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работал в катало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актические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перешёл в дереве каталогов на уровень выше, спустился в под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удалил из него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pp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удалил учите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116000" y="2924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11600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3419280" y="4581360"/>
            <a:ext cx="2016000" cy="543240"/>
            <a:chOff x="3419280" y="4581360"/>
            <a:chExt cx="2016000" cy="543240"/>
          </a:xfrm>
        </p:grpSpPr>
        <p:grpSp>
          <p:nvGrpSpPr>
            <p:cNvPr id="324" name="Group 10"/>
            <p:cNvGrpSpPr/>
            <p:nvPr/>
          </p:nvGrpSpPr>
          <p:grpSpPr>
            <a:xfrm>
              <a:off x="3419280" y="4581360"/>
              <a:ext cx="792000" cy="515880"/>
              <a:chOff x="3419280" y="4581360"/>
              <a:chExt cx="792000" cy="515880"/>
            </a:xfrm>
          </p:grpSpPr>
          <p:pic>
            <p:nvPicPr>
              <p:cNvPr id="325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0" y="458136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AutoShape 12"/>
              <p:cNvSpPr/>
              <p:nvPr/>
            </p:nvSpPr>
            <p:spPr>
              <a:xfrm flipH="1">
                <a:off x="3418920" y="494172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3"/>
            <p:cNvSpPr/>
            <p:nvPr/>
          </p:nvSpPr>
          <p:spPr>
            <a:xfrm>
              <a:off x="4138560" y="472572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ро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3634920" y="5157720"/>
            <a:ext cx="2089440" cy="541800"/>
            <a:chOff x="3634920" y="5157720"/>
            <a:chExt cx="2089440" cy="541800"/>
          </a:xfrm>
        </p:grpSpPr>
        <p:grpSp>
          <p:nvGrpSpPr>
            <p:cNvPr id="329" name="Group 15"/>
            <p:cNvGrpSpPr/>
            <p:nvPr/>
          </p:nvGrpSpPr>
          <p:grpSpPr>
            <a:xfrm>
              <a:off x="3634920" y="5157720"/>
              <a:ext cx="792000" cy="515880"/>
              <a:chOff x="3634920" y="5157720"/>
              <a:chExt cx="792000" cy="515880"/>
            </a:xfrm>
          </p:grpSpPr>
          <p:pic>
            <p:nvPicPr>
              <p:cNvPr id="33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4840" y="515772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AutoShape 17"/>
              <p:cNvSpPr/>
              <p:nvPr/>
            </p:nvSpPr>
            <p:spPr>
              <a:xfrm flipH="1">
                <a:off x="3634560" y="551808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8"/>
            <p:cNvSpPr/>
            <p:nvPr/>
          </p:nvSpPr>
          <p:spPr>
            <a:xfrm>
              <a:off x="4427280" y="53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8 кла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58920" y="4076640"/>
            <a:ext cx="2376360" cy="581040"/>
            <a:chOff x="3058920" y="4076640"/>
            <a:chExt cx="2376360" cy="581040"/>
          </a:xfrm>
        </p:grpSpPr>
        <p:sp>
          <p:nvSpPr>
            <p:cNvPr id="334" name="Text Box 20"/>
            <p:cNvSpPr/>
            <p:nvPr/>
          </p:nvSpPr>
          <p:spPr>
            <a:xfrm>
              <a:off x="4138560" y="422100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1"/>
            <p:cNvSpPr/>
            <p:nvPr/>
          </p:nvSpPr>
          <p:spPr>
            <a:xfrm flipH="1">
              <a:off x="3058560" y="43639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2" descr=""/>
            <p:cNvPicPr/>
            <p:nvPr/>
          </p:nvPicPr>
          <p:blipFill>
            <a:blip r:embed="rId3"/>
            <a:stretch/>
          </p:blipFill>
          <p:spPr>
            <a:xfrm>
              <a:off x="3274920" y="4076640"/>
              <a:ext cx="85680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23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38" name="Picture 24" descr=""/>
            <p:cNvPicPr/>
            <p:nvPr/>
          </p:nvPicPr>
          <p:blipFill>
            <a:blip r:embed="rId4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5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ктические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устившись на один уровень вниз он оказался 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4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43" name="Picture 35" descr=""/>
            <p:cNvPicPr/>
            <p:nvPr/>
          </p:nvPicPr>
          <p:blipFill>
            <a:blip r:embed="rId5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6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езен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8"/>
          <p:cNvSpPr/>
          <p:nvPr/>
        </p:nvSpPr>
        <p:spPr>
          <a:xfrm>
            <a:off x="104292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далил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116000" y="6095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удалённого фай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езентации\Введение.ppt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0:42Z</dcterms:modified>
  <cp:revision>37</cp:revision>
  <dc:subject/>
  <dc:title>Презентация PowerPoint</dc:title>
</cp:coreProperties>
</file>