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33E-3F4A-430B-84FB-09AC9718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486-86A1-4C99-82B4-D324F749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345-29D3-46DB-A754-6C4D8C48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359-221A-40DA-BBBD-18FB329C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0AC-3234-4845-B2A8-74D2670A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2C5-057E-4DBB-9E18-A3937E8A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F59-0DAE-4E59-B9BF-917116E2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337-31BF-4E46-B3CD-FFF53AE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92F-CAE3-41DC-A946-709A2D5E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634-ED94-43BE-A77C-9F18B39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201-7124-410C-827E-076A3672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3C7-264E-4EC3-80B2-A2D750B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E896-E42B-4184-9D4A-3F92726968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64072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ФАЙЛЫ И ФАЙЛОВЫЕ СТРУКТУ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 КАК УНИВЕСАЛЬНОЕ УСТРОЙСТВО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Работа с файл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116000" y="765000"/>
            <a:ext cx="77770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ются файлы с помощью систем программирования и приклад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операции с фай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здаётся копия файла в другом каталоге или на другом носите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изводится перенос файла в другой каталог или на другой носитель, исходный файл уничтожаетс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имен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оизводится переименование собственно имени файл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исходном каталоге объект уничтож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Object 4" descr=""/>
          <p:cNvPicPr/>
          <p:nvPr/>
        </p:nvPicPr>
        <p:blipFill>
          <a:blip r:embed="rId1"/>
          <a:stretch/>
        </p:blipFill>
        <p:spPr>
          <a:xfrm>
            <a:off x="2411280" y="5950080"/>
            <a:ext cx="3203640" cy="6858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1143000" y="825480"/>
            <a:ext cx="7848720" cy="39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оиске файла можно использовать маску имени файла - последовательность букв, цифр и прочих допустимых в именах файлов символов, в том числе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(вопросительный знак) - означает ровно один произвольный симво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*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вездочка) - означает любую (в том числе и пустую) последовательность символов произвольной д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по маске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n?.*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будут найдены файлы с произвольными расширениями и двухбуквенными именами, начинающимися с буквы «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1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250920" y="836640"/>
            <a:ext cx="8713800" cy="56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именованная область внешней памя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стоит из двух частей, разделённых точкой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ственно имени файл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ши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та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именованная совокупность файлов и подкаталогов (вложенных каталогов). Каталог самого верхнего уровня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рневым катало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йловая структура д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совокупность файлов на диске и взаимосвязей между ними. Файловые структуры б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ст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ногоуровневыми (иерархически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мена всех каталогов от корневого до того, в котором непосредственно находится файл. Последовательно записанные путь к файлу и имя файла составля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лное имя файла уник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042920" y="19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правила именования файлов в операционной системе, установленной на компьютерах в вашем клас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042920" y="19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ена известных вам программ, открывающих файлы со следующими расширениями: txt, doc, bmp, rtf, ar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042920" y="1989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логические имена устройств внешней памяти на компьютере, к которому вы имеете дост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тало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каталог называют корневы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104292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огут быть организованы файлы во внешней памя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104292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ется графическое изображение иерархической файлов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уть к файлу на дис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1042920" y="1989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олное имя фай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104292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операции, совершаемые с фай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06 (стр. 4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1116000" y="134136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Пушкин.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do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ранится на жёстком диске в каталоге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ПОЭ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подкаталогом каталог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таблице приведены фрагменты полного имени фай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9"/>
          <p:cNvSpPr/>
          <p:nvPr/>
        </p:nvSpPr>
        <p:spPr>
          <a:xfrm>
            <a:off x="1116000" y="4508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ите полное имя файла и закодируйте его буквами (запишите последовательность букв без пробелов и запяты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08 (стр. 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1116000" y="1341360"/>
            <a:ext cx="777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ша работал с каталог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УРОКИ\ИНФОРМАТИКА\ПРАКТИЧЕСКИЕ РАБОТЫ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ялся на два уровня вверх, затем спустился в подкаталог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АЛГЕБ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оздал в нём файл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Квур.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tx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Каково полное имя файла, который создал Саш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0 (стр. 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1116000" y="1413000"/>
            <a:ext cx="7777080" cy="46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ДОКУМЕНТЫ\ФОТО\2011\ВЕСНА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он поднялся на три уровня вверх, потом спустился в каталог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ЭКЗАМ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сле этого спустился в каталог </a:t>
            </a:r>
            <a:r>
              <a:rPr b="1" i="1" lang="ru-RU" sz="2400" spc="-1" strike="noStrike">
                <a:solidFill>
                  <a:srgbClr val="800080"/>
                </a:solidFill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кажите полный путь для того каталога, в котором оказался пользов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25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ДОКУМЕНТЫ\ФОТО\ИНФОР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25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ДОКУМЕНТЫ\ИНФОРМАТИКА\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12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ДОКУМЕНТЫ\ЭКЗАМЕН\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012"/>
              </a:spcBef>
              <a:buClr>
                <a:srgbClr val="80008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Arial"/>
              </a:rPr>
              <a:t>D:\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ДОКУМЕНТЫ\ФОТО\2011\ВЕСНА\ЭКЗАМЕН\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5 (стр. 5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5"/>
          <p:cNvSpPr/>
          <p:nvPr/>
        </p:nvSpPr>
        <p:spPr>
          <a:xfrm>
            <a:off x="1116000" y="134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еречня имён выберите (отметьте галочкой) те, которые удовлетворяют мас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k.*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979640" y="2205000"/>
          <a:ext cx="609588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3792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ck.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.p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k.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ck.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ink.u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ock.s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pack.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75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р.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9"/>
          <p:cNvSpPr/>
          <p:nvPr/>
        </p:nvSpPr>
        <p:spPr>
          <a:xfrm>
            <a:off x="1116000" y="134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еречня имён выберите (отметьте галочкой) те, которые НЕ удовлетворяют мас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k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979640" y="2276640"/>
          <a:ext cx="609588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3792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ck.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ck.p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3ck.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ck.t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ink.u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ock.s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pack.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er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378" name="Text Box 23"/>
          <p:cNvSpPr/>
          <p:nvPr/>
        </p:nvSpPr>
        <p:spPr>
          <a:xfrm>
            <a:off x="3132000" y="836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р.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5"/>
          <p:cNvSpPr/>
          <p:nvPr/>
        </p:nvSpPr>
        <p:spPr>
          <a:xfrm>
            <a:off x="1042920" y="1341360"/>
            <a:ext cx="7777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, какое из указанных ниже имён файлов удовлетворяют маск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eie.t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nie.tt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ie.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enie.t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187280" y="2852640"/>
          <a:ext cx="7777440" cy="1311480"/>
        </p:xfrm>
        <a:graphic>
          <a:graphicData uri="http://schemas.openxmlformats.org/drawingml/2006/table">
            <a:tbl>
              <a:tblPr/>
              <a:tblGrid>
                <a:gridCol w="2232360"/>
                <a:gridCol w="647640"/>
                <a:gridCol w="1439640"/>
                <a:gridCol w="649440"/>
                <a:gridCol w="1008000"/>
                <a:gridCol w="180036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к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ЭЗ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2050920" y="1700280"/>
            <a:ext cx="590580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оименованная область внешней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116000" y="836640"/>
            <a:ext cx="7848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е подключаемое к компьютеру устройство внешней памяти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огическое им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: B: C: D: E: F: 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1116000" y="2421000"/>
            <a:ext cx="122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2771640" y="2421000"/>
            <a:ext cx="5545440" cy="287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е имя фай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2844720" y="270828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5580000" y="270828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я файл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2844720" y="306864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ск:\пу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5580000" y="3068640"/>
            <a:ext cx="2664000" cy="28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я.расшир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8"/>
          <p:cNvSpPr/>
          <p:nvPr/>
        </p:nvSpPr>
        <p:spPr>
          <a:xfrm flipH="1">
            <a:off x="2340000" y="285264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116000" y="5229360"/>
            <a:ext cx="1511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1403280" y="6021360"/>
            <a:ext cx="2089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ерарх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 flipV="1">
            <a:off x="1908000" y="4941360"/>
            <a:ext cx="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8"/>
          <p:cNvSpPr/>
          <p:nvPr/>
        </p:nvSpPr>
        <p:spPr>
          <a:xfrm flipV="1">
            <a:off x="2916360" y="4941360"/>
            <a:ext cx="0" cy="1079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1332000" y="3933720"/>
            <a:ext cx="208764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4067280" y="3860640"/>
          <a:ext cx="4608360" cy="2459160"/>
        </p:xfrm>
        <a:graphic>
          <a:graphicData uri="http://schemas.openxmlformats.org/drawingml/2006/table">
            <a:tbl>
              <a:tblPr/>
              <a:tblGrid>
                <a:gridCol w="2305080"/>
                <a:gridCol w="2303280"/>
              </a:tblGrid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фай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расшир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v, s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, rtf, doc, docx, od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, gif, jpg, tif, png, p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ой 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midi, kar, og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ай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mp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, r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таб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l, o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258920" y="1628640"/>
            <a:ext cx="74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.4 (стр. 79 - 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05, 107, 109, 111, 112, 113, 114, 118, 119 (стр. 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99640" y="836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гическое имя устройства внешней памя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именования фай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невой кат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овая струк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6438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Логические имена устройств внешней памя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116000" y="1989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подключаемое к компьютеру устройство внешней памяти име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ческое им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042920" y="2781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 Windows приняты логические имена устройств внешней памяти, состоящие из одной латинской буквы и знака двоето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42920" y="43657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исководов гибких дисков (дискет) - А: и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2556000" y="4941720"/>
            <a:ext cx="1346040" cy="141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2"/>
          <a:stretch/>
        </p:blipFill>
        <p:spPr>
          <a:xfrm>
            <a:off x="5003640" y="5084640"/>
            <a:ext cx="1551240" cy="102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1042920" y="43657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жёстких дисков и их логических раздел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:,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"/>
          <p:cNvPicPr/>
          <p:nvPr/>
        </p:nvPicPr>
        <p:blipFill>
          <a:blip r:embed="rId3"/>
          <a:stretch/>
        </p:blipFill>
        <p:spPr>
          <a:xfrm>
            <a:off x="5364000" y="5229360"/>
            <a:ext cx="1401840" cy="730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4"/>
          <p:cNvSpPr/>
          <p:nvPr/>
        </p:nvSpPr>
        <p:spPr>
          <a:xfrm>
            <a:off x="2124000" y="609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(C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"/>
          <p:cNvPicPr/>
          <p:nvPr/>
        </p:nvPicPr>
        <p:blipFill>
          <a:blip r:embed="rId4"/>
          <a:stretch/>
        </p:blipFill>
        <p:spPr>
          <a:xfrm>
            <a:off x="2195640" y="5229360"/>
            <a:ext cx="1411200" cy="831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6"/>
          <p:cNvSpPr/>
          <p:nvPr/>
        </p:nvSpPr>
        <p:spPr>
          <a:xfrm>
            <a:off x="5364000" y="6093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(D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1042920" y="436572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тических дисководов - имена, следующие по алфавиту после имени последнего имеющегося на компьютере жёсткого диска или раздела жёсткого д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003640" y="6093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VD RW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ов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0" descr=""/>
          <p:cNvPicPr/>
          <p:nvPr/>
        </p:nvPicPr>
        <p:blipFill>
          <a:blip r:embed="rId5"/>
          <a:stretch/>
        </p:blipFill>
        <p:spPr>
          <a:xfrm>
            <a:off x="3492360" y="5546880"/>
            <a:ext cx="1284480" cy="13111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1"/>
          <p:cNvSpPr/>
          <p:nvPr/>
        </p:nvSpPr>
        <p:spPr>
          <a:xfrm>
            <a:off x="493236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222200" y="443700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676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дключаемой к компьютеру флэш-памяти - имя, следующее за последним именем оптического дисковода (наприм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3" descr=""/>
          <p:cNvPicPr/>
          <p:nvPr/>
        </p:nvPicPr>
        <p:blipFill>
          <a:blip r:embed="rId6"/>
          <a:stretch/>
        </p:blipFill>
        <p:spPr>
          <a:xfrm>
            <a:off x="5148360" y="5229360"/>
            <a:ext cx="1503360" cy="826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4"/>
          <p:cNvSpPr/>
          <p:nvPr/>
        </p:nvSpPr>
        <p:spPr>
          <a:xfrm>
            <a:off x="450072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ъемный дис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1143000" y="2781360"/>
            <a:ext cx="79218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 Linux приняты другие правила именования дисков и их разделов.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разделы, принадлежащие первому жёсткому диску, получают им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a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a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 д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разделы, принадлежащие второму жёсткому диску, получают име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b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db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8"/>
          <p:cNvSpPr/>
          <p:nvPr/>
        </p:nvSpPr>
        <p:spPr>
          <a:xfrm flipV="1">
            <a:off x="6732720" y="4652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3132000" y="4652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ай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42920" y="14288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поименованная область внешней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6000" y="2060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часть ОС, определяющая способ организации, хранения и именования файлов на носителях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042920" y="6021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ы-документы создаются и обрабатываются с помощью файлов-при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195640" y="4221000"/>
            <a:ext cx="19429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5724360" y="4221000"/>
            <a:ext cx="19432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8"/>
          <p:cNvSpPr/>
          <p:nvPr/>
        </p:nvSpPr>
        <p:spPr>
          <a:xfrm flipV="1">
            <a:off x="3203640" y="3860280"/>
            <a:ext cx="1800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 flipH="1" flipV="1">
            <a:off x="5003280" y="3860280"/>
            <a:ext cx="158436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979640" y="5084640"/>
            <a:ext cx="223200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581800" y="5072040"/>
            <a:ext cx="2347920" cy="8064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ла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492360" y="3429000"/>
            <a:ext cx="295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143000" y="642960"/>
            <a:ext cx="7777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стоит из двух частей, разделённых точкой: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бственно име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айла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шир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Собственно имя файлу даёт пользователь. Расширение имени обычно задаётся программой автоматически при создании фай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000160" y="272268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расши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ны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v, s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, rtf, doc, docx, od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, gif, jpg, tif, png, p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ой 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midi, kar, og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ай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, 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l, 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(текст) програ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, 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2"/>
          <p:cNvSpPr/>
          <p:nvPr/>
        </p:nvSpPr>
        <p:spPr>
          <a:xfrm>
            <a:off x="1116000" y="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аталог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71720" y="1500120"/>
            <a:ext cx="79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тало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это поименованная совокупность файлов и подкаталогов (вложенных каталог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самого верхнего уровня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невым каталог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 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невые каталоги обозначаются  добавлением к логическому имени соответствующего устройства внешней памяти знака «\» (А:\, C:\, D:\, E:\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 Linu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аталоги жёстких дисков не являются корневыми каталогами. Они «монтируются» в каталог mnt. Другие устройства внешней памяти (гибкие, оптические и флэш-диски) «монтируются» в каталог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и mnt и media, в свою очередь, «монтируются» в единый корневой каталог, который обозначается знаком «/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1116000" y="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айловая структура дис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11600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овая 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ска - это совокупность файлов на диске и взаимосвязей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042920" y="1557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ые файловые струк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гут использоваться для дисков с небольшим (до нескольких десятков) количеством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flipV="1">
            <a:off x="1116000" y="4507920"/>
            <a:ext cx="71928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 flipV="1">
            <a:off x="2050920" y="4507920"/>
            <a:ext cx="71928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 flipV="1">
            <a:off x="3059280" y="4507920"/>
            <a:ext cx="71892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 flipV="1">
            <a:off x="4140360" y="4507920"/>
            <a:ext cx="71892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/>
          <p:cNvSpPr/>
          <p:nvPr/>
        </p:nvSpPr>
        <p:spPr>
          <a:xfrm flipV="1">
            <a:off x="5148360" y="4507920"/>
            <a:ext cx="718920" cy="9349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300720" y="2852640"/>
            <a:ext cx="26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:\                 d1.t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3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4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5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7236000" y="3068640"/>
            <a:ext cx="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732720" y="306864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7236000" y="3500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7236000" y="3860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7236000" y="4292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7236000" y="4724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2340000" y="3789360"/>
            <a:ext cx="5032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1476360" y="3789360"/>
            <a:ext cx="122400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>
            <a:off x="3059280" y="3789360"/>
            <a:ext cx="288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1"/>
          <p:cNvSpPr/>
          <p:nvPr/>
        </p:nvSpPr>
        <p:spPr>
          <a:xfrm>
            <a:off x="3419640" y="3789360"/>
            <a:ext cx="100800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3419640" y="3645000"/>
            <a:ext cx="194436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1003320" cy="10522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7"/>
          <p:cNvSpPr/>
          <p:nvPr/>
        </p:nvSpPr>
        <p:spPr>
          <a:xfrm>
            <a:off x="1042920" y="1557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ерархические файловые структу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уются для хранения большого (сотни и тысячи) количества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8"/>
          <p:cNvSpPr/>
          <p:nvPr/>
        </p:nvSpPr>
        <p:spPr>
          <a:xfrm>
            <a:off x="1116000" y="602136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ческое изображение иерархической файловой структуры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е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69"/>
          <p:cNvGrpSpPr/>
          <p:nvPr/>
        </p:nvGrpSpPr>
        <p:grpSpPr>
          <a:xfrm>
            <a:off x="1116000" y="2781360"/>
            <a:ext cx="3960360" cy="2810880"/>
            <a:chOff x="1116000" y="2781360"/>
            <a:chExt cx="3960360" cy="2810880"/>
          </a:xfrm>
        </p:grpSpPr>
        <p:pic>
          <p:nvPicPr>
            <p:cNvPr id="224" name="Picture 70" descr=""/>
            <p:cNvPicPr/>
            <p:nvPr/>
          </p:nvPicPr>
          <p:blipFill>
            <a:blip r:embed="rId2"/>
            <a:stretch/>
          </p:blipFill>
          <p:spPr>
            <a:xfrm flipH="1">
              <a:off x="2055600" y="2781360"/>
              <a:ext cx="1013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AutoShape 71"/>
            <p:cNvSpPr/>
            <p:nvPr/>
          </p:nvSpPr>
          <p:spPr>
            <a:xfrm flipV="1">
              <a:off x="1116000" y="3630600"/>
              <a:ext cx="40248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2"/>
            <p:cNvSpPr/>
            <p:nvPr/>
          </p:nvSpPr>
          <p:spPr>
            <a:xfrm flipV="1">
              <a:off x="1720080" y="3630600"/>
              <a:ext cx="40212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73"/>
            <p:cNvSpPr/>
            <p:nvPr/>
          </p:nvSpPr>
          <p:spPr>
            <a:xfrm flipV="1">
              <a:off x="2055960" y="4350960"/>
              <a:ext cx="40212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74"/>
            <p:cNvSpPr/>
            <p:nvPr/>
          </p:nvSpPr>
          <p:spPr>
            <a:xfrm flipV="1">
              <a:off x="2593080" y="4349520"/>
              <a:ext cx="40248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75"/>
            <p:cNvSpPr/>
            <p:nvPr/>
          </p:nvSpPr>
          <p:spPr>
            <a:xfrm flipV="1">
              <a:off x="3264840" y="5068080"/>
              <a:ext cx="40248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76"/>
            <p:cNvSpPr/>
            <p:nvPr/>
          </p:nvSpPr>
          <p:spPr>
            <a:xfrm flipV="1">
              <a:off x="3868920" y="5068080"/>
              <a:ext cx="40212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7"/>
            <p:cNvSpPr/>
            <p:nvPr/>
          </p:nvSpPr>
          <p:spPr>
            <a:xfrm flipV="1">
              <a:off x="4136760" y="3566160"/>
              <a:ext cx="402120" cy="5227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78"/>
            <p:cNvSpPr/>
            <p:nvPr/>
          </p:nvSpPr>
          <p:spPr>
            <a:xfrm flipV="1">
              <a:off x="4673880" y="3563640"/>
              <a:ext cx="402480" cy="52452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79"/>
            <p:cNvSpPr/>
            <p:nvPr/>
          </p:nvSpPr>
          <p:spPr>
            <a:xfrm flipV="1">
              <a:off x="4136760" y="4283280"/>
              <a:ext cx="402120" cy="524160"/>
            </a:xfrm>
            <a:prstGeom prst="foldedCorner">
              <a:avLst>
                <a:gd name="adj" fmla="val 125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---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0"/>
            <p:cNvSpPr/>
            <p:nvPr/>
          </p:nvSpPr>
          <p:spPr>
            <a:xfrm flipH="1">
              <a:off x="1385280" y="3303720"/>
              <a:ext cx="67032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81"/>
            <p:cNvSpPr/>
            <p:nvPr/>
          </p:nvSpPr>
          <p:spPr>
            <a:xfrm flipH="1">
              <a:off x="1854000" y="3435120"/>
              <a:ext cx="26892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82"/>
            <p:cNvSpPr/>
            <p:nvPr/>
          </p:nvSpPr>
          <p:spPr>
            <a:xfrm>
              <a:off x="2458440" y="3368880"/>
              <a:ext cx="6804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3"/>
            <p:cNvSpPr/>
            <p:nvPr/>
          </p:nvSpPr>
          <p:spPr>
            <a:xfrm>
              <a:off x="2659680" y="3303720"/>
              <a:ext cx="806400" cy="45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4"/>
            <p:cNvSpPr/>
            <p:nvPr/>
          </p:nvSpPr>
          <p:spPr>
            <a:xfrm>
              <a:off x="2794320" y="3239280"/>
              <a:ext cx="1410480" cy="32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85"/>
            <p:cNvSpPr/>
            <p:nvPr/>
          </p:nvSpPr>
          <p:spPr>
            <a:xfrm>
              <a:off x="3063960" y="3108240"/>
              <a:ext cx="174492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6"/>
            <p:cNvSpPr/>
            <p:nvPr/>
          </p:nvSpPr>
          <p:spPr>
            <a:xfrm>
              <a:off x="2727720" y="4087440"/>
              <a:ext cx="680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7"/>
            <p:cNvSpPr/>
            <p:nvPr/>
          </p:nvSpPr>
          <p:spPr>
            <a:xfrm flipH="1">
              <a:off x="2258640" y="4087440"/>
              <a:ext cx="199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ile"/>
            <p:cNvSpPr/>
            <p:nvPr/>
          </p:nvSpPr>
          <p:spPr>
            <a:xfrm flipH="1">
              <a:off x="2256120" y="3695760"/>
              <a:ext cx="806760" cy="429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9"/>
            <p:cNvSpPr/>
            <p:nvPr/>
          </p:nvSpPr>
          <p:spPr>
            <a:xfrm>
              <a:off x="3935520" y="4087440"/>
              <a:ext cx="269280" cy="1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0"/>
            <p:cNvSpPr/>
            <p:nvPr/>
          </p:nvSpPr>
          <p:spPr>
            <a:xfrm flipH="1">
              <a:off x="3466080" y="4087440"/>
              <a:ext cx="199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ile"/>
            <p:cNvSpPr/>
            <p:nvPr/>
          </p:nvSpPr>
          <p:spPr>
            <a:xfrm flipH="1">
              <a:off x="3197160" y="3695760"/>
              <a:ext cx="806400" cy="429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92"/>
            <p:cNvSpPr/>
            <p:nvPr/>
          </p:nvSpPr>
          <p:spPr>
            <a:xfrm>
              <a:off x="3733920" y="4674960"/>
              <a:ext cx="26928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93"/>
            <p:cNvSpPr/>
            <p:nvPr/>
          </p:nvSpPr>
          <p:spPr>
            <a:xfrm flipH="1">
              <a:off x="3466080" y="4674960"/>
              <a:ext cx="133200" cy="393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ile"/>
            <p:cNvSpPr/>
            <p:nvPr/>
          </p:nvSpPr>
          <p:spPr>
            <a:xfrm flipH="1">
              <a:off x="3197160" y="4283280"/>
              <a:ext cx="806400" cy="429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95"/>
          <p:cNvSpPr/>
          <p:nvPr/>
        </p:nvSpPr>
        <p:spPr>
          <a:xfrm>
            <a:off x="4859280" y="2781360"/>
            <a:ext cx="428472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:\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еозапис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av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x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ж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вариум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mp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тунь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ed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ксты        бук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егин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од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96"/>
          <p:cNvSpPr/>
          <p:nvPr/>
        </p:nvSpPr>
        <p:spPr>
          <a:xfrm>
            <a:off x="5435640" y="299736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7"/>
          <p:cNvSpPr/>
          <p:nvPr/>
        </p:nvSpPr>
        <p:spPr>
          <a:xfrm>
            <a:off x="5292720" y="2997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8"/>
          <p:cNvSpPr/>
          <p:nvPr/>
        </p:nvSpPr>
        <p:spPr>
          <a:xfrm>
            <a:off x="5435640" y="3357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99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0"/>
          <p:cNvSpPr/>
          <p:nvPr/>
        </p:nvSpPr>
        <p:spPr>
          <a:xfrm>
            <a:off x="5435640" y="47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1"/>
          <p:cNvSpPr/>
          <p:nvPr/>
        </p:nvSpPr>
        <p:spPr>
          <a:xfrm>
            <a:off x="5435640" y="5516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2"/>
          <p:cNvSpPr/>
          <p:nvPr/>
        </p:nvSpPr>
        <p:spPr>
          <a:xfrm>
            <a:off x="7020000" y="3716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3"/>
          <p:cNvSpPr/>
          <p:nvPr/>
        </p:nvSpPr>
        <p:spPr>
          <a:xfrm>
            <a:off x="7667640" y="407664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04"/>
          <p:cNvSpPr/>
          <p:nvPr/>
        </p:nvSpPr>
        <p:spPr>
          <a:xfrm>
            <a:off x="6443640" y="4797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5"/>
          <p:cNvSpPr/>
          <p:nvPr/>
        </p:nvSpPr>
        <p:spPr>
          <a:xfrm>
            <a:off x="7020000" y="3716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6"/>
          <p:cNvSpPr/>
          <p:nvPr/>
        </p:nvSpPr>
        <p:spPr>
          <a:xfrm>
            <a:off x="7020000" y="4076640"/>
            <a:ext cx="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7"/>
          <p:cNvSpPr/>
          <p:nvPr/>
        </p:nvSpPr>
        <p:spPr>
          <a:xfrm>
            <a:off x="7667640" y="407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8"/>
          <p:cNvSpPr/>
          <p:nvPr/>
        </p:nvSpPr>
        <p:spPr>
          <a:xfrm>
            <a:off x="651672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9"/>
          <p:cNvSpPr/>
          <p:nvPr/>
        </p:nvSpPr>
        <p:spPr>
          <a:xfrm>
            <a:off x="7667640" y="44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0"/>
          <p:cNvSpPr/>
          <p:nvPr/>
        </p:nvSpPr>
        <p:spPr>
          <a:xfrm>
            <a:off x="6516720" y="5157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1"/>
          <p:cNvSpPr/>
          <p:nvPr/>
        </p:nvSpPr>
        <p:spPr>
          <a:xfrm>
            <a:off x="1042920" y="1628640"/>
            <a:ext cx="7777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Windows каталоги на разных дисках могу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разовывать несколько отдельных деревь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Linux каталоги объединяются в од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рево, общее для всех дисков. Древовидные иерархические структуры можно изображать вертикально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изонталь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2"/>
          <p:cNvSpPr/>
          <p:nvPr/>
        </p:nvSpPr>
        <p:spPr>
          <a:xfrm>
            <a:off x="1187280" y="39337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          home                                               usr                   var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3"/>
          <p:cNvSpPr/>
          <p:nvPr/>
        </p:nvSpPr>
        <p:spPr>
          <a:xfrm>
            <a:off x="1403280" y="3718080"/>
            <a:ext cx="705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4"/>
          <p:cNvSpPr/>
          <p:nvPr/>
        </p:nvSpPr>
        <p:spPr>
          <a:xfrm>
            <a:off x="140328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5"/>
          <p:cNvSpPr/>
          <p:nvPr/>
        </p:nvSpPr>
        <p:spPr>
          <a:xfrm>
            <a:off x="248436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6"/>
          <p:cNvSpPr/>
          <p:nvPr/>
        </p:nvSpPr>
        <p:spPr>
          <a:xfrm>
            <a:off x="4356000" y="342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7"/>
          <p:cNvSpPr/>
          <p:nvPr/>
        </p:nvSpPr>
        <p:spPr>
          <a:xfrm>
            <a:off x="594036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745164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19"/>
          <p:cNvSpPr/>
          <p:nvPr/>
        </p:nvSpPr>
        <p:spPr>
          <a:xfrm>
            <a:off x="8459640" y="37180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20"/>
          <p:cNvSpPr/>
          <p:nvPr/>
        </p:nvSpPr>
        <p:spPr>
          <a:xfrm>
            <a:off x="4932360" y="4581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1"/>
          <p:cNvSpPr/>
          <p:nvPr/>
        </p:nvSpPr>
        <p:spPr>
          <a:xfrm>
            <a:off x="1908000" y="4581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22"/>
          <p:cNvSpPr/>
          <p:nvPr/>
        </p:nvSpPr>
        <p:spPr>
          <a:xfrm>
            <a:off x="2484360" y="42940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3"/>
          <p:cNvSpPr/>
          <p:nvPr/>
        </p:nvSpPr>
        <p:spPr>
          <a:xfrm>
            <a:off x="5940360" y="42940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190800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5"/>
          <p:cNvSpPr/>
          <p:nvPr/>
        </p:nvSpPr>
        <p:spPr>
          <a:xfrm>
            <a:off x="327672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493236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558000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8"/>
          <p:cNvSpPr/>
          <p:nvPr/>
        </p:nvSpPr>
        <p:spPr>
          <a:xfrm>
            <a:off x="637236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9"/>
          <p:cNvSpPr/>
          <p:nvPr/>
        </p:nvSpPr>
        <p:spPr>
          <a:xfrm>
            <a:off x="7020000" y="4581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0"/>
          <p:cNvSpPr/>
          <p:nvPr/>
        </p:nvSpPr>
        <p:spPr>
          <a:xfrm>
            <a:off x="2340000" y="544500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31"/>
          <p:cNvSpPr/>
          <p:nvPr/>
        </p:nvSpPr>
        <p:spPr>
          <a:xfrm>
            <a:off x="3276720" y="515772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32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3"/>
          <p:cNvSpPr/>
          <p:nvPr/>
        </p:nvSpPr>
        <p:spPr>
          <a:xfrm>
            <a:off x="406872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4"/>
          <p:cNvSpPr/>
          <p:nvPr/>
        </p:nvSpPr>
        <p:spPr>
          <a:xfrm>
            <a:off x="1440000" y="486900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gun       metohody                 bin      etc       doc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5"/>
          <p:cNvSpPr/>
          <p:nvPr/>
        </p:nvSpPr>
        <p:spPr>
          <a:xfrm>
            <a:off x="1547640" y="57340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ilename-with-             tex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6"/>
          <p:cNvSpPr/>
          <p:nvPr/>
        </p:nvSpPr>
        <p:spPr>
          <a:xfrm>
            <a:off x="5435640" y="59500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0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6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7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5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0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95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лное имя фай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116000" y="981000"/>
            <a:ext cx="785016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а всех каталогов от корневого до того, в котором непосредственно находится фай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С Windows путь к файлу начинается с логического имени устройства внешней памяти; после имени каждо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каталога ставится обратный слэш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Е:\изображения\фото\Катунь.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С Linux путь к файлу начинается с имени единого корневого каталога; посл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и каждого подкаталога ставится прямой слэш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/home/methody/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 записанные путь к файлу и имя файла составля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Не может быть двух файлов, имеющих одинаковые полные им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1116000" y="9079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C:\Физика\Задачи\ Кинемати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Сначала он поднялся на один уровень вверх, затем ещё раз поднялся на один уровень вверх и после этого спустился в каталог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кзаме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в котором находится файл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Информатика.do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Каков путь к этому файл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042920" y="2997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7"/>
          <p:cNvSpPr/>
          <p:nvPr/>
        </p:nvSpPr>
        <p:spPr>
          <a:xfrm>
            <a:off x="4284720" y="4292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58"/>
          <p:cNvGrpSpPr/>
          <p:nvPr/>
        </p:nvGrpSpPr>
        <p:grpSpPr>
          <a:xfrm>
            <a:off x="3492360" y="4653000"/>
            <a:ext cx="792360" cy="515880"/>
            <a:chOff x="3492360" y="4653000"/>
            <a:chExt cx="792360" cy="515880"/>
          </a:xfrm>
        </p:grpSpPr>
        <p:pic>
          <p:nvPicPr>
            <p:cNvPr id="298" name="Picture 59" descr=""/>
            <p:cNvPicPr/>
            <p:nvPr/>
          </p:nvPicPr>
          <p:blipFill>
            <a:blip r:embed="rId1"/>
            <a:stretch/>
          </p:blipFill>
          <p:spPr>
            <a:xfrm>
              <a:off x="3662280" y="4653000"/>
              <a:ext cx="62244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AutoShape 60"/>
            <p:cNvSpPr/>
            <p:nvPr/>
          </p:nvSpPr>
          <p:spPr>
            <a:xfrm flipH="1">
              <a:off x="3492360" y="5013360"/>
              <a:ext cx="14616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61"/>
          <p:cNvGrpSpPr/>
          <p:nvPr/>
        </p:nvGrpSpPr>
        <p:grpSpPr>
          <a:xfrm>
            <a:off x="3781080" y="5229360"/>
            <a:ext cx="792000" cy="515880"/>
            <a:chOff x="3781080" y="5229360"/>
            <a:chExt cx="792000" cy="515880"/>
          </a:xfrm>
        </p:grpSpPr>
        <p:pic>
          <p:nvPicPr>
            <p:cNvPr id="301" name="Picture 62" descr=""/>
            <p:cNvPicPr/>
            <p:nvPr/>
          </p:nvPicPr>
          <p:blipFill>
            <a:blip r:embed="rId2"/>
            <a:stretch/>
          </p:blipFill>
          <p:spPr>
            <a:xfrm>
              <a:off x="3951000" y="5229360"/>
              <a:ext cx="6220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AutoShape 63"/>
            <p:cNvSpPr/>
            <p:nvPr/>
          </p:nvSpPr>
          <p:spPr>
            <a:xfrm flipH="1">
              <a:off x="3780720" y="5589720"/>
              <a:ext cx="14580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64"/>
          <p:cNvSpPr/>
          <p:nvPr/>
        </p:nvSpPr>
        <p:spPr>
          <a:xfrm>
            <a:off x="4284720" y="4797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5"/>
          <p:cNvSpPr/>
          <p:nvPr/>
        </p:nvSpPr>
        <p:spPr>
          <a:xfrm>
            <a:off x="4572000" y="5445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6"/>
          <p:cNvGrpSpPr/>
          <p:nvPr/>
        </p:nvGrpSpPr>
        <p:grpSpPr>
          <a:xfrm>
            <a:off x="3132000" y="4076640"/>
            <a:ext cx="1073160" cy="581040"/>
            <a:chOff x="3132000" y="4076640"/>
            <a:chExt cx="1073160" cy="581040"/>
          </a:xfrm>
        </p:grpSpPr>
        <p:sp>
          <p:nvSpPr>
            <p:cNvPr id="306" name="AutoShape 67"/>
            <p:cNvSpPr/>
            <p:nvPr/>
          </p:nvSpPr>
          <p:spPr>
            <a:xfrm flipH="1">
              <a:off x="3132000" y="4364280"/>
              <a:ext cx="146160" cy="1458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68" descr=""/>
            <p:cNvPicPr/>
            <p:nvPr/>
          </p:nvPicPr>
          <p:blipFill>
            <a:blip r:embed="rId3"/>
            <a:stretch/>
          </p:blipFill>
          <p:spPr>
            <a:xfrm>
              <a:off x="3348000" y="4076640"/>
              <a:ext cx="85716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6"/>
          <p:cNvSpPr/>
          <p:nvPr/>
        </p:nvSpPr>
        <p:spPr>
          <a:xfrm>
            <a:off x="1116000" y="3500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0" descr=""/>
          <p:cNvPicPr/>
          <p:nvPr/>
        </p:nvPicPr>
        <p:blipFill>
          <a:blip r:embed="rId4"/>
          <a:stretch/>
        </p:blipFill>
        <p:spPr>
          <a:xfrm>
            <a:off x="4140360" y="5878440"/>
            <a:ext cx="620640" cy="459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1"/>
          <p:cNvSpPr/>
          <p:nvPr/>
        </p:nvSpPr>
        <p:spPr>
          <a:xfrm>
            <a:off x="4788000" y="602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116000" y="3500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нявшись на один уровень вверх он оказался в каталог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116000" y="3500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нявшись ещё на один уровень вверх он оказался в каталог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042920" y="3500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зтого он спустился в каталог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кзаме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76"/>
          <p:cNvGrpSpPr/>
          <p:nvPr/>
        </p:nvGrpSpPr>
        <p:grpSpPr>
          <a:xfrm>
            <a:off x="3781080" y="5229360"/>
            <a:ext cx="792000" cy="515880"/>
            <a:chOff x="3781080" y="5229360"/>
            <a:chExt cx="792000" cy="515880"/>
          </a:xfrm>
        </p:grpSpPr>
        <p:pic>
          <p:nvPicPr>
            <p:cNvPr id="315" name="Picture 77" descr=""/>
            <p:cNvPicPr/>
            <p:nvPr/>
          </p:nvPicPr>
          <p:blipFill>
            <a:blip r:embed="rId5"/>
            <a:stretch/>
          </p:blipFill>
          <p:spPr>
            <a:xfrm>
              <a:off x="3951000" y="5229360"/>
              <a:ext cx="6220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AutoShape 78"/>
            <p:cNvSpPr/>
            <p:nvPr/>
          </p:nvSpPr>
          <p:spPr>
            <a:xfrm flipH="1">
              <a:off x="3780720" y="5589720"/>
              <a:ext cx="14580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79"/>
          <p:cNvSpPr/>
          <p:nvPr/>
        </p:nvSpPr>
        <p:spPr>
          <a:xfrm>
            <a:off x="4572000" y="5445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042920" y="6165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ый путь к файлу имеет вид: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C:\Физика\Экзамен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0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80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9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Заголовок 2"/>
          <p:cNvSpPr/>
          <p:nvPr/>
        </p:nvSpPr>
        <p:spPr>
          <a:xfrm>
            <a:off x="111600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Задача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1042920" y="7650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работал в катало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D:\Уроки\8 класс\Практические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тем перешёл в дереве каталогов на уровень выше, спустился в подкаталог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удалил из него файл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Введение.pp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ково полное имя файла, который удалил учител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116000" y="29242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116000" y="3357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работал с каталог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9"/>
          <p:cNvGrpSpPr/>
          <p:nvPr/>
        </p:nvGrpSpPr>
        <p:grpSpPr>
          <a:xfrm>
            <a:off x="3419280" y="4581360"/>
            <a:ext cx="2016000" cy="543240"/>
            <a:chOff x="3419280" y="4581360"/>
            <a:chExt cx="2016000" cy="543240"/>
          </a:xfrm>
        </p:grpSpPr>
        <p:grpSp>
          <p:nvGrpSpPr>
            <p:cNvPr id="324" name="Group 10"/>
            <p:cNvGrpSpPr/>
            <p:nvPr/>
          </p:nvGrpSpPr>
          <p:grpSpPr>
            <a:xfrm>
              <a:off x="3419280" y="4581360"/>
              <a:ext cx="792000" cy="515880"/>
              <a:chOff x="3419280" y="4581360"/>
              <a:chExt cx="792000" cy="515880"/>
            </a:xfrm>
          </p:grpSpPr>
          <p:pic>
            <p:nvPicPr>
              <p:cNvPr id="325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0" y="4581360"/>
                <a:ext cx="62208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AutoShape 12"/>
              <p:cNvSpPr/>
              <p:nvPr/>
            </p:nvSpPr>
            <p:spPr>
              <a:xfrm flipH="1">
                <a:off x="3418920" y="4941720"/>
                <a:ext cx="145800" cy="1461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13"/>
            <p:cNvSpPr/>
            <p:nvPr/>
          </p:nvSpPr>
          <p:spPr>
            <a:xfrm>
              <a:off x="4138560" y="4725720"/>
              <a:ext cx="12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ро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4"/>
          <p:cNvGrpSpPr/>
          <p:nvPr/>
        </p:nvGrpSpPr>
        <p:grpSpPr>
          <a:xfrm>
            <a:off x="3634920" y="5157720"/>
            <a:ext cx="2089440" cy="541800"/>
            <a:chOff x="3634920" y="5157720"/>
            <a:chExt cx="2089440" cy="541800"/>
          </a:xfrm>
        </p:grpSpPr>
        <p:grpSp>
          <p:nvGrpSpPr>
            <p:cNvPr id="329" name="Group 15"/>
            <p:cNvGrpSpPr/>
            <p:nvPr/>
          </p:nvGrpSpPr>
          <p:grpSpPr>
            <a:xfrm>
              <a:off x="3634920" y="5157720"/>
              <a:ext cx="792000" cy="515880"/>
              <a:chOff x="3634920" y="5157720"/>
              <a:chExt cx="792000" cy="515880"/>
            </a:xfrm>
          </p:grpSpPr>
          <p:pic>
            <p:nvPicPr>
              <p:cNvPr id="330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4840" y="5157720"/>
                <a:ext cx="62208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AutoShape 17"/>
              <p:cNvSpPr/>
              <p:nvPr/>
            </p:nvSpPr>
            <p:spPr>
              <a:xfrm flipH="1">
                <a:off x="3634560" y="5518080"/>
                <a:ext cx="145800" cy="1461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18"/>
            <p:cNvSpPr/>
            <p:nvPr/>
          </p:nvSpPr>
          <p:spPr>
            <a:xfrm>
              <a:off x="4427280" y="5300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8 клас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9"/>
          <p:cNvGrpSpPr/>
          <p:nvPr/>
        </p:nvGrpSpPr>
        <p:grpSpPr>
          <a:xfrm>
            <a:off x="3058920" y="4076640"/>
            <a:ext cx="2376360" cy="581040"/>
            <a:chOff x="3058920" y="4076640"/>
            <a:chExt cx="2376360" cy="581040"/>
          </a:xfrm>
        </p:grpSpPr>
        <p:sp>
          <p:nvSpPr>
            <p:cNvPr id="334" name="Text Box 20"/>
            <p:cNvSpPr/>
            <p:nvPr/>
          </p:nvSpPr>
          <p:spPr>
            <a:xfrm>
              <a:off x="4138560" y="4221000"/>
              <a:ext cx="129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21"/>
            <p:cNvSpPr/>
            <p:nvPr/>
          </p:nvSpPr>
          <p:spPr>
            <a:xfrm flipH="1">
              <a:off x="3058560" y="4363920"/>
              <a:ext cx="145800" cy="146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2" descr=""/>
            <p:cNvPicPr/>
            <p:nvPr/>
          </p:nvPicPr>
          <p:blipFill>
            <a:blip r:embed="rId3"/>
            <a:stretch/>
          </p:blipFill>
          <p:spPr>
            <a:xfrm>
              <a:off x="3274920" y="4076640"/>
              <a:ext cx="856800" cy="58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23"/>
          <p:cNvGrpSpPr/>
          <p:nvPr/>
        </p:nvGrpSpPr>
        <p:grpSpPr>
          <a:xfrm>
            <a:off x="4067280" y="5734080"/>
            <a:ext cx="3600000" cy="541800"/>
            <a:chOff x="4067280" y="5734080"/>
            <a:chExt cx="3600000" cy="541800"/>
          </a:xfrm>
        </p:grpSpPr>
        <p:pic>
          <p:nvPicPr>
            <p:cNvPr id="338" name="Picture 24" descr=""/>
            <p:cNvPicPr/>
            <p:nvPr/>
          </p:nvPicPr>
          <p:blipFill>
            <a:blip r:embed="rId4"/>
            <a:stretch/>
          </p:blipFill>
          <p:spPr>
            <a:xfrm>
              <a:off x="4067280" y="5734080"/>
              <a:ext cx="6206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25"/>
            <p:cNvSpPr/>
            <p:nvPr/>
          </p:nvSpPr>
          <p:spPr>
            <a:xfrm>
              <a:off x="4714920" y="5877000"/>
              <a:ext cx="29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актические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8"/>
          <p:cNvSpPr/>
          <p:nvPr/>
        </p:nvSpPr>
        <p:spPr>
          <a:xfrm>
            <a:off x="1042920" y="3357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нявшись на один уровень вверх он оказался в каталог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1042920" y="335772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устившись на один уровень вниз он оказался в каталоге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езент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4"/>
          <p:cNvGrpSpPr/>
          <p:nvPr/>
        </p:nvGrpSpPr>
        <p:grpSpPr>
          <a:xfrm>
            <a:off x="4067280" y="5734080"/>
            <a:ext cx="3600000" cy="541800"/>
            <a:chOff x="4067280" y="5734080"/>
            <a:chExt cx="3600000" cy="541800"/>
          </a:xfrm>
        </p:grpSpPr>
        <p:pic>
          <p:nvPicPr>
            <p:cNvPr id="343" name="Picture 35" descr=""/>
            <p:cNvPicPr/>
            <p:nvPr/>
          </p:nvPicPr>
          <p:blipFill>
            <a:blip r:embed="rId5"/>
            <a:stretch/>
          </p:blipFill>
          <p:spPr>
            <a:xfrm>
              <a:off x="4067280" y="5734080"/>
              <a:ext cx="62064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36"/>
            <p:cNvSpPr/>
            <p:nvPr/>
          </p:nvSpPr>
          <p:spPr>
            <a:xfrm>
              <a:off x="4714920" y="5877000"/>
              <a:ext cx="29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езен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8"/>
          <p:cNvSpPr/>
          <p:nvPr/>
        </p:nvSpPr>
        <p:spPr>
          <a:xfrm>
            <a:off x="1042920" y="335772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талоге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Презент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удалил файл </a:t>
            </a: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Введ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1116000" y="6095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удалённого фай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D:\Уроки\8 класс\Презентации\Введение.ppt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7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6:10:42Z</dcterms:modified>
  <cp:revision>37</cp:revision>
  <dc:subject/>
  <dc:title>Презентация PowerPoint</dc:title>
</cp:coreProperties>
</file>